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7" name=""/>
          <p:cNvSpPr txBox="1"/>
          <p:nvPr/>
        </p:nvSpPr>
        <p:spPr>
          <a:xfrm>
            <a:off x="923760" y="3243240"/>
            <a:ext cx="7772400" cy="2590920"/>
          </a:xfrm>
          <a:prstGeom prst="rect">
            <a:avLst/>
          </a:prstGeom>
          <a:noFill/>
          <a:ln w="0">
            <a:noFill/>
          </a:ln>
        </p:spPr>
        <p:txBody>
          <a:bodyPr lIns="0" rIns="0" tIns="0" bIns="0" anchor="t">
            <a:noAutofit/>
          </a:bodyPr>
          <a:p>
            <a:pPr>
              <a:lnSpc>
                <a:spcPct val="100000"/>
              </a:lnSpc>
              <a:spcBef>
                <a:spcPts val="479"/>
              </a:spcBef>
            </a:pPr>
            <a:r>
              <a:rPr b="0" i="1" lang="en-US" sz="2800" spc="-1" strike="noStrike" u="sng">
                <a:solidFill>
                  <a:srgbClr val="fafd00"/>
                </a:solidFill>
                <a:uFillTx/>
                <a:latin typeface="Times New Roman"/>
                <a:ea typeface="Times New Roman"/>
              </a:rPr>
              <a:t>Flatness tolerance</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he total amount surface elements are permitted to vary from a true plane. </a:t>
            </a:r>
            <a:endParaRPr b="0" lang="en-US" sz="2800" spc="-1" strike="noStrike">
              <a:solidFill>
                <a:srgbClr val="000000"/>
              </a:solidFill>
              <a:latin typeface="Arial"/>
            </a:endParaRPr>
          </a:p>
        </p:txBody>
      </p:sp>
      <p:sp>
        <p:nvSpPr>
          <p:cNvPr id="758" name=""/>
          <p:cNvSpPr txBox="1"/>
          <p:nvPr/>
        </p:nvSpPr>
        <p:spPr>
          <a:xfrm>
            <a:off x="3032280" y="922320"/>
            <a:ext cx="302904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EFINITIONS</a:t>
            </a:r>
            <a:endParaRPr b="0" lang="en-US" sz="3600" spc="-1" strike="noStrike">
              <a:solidFill>
                <a:srgbClr val="000000"/>
              </a:solidFill>
              <a:latin typeface="Arial"/>
            </a:endParaRPr>
          </a:p>
        </p:txBody>
      </p:sp>
      <p:sp>
        <p:nvSpPr>
          <p:cNvPr id="759" name=""/>
          <p:cNvSpPr txBox="1"/>
          <p:nvPr/>
        </p:nvSpPr>
        <p:spPr>
          <a:xfrm>
            <a:off x="987480" y="2100240"/>
            <a:ext cx="7772400" cy="1154160"/>
          </a:xfrm>
          <a:prstGeom prst="rect">
            <a:avLst/>
          </a:prstGeom>
          <a:noFill/>
          <a:ln w="0">
            <a:noFill/>
          </a:ln>
        </p:spPr>
        <p:txBody>
          <a:bodyPr lIns="0" rIns="0" tIns="0" bIns="0" anchor="t">
            <a:noAutofit/>
          </a:bodyPr>
          <a:p>
            <a:pPr>
              <a:lnSpc>
                <a:spcPct val="100000"/>
              </a:lnSpc>
              <a:spcBef>
                <a:spcPts val="479"/>
              </a:spcBef>
            </a:pPr>
            <a:r>
              <a:rPr b="0" i="1" lang="en-US" sz="2800" spc="-1" strike="noStrike" u="sng">
                <a:solidFill>
                  <a:srgbClr val="fafd00"/>
                </a:solidFill>
                <a:uFillTx/>
                <a:latin typeface="Times New Roman"/>
                <a:ea typeface="Times New Roman"/>
              </a:rPr>
              <a:t>Flatness</a:t>
            </a:r>
            <a:r>
              <a:rPr b="0" i="1"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 surface condition where all elements of the surface are in a single 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0" name=""/>
          <p:cNvSpPr txBox="1"/>
          <p:nvPr/>
        </p:nvSpPr>
        <p:spPr>
          <a:xfrm>
            <a:off x="923760" y="3243240"/>
            <a:ext cx="7772400" cy="2590920"/>
          </a:xfrm>
          <a:prstGeom prst="rect">
            <a:avLst/>
          </a:prstGeom>
          <a:noFill/>
          <a:ln w="0">
            <a:noFill/>
          </a:ln>
        </p:spPr>
        <p:txBody>
          <a:bodyPr lIns="0" rIns="0" tIns="0" bIns="0" anchor="t">
            <a:noAutofit/>
          </a:bodyPr>
          <a:p>
            <a:pPr>
              <a:lnSpc>
                <a:spcPct val="100000"/>
              </a:lnSpc>
              <a:spcBef>
                <a:spcPts val="479"/>
              </a:spcBef>
            </a:pPr>
            <a:r>
              <a:rPr b="0" i="1" lang="en-US" sz="2800" spc="-1" strike="noStrike" u="sng">
                <a:solidFill>
                  <a:srgbClr val="fafd00"/>
                </a:solidFill>
                <a:uFillTx/>
                <a:latin typeface="Times New Roman"/>
                <a:ea typeface="Times New Roman"/>
              </a:rPr>
              <a:t>Flatness tolerance</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he total amount surface elements are permitted to vary from a true plane. </a:t>
            </a:r>
            <a:endParaRPr b="0" lang="en-US" sz="2800" spc="-1" strike="noStrike">
              <a:solidFill>
                <a:srgbClr val="000000"/>
              </a:solidFill>
              <a:latin typeface="Arial"/>
            </a:endParaRPr>
          </a:p>
        </p:txBody>
      </p:sp>
      <p:sp>
        <p:nvSpPr>
          <p:cNvPr id="761" name=""/>
          <p:cNvSpPr txBox="1"/>
          <p:nvPr/>
        </p:nvSpPr>
        <p:spPr>
          <a:xfrm>
            <a:off x="3032280" y="922320"/>
            <a:ext cx="302904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EFINITIONS</a:t>
            </a:r>
            <a:endParaRPr b="0" lang="en-US" sz="3600" spc="-1" strike="noStrike">
              <a:solidFill>
                <a:srgbClr val="000000"/>
              </a:solidFill>
              <a:latin typeface="Arial"/>
            </a:endParaRPr>
          </a:p>
        </p:txBody>
      </p:sp>
      <p:sp>
        <p:nvSpPr>
          <p:cNvPr id="762" name=""/>
          <p:cNvSpPr txBox="1"/>
          <p:nvPr/>
        </p:nvSpPr>
        <p:spPr>
          <a:xfrm>
            <a:off x="907920" y="4354560"/>
            <a:ext cx="7772400" cy="2305080"/>
          </a:xfrm>
          <a:prstGeom prst="rect">
            <a:avLst/>
          </a:prstGeom>
          <a:noFill/>
          <a:ln w="0">
            <a:noFill/>
          </a:ln>
        </p:spPr>
        <p:txBody>
          <a:bodyPr lIns="0" rIns="0" tIns="0" bIns="0" anchor="t">
            <a:noAutofit/>
          </a:bodyPr>
          <a:p>
            <a:pPr>
              <a:lnSpc>
                <a:spcPct val="100000"/>
              </a:lnSpc>
              <a:spcBef>
                <a:spcPts val="479"/>
              </a:spcBef>
            </a:pPr>
            <a:r>
              <a:rPr b="0" i="1" lang="en-US" sz="2800" spc="-1" strike="noStrike" u="sng">
                <a:solidFill>
                  <a:srgbClr val="fafd00"/>
                </a:solidFill>
                <a:uFillTx/>
                <a:latin typeface="Times New Roman"/>
                <a:ea typeface="Times New Roman"/>
              </a:rPr>
              <a:t>Flatness tolerance zone</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he distance between two parallel planes within which all of the elements of the controlled surface must lie.</a:t>
            </a:r>
            <a:endParaRPr b="0" lang="en-US" sz="2800" spc="-1" strike="noStrike">
              <a:solidFill>
                <a:srgbClr val="000000"/>
              </a:solidFill>
              <a:latin typeface="Arial"/>
            </a:endParaRPr>
          </a:p>
        </p:txBody>
      </p:sp>
      <p:sp>
        <p:nvSpPr>
          <p:cNvPr id="763" name=""/>
          <p:cNvSpPr txBox="1"/>
          <p:nvPr/>
        </p:nvSpPr>
        <p:spPr>
          <a:xfrm>
            <a:off x="987480" y="2100240"/>
            <a:ext cx="7772400" cy="1154160"/>
          </a:xfrm>
          <a:prstGeom prst="rect">
            <a:avLst/>
          </a:prstGeom>
          <a:noFill/>
          <a:ln w="0">
            <a:noFill/>
          </a:ln>
        </p:spPr>
        <p:txBody>
          <a:bodyPr lIns="0" rIns="0" tIns="0" bIns="0" anchor="t">
            <a:noAutofit/>
          </a:bodyPr>
          <a:p>
            <a:pPr>
              <a:lnSpc>
                <a:spcPct val="100000"/>
              </a:lnSpc>
              <a:spcBef>
                <a:spcPts val="479"/>
              </a:spcBef>
            </a:pPr>
            <a:r>
              <a:rPr b="0" i="1" lang="en-US" sz="2800" spc="-1" strike="noStrike" u="sng">
                <a:solidFill>
                  <a:srgbClr val="fafd00"/>
                </a:solidFill>
                <a:uFillTx/>
                <a:latin typeface="Times New Roman"/>
                <a:ea typeface="Times New Roman"/>
              </a:rPr>
              <a:t>Flatness</a:t>
            </a:r>
            <a:r>
              <a:rPr b="0" i="1"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 surface condition where all elements of the surface are in a single 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4" name=""/>
          <p:cNvSpPr txBox="1"/>
          <p:nvPr/>
        </p:nvSpPr>
        <p:spPr>
          <a:xfrm>
            <a:off x="685800" y="3952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VERIFICATION</a:t>
            </a:r>
            <a:endParaRPr b="0" lang="en-US" sz="3600" spc="-1" strike="noStrike">
              <a:solidFill>
                <a:srgbClr val="000000"/>
              </a:solidFill>
              <a:latin typeface="Arial"/>
            </a:endParaRPr>
          </a:p>
        </p:txBody>
      </p:sp>
      <p:sp>
        <p:nvSpPr>
          <p:cNvPr id="765" name=""/>
          <p:cNvSpPr txBox="1"/>
          <p:nvPr/>
        </p:nvSpPr>
        <p:spPr>
          <a:xfrm>
            <a:off x="685800" y="1798560"/>
            <a:ext cx="7772400" cy="380520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Determined by a theoretical plane which is established by the high points of the controlled surface in contact with a surface plate.</a:t>
            </a: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A second plane is offset by a distance equal to the tolerance value.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ll elements of the surface must lie between the two parallel pla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6"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VERIFICATION</a:t>
            </a:r>
            <a:endParaRPr b="0" lang="en-US" sz="3600" spc="-1" strike="noStrike">
              <a:solidFill>
                <a:srgbClr val="000000"/>
              </a:solidFill>
              <a:latin typeface="Arial"/>
            </a:endParaRPr>
          </a:p>
        </p:txBody>
      </p:sp>
      <p:sp>
        <p:nvSpPr>
          <p:cNvPr id="767" name=""/>
          <p:cNvSpPr/>
          <p:nvPr/>
        </p:nvSpPr>
        <p:spPr>
          <a:xfrm>
            <a:off x="1111320" y="3835440"/>
            <a:ext cx="3827880" cy="74880"/>
          </a:xfrm>
          <a:custGeom>
            <a:avLst/>
            <a:gdLst/>
            <a:ahLst/>
            <a:rect l="0" t="0" r="r" b="b"/>
            <a:pathLst>
              <a:path fill="none" w="10633" h="208">
                <a:moveTo>
                  <a:pt x="0" y="88"/>
                </a:moveTo>
                <a:lnTo>
                  <a:pt x="211" y="120"/>
                </a:lnTo>
                <a:lnTo>
                  <a:pt x="317" y="124"/>
                </a:lnTo>
                <a:lnTo>
                  <a:pt x="396" y="120"/>
                </a:lnTo>
                <a:lnTo>
                  <a:pt x="555" y="128"/>
                </a:lnTo>
                <a:lnTo>
                  <a:pt x="820" y="133"/>
                </a:lnTo>
                <a:lnTo>
                  <a:pt x="978" y="133"/>
                </a:lnTo>
                <a:lnTo>
                  <a:pt x="1137" y="137"/>
                </a:lnTo>
                <a:lnTo>
                  <a:pt x="1450" y="48"/>
                </a:lnTo>
                <a:lnTo>
                  <a:pt x="1794" y="146"/>
                </a:lnTo>
                <a:lnTo>
                  <a:pt x="2059" y="155"/>
                </a:lnTo>
                <a:lnTo>
                  <a:pt x="2218" y="155"/>
                </a:lnTo>
                <a:lnTo>
                  <a:pt x="2429" y="159"/>
                </a:lnTo>
                <a:lnTo>
                  <a:pt x="2748" y="208"/>
                </a:lnTo>
                <a:lnTo>
                  <a:pt x="3334" y="150"/>
                </a:lnTo>
                <a:lnTo>
                  <a:pt x="3758" y="128"/>
                </a:lnTo>
                <a:lnTo>
                  <a:pt x="4128" y="111"/>
                </a:lnTo>
                <a:lnTo>
                  <a:pt x="4393" y="115"/>
                </a:lnTo>
                <a:lnTo>
                  <a:pt x="4604" y="120"/>
                </a:lnTo>
                <a:lnTo>
                  <a:pt x="4816" y="92"/>
                </a:lnTo>
                <a:lnTo>
                  <a:pt x="5138" y="48"/>
                </a:lnTo>
                <a:lnTo>
                  <a:pt x="5349" y="26"/>
                </a:lnTo>
                <a:lnTo>
                  <a:pt x="5455" y="22"/>
                </a:lnTo>
                <a:lnTo>
                  <a:pt x="5530" y="0"/>
                </a:lnTo>
                <a:lnTo>
                  <a:pt x="5614" y="4"/>
                </a:lnTo>
                <a:lnTo>
                  <a:pt x="5984" y="8"/>
                </a:lnTo>
                <a:lnTo>
                  <a:pt x="6611" y="155"/>
                </a:lnTo>
                <a:lnTo>
                  <a:pt x="7034" y="181"/>
                </a:lnTo>
                <a:lnTo>
                  <a:pt x="7307" y="30"/>
                </a:lnTo>
                <a:lnTo>
                  <a:pt x="7413" y="35"/>
                </a:lnTo>
                <a:lnTo>
                  <a:pt x="7493" y="30"/>
                </a:lnTo>
                <a:lnTo>
                  <a:pt x="7731" y="35"/>
                </a:lnTo>
                <a:lnTo>
                  <a:pt x="7996" y="39"/>
                </a:lnTo>
                <a:lnTo>
                  <a:pt x="8261" y="48"/>
                </a:lnTo>
                <a:lnTo>
                  <a:pt x="8473" y="52"/>
                </a:lnTo>
                <a:lnTo>
                  <a:pt x="8631" y="52"/>
                </a:lnTo>
                <a:lnTo>
                  <a:pt x="8896" y="61"/>
                </a:lnTo>
                <a:lnTo>
                  <a:pt x="9156" y="66"/>
                </a:lnTo>
                <a:lnTo>
                  <a:pt x="9421" y="70"/>
                </a:lnTo>
                <a:lnTo>
                  <a:pt x="9632" y="70"/>
                </a:lnTo>
                <a:lnTo>
                  <a:pt x="9712" y="74"/>
                </a:lnTo>
                <a:lnTo>
                  <a:pt x="9818" y="74"/>
                </a:lnTo>
                <a:lnTo>
                  <a:pt x="10003" y="133"/>
                </a:lnTo>
                <a:lnTo>
                  <a:pt x="10210" y="164"/>
                </a:lnTo>
                <a:lnTo>
                  <a:pt x="10294" y="190"/>
                </a:lnTo>
                <a:lnTo>
                  <a:pt x="10373" y="137"/>
                </a:lnTo>
                <a:lnTo>
                  <a:pt x="10453" y="142"/>
                </a:lnTo>
                <a:lnTo>
                  <a:pt x="10633" y="101"/>
                </a:ln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768" name=""/>
          <p:cNvSpPr/>
          <p:nvPr/>
        </p:nvSpPr>
        <p:spPr>
          <a:xfrm>
            <a:off x="1127160" y="2936880"/>
            <a:ext cx="3800880" cy="74880"/>
          </a:xfrm>
          <a:custGeom>
            <a:avLst/>
            <a:gdLst/>
            <a:ahLst/>
            <a:rect l="0" t="0" r="r" b="b"/>
            <a:pathLst>
              <a:path fill="none" w="10558" h="208">
                <a:moveTo>
                  <a:pt x="0" y="44"/>
                </a:moveTo>
                <a:lnTo>
                  <a:pt x="79" y="44"/>
                </a:lnTo>
                <a:lnTo>
                  <a:pt x="158" y="48"/>
                </a:lnTo>
                <a:lnTo>
                  <a:pt x="264" y="48"/>
                </a:lnTo>
                <a:lnTo>
                  <a:pt x="343" y="48"/>
                </a:lnTo>
                <a:lnTo>
                  <a:pt x="661" y="79"/>
                </a:lnTo>
                <a:lnTo>
                  <a:pt x="820" y="83"/>
                </a:lnTo>
                <a:lnTo>
                  <a:pt x="1084" y="115"/>
                </a:lnTo>
                <a:lnTo>
                  <a:pt x="1402" y="146"/>
                </a:lnTo>
                <a:lnTo>
                  <a:pt x="1561" y="181"/>
                </a:lnTo>
                <a:lnTo>
                  <a:pt x="1640" y="177"/>
                </a:lnTo>
                <a:lnTo>
                  <a:pt x="2006" y="186"/>
                </a:lnTo>
                <a:lnTo>
                  <a:pt x="2085" y="186"/>
                </a:lnTo>
                <a:lnTo>
                  <a:pt x="2403" y="190"/>
                </a:lnTo>
                <a:lnTo>
                  <a:pt x="2721" y="199"/>
                </a:lnTo>
                <a:lnTo>
                  <a:pt x="2880" y="199"/>
                </a:lnTo>
                <a:lnTo>
                  <a:pt x="2959" y="203"/>
                </a:lnTo>
                <a:lnTo>
                  <a:pt x="3277" y="208"/>
                </a:lnTo>
                <a:lnTo>
                  <a:pt x="3489" y="186"/>
                </a:lnTo>
                <a:lnTo>
                  <a:pt x="3647" y="186"/>
                </a:lnTo>
                <a:lnTo>
                  <a:pt x="3727" y="190"/>
                </a:lnTo>
                <a:lnTo>
                  <a:pt x="3912" y="164"/>
                </a:lnTo>
                <a:lnTo>
                  <a:pt x="4287" y="120"/>
                </a:lnTo>
                <a:lnTo>
                  <a:pt x="4710" y="74"/>
                </a:lnTo>
                <a:lnTo>
                  <a:pt x="4975" y="52"/>
                </a:lnTo>
                <a:lnTo>
                  <a:pt x="5058" y="0"/>
                </a:lnTo>
                <a:lnTo>
                  <a:pt x="5138" y="0"/>
                </a:lnTo>
                <a:lnTo>
                  <a:pt x="5217" y="0"/>
                </a:lnTo>
                <a:lnTo>
                  <a:pt x="5429" y="4"/>
                </a:lnTo>
                <a:lnTo>
                  <a:pt x="5746" y="13"/>
                </a:lnTo>
                <a:lnTo>
                  <a:pt x="6064" y="17"/>
                </a:lnTo>
                <a:lnTo>
                  <a:pt x="6434" y="22"/>
                </a:lnTo>
                <a:lnTo>
                  <a:pt x="6699" y="26"/>
                </a:lnTo>
                <a:lnTo>
                  <a:pt x="6911" y="30"/>
                </a:lnTo>
                <a:lnTo>
                  <a:pt x="7122" y="39"/>
                </a:lnTo>
                <a:lnTo>
                  <a:pt x="7202" y="35"/>
                </a:lnTo>
                <a:lnTo>
                  <a:pt x="7572" y="44"/>
                </a:lnTo>
                <a:lnTo>
                  <a:pt x="7837" y="48"/>
                </a:lnTo>
                <a:lnTo>
                  <a:pt x="7916" y="48"/>
                </a:lnTo>
                <a:lnTo>
                  <a:pt x="8023" y="52"/>
                </a:lnTo>
                <a:lnTo>
                  <a:pt x="8182" y="52"/>
                </a:lnTo>
                <a:lnTo>
                  <a:pt x="8446" y="57"/>
                </a:lnTo>
                <a:lnTo>
                  <a:pt x="8605" y="61"/>
                </a:lnTo>
                <a:lnTo>
                  <a:pt x="8971" y="66"/>
                </a:lnTo>
                <a:lnTo>
                  <a:pt x="9130" y="70"/>
                </a:lnTo>
                <a:lnTo>
                  <a:pt x="9341" y="74"/>
                </a:lnTo>
                <a:lnTo>
                  <a:pt x="9659" y="83"/>
                </a:lnTo>
                <a:lnTo>
                  <a:pt x="9870" y="83"/>
                </a:lnTo>
                <a:lnTo>
                  <a:pt x="10029" y="88"/>
                </a:lnTo>
                <a:lnTo>
                  <a:pt x="10131" y="115"/>
                </a:lnTo>
                <a:lnTo>
                  <a:pt x="10236" y="115"/>
                </a:lnTo>
                <a:lnTo>
                  <a:pt x="10316" y="120"/>
                </a:lnTo>
                <a:lnTo>
                  <a:pt x="10400" y="146"/>
                </a:lnTo>
                <a:lnTo>
                  <a:pt x="10479" y="146"/>
                </a:lnTo>
                <a:lnTo>
                  <a:pt x="10558" y="150"/>
                </a:ln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769" name=""/>
          <p:cNvSpPr/>
          <p:nvPr/>
        </p:nvSpPr>
        <p:spPr>
          <a:xfrm>
            <a:off x="557280" y="3919680"/>
            <a:ext cx="4905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flipV="1">
            <a:off x="1109520" y="2957400"/>
            <a:ext cx="0" cy="90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1" name=""/>
          <p:cNvSpPr/>
          <p:nvPr/>
        </p:nvSpPr>
        <p:spPr>
          <a:xfrm>
            <a:off x="4938840" y="2995560"/>
            <a:ext cx="0" cy="885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2" name=""/>
          <p:cNvSpPr/>
          <p:nvPr/>
        </p:nvSpPr>
        <p:spPr>
          <a:xfrm flipH="1">
            <a:off x="652320" y="4984920"/>
            <a:ext cx="463680" cy="529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654120" y="552456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6566040" y="2362320"/>
            <a:ext cx="2563920" cy="946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txBox="1"/>
          <p:nvPr/>
        </p:nvSpPr>
        <p:spPr>
          <a:xfrm>
            <a:off x="1027080" y="5392800"/>
            <a:ext cx="37418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Surface Plate or Machine Table</a:t>
            </a:r>
            <a:endParaRPr b="0" lang="en-US" sz="2000" spc="-1" strike="noStrike">
              <a:solidFill>
                <a:srgbClr val="000000"/>
              </a:solidFill>
              <a:latin typeface="Arial"/>
            </a:endParaRPr>
          </a:p>
        </p:txBody>
      </p:sp>
      <p:sp>
        <p:nvSpPr>
          <p:cNvPr id="776" name=""/>
          <p:cNvSpPr/>
          <p:nvPr/>
        </p:nvSpPr>
        <p:spPr>
          <a:xfrm>
            <a:off x="552600" y="3911760"/>
            <a:ext cx="4921560" cy="1073520"/>
          </a:xfrm>
          <a:custGeom>
            <a:avLst/>
            <a:gdLst/>
            <a:ahLst/>
            <a:rect l="0" t="0" r="r" b="b"/>
            <a:pathLst>
              <a:path w="13671" h="2982">
                <a:moveTo>
                  <a:pt x="13671" y="17"/>
                </a:moveTo>
                <a:lnTo>
                  <a:pt x="13671" y="17"/>
                </a:lnTo>
                <a:lnTo>
                  <a:pt x="0" y="17"/>
                </a:lnTo>
                <a:lnTo>
                  <a:pt x="0" y="2982"/>
                </a:lnTo>
                <a:lnTo>
                  <a:pt x="13547" y="2982"/>
                </a:lnTo>
                <a:lnTo>
                  <a:pt x="13530" y="2930"/>
                </a:lnTo>
                <a:lnTo>
                  <a:pt x="13494" y="2771"/>
                </a:lnTo>
                <a:lnTo>
                  <a:pt x="13459" y="2683"/>
                </a:lnTo>
                <a:lnTo>
                  <a:pt x="13441" y="2612"/>
                </a:lnTo>
                <a:lnTo>
                  <a:pt x="13441" y="2542"/>
                </a:lnTo>
                <a:lnTo>
                  <a:pt x="13459" y="2400"/>
                </a:lnTo>
                <a:lnTo>
                  <a:pt x="13477" y="2330"/>
                </a:lnTo>
                <a:lnTo>
                  <a:pt x="13530" y="2188"/>
                </a:lnTo>
                <a:lnTo>
                  <a:pt x="13547" y="2117"/>
                </a:lnTo>
                <a:lnTo>
                  <a:pt x="13565" y="2064"/>
                </a:lnTo>
                <a:lnTo>
                  <a:pt x="13565" y="2011"/>
                </a:lnTo>
                <a:lnTo>
                  <a:pt x="13494" y="1853"/>
                </a:lnTo>
                <a:lnTo>
                  <a:pt x="13477" y="1782"/>
                </a:lnTo>
                <a:lnTo>
                  <a:pt x="13459" y="1711"/>
                </a:lnTo>
                <a:lnTo>
                  <a:pt x="13441" y="1659"/>
                </a:lnTo>
                <a:lnTo>
                  <a:pt x="13441" y="1588"/>
                </a:lnTo>
                <a:lnTo>
                  <a:pt x="13441" y="1535"/>
                </a:lnTo>
                <a:lnTo>
                  <a:pt x="13441" y="1465"/>
                </a:lnTo>
                <a:lnTo>
                  <a:pt x="13459" y="1412"/>
                </a:lnTo>
                <a:lnTo>
                  <a:pt x="13477" y="1359"/>
                </a:lnTo>
                <a:lnTo>
                  <a:pt x="13477" y="1271"/>
                </a:lnTo>
                <a:lnTo>
                  <a:pt x="13477" y="1147"/>
                </a:lnTo>
                <a:lnTo>
                  <a:pt x="13459" y="1094"/>
                </a:lnTo>
                <a:lnTo>
                  <a:pt x="13441" y="1024"/>
                </a:lnTo>
                <a:lnTo>
                  <a:pt x="13441" y="935"/>
                </a:lnTo>
                <a:lnTo>
                  <a:pt x="13459" y="882"/>
                </a:lnTo>
                <a:lnTo>
                  <a:pt x="13477" y="812"/>
                </a:lnTo>
                <a:lnTo>
                  <a:pt x="13494" y="759"/>
                </a:lnTo>
                <a:lnTo>
                  <a:pt x="13530" y="670"/>
                </a:lnTo>
                <a:lnTo>
                  <a:pt x="13547" y="582"/>
                </a:lnTo>
                <a:lnTo>
                  <a:pt x="13565" y="458"/>
                </a:lnTo>
                <a:lnTo>
                  <a:pt x="13582" y="405"/>
                </a:lnTo>
                <a:lnTo>
                  <a:pt x="13582" y="352"/>
                </a:lnTo>
                <a:lnTo>
                  <a:pt x="13600" y="299"/>
                </a:lnTo>
                <a:lnTo>
                  <a:pt x="13600" y="211"/>
                </a:lnTo>
                <a:lnTo>
                  <a:pt x="13618" y="158"/>
                </a:lnTo>
                <a:lnTo>
                  <a:pt x="13618" y="105"/>
                </a:lnTo>
                <a:lnTo>
                  <a:pt x="13635" y="35"/>
                </a:lnTo>
                <a:lnTo>
                  <a:pt x="13653" y="17"/>
                </a:lnTo>
                <a:lnTo>
                  <a:pt x="13635" y="0"/>
                </a:lnTo>
                <a:lnTo>
                  <a:pt x="13671" y="1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7" name=""/>
          <p:cNvSpPr/>
          <p:nvPr/>
        </p:nvSpPr>
        <p:spPr>
          <a:xfrm>
            <a:off x="1111320" y="3835440"/>
            <a:ext cx="3827880" cy="74880"/>
          </a:xfrm>
          <a:custGeom>
            <a:avLst/>
            <a:gdLst/>
            <a:ahLst/>
            <a:rect l="0" t="0" r="r" b="b"/>
            <a:pathLst>
              <a:path fill="none" w="10633" h="208">
                <a:moveTo>
                  <a:pt x="0" y="88"/>
                </a:moveTo>
                <a:lnTo>
                  <a:pt x="211" y="120"/>
                </a:lnTo>
                <a:lnTo>
                  <a:pt x="317" y="124"/>
                </a:lnTo>
                <a:lnTo>
                  <a:pt x="396" y="120"/>
                </a:lnTo>
                <a:lnTo>
                  <a:pt x="555" y="128"/>
                </a:lnTo>
                <a:lnTo>
                  <a:pt x="820" y="133"/>
                </a:lnTo>
                <a:lnTo>
                  <a:pt x="978" y="133"/>
                </a:lnTo>
                <a:lnTo>
                  <a:pt x="1137" y="137"/>
                </a:lnTo>
                <a:lnTo>
                  <a:pt x="1450" y="48"/>
                </a:lnTo>
                <a:lnTo>
                  <a:pt x="1794" y="146"/>
                </a:lnTo>
                <a:lnTo>
                  <a:pt x="2059" y="155"/>
                </a:lnTo>
                <a:lnTo>
                  <a:pt x="2218" y="155"/>
                </a:lnTo>
                <a:lnTo>
                  <a:pt x="2429" y="159"/>
                </a:lnTo>
                <a:lnTo>
                  <a:pt x="2748" y="208"/>
                </a:lnTo>
                <a:lnTo>
                  <a:pt x="3334" y="150"/>
                </a:lnTo>
                <a:lnTo>
                  <a:pt x="3758" y="128"/>
                </a:lnTo>
                <a:lnTo>
                  <a:pt x="4128" y="111"/>
                </a:lnTo>
                <a:lnTo>
                  <a:pt x="4393" y="115"/>
                </a:lnTo>
                <a:lnTo>
                  <a:pt x="4604" y="120"/>
                </a:lnTo>
                <a:lnTo>
                  <a:pt x="4816" y="92"/>
                </a:lnTo>
                <a:lnTo>
                  <a:pt x="5138" y="48"/>
                </a:lnTo>
                <a:lnTo>
                  <a:pt x="5349" y="26"/>
                </a:lnTo>
                <a:lnTo>
                  <a:pt x="5455" y="22"/>
                </a:lnTo>
                <a:lnTo>
                  <a:pt x="5530" y="0"/>
                </a:lnTo>
                <a:lnTo>
                  <a:pt x="5614" y="4"/>
                </a:lnTo>
                <a:lnTo>
                  <a:pt x="5984" y="8"/>
                </a:lnTo>
                <a:lnTo>
                  <a:pt x="6611" y="155"/>
                </a:lnTo>
                <a:lnTo>
                  <a:pt x="7034" y="181"/>
                </a:lnTo>
                <a:lnTo>
                  <a:pt x="7307" y="30"/>
                </a:lnTo>
                <a:lnTo>
                  <a:pt x="7413" y="35"/>
                </a:lnTo>
                <a:lnTo>
                  <a:pt x="7493" y="30"/>
                </a:lnTo>
                <a:lnTo>
                  <a:pt x="7731" y="35"/>
                </a:lnTo>
                <a:lnTo>
                  <a:pt x="7996" y="39"/>
                </a:lnTo>
                <a:lnTo>
                  <a:pt x="8261" y="48"/>
                </a:lnTo>
                <a:lnTo>
                  <a:pt x="8473" y="52"/>
                </a:lnTo>
                <a:lnTo>
                  <a:pt x="8631" y="52"/>
                </a:lnTo>
                <a:lnTo>
                  <a:pt x="8896" y="61"/>
                </a:lnTo>
                <a:lnTo>
                  <a:pt x="9156" y="66"/>
                </a:lnTo>
                <a:lnTo>
                  <a:pt x="9421" y="70"/>
                </a:lnTo>
                <a:lnTo>
                  <a:pt x="9632" y="70"/>
                </a:lnTo>
                <a:lnTo>
                  <a:pt x="9712" y="74"/>
                </a:lnTo>
                <a:lnTo>
                  <a:pt x="9818" y="74"/>
                </a:lnTo>
                <a:lnTo>
                  <a:pt x="10003" y="133"/>
                </a:lnTo>
                <a:lnTo>
                  <a:pt x="10210" y="164"/>
                </a:lnTo>
                <a:lnTo>
                  <a:pt x="10294" y="190"/>
                </a:lnTo>
                <a:lnTo>
                  <a:pt x="10373" y="137"/>
                </a:lnTo>
                <a:lnTo>
                  <a:pt x="10453" y="142"/>
                </a:lnTo>
                <a:lnTo>
                  <a:pt x="10633" y="101"/>
                </a:ln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778" name=""/>
          <p:cNvSpPr/>
          <p:nvPr/>
        </p:nvSpPr>
        <p:spPr>
          <a:xfrm>
            <a:off x="1127160" y="2936880"/>
            <a:ext cx="3800880" cy="74880"/>
          </a:xfrm>
          <a:custGeom>
            <a:avLst/>
            <a:gdLst/>
            <a:ahLst/>
            <a:rect l="0" t="0" r="r" b="b"/>
            <a:pathLst>
              <a:path fill="none" w="10558" h="208">
                <a:moveTo>
                  <a:pt x="0" y="44"/>
                </a:moveTo>
                <a:lnTo>
                  <a:pt x="79" y="44"/>
                </a:lnTo>
                <a:lnTo>
                  <a:pt x="158" y="48"/>
                </a:lnTo>
                <a:lnTo>
                  <a:pt x="264" y="48"/>
                </a:lnTo>
                <a:lnTo>
                  <a:pt x="343" y="48"/>
                </a:lnTo>
                <a:lnTo>
                  <a:pt x="661" y="79"/>
                </a:lnTo>
                <a:lnTo>
                  <a:pt x="820" y="83"/>
                </a:lnTo>
                <a:lnTo>
                  <a:pt x="1084" y="115"/>
                </a:lnTo>
                <a:lnTo>
                  <a:pt x="1402" y="146"/>
                </a:lnTo>
                <a:lnTo>
                  <a:pt x="1561" y="181"/>
                </a:lnTo>
                <a:lnTo>
                  <a:pt x="1640" y="177"/>
                </a:lnTo>
                <a:lnTo>
                  <a:pt x="2006" y="186"/>
                </a:lnTo>
                <a:lnTo>
                  <a:pt x="2085" y="186"/>
                </a:lnTo>
                <a:lnTo>
                  <a:pt x="2403" y="190"/>
                </a:lnTo>
                <a:lnTo>
                  <a:pt x="2721" y="199"/>
                </a:lnTo>
                <a:lnTo>
                  <a:pt x="2880" y="199"/>
                </a:lnTo>
                <a:lnTo>
                  <a:pt x="2959" y="203"/>
                </a:lnTo>
                <a:lnTo>
                  <a:pt x="3277" y="208"/>
                </a:lnTo>
                <a:lnTo>
                  <a:pt x="3489" y="186"/>
                </a:lnTo>
                <a:lnTo>
                  <a:pt x="3647" y="186"/>
                </a:lnTo>
                <a:lnTo>
                  <a:pt x="3727" y="190"/>
                </a:lnTo>
                <a:lnTo>
                  <a:pt x="3912" y="164"/>
                </a:lnTo>
                <a:lnTo>
                  <a:pt x="4287" y="120"/>
                </a:lnTo>
                <a:lnTo>
                  <a:pt x="4710" y="74"/>
                </a:lnTo>
                <a:lnTo>
                  <a:pt x="4975" y="52"/>
                </a:lnTo>
                <a:lnTo>
                  <a:pt x="5058" y="0"/>
                </a:lnTo>
                <a:lnTo>
                  <a:pt x="5138" y="0"/>
                </a:lnTo>
                <a:lnTo>
                  <a:pt x="5217" y="0"/>
                </a:lnTo>
                <a:lnTo>
                  <a:pt x="5429" y="4"/>
                </a:lnTo>
                <a:lnTo>
                  <a:pt x="5746" y="13"/>
                </a:lnTo>
                <a:lnTo>
                  <a:pt x="6064" y="17"/>
                </a:lnTo>
                <a:lnTo>
                  <a:pt x="6434" y="22"/>
                </a:lnTo>
                <a:lnTo>
                  <a:pt x="6699" y="26"/>
                </a:lnTo>
                <a:lnTo>
                  <a:pt x="6911" y="30"/>
                </a:lnTo>
                <a:lnTo>
                  <a:pt x="7122" y="39"/>
                </a:lnTo>
                <a:lnTo>
                  <a:pt x="7202" y="35"/>
                </a:lnTo>
                <a:lnTo>
                  <a:pt x="7572" y="44"/>
                </a:lnTo>
                <a:lnTo>
                  <a:pt x="7837" y="48"/>
                </a:lnTo>
                <a:lnTo>
                  <a:pt x="7916" y="48"/>
                </a:lnTo>
                <a:lnTo>
                  <a:pt x="8023" y="52"/>
                </a:lnTo>
                <a:lnTo>
                  <a:pt x="8182" y="52"/>
                </a:lnTo>
                <a:lnTo>
                  <a:pt x="8446" y="57"/>
                </a:lnTo>
                <a:lnTo>
                  <a:pt x="8605" y="61"/>
                </a:lnTo>
                <a:lnTo>
                  <a:pt x="8971" y="66"/>
                </a:lnTo>
                <a:lnTo>
                  <a:pt x="9130" y="70"/>
                </a:lnTo>
                <a:lnTo>
                  <a:pt x="9341" y="74"/>
                </a:lnTo>
                <a:lnTo>
                  <a:pt x="9659" y="83"/>
                </a:lnTo>
                <a:lnTo>
                  <a:pt x="9870" y="83"/>
                </a:lnTo>
                <a:lnTo>
                  <a:pt x="10029" y="88"/>
                </a:lnTo>
                <a:lnTo>
                  <a:pt x="10131" y="115"/>
                </a:lnTo>
                <a:lnTo>
                  <a:pt x="10236" y="115"/>
                </a:lnTo>
                <a:lnTo>
                  <a:pt x="10316" y="120"/>
                </a:lnTo>
                <a:lnTo>
                  <a:pt x="10400" y="146"/>
                </a:lnTo>
                <a:lnTo>
                  <a:pt x="10479" y="146"/>
                </a:lnTo>
                <a:lnTo>
                  <a:pt x="10558" y="150"/>
                </a:ln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779" name=""/>
          <p:cNvSpPr/>
          <p:nvPr/>
        </p:nvSpPr>
        <p:spPr>
          <a:xfrm>
            <a:off x="557280" y="3919680"/>
            <a:ext cx="4905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flipV="1">
            <a:off x="1109520" y="2957400"/>
            <a:ext cx="0" cy="90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 name=""/>
          <p:cNvSpPr/>
          <p:nvPr/>
        </p:nvSpPr>
        <p:spPr>
          <a:xfrm>
            <a:off x="4938840" y="2995560"/>
            <a:ext cx="0" cy="885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2" name=""/>
          <p:cNvSpPr/>
          <p:nvPr/>
        </p:nvSpPr>
        <p:spPr>
          <a:xfrm>
            <a:off x="571680" y="3924360"/>
            <a:ext cx="4902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654120" y="552456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txBox="1"/>
          <p:nvPr/>
        </p:nvSpPr>
        <p:spPr>
          <a:xfrm>
            <a:off x="1027080" y="5392800"/>
            <a:ext cx="37418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Surface Plate or Machine Table</a:t>
            </a:r>
            <a:endParaRPr b="0" lang="en-US" sz="2000" spc="-1" strike="noStrike">
              <a:solidFill>
                <a:srgbClr val="000000"/>
              </a:solidFill>
              <a:latin typeface="Arial"/>
            </a:endParaRPr>
          </a:p>
        </p:txBody>
      </p:sp>
      <p:sp>
        <p:nvSpPr>
          <p:cNvPr id="785" name=""/>
          <p:cNvSpPr/>
          <p:nvPr/>
        </p:nvSpPr>
        <p:spPr>
          <a:xfrm flipH="1" flipV="1">
            <a:off x="547560" y="2048040"/>
            <a:ext cx="190800" cy="1857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549360" y="2048040"/>
            <a:ext cx="40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 name=""/>
          <p:cNvSpPr txBox="1"/>
          <p:nvPr/>
        </p:nvSpPr>
        <p:spPr>
          <a:xfrm>
            <a:off x="920880" y="1839960"/>
            <a:ext cx="1779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rimary Plane</a:t>
            </a:r>
            <a:endParaRPr b="0" lang="en-US" sz="2000" spc="-1" strike="noStrike">
              <a:solidFill>
                <a:srgbClr val="000000"/>
              </a:solidFill>
              <a:latin typeface="Arial"/>
            </a:endParaRPr>
          </a:p>
        </p:txBody>
      </p:sp>
      <p:sp>
        <p:nvSpPr>
          <p:cNvPr id="788" name=""/>
          <p:cNvSpPr/>
          <p:nvPr/>
        </p:nvSpPr>
        <p:spPr>
          <a:xfrm flipH="1">
            <a:off x="652320" y="4984920"/>
            <a:ext cx="463680" cy="529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552600" y="3911760"/>
            <a:ext cx="4921560" cy="1073520"/>
          </a:xfrm>
          <a:custGeom>
            <a:avLst/>
            <a:gdLst/>
            <a:ahLst/>
            <a:rect l="0" t="0" r="r" b="b"/>
            <a:pathLst>
              <a:path w="13671" h="2982">
                <a:moveTo>
                  <a:pt x="13671" y="17"/>
                </a:moveTo>
                <a:lnTo>
                  <a:pt x="13671" y="17"/>
                </a:lnTo>
                <a:lnTo>
                  <a:pt x="0" y="17"/>
                </a:lnTo>
                <a:lnTo>
                  <a:pt x="0" y="2982"/>
                </a:lnTo>
                <a:lnTo>
                  <a:pt x="13547" y="2982"/>
                </a:lnTo>
                <a:lnTo>
                  <a:pt x="13530" y="2930"/>
                </a:lnTo>
                <a:lnTo>
                  <a:pt x="13494" y="2771"/>
                </a:lnTo>
                <a:lnTo>
                  <a:pt x="13459" y="2683"/>
                </a:lnTo>
                <a:lnTo>
                  <a:pt x="13441" y="2612"/>
                </a:lnTo>
                <a:lnTo>
                  <a:pt x="13441" y="2542"/>
                </a:lnTo>
                <a:lnTo>
                  <a:pt x="13459" y="2400"/>
                </a:lnTo>
                <a:lnTo>
                  <a:pt x="13477" y="2330"/>
                </a:lnTo>
                <a:lnTo>
                  <a:pt x="13530" y="2188"/>
                </a:lnTo>
                <a:lnTo>
                  <a:pt x="13547" y="2117"/>
                </a:lnTo>
                <a:lnTo>
                  <a:pt x="13565" y="2064"/>
                </a:lnTo>
                <a:lnTo>
                  <a:pt x="13565" y="2011"/>
                </a:lnTo>
                <a:lnTo>
                  <a:pt x="13494" y="1853"/>
                </a:lnTo>
                <a:lnTo>
                  <a:pt x="13477" y="1782"/>
                </a:lnTo>
                <a:lnTo>
                  <a:pt x="13459" y="1711"/>
                </a:lnTo>
                <a:lnTo>
                  <a:pt x="13441" y="1659"/>
                </a:lnTo>
                <a:lnTo>
                  <a:pt x="13441" y="1588"/>
                </a:lnTo>
                <a:lnTo>
                  <a:pt x="13441" y="1535"/>
                </a:lnTo>
                <a:lnTo>
                  <a:pt x="13441" y="1465"/>
                </a:lnTo>
                <a:lnTo>
                  <a:pt x="13459" y="1412"/>
                </a:lnTo>
                <a:lnTo>
                  <a:pt x="13477" y="1359"/>
                </a:lnTo>
                <a:lnTo>
                  <a:pt x="13477" y="1271"/>
                </a:lnTo>
                <a:lnTo>
                  <a:pt x="13477" y="1147"/>
                </a:lnTo>
                <a:lnTo>
                  <a:pt x="13459" y="1094"/>
                </a:lnTo>
                <a:lnTo>
                  <a:pt x="13441" y="1024"/>
                </a:lnTo>
                <a:lnTo>
                  <a:pt x="13441" y="935"/>
                </a:lnTo>
                <a:lnTo>
                  <a:pt x="13459" y="882"/>
                </a:lnTo>
                <a:lnTo>
                  <a:pt x="13477" y="812"/>
                </a:lnTo>
                <a:lnTo>
                  <a:pt x="13494" y="759"/>
                </a:lnTo>
                <a:lnTo>
                  <a:pt x="13530" y="670"/>
                </a:lnTo>
                <a:lnTo>
                  <a:pt x="13547" y="582"/>
                </a:lnTo>
                <a:lnTo>
                  <a:pt x="13565" y="458"/>
                </a:lnTo>
                <a:lnTo>
                  <a:pt x="13582" y="405"/>
                </a:lnTo>
                <a:lnTo>
                  <a:pt x="13582" y="352"/>
                </a:lnTo>
                <a:lnTo>
                  <a:pt x="13600" y="299"/>
                </a:lnTo>
                <a:lnTo>
                  <a:pt x="13600" y="211"/>
                </a:lnTo>
                <a:lnTo>
                  <a:pt x="13618" y="158"/>
                </a:lnTo>
                <a:lnTo>
                  <a:pt x="13618" y="105"/>
                </a:lnTo>
                <a:lnTo>
                  <a:pt x="13635" y="35"/>
                </a:lnTo>
                <a:lnTo>
                  <a:pt x="13653" y="17"/>
                </a:lnTo>
                <a:lnTo>
                  <a:pt x="13635" y="0"/>
                </a:lnTo>
                <a:lnTo>
                  <a:pt x="13671" y="1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0"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VER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91" name=""/>
          <p:cNvSpPr/>
          <p:nvPr/>
        </p:nvSpPr>
        <p:spPr>
          <a:xfrm>
            <a:off x="1111320" y="3835440"/>
            <a:ext cx="3827880" cy="74880"/>
          </a:xfrm>
          <a:custGeom>
            <a:avLst/>
            <a:gdLst/>
            <a:ahLst/>
            <a:rect l="0" t="0" r="r" b="b"/>
            <a:pathLst>
              <a:path fill="none" w="10633" h="208">
                <a:moveTo>
                  <a:pt x="0" y="88"/>
                </a:moveTo>
                <a:lnTo>
                  <a:pt x="211" y="120"/>
                </a:lnTo>
                <a:lnTo>
                  <a:pt x="317" y="124"/>
                </a:lnTo>
                <a:lnTo>
                  <a:pt x="396" y="120"/>
                </a:lnTo>
                <a:lnTo>
                  <a:pt x="555" y="128"/>
                </a:lnTo>
                <a:lnTo>
                  <a:pt x="820" y="133"/>
                </a:lnTo>
                <a:lnTo>
                  <a:pt x="978" y="133"/>
                </a:lnTo>
                <a:lnTo>
                  <a:pt x="1137" y="137"/>
                </a:lnTo>
                <a:lnTo>
                  <a:pt x="1450" y="48"/>
                </a:lnTo>
                <a:lnTo>
                  <a:pt x="1794" y="146"/>
                </a:lnTo>
                <a:lnTo>
                  <a:pt x="2059" y="155"/>
                </a:lnTo>
                <a:lnTo>
                  <a:pt x="2218" y="155"/>
                </a:lnTo>
                <a:lnTo>
                  <a:pt x="2429" y="159"/>
                </a:lnTo>
                <a:lnTo>
                  <a:pt x="2748" y="208"/>
                </a:lnTo>
                <a:lnTo>
                  <a:pt x="3334" y="150"/>
                </a:lnTo>
                <a:lnTo>
                  <a:pt x="3758" y="128"/>
                </a:lnTo>
                <a:lnTo>
                  <a:pt x="4128" y="111"/>
                </a:lnTo>
                <a:lnTo>
                  <a:pt x="4393" y="115"/>
                </a:lnTo>
                <a:lnTo>
                  <a:pt x="4604" y="120"/>
                </a:lnTo>
                <a:lnTo>
                  <a:pt x="4816" y="92"/>
                </a:lnTo>
                <a:lnTo>
                  <a:pt x="5138" y="48"/>
                </a:lnTo>
                <a:lnTo>
                  <a:pt x="5349" y="26"/>
                </a:lnTo>
                <a:lnTo>
                  <a:pt x="5455" y="22"/>
                </a:lnTo>
                <a:lnTo>
                  <a:pt x="5530" y="0"/>
                </a:lnTo>
                <a:lnTo>
                  <a:pt x="5614" y="4"/>
                </a:lnTo>
                <a:lnTo>
                  <a:pt x="5984" y="8"/>
                </a:lnTo>
                <a:lnTo>
                  <a:pt x="6611" y="155"/>
                </a:lnTo>
                <a:lnTo>
                  <a:pt x="7034" y="181"/>
                </a:lnTo>
                <a:lnTo>
                  <a:pt x="7307" y="30"/>
                </a:lnTo>
                <a:lnTo>
                  <a:pt x="7413" y="35"/>
                </a:lnTo>
                <a:lnTo>
                  <a:pt x="7493" y="30"/>
                </a:lnTo>
                <a:lnTo>
                  <a:pt x="7731" y="35"/>
                </a:lnTo>
                <a:lnTo>
                  <a:pt x="7996" y="39"/>
                </a:lnTo>
                <a:lnTo>
                  <a:pt x="8261" y="48"/>
                </a:lnTo>
                <a:lnTo>
                  <a:pt x="8473" y="52"/>
                </a:lnTo>
                <a:lnTo>
                  <a:pt x="8631" y="52"/>
                </a:lnTo>
                <a:lnTo>
                  <a:pt x="8896" y="61"/>
                </a:lnTo>
                <a:lnTo>
                  <a:pt x="9156" y="66"/>
                </a:lnTo>
                <a:lnTo>
                  <a:pt x="9421" y="70"/>
                </a:lnTo>
                <a:lnTo>
                  <a:pt x="9632" y="70"/>
                </a:lnTo>
                <a:lnTo>
                  <a:pt x="9712" y="74"/>
                </a:lnTo>
                <a:lnTo>
                  <a:pt x="9818" y="74"/>
                </a:lnTo>
                <a:lnTo>
                  <a:pt x="10003" y="133"/>
                </a:lnTo>
                <a:lnTo>
                  <a:pt x="10210" y="164"/>
                </a:lnTo>
                <a:lnTo>
                  <a:pt x="10294" y="190"/>
                </a:lnTo>
                <a:lnTo>
                  <a:pt x="10373" y="137"/>
                </a:lnTo>
                <a:lnTo>
                  <a:pt x="10453" y="142"/>
                </a:lnTo>
                <a:lnTo>
                  <a:pt x="10633" y="101"/>
                </a:ln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792" name=""/>
          <p:cNvSpPr/>
          <p:nvPr/>
        </p:nvSpPr>
        <p:spPr>
          <a:xfrm>
            <a:off x="1127160" y="2936880"/>
            <a:ext cx="3800880" cy="74880"/>
          </a:xfrm>
          <a:custGeom>
            <a:avLst/>
            <a:gdLst/>
            <a:ahLst/>
            <a:rect l="0" t="0" r="r" b="b"/>
            <a:pathLst>
              <a:path fill="none" w="10558" h="208">
                <a:moveTo>
                  <a:pt x="0" y="44"/>
                </a:moveTo>
                <a:lnTo>
                  <a:pt x="79" y="44"/>
                </a:lnTo>
                <a:lnTo>
                  <a:pt x="158" y="48"/>
                </a:lnTo>
                <a:lnTo>
                  <a:pt x="264" y="48"/>
                </a:lnTo>
                <a:lnTo>
                  <a:pt x="343" y="48"/>
                </a:lnTo>
                <a:lnTo>
                  <a:pt x="661" y="79"/>
                </a:lnTo>
                <a:lnTo>
                  <a:pt x="820" y="83"/>
                </a:lnTo>
                <a:lnTo>
                  <a:pt x="1084" y="115"/>
                </a:lnTo>
                <a:lnTo>
                  <a:pt x="1402" y="146"/>
                </a:lnTo>
                <a:lnTo>
                  <a:pt x="1561" y="181"/>
                </a:lnTo>
                <a:lnTo>
                  <a:pt x="1640" y="177"/>
                </a:lnTo>
                <a:lnTo>
                  <a:pt x="2006" y="186"/>
                </a:lnTo>
                <a:lnTo>
                  <a:pt x="2085" y="186"/>
                </a:lnTo>
                <a:lnTo>
                  <a:pt x="2403" y="190"/>
                </a:lnTo>
                <a:lnTo>
                  <a:pt x="2721" y="199"/>
                </a:lnTo>
                <a:lnTo>
                  <a:pt x="2880" y="199"/>
                </a:lnTo>
                <a:lnTo>
                  <a:pt x="2959" y="203"/>
                </a:lnTo>
                <a:lnTo>
                  <a:pt x="3277" y="208"/>
                </a:lnTo>
                <a:lnTo>
                  <a:pt x="3489" y="186"/>
                </a:lnTo>
                <a:lnTo>
                  <a:pt x="3647" y="186"/>
                </a:lnTo>
                <a:lnTo>
                  <a:pt x="3727" y="190"/>
                </a:lnTo>
                <a:lnTo>
                  <a:pt x="3912" y="164"/>
                </a:lnTo>
                <a:lnTo>
                  <a:pt x="4287" y="120"/>
                </a:lnTo>
                <a:lnTo>
                  <a:pt x="4710" y="74"/>
                </a:lnTo>
                <a:lnTo>
                  <a:pt x="4975" y="52"/>
                </a:lnTo>
                <a:lnTo>
                  <a:pt x="5058" y="0"/>
                </a:lnTo>
                <a:lnTo>
                  <a:pt x="5138" y="0"/>
                </a:lnTo>
                <a:lnTo>
                  <a:pt x="5217" y="0"/>
                </a:lnTo>
                <a:lnTo>
                  <a:pt x="5429" y="4"/>
                </a:lnTo>
                <a:lnTo>
                  <a:pt x="5746" y="13"/>
                </a:lnTo>
                <a:lnTo>
                  <a:pt x="6064" y="17"/>
                </a:lnTo>
                <a:lnTo>
                  <a:pt x="6434" y="22"/>
                </a:lnTo>
                <a:lnTo>
                  <a:pt x="6699" y="26"/>
                </a:lnTo>
                <a:lnTo>
                  <a:pt x="6911" y="30"/>
                </a:lnTo>
                <a:lnTo>
                  <a:pt x="7122" y="39"/>
                </a:lnTo>
                <a:lnTo>
                  <a:pt x="7202" y="35"/>
                </a:lnTo>
                <a:lnTo>
                  <a:pt x="7572" y="44"/>
                </a:lnTo>
                <a:lnTo>
                  <a:pt x="7837" y="48"/>
                </a:lnTo>
                <a:lnTo>
                  <a:pt x="7916" y="48"/>
                </a:lnTo>
                <a:lnTo>
                  <a:pt x="8023" y="52"/>
                </a:lnTo>
                <a:lnTo>
                  <a:pt x="8182" y="52"/>
                </a:lnTo>
                <a:lnTo>
                  <a:pt x="8446" y="57"/>
                </a:lnTo>
                <a:lnTo>
                  <a:pt x="8605" y="61"/>
                </a:lnTo>
                <a:lnTo>
                  <a:pt x="8971" y="66"/>
                </a:lnTo>
                <a:lnTo>
                  <a:pt x="9130" y="70"/>
                </a:lnTo>
                <a:lnTo>
                  <a:pt x="9341" y="74"/>
                </a:lnTo>
                <a:lnTo>
                  <a:pt x="9659" y="83"/>
                </a:lnTo>
                <a:lnTo>
                  <a:pt x="9870" y="83"/>
                </a:lnTo>
                <a:lnTo>
                  <a:pt x="10029" y="88"/>
                </a:lnTo>
                <a:lnTo>
                  <a:pt x="10131" y="115"/>
                </a:lnTo>
                <a:lnTo>
                  <a:pt x="10236" y="115"/>
                </a:lnTo>
                <a:lnTo>
                  <a:pt x="10316" y="120"/>
                </a:lnTo>
                <a:lnTo>
                  <a:pt x="10400" y="146"/>
                </a:lnTo>
                <a:lnTo>
                  <a:pt x="10479" y="146"/>
                </a:lnTo>
                <a:lnTo>
                  <a:pt x="10558" y="150"/>
                </a:ln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793" name=""/>
          <p:cNvSpPr/>
          <p:nvPr/>
        </p:nvSpPr>
        <p:spPr>
          <a:xfrm>
            <a:off x="557280" y="3919680"/>
            <a:ext cx="4905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flipV="1">
            <a:off x="1109520" y="2957400"/>
            <a:ext cx="0" cy="90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p:nvPr/>
        </p:nvSpPr>
        <p:spPr>
          <a:xfrm>
            <a:off x="4938840" y="2995560"/>
            <a:ext cx="0" cy="885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6" name=""/>
          <p:cNvSpPr/>
          <p:nvPr/>
        </p:nvSpPr>
        <p:spPr>
          <a:xfrm>
            <a:off x="814320" y="3814920"/>
            <a:ext cx="5649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5619600" y="3905280"/>
            <a:ext cx="85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flipV="1">
            <a:off x="6299280" y="2646360"/>
            <a:ext cx="0" cy="1163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6299280" y="3911760"/>
            <a:ext cx="0" cy="596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571680" y="3924360"/>
            <a:ext cx="4902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flipV="1">
            <a:off x="5143680" y="1862280"/>
            <a:ext cx="782280" cy="194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654120" y="552456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5919840" y="186048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6294600" y="2643120"/>
            <a:ext cx="25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txBox="1"/>
          <p:nvPr/>
        </p:nvSpPr>
        <p:spPr>
          <a:xfrm>
            <a:off x="6208560" y="1654200"/>
            <a:ext cx="176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Second Plane</a:t>
            </a:r>
            <a:endParaRPr b="0" lang="en-US" sz="2000" spc="-1" strike="noStrike">
              <a:solidFill>
                <a:srgbClr val="000000"/>
              </a:solidFill>
              <a:latin typeface="Arial"/>
            </a:endParaRPr>
          </a:p>
        </p:txBody>
      </p:sp>
      <p:sp>
        <p:nvSpPr>
          <p:cNvPr id="806" name=""/>
          <p:cNvSpPr txBox="1"/>
          <p:nvPr/>
        </p:nvSpPr>
        <p:spPr>
          <a:xfrm>
            <a:off x="6566040" y="2454120"/>
            <a:ext cx="1963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Flatnes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olerance Zone</a:t>
            </a:r>
            <a:endParaRPr b="0" lang="en-US" sz="2000" spc="-1" strike="noStrike">
              <a:solidFill>
                <a:srgbClr val="000000"/>
              </a:solidFill>
              <a:latin typeface="Arial"/>
            </a:endParaRPr>
          </a:p>
        </p:txBody>
      </p:sp>
      <p:sp>
        <p:nvSpPr>
          <p:cNvPr id="807" name=""/>
          <p:cNvSpPr txBox="1"/>
          <p:nvPr/>
        </p:nvSpPr>
        <p:spPr>
          <a:xfrm>
            <a:off x="1027080" y="5392800"/>
            <a:ext cx="37418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Surface Plate or Machine Table</a:t>
            </a:r>
            <a:endParaRPr b="0" lang="en-US" sz="2000" spc="-1" strike="noStrike">
              <a:solidFill>
                <a:srgbClr val="000000"/>
              </a:solidFill>
              <a:latin typeface="Arial"/>
            </a:endParaRPr>
          </a:p>
        </p:txBody>
      </p:sp>
      <p:sp>
        <p:nvSpPr>
          <p:cNvPr id="808" name=""/>
          <p:cNvSpPr/>
          <p:nvPr/>
        </p:nvSpPr>
        <p:spPr>
          <a:xfrm flipH="1" flipV="1">
            <a:off x="547560" y="2048040"/>
            <a:ext cx="190800" cy="1857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549360" y="2048040"/>
            <a:ext cx="40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txBox="1"/>
          <p:nvPr/>
        </p:nvSpPr>
        <p:spPr>
          <a:xfrm>
            <a:off x="920880" y="1839960"/>
            <a:ext cx="1779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rimary Plane</a:t>
            </a:r>
            <a:endParaRPr b="0" lang="en-US" sz="2000" spc="-1" strike="noStrike">
              <a:solidFill>
                <a:srgbClr val="000000"/>
              </a:solidFill>
              <a:latin typeface="Arial"/>
            </a:endParaRPr>
          </a:p>
        </p:txBody>
      </p:sp>
      <p:sp>
        <p:nvSpPr>
          <p:cNvPr id="811" name=""/>
          <p:cNvSpPr/>
          <p:nvPr/>
        </p:nvSpPr>
        <p:spPr>
          <a:xfrm flipH="1">
            <a:off x="652320" y="4984920"/>
            <a:ext cx="463680" cy="529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552600" y="3911760"/>
            <a:ext cx="4921560" cy="1073520"/>
          </a:xfrm>
          <a:custGeom>
            <a:avLst/>
            <a:gdLst/>
            <a:ahLst/>
            <a:rect l="0" t="0" r="r" b="b"/>
            <a:pathLst>
              <a:path w="13671" h="2982">
                <a:moveTo>
                  <a:pt x="13671" y="17"/>
                </a:moveTo>
                <a:lnTo>
                  <a:pt x="13671" y="17"/>
                </a:lnTo>
                <a:lnTo>
                  <a:pt x="0" y="17"/>
                </a:lnTo>
                <a:lnTo>
                  <a:pt x="0" y="2982"/>
                </a:lnTo>
                <a:lnTo>
                  <a:pt x="13547" y="2982"/>
                </a:lnTo>
                <a:lnTo>
                  <a:pt x="13530" y="2930"/>
                </a:lnTo>
                <a:lnTo>
                  <a:pt x="13494" y="2771"/>
                </a:lnTo>
                <a:lnTo>
                  <a:pt x="13459" y="2683"/>
                </a:lnTo>
                <a:lnTo>
                  <a:pt x="13441" y="2612"/>
                </a:lnTo>
                <a:lnTo>
                  <a:pt x="13441" y="2542"/>
                </a:lnTo>
                <a:lnTo>
                  <a:pt x="13459" y="2400"/>
                </a:lnTo>
                <a:lnTo>
                  <a:pt x="13477" y="2330"/>
                </a:lnTo>
                <a:lnTo>
                  <a:pt x="13530" y="2188"/>
                </a:lnTo>
                <a:lnTo>
                  <a:pt x="13547" y="2117"/>
                </a:lnTo>
                <a:lnTo>
                  <a:pt x="13565" y="2064"/>
                </a:lnTo>
                <a:lnTo>
                  <a:pt x="13565" y="2011"/>
                </a:lnTo>
                <a:lnTo>
                  <a:pt x="13494" y="1853"/>
                </a:lnTo>
                <a:lnTo>
                  <a:pt x="13477" y="1782"/>
                </a:lnTo>
                <a:lnTo>
                  <a:pt x="13459" y="1711"/>
                </a:lnTo>
                <a:lnTo>
                  <a:pt x="13441" y="1659"/>
                </a:lnTo>
                <a:lnTo>
                  <a:pt x="13441" y="1588"/>
                </a:lnTo>
                <a:lnTo>
                  <a:pt x="13441" y="1535"/>
                </a:lnTo>
                <a:lnTo>
                  <a:pt x="13441" y="1465"/>
                </a:lnTo>
                <a:lnTo>
                  <a:pt x="13459" y="1412"/>
                </a:lnTo>
                <a:lnTo>
                  <a:pt x="13477" y="1359"/>
                </a:lnTo>
                <a:lnTo>
                  <a:pt x="13477" y="1271"/>
                </a:lnTo>
                <a:lnTo>
                  <a:pt x="13477" y="1147"/>
                </a:lnTo>
                <a:lnTo>
                  <a:pt x="13459" y="1094"/>
                </a:lnTo>
                <a:lnTo>
                  <a:pt x="13441" y="1024"/>
                </a:lnTo>
                <a:lnTo>
                  <a:pt x="13441" y="935"/>
                </a:lnTo>
                <a:lnTo>
                  <a:pt x="13459" y="882"/>
                </a:lnTo>
                <a:lnTo>
                  <a:pt x="13477" y="812"/>
                </a:lnTo>
                <a:lnTo>
                  <a:pt x="13494" y="759"/>
                </a:lnTo>
                <a:lnTo>
                  <a:pt x="13530" y="670"/>
                </a:lnTo>
                <a:lnTo>
                  <a:pt x="13547" y="582"/>
                </a:lnTo>
                <a:lnTo>
                  <a:pt x="13565" y="458"/>
                </a:lnTo>
                <a:lnTo>
                  <a:pt x="13582" y="405"/>
                </a:lnTo>
                <a:lnTo>
                  <a:pt x="13582" y="352"/>
                </a:lnTo>
                <a:lnTo>
                  <a:pt x="13600" y="299"/>
                </a:lnTo>
                <a:lnTo>
                  <a:pt x="13600" y="211"/>
                </a:lnTo>
                <a:lnTo>
                  <a:pt x="13618" y="158"/>
                </a:lnTo>
                <a:lnTo>
                  <a:pt x="13618" y="105"/>
                </a:lnTo>
                <a:lnTo>
                  <a:pt x="13635" y="35"/>
                </a:lnTo>
                <a:lnTo>
                  <a:pt x="13653" y="17"/>
                </a:lnTo>
                <a:lnTo>
                  <a:pt x="13635" y="0"/>
                </a:lnTo>
                <a:lnTo>
                  <a:pt x="13671" y="1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VER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14" name=""/>
          <p:cNvSpPr txBox="1"/>
          <p:nvPr/>
        </p:nvSpPr>
        <p:spPr>
          <a:xfrm>
            <a:off x="685800" y="760320"/>
            <a:ext cx="7772400" cy="1143000"/>
          </a:xfrm>
          <a:prstGeom prst="rect">
            <a:avLst/>
          </a:prstGeom>
          <a:noFill/>
          <a:ln w="0">
            <a:noFill/>
          </a:ln>
        </p:spPr>
        <p:txBody>
          <a:bodyPr lIns="0" rIns="0" tIns="0" bIns="0" anchor="t">
            <a:noAutofit/>
          </a:bodyPr>
          <a:p>
            <a:pPr algn="ctr">
              <a:lnSpc>
                <a:spcPct val="100000"/>
              </a:lnSpc>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
        <p:nvSpPr>
          <p:cNvPr id="815" name=""/>
          <p:cNvSpPr txBox="1"/>
          <p:nvPr/>
        </p:nvSpPr>
        <p:spPr>
          <a:xfrm>
            <a:off x="852480" y="2147760"/>
            <a:ext cx="7772400" cy="395604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Flatness can only be applied to a planar surface.</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If a surface is flat, it has reference only to its own true geometric counterpart.  Therefore, datum references are meaningless and inappropriate. </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Flatness always applies regardless of feature size.  Therefore, a flatness control cannot use modifiers (MMC and/or LM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1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UNDER RULE #1</a:t>
            </a:r>
            <a:endParaRPr b="0" lang="en-US" sz="3600" spc="-1" strike="noStrike">
              <a:solidFill>
                <a:srgbClr val="000000"/>
              </a:solidFill>
              <a:latin typeface="Arial"/>
            </a:endParaRPr>
          </a:p>
        </p:txBody>
      </p:sp>
      <p:sp>
        <p:nvSpPr>
          <p:cNvPr id="81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applied to a planar feature of size (a distance between two parallel surfaces) provides an automatic flatness control for both su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1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UNDER RULE #1</a:t>
            </a:r>
            <a:endParaRPr b="0" lang="en-US" sz="3600" spc="-1" strike="noStrike">
              <a:solidFill>
                <a:srgbClr val="000000"/>
              </a:solidFill>
              <a:latin typeface="Arial"/>
            </a:endParaRPr>
          </a:p>
        </p:txBody>
      </p:sp>
      <p:sp>
        <p:nvSpPr>
          <p:cNvPr id="81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applied to a planar feature of size (a distance between two parallel surfaces) provides an automatic flatness control for both surfac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t MMC, both surfaces must be perfectly fl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2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UNDER RULE #1</a:t>
            </a:r>
            <a:endParaRPr b="0" lang="en-US" sz="3600" spc="-1" strike="noStrike">
              <a:solidFill>
                <a:srgbClr val="000000"/>
              </a:solidFill>
              <a:latin typeface="Arial"/>
            </a:endParaRPr>
          </a:p>
        </p:txBody>
      </p:sp>
      <p:sp>
        <p:nvSpPr>
          <p:cNvPr id="82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applied to a planar feature of size (a distance between two parallel surfaces) provides an automatic flatness control for both surfac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t MMC, both surfaces must be perfectly fla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s departure from MMC occurs, form variation equal in amount to that departure is allowed. (The limits on form variation for both surfaces are equal to the tolerance for the limits of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8" name=""/>
          <p:cNvGrpSpPr/>
          <p:nvPr/>
        </p:nvGrpSpPr>
        <p:grpSpPr>
          <a:xfrm>
            <a:off x="0" y="101520"/>
            <a:ext cx="9020160" cy="6743880"/>
            <a:chOff x="0" y="101520"/>
            <a:chExt cx="9020160" cy="6743880"/>
          </a:xfrm>
        </p:grpSpPr>
        <p:sp>
          <p:nvSpPr>
            <p:cNvPr id="39"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0"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2"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6"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7"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4"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99"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 name=""/>
            <p:cNvGrpSpPr/>
            <p:nvPr/>
          </p:nvGrpSpPr>
          <p:grpSpPr>
            <a:xfrm>
              <a:off x="7902720" y="1098720"/>
              <a:ext cx="204480" cy="193680"/>
              <a:chOff x="7902720" y="1098720"/>
              <a:chExt cx="204480" cy="193680"/>
            </a:xfrm>
          </p:grpSpPr>
          <p:sp>
            <p:nvSpPr>
              <p:cNvPr id="126"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29"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1"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2"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3"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4"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 name=""/>
            <p:cNvGrpSpPr/>
            <p:nvPr/>
          </p:nvGrpSpPr>
          <p:grpSpPr>
            <a:xfrm>
              <a:off x="6835680" y="396720"/>
              <a:ext cx="279360" cy="292320"/>
              <a:chOff x="6835680" y="396720"/>
              <a:chExt cx="279360" cy="292320"/>
            </a:xfrm>
          </p:grpSpPr>
          <p:sp>
            <p:nvSpPr>
              <p:cNvPr id="136"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4"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6"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 name=""/>
            <p:cNvGrpSpPr/>
            <p:nvPr/>
          </p:nvGrpSpPr>
          <p:grpSpPr>
            <a:xfrm>
              <a:off x="5981760" y="5961240"/>
              <a:ext cx="190440" cy="196560"/>
              <a:chOff x="5981760" y="5961240"/>
              <a:chExt cx="190440" cy="196560"/>
            </a:xfrm>
          </p:grpSpPr>
          <p:sp>
            <p:nvSpPr>
              <p:cNvPr id="150"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3"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4" name=""/>
            <p:cNvGrpSpPr/>
            <p:nvPr/>
          </p:nvGrpSpPr>
          <p:grpSpPr>
            <a:xfrm>
              <a:off x="6891480" y="6418440"/>
              <a:ext cx="190440" cy="196560"/>
              <a:chOff x="6891480" y="6418440"/>
              <a:chExt cx="190440" cy="196560"/>
            </a:xfrm>
          </p:grpSpPr>
          <p:sp>
            <p:nvSpPr>
              <p:cNvPr id="155"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0"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1"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68"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69"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0"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1"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2"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3"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4"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6"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 name=""/>
            <p:cNvGrpSpPr/>
            <p:nvPr/>
          </p:nvGrpSpPr>
          <p:grpSpPr>
            <a:xfrm>
              <a:off x="7164360" y="422280"/>
              <a:ext cx="204840" cy="193680"/>
              <a:chOff x="7164360" y="422280"/>
              <a:chExt cx="204840" cy="193680"/>
            </a:xfrm>
          </p:grpSpPr>
          <p:sp>
            <p:nvSpPr>
              <p:cNvPr id="179"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7340760" y="184320"/>
              <a:ext cx="163440" cy="155520"/>
              <a:chOff x="7340760" y="184320"/>
              <a:chExt cx="163440" cy="155520"/>
            </a:xfrm>
          </p:grpSpPr>
          <p:sp>
            <p:nvSpPr>
              <p:cNvPr id="182"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2940120" y="1822320"/>
              <a:ext cx="204840" cy="193680"/>
              <a:chOff x="2940120" y="1822320"/>
              <a:chExt cx="204840" cy="193680"/>
            </a:xfrm>
          </p:grpSpPr>
          <p:sp>
            <p:nvSpPr>
              <p:cNvPr id="185"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88"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2"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4"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6"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1"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2"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5"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2998800" y="985680"/>
              <a:ext cx="279360" cy="292320"/>
              <a:chOff x="2998800" y="985680"/>
              <a:chExt cx="279360" cy="292320"/>
            </a:xfrm>
          </p:grpSpPr>
          <p:sp>
            <p:nvSpPr>
              <p:cNvPr id="207"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0"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1" name=""/>
            <p:cNvGrpSpPr/>
            <p:nvPr/>
          </p:nvGrpSpPr>
          <p:grpSpPr>
            <a:xfrm>
              <a:off x="3355920" y="1035000"/>
              <a:ext cx="204840" cy="193680"/>
              <a:chOff x="3355920" y="1035000"/>
              <a:chExt cx="204840" cy="193680"/>
            </a:xfrm>
          </p:grpSpPr>
          <p:sp>
            <p:nvSpPr>
              <p:cNvPr id="212"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5"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27"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3"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4"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39"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 name=""/>
            <p:cNvGrpSpPr/>
            <p:nvPr/>
          </p:nvGrpSpPr>
          <p:grpSpPr>
            <a:xfrm>
              <a:off x="501480" y="146160"/>
              <a:ext cx="204840" cy="193680"/>
              <a:chOff x="501480" y="146160"/>
              <a:chExt cx="204840" cy="193680"/>
            </a:xfrm>
          </p:grpSpPr>
          <p:sp>
            <p:nvSpPr>
              <p:cNvPr id="245"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48"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5"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59"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3"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1"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1"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4"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6"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8" name=""/>
            <p:cNvGrpSpPr/>
            <p:nvPr/>
          </p:nvGrpSpPr>
          <p:grpSpPr>
            <a:xfrm>
              <a:off x="3422520" y="4789440"/>
              <a:ext cx="204840" cy="193680"/>
              <a:chOff x="3422520" y="4789440"/>
              <a:chExt cx="204840" cy="193680"/>
            </a:xfrm>
          </p:grpSpPr>
          <p:sp>
            <p:nvSpPr>
              <p:cNvPr id="299"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1"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2"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6"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07"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22" name=""/>
          <p:cNvSpPr txBox="1"/>
          <p:nvPr/>
        </p:nvSpPr>
        <p:spPr>
          <a:xfrm>
            <a:off x="685800" y="2730600"/>
            <a:ext cx="7772400" cy="23162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flatness control never overrides Rule #1.  Flatness must be contained within the envelope defined by the upper and lower limits of size.  It </a:t>
            </a:r>
            <a:r>
              <a:rPr b="0" lang="en-US" sz="2800" spc="-1" strike="noStrike">
                <a:solidFill>
                  <a:srgbClr val="fafd00"/>
                </a:solidFill>
                <a:latin typeface="Times New Roman"/>
                <a:ea typeface="Times New Roman"/>
              </a:rPr>
              <a:t>refines</a:t>
            </a:r>
            <a:r>
              <a:rPr b="0" lang="en-US" sz="2800" spc="-1" strike="noStrike">
                <a:solidFill>
                  <a:srgbClr val="ffffff"/>
                </a:solidFill>
                <a:latin typeface="Times New Roman"/>
                <a:ea typeface="Times New Roman"/>
              </a:rPr>
              <a:t> the allowable flatness error of the surface </a:t>
            </a:r>
            <a:r>
              <a:rPr b="0" lang="en-US" sz="2800" spc="-1" strike="noStrike">
                <a:solidFill>
                  <a:srgbClr val="fafd00"/>
                </a:solidFill>
                <a:latin typeface="Times New Roman"/>
                <a:ea typeface="Times New Roman"/>
              </a:rPr>
              <a:t>within </a:t>
            </a:r>
            <a:r>
              <a:rPr b="0" lang="en-US" sz="2800" spc="-1" strike="noStrike">
                <a:solidFill>
                  <a:srgbClr val="ffffff"/>
                </a:solidFill>
                <a:latin typeface="Times New Roman"/>
                <a:ea typeface="Times New Roman"/>
              </a:rPr>
              <a:t>the size tolerance.</a:t>
            </a:r>
            <a:endParaRPr b="0" lang="en-US" sz="2800" spc="-1" strike="noStrike">
              <a:solidFill>
                <a:srgbClr val="000000"/>
              </a:solidFill>
              <a:latin typeface="Arial"/>
            </a:endParaRPr>
          </a:p>
        </p:txBody>
      </p:sp>
      <p:sp>
        <p:nvSpPr>
          <p:cNvPr id="823" name=""/>
          <p:cNvSpPr txBox="1"/>
          <p:nvPr/>
        </p:nvSpPr>
        <p:spPr>
          <a:xfrm>
            <a:off x="685800" y="1490760"/>
            <a:ext cx="7772400" cy="1143000"/>
          </a:xfrm>
          <a:prstGeom prst="rect">
            <a:avLst/>
          </a:prstGeom>
          <a:noFill/>
          <a:ln w="0">
            <a:noFill/>
          </a:ln>
        </p:spPr>
        <p:txBody>
          <a:bodyPr lIns="0" rIns="0" tIns="0" bIns="0" anchor="t">
            <a:noAutofit/>
          </a:bodyPr>
          <a:p>
            <a:pPr algn="ctr">
              <a:lnSpc>
                <a:spcPct val="100000"/>
              </a:lnSpc>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2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APPLICATION</a:t>
            </a:r>
            <a:endParaRPr b="0" lang="en-US" sz="3600" spc="-1" strike="noStrike">
              <a:solidFill>
                <a:srgbClr val="000000"/>
              </a:solidFill>
              <a:latin typeface="Arial"/>
            </a:endParaRPr>
          </a:p>
        </p:txBody>
      </p:sp>
      <p:sp>
        <p:nvSpPr>
          <p:cNvPr id="825" name=""/>
          <p:cNvSpPr/>
          <p:nvPr/>
        </p:nvSpPr>
        <p:spPr>
          <a:xfrm>
            <a:off x="1380960" y="2071800"/>
            <a:ext cx="1262160" cy="809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2809800" y="2071800"/>
            <a:ext cx="6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a:off x="2786040" y="288144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3238560" y="2071800"/>
            <a:ext cx="0" cy="809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3238560" y="320364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3238560" y="285768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3425760" y="2071800"/>
            <a:ext cx="119376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3492360" y="2155680"/>
            <a:ext cx="413280" cy="146520"/>
          </a:xfrm>
          <a:custGeom>
            <a:avLst/>
            <a:gdLst/>
            <a:ahLst/>
            <a:rect l="0" t="0" r="r" b="b"/>
            <a:pathLst>
              <a:path fill="none" w="1148" h="407">
                <a:moveTo>
                  <a:pt x="0" y="407"/>
                </a:moveTo>
                <a:lnTo>
                  <a:pt x="803" y="407"/>
                </a:lnTo>
                <a:lnTo>
                  <a:pt x="1148" y="0"/>
                </a:lnTo>
                <a:lnTo>
                  <a:pt x="344" y="0"/>
                </a:lnTo>
                <a:lnTo>
                  <a:pt x="0" y="40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3943440" y="2070000"/>
            <a:ext cx="0" cy="33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txBox="1"/>
          <p:nvPr/>
        </p:nvSpPr>
        <p:spPr>
          <a:xfrm>
            <a:off x="3933720" y="20653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835" name=""/>
          <p:cNvSpPr txBox="1"/>
          <p:nvPr/>
        </p:nvSpPr>
        <p:spPr>
          <a:xfrm>
            <a:off x="3516480" y="3036960"/>
            <a:ext cx="1398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0 - 14.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3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APPLICATION</a:t>
            </a:r>
            <a:endParaRPr b="0" lang="en-US" sz="3600" spc="-1" strike="noStrike">
              <a:solidFill>
                <a:srgbClr val="000000"/>
              </a:solidFill>
              <a:latin typeface="Arial"/>
            </a:endParaRPr>
          </a:p>
        </p:txBody>
      </p:sp>
      <p:sp>
        <p:nvSpPr>
          <p:cNvPr id="837" name=""/>
          <p:cNvSpPr/>
          <p:nvPr/>
        </p:nvSpPr>
        <p:spPr>
          <a:xfrm>
            <a:off x="1380960" y="2071800"/>
            <a:ext cx="1262160" cy="809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2809800" y="2071800"/>
            <a:ext cx="6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2786040" y="288144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3238560" y="2071800"/>
            <a:ext cx="0" cy="809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3238560" y="320364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3238560" y="285768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3425760" y="2068560"/>
            <a:ext cx="119376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a:off x="3492360" y="2152800"/>
            <a:ext cx="413280" cy="146520"/>
          </a:xfrm>
          <a:custGeom>
            <a:avLst/>
            <a:gdLst/>
            <a:ahLst/>
            <a:rect l="0" t="0" r="r" b="b"/>
            <a:pathLst>
              <a:path fill="none" w="1148" h="407">
                <a:moveTo>
                  <a:pt x="0" y="407"/>
                </a:moveTo>
                <a:lnTo>
                  <a:pt x="803" y="407"/>
                </a:lnTo>
                <a:lnTo>
                  <a:pt x="1148" y="0"/>
                </a:lnTo>
                <a:lnTo>
                  <a:pt x="344" y="0"/>
                </a:lnTo>
                <a:lnTo>
                  <a:pt x="0" y="40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3943440" y="2070000"/>
            <a:ext cx="0" cy="33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txBox="1"/>
          <p:nvPr/>
        </p:nvSpPr>
        <p:spPr>
          <a:xfrm>
            <a:off x="3933720" y="206208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847" name=""/>
          <p:cNvSpPr txBox="1"/>
          <p:nvPr/>
        </p:nvSpPr>
        <p:spPr>
          <a:xfrm>
            <a:off x="3516480" y="3036960"/>
            <a:ext cx="1398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0 - 14.6</a:t>
            </a:r>
            <a:endParaRPr b="0" lang="en-US" sz="2000" spc="-1" strike="noStrike">
              <a:solidFill>
                <a:srgbClr val="000000"/>
              </a:solidFill>
              <a:latin typeface="Arial"/>
            </a:endParaRPr>
          </a:p>
        </p:txBody>
      </p:sp>
      <p:sp>
        <p:nvSpPr>
          <p:cNvPr id="848" name=""/>
          <p:cNvSpPr/>
          <p:nvPr/>
        </p:nvSpPr>
        <p:spPr>
          <a:xfrm flipH="1">
            <a:off x="2084400" y="4500720"/>
            <a:ext cx="1440" cy="1401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9" name=""/>
          <p:cNvSpPr/>
          <p:nvPr/>
        </p:nvSpPr>
        <p:spPr>
          <a:xfrm>
            <a:off x="547560" y="5902200"/>
            <a:ext cx="6572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0" name=""/>
          <p:cNvSpPr/>
          <p:nvPr/>
        </p:nvSpPr>
        <p:spPr>
          <a:xfrm flipV="1">
            <a:off x="4941720" y="4484520"/>
            <a:ext cx="0" cy="1417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1" name=""/>
          <p:cNvSpPr/>
          <p:nvPr/>
        </p:nvSpPr>
        <p:spPr>
          <a:xfrm>
            <a:off x="2082960" y="4367160"/>
            <a:ext cx="2860920" cy="136800"/>
          </a:xfrm>
          <a:custGeom>
            <a:avLst/>
            <a:gdLst/>
            <a:ahLst/>
            <a:rect l="0" t="0" r="r" b="b"/>
            <a:pathLst>
              <a:path fill="none" w="7947" h="380">
                <a:moveTo>
                  <a:pt x="0" y="380"/>
                </a:moveTo>
                <a:lnTo>
                  <a:pt x="88" y="239"/>
                </a:lnTo>
                <a:lnTo>
                  <a:pt x="167" y="239"/>
                </a:lnTo>
                <a:lnTo>
                  <a:pt x="273" y="185"/>
                </a:lnTo>
                <a:lnTo>
                  <a:pt x="357" y="199"/>
                </a:lnTo>
                <a:lnTo>
                  <a:pt x="432" y="239"/>
                </a:lnTo>
                <a:lnTo>
                  <a:pt x="537" y="292"/>
                </a:lnTo>
                <a:lnTo>
                  <a:pt x="617" y="239"/>
                </a:lnTo>
                <a:lnTo>
                  <a:pt x="696" y="239"/>
                </a:lnTo>
                <a:lnTo>
                  <a:pt x="802" y="212"/>
                </a:lnTo>
                <a:lnTo>
                  <a:pt x="908" y="185"/>
                </a:lnTo>
                <a:lnTo>
                  <a:pt x="1067" y="185"/>
                </a:lnTo>
                <a:lnTo>
                  <a:pt x="1225" y="185"/>
                </a:lnTo>
                <a:lnTo>
                  <a:pt x="1331" y="158"/>
                </a:lnTo>
                <a:lnTo>
                  <a:pt x="1437" y="158"/>
                </a:lnTo>
                <a:lnTo>
                  <a:pt x="1516" y="158"/>
                </a:lnTo>
                <a:lnTo>
                  <a:pt x="1622" y="185"/>
                </a:lnTo>
                <a:lnTo>
                  <a:pt x="1702" y="265"/>
                </a:lnTo>
                <a:lnTo>
                  <a:pt x="1807" y="265"/>
                </a:lnTo>
                <a:lnTo>
                  <a:pt x="1913" y="265"/>
                </a:lnTo>
                <a:lnTo>
                  <a:pt x="1993" y="292"/>
                </a:lnTo>
                <a:lnTo>
                  <a:pt x="2191" y="234"/>
                </a:lnTo>
                <a:lnTo>
                  <a:pt x="2301" y="199"/>
                </a:lnTo>
                <a:lnTo>
                  <a:pt x="2509" y="252"/>
                </a:lnTo>
                <a:lnTo>
                  <a:pt x="2628" y="292"/>
                </a:lnTo>
                <a:lnTo>
                  <a:pt x="2826" y="358"/>
                </a:lnTo>
                <a:lnTo>
                  <a:pt x="3011" y="318"/>
                </a:lnTo>
                <a:lnTo>
                  <a:pt x="3077" y="292"/>
                </a:lnTo>
                <a:lnTo>
                  <a:pt x="3170" y="234"/>
                </a:lnTo>
                <a:lnTo>
                  <a:pt x="3276" y="234"/>
                </a:lnTo>
                <a:lnTo>
                  <a:pt x="3448" y="292"/>
                </a:lnTo>
                <a:lnTo>
                  <a:pt x="3527" y="265"/>
                </a:lnTo>
                <a:lnTo>
                  <a:pt x="3633" y="212"/>
                </a:lnTo>
                <a:lnTo>
                  <a:pt x="3712" y="185"/>
                </a:lnTo>
                <a:lnTo>
                  <a:pt x="4005" y="318"/>
                </a:lnTo>
                <a:lnTo>
                  <a:pt x="3924" y="265"/>
                </a:lnTo>
                <a:lnTo>
                  <a:pt x="4057" y="318"/>
                </a:lnTo>
                <a:lnTo>
                  <a:pt x="4110" y="185"/>
                </a:lnTo>
                <a:lnTo>
                  <a:pt x="4348" y="185"/>
                </a:lnTo>
                <a:lnTo>
                  <a:pt x="4560" y="79"/>
                </a:lnTo>
                <a:lnTo>
                  <a:pt x="4719" y="185"/>
                </a:lnTo>
                <a:lnTo>
                  <a:pt x="4798" y="185"/>
                </a:lnTo>
                <a:lnTo>
                  <a:pt x="4891" y="114"/>
                </a:lnTo>
                <a:lnTo>
                  <a:pt x="5089" y="185"/>
                </a:lnTo>
                <a:lnTo>
                  <a:pt x="5248" y="185"/>
                </a:lnTo>
                <a:lnTo>
                  <a:pt x="5327" y="239"/>
                </a:lnTo>
                <a:lnTo>
                  <a:pt x="5433" y="265"/>
                </a:lnTo>
                <a:lnTo>
                  <a:pt x="5513" y="292"/>
                </a:lnTo>
                <a:lnTo>
                  <a:pt x="5605" y="344"/>
                </a:lnTo>
                <a:lnTo>
                  <a:pt x="5671" y="292"/>
                </a:lnTo>
                <a:lnTo>
                  <a:pt x="5790" y="340"/>
                </a:lnTo>
                <a:lnTo>
                  <a:pt x="5962" y="292"/>
                </a:lnTo>
                <a:lnTo>
                  <a:pt x="6121" y="344"/>
                </a:lnTo>
                <a:lnTo>
                  <a:pt x="6306" y="371"/>
                </a:lnTo>
                <a:lnTo>
                  <a:pt x="6518" y="318"/>
                </a:lnTo>
                <a:lnTo>
                  <a:pt x="6655" y="239"/>
                </a:lnTo>
                <a:lnTo>
                  <a:pt x="6888" y="208"/>
                </a:lnTo>
                <a:lnTo>
                  <a:pt x="6990" y="180"/>
                </a:lnTo>
                <a:lnTo>
                  <a:pt x="7056" y="199"/>
                </a:lnTo>
                <a:lnTo>
                  <a:pt x="7153" y="101"/>
                </a:lnTo>
                <a:lnTo>
                  <a:pt x="7299" y="26"/>
                </a:lnTo>
                <a:lnTo>
                  <a:pt x="7444" y="0"/>
                </a:lnTo>
                <a:lnTo>
                  <a:pt x="7585" y="119"/>
                </a:lnTo>
                <a:lnTo>
                  <a:pt x="7691" y="171"/>
                </a:lnTo>
                <a:lnTo>
                  <a:pt x="7775" y="239"/>
                </a:lnTo>
                <a:lnTo>
                  <a:pt x="7850" y="252"/>
                </a:lnTo>
                <a:lnTo>
                  <a:pt x="7947" y="318"/>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APPLICATION</a:t>
            </a:r>
            <a:endParaRPr b="0" lang="en-US" sz="3600" spc="-1" strike="noStrike">
              <a:solidFill>
                <a:srgbClr val="000000"/>
              </a:solidFill>
              <a:latin typeface="Arial"/>
            </a:endParaRPr>
          </a:p>
        </p:txBody>
      </p:sp>
      <p:sp>
        <p:nvSpPr>
          <p:cNvPr id="853" name=""/>
          <p:cNvSpPr/>
          <p:nvPr/>
        </p:nvSpPr>
        <p:spPr>
          <a:xfrm>
            <a:off x="1380960" y="2071800"/>
            <a:ext cx="1262160" cy="809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4" name=""/>
          <p:cNvSpPr/>
          <p:nvPr/>
        </p:nvSpPr>
        <p:spPr>
          <a:xfrm>
            <a:off x="2809800" y="2071800"/>
            <a:ext cx="6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2786040" y="288144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3238560" y="2071800"/>
            <a:ext cx="0" cy="809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a:off x="3238560" y="320364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3238560" y="285768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3425760" y="2068560"/>
            <a:ext cx="119376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3492360" y="2152800"/>
            <a:ext cx="413280" cy="146520"/>
          </a:xfrm>
          <a:custGeom>
            <a:avLst/>
            <a:gdLst/>
            <a:ahLst/>
            <a:rect l="0" t="0" r="r" b="b"/>
            <a:pathLst>
              <a:path fill="none" w="1148" h="407">
                <a:moveTo>
                  <a:pt x="0" y="407"/>
                </a:moveTo>
                <a:lnTo>
                  <a:pt x="803" y="407"/>
                </a:lnTo>
                <a:lnTo>
                  <a:pt x="1148" y="0"/>
                </a:lnTo>
                <a:lnTo>
                  <a:pt x="344" y="0"/>
                </a:lnTo>
                <a:lnTo>
                  <a:pt x="0" y="40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3943440" y="2070000"/>
            <a:ext cx="0" cy="33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txBox="1"/>
          <p:nvPr/>
        </p:nvSpPr>
        <p:spPr>
          <a:xfrm>
            <a:off x="3933720" y="206208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863" name=""/>
          <p:cNvSpPr txBox="1"/>
          <p:nvPr/>
        </p:nvSpPr>
        <p:spPr>
          <a:xfrm>
            <a:off x="3516480" y="3036960"/>
            <a:ext cx="1398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0 - 14.6</a:t>
            </a:r>
            <a:endParaRPr b="0" lang="en-US" sz="2000" spc="-1" strike="noStrike">
              <a:solidFill>
                <a:srgbClr val="000000"/>
              </a:solidFill>
              <a:latin typeface="Arial"/>
            </a:endParaRPr>
          </a:p>
        </p:txBody>
      </p:sp>
      <p:sp>
        <p:nvSpPr>
          <p:cNvPr id="864" name=""/>
          <p:cNvSpPr/>
          <p:nvPr/>
        </p:nvSpPr>
        <p:spPr>
          <a:xfrm>
            <a:off x="2082960" y="4502160"/>
            <a:ext cx="1440" cy="14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5" name=""/>
          <p:cNvSpPr/>
          <p:nvPr/>
        </p:nvSpPr>
        <p:spPr>
          <a:xfrm>
            <a:off x="547560" y="5902200"/>
            <a:ext cx="6572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flipV="1">
            <a:off x="4957920" y="4484520"/>
            <a:ext cx="0" cy="1406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867" name=""/>
          <p:cNvGrpSpPr/>
          <p:nvPr/>
        </p:nvGrpSpPr>
        <p:grpSpPr>
          <a:xfrm>
            <a:off x="595440" y="4243320"/>
            <a:ext cx="6524640" cy="371520"/>
            <a:chOff x="595440" y="4243320"/>
            <a:chExt cx="6524640" cy="371520"/>
          </a:xfrm>
        </p:grpSpPr>
        <p:sp>
          <p:nvSpPr>
            <p:cNvPr id="868" name=""/>
            <p:cNvSpPr/>
            <p:nvPr/>
          </p:nvSpPr>
          <p:spPr>
            <a:xfrm>
              <a:off x="595440" y="4605480"/>
              <a:ext cx="1766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2448000" y="4614840"/>
              <a:ext cx="152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2685960" y="4614840"/>
              <a:ext cx="181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3009960" y="4614840"/>
              <a:ext cx="1266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4381560" y="4614840"/>
              <a:ext cx="114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4629240" y="4614840"/>
              <a:ext cx="123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4867200" y="4614840"/>
              <a:ext cx="819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1305000" y="4243320"/>
              <a:ext cx="1076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2467080" y="424332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733840" y="424332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3019320" y="424332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 name=""/>
            <p:cNvSpPr/>
            <p:nvPr/>
          </p:nvSpPr>
          <p:spPr>
            <a:xfrm>
              <a:off x="4314960" y="424332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4581360" y="4243320"/>
              <a:ext cx="142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4857840" y="4243320"/>
              <a:ext cx="2262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2" name=""/>
          <p:cNvSpPr/>
          <p:nvPr/>
        </p:nvSpPr>
        <p:spPr>
          <a:xfrm>
            <a:off x="6905520" y="4238640"/>
            <a:ext cx="0" cy="50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 name=""/>
          <p:cNvSpPr/>
          <p:nvPr/>
        </p:nvSpPr>
        <p:spPr>
          <a:xfrm>
            <a:off x="6905520" y="511956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txBox="1"/>
          <p:nvPr/>
        </p:nvSpPr>
        <p:spPr>
          <a:xfrm>
            <a:off x="6551640" y="4797360"/>
            <a:ext cx="1355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6 MMC</a:t>
            </a:r>
            <a:endParaRPr b="0" lang="en-US" sz="2000" spc="-1" strike="noStrike">
              <a:solidFill>
                <a:srgbClr val="000000"/>
              </a:solidFill>
              <a:latin typeface="Arial"/>
            </a:endParaRPr>
          </a:p>
        </p:txBody>
      </p:sp>
      <p:sp>
        <p:nvSpPr>
          <p:cNvPr id="885" name=""/>
          <p:cNvSpPr/>
          <p:nvPr/>
        </p:nvSpPr>
        <p:spPr>
          <a:xfrm>
            <a:off x="785880" y="4595760"/>
            <a:ext cx="0" cy="380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785880" y="5357880"/>
            <a:ext cx="0" cy="547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txBox="1"/>
          <p:nvPr/>
        </p:nvSpPr>
        <p:spPr>
          <a:xfrm>
            <a:off x="431640" y="5035680"/>
            <a:ext cx="1285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0 LMC</a:t>
            </a:r>
            <a:endParaRPr b="0" lang="en-US" sz="2000" spc="-1" strike="noStrike">
              <a:solidFill>
                <a:srgbClr val="000000"/>
              </a:solidFill>
              <a:latin typeface="Arial"/>
            </a:endParaRPr>
          </a:p>
        </p:txBody>
      </p:sp>
      <p:sp>
        <p:nvSpPr>
          <p:cNvPr id="888" name=""/>
          <p:cNvSpPr/>
          <p:nvPr/>
        </p:nvSpPr>
        <p:spPr>
          <a:xfrm>
            <a:off x="2082960" y="4367160"/>
            <a:ext cx="2860920" cy="136800"/>
          </a:xfrm>
          <a:custGeom>
            <a:avLst/>
            <a:gdLst/>
            <a:ahLst/>
            <a:rect l="0" t="0" r="r" b="b"/>
            <a:pathLst>
              <a:path fill="none" w="7947" h="380">
                <a:moveTo>
                  <a:pt x="0" y="380"/>
                </a:moveTo>
                <a:lnTo>
                  <a:pt x="88" y="239"/>
                </a:lnTo>
                <a:lnTo>
                  <a:pt x="167" y="239"/>
                </a:lnTo>
                <a:lnTo>
                  <a:pt x="273" y="185"/>
                </a:lnTo>
                <a:lnTo>
                  <a:pt x="357" y="199"/>
                </a:lnTo>
                <a:lnTo>
                  <a:pt x="432" y="239"/>
                </a:lnTo>
                <a:lnTo>
                  <a:pt x="537" y="292"/>
                </a:lnTo>
                <a:lnTo>
                  <a:pt x="617" y="239"/>
                </a:lnTo>
                <a:lnTo>
                  <a:pt x="696" y="239"/>
                </a:lnTo>
                <a:lnTo>
                  <a:pt x="802" y="212"/>
                </a:lnTo>
                <a:lnTo>
                  <a:pt x="908" y="185"/>
                </a:lnTo>
                <a:lnTo>
                  <a:pt x="1067" y="185"/>
                </a:lnTo>
                <a:lnTo>
                  <a:pt x="1225" y="185"/>
                </a:lnTo>
                <a:lnTo>
                  <a:pt x="1331" y="158"/>
                </a:lnTo>
                <a:lnTo>
                  <a:pt x="1437" y="158"/>
                </a:lnTo>
                <a:lnTo>
                  <a:pt x="1516" y="158"/>
                </a:lnTo>
                <a:lnTo>
                  <a:pt x="1622" y="185"/>
                </a:lnTo>
                <a:lnTo>
                  <a:pt x="1702" y="265"/>
                </a:lnTo>
                <a:lnTo>
                  <a:pt x="1807" y="265"/>
                </a:lnTo>
                <a:lnTo>
                  <a:pt x="1913" y="265"/>
                </a:lnTo>
                <a:lnTo>
                  <a:pt x="1993" y="292"/>
                </a:lnTo>
                <a:lnTo>
                  <a:pt x="2191" y="234"/>
                </a:lnTo>
                <a:lnTo>
                  <a:pt x="2301" y="199"/>
                </a:lnTo>
                <a:lnTo>
                  <a:pt x="2509" y="252"/>
                </a:lnTo>
                <a:lnTo>
                  <a:pt x="2628" y="292"/>
                </a:lnTo>
                <a:lnTo>
                  <a:pt x="2826" y="358"/>
                </a:lnTo>
                <a:lnTo>
                  <a:pt x="3011" y="318"/>
                </a:lnTo>
                <a:lnTo>
                  <a:pt x="3077" y="292"/>
                </a:lnTo>
                <a:lnTo>
                  <a:pt x="3170" y="234"/>
                </a:lnTo>
                <a:lnTo>
                  <a:pt x="3276" y="234"/>
                </a:lnTo>
                <a:lnTo>
                  <a:pt x="3448" y="292"/>
                </a:lnTo>
                <a:lnTo>
                  <a:pt x="3527" y="265"/>
                </a:lnTo>
                <a:lnTo>
                  <a:pt x="3633" y="212"/>
                </a:lnTo>
                <a:lnTo>
                  <a:pt x="3712" y="185"/>
                </a:lnTo>
                <a:lnTo>
                  <a:pt x="4005" y="318"/>
                </a:lnTo>
                <a:lnTo>
                  <a:pt x="3924" y="265"/>
                </a:lnTo>
                <a:lnTo>
                  <a:pt x="4057" y="318"/>
                </a:lnTo>
                <a:lnTo>
                  <a:pt x="4110" y="185"/>
                </a:lnTo>
                <a:lnTo>
                  <a:pt x="4348" y="185"/>
                </a:lnTo>
                <a:lnTo>
                  <a:pt x="4560" y="79"/>
                </a:lnTo>
                <a:lnTo>
                  <a:pt x="4719" y="185"/>
                </a:lnTo>
                <a:lnTo>
                  <a:pt x="4798" y="185"/>
                </a:lnTo>
                <a:lnTo>
                  <a:pt x="4891" y="114"/>
                </a:lnTo>
                <a:lnTo>
                  <a:pt x="5089" y="185"/>
                </a:lnTo>
                <a:lnTo>
                  <a:pt x="5248" y="185"/>
                </a:lnTo>
                <a:lnTo>
                  <a:pt x="5327" y="239"/>
                </a:lnTo>
                <a:lnTo>
                  <a:pt x="5433" y="265"/>
                </a:lnTo>
                <a:lnTo>
                  <a:pt x="5513" y="292"/>
                </a:lnTo>
                <a:lnTo>
                  <a:pt x="5605" y="344"/>
                </a:lnTo>
                <a:lnTo>
                  <a:pt x="5671" y="292"/>
                </a:lnTo>
                <a:lnTo>
                  <a:pt x="5790" y="340"/>
                </a:lnTo>
                <a:lnTo>
                  <a:pt x="5962" y="292"/>
                </a:lnTo>
                <a:lnTo>
                  <a:pt x="6121" y="344"/>
                </a:lnTo>
                <a:lnTo>
                  <a:pt x="6306" y="371"/>
                </a:lnTo>
                <a:lnTo>
                  <a:pt x="6518" y="318"/>
                </a:lnTo>
                <a:lnTo>
                  <a:pt x="6655" y="239"/>
                </a:lnTo>
                <a:lnTo>
                  <a:pt x="6888" y="208"/>
                </a:lnTo>
                <a:lnTo>
                  <a:pt x="6990" y="180"/>
                </a:lnTo>
                <a:lnTo>
                  <a:pt x="7056" y="199"/>
                </a:lnTo>
                <a:lnTo>
                  <a:pt x="7153" y="101"/>
                </a:lnTo>
                <a:lnTo>
                  <a:pt x="7299" y="26"/>
                </a:lnTo>
                <a:lnTo>
                  <a:pt x="7444" y="0"/>
                </a:lnTo>
                <a:lnTo>
                  <a:pt x="7585" y="119"/>
                </a:lnTo>
                <a:lnTo>
                  <a:pt x="7691" y="171"/>
                </a:lnTo>
                <a:lnTo>
                  <a:pt x="7775" y="239"/>
                </a:lnTo>
                <a:lnTo>
                  <a:pt x="7850" y="252"/>
                </a:lnTo>
                <a:lnTo>
                  <a:pt x="7947" y="318"/>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9" name=""/>
          <p:cNvSpPr/>
          <p:nvPr/>
        </p:nvSpPr>
        <p:spPr>
          <a:xfrm>
            <a:off x="2077920" y="5888160"/>
            <a:ext cx="2872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ATNESS APPLICATION</a:t>
            </a:r>
            <a:endParaRPr b="0" lang="en-US" sz="3600" spc="-1" strike="noStrike">
              <a:solidFill>
                <a:srgbClr val="000000"/>
              </a:solidFill>
              <a:latin typeface="Arial"/>
            </a:endParaRPr>
          </a:p>
        </p:txBody>
      </p:sp>
      <p:sp>
        <p:nvSpPr>
          <p:cNvPr id="891" name=""/>
          <p:cNvSpPr/>
          <p:nvPr/>
        </p:nvSpPr>
        <p:spPr>
          <a:xfrm>
            <a:off x="1380960" y="2071800"/>
            <a:ext cx="1262160" cy="809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92" name=""/>
          <p:cNvSpPr/>
          <p:nvPr/>
        </p:nvSpPr>
        <p:spPr>
          <a:xfrm>
            <a:off x="2809800" y="2071800"/>
            <a:ext cx="6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2786040" y="288144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3238560" y="2071800"/>
            <a:ext cx="0" cy="809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3238560" y="320364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3238560" y="285768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3425760" y="2068560"/>
            <a:ext cx="119376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3492360" y="2152800"/>
            <a:ext cx="413280" cy="146520"/>
          </a:xfrm>
          <a:custGeom>
            <a:avLst/>
            <a:gdLst/>
            <a:ahLst/>
            <a:rect l="0" t="0" r="r" b="b"/>
            <a:pathLst>
              <a:path fill="none" w="1148" h="407">
                <a:moveTo>
                  <a:pt x="0" y="407"/>
                </a:moveTo>
                <a:lnTo>
                  <a:pt x="803" y="407"/>
                </a:lnTo>
                <a:lnTo>
                  <a:pt x="1148" y="0"/>
                </a:lnTo>
                <a:lnTo>
                  <a:pt x="344" y="0"/>
                </a:lnTo>
                <a:lnTo>
                  <a:pt x="0" y="40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3943440" y="2070000"/>
            <a:ext cx="0" cy="33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txBox="1"/>
          <p:nvPr/>
        </p:nvSpPr>
        <p:spPr>
          <a:xfrm>
            <a:off x="3933720" y="206208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901" name=""/>
          <p:cNvSpPr txBox="1"/>
          <p:nvPr/>
        </p:nvSpPr>
        <p:spPr>
          <a:xfrm>
            <a:off x="3516480" y="3036960"/>
            <a:ext cx="1398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0 - 14.6</a:t>
            </a:r>
            <a:endParaRPr b="0" lang="en-US" sz="2000" spc="-1" strike="noStrike">
              <a:solidFill>
                <a:srgbClr val="000000"/>
              </a:solidFill>
              <a:latin typeface="Arial"/>
            </a:endParaRPr>
          </a:p>
        </p:txBody>
      </p:sp>
      <p:sp>
        <p:nvSpPr>
          <p:cNvPr id="902" name=""/>
          <p:cNvSpPr/>
          <p:nvPr/>
        </p:nvSpPr>
        <p:spPr>
          <a:xfrm>
            <a:off x="2082960" y="4367160"/>
            <a:ext cx="2860920" cy="136800"/>
          </a:xfrm>
          <a:custGeom>
            <a:avLst/>
            <a:gdLst/>
            <a:ahLst/>
            <a:rect l="0" t="0" r="r" b="b"/>
            <a:pathLst>
              <a:path fill="none" w="7947" h="380">
                <a:moveTo>
                  <a:pt x="0" y="380"/>
                </a:moveTo>
                <a:lnTo>
                  <a:pt x="88" y="239"/>
                </a:lnTo>
                <a:lnTo>
                  <a:pt x="167" y="239"/>
                </a:lnTo>
                <a:lnTo>
                  <a:pt x="273" y="185"/>
                </a:lnTo>
                <a:lnTo>
                  <a:pt x="357" y="199"/>
                </a:lnTo>
                <a:lnTo>
                  <a:pt x="432" y="239"/>
                </a:lnTo>
                <a:lnTo>
                  <a:pt x="537" y="292"/>
                </a:lnTo>
                <a:lnTo>
                  <a:pt x="617" y="239"/>
                </a:lnTo>
                <a:lnTo>
                  <a:pt x="696" y="239"/>
                </a:lnTo>
                <a:lnTo>
                  <a:pt x="802" y="212"/>
                </a:lnTo>
                <a:lnTo>
                  <a:pt x="908" y="185"/>
                </a:lnTo>
                <a:lnTo>
                  <a:pt x="1067" y="185"/>
                </a:lnTo>
                <a:lnTo>
                  <a:pt x="1225" y="185"/>
                </a:lnTo>
                <a:lnTo>
                  <a:pt x="1331" y="158"/>
                </a:lnTo>
                <a:lnTo>
                  <a:pt x="1437" y="158"/>
                </a:lnTo>
                <a:lnTo>
                  <a:pt x="1516" y="158"/>
                </a:lnTo>
                <a:lnTo>
                  <a:pt x="1622" y="185"/>
                </a:lnTo>
                <a:lnTo>
                  <a:pt x="1702" y="265"/>
                </a:lnTo>
                <a:lnTo>
                  <a:pt x="1807" y="265"/>
                </a:lnTo>
                <a:lnTo>
                  <a:pt x="1913" y="265"/>
                </a:lnTo>
                <a:lnTo>
                  <a:pt x="1993" y="292"/>
                </a:lnTo>
                <a:lnTo>
                  <a:pt x="2191" y="234"/>
                </a:lnTo>
                <a:lnTo>
                  <a:pt x="2301" y="199"/>
                </a:lnTo>
                <a:lnTo>
                  <a:pt x="2509" y="252"/>
                </a:lnTo>
                <a:lnTo>
                  <a:pt x="2628" y="292"/>
                </a:lnTo>
                <a:lnTo>
                  <a:pt x="2826" y="358"/>
                </a:lnTo>
                <a:lnTo>
                  <a:pt x="3011" y="318"/>
                </a:lnTo>
                <a:lnTo>
                  <a:pt x="3077" y="292"/>
                </a:lnTo>
                <a:lnTo>
                  <a:pt x="3170" y="234"/>
                </a:lnTo>
                <a:lnTo>
                  <a:pt x="3276" y="234"/>
                </a:lnTo>
                <a:lnTo>
                  <a:pt x="3448" y="292"/>
                </a:lnTo>
                <a:lnTo>
                  <a:pt x="3527" y="265"/>
                </a:lnTo>
                <a:lnTo>
                  <a:pt x="3633" y="212"/>
                </a:lnTo>
                <a:lnTo>
                  <a:pt x="3712" y="185"/>
                </a:lnTo>
                <a:lnTo>
                  <a:pt x="4005" y="318"/>
                </a:lnTo>
                <a:lnTo>
                  <a:pt x="3924" y="265"/>
                </a:lnTo>
                <a:lnTo>
                  <a:pt x="4057" y="318"/>
                </a:lnTo>
                <a:lnTo>
                  <a:pt x="4110" y="185"/>
                </a:lnTo>
                <a:lnTo>
                  <a:pt x="4348" y="185"/>
                </a:lnTo>
                <a:lnTo>
                  <a:pt x="4560" y="79"/>
                </a:lnTo>
                <a:lnTo>
                  <a:pt x="4719" y="185"/>
                </a:lnTo>
                <a:lnTo>
                  <a:pt x="4798" y="185"/>
                </a:lnTo>
                <a:lnTo>
                  <a:pt x="4891" y="114"/>
                </a:lnTo>
                <a:lnTo>
                  <a:pt x="5089" y="185"/>
                </a:lnTo>
                <a:lnTo>
                  <a:pt x="5248" y="185"/>
                </a:lnTo>
                <a:lnTo>
                  <a:pt x="5327" y="239"/>
                </a:lnTo>
                <a:lnTo>
                  <a:pt x="5433" y="265"/>
                </a:lnTo>
                <a:lnTo>
                  <a:pt x="5513" y="292"/>
                </a:lnTo>
                <a:lnTo>
                  <a:pt x="5605" y="344"/>
                </a:lnTo>
                <a:lnTo>
                  <a:pt x="5671" y="292"/>
                </a:lnTo>
                <a:lnTo>
                  <a:pt x="5790" y="340"/>
                </a:lnTo>
                <a:lnTo>
                  <a:pt x="5962" y="292"/>
                </a:lnTo>
                <a:lnTo>
                  <a:pt x="6121" y="344"/>
                </a:lnTo>
                <a:lnTo>
                  <a:pt x="6306" y="371"/>
                </a:lnTo>
                <a:lnTo>
                  <a:pt x="6518" y="318"/>
                </a:lnTo>
                <a:lnTo>
                  <a:pt x="6655" y="239"/>
                </a:lnTo>
                <a:lnTo>
                  <a:pt x="6888" y="208"/>
                </a:lnTo>
                <a:lnTo>
                  <a:pt x="6990" y="180"/>
                </a:lnTo>
                <a:lnTo>
                  <a:pt x="7056" y="199"/>
                </a:lnTo>
                <a:lnTo>
                  <a:pt x="7153" y="101"/>
                </a:lnTo>
                <a:lnTo>
                  <a:pt x="7299" y="26"/>
                </a:lnTo>
                <a:lnTo>
                  <a:pt x="7444" y="0"/>
                </a:lnTo>
                <a:lnTo>
                  <a:pt x="7585" y="119"/>
                </a:lnTo>
                <a:lnTo>
                  <a:pt x="7691" y="171"/>
                </a:lnTo>
                <a:lnTo>
                  <a:pt x="7775" y="239"/>
                </a:lnTo>
                <a:lnTo>
                  <a:pt x="7850" y="252"/>
                </a:lnTo>
                <a:lnTo>
                  <a:pt x="7947" y="318"/>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903" name=""/>
          <p:cNvGrpSpPr/>
          <p:nvPr/>
        </p:nvGrpSpPr>
        <p:grpSpPr>
          <a:xfrm>
            <a:off x="595440" y="4243320"/>
            <a:ext cx="6524640" cy="371520"/>
            <a:chOff x="595440" y="4243320"/>
            <a:chExt cx="6524640" cy="371520"/>
          </a:xfrm>
        </p:grpSpPr>
        <p:sp>
          <p:nvSpPr>
            <p:cNvPr id="904" name=""/>
            <p:cNvSpPr/>
            <p:nvPr/>
          </p:nvSpPr>
          <p:spPr>
            <a:xfrm>
              <a:off x="595440" y="4605480"/>
              <a:ext cx="1766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448000" y="4614840"/>
              <a:ext cx="152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2685960" y="4614840"/>
              <a:ext cx="181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3009960" y="4614840"/>
              <a:ext cx="1266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4381560" y="4614840"/>
              <a:ext cx="114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9" name=""/>
            <p:cNvSpPr/>
            <p:nvPr/>
          </p:nvSpPr>
          <p:spPr>
            <a:xfrm>
              <a:off x="4629240" y="4614840"/>
              <a:ext cx="123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4867200" y="4614840"/>
              <a:ext cx="819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 name=""/>
            <p:cNvSpPr/>
            <p:nvPr/>
          </p:nvSpPr>
          <p:spPr>
            <a:xfrm>
              <a:off x="1305000" y="4243320"/>
              <a:ext cx="1076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2467080" y="424332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 name=""/>
            <p:cNvSpPr/>
            <p:nvPr/>
          </p:nvSpPr>
          <p:spPr>
            <a:xfrm>
              <a:off x="2733840" y="424332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3019320" y="424332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a:off x="4314960" y="424332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4581360" y="4243320"/>
              <a:ext cx="142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4857840" y="4243320"/>
              <a:ext cx="2262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8" name=""/>
          <p:cNvSpPr/>
          <p:nvPr/>
        </p:nvSpPr>
        <p:spPr>
          <a:xfrm flipV="1">
            <a:off x="1714680" y="4317840"/>
            <a:ext cx="4404960" cy="106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flipV="1">
            <a:off x="1704960" y="4476600"/>
            <a:ext cx="4390920" cy="100080"/>
          </a:xfrm>
          <a:prstGeom prst="line">
            <a:avLst/>
          </a:prstGeom>
          <a:ln w="12600">
            <a:solidFill>
              <a:srgbClr val="fc0128"/>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920" name=""/>
          <p:cNvSpPr/>
          <p:nvPr/>
        </p:nvSpPr>
        <p:spPr>
          <a:xfrm>
            <a:off x="6905520" y="4238640"/>
            <a:ext cx="0" cy="50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6905520" y="511956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txBox="1"/>
          <p:nvPr/>
        </p:nvSpPr>
        <p:spPr>
          <a:xfrm>
            <a:off x="6551640" y="4797360"/>
            <a:ext cx="1355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6 MMC</a:t>
            </a:r>
            <a:endParaRPr b="0" lang="en-US" sz="2000" spc="-1" strike="noStrike">
              <a:solidFill>
                <a:srgbClr val="000000"/>
              </a:solidFill>
              <a:latin typeface="Arial"/>
            </a:endParaRPr>
          </a:p>
        </p:txBody>
      </p:sp>
      <p:sp>
        <p:nvSpPr>
          <p:cNvPr id="923" name=""/>
          <p:cNvSpPr/>
          <p:nvPr/>
        </p:nvSpPr>
        <p:spPr>
          <a:xfrm>
            <a:off x="785880" y="4595760"/>
            <a:ext cx="0" cy="380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785880" y="5357880"/>
            <a:ext cx="0" cy="547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txBox="1"/>
          <p:nvPr/>
        </p:nvSpPr>
        <p:spPr>
          <a:xfrm>
            <a:off x="431640" y="5035680"/>
            <a:ext cx="1285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0 LMC</a:t>
            </a:r>
            <a:endParaRPr b="0" lang="en-US" sz="2000" spc="-1" strike="noStrike">
              <a:solidFill>
                <a:srgbClr val="000000"/>
              </a:solidFill>
              <a:latin typeface="Arial"/>
            </a:endParaRPr>
          </a:p>
        </p:txBody>
      </p:sp>
      <p:sp>
        <p:nvSpPr>
          <p:cNvPr id="926" name=""/>
          <p:cNvSpPr/>
          <p:nvPr/>
        </p:nvSpPr>
        <p:spPr>
          <a:xfrm flipH="1" flipV="1">
            <a:off x="5937120" y="3672000"/>
            <a:ext cx="25560" cy="66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5975280" y="4484520"/>
            <a:ext cx="25560" cy="520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5937120" y="3659040"/>
            <a:ext cx="1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 name=""/>
          <p:cNvSpPr txBox="1"/>
          <p:nvPr/>
        </p:nvSpPr>
        <p:spPr>
          <a:xfrm>
            <a:off x="6124680" y="3460680"/>
            <a:ext cx="160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 Tol Zone</a:t>
            </a:r>
            <a:endParaRPr b="0" lang="en-US" sz="2000" spc="-1" strike="noStrike">
              <a:solidFill>
                <a:srgbClr val="000000"/>
              </a:solidFill>
              <a:latin typeface="Arial"/>
            </a:endParaRPr>
          </a:p>
        </p:txBody>
      </p:sp>
      <p:sp>
        <p:nvSpPr>
          <p:cNvPr id="930" name=""/>
          <p:cNvSpPr/>
          <p:nvPr/>
        </p:nvSpPr>
        <p:spPr>
          <a:xfrm>
            <a:off x="2082960" y="4502160"/>
            <a:ext cx="1440" cy="14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V="1">
            <a:off x="4957920" y="4484520"/>
            <a:ext cx="0" cy="1406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2077920" y="5888160"/>
            <a:ext cx="2872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547560" y="5902200"/>
            <a:ext cx="6572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34" name=""/>
          <p:cNvSpPr txBox="1"/>
          <p:nvPr/>
        </p:nvSpPr>
        <p:spPr>
          <a:xfrm>
            <a:off x="685800" y="419040"/>
            <a:ext cx="7772400" cy="1143000"/>
          </a:xfrm>
          <a:prstGeom prst="rect">
            <a:avLst/>
          </a:prstGeom>
          <a:noFill/>
          <a:ln w="0">
            <a:noFill/>
          </a:ln>
        </p:spPr>
        <p:txBody>
          <a:bodyPr lIns="0" rIns="0" tIns="0" bIns="0" anchor="t">
            <a:noAutofit/>
          </a:bodyPr>
          <a:p>
            <a:pPr algn="ctr">
              <a:lnSpc>
                <a:spcPct val="100000"/>
              </a:lnSpc>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
        <p:nvSpPr>
          <p:cNvPr id="935" name=""/>
          <p:cNvSpPr txBox="1"/>
          <p:nvPr/>
        </p:nvSpPr>
        <p:spPr>
          <a:xfrm>
            <a:off x="519120" y="1784520"/>
            <a:ext cx="805356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latness control </a:t>
            </a:r>
            <a:r>
              <a:rPr b="0" lang="en-US" sz="2800" spc="-1" strike="noStrike">
                <a:solidFill>
                  <a:srgbClr val="fafd00"/>
                </a:solidFill>
                <a:latin typeface="Times New Roman"/>
                <a:ea typeface="Times New Roman"/>
              </a:rPr>
              <a:t>cannot</a:t>
            </a:r>
            <a:r>
              <a:rPr b="0" lang="en-US" sz="2800" spc="-1" strike="noStrike">
                <a:solidFill>
                  <a:srgbClr val="ffffff"/>
                </a:solidFill>
                <a:latin typeface="Times New Roman"/>
                <a:ea typeface="Times New Roman"/>
              </a:rPr>
              <a:t> override Rule #1 size limi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latness control takes effect only as a part, who’s surfaces are controlled with geometric flatness, varies from MMC by </a:t>
            </a:r>
            <a:r>
              <a:rPr b="0" lang="en-US" sz="2800" spc="-1" strike="noStrike">
                <a:solidFill>
                  <a:srgbClr val="fafd00"/>
                </a:solidFill>
                <a:latin typeface="Times New Roman"/>
                <a:ea typeface="Times New Roman"/>
              </a:rPr>
              <a:t>more</a:t>
            </a:r>
            <a:r>
              <a:rPr b="0" lang="en-US" sz="2800" spc="-1" strike="noStrike">
                <a:solidFill>
                  <a:srgbClr val="ffffff"/>
                </a:solidFill>
                <a:latin typeface="Times New Roman"/>
                <a:ea typeface="Times New Roman"/>
              </a:rPr>
              <a:t> than the allowed flatness tolera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single part or surface flatness tolerance should always be a</a:t>
            </a:r>
            <a:r>
              <a:rPr b="0" lang="en-US" sz="2800" spc="-1" strike="noStrike">
                <a:solidFill>
                  <a:srgbClr val="fafd00"/>
                </a:solidFill>
                <a:latin typeface="Times New Roman"/>
                <a:ea typeface="Times New Roman"/>
              </a:rPr>
              <a:t> refinement </a:t>
            </a:r>
            <a:r>
              <a:rPr b="0" lang="en-US" sz="2800" spc="-1" strike="noStrike">
                <a:solidFill>
                  <a:srgbClr val="ffffff"/>
                </a:solidFill>
                <a:latin typeface="Times New Roman"/>
                <a:ea typeface="Times New Roman"/>
              </a:rPr>
              <a:t>of the size tolera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virtual condition of a part is </a:t>
            </a:r>
            <a:r>
              <a:rPr b="0" lang="en-US" sz="2800" spc="-1" strike="noStrike">
                <a:solidFill>
                  <a:srgbClr val="fafd00"/>
                </a:solidFill>
                <a:latin typeface="Times New Roman"/>
                <a:ea typeface="Times New Roman"/>
              </a:rPr>
              <a:t>not</a:t>
            </a:r>
            <a:r>
              <a:rPr b="0" lang="en-US" sz="2800" spc="-1" strike="noStrike">
                <a:solidFill>
                  <a:srgbClr val="ffffff"/>
                </a:solidFill>
                <a:latin typeface="Times New Roman"/>
                <a:ea typeface="Times New Roman"/>
              </a:rPr>
              <a:t> affected when it is controlled with geometric flatness.</a:t>
            </a:r>
            <a:endParaRPr b="0" lang="en-US" sz="2800" spc="-1" strike="noStrike">
              <a:solidFill>
                <a:srgbClr val="000000"/>
              </a:solidFill>
              <a:latin typeface="Arial"/>
            </a:endParaRPr>
          </a:p>
        </p:txBody>
      </p:sp>
      <p:sp>
        <p:nvSpPr>
          <p:cNvPr id="936" name=""/>
          <p:cNvSpPr/>
          <p:nvPr/>
        </p:nvSpPr>
        <p:spPr>
          <a:xfrm>
            <a:off x="428760" y="1622520"/>
            <a:ext cx="8238960" cy="450072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INDIRECT FLATNESS CONTROLS</a:t>
            </a:r>
            <a:endParaRPr b="0" lang="en-US" sz="3600" spc="-1" strike="noStrike">
              <a:solidFill>
                <a:srgbClr val="000000"/>
              </a:solidFill>
              <a:latin typeface="Arial"/>
            </a:endParaRPr>
          </a:p>
        </p:txBody>
      </p:sp>
      <p:sp>
        <p:nvSpPr>
          <p:cNvPr id="938" name=""/>
          <p:cNvSpPr txBox="1"/>
          <p:nvPr/>
        </p:nvSpPr>
        <p:spPr>
          <a:xfrm>
            <a:off x="808200" y="2314440"/>
            <a:ext cx="7650000" cy="34524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Certain geomtric tolerances indirectly affect the flatness of a surface.  The following geometric tolerances have such an effect:</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ngularity </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arallelism </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ofile</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otal Run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39" name=""/>
          <p:cNvSpPr/>
          <p:nvPr/>
        </p:nvSpPr>
        <p:spPr>
          <a:xfrm>
            <a:off x="2011320" y="157464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txBox="1"/>
          <p:nvPr/>
        </p:nvSpPr>
        <p:spPr>
          <a:xfrm>
            <a:off x="1754280" y="2614680"/>
            <a:ext cx="5742000" cy="14320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FEATURE  FLATNESS</a:t>
            </a:r>
            <a:endParaRPr b="0" lang="en-US" sz="4400" spc="-1" strike="noStrike">
              <a:solidFill>
                <a:srgbClr val="000000"/>
              </a:solidFill>
              <a:latin typeface="Arial"/>
            </a:endParaRPr>
          </a:p>
          <a:p>
            <a:pPr algn="ctr">
              <a:lnSpc>
                <a:spcPct val="100000"/>
              </a:lnSpc>
            </a:pPr>
            <a:r>
              <a:rPr b="0" lang="en-US" sz="4400" spc="-1" strike="noStrike">
                <a:solidFill>
                  <a:srgbClr val="ffffff"/>
                </a:solidFill>
                <a:latin typeface="Times New Roman"/>
                <a:ea typeface="Times New Roman"/>
              </a:rPr>
              <a:t>Applications Quiz</a:t>
            </a:r>
            <a:endParaRPr b="0" lang="en-US" sz="4400" spc="-1" strike="noStrike">
              <a:solidFill>
                <a:srgbClr val="000000"/>
              </a:solidFill>
              <a:latin typeface="Arial"/>
            </a:endParaRPr>
          </a:p>
        </p:txBody>
      </p:sp>
      <p:sp>
        <p:nvSpPr>
          <p:cNvPr id="941" name=""/>
          <p:cNvSpPr/>
          <p:nvPr/>
        </p:nvSpPr>
        <p:spPr>
          <a:xfrm>
            <a:off x="1279440" y="2243160"/>
            <a:ext cx="6622920" cy="21384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 </a:t>
            </a:r>
            <a:br>
              <a:rPr sz="1800"/>
            </a:br>
            <a:r>
              <a:rPr b="0" lang="en-US" sz="3200" spc="-1" strike="noStrike">
                <a:solidFill>
                  <a:srgbClr val="00dfca"/>
                </a:solidFill>
                <a:latin typeface="Times New Roman"/>
                <a:ea typeface="Times New Roman"/>
              </a:rPr>
              <a:t>Flatness</a:t>
            </a:r>
            <a:endParaRPr b="0" lang="en-US" sz="3200" spc="-1" strike="noStrike">
              <a:solidFill>
                <a:srgbClr val="000000"/>
              </a:solidFill>
              <a:latin typeface="Arial"/>
            </a:endParaRPr>
          </a:p>
        </p:txBody>
      </p:sp>
      <p:sp>
        <p:nvSpPr>
          <p:cNvPr id="943" name=""/>
          <p:cNvSpPr txBox="1"/>
          <p:nvPr/>
        </p:nvSpPr>
        <p:spPr>
          <a:xfrm>
            <a:off x="655560" y="2125800"/>
            <a:ext cx="8053560" cy="36464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o verify that flatness of a feature has been correctly specified on an engineering drawing, certain conditions must be satisfied.  The correct answers to the following questions certifies that the specifications for appropriate application have been met.  Any of the questions answered incorrectly will result in an inappropriate specification, and may be uninterpre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4"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945"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planar feature or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946"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48" name=""/>
          <p:cNvGrpSpPr/>
          <p:nvPr/>
        </p:nvGrpSpPr>
        <p:grpSpPr>
          <a:xfrm>
            <a:off x="2708280" y="743040"/>
            <a:ext cx="3684600" cy="517680"/>
            <a:chOff x="2708280" y="743040"/>
            <a:chExt cx="3684600" cy="517680"/>
          </a:xfrm>
        </p:grpSpPr>
        <p:sp>
          <p:nvSpPr>
            <p:cNvPr id="949"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0"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0" name=""/>
          <p:cNvGrpSpPr/>
          <p:nvPr/>
        </p:nvGrpSpPr>
        <p:grpSpPr>
          <a:xfrm>
            <a:off x="0" y="0"/>
            <a:ext cx="9131400" cy="6872400"/>
            <a:chOff x="0" y="0"/>
            <a:chExt cx="9131400" cy="6872400"/>
          </a:xfrm>
        </p:grpSpPr>
        <p:sp>
          <p:nvSpPr>
            <p:cNvPr id="311" name=""/>
            <p:cNvSpPr/>
            <p:nvPr/>
          </p:nvSpPr>
          <p:spPr>
            <a:xfrm>
              <a:off x="4965840" y="9360"/>
              <a:ext cx="4165560" cy="5952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5"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4"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5"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8"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9"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40"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1"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2"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3"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8"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2"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8" name=""/>
            <p:cNvGrpSpPr/>
            <p:nvPr/>
          </p:nvGrpSpPr>
          <p:grpSpPr>
            <a:xfrm>
              <a:off x="7902720" y="1098720"/>
              <a:ext cx="204480" cy="193680"/>
              <a:chOff x="7902720" y="1098720"/>
              <a:chExt cx="204480" cy="193680"/>
            </a:xfrm>
          </p:grpSpPr>
          <p:sp>
            <p:nvSpPr>
              <p:cNvPr id="399"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1"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2"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3"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4"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5"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06"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07"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8" name=""/>
            <p:cNvGrpSpPr/>
            <p:nvPr/>
          </p:nvGrpSpPr>
          <p:grpSpPr>
            <a:xfrm>
              <a:off x="6835680" y="396720"/>
              <a:ext cx="279360" cy="292320"/>
              <a:chOff x="6835680" y="396720"/>
              <a:chExt cx="279360" cy="292320"/>
            </a:xfrm>
          </p:grpSpPr>
          <p:sp>
            <p:nvSpPr>
              <p:cNvPr id="409"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2"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17"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19"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2" name=""/>
            <p:cNvGrpSpPr/>
            <p:nvPr/>
          </p:nvGrpSpPr>
          <p:grpSpPr>
            <a:xfrm>
              <a:off x="5981760" y="5961240"/>
              <a:ext cx="190440" cy="196560"/>
              <a:chOff x="5981760" y="5961240"/>
              <a:chExt cx="190440" cy="196560"/>
            </a:xfrm>
          </p:grpSpPr>
          <p:sp>
            <p:nvSpPr>
              <p:cNvPr id="423"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5"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26"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27" name=""/>
            <p:cNvGrpSpPr/>
            <p:nvPr/>
          </p:nvGrpSpPr>
          <p:grpSpPr>
            <a:xfrm>
              <a:off x="6891480" y="6418440"/>
              <a:ext cx="190440" cy="196560"/>
              <a:chOff x="6891480" y="6418440"/>
              <a:chExt cx="190440" cy="196560"/>
            </a:xfrm>
          </p:grpSpPr>
          <p:sp>
            <p:nvSpPr>
              <p:cNvPr id="428"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0"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3"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4"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1"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2"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3"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4"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5"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6"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7"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8"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9"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1" name=""/>
            <p:cNvGrpSpPr/>
            <p:nvPr/>
          </p:nvGrpSpPr>
          <p:grpSpPr>
            <a:xfrm>
              <a:off x="7164360" y="422280"/>
              <a:ext cx="204840" cy="193680"/>
              <a:chOff x="7164360" y="422280"/>
              <a:chExt cx="204840" cy="193680"/>
            </a:xfrm>
          </p:grpSpPr>
          <p:sp>
            <p:nvSpPr>
              <p:cNvPr id="452"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4" name=""/>
            <p:cNvGrpSpPr/>
            <p:nvPr/>
          </p:nvGrpSpPr>
          <p:grpSpPr>
            <a:xfrm>
              <a:off x="7413480" y="162000"/>
              <a:ext cx="163800" cy="155520"/>
              <a:chOff x="7413480" y="162000"/>
              <a:chExt cx="163800" cy="155520"/>
            </a:xfrm>
          </p:grpSpPr>
          <p:sp>
            <p:nvSpPr>
              <p:cNvPr id="455"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7" name=""/>
            <p:cNvGrpSpPr/>
            <p:nvPr/>
          </p:nvGrpSpPr>
          <p:grpSpPr>
            <a:xfrm>
              <a:off x="2940120" y="1822320"/>
              <a:ext cx="204840" cy="193680"/>
              <a:chOff x="2940120" y="1822320"/>
              <a:chExt cx="204840" cy="193680"/>
            </a:xfrm>
          </p:grpSpPr>
          <p:sp>
            <p:nvSpPr>
              <p:cNvPr id="458"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0"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1"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5"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67"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69"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4"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5"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78"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9" name=""/>
            <p:cNvGrpSpPr/>
            <p:nvPr/>
          </p:nvGrpSpPr>
          <p:grpSpPr>
            <a:xfrm>
              <a:off x="2998800" y="985680"/>
              <a:ext cx="279360" cy="292320"/>
              <a:chOff x="2998800" y="985680"/>
              <a:chExt cx="279360" cy="292320"/>
            </a:xfrm>
          </p:grpSpPr>
          <p:sp>
            <p:nvSpPr>
              <p:cNvPr id="480"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3"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4" name=""/>
            <p:cNvGrpSpPr/>
            <p:nvPr/>
          </p:nvGrpSpPr>
          <p:grpSpPr>
            <a:xfrm>
              <a:off x="3355920" y="1035000"/>
              <a:ext cx="204840" cy="193680"/>
              <a:chOff x="3355920" y="1035000"/>
              <a:chExt cx="204840" cy="193680"/>
            </a:xfrm>
          </p:grpSpPr>
          <p:sp>
            <p:nvSpPr>
              <p:cNvPr id="485"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7"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88"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500"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06"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07"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2"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7" name=""/>
            <p:cNvGrpSpPr/>
            <p:nvPr/>
          </p:nvGrpSpPr>
          <p:grpSpPr>
            <a:xfrm>
              <a:off x="501480" y="146160"/>
              <a:ext cx="204840" cy="193680"/>
              <a:chOff x="501480" y="146160"/>
              <a:chExt cx="204840" cy="193680"/>
            </a:xfrm>
          </p:grpSpPr>
          <p:sp>
            <p:nvSpPr>
              <p:cNvPr id="518"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0"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1"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28"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2"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36"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4"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4"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67"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69"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1" name=""/>
            <p:cNvGrpSpPr/>
            <p:nvPr/>
          </p:nvGrpSpPr>
          <p:grpSpPr>
            <a:xfrm>
              <a:off x="3422520" y="4789440"/>
              <a:ext cx="204840" cy="193680"/>
              <a:chOff x="3422520" y="4789440"/>
              <a:chExt cx="204840" cy="193680"/>
            </a:xfrm>
          </p:grpSpPr>
          <p:sp>
            <p:nvSpPr>
              <p:cNvPr id="572"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4"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5"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79"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0"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5" name=""/>
            <p:cNvSpPr txBox="1"/>
            <p:nvPr/>
          </p:nvSpPr>
          <p:spPr>
            <a:xfrm>
              <a:off x="3691080" y="0"/>
              <a:ext cx="356220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5</a:t>
              </a:r>
              <a:endParaRPr b="0" lang="en-US" sz="42200" spc="-1" strike="noStrike">
                <a:solidFill>
                  <a:srgbClr val="000000"/>
                </a:solidFill>
                <a:latin typeface="Arial"/>
              </a:endParaRPr>
            </a:p>
          </p:txBody>
        </p:sp>
        <p:grpSp>
          <p:nvGrpSpPr>
            <p:cNvPr id="586" name=""/>
            <p:cNvGrpSpPr/>
            <p:nvPr/>
          </p:nvGrpSpPr>
          <p:grpSpPr>
            <a:xfrm>
              <a:off x="6924600" y="1039680"/>
              <a:ext cx="2130480" cy="798480"/>
              <a:chOff x="6924600" y="1039680"/>
              <a:chExt cx="2130480" cy="798480"/>
            </a:xfrm>
          </p:grpSpPr>
          <p:sp>
            <p:nvSpPr>
              <p:cNvPr id="587" name=""/>
              <p:cNvSpPr/>
              <p:nvPr/>
            </p:nvSpPr>
            <p:spPr>
              <a:xfrm>
                <a:off x="6924600" y="103968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88" name=""/>
              <p:cNvSpPr txBox="1"/>
              <p:nvPr/>
            </p:nvSpPr>
            <p:spPr>
              <a:xfrm>
                <a:off x="6969240" y="108432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89"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90"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1" name=""/>
            <p:cNvSpPr txBox="1"/>
            <p:nvPr/>
          </p:nvSpPr>
          <p:spPr>
            <a:xfrm>
              <a:off x="223920" y="5168880"/>
              <a:ext cx="777240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FORM</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51"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952"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ts own perfect geometric counterpart.</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953"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57" name=""/>
          <p:cNvGrpSpPr/>
          <p:nvPr/>
        </p:nvGrpSpPr>
        <p:grpSpPr>
          <a:xfrm>
            <a:off x="2708280" y="743040"/>
            <a:ext cx="3684600" cy="517680"/>
            <a:chOff x="2708280" y="743040"/>
            <a:chExt cx="3684600" cy="517680"/>
          </a:xfrm>
        </p:grpSpPr>
        <p:sp>
          <p:nvSpPr>
            <p:cNvPr id="958"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9"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0"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961"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its own perfect geometric counterpar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ay </a:t>
            </a:r>
            <a:r>
              <a:rPr b="1" i="1" lang="en-US" sz="2200" spc="-1" strike="noStrike">
                <a:solidFill>
                  <a:srgbClr val="ffffff"/>
                </a:solidFill>
                <a:latin typeface="Times New Roman"/>
                <a:ea typeface="Times New Roman"/>
              </a:rPr>
              <a:t>never</a:t>
            </a:r>
            <a:r>
              <a:rPr b="0" lang="en-US" sz="2200" spc="-1" strike="noStrike">
                <a:solidFill>
                  <a:srgbClr val="ffffff"/>
                </a:solidFill>
                <a:latin typeface="Times New Roman"/>
                <a:ea typeface="Times New Roman"/>
              </a:rPr>
              <a:t> be used in the feature control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frame when controlling fla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962"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5"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68" name=""/>
          <p:cNvGrpSpPr/>
          <p:nvPr/>
        </p:nvGrpSpPr>
        <p:grpSpPr>
          <a:xfrm>
            <a:off x="2708280" y="743040"/>
            <a:ext cx="3684600" cy="517680"/>
            <a:chOff x="2708280" y="743040"/>
            <a:chExt cx="3684600" cy="517680"/>
          </a:xfrm>
        </p:grpSpPr>
        <p:sp>
          <p:nvSpPr>
            <p:cNvPr id="969"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0"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1"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972"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its own perfect geometric counterpar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a:t>
            </a:r>
            <a:r>
              <a:rPr b="1" i="1" lang="en-US" sz="2200" spc="-1" strike="noStrike">
                <a:solidFill>
                  <a:srgbClr val="3365fb"/>
                </a:solidFill>
                <a:latin typeface="Times New Roman"/>
                <a:ea typeface="Times New Roman"/>
              </a:rPr>
              <a:t>never</a:t>
            </a:r>
            <a:r>
              <a:rPr b="0" lang="en-US" sz="2200" spc="-1" strike="noStrike">
                <a:solidFill>
                  <a:srgbClr val="3365fb"/>
                </a:solidFill>
                <a:latin typeface="Times New Roman"/>
                <a:ea typeface="Times New Roman"/>
              </a:rPr>
              <a:t> be used in the feature control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frame when controlling fla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flatness control must </a:t>
            </a:r>
            <a:r>
              <a:rPr b="1" i="1" lang="en-US" sz="2200" spc="-1" strike="noStrike">
                <a:solidFill>
                  <a:srgbClr val="ffffff"/>
                </a:solidFill>
                <a:latin typeface="Times New Roman"/>
                <a:ea typeface="Times New Roman"/>
              </a:rPr>
              <a:t>always</a:t>
            </a:r>
            <a:r>
              <a:rPr b="0" lang="en-US" sz="2200" spc="-1" strike="noStrike">
                <a:solidFill>
                  <a:srgbClr val="ffffff"/>
                </a:solidFill>
                <a:latin typeface="Times New Roman"/>
                <a:ea typeface="Times New Roman"/>
              </a:rPr>
              <a:t>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individual feature fla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973"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a:off x="7316640" y="54259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81" name=""/>
          <p:cNvGrpSpPr/>
          <p:nvPr/>
        </p:nvGrpSpPr>
        <p:grpSpPr>
          <a:xfrm>
            <a:off x="2708280" y="743040"/>
            <a:ext cx="3684600" cy="517680"/>
            <a:chOff x="2708280" y="743040"/>
            <a:chExt cx="3684600" cy="517680"/>
          </a:xfrm>
        </p:grpSpPr>
        <p:sp>
          <p:nvSpPr>
            <p:cNvPr id="982"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3"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4"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985"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its own perfect geometric counterpar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a:t>
            </a:r>
            <a:r>
              <a:rPr b="1" i="1" lang="en-US" sz="2200" spc="-1" strike="noStrike">
                <a:solidFill>
                  <a:srgbClr val="3365fb"/>
                </a:solidFill>
                <a:latin typeface="Times New Roman"/>
                <a:ea typeface="Times New Roman"/>
              </a:rPr>
              <a:t>never</a:t>
            </a:r>
            <a:r>
              <a:rPr b="0" lang="en-US" sz="2200" spc="-1" strike="noStrike">
                <a:solidFill>
                  <a:srgbClr val="3365fb"/>
                </a:solidFill>
                <a:latin typeface="Times New Roman"/>
                <a:ea typeface="Times New Roman"/>
              </a:rPr>
              <a:t> be used in the feature control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frame when controlling fla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flatness control must </a:t>
            </a:r>
            <a:r>
              <a:rPr b="1" i="1" lang="en-US" sz="2200" spc="-1" strike="noStrike">
                <a:solidFill>
                  <a:srgbClr val="3365fb"/>
                </a:solidFill>
                <a:latin typeface="Times New Roman"/>
                <a:ea typeface="Times New Roman"/>
              </a:rPr>
              <a:t>always</a:t>
            </a:r>
            <a:r>
              <a:rPr b="0" lang="en-US" sz="2200" spc="-1" strike="noStrike">
                <a:solidFill>
                  <a:srgbClr val="3365fb"/>
                </a:solidFill>
                <a:latin typeface="Times New Roman"/>
                <a:ea typeface="Times New Roman"/>
              </a:rPr>
              <a:t> be a refinement of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individual feature fla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not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986" name=""/>
          <p:cNvSpPr/>
          <p:nvPr/>
        </p:nvSpPr>
        <p:spPr>
          <a:xfrm>
            <a:off x="8572680" y="5411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a:off x="7316640" y="54259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731664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7316640" y="3076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731664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857268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8572680" y="20844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96" name=""/>
          <p:cNvGrpSpPr/>
          <p:nvPr/>
        </p:nvGrpSpPr>
        <p:grpSpPr>
          <a:xfrm>
            <a:off x="2708280" y="743040"/>
            <a:ext cx="3684600" cy="517680"/>
            <a:chOff x="2708280" y="743040"/>
            <a:chExt cx="3684600" cy="517680"/>
          </a:xfrm>
        </p:grpSpPr>
        <p:sp>
          <p:nvSpPr>
            <p:cNvPr id="997"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8"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99"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00" name=""/>
          <p:cNvSpPr/>
          <p:nvPr/>
        </p:nvSpPr>
        <p:spPr>
          <a:xfrm>
            <a:off x="279360" y="1606680"/>
            <a:ext cx="8439120" cy="478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1" name=""/>
          <p:cNvSpPr txBox="1"/>
          <p:nvPr/>
        </p:nvSpPr>
        <p:spPr>
          <a:xfrm>
            <a:off x="2184480" y="2705040"/>
            <a:ext cx="4660920" cy="9144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ANSWER KEY</a:t>
            </a:r>
            <a:endParaRPr b="0" lang="en-US" sz="5400" spc="-1" strike="noStrike">
              <a:solidFill>
                <a:srgbClr val="000000"/>
              </a:solidFill>
              <a:latin typeface="Arial"/>
            </a:endParaRPr>
          </a:p>
        </p:txBody>
      </p:sp>
      <p:grpSp>
        <p:nvGrpSpPr>
          <p:cNvPr id="1002" name=""/>
          <p:cNvGrpSpPr/>
          <p:nvPr/>
        </p:nvGrpSpPr>
        <p:grpSpPr>
          <a:xfrm>
            <a:off x="2708280" y="743040"/>
            <a:ext cx="3684600" cy="517680"/>
            <a:chOff x="2708280" y="743040"/>
            <a:chExt cx="3684600" cy="517680"/>
          </a:xfrm>
        </p:grpSpPr>
        <p:sp>
          <p:nvSpPr>
            <p:cNvPr id="1003"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txBox="1"/>
            <p:nvPr/>
          </p:nvSpPr>
          <p:spPr>
            <a:xfrm>
              <a:off x="2884320" y="743040"/>
              <a:ext cx="329076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Size-Feature Straigh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05"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06"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planar feature or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007" name=""/>
          <p:cNvSpPr/>
          <p:nvPr/>
        </p:nvSpPr>
        <p:spPr>
          <a:xfrm>
            <a:off x="8572680" y="20844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09" name=""/>
          <p:cNvGrpSpPr/>
          <p:nvPr/>
        </p:nvGrpSpPr>
        <p:grpSpPr>
          <a:xfrm>
            <a:off x="2708280" y="743040"/>
            <a:ext cx="3684600" cy="517680"/>
            <a:chOff x="2708280" y="743040"/>
            <a:chExt cx="3684600" cy="517680"/>
          </a:xfrm>
        </p:grpSpPr>
        <p:sp>
          <p:nvSpPr>
            <p:cNvPr id="1010"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12"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13" name=""/>
          <p:cNvSpPr txBox="1"/>
          <p:nvPr/>
        </p:nvSpPr>
        <p:spPr>
          <a:xfrm>
            <a:off x="279360" y="160668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pplied to either a planar feature or feature 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014" name=""/>
          <p:cNvSpPr/>
          <p:nvPr/>
        </p:nvSpPr>
        <p:spPr>
          <a:xfrm>
            <a:off x="8572680" y="208440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7316640" y="2082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16" name=""/>
          <p:cNvGrpSpPr/>
          <p:nvPr/>
        </p:nvGrpSpPr>
        <p:grpSpPr>
          <a:xfrm>
            <a:off x="2708280" y="743040"/>
            <a:ext cx="3684600" cy="517680"/>
            <a:chOff x="2708280" y="743040"/>
            <a:chExt cx="3684600" cy="517680"/>
          </a:xfrm>
        </p:grpSpPr>
        <p:sp>
          <p:nvSpPr>
            <p:cNvPr id="1017"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8"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19"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20"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ts own perfect geometric counterpart.</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021" name=""/>
          <p:cNvSpPr/>
          <p:nvPr/>
        </p:nvSpPr>
        <p:spPr>
          <a:xfrm>
            <a:off x="7316640" y="3076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25" name=""/>
          <p:cNvGrpSpPr/>
          <p:nvPr/>
        </p:nvGrpSpPr>
        <p:grpSpPr>
          <a:xfrm>
            <a:off x="2708280" y="743040"/>
            <a:ext cx="3684600" cy="517680"/>
            <a:chOff x="2708280" y="743040"/>
            <a:chExt cx="3684600" cy="517680"/>
          </a:xfrm>
        </p:grpSpPr>
        <p:sp>
          <p:nvSpPr>
            <p:cNvPr id="1026"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2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29" name=""/>
          <p:cNvSpPr txBox="1"/>
          <p:nvPr/>
        </p:nvSpPr>
        <p:spPr>
          <a:xfrm>
            <a:off x="279360" y="160668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ts own perfect geometric counterpart.</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030" name=""/>
          <p:cNvSpPr/>
          <p:nvPr/>
        </p:nvSpPr>
        <p:spPr>
          <a:xfrm>
            <a:off x="7316640" y="30765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8572680" y="30751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4" name=""/>
          <p:cNvGrpSpPr/>
          <p:nvPr/>
        </p:nvGrpSpPr>
        <p:grpSpPr>
          <a:xfrm>
            <a:off x="2708280" y="743040"/>
            <a:ext cx="3684600" cy="517680"/>
            <a:chOff x="2708280" y="743040"/>
            <a:chExt cx="3684600" cy="517680"/>
          </a:xfrm>
        </p:grpSpPr>
        <p:sp>
          <p:nvSpPr>
            <p:cNvPr id="1035"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6"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37"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38"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its own perfect geometric counterpar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ay </a:t>
            </a:r>
            <a:r>
              <a:rPr b="1" i="1" lang="en-US" sz="2200" spc="-1" strike="noStrike">
                <a:solidFill>
                  <a:srgbClr val="ffffff"/>
                </a:solidFill>
                <a:latin typeface="Times New Roman"/>
                <a:ea typeface="Times New Roman"/>
              </a:rPr>
              <a:t>never</a:t>
            </a:r>
            <a:r>
              <a:rPr b="0" lang="en-US" sz="2200" spc="-1" strike="noStrike">
                <a:solidFill>
                  <a:srgbClr val="ffffff"/>
                </a:solidFill>
                <a:latin typeface="Times New Roman"/>
                <a:ea typeface="Times New Roman"/>
              </a:rPr>
              <a:t> be used in the feature control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frame when controlling fla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039"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731664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45" name=""/>
          <p:cNvGrpSpPr/>
          <p:nvPr/>
        </p:nvGrpSpPr>
        <p:grpSpPr>
          <a:xfrm>
            <a:off x="2708280" y="743040"/>
            <a:ext cx="3684600" cy="517680"/>
            <a:chOff x="2708280" y="743040"/>
            <a:chExt cx="3684600" cy="517680"/>
          </a:xfrm>
        </p:grpSpPr>
        <p:sp>
          <p:nvSpPr>
            <p:cNvPr id="1046"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2" name=""/>
          <p:cNvSpPr txBox="1"/>
          <p:nvPr/>
        </p:nvSpPr>
        <p:spPr>
          <a:xfrm>
            <a:off x="262080" y="500040"/>
            <a:ext cx="8429760" cy="1518840"/>
          </a:xfrm>
          <a:prstGeom prst="rect">
            <a:avLst/>
          </a:prstGeom>
          <a:noFill/>
          <a:ln w="0">
            <a:noFill/>
          </a:ln>
        </p:spPr>
        <p:txBody>
          <a:bodyPr lIns="0" rIns="0" tIns="0" bIns="0" anchor="t">
            <a:noAutofit/>
          </a:bodyPr>
          <a:p>
            <a:pPr algn="ctr">
              <a:lnSpc>
                <a:spcPct val="100000"/>
              </a:lnSpc>
            </a:pPr>
            <a:r>
              <a:rPr b="1" lang="en-US" sz="5400" spc="-1" strike="noStrike">
                <a:solidFill>
                  <a:srgbClr val="fc0128"/>
                </a:solidFill>
                <a:latin typeface="Times New Roman"/>
                <a:ea typeface="Times New Roman"/>
              </a:rPr>
              <a:t>GEOMETRIC TOLERANCING</a:t>
            </a:r>
            <a:endParaRPr b="0" lang="en-US" sz="5400" spc="-1" strike="noStrike">
              <a:solidFill>
                <a:srgbClr val="000000"/>
              </a:solidFill>
              <a:latin typeface="Arial"/>
            </a:endParaRPr>
          </a:p>
        </p:txBody>
      </p:sp>
      <p:sp>
        <p:nvSpPr>
          <p:cNvPr id="593" name=""/>
          <p:cNvSpPr txBox="1"/>
          <p:nvPr/>
        </p:nvSpPr>
        <p:spPr>
          <a:xfrm>
            <a:off x="1395360" y="5140440"/>
            <a:ext cx="6400800" cy="114624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fafd00"/>
                </a:solidFill>
                <a:latin typeface="Times New Roman"/>
                <a:ea typeface="Times New Roman"/>
              </a:rPr>
              <a:t>TOLERANCES OF FORM</a:t>
            </a:r>
            <a:endParaRPr b="0" lang="en-US" sz="3200" spc="-1" strike="noStrike">
              <a:solidFill>
                <a:srgbClr val="000000"/>
              </a:solidFill>
              <a:latin typeface="Arial"/>
            </a:endParaRPr>
          </a:p>
          <a:p>
            <a:pPr marL="343080" indent="-343080" algn="ctr">
              <a:lnSpc>
                <a:spcPct val="100000"/>
              </a:lnSpc>
              <a:spcBef>
                <a:spcPts val="479"/>
              </a:spcBef>
            </a:pPr>
            <a:r>
              <a:rPr b="1" lang="en-US" sz="3200" spc="-1" strike="noStrike">
                <a:solidFill>
                  <a:srgbClr val="fafd00"/>
                </a:solidFill>
                <a:latin typeface="Times New Roman"/>
                <a:ea typeface="Times New Roman"/>
              </a:rPr>
              <a:t>(FLAT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48"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49" name=""/>
          <p:cNvSpPr txBox="1"/>
          <p:nvPr/>
        </p:nvSpPr>
        <p:spPr>
          <a:xfrm>
            <a:off x="279360" y="160668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its own perfect geometric counterpar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ay </a:t>
            </a:r>
            <a:r>
              <a:rPr b="1" i="1" lang="en-US" sz="2200" spc="-1" strike="noStrike">
                <a:solidFill>
                  <a:srgbClr val="ffffff"/>
                </a:solidFill>
                <a:latin typeface="Times New Roman"/>
                <a:ea typeface="Times New Roman"/>
              </a:rPr>
              <a:t>never</a:t>
            </a:r>
            <a:r>
              <a:rPr b="0" lang="en-US" sz="2200" spc="-1" strike="noStrike">
                <a:solidFill>
                  <a:srgbClr val="ffffff"/>
                </a:solidFill>
                <a:latin typeface="Times New Roman"/>
                <a:ea typeface="Times New Roman"/>
              </a:rPr>
              <a:t> be used in the feature control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frame when controlling fla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050" name=""/>
          <p:cNvSpPr/>
          <p:nvPr/>
        </p:nvSpPr>
        <p:spPr>
          <a:xfrm>
            <a:off x="8572680" y="4071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7316640" y="40719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56" name=""/>
          <p:cNvGrpSpPr/>
          <p:nvPr/>
        </p:nvGrpSpPr>
        <p:grpSpPr>
          <a:xfrm>
            <a:off x="2708280" y="743040"/>
            <a:ext cx="3684600" cy="517680"/>
            <a:chOff x="2708280" y="743040"/>
            <a:chExt cx="3684600" cy="517680"/>
          </a:xfrm>
        </p:grpSpPr>
        <p:sp>
          <p:nvSpPr>
            <p:cNvPr id="1057"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8"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59"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60"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its own perfect geometric counterpar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a:t>
            </a:r>
            <a:r>
              <a:rPr b="1" i="1" lang="en-US" sz="2200" spc="-1" strike="noStrike">
                <a:solidFill>
                  <a:srgbClr val="3365fb"/>
                </a:solidFill>
                <a:latin typeface="Times New Roman"/>
                <a:ea typeface="Times New Roman"/>
              </a:rPr>
              <a:t>never</a:t>
            </a:r>
            <a:r>
              <a:rPr b="0" lang="en-US" sz="2200" spc="-1" strike="noStrike">
                <a:solidFill>
                  <a:srgbClr val="3365fb"/>
                </a:solidFill>
                <a:latin typeface="Times New Roman"/>
                <a:ea typeface="Times New Roman"/>
              </a:rPr>
              <a:t> be used in the feature control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frame when controlling fla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flatness control must </a:t>
            </a:r>
            <a:r>
              <a:rPr b="1" i="1" lang="en-US" sz="2200" spc="-1" strike="noStrike">
                <a:solidFill>
                  <a:srgbClr val="ffffff"/>
                </a:solidFill>
                <a:latin typeface="Times New Roman"/>
                <a:ea typeface="Times New Roman"/>
              </a:rPr>
              <a:t>always</a:t>
            </a:r>
            <a:r>
              <a:rPr b="0" lang="en-US" sz="2200" spc="-1" strike="noStrike">
                <a:solidFill>
                  <a:srgbClr val="ffffff"/>
                </a:solidFill>
                <a:latin typeface="Times New Roman"/>
                <a:ea typeface="Times New Roman"/>
              </a:rPr>
              <a:t>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individual feature fla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061"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7316640" y="54259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731664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69" name=""/>
          <p:cNvGrpSpPr/>
          <p:nvPr/>
        </p:nvGrpSpPr>
        <p:grpSpPr>
          <a:xfrm>
            <a:off x="2708280" y="743040"/>
            <a:ext cx="3684600" cy="517680"/>
            <a:chOff x="2708280" y="743040"/>
            <a:chExt cx="3684600" cy="517680"/>
          </a:xfrm>
        </p:grpSpPr>
        <p:sp>
          <p:nvSpPr>
            <p:cNvPr id="1070"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72"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73" name=""/>
          <p:cNvSpPr txBox="1"/>
          <p:nvPr/>
        </p:nvSpPr>
        <p:spPr>
          <a:xfrm>
            <a:off x="279360" y="1606680"/>
            <a:ext cx="836928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its own perfect geometric counterpar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a:t>
            </a:r>
            <a:r>
              <a:rPr b="1" i="1" lang="en-US" sz="2200" spc="-1" strike="noStrike">
                <a:solidFill>
                  <a:srgbClr val="3365fb"/>
                </a:solidFill>
                <a:latin typeface="Times New Roman"/>
                <a:ea typeface="Times New Roman"/>
              </a:rPr>
              <a:t>never</a:t>
            </a:r>
            <a:r>
              <a:rPr b="0" lang="en-US" sz="2200" spc="-1" strike="noStrike">
                <a:solidFill>
                  <a:srgbClr val="3365fb"/>
                </a:solidFill>
                <a:latin typeface="Times New Roman"/>
                <a:ea typeface="Times New Roman"/>
              </a:rPr>
              <a:t> be used in the feature control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frame when controlling fla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flatness control must </a:t>
            </a:r>
            <a:r>
              <a:rPr b="1" i="1" lang="en-US" sz="2200" spc="-1" strike="noStrike">
                <a:solidFill>
                  <a:srgbClr val="ffffff"/>
                </a:solidFill>
                <a:latin typeface="Times New Roman"/>
                <a:ea typeface="Times New Roman"/>
              </a:rPr>
              <a:t>always</a:t>
            </a:r>
            <a:r>
              <a:rPr b="0" lang="en-US" sz="2200" spc="-1" strike="noStrike">
                <a:solidFill>
                  <a:srgbClr val="ffffff"/>
                </a:solidFill>
                <a:latin typeface="Times New Roman"/>
                <a:ea typeface="Times New Roman"/>
              </a:rPr>
              <a:t> be a refinement of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individual feature flatnes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074" name=""/>
          <p:cNvSpPr/>
          <p:nvPr/>
        </p:nvSpPr>
        <p:spPr>
          <a:xfrm>
            <a:off x="8572680" y="5411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7316640" y="542592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 name=""/>
          <p:cNvSpPr/>
          <p:nvPr/>
        </p:nvSpPr>
        <p:spPr>
          <a:xfrm>
            <a:off x="731664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82" name=""/>
          <p:cNvGrpSpPr/>
          <p:nvPr/>
        </p:nvGrpSpPr>
        <p:grpSpPr>
          <a:xfrm>
            <a:off x="2708280" y="743040"/>
            <a:ext cx="3684600" cy="517680"/>
            <a:chOff x="2708280" y="743040"/>
            <a:chExt cx="3684600" cy="517680"/>
          </a:xfrm>
        </p:grpSpPr>
        <p:sp>
          <p:nvSpPr>
            <p:cNvPr id="1083"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4"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85"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086"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its own perfect geometric counterpar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a:t>
            </a:r>
            <a:r>
              <a:rPr b="1" i="1" lang="en-US" sz="2200" spc="-1" strike="noStrike">
                <a:solidFill>
                  <a:srgbClr val="3365fb"/>
                </a:solidFill>
                <a:latin typeface="Times New Roman"/>
                <a:ea typeface="Times New Roman"/>
              </a:rPr>
              <a:t>never</a:t>
            </a:r>
            <a:r>
              <a:rPr b="0" lang="en-US" sz="2200" spc="-1" strike="noStrike">
                <a:solidFill>
                  <a:srgbClr val="3365fb"/>
                </a:solidFill>
                <a:latin typeface="Times New Roman"/>
                <a:ea typeface="Times New Roman"/>
              </a:rPr>
              <a:t> be used in the feature control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frame when controlling fla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flatness control must </a:t>
            </a:r>
            <a:r>
              <a:rPr b="1" i="1" lang="en-US" sz="2200" spc="-1" strike="noStrike">
                <a:solidFill>
                  <a:srgbClr val="3365fb"/>
                </a:solidFill>
                <a:latin typeface="Times New Roman"/>
                <a:ea typeface="Times New Roman"/>
              </a:rPr>
              <a:t>always</a:t>
            </a:r>
            <a:r>
              <a:rPr b="0" lang="en-US" sz="2200" spc="-1" strike="noStrike">
                <a:solidFill>
                  <a:srgbClr val="3365fb"/>
                </a:solidFill>
                <a:latin typeface="Times New Roman"/>
                <a:ea typeface="Times New Roman"/>
              </a:rPr>
              <a:t> be a refinement of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individual feature fla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1087" name=""/>
          <p:cNvSpPr/>
          <p:nvPr/>
        </p:nvSpPr>
        <p:spPr>
          <a:xfrm>
            <a:off x="8572680" y="5411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7316640" y="542592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731664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731664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857268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97" name=""/>
          <p:cNvGrpSpPr/>
          <p:nvPr/>
        </p:nvGrpSpPr>
        <p:grpSpPr>
          <a:xfrm>
            <a:off x="2708280" y="743040"/>
            <a:ext cx="3684600" cy="517680"/>
            <a:chOff x="2708280" y="743040"/>
            <a:chExt cx="3684600" cy="517680"/>
          </a:xfrm>
        </p:grpSpPr>
        <p:sp>
          <p:nvSpPr>
            <p:cNvPr id="1098"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00"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sp>
        <p:nvSpPr>
          <p:cNvPr id="1101" name=""/>
          <p:cNvSpPr txBox="1"/>
          <p:nvPr/>
        </p:nvSpPr>
        <p:spPr>
          <a:xfrm>
            <a:off x="279360" y="1606680"/>
            <a:ext cx="8439120" cy="47815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For flatness control, the geometric tolerance may b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pplied to either a planar feature or feature of siz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Flatness control for individual part surfaces references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its own perfect geometric counterpart.</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ay </a:t>
            </a:r>
            <a:r>
              <a:rPr b="1" i="1" lang="en-US" sz="2200" spc="-1" strike="noStrike">
                <a:solidFill>
                  <a:srgbClr val="3365fb"/>
                </a:solidFill>
                <a:latin typeface="Times New Roman"/>
                <a:ea typeface="Times New Roman"/>
              </a:rPr>
              <a:t>never</a:t>
            </a:r>
            <a:r>
              <a:rPr b="0" lang="en-US" sz="2200" spc="-1" strike="noStrike">
                <a:solidFill>
                  <a:srgbClr val="3365fb"/>
                </a:solidFill>
                <a:latin typeface="Times New Roman"/>
                <a:ea typeface="Times New Roman"/>
              </a:rPr>
              <a:t> be used in the feature control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frame when controlling fla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flatness control must </a:t>
            </a:r>
            <a:r>
              <a:rPr b="1" i="1" lang="en-US" sz="2200" spc="-1" strike="noStrike">
                <a:solidFill>
                  <a:srgbClr val="3365fb"/>
                </a:solidFill>
                <a:latin typeface="Times New Roman"/>
                <a:ea typeface="Times New Roman"/>
              </a:rPr>
              <a:t>always</a:t>
            </a:r>
            <a:r>
              <a:rPr b="0" lang="en-US" sz="2200" spc="-1" strike="noStrike">
                <a:solidFill>
                  <a:srgbClr val="3365fb"/>
                </a:solidFill>
                <a:latin typeface="Times New Roman"/>
                <a:ea typeface="Times New Roman"/>
              </a:rPr>
              <a:t> be a refinement of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ther geometric tolerances which indirectly affect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individual feature flatnes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1102" name=""/>
          <p:cNvSpPr/>
          <p:nvPr/>
        </p:nvSpPr>
        <p:spPr>
          <a:xfrm>
            <a:off x="8572680" y="5411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a:off x="7316640" y="542592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8572680" y="4071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a:off x="7316640" y="4071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a:off x="7316640" y="30765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07" name=""/>
          <p:cNvSpPr/>
          <p:nvPr/>
        </p:nvSpPr>
        <p:spPr>
          <a:xfrm>
            <a:off x="8572680" y="307512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7316640" y="608472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8572680" y="608472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8572680" y="20844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a:off x="7316640" y="2082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12" name=""/>
          <p:cNvGrpSpPr/>
          <p:nvPr/>
        </p:nvGrpSpPr>
        <p:grpSpPr>
          <a:xfrm>
            <a:off x="2708280" y="743040"/>
            <a:ext cx="3684600" cy="517680"/>
            <a:chOff x="2708280" y="743040"/>
            <a:chExt cx="3684600" cy="517680"/>
          </a:xfrm>
        </p:grpSpPr>
        <p:sp>
          <p:nvSpPr>
            <p:cNvPr id="1113" name=""/>
            <p:cNvSpPr/>
            <p:nvPr/>
          </p:nvSpPr>
          <p:spPr>
            <a:xfrm>
              <a:off x="2708280" y="762120"/>
              <a:ext cx="36846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4" name=""/>
            <p:cNvSpPr txBox="1"/>
            <p:nvPr/>
          </p:nvSpPr>
          <p:spPr>
            <a:xfrm>
              <a:off x="3443400" y="743040"/>
              <a:ext cx="21733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Feature Flatn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15"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16"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1117"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8"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1119" name=""/>
          <p:cNvSpPr/>
          <p:nvPr/>
        </p:nvSpPr>
        <p:spPr>
          <a:xfrm>
            <a:off x="2011320" y="157464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20"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1121"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122"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23"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1124"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2011320" y="157464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7" name=""/>
          <p:cNvSpPr/>
          <p:nvPr/>
        </p:nvSpPr>
        <p:spPr>
          <a:xfrm>
            <a:off x="5262480" y="2381400"/>
            <a:ext cx="345276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28" name=""/>
          <p:cNvSpPr txBox="1"/>
          <p:nvPr/>
        </p:nvSpPr>
        <p:spPr>
          <a:xfrm>
            <a:off x="5551560" y="2513160"/>
            <a:ext cx="303840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29"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1130"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131"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2" name=""/>
          <p:cNvSpPr/>
          <p:nvPr/>
        </p:nvSpPr>
        <p:spPr>
          <a:xfrm>
            <a:off x="1104840" y="2048040"/>
            <a:ext cx="3276720" cy="57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3"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1134" name=""/>
          <p:cNvSpPr/>
          <p:nvPr/>
        </p:nvSpPr>
        <p:spPr>
          <a:xfrm flipH="1">
            <a:off x="2690640" y="1536840"/>
            <a:ext cx="18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7" name=""/>
          <p:cNvSpPr txBox="1"/>
          <p:nvPr/>
        </p:nvSpPr>
        <p:spPr>
          <a:xfrm>
            <a:off x="2011320" y="157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138" name=""/>
          <p:cNvSpPr txBox="1"/>
          <p:nvPr/>
        </p:nvSpPr>
        <p:spPr>
          <a:xfrm>
            <a:off x="1074600" y="2108160"/>
            <a:ext cx="3171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re any modifiers used?</a:t>
            </a:r>
            <a:endParaRPr b="0" lang="en-US" sz="2400" spc="-1" strike="noStrike">
              <a:solidFill>
                <a:srgbClr val="000000"/>
              </a:solidFill>
              <a:latin typeface="Arial"/>
            </a:endParaRPr>
          </a:p>
        </p:txBody>
      </p:sp>
      <p:sp>
        <p:nvSpPr>
          <p:cNvPr id="1139" name=""/>
          <p:cNvSpPr/>
          <p:nvPr/>
        </p:nvSpPr>
        <p:spPr>
          <a:xfrm>
            <a:off x="5262480" y="2381400"/>
            <a:ext cx="345276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40" name=""/>
          <p:cNvSpPr txBox="1"/>
          <p:nvPr/>
        </p:nvSpPr>
        <p:spPr>
          <a:xfrm>
            <a:off x="5551560" y="2513160"/>
            <a:ext cx="303840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41"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1142"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143"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44" name=""/>
          <p:cNvSpPr/>
          <p:nvPr/>
        </p:nvSpPr>
        <p:spPr>
          <a:xfrm>
            <a:off x="1104840" y="2048040"/>
            <a:ext cx="3276720" cy="57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45"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1146" name=""/>
          <p:cNvSpPr/>
          <p:nvPr/>
        </p:nvSpPr>
        <p:spPr>
          <a:xfrm flipH="1">
            <a:off x="2690640" y="1536840"/>
            <a:ext cx="18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 name=""/>
          <p:cNvSpPr/>
          <p:nvPr/>
        </p:nvSpPr>
        <p:spPr>
          <a:xfrm>
            <a:off x="4381560" y="2541600"/>
            <a:ext cx="882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 name=""/>
          <p:cNvSpPr txBox="1"/>
          <p:nvPr/>
        </p:nvSpPr>
        <p:spPr>
          <a:xfrm>
            <a:off x="2011320" y="157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151" name=""/>
          <p:cNvSpPr txBox="1"/>
          <p:nvPr/>
        </p:nvSpPr>
        <p:spPr>
          <a:xfrm>
            <a:off x="4491000" y="21337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152" name=""/>
          <p:cNvSpPr txBox="1"/>
          <p:nvPr/>
        </p:nvSpPr>
        <p:spPr>
          <a:xfrm>
            <a:off x="1074600" y="2108160"/>
            <a:ext cx="3171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re any modifiers used?</a:t>
            </a:r>
            <a:endParaRPr b="0" lang="en-US" sz="2400" spc="-1" strike="noStrike">
              <a:solidFill>
                <a:srgbClr val="000000"/>
              </a:solidFill>
              <a:latin typeface="Arial"/>
            </a:endParaRPr>
          </a:p>
        </p:txBody>
      </p:sp>
      <p:sp>
        <p:nvSpPr>
          <p:cNvPr id="1153" name=""/>
          <p:cNvSpPr/>
          <p:nvPr/>
        </p:nvSpPr>
        <p:spPr>
          <a:xfrm>
            <a:off x="5262480" y="2381400"/>
            <a:ext cx="345276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4" name=""/>
          <p:cNvSpPr txBox="1"/>
          <p:nvPr/>
        </p:nvSpPr>
        <p:spPr>
          <a:xfrm>
            <a:off x="5551560" y="2513160"/>
            <a:ext cx="303840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4" name=""/>
          <p:cNvSpPr txBox="1"/>
          <p:nvPr/>
        </p:nvSpPr>
        <p:spPr>
          <a:xfrm>
            <a:off x="262080" y="500040"/>
            <a:ext cx="8429760" cy="1518840"/>
          </a:xfrm>
          <a:prstGeom prst="rect">
            <a:avLst/>
          </a:prstGeom>
          <a:noFill/>
          <a:ln w="0">
            <a:noFill/>
          </a:ln>
        </p:spPr>
        <p:txBody>
          <a:bodyPr lIns="0" rIns="0" tIns="0" bIns="0" anchor="t">
            <a:noAutofit/>
          </a:bodyPr>
          <a:p>
            <a:pPr algn="ctr">
              <a:lnSpc>
                <a:spcPct val="100000"/>
              </a:lnSpc>
            </a:pPr>
            <a:r>
              <a:rPr b="1" lang="en-US" sz="5400" spc="-1" strike="noStrike">
                <a:solidFill>
                  <a:srgbClr val="fc0128"/>
                </a:solidFill>
                <a:latin typeface="Times New Roman"/>
                <a:ea typeface="Times New Roman"/>
              </a:rPr>
              <a:t>GEOMETRIC TOLERANCING</a:t>
            </a:r>
            <a:endParaRPr b="0" lang="en-US" sz="5400" spc="-1" strike="noStrike">
              <a:solidFill>
                <a:srgbClr val="000000"/>
              </a:solidFill>
              <a:latin typeface="Arial"/>
            </a:endParaRPr>
          </a:p>
        </p:txBody>
      </p:sp>
      <p:sp>
        <p:nvSpPr>
          <p:cNvPr id="595" name=""/>
          <p:cNvSpPr txBox="1"/>
          <p:nvPr/>
        </p:nvSpPr>
        <p:spPr>
          <a:xfrm>
            <a:off x="1395360" y="5140440"/>
            <a:ext cx="6400800" cy="114624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fafd00"/>
                </a:solidFill>
                <a:latin typeface="Times New Roman"/>
                <a:ea typeface="Times New Roman"/>
              </a:rPr>
              <a:t>TOLERANCES OF FORM</a:t>
            </a:r>
            <a:endParaRPr b="0" lang="en-US" sz="3200" spc="-1" strike="noStrike">
              <a:solidFill>
                <a:srgbClr val="000000"/>
              </a:solidFill>
              <a:latin typeface="Arial"/>
            </a:endParaRPr>
          </a:p>
          <a:p>
            <a:pPr marL="343080" indent="-343080" algn="ctr">
              <a:lnSpc>
                <a:spcPct val="100000"/>
              </a:lnSpc>
              <a:spcBef>
                <a:spcPts val="479"/>
              </a:spcBef>
            </a:pPr>
            <a:r>
              <a:rPr b="1" lang="en-US" sz="3200" spc="-1" strike="noStrike">
                <a:solidFill>
                  <a:srgbClr val="fafd00"/>
                </a:solidFill>
                <a:latin typeface="Times New Roman"/>
                <a:ea typeface="Times New Roman"/>
              </a:rPr>
              <a:t>(FLATNESS)</a:t>
            </a:r>
            <a:endParaRPr b="0" lang="en-US" sz="3200" spc="-1" strike="noStrike">
              <a:solidFill>
                <a:srgbClr val="000000"/>
              </a:solidFill>
              <a:latin typeface="Arial"/>
            </a:endParaRPr>
          </a:p>
        </p:txBody>
      </p:sp>
      <p:grpSp>
        <p:nvGrpSpPr>
          <p:cNvPr id="596" name=""/>
          <p:cNvGrpSpPr/>
          <p:nvPr/>
        </p:nvGrpSpPr>
        <p:grpSpPr>
          <a:xfrm>
            <a:off x="3711600" y="2955960"/>
            <a:ext cx="1641960" cy="1045080"/>
            <a:chOff x="3711600" y="2955960"/>
            <a:chExt cx="1641960" cy="1045080"/>
          </a:xfrm>
        </p:grpSpPr>
        <p:grpSp>
          <p:nvGrpSpPr>
            <p:cNvPr id="597" name=""/>
            <p:cNvGrpSpPr/>
            <p:nvPr/>
          </p:nvGrpSpPr>
          <p:grpSpPr>
            <a:xfrm>
              <a:off x="3711600" y="2955960"/>
              <a:ext cx="1641960" cy="1045080"/>
              <a:chOff x="3711600" y="2955960"/>
              <a:chExt cx="1641960" cy="1045080"/>
            </a:xfrm>
          </p:grpSpPr>
          <p:sp>
            <p:nvSpPr>
              <p:cNvPr id="598" name=""/>
              <p:cNvSpPr/>
              <p:nvPr/>
            </p:nvSpPr>
            <p:spPr>
              <a:xfrm>
                <a:off x="3711600" y="2955960"/>
                <a:ext cx="1641960" cy="1045080"/>
              </a:xfrm>
              <a:custGeom>
                <a:avLst/>
                <a:gdLst/>
                <a:ahLst/>
                <a:rect l="0" t="0" r="r" b="b"/>
                <a:pathLst>
                  <a:path w="4561" h="2903">
                    <a:moveTo>
                      <a:pt x="789" y="141"/>
                    </a:moveTo>
                    <a:lnTo>
                      <a:pt x="476" y="295"/>
                    </a:lnTo>
                    <a:lnTo>
                      <a:pt x="348" y="445"/>
                    </a:lnTo>
                    <a:lnTo>
                      <a:pt x="220" y="674"/>
                    </a:lnTo>
                    <a:lnTo>
                      <a:pt x="114" y="940"/>
                    </a:lnTo>
                    <a:lnTo>
                      <a:pt x="79" y="1169"/>
                    </a:lnTo>
                    <a:lnTo>
                      <a:pt x="0" y="1500"/>
                    </a:lnTo>
                    <a:lnTo>
                      <a:pt x="22" y="1764"/>
                    </a:lnTo>
                    <a:lnTo>
                      <a:pt x="79" y="2069"/>
                    </a:lnTo>
                    <a:lnTo>
                      <a:pt x="154" y="2268"/>
                    </a:lnTo>
                    <a:lnTo>
                      <a:pt x="229" y="2370"/>
                    </a:lnTo>
                    <a:lnTo>
                      <a:pt x="361" y="2484"/>
                    </a:lnTo>
                    <a:lnTo>
                      <a:pt x="476" y="2515"/>
                    </a:lnTo>
                    <a:lnTo>
                      <a:pt x="577" y="2515"/>
                    </a:lnTo>
                    <a:lnTo>
                      <a:pt x="727" y="2484"/>
                    </a:lnTo>
                    <a:lnTo>
                      <a:pt x="776" y="2400"/>
                    </a:lnTo>
                    <a:lnTo>
                      <a:pt x="881" y="2321"/>
                    </a:lnTo>
                    <a:lnTo>
                      <a:pt x="939" y="2144"/>
                    </a:lnTo>
                    <a:lnTo>
                      <a:pt x="956" y="2277"/>
                    </a:lnTo>
                    <a:lnTo>
                      <a:pt x="1098" y="2418"/>
                    </a:lnTo>
                    <a:lnTo>
                      <a:pt x="1306" y="2647"/>
                    </a:lnTo>
                    <a:lnTo>
                      <a:pt x="1495" y="2819"/>
                    </a:lnTo>
                    <a:lnTo>
                      <a:pt x="2016" y="2903"/>
                    </a:lnTo>
                    <a:lnTo>
                      <a:pt x="2951" y="2802"/>
                    </a:lnTo>
                    <a:lnTo>
                      <a:pt x="3087" y="2727"/>
                    </a:lnTo>
                    <a:lnTo>
                      <a:pt x="3273" y="2612"/>
                    </a:lnTo>
                    <a:lnTo>
                      <a:pt x="3387" y="2497"/>
                    </a:lnTo>
                    <a:lnTo>
                      <a:pt x="3463" y="2347"/>
                    </a:lnTo>
                    <a:lnTo>
                      <a:pt x="3578" y="2100"/>
                    </a:lnTo>
                    <a:lnTo>
                      <a:pt x="3591" y="1800"/>
                    </a:lnTo>
                    <a:lnTo>
                      <a:pt x="3512" y="1434"/>
                    </a:lnTo>
                    <a:lnTo>
                      <a:pt x="3692" y="1980"/>
                    </a:lnTo>
                    <a:lnTo>
                      <a:pt x="3807" y="2220"/>
                    </a:lnTo>
                    <a:lnTo>
                      <a:pt x="4041" y="2361"/>
                    </a:lnTo>
                    <a:lnTo>
                      <a:pt x="4230" y="2361"/>
                    </a:lnTo>
                    <a:lnTo>
                      <a:pt x="4345" y="2321"/>
                    </a:lnTo>
                    <a:lnTo>
                      <a:pt x="4495" y="2303"/>
                    </a:lnTo>
                    <a:lnTo>
                      <a:pt x="4561" y="2126"/>
                    </a:lnTo>
                    <a:lnTo>
                      <a:pt x="4513" y="1659"/>
                    </a:lnTo>
                    <a:lnTo>
                      <a:pt x="4323" y="1451"/>
                    </a:lnTo>
                    <a:lnTo>
                      <a:pt x="4050" y="1301"/>
                    </a:lnTo>
                    <a:lnTo>
                      <a:pt x="3878" y="1112"/>
                    </a:lnTo>
                    <a:lnTo>
                      <a:pt x="3692" y="790"/>
                    </a:lnTo>
                    <a:lnTo>
                      <a:pt x="3503" y="449"/>
                    </a:lnTo>
                    <a:lnTo>
                      <a:pt x="3352" y="295"/>
                    </a:lnTo>
                    <a:lnTo>
                      <a:pt x="3273" y="238"/>
                    </a:lnTo>
                    <a:lnTo>
                      <a:pt x="3140" y="180"/>
                    </a:lnTo>
                    <a:lnTo>
                      <a:pt x="2973" y="123"/>
                    </a:lnTo>
                    <a:lnTo>
                      <a:pt x="2757" y="48"/>
                    </a:lnTo>
                    <a:lnTo>
                      <a:pt x="2294" y="0"/>
                    </a:lnTo>
                    <a:lnTo>
                      <a:pt x="1751" y="8"/>
                    </a:lnTo>
                    <a:lnTo>
                      <a:pt x="1128" y="17"/>
                    </a:lnTo>
                    <a:lnTo>
                      <a:pt x="789" y="141"/>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9" name=""/>
              <p:cNvGrpSpPr/>
              <p:nvPr/>
            </p:nvGrpSpPr>
            <p:grpSpPr>
              <a:xfrm>
                <a:off x="3763800" y="3567240"/>
                <a:ext cx="194040" cy="27000"/>
                <a:chOff x="3763800" y="3567240"/>
                <a:chExt cx="194040" cy="27000"/>
              </a:xfrm>
            </p:grpSpPr>
            <p:sp>
              <p:nvSpPr>
                <p:cNvPr id="600" name=""/>
                <p:cNvSpPr/>
                <p:nvPr/>
              </p:nvSpPr>
              <p:spPr>
                <a:xfrm>
                  <a:off x="3763800" y="3567240"/>
                  <a:ext cx="194040" cy="12960"/>
                </a:xfrm>
                <a:custGeom>
                  <a:avLst/>
                  <a:gdLst/>
                  <a:ahLst/>
                  <a:rect l="0" t="0" r="r" b="b"/>
                  <a:pathLst>
                    <a:path fill="none" w="539" h="36">
                      <a:moveTo>
                        <a:pt x="0" y="4"/>
                      </a:moveTo>
                      <a:lnTo>
                        <a:pt x="132" y="0"/>
                      </a:lnTo>
                      <a:lnTo>
                        <a:pt x="296" y="4"/>
                      </a:lnTo>
                      <a:lnTo>
                        <a:pt x="465" y="17"/>
                      </a:lnTo>
                      <a:lnTo>
                        <a:pt x="539" y="36"/>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601" name=""/>
                <p:cNvSpPr/>
                <p:nvPr/>
              </p:nvSpPr>
              <p:spPr>
                <a:xfrm flipV="1">
                  <a:off x="3795840" y="3568680"/>
                  <a:ext cx="7272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sp>
            <p:nvSpPr>
              <p:cNvPr id="602" name=""/>
              <p:cNvSpPr/>
              <p:nvPr/>
            </p:nvSpPr>
            <p:spPr>
              <a:xfrm>
                <a:off x="4645080" y="3771720"/>
                <a:ext cx="35280" cy="41760"/>
              </a:xfrm>
              <a:custGeom>
                <a:avLst/>
                <a:gdLst/>
                <a:ahLst/>
                <a:rect l="0" t="0" r="r" b="b"/>
                <a:pathLst>
                  <a:path w="98" h="116">
                    <a:moveTo>
                      <a:pt x="89" y="40"/>
                    </a:moveTo>
                    <a:lnTo>
                      <a:pt x="71" y="4"/>
                    </a:lnTo>
                    <a:lnTo>
                      <a:pt x="44" y="0"/>
                    </a:lnTo>
                    <a:lnTo>
                      <a:pt x="13" y="4"/>
                    </a:lnTo>
                    <a:lnTo>
                      <a:pt x="0" y="40"/>
                    </a:lnTo>
                    <a:lnTo>
                      <a:pt x="8" y="80"/>
                    </a:lnTo>
                    <a:lnTo>
                      <a:pt x="30" y="107"/>
                    </a:lnTo>
                    <a:lnTo>
                      <a:pt x="53" y="116"/>
                    </a:lnTo>
                    <a:lnTo>
                      <a:pt x="75" y="112"/>
                    </a:lnTo>
                    <a:lnTo>
                      <a:pt x="98" y="84"/>
                    </a:lnTo>
                    <a:lnTo>
                      <a:pt x="89" y="40"/>
                    </a:lnTo>
                    <a:close/>
                  </a:path>
                </a:pathLst>
              </a:custGeom>
              <a:solidFill>
                <a:srgbClr val="ffc080"/>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sp>
          <p:nvSpPr>
            <p:cNvPr id="603" name=""/>
            <p:cNvSpPr/>
            <p:nvPr/>
          </p:nvSpPr>
          <p:spPr>
            <a:xfrm>
              <a:off x="4043520" y="3348000"/>
              <a:ext cx="9720" cy="144720"/>
            </a:xfrm>
            <a:custGeom>
              <a:avLst/>
              <a:gdLst/>
              <a:ahLst/>
              <a:rect l="0" t="0" r="r" b="b"/>
              <a:pathLst>
                <a:path fill="none" w="27" h="402">
                  <a:moveTo>
                    <a:pt x="0" y="0"/>
                  </a:moveTo>
                  <a:lnTo>
                    <a:pt x="27" y="185"/>
                  </a:lnTo>
                  <a:lnTo>
                    <a:pt x="27" y="322"/>
                  </a:lnTo>
                  <a:lnTo>
                    <a:pt x="0"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4" name=""/>
          <p:cNvGrpSpPr/>
          <p:nvPr/>
        </p:nvGrpSpPr>
        <p:grpSpPr>
          <a:xfrm>
            <a:off x="3706920" y="2305080"/>
            <a:ext cx="1241640" cy="1060920"/>
            <a:chOff x="3706920" y="2305080"/>
            <a:chExt cx="1241640" cy="1060920"/>
          </a:xfrm>
        </p:grpSpPr>
        <p:sp>
          <p:nvSpPr>
            <p:cNvPr id="605" name=""/>
            <p:cNvSpPr/>
            <p:nvPr/>
          </p:nvSpPr>
          <p:spPr>
            <a:xfrm>
              <a:off x="3706920" y="2305080"/>
              <a:ext cx="1241640" cy="1060920"/>
            </a:xfrm>
            <a:custGeom>
              <a:avLst/>
              <a:gdLst/>
              <a:ahLst/>
              <a:rect l="0" t="0" r="r" b="b"/>
              <a:pathLst>
                <a:path w="3449" h="2947">
                  <a:moveTo>
                    <a:pt x="1525" y="361"/>
                  </a:moveTo>
                  <a:lnTo>
                    <a:pt x="1406" y="255"/>
                  </a:lnTo>
                  <a:lnTo>
                    <a:pt x="1300" y="198"/>
                  </a:lnTo>
                  <a:lnTo>
                    <a:pt x="1159" y="163"/>
                  </a:lnTo>
                  <a:lnTo>
                    <a:pt x="1045" y="163"/>
                  </a:lnTo>
                  <a:lnTo>
                    <a:pt x="912" y="171"/>
                  </a:lnTo>
                  <a:lnTo>
                    <a:pt x="846" y="198"/>
                  </a:lnTo>
                  <a:lnTo>
                    <a:pt x="1045" y="229"/>
                  </a:lnTo>
                  <a:lnTo>
                    <a:pt x="1177" y="255"/>
                  </a:lnTo>
                  <a:lnTo>
                    <a:pt x="1318" y="379"/>
                  </a:lnTo>
                  <a:lnTo>
                    <a:pt x="1036" y="264"/>
                  </a:lnTo>
                  <a:lnTo>
                    <a:pt x="855" y="238"/>
                  </a:lnTo>
                  <a:lnTo>
                    <a:pt x="754" y="229"/>
                  </a:lnTo>
                  <a:lnTo>
                    <a:pt x="630" y="229"/>
                  </a:lnTo>
                  <a:lnTo>
                    <a:pt x="515" y="246"/>
                  </a:lnTo>
                  <a:lnTo>
                    <a:pt x="440" y="277"/>
                  </a:lnTo>
                  <a:lnTo>
                    <a:pt x="361" y="330"/>
                  </a:lnTo>
                  <a:lnTo>
                    <a:pt x="299" y="436"/>
                  </a:lnTo>
                  <a:lnTo>
                    <a:pt x="260" y="604"/>
                  </a:lnTo>
                  <a:lnTo>
                    <a:pt x="388" y="485"/>
                  </a:lnTo>
                  <a:lnTo>
                    <a:pt x="471" y="427"/>
                  </a:lnTo>
                  <a:lnTo>
                    <a:pt x="533" y="388"/>
                  </a:lnTo>
                  <a:lnTo>
                    <a:pt x="617" y="370"/>
                  </a:lnTo>
                  <a:lnTo>
                    <a:pt x="687" y="379"/>
                  </a:lnTo>
                  <a:lnTo>
                    <a:pt x="723" y="379"/>
                  </a:lnTo>
                  <a:lnTo>
                    <a:pt x="577" y="480"/>
                  </a:lnTo>
                  <a:lnTo>
                    <a:pt x="445" y="564"/>
                  </a:lnTo>
                  <a:lnTo>
                    <a:pt x="299" y="705"/>
                  </a:lnTo>
                  <a:lnTo>
                    <a:pt x="180" y="852"/>
                  </a:lnTo>
                  <a:lnTo>
                    <a:pt x="101" y="979"/>
                  </a:lnTo>
                  <a:lnTo>
                    <a:pt x="0" y="1178"/>
                  </a:lnTo>
                  <a:lnTo>
                    <a:pt x="149" y="1054"/>
                  </a:lnTo>
                  <a:lnTo>
                    <a:pt x="216" y="1024"/>
                  </a:lnTo>
                  <a:lnTo>
                    <a:pt x="299" y="1006"/>
                  </a:lnTo>
                  <a:lnTo>
                    <a:pt x="352" y="1010"/>
                  </a:lnTo>
                  <a:lnTo>
                    <a:pt x="410" y="1046"/>
                  </a:lnTo>
                  <a:lnTo>
                    <a:pt x="339" y="1099"/>
                  </a:lnTo>
                  <a:lnTo>
                    <a:pt x="277" y="1169"/>
                  </a:lnTo>
                  <a:lnTo>
                    <a:pt x="207" y="1248"/>
                  </a:lnTo>
                  <a:lnTo>
                    <a:pt x="145" y="1328"/>
                  </a:lnTo>
                  <a:lnTo>
                    <a:pt x="83" y="1451"/>
                  </a:lnTo>
                  <a:lnTo>
                    <a:pt x="246" y="1363"/>
                  </a:lnTo>
                  <a:lnTo>
                    <a:pt x="335" y="1328"/>
                  </a:lnTo>
                  <a:lnTo>
                    <a:pt x="427" y="1328"/>
                  </a:lnTo>
                  <a:lnTo>
                    <a:pt x="357" y="1398"/>
                  </a:lnTo>
                  <a:lnTo>
                    <a:pt x="291" y="1517"/>
                  </a:lnTo>
                  <a:lnTo>
                    <a:pt x="224" y="1641"/>
                  </a:lnTo>
                  <a:lnTo>
                    <a:pt x="158" y="1914"/>
                  </a:lnTo>
                  <a:lnTo>
                    <a:pt x="260" y="1773"/>
                  </a:lnTo>
                  <a:lnTo>
                    <a:pt x="361" y="1659"/>
                  </a:lnTo>
                  <a:lnTo>
                    <a:pt x="489" y="1592"/>
                  </a:lnTo>
                  <a:lnTo>
                    <a:pt x="542" y="1592"/>
                  </a:lnTo>
                  <a:lnTo>
                    <a:pt x="489" y="1734"/>
                  </a:lnTo>
                  <a:lnTo>
                    <a:pt x="476" y="1910"/>
                  </a:lnTo>
                  <a:lnTo>
                    <a:pt x="489" y="2020"/>
                  </a:lnTo>
                  <a:lnTo>
                    <a:pt x="555" y="2179"/>
                  </a:lnTo>
                  <a:lnTo>
                    <a:pt x="665" y="2343"/>
                  </a:lnTo>
                  <a:lnTo>
                    <a:pt x="665" y="2144"/>
                  </a:lnTo>
                  <a:lnTo>
                    <a:pt x="723" y="2011"/>
                  </a:lnTo>
                  <a:lnTo>
                    <a:pt x="789" y="1963"/>
                  </a:lnTo>
                  <a:lnTo>
                    <a:pt x="767" y="2170"/>
                  </a:lnTo>
                  <a:lnTo>
                    <a:pt x="767" y="2325"/>
                  </a:lnTo>
                  <a:lnTo>
                    <a:pt x="767" y="2444"/>
                  </a:lnTo>
                  <a:lnTo>
                    <a:pt x="789" y="2572"/>
                  </a:lnTo>
                  <a:lnTo>
                    <a:pt x="903" y="2722"/>
                  </a:lnTo>
                  <a:lnTo>
                    <a:pt x="1036" y="2846"/>
                  </a:lnTo>
                  <a:lnTo>
                    <a:pt x="1058" y="2665"/>
                  </a:lnTo>
                  <a:lnTo>
                    <a:pt x="1058" y="2458"/>
                  </a:lnTo>
                  <a:lnTo>
                    <a:pt x="1168" y="2837"/>
                  </a:lnTo>
                  <a:lnTo>
                    <a:pt x="1243" y="2938"/>
                  </a:lnTo>
                  <a:lnTo>
                    <a:pt x="1318" y="2674"/>
                  </a:lnTo>
                  <a:lnTo>
                    <a:pt x="1433" y="2912"/>
                  </a:lnTo>
                  <a:lnTo>
                    <a:pt x="1658" y="2656"/>
                  </a:lnTo>
                  <a:lnTo>
                    <a:pt x="1861" y="2890"/>
                  </a:lnTo>
                  <a:lnTo>
                    <a:pt x="1954" y="2705"/>
                  </a:lnTo>
                  <a:lnTo>
                    <a:pt x="2201" y="2921"/>
                  </a:lnTo>
                  <a:lnTo>
                    <a:pt x="2285" y="2639"/>
                  </a:lnTo>
                  <a:lnTo>
                    <a:pt x="2532" y="2947"/>
                  </a:lnTo>
                  <a:lnTo>
                    <a:pt x="2704" y="2647"/>
                  </a:lnTo>
                  <a:lnTo>
                    <a:pt x="2973" y="2846"/>
                  </a:lnTo>
                  <a:lnTo>
                    <a:pt x="2946" y="2590"/>
                  </a:lnTo>
                  <a:lnTo>
                    <a:pt x="3250" y="2705"/>
                  </a:lnTo>
                  <a:lnTo>
                    <a:pt x="3118" y="2361"/>
                  </a:lnTo>
                  <a:lnTo>
                    <a:pt x="3317" y="2506"/>
                  </a:lnTo>
                  <a:lnTo>
                    <a:pt x="3136" y="2104"/>
                  </a:lnTo>
                  <a:lnTo>
                    <a:pt x="3409" y="2361"/>
                  </a:lnTo>
                  <a:lnTo>
                    <a:pt x="3021" y="1831"/>
                  </a:lnTo>
                  <a:lnTo>
                    <a:pt x="3343" y="2047"/>
                  </a:lnTo>
                  <a:lnTo>
                    <a:pt x="3021" y="1689"/>
                  </a:lnTo>
                  <a:lnTo>
                    <a:pt x="3211" y="1751"/>
                  </a:lnTo>
                  <a:lnTo>
                    <a:pt x="3343" y="1839"/>
                  </a:lnTo>
                  <a:lnTo>
                    <a:pt x="3259" y="1676"/>
                  </a:lnTo>
                  <a:lnTo>
                    <a:pt x="3118" y="1531"/>
                  </a:lnTo>
                  <a:lnTo>
                    <a:pt x="3026" y="1438"/>
                  </a:lnTo>
                  <a:lnTo>
                    <a:pt x="2964" y="1363"/>
                  </a:lnTo>
                  <a:lnTo>
                    <a:pt x="3078" y="1412"/>
                  </a:lnTo>
                  <a:lnTo>
                    <a:pt x="3193" y="1517"/>
                  </a:lnTo>
                  <a:lnTo>
                    <a:pt x="3334" y="1650"/>
                  </a:lnTo>
                  <a:lnTo>
                    <a:pt x="3409" y="1716"/>
                  </a:lnTo>
                  <a:lnTo>
                    <a:pt x="3268" y="1491"/>
                  </a:lnTo>
                  <a:lnTo>
                    <a:pt x="3193" y="1345"/>
                  </a:lnTo>
                  <a:lnTo>
                    <a:pt x="3070" y="1271"/>
                  </a:lnTo>
                  <a:lnTo>
                    <a:pt x="2937" y="1196"/>
                  </a:lnTo>
                  <a:lnTo>
                    <a:pt x="3087" y="1204"/>
                  </a:lnTo>
                  <a:lnTo>
                    <a:pt x="3184" y="1253"/>
                  </a:lnTo>
                  <a:lnTo>
                    <a:pt x="3286" y="1345"/>
                  </a:lnTo>
                  <a:lnTo>
                    <a:pt x="3383" y="1412"/>
                  </a:lnTo>
                  <a:lnTo>
                    <a:pt x="3233" y="1129"/>
                  </a:lnTo>
                  <a:lnTo>
                    <a:pt x="3105" y="1015"/>
                  </a:lnTo>
                  <a:lnTo>
                    <a:pt x="3021" y="949"/>
                  </a:lnTo>
                  <a:lnTo>
                    <a:pt x="3184" y="984"/>
                  </a:lnTo>
                  <a:lnTo>
                    <a:pt x="3449" y="1112"/>
                  </a:lnTo>
                  <a:lnTo>
                    <a:pt x="3171" y="852"/>
                  </a:lnTo>
                  <a:lnTo>
                    <a:pt x="3061" y="777"/>
                  </a:lnTo>
                  <a:lnTo>
                    <a:pt x="2871" y="736"/>
                  </a:lnTo>
                  <a:lnTo>
                    <a:pt x="2792" y="727"/>
                  </a:lnTo>
                  <a:lnTo>
                    <a:pt x="2898" y="679"/>
                  </a:lnTo>
                  <a:lnTo>
                    <a:pt x="3087" y="718"/>
                  </a:lnTo>
                  <a:lnTo>
                    <a:pt x="3030" y="626"/>
                  </a:lnTo>
                  <a:lnTo>
                    <a:pt x="2880" y="586"/>
                  </a:lnTo>
                  <a:lnTo>
                    <a:pt x="2673" y="564"/>
                  </a:lnTo>
                  <a:lnTo>
                    <a:pt x="2554" y="564"/>
                  </a:lnTo>
                  <a:lnTo>
                    <a:pt x="2686" y="493"/>
                  </a:lnTo>
                  <a:lnTo>
                    <a:pt x="2505" y="463"/>
                  </a:lnTo>
                  <a:lnTo>
                    <a:pt x="2541" y="388"/>
                  </a:lnTo>
                  <a:lnTo>
                    <a:pt x="2792" y="388"/>
                  </a:lnTo>
                  <a:lnTo>
                    <a:pt x="3021" y="445"/>
                  </a:lnTo>
                  <a:lnTo>
                    <a:pt x="2871" y="321"/>
                  </a:lnTo>
                  <a:lnTo>
                    <a:pt x="2457" y="304"/>
                  </a:lnTo>
                  <a:lnTo>
                    <a:pt x="2342" y="343"/>
                  </a:lnTo>
                  <a:lnTo>
                    <a:pt x="2646" y="180"/>
                  </a:lnTo>
                  <a:lnTo>
                    <a:pt x="2792" y="132"/>
                  </a:lnTo>
                  <a:lnTo>
                    <a:pt x="2523" y="83"/>
                  </a:lnTo>
                  <a:lnTo>
                    <a:pt x="2258" y="163"/>
                  </a:lnTo>
                  <a:lnTo>
                    <a:pt x="2161" y="163"/>
                  </a:lnTo>
                  <a:lnTo>
                    <a:pt x="2285" y="0"/>
                  </a:lnTo>
                  <a:lnTo>
                    <a:pt x="2077" y="141"/>
                  </a:lnTo>
                  <a:lnTo>
                    <a:pt x="1972" y="114"/>
                  </a:lnTo>
                  <a:lnTo>
                    <a:pt x="1839" y="114"/>
                  </a:lnTo>
                  <a:lnTo>
                    <a:pt x="1729" y="163"/>
                  </a:lnTo>
                  <a:lnTo>
                    <a:pt x="1587" y="295"/>
                  </a:lnTo>
                  <a:lnTo>
                    <a:pt x="1547" y="48"/>
                  </a:lnTo>
                  <a:lnTo>
                    <a:pt x="1525" y="361"/>
                  </a:lnTo>
                  <a:close/>
                </a:path>
              </a:pathLst>
            </a:custGeom>
            <a:solidFill>
              <a:srgbClr val="804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6" name=""/>
            <p:cNvGrpSpPr/>
            <p:nvPr/>
          </p:nvGrpSpPr>
          <p:grpSpPr>
            <a:xfrm>
              <a:off x="3821040" y="2359080"/>
              <a:ext cx="1056240" cy="406800"/>
              <a:chOff x="3821040" y="2359080"/>
              <a:chExt cx="1056240" cy="406800"/>
            </a:xfrm>
          </p:grpSpPr>
          <p:sp>
            <p:nvSpPr>
              <p:cNvPr id="607" name=""/>
              <p:cNvSpPr/>
              <p:nvPr/>
            </p:nvSpPr>
            <p:spPr>
              <a:xfrm>
                <a:off x="3821040" y="2448000"/>
                <a:ext cx="433800" cy="187560"/>
              </a:xfrm>
              <a:custGeom>
                <a:avLst/>
                <a:gdLst/>
                <a:ahLst/>
                <a:rect l="0" t="0" r="r" b="b"/>
                <a:pathLst>
                  <a:path fill="none" w="1205" h="521">
                    <a:moveTo>
                      <a:pt x="1205" y="189"/>
                    </a:moveTo>
                    <a:lnTo>
                      <a:pt x="1139" y="92"/>
                    </a:lnTo>
                    <a:lnTo>
                      <a:pt x="1051" y="39"/>
                    </a:lnTo>
                    <a:lnTo>
                      <a:pt x="972" y="22"/>
                    </a:lnTo>
                    <a:lnTo>
                      <a:pt x="860" y="0"/>
                    </a:lnTo>
                    <a:lnTo>
                      <a:pt x="702" y="0"/>
                    </a:lnTo>
                    <a:lnTo>
                      <a:pt x="591" y="22"/>
                    </a:lnTo>
                    <a:lnTo>
                      <a:pt x="464" y="79"/>
                    </a:lnTo>
                    <a:lnTo>
                      <a:pt x="314" y="189"/>
                    </a:lnTo>
                    <a:lnTo>
                      <a:pt x="83" y="380"/>
                    </a:lnTo>
                    <a:lnTo>
                      <a:pt x="0" y="521"/>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4376880" y="2359080"/>
                <a:ext cx="279720" cy="130680"/>
              </a:xfrm>
              <a:custGeom>
                <a:avLst/>
                <a:gdLst/>
                <a:ahLst/>
                <a:rect l="0" t="0" r="r" b="b"/>
                <a:pathLst>
                  <a:path fill="none" w="777" h="363">
                    <a:moveTo>
                      <a:pt x="0" y="363"/>
                    </a:moveTo>
                    <a:lnTo>
                      <a:pt x="105" y="199"/>
                    </a:lnTo>
                    <a:lnTo>
                      <a:pt x="180" y="142"/>
                    </a:lnTo>
                    <a:lnTo>
                      <a:pt x="251" y="106"/>
                    </a:lnTo>
                    <a:lnTo>
                      <a:pt x="352" y="70"/>
                    </a:lnTo>
                    <a:lnTo>
                      <a:pt x="446" y="39"/>
                    </a:lnTo>
                    <a:lnTo>
                      <a:pt x="574" y="22"/>
                    </a:lnTo>
                    <a:lnTo>
                      <a:pt x="693" y="0"/>
                    </a:lnTo>
                    <a:lnTo>
                      <a:pt x="777"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4567320" y="2587680"/>
                <a:ext cx="309960" cy="62280"/>
              </a:xfrm>
              <a:custGeom>
                <a:avLst/>
                <a:gdLst/>
                <a:ahLst/>
                <a:rect l="0" t="0" r="r" b="b"/>
                <a:pathLst>
                  <a:path fill="none" w="861" h="173">
                    <a:moveTo>
                      <a:pt x="0" y="8"/>
                    </a:moveTo>
                    <a:lnTo>
                      <a:pt x="274" y="0"/>
                    </a:lnTo>
                    <a:lnTo>
                      <a:pt x="499" y="30"/>
                    </a:lnTo>
                    <a:lnTo>
                      <a:pt x="711" y="89"/>
                    </a:lnTo>
                    <a:lnTo>
                      <a:pt x="861" y="173"/>
                    </a:lnTo>
                  </a:path>
                </a:pathLst>
              </a:custGeom>
              <a:ln w="12600">
                <a:solidFill>
                  <a:srgbClr val="402000"/>
                </a:solidFill>
                <a:round/>
              </a:ln>
            </p:spPr>
            <p:txBody>
              <a:bodyPr lIns="96120" rIns="96120" tIns="11160" bIns="11160" anchor="t">
                <a:noAutofit/>
              </a:bodyPr>
              <a:p>
                <a:endParaRPr b="0" lang="en-US" sz="1800" spc="-1" strike="noStrike">
                  <a:solidFill>
                    <a:srgbClr val="000000"/>
                  </a:solidFill>
                  <a:latin typeface="Arial"/>
                </a:endParaRPr>
              </a:p>
            </p:txBody>
          </p:sp>
          <p:sp>
            <p:nvSpPr>
              <p:cNvPr id="610" name=""/>
              <p:cNvSpPr/>
              <p:nvPr/>
            </p:nvSpPr>
            <p:spPr>
              <a:xfrm>
                <a:off x="3895560" y="2540160"/>
                <a:ext cx="354240" cy="225720"/>
              </a:xfrm>
              <a:custGeom>
                <a:avLst/>
                <a:gdLst/>
                <a:ahLst/>
                <a:rect l="0" t="0" r="r" b="b"/>
                <a:pathLst>
                  <a:path fill="none" w="984" h="627">
                    <a:moveTo>
                      <a:pt x="984" y="17"/>
                    </a:moveTo>
                    <a:lnTo>
                      <a:pt x="750" y="0"/>
                    </a:lnTo>
                    <a:lnTo>
                      <a:pt x="534" y="17"/>
                    </a:lnTo>
                    <a:lnTo>
                      <a:pt x="321" y="123"/>
                    </a:lnTo>
                    <a:lnTo>
                      <a:pt x="123" y="331"/>
                    </a:lnTo>
                    <a:lnTo>
                      <a:pt x="35" y="486"/>
                    </a:lnTo>
                    <a:lnTo>
                      <a:pt x="0" y="62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3916440" y="2494080"/>
                <a:ext cx="306720" cy="132120"/>
              </a:xfrm>
              <a:custGeom>
                <a:avLst/>
                <a:gdLst/>
                <a:ahLst/>
                <a:rect l="0" t="0" r="r" b="b"/>
                <a:pathLst>
                  <a:path fill="none" w="852" h="367">
                    <a:moveTo>
                      <a:pt x="852" y="61"/>
                    </a:moveTo>
                    <a:lnTo>
                      <a:pt x="587" y="0"/>
                    </a:lnTo>
                    <a:lnTo>
                      <a:pt x="428" y="4"/>
                    </a:lnTo>
                    <a:lnTo>
                      <a:pt x="220" y="88"/>
                    </a:lnTo>
                    <a:lnTo>
                      <a:pt x="92" y="195"/>
                    </a:lnTo>
                    <a:lnTo>
                      <a:pt x="0" y="36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4626000" y="2646360"/>
                <a:ext cx="236880" cy="97200"/>
              </a:xfrm>
              <a:custGeom>
                <a:avLst/>
                <a:gdLst/>
                <a:ahLst/>
                <a:rect l="0" t="0" r="r" b="b"/>
                <a:pathLst>
                  <a:path fill="none" w="658" h="270">
                    <a:moveTo>
                      <a:pt x="0" y="0"/>
                    </a:moveTo>
                    <a:lnTo>
                      <a:pt x="136" y="0"/>
                    </a:lnTo>
                    <a:lnTo>
                      <a:pt x="295" y="30"/>
                    </a:lnTo>
                    <a:lnTo>
                      <a:pt x="380" y="75"/>
                    </a:lnTo>
                    <a:lnTo>
                      <a:pt x="525" y="164"/>
                    </a:lnTo>
                    <a:lnTo>
                      <a:pt x="658" y="270"/>
                    </a:lnTo>
                  </a:path>
                </a:pathLst>
              </a:custGeom>
              <a:ln w="12600">
                <a:solidFill>
                  <a:srgbClr val="402000"/>
                </a:solidFill>
                <a:round/>
              </a:ln>
            </p:spPr>
            <p:txBody>
              <a:bodyPr lIns="96120" rIns="96120" tIns="46080" bIns="46080" anchor="t">
                <a:noAutofit/>
              </a:bodyPr>
              <a:p>
                <a:endParaRPr b="0" lang="en-US" sz="1800" spc="-1" strike="noStrike">
                  <a:solidFill>
                    <a:srgbClr val="000000"/>
                  </a:solidFill>
                  <a:latin typeface="Arial"/>
                </a:endParaRPr>
              </a:p>
            </p:txBody>
          </p:sp>
          <p:sp>
            <p:nvSpPr>
              <p:cNvPr id="613" name=""/>
              <p:cNvSpPr/>
              <p:nvPr/>
            </p:nvSpPr>
            <p:spPr>
              <a:xfrm>
                <a:off x="4437000" y="2438280"/>
                <a:ext cx="255960" cy="41760"/>
              </a:xfrm>
              <a:custGeom>
                <a:avLst/>
                <a:gdLst/>
                <a:ahLst/>
                <a:rect l="0" t="0" r="r" b="b"/>
                <a:pathLst>
                  <a:path fill="none" w="711" h="116">
                    <a:moveTo>
                      <a:pt x="0" y="116"/>
                    </a:moveTo>
                    <a:lnTo>
                      <a:pt x="123" y="67"/>
                    </a:lnTo>
                    <a:lnTo>
                      <a:pt x="305" y="17"/>
                    </a:lnTo>
                    <a:lnTo>
                      <a:pt x="477" y="0"/>
                    </a:lnTo>
                    <a:lnTo>
                      <a:pt x="711" y="0"/>
                    </a:lnTo>
                  </a:path>
                </a:pathLst>
              </a:custGeom>
              <a:ln w="12600">
                <a:solidFill>
                  <a:srgbClr val="402000"/>
                </a:solidFill>
                <a:round/>
              </a:ln>
            </p:spPr>
            <p:txBody>
              <a:bodyPr lIns="96120" rIns="96120" tIns="-9360" bIns="-9360" anchor="t">
                <a:noAutofit/>
              </a:bodyPr>
              <a:p>
                <a:endParaRPr b="0" lang="en-US" sz="1800" spc="-1" strike="noStrike">
                  <a:solidFill>
                    <a:srgbClr val="000000"/>
                  </a:solidFill>
                  <a:latin typeface="Arial"/>
                </a:endParaRPr>
              </a:p>
            </p:txBody>
          </p:sp>
          <p:sp>
            <p:nvSpPr>
              <p:cNvPr id="614" name=""/>
              <p:cNvSpPr/>
              <p:nvPr/>
            </p:nvSpPr>
            <p:spPr>
              <a:xfrm>
                <a:off x="4546440" y="2533680"/>
                <a:ext cx="213120" cy="24120"/>
              </a:xfrm>
              <a:custGeom>
                <a:avLst/>
                <a:gdLst/>
                <a:ahLst/>
                <a:rect l="0" t="0" r="r" b="b"/>
                <a:pathLst>
                  <a:path fill="none" w="592" h="67">
                    <a:moveTo>
                      <a:pt x="0" y="67"/>
                    </a:moveTo>
                    <a:lnTo>
                      <a:pt x="199" y="26"/>
                    </a:lnTo>
                    <a:lnTo>
                      <a:pt x="353" y="8"/>
                    </a:lnTo>
                    <a:lnTo>
                      <a:pt x="460" y="0"/>
                    </a:lnTo>
                    <a:lnTo>
                      <a:pt x="592" y="0"/>
                    </a:lnTo>
                  </a:path>
                </a:pathLst>
              </a:custGeom>
              <a:ln w="12600">
                <a:solidFill>
                  <a:srgbClr val="402000"/>
                </a:solidFill>
                <a:round/>
              </a:ln>
            </p:spPr>
            <p:txBody>
              <a:bodyPr lIns="96120" rIns="96120" tIns="-27000" bIns="-27000" anchor="t">
                <a:noAutofit/>
              </a:bodyPr>
              <a:p>
                <a:endParaRPr b="0" lang="en-US" sz="1800" spc="-1" strike="noStrike">
                  <a:solidFill>
                    <a:srgbClr val="000000"/>
                  </a:solidFill>
                  <a:latin typeface="Arial"/>
                </a:endParaRPr>
              </a:p>
            </p:txBody>
          </p:sp>
          <p:sp>
            <p:nvSpPr>
              <p:cNvPr id="615" name=""/>
              <p:cNvSpPr/>
              <p:nvPr/>
            </p:nvSpPr>
            <p:spPr>
              <a:xfrm>
                <a:off x="4341960" y="2367000"/>
                <a:ext cx="116280" cy="122760"/>
              </a:xfrm>
              <a:custGeom>
                <a:avLst/>
                <a:gdLst/>
                <a:ahLst/>
                <a:rect l="0" t="0" r="r" b="b"/>
                <a:pathLst>
                  <a:path fill="none" w="323" h="341">
                    <a:moveTo>
                      <a:pt x="0" y="341"/>
                    </a:moveTo>
                    <a:lnTo>
                      <a:pt x="52" y="225"/>
                    </a:lnTo>
                    <a:lnTo>
                      <a:pt x="115" y="137"/>
                    </a:lnTo>
                    <a:lnTo>
                      <a:pt x="208" y="44"/>
                    </a:lnTo>
                    <a:lnTo>
                      <a:pt x="284" y="8"/>
                    </a:lnTo>
                    <a:lnTo>
                      <a:pt x="323"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16" name=""/>
          <p:cNvGrpSpPr/>
          <p:nvPr/>
        </p:nvGrpSpPr>
        <p:grpSpPr>
          <a:xfrm>
            <a:off x="3675240" y="3786120"/>
            <a:ext cx="1647720" cy="987840"/>
            <a:chOff x="3675240" y="3786120"/>
            <a:chExt cx="1647720" cy="987840"/>
          </a:xfrm>
        </p:grpSpPr>
        <p:grpSp>
          <p:nvGrpSpPr>
            <p:cNvPr id="617" name=""/>
            <p:cNvGrpSpPr/>
            <p:nvPr/>
          </p:nvGrpSpPr>
          <p:grpSpPr>
            <a:xfrm>
              <a:off x="3675240" y="3909960"/>
              <a:ext cx="1647720" cy="864000"/>
              <a:chOff x="3675240" y="3909960"/>
              <a:chExt cx="1647720" cy="864000"/>
            </a:xfrm>
          </p:grpSpPr>
          <p:sp>
            <p:nvSpPr>
              <p:cNvPr id="618" name=""/>
              <p:cNvSpPr/>
              <p:nvPr/>
            </p:nvSpPr>
            <p:spPr>
              <a:xfrm>
                <a:off x="3675240" y="3909960"/>
                <a:ext cx="916200" cy="864000"/>
              </a:xfrm>
              <a:custGeom>
                <a:avLst/>
                <a:gdLst/>
                <a:ahLst/>
                <a:rect l="0" t="0" r="r" b="b"/>
                <a:pathLst>
                  <a:path w="2545" h="2400">
                    <a:moveTo>
                      <a:pt x="2364" y="114"/>
                    </a:moveTo>
                    <a:lnTo>
                      <a:pt x="2355" y="418"/>
                    </a:lnTo>
                    <a:lnTo>
                      <a:pt x="2316" y="768"/>
                    </a:lnTo>
                    <a:lnTo>
                      <a:pt x="2307" y="1046"/>
                    </a:lnTo>
                    <a:lnTo>
                      <a:pt x="2307" y="1187"/>
                    </a:lnTo>
                    <a:lnTo>
                      <a:pt x="2355" y="1500"/>
                    </a:lnTo>
                    <a:lnTo>
                      <a:pt x="2373" y="1681"/>
                    </a:lnTo>
                    <a:lnTo>
                      <a:pt x="2439" y="1827"/>
                    </a:lnTo>
                    <a:lnTo>
                      <a:pt x="2527" y="1973"/>
                    </a:lnTo>
                    <a:lnTo>
                      <a:pt x="2545" y="2096"/>
                    </a:lnTo>
                    <a:lnTo>
                      <a:pt x="2545" y="2162"/>
                    </a:lnTo>
                    <a:lnTo>
                      <a:pt x="2536" y="2228"/>
                    </a:lnTo>
                    <a:lnTo>
                      <a:pt x="2430" y="2286"/>
                    </a:lnTo>
                    <a:lnTo>
                      <a:pt x="2329" y="2352"/>
                    </a:lnTo>
                    <a:lnTo>
                      <a:pt x="2117" y="2334"/>
                    </a:lnTo>
                    <a:lnTo>
                      <a:pt x="1994" y="2325"/>
                    </a:lnTo>
                    <a:lnTo>
                      <a:pt x="1844" y="2286"/>
                    </a:lnTo>
                    <a:lnTo>
                      <a:pt x="1778" y="2268"/>
                    </a:lnTo>
                    <a:lnTo>
                      <a:pt x="1694" y="2277"/>
                    </a:lnTo>
                    <a:lnTo>
                      <a:pt x="1579" y="2343"/>
                    </a:lnTo>
                    <a:lnTo>
                      <a:pt x="1416" y="2374"/>
                    </a:lnTo>
                    <a:lnTo>
                      <a:pt x="1297" y="2400"/>
                    </a:lnTo>
                    <a:lnTo>
                      <a:pt x="1124" y="2400"/>
                    </a:lnTo>
                    <a:lnTo>
                      <a:pt x="956" y="2383"/>
                    </a:lnTo>
                    <a:lnTo>
                      <a:pt x="793" y="2334"/>
                    </a:lnTo>
                    <a:lnTo>
                      <a:pt x="709" y="2334"/>
                    </a:lnTo>
                    <a:lnTo>
                      <a:pt x="498" y="2334"/>
                    </a:lnTo>
                    <a:lnTo>
                      <a:pt x="388" y="2343"/>
                    </a:lnTo>
                    <a:lnTo>
                      <a:pt x="370" y="2343"/>
                    </a:lnTo>
                    <a:lnTo>
                      <a:pt x="282" y="2343"/>
                    </a:lnTo>
                    <a:lnTo>
                      <a:pt x="198" y="2334"/>
                    </a:lnTo>
                    <a:lnTo>
                      <a:pt x="57" y="2277"/>
                    </a:lnTo>
                    <a:lnTo>
                      <a:pt x="30" y="2220"/>
                    </a:lnTo>
                    <a:lnTo>
                      <a:pt x="8" y="2136"/>
                    </a:lnTo>
                    <a:lnTo>
                      <a:pt x="0" y="2061"/>
                    </a:lnTo>
                    <a:lnTo>
                      <a:pt x="35" y="1999"/>
                    </a:lnTo>
                    <a:lnTo>
                      <a:pt x="101" y="1981"/>
                    </a:lnTo>
                    <a:lnTo>
                      <a:pt x="207" y="1981"/>
                    </a:lnTo>
                    <a:lnTo>
                      <a:pt x="343" y="1995"/>
                    </a:lnTo>
                    <a:lnTo>
                      <a:pt x="582" y="2021"/>
                    </a:lnTo>
                    <a:lnTo>
                      <a:pt x="679" y="2012"/>
                    </a:lnTo>
                    <a:lnTo>
                      <a:pt x="754" y="1973"/>
                    </a:lnTo>
                    <a:lnTo>
                      <a:pt x="868" y="1880"/>
                    </a:lnTo>
                    <a:lnTo>
                      <a:pt x="1049" y="1764"/>
                    </a:lnTo>
                    <a:lnTo>
                      <a:pt x="1199" y="1672"/>
                    </a:lnTo>
                    <a:lnTo>
                      <a:pt x="1341" y="1606"/>
                    </a:lnTo>
                    <a:lnTo>
                      <a:pt x="1438" y="1579"/>
                    </a:lnTo>
                    <a:lnTo>
                      <a:pt x="1473" y="1531"/>
                    </a:lnTo>
                    <a:lnTo>
                      <a:pt x="1548" y="1226"/>
                    </a:lnTo>
                    <a:lnTo>
                      <a:pt x="1637" y="940"/>
                    </a:lnTo>
                    <a:lnTo>
                      <a:pt x="1676" y="759"/>
                    </a:lnTo>
                    <a:lnTo>
                      <a:pt x="1681" y="564"/>
                    </a:lnTo>
                    <a:lnTo>
                      <a:pt x="1614" y="427"/>
                    </a:lnTo>
                    <a:lnTo>
                      <a:pt x="1513" y="246"/>
                    </a:lnTo>
                    <a:lnTo>
                      <a:pt x="1429" y="0"/>
                    </a:lnTo>
                    <a:lnTo>
                      <a:pt x="2364"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4406760" y="3921120"/>
                <a:ext cx="916200" cy="852840"/>
              </a:xfrm>
              <a:custGeom>
                <a:avLst/>
                <a:gdLst/>
                <a:ahLst/>
                <a:rect l="0" t="0" r="r" b="b"/>
                <a:pathLst>
                  <a:path w="2545" h="2369">
                    <a:moveTo>
                      <a:pt x="180" y="83"/>
                    </a:moveTo>
                    <a:lnTo>
                      <a:pt x="189" y="388"/>
                    </a:lnTo>
                    <a:lnTo>
                      <a:pt x="229" y="736"/>
                    </a:lnTo>
                    <a:lnTo>
                      <a:pt x="233" y="1014"/>
                    </a:lnTo>
                    <a:lnTo>
                      <a:pt x="233" y="1155"/>
                    </a:lnTo>
                    <a:lnTo>
                      <a:pt x="189" y="1469"/>
                    </a:lnTo>
                    <a:lnTo>
                      <a:pt x="167" y="1650"/>
                    </a:lnTo>
                    <a:lnTo>
                      <a:pt x="101" y="1795"/>
                    </a:lnTo>
                    <a:lnTo>
                      <a:pt x="17" y="1941"/>
                    </a:lnTo>
                    <a:lnTo>
                      <a:pt x="0" y="2064"/>
                    </a:lnTo>
                    <a:lnTo>
                      <a:pt x="0" y="2130"/>
                    </a:lnTo>
                    <a:lnTo>
                      <a:pt x="8" y="2197"/>
                    </a:lnTo>
                    <a:lnTo>
                      <a:pt x="114" y="2254"/>
                    </a:lnTo>
                    <a:lnTo>
                      <a:pt x="216" y="2320"/>
                    </a:lnTo>
                    <a:lnTo>
                      <a:pt x="427" y="2302"/>
                    </a:lnTo>
                    <a:lnTo>
                      <a:pt x="546" y="2294"/>
                    </a:lnTo>
                    <a:lnTo>
                      <a:pt x="701" y="2254"/>
                    </a:lnTo>
                    <a:lnTo>
                      <a:pt x="767" y="2236"/>
                    </a:lnTo>
                    <a:lnTo>
                      <a:pt x="846" y="2245"/>
                    </a:lnTo>
                    <a:lnTo>
                      <a:pt x="961" y="2311"/>
                    </a:lnTo>
                    <a:lnTo>
                      <a:pt x="1124" y="2342"/>
                    </a:lnTo>
                    <a:lnTo>
                      <a:pt x="1247" y="2369"/>
                    </a:lnTo>
                    <a:lnTo>
                      <a:pt x="1420" y="2369"/>
                    </a:lnTo>
                    <a:lnTo>
                      <a:pt x="1592" y="2351"/>
                    </a:lnTo>
                    <a:lnTo>
                      <a:pt x="1747" y="2302"/>
                    </a:lnTo>
                    <a:lnTo>
                      <a:pt x="1835" y="2302"/>
                    </a:lnTo>
                    <a:lnTo>
                      <a:pt x="2042" y="2302"/>
                    </a:lnTo>
                    <a:lnTo>
                      <a:pt x="2157" y="2311"/>
                    </a:lnTo>
                    <a:lnTo>
                      <a:pt x="2174" y="2311"/>
                    </a:lnTo>
                    <a:lnTo>
                      <a:pt x="2258" y="2311"/>
                    </a:lnTo>
                    <a:lnTo>
                      <a:pt x="2346" y="2302"/>
                    </a:lnTo>
                    <a:lnTo>
                      <a:pt x="2488" y="2245"/>
                    </a:lnTo>
                    <a:lnTo>
                      <a:pt x="2514" y="2188"/>
                    </a:lnTo>
                    <a:lnTo>
                      <a:pt x="2532" y="2104"/>
                    </a:lnTo>
                    <a:lnTo>
                      <a:pt x="2545" y="2029"/>
                    </a:lnTo>
                    <a:lnTo>
                      <a:pt x="2505" y="1967"/>
                    </a:lnTo>
                    <a:lnTo>
                      <a:pt x="2439" y="1950"/>
                    </a:lnTo>
                    <a:lnTo>
                      <a:pt x="2338" y="1950"/>
                    </a:lnTo>
                    <a:lnTo>
                      <a:pt x="2205" y="1963"/>
                    </a:lnTo>
                    <a:lnTo>
                      <a:pt x="1958" y="1989"/>
                    </a:lnTo>
                    <a:lnTo>
                      <a:pt x="1861" y="1980"/>
                    </a:lnTo>
                    <a:lnTo>
                      <a:pt x="1786" y="1941"/>
                    </a:lnTo>
                    <a:lnTo>
                      <a:pt x="1672" y="1848"/>
                    </a:lnTo>
                    <a:lnTo>
                      <a:pt x="1495" y="1734"/>
                    </a:lnTo>
                    <a:lnTo>
                      <a:pt x="1341" y="1667"/>
                    </a:lnTo>
                    <a:lnTo>
                      <a:pt x="1190" y="1601"/>
                    </a:lnTo>
                    <a:lnTo>
                      <a:pt x="1106" y="1548"/>
                    </a:lnTo>
                    <a:lnTo>
                      <a:pt x="1067" y="1500"/>
                    </a:lnTo>
                    <a:lnTo>
                      <a:pt x="992" y="1196"/>
                    </a:lnTo>
                    <a:lnTo>
                      <a:pt x="908" y="908"/>
                    </a:lnTo>
                    <a:lnTo>
                      <a:pt x="868" y="727"/>
                    </a:lnTo>
                    <a:lnTo>
                      <a:pt x="859" y="533"/>
                    </a:lnTo>
                    <a:lnTo>
                      <a:pt x="895" y="379"/>
                    </a:lnTo>
                    <a:lnTo>
                      <a:pt x="952" y="207"/>
                    </a:lnTo>
                    <a:lnTo>
                      <a:pt x="992" y="0"/>
                    </a:lnTo>
                    <a:lnTo>
                      <a:pt x="180" y="8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20" name=""/>
            <p:cNvSpPr/>
            <p:nvPr/>
          </p:nvSpPr>
          <p:spPr>
            <a:xfrm>
              <a:off x="3998880" y="3786120"/>
              <a:ext cx="1054440" cy="587880"/>
            </a:xfrm>
            <a:custGeom>
              <a:avLst/>
              <a:gdLst/>
              <a:ahLst/>
              <a:rect l="0" t="0" r="r" b="b"/>
              <a:pathLst>
                <a:path w="2929" h="1633">
                  <a:moveTo>
                    <a:pt x="317" y="92"/>
                  </a:moveTo>
                  <a:lnTo>
                    <a:pt x="604" y="264"/>
                  </a:lnTo>
                  <a:lnTo>
                    <a:pt x="886" y="357"/>
                  </a:lnTo>
                  <a:lnTo>
                    <a:pt x="1150" y="396"/>
                  </a:lnTo>
                  <a:lnTo>
                    <a:pt x="1397" y="419"/>
                  </a:lnTo>
                  <a:lnTo>
                    <a:pt x="1628" y="396"/>
                  </a:lnTo>
                  <a:lnTo>
                    <a:pt x="1813" y="357"/>
                  </a:lnTo>
                  <a:lnTo>
                    <a:pt x="2113" y="304"/>
                  </a:lnTo>
                  <a:lnTo>
                    <a:pt x="2307" y="224"/>
                  </a:lnTo>
                  <a:lnTo>
                    <a:pt x="2474" y="132"/>
                  </a:lnTo>
                  <a:lnTo>
                    <a:pt x="2704" y="0"/>
                  </a:lnTo>
                  <a:lnTo>
                    <a:pt x="2814" y="379"/>
                  </a:lnTo>
                  <a:lnTo>
                    <a:pt x="2893" y="777"/>
                  </a:lnTo>
                  <a:lnTo>
                    <a:pt x="2929" y="1307"/>
                  </a:lnTo>
                  <a:lnTo>
                    <a:pt x="2664" y="644"/>
                  </a:lnTo>
                  <a:lnTo>
                    <a:pt x="2664" y="1307"/>
                  </a:lnTo>
                  <a:lnTo>
                    <a:pt x="2421" y="834"/>
                  </a:lnTo>
                  <a:lnTo>
                    <a:pt x="2421" y="1518"/>
                  </a:lnTo>
                  <a:lnTo>
                    <a:pt x="2210" y="834"/>
                  </a:lnTo>
                  <a:lnTo>
                    <a:pt x="2135" y="1501"/>
                  </a:lnTo>
                  <a:lnTo>
                    <a:pt x="1963" y="874"/>
                  </a:lnTo>
                  <a:lnTo>
                    <a:pt x="1892" y="1576"/>
                  </a:lnTo>
                  <a:lnTo>
                    <a:pt x="1663" y="852"/>
                  </a:lnTo>
                  <a:lnTo>
                    <a:pt x="1588" y="1479"/>
                  </a:lnTo>
                  <a:lnTo>
                    <a:pt x="1495" y="891"/>
                  </a:lnTo>
                  <a:lnTo>
                    <a:pt x="1300" y="1633"/>
                  </a:lnTo>
                  <a:lnTo>
                    <a:pt x="1190" y="891"/>
                  </a:lnTo>
                  <a:lnTo>
                    <a:pt x="1075" y="1633"/>
                  </a:lnTo>
                  <a:lnTo>
                    <a:pt x="1075" y="852"/>
                  </a:lnTo>
                  <a:lnTo>
                    <a:pt x="776" y="1611"/>
                  </a:lnTo>
                  <a:lnTo>
                    <a:pt x="776" y="984"/>
                  </a:lnTo>
                  <a:lnTo>
                    <a:pt x="489" y="1611"/>
                  </a:lnTo>
                  <a:lnTo>
                    <a:pt x="661" y="777"/>
                  </a:lnTo>
                  <a:lnTo>
                    <a:pt x="264" y="1501"/>
                  </a:lnTo>
                  <a:lnTo>
                    <a:pt x="432" y="702"/>
                  </a:lnTo>
                  <a:lnTo>
                    <a:pt x="0" y="1346"/>
                  </a:lnTo>
                  <a:lnTo>
                    <a:pt x="35" y="1024"/>
                  </a:lnTo>
                  <a:lnTo>
                    <a:pt x="57" y="816"/>
                  </a:lnTo>
                  <a:lnTo>
                    <a:pt x="132" y="530"/>
                  </a:lnTo>
                  <a:lnTo>
                    <a:pt x="224" y="304"/>
                  </a:lnTo>
                  <a:lnTo>
                    <a:pt x="317" y="92"/>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21" name=""/>
          <p:cNvSpPr/>
          <p:nvPr/>
        </p:nvSpPr>
        <p:spPr>
          <a:xfrm>
            <a:off x="4078440" y="2505240"/>
            <a:ext cx="609840" cy="711720"/>
          </a:xfrm>
          <a:custGeom>
            <a:avLst/>
            <a:gdLst/>
            <a:ahLst/>
            <a:rect l="0" t="0" r="r" b="b"/>
            <a:pathLst>
              <a:path w="1694" h="1977">
                <a:moveTo>
                  <a:pt x="852" y="0"/>
                </a:moveTo>
                <a:lnTo>
                  <a:pt x="740" y="13"/>
                </a:lnTo>
                <a:lnTo>
                  <a:pt x="626" y="57"/>
                </a:lnTo>
                <a:lnTo>
                  <a:pt x="493" y="154"/>
                </a:lnTo>
                <a:lnTo>
                  <a:pt x="357" y="299"/>
                </a:lnTo>
                <a:lnTo>
                  <a:pt x="229" y="480"/>
                </a:lnTo>
                <a:lnTo>
                  <a:pt x="123" y="680"/>
                </a:lnTo>
                <a:lnTo>
                  <a:pt x="48" y="874"/>
                </a:lnTo>
                <a:lnTo>
                  <a:pt x="13" y="1015"/>
                </a:lnTo>
                <a:lnTo>
                  <a:pt x="0" y="1134"/>
                </a:lnTo>
                <a:lnTo>
                  <a:pt x="0" y="1284"/>
                </a:lnTo>
                <a:lnTo>
                  <a:pt x="30" y="1363"/>
                </a:lnTo>
                <a:lnTo>
                  <a:pt x="74" y="1438"/>
                </a:lnTo>
                <a:lnTo>
                  <a:pt x="141" y="1545"/>
                </a:lnTo>
                <a:lnTo>
                  <a:pt x="198" y="1660"/>
                </a:lnTo>
                <a:lnTo>
                  <a:pt x="260" y="1726"/>
                </a:lnTo>
                <a:lnTo>
                  <a:pt x="348" y="1805"/>
                </a:lnTo>
                <a:lnTo>
                  <a:pt x="445" y="1876"/>
                </a:lnTo>
                <a:lnTo>
                  <a:pt x="586" y="1933"/>
                </a:lnTo>
                <a:lnTo>
                  <a:pt x="740" y="1973"/>
                </a:lnTo>
                <a:lnTo>
                  <a:pt x="882" y="1977"/>
                </a:lnTo>
                <a:lnTo>
                  <a:pt x="1081" y="1959"/>
                </a:lnTo>
                <a:lnTo>
                  <a:pt x="1248" y="1924"/>
                </a:lnTo>
                <a:lnTo>
                  <a:pt x="1337" y="1884"/>
                </a:lnTo>
                <a:lnTo>
                  <a:pt x="1425" y="1832"/>
                </a:lnTo>
                <a:lnTo>
                  <a:pt x="1544" y="1739"/>
                </a:lnTo>
                <a:lnTo>
                  <a:pt x="1619" y="1602"/>
                </a:lnTo>
                <a:lnTo>
                  <a:pt x="1689" y="1425"/>
                </a:lnTo>
                <a:lnTo>
                  <a:pt x="1694" y="1284"/>
                </a:lnTo>
                <a:lnTo>
                  <a:pt x="1689" y="1143"/>
                </a:lnTo>
                <a:lnTo>
                  <a:pt x="1663" y="997"/>
                </a:lnTo>
                <a:lnTo>
                  <a:pt x="1641" y="896"/>
                </a:lnTo>
                <a:lnTo>
                  <a:pt x="1575" y="737"/>
                </a:lnTo>
                <a:lnTo>
                  <a:pt x="1531" y="636"/>
                </a:lnTo>
                <a:lnTo>
                  <a:pt x="1447" y="503"/>
                </a:lnTo>
                <a:lnTo>
                  <a:pt x="1372" y="370"/>
                </a:lnTo>
                <a:lnTo>
                  <a:pt x="1315" y="286"/>
                </a:lnTo>
                <a:lnTo>
                  <a:pt x="1253" y="194"/>
                </a:lnTo>
                <a:lnTo>
                  <a:pt x="1169" y="123"/>
                </a:lnTo>
                <a:lnTo>
                  <a:pt x="1090" y="57"/>
                </a:lnTo>
                <a:lnTo>
                  <a:pt x="1006" y="22"/>
                </a:lnTo>
                <a:lnTo>
                  <a:pt x="852"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2" name=""/>
          <p:cNvGrpSpPr/>
          <p:nvPr/>
        </p:nvGrpSpPr>
        <p:grpSpPr>
          <a:xfrm>
            <a:off x="4129200" y="2593800"/>
            <a:ext cx="658800" cy="518040"/>
            <a:chOff x="4129200" y="2593800"/>
            <a:chExt cx="658800" cy="518040"/>
          </a:xfrm>
        </p:grpSpPr>
        <p:grpSp>
          <p:nvGrpSpPr>
            <p:cNvPr id="623" name=""/>
            <p:cNvGrpSpPr/>
            <p:nvPr/>
          </p:nvGrpSpPr>
          <p:grpSpPr>
            <a:xfrm>
              <a:off x="4367160" y="2730600"/>
              <a:ext cx="341640" cy="209880"/>
              <a:chOff x="4367160" y="2730600"/>
              <a:chExt cx="341640" cy="209880"/>
            </a:xfrm>
          </p:grpSpPr>
          <p:sp>
            <p:nvSpPr>
              <p:cNvPr id="624" name=""/>
              <p:cNvSpPr/>
              <p:nvPr/>
            </p:nvSpPr>
            <p:spPr>
              <a:xfrm>
                <a:off x="4367160" y="2730600"/>
                <a:ext cx="325800" cy="195480"/>
              </a:xfrm>
              <a:custGeom>
                <a:avLst/>
                <a:gdLst/>
                <a:ahLst/>
                <a:rect l="0" t="0" r="r" b="b"/>
                <a:pathLst>
                  <a:path w="905" h="543">
                    <a:moveTo>
                      <a:pt x="302" y="8"/>
                    </a:moveTo>
                    <a:lnTo>
                      <a:pt x="429" y="8"/>
                    </a:lnTo>
                    <a:lnTo>
                      <a:pt x="569" y="0"/>
                    </a:lnTo>
                    <a:lnTo>
                      <a:pt x="646" y="8"/>
                    </a:lnTo>
                    <a:lnTo>
                      <a:pt x="681" y="16"/>
                    </a:lnTo>
                    <a:lnTo>
                      <a:pt x="719" y="24"/>
                    </a:lnTo>
                    <a:lnTo>
                      <a:pt x="757" y="37"/>
                    </a:lnTo>
                    <a:lnTo>
                      <a:pt x="795" y="57"/>
                    </a:lnTo>
                    <a:lnTo>
                      <a:pt x="829" y="78"/>
                    </a:lnTo>
                    <a:lnTo>
                      <a:pt x="859" y="120"/>
                    </a:lnTo>
                    <a:lnTo>
                      <a:pt x="880" y="149"/>
                    </a:lnTo>
                    <a:lnTo>
                      <a:pt x="897" y="178"/>
                    </a:lnTo>
                    <a:lnTo>
                      <a:pt x="901" y="211"/>
                    </a:lnTo>
                    <a:lnTo>
                      <a:pt x="905" y="244"/>
                    </a:lnTo>
                    <a:lnTo>
                      <a:pt x="905" y="278"/>
                    </a:lnTo>
                    <a:lnTo>
                      <a:pt x="901" y="315"/>
                    </a:lnTo>
                    <a:lnTo>
                      <a:pt x="897" y="348"/>
                    </a:lnTo>
                    <a:lnTo>
                      <a:pt x="884" y="373"/>
                    </a:lnTo>
                    <a:lnTo>
                      <a:pt x="863" y="410"/>
                    </a:lnTo>
                    <a:lnTo>
                      <a:pt x="838" y="435"/>
                    </a:lnTo>
                    <a:lnTo>
                      <a:pt x="774" y="481"/>
                    </a:lnTo>
                    <a:lnTo>
                      <a:pt x="736" y="493"/>
                    </a:lnTo>
                    <a:lnTo>
                      <a:pt x="685" y="506"/>
                    </a:lnTo>
                    <a:lnTo>
                      <a:pt x="620" y="526"/>
                    </a:lnTo>
                    <a:lnTo>
                      <a:pt x="556" y="535"/>
                    </a:lnTo>
                    <a:lnTo>
                      <a:pt x="472" y="543"/>
                    </a:lnTo>
                    <a:lnTo>
                      <a:pt x="387" y="543"/>
                    </a:lnTo>
                    <a:lnTo>
                      <a:pt x="315" y="543"/>
                    </a:lnTo>
                    <a:lnTo>
                      <a:pt x="234" y="530"/>
                    </a:lnTo>
                    <a:lnTo>
                      <a:pt x="161" y="510"/>
                    </a:lnTo>
                    <a:lnTo>
                      <a:pt x="97" y="501"/>
                    </a:lnTo>
                    <a:lnTo>
                      <a:pt x="0" y="481"/>
                    </a:lnTo>
                    <a:lnTo>
                      <a:pt x="302" y="8"/>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p:nvPr/>
            </p:nvSpPr>
            <p:spPr>
              <a:xfrm>
                <a:off x="4367160" y="2730600"/>
                <a:ext cx="341640" cy="209880"/>
              </a:xfrm>
              <a:custGeom>
                <a:avLst/>
                <a:gdLst/>
                <a:ahLst/>
                <a:rect l="0" t="0" r="r" b="b"/>
                <a:pathLst>
                  <a:path fill="none" w="949" h="583">
                    <a:moveTo>
                      <a:pt x="313" y="8"/>
                    </a:moveTo>
                    <a:lnTo>
                      <a:pt x="449" y="8"/>
                    </a:lnTo>
                    <a:lnTo>
                      <a:pt x="596" y="0"/>
                    </a:lnTo>
                    <a:lnTo>
                      <a:pt x="671" y="8"/>
                    </a:lnTo>
                    <a:lnTo>
                      <a:pt x="710" y="17"/>
                    </a:lnTo>
                    <a:lnTo>
                      <a:pt x="750" y="26"/>
                    </a:lnTo>
                    <a:lnTo>
                      <a:pt x="790" y="39"/>
                    </a:lnTo>
                    <a:lnTo>
                      <a:pt x="830" y="61"/>
                    </a:lnTo>
                    <a:lnTo>
                      <a:pt x="865" y="83"/>
                    </a:lnTo>
                    <a:lnTo>
                      <a:pt x="900" y="127"/>
                    </a:lnTo>
                    <a:lnTo>
                      <a:pt x="918" y="158"/>
                    </a:lnTo>
                    <a:lnTo>
                      <a:pt x="935" y="189"/>
                    </a:lnTo>
                    <a:lnTo>
                      <a:pt x="940" y="224"/>
                    </a:lnTo>
                    <a:lnTo>
                      <a:pt x="949" y="260"/>
                    </a:lnTo>
                    <a:lnTo>
                      <a:pt x="949" y="296"/>
                    </a:lnTo>
                    <a:lnTo>
                      <a:pt x="940" y="340"/>
                    </a:lnTo>
                    <a:lnTo>
                      <a:pt x="935" y="375"/>
                    </a:lnTo>
                    <a:lnTo>
                      <a:pt x="922" y="402"/>
                    </a:lnTo>
                    <a:lnTo>
                      <a:pt x="900" y="437"/>
                    </a:lnTo>
                    <a:lnTo>
                      <a:pt x="874" y="472"/>
                    </a:lnTo>
                    <a:lnTo>
                      <a:pt x="807" y="516"/>
                    </a:lnTo>
                    <a:lnTo>
                      <a:pt x="768" y="530"/>
                    </a:lnTo>
                    <a:lnTo>
                      <a:pt x="715" y="543"/>
                    </a:lnTo>
                    <a:lnTo>
                      <a:pt x="649" y="565"/>
                    </a:lnTo>
                    <a:lnTo>
                      <a:pt x="583" y="574"/>
                    </a:lnTo>
                    <a:lnTo>
                      <a:pt x="494" y="583"/>
                    </a:lnTo>
                    <a:lnTo>
                      <a:pt x="405" y="583"/>
                    </a:lnTo>
                    <a:lnTo>
                      <a:pt x="326" y="583"/>
                    </a:lnTo>
                    <a:lnTo>
                      <a:pt x="246" y="569"/>
                    </a:lnTo>
                    <a:lnTo>
                      <a:pt x="167" y="552"/>
                    </a:lnTo>
                    <a:lnTo>
                      <a:pt x="101" y="538"/>
                    </a:lnTo>
                    <a:lnTo>
                      <a:pt x="0" y="51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26" name=""/>
            <p:cNvGrpSpPr/>
            <p:nvPr/>
          </p:nvGrpSpPr>
          <p:grpSpPr>
            <a:xfrm>
              <a:off x="4245120" y="2593800"/>
              <a:ext cx="284400" cy="225720"/>
              <a:chOff x="4245120" y="2593800"/>
              <a:chExt cx="284400" cy="225720"/>
            </a:xfrm>
          </p:grpSpPr>
          <p:grpSp>
            <p:nvGrpSpPr>
              <p:cNvPr id="627" name=""/>
              <p:cNvGrpSpPr/>
              <p:nvPr/>
            </p:nvGrpSpPr>
            <p:grpSpPr>
              <a:xfrm>
                <a:off x="4245120" y="2593800"/>
                <a:ext cx="241560" cy="225720"/>
                <a:chOff x="4245120" y="2593800"/>
                <a:chExt cx="241560" cy="225720"/>
              </a:xfrm>
            </p:grpSpPr>
            <p:sp>
              <p:nvSpPr>
                <p:cNvPr id="628" name=""/>
                <p:cNvSpPr/>
                <p:nvPr/>
              </p:nvSpPr>
              <p:spPr>
                <a:xfrm>
                  <a:off x="4282920" y="2604960"/>
                  <a:ext cx="74880" cy="41760"/>
                </a:xfrm>
                <a:custGeom>
                  <a:avLst/>
                  <a:gdLst/>
                  <a:ahLst/>
                  <a:rect l="0" t="0" r="r" b="b"/>
                  <a:pathLst>
                    <a:path fill="none" w="208" h="116">
                      <a:moveTo>
                        <a:pt x="0" y="116"/>
                      </a:moveTo>
                      <a:lnTo>
                        <a:pt x="35" y="75"/>
                      </a:lnTo>
                      <a:lnTo>
                        <a:pt x="70" y="40"/>
                      </a:lnTo>
                      <a:lnTo>
                        <a:pt x="101" y="17"/>
                      </a:lnTo>
                      <a:lnTo>
                        <a:pt x="120" y="8"/>
                      </a:lnTo>
                      <a:lnTo>
                        <a:pt x="168" y="0"/>
                      </a:lnTo>
                      <a:lnTo>
                        <a:pt x="208"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29" name=""/>
                <p:cNvSpPr/>
                <p:nvPr/>
              </p:nvSpPr>
              <p:spPr>
                <a:xfrm>
                  <a:off x="4433760" y="2593800"/>
                  <a:ext cx="52920" cy="25920"/>
                </a:xfrm>
                <a:custGeom>
                  <a:avLst/>
                  <a:gdLst/>
                  <a:ahLst/>
                  <a:rect l="0" t="0" r="r" b="b"/>
                  <a:pathLst>
                    <a:path fill="none" w="147" h="72">
                      <a:moveTo>
                        <a:pt x="0" y="0"/>
                      </a:moveTo>
                      <a:lnTo>
                        <a:pt x="26" y="0"/>
                      </a:lnTo>
                      <a:lnTo>
                        <a:pt x="49" y="4"/>
                      </a:lnTo>
                      <a:lnTo>
                        <a:pt x="84" y="17"/>
                      </a:lnTo>
                      <a:lnTo>
                        <a:pt x="121" y="40"/>
                      </a:lnTo>
                      <a:lnTo>
                        <a:pt x="147"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630" name=""/>
                <p:cNvSpPr/>
                <p:nvPr/>
              </p:nvSpPr>
              <p:spPr>
                <a:xfrm flipV="1">
                  <a:off x="4245120" y="2760840"/>
                  <a:ext cx="6192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631" name=""/>
                <p:cNvSpPr/>
                <p:nvPr/>
              </p:nvSpPr>
              <p:spPr>
                <a:xfrm flipV="1">
                  <a:off x="4251240" y="2778120"/>
                  <a:ext cx="54000" cy="41400"/>
                </a:xfrm>
                <a:prstGeom prst="line">
                  <a:avLst/>
                </a:prstGeom>
                <a:ln w="12600">
                  <a:solidFill>
                    <a:srgbClr val="000000"/>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grpSp>
          <p:grpSp>
            <p:nvGrpSpPr>
              <p:cNvPr id="632" name=""/>
              <p:cNvGrpSpPr/>
              <p:nvPr/>
            </p:nvGrpSpPr>
            <p:grpSpPr>
              <a:xfrm>
                <a:off x="4324320" y="2673360"/>
                <a:ext cx="205200" cy="62280"/>
                <a:chOff x="4324320" y="2673360"/>
                <a:chExt cx="205200" cy="62280"/>
              </a:xfrm>
            </p:grpSpPr>
            <p:sp>
              <p:nvSpPr>
                <p:cNvPr id="633" name=""/>
                <p:cNvSpPr/>
                <p:nvPr/>
              </p:nvSpPr>
              <p:spPr>
                <a:xfrm>
                  <a:off x="4324320" y="2682720"/>
                  <a:ext cx="79560" cy="36720"/>
                </a:xfrm>
                <a:custGeom>
                  <a:avLst/>
                  <a:gdLst/>
                  <a:ahLst/>
                  <a:rect l="0" t="0" r="r" b="b"/>
                  <a:pathLst>
                    <a:path fill="none" w="221" h="102">
                      <a:moveTo>
                        <a:pt x="221" y="0"/>
                      </a:moveTo>
                      <a:lnTo>
                        <a:pt x="181" y="22"/>
                      </a:lnTo>
                      <a:lnTo>
                        <a:pt x="120" y="53"/>
                      </a:lnTo>
                      <a:lnTo>
                        <a:pt x="88" y="71"/>
                      </a:lnTo>
                      <a:lnTo>
                        <a:pt x="30" y="89"/>
                      </a:lnTo>
                      <a:lnTo>
                        <a:pt x="0" y="102"/>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4" name=""/>
                <p:cNvSpPr/>
                <p:nvPr/>
              </p:nvSpPr>
              <p:spPr>
                <a:xfrm>
                  <a:off x="4457880" y="2673360"/>
                  <a:ext cx="71640" cy="25920"/>
                </a:xfrm>
                <a:custGeom>
                  <a:avLst/>
                  <a:gdLst/>
                  <a:ahLst/>
                  <a:rect l="0" t="0" r="r" b="b"/>
                  <a:pathLst>
                    <a:path fill="none" w="199" h="72">
                      <a:moveTo>
                        <a:pt x="0" y="0"/>
                      </a:moveTo>
                      <a:lnTo>
                        <a:pt x="26" y="13"/>
                      </a:lnTo>
                      <a:lnTo>
                        <a:pt x="57" y="27"/>
                      </a:lnTo>
                      <a:lnTo>
                        <a:pt x="97" y="45"/>
                      </a:lnTo>
                      <a:lnTo>
                        <a:pt x="124" y="59"/>
                      </a:lnTo>
                      <a:lnTo>
                        <a:pt x="155" y="63"/>
                      </a:lnTo>
                      <a:lnTo>
                        <a:pt x="181" y="72"/>
                      </a:lnTo>
                      <a:lnTo>
                        <a:pt x="199"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635" name=""/>
                <p:cNvGrpSpPr/>
                <p:nvPr/>
              </p:nvGrpSpPr>
              <p:grpSpPr>
                <a:xfrm>
                  <a:off x="4351320" y="2673360"/>
                  <a:ext cx="154440" cy="62280"/>
                  <a:chOff x="4351320" y="2673360"/>
                  <a:chExt cx="154440" cy="62280"/>
                </a:xfrm>
              </p:grpSpPr>
              <p:sp>
                <p:nvSpPr>
                  <p:cNvPr id="636" name=""/>
                  <p:cNvSpPr/>
                  <p:nvPr/>
                </p:nvSpPr>
                <p:spPr>
                  <a:xfrm>
                    <a:off x="4351320" y="2682720"/>
                    <a:ext cx="52920" cy="52920"/>
                  </a:xfrm>
                  <a:custGeom>
                    <a:avLst/>
                    <a:gdLst/>
                    <a:ahLst/>
                    <a:rect l="0" t="0" r="r" b="b"/>
                    <a:pathLst>
                      <a:path w="147" h="147">
                        <a:moveTo>
                          <a:pt x="147" y="0"/>
                        </a:moveTo>
                        <a:lnTo>
                          <a:pt x="147" y="26"/>
                        </a:lnTo>
                        <a:lnTo>
                          <a:pt x="147" y="62"/>
                        </a:lnTo>
                        <a:lnTo>
                          <a:pt x="147" y="98"/>
                        </a:lnTo>
                        <a:lnTo>
                          <a:pt x="147" y="116"/>
                        </a:lnTo>
                        <a:lnTo>
                          <a:pt x="134" y="134"/>
                        </a:lnTo>
                        <a:lnTo>
                          <a:pt x="106" y="147"/>
                        </a:lnTo>
                        <a:lnTo>
                          <a:pt x="84" y="147"/>
                        </a:lnTo>
                        <a:lnTo>
                          <a:pt x="45" y="147"/>
                        </a:lnTo>
                        <a:lnTo>
                          <a:pt x="13" y="138"/>
                        </a:lnTo>
                        <a:lnTo>
                          <a:pt x="4" y="125"/>
                        </a:lnTo>
                        <a:lnTo>
                          <a:pt x="0" y="102"/>
                        </a:lnTo>
                        <a:lnTo>
                          <a:pt x="0" y="89"/>
                        </a:lnTo>
                        <a:lnTo>
                          <a:pt x="4" y="80"/>
                        </a:lnTo>
                        <a:lnTo>
                          <a:pt x="45" y="58"/>
                        </a:lnTo>
                        <a:lnTo>
                          <a:pt x="80" y="40"/>
                        </a:lnTo>
                        <a:lnTo>
                          <a:pt x="116" y="17"/>
                        </a:lnTo>
                        <a:lnTo>
                          <a:pt x="147" y="0"/>
                        </a:lnTo>
                        <a:close/>
                      </a:path>
                    </a:pathLst>
                  </a:custGeom>
                  <a:solidFill>
                    <a:srgbClr val="ffffff"/>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637" name=""/>
                  <p:cNvSpPr/>
                  <p:nvPr/>
                </p:nvSpPr>
                <p:spPr>
                  <a:xfrm>
                    <a:off x="4454640" y="2673360"/>
                    <a:ext cx="51120" cy="49680"/>
                  </a:xfrm>
                  <a:custGeom>
                    <a:avLst/>
                    <a:gdLst/>
                    <a:ahLst/>
                    <a:rect l="0" t="0" r="r" b="b"/>
                    <a:pathLst>
                      <a:path w="142" h="138">
                        <a:moveTo>
                          <a:pt x="8" y="0"/>
                        </a:moveTo>
                        <a:lnTo>
                          <a:pt x="4" y="8"/>
                        </a:lnTo>
                        <a:lnTo>
                          <a:pt x="4" y="30"/>
                        </a:lnTo>
                        <a:lnTo>
                          <a:pt x="0" y="58"/>
                        </a:lnTo>
                        <a:lnTo>
                          <a:pt x="0" y="84"/>
                        </a:lnTo>
                        <a:lnTo>
                          <a:pt x="4" y="107"/>
                        </a:lnTo>
                        <a:lnTo>
                          <a:pt x="8" y="112"/>
                        </a:lnTo>
                        <a:lnTo>
                          <a:pt x="26" y="129"/>
                        </a:lnTo>
                        <a:lnTo>
                          <a:pt x="57" y="138"/>
                        </a:lnTo>
                        <a:lnTo>
                          <a:pt x="98" y="134"/>
                        </a:lnTo>
                        <a:lnTo>
                          <a:pt x="124" y="121"/>
                        </a:lnTo>
                        <a:lnTo>
                          <a:pt x="133" y="107"/>
                        </a:lnTo>
                        <a:lnTo>
                          <a:pt x="137" y="93"/>
                        </a:lnTo>
                        <a:lnTo>
                          <a:pt x="142" y="75"/>
                        </a:lnTo>
                        <a:lnTo>
                          <a:pt x="137" y="62"/>
                        </a:lnTo>
                        <a:lnTo>
                          <a:pt x="133" y="58"/>
                        </a:lnTo>
                        <a:lnTo>
                          <a:pt x="102" y="45"/>
                        </a:lnTo>
                        <a:lnTo>
                          <a:pt x="70" y="30"/>
                        </a:lnTo>
                        <a:lnTo>
                          <a:pt x="44" y="17"/>
                        </a:lnTo>
                        <a:lnTo>
                          <a:pt x="8"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638" name=""/>
                  <p:cNvGrpSpPr/>
                  <p:nvPr/>
                </p:nvGrpSpPr>
                <p:grpSpPr>
                  <a:xfrm>
                    <a:off x="4368960" y="2695680"/>
                    <a:ext cx="17640" cy="28440"/>
                    <a:chOff x="4368960" y="2695680"/>
                    <a:chExt cx="17640" cy="28440"/>
                  </a:xfrm>
                </p:grpSpPr>
                <p:sp>
                  <p:nvSpPr>
                    <p:cNvPr id="639" name=""/>
                    <p:cNvSpPr/>
                    <p:nvPr/>
                  </p:nvSpPr>
                  <p:spPr>
                    <a:xfrm>
                      <a:off x="4368960" y="269568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640" name=""/>
                    <p:cNvSpPr/>
                    <p:nvPr/>
                  </p:nvSpPr>
                  <p:spPr>
                    <a:xfrm rot="10800000">
                      <a:off x="4371840" y="2703600"/>
                      <a:ext cx="64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641" name=""/>
                  <p:cNvGrpSpPr/>
                  <p:nvPr/>
                </p:nvGrpSpPr>
                <p:grpSpPr>
                  <a:xfrm>
                    <a:off x="4467240" y="2682720"/>
                    <a:ext cx="17640" cy="28440"/>
                    <a:chOff x="4467240" y="2682720"/>
                    <a:chExt cx="17640" cy="28440"/>
                  </a:xfrm>
                </p:grpSpPr>
                <p:sp>
                  <p:nvSpPr>
                    <p:cNvPr id="642" name=""/>
                    <p:cNvSpPr/>
                    <p:nvPr/>
                  </p:nvSpPr>
                  <p:spPr>
                    <a:xfrm>
                      <a:off x="4467240" y="268272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643" name=""/>
                    <p:cNvSpPr/>
                    <p:nvPr/>
                  </p:nvSpPr>
                  <p:spPr>
                    <a:xfrm rot="10800000">
                      <a:off x="4470480" y="2692440"/>
                      <a:ext cx="46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grpSp>
        </p:grpSp>
        <p:grpSp>
          <p:nvGrpSpPr>
            <p:cNvPr id="644" name=""/>
            <p:cNvGrpSpPr/>
            <p:nvPr/>
          </p:nvGrpSpPr>
          <p:grpSpPr>
            <a:xfrm>
              <a:off x="4265640" y="2940120"/>
              <a:ext cx="316440" cy="171720"/>
              <a:chOff x="4265640" y="2940120"/>
              <a:chExt cx="316440" cy="171720"/>
            </a:xfrm>
          </p:grpSpPr>
          <p:sp>
            <p:nvSpPr>
              <p:cNvPr id="645" name=""/>
              <p:cNvSpPr/>
              <p:nvPr/>
            </p:nvSpPr>
            <p:spPr>
              <a:xfrm>
                <a:off x="4313160" y="3029040"/>
                <a:ext cx="60840" cy="59040"/>
              </a:xfrm>
              <a:custGeom>
                <a:avLst/>
                <a:gdLst/>
                <a:ahLst/>
                <a:rect l="0" t="0" r="r" b="b"/>
                <a:pathLst>
                  <a:path w="169" h="164">
                    <a:moveTo>
                      <a:pt x="30" y="0"/>
                    </a:moveTo>
                    <a:lnTo>
                      <a:pt x="8" y="22"/>
                    </a:lnTo>
                    <a:lnTo>
                      <a:pt x="0" y="57"/>
                    </a:lnTo>
                    <a:lnTo>
                      <a:pt x="0" y="84"/>
                    </a:lnTo>
                    <a:lnTo>
                      <a:pt x="0" y="111"/>
                    </a:lnTo>
                    <a:lnTo>
                      <a:pt x="8" y="128"/>
                    </a:lnTo>
                    <a:lnTo>
                      <a:pt x="17" y="142"/>
                    </a:lnTo>
                    <a:lnTo>
                      <a:pt x="30" y="150"/>
                    </a:lnTo>
                    <a:lnTo>
                      <a:pt x="39" y="159"/>
                    </a:lnTo>
                    <a:lnTo>
                      <a:pt x="62" y="164"/>
                    </a:lnTo>
                    <a:lnTo>
                      <a:pt x="80" y="164"/>
                    </a:lnTo>
                    <a:lnTo>
                      <a:pt x="98" y="159"/>
                    </a:lnTo>
                    <a:lnTo>
                      <a:pt x="129" y="150"/>
                    </a:lnTo>
                    <a:lnTo>
                      <a:pt x="156" y="124"/>
                    </a:lnTo>
                    <a:lnTo>
                      <a:pt x="169" y="106"/>
                    </a:lnTo>
                    <a:lnTo>
                      <a:pt x="169" y="98"/>
                    </a:lnTo>
                    <a:lnTo>
                      <a:pt x="143" y="74"/>
                    </a:lnTo>
                    <a:lnTo>
                      <a:pt x="98" y="48"/>
                    </a:lnTo>
                    <a:lnTo>
                      <a:pt x="53" y="17"/>
                    </a:lnTo>
                    <a:lnTo>
                      <a:pt x="30" y="0"/>
                    </a:lnTo>
                    <a:close/>
                  </a:path>
                </a:pathLst>
              </a:custGeom>
              <a:solidFill>
                <a:srgbClr val="ff404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646" name=""/>
              <p:cNvSpPr/>
              <p:nvPr/>
            </p:nvSpPr>
            <p:spPr>
              <a:xfrm>
                <a:off x="4265640" y="2940120"/>
                <a:ext cx="316440" cy="171720"/>
              </a:xfrm>
              <a:custGeom>
                <a:avLst/>
                <a:gdLst/>
                <a:ahLst/>
                <a:rect l="0" t="0" r="r" b="b"/>
                <a:pathLst>
                  <a:path fill="none" w="879" h="477">
                    <a:moveTo>
                      <a:pt x="0" y="74"/>
                    </a:moveTo>
                    <a:lnTo>
                      <a:pt x="35" y="136"/>
                    </a:lnTo>
                    <a:lnTo>
                      <a:pt x="79" y="185"/>
                    </a:lnTo>
                    <a:lnTo>
                      <a:pt x="180" y="261"/>
                    </a:lnTo>
                    <a:lnTo>
                      <a:pt x="296" y="336"/>
                    </a:lnTo>
                    <a:lnTo>
                      <a:pt x="371" y="380"/>
                    </a:lnTo>
                    <a:lnTo>
                      <a:pt x="437" y="419"/>
                    </a:lnTo>
                    <a:lnTo>
                      <a:pt x="499" y="450"/>
                    </a:lnTo>
                    <a:lnTo>
                      <a:pt x="583" y="477"/>
                    </a:lnTo>
                    <a:lnTo>
                      <a:pt x="631" y="477"/>
                    </a:lnTo>
                    <a:lnTo>
                      <a:pt x="694" y="446"/>
                    </a:lnTo>
                    <a:lnTo>
                      <a:pt x="747" y="393"/>
                    </a:lnTo>
                    <a:lnTo>
                      <a:pt x="813" y="314"/>
                    </a:lnTo>
                    <a:lnTo>
                      <a:pt x="848" y="229"/>
                    </a:lnTo>
                    <a:lnTo>
                      <a:pt x="870" y="171"/>
                    </a:lnTo>
                    <a:lnTo>
                      <a:pt x="879" y="97"/>
                    </a:lnTo>
                    <a:lnTo>
                      <a:pt x="879" y="39"/>
                    </a:lnTo>
                    <a:lnTo>
                      <a:pt x="87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47" name=""/>
            <p:cNvGrpSpPr/>
            <p:nvPr/>
          </p:nvGrpSpPr>
          <p:grpSpPr>
            <a:xfrm>
              <a:off x="4129200" y="2911320"/>
              <a:ext cx="658800" cy="180000"/>
              <a:chOff x="4129200" y="2911320"/>
              <a:chExt cx="658800" cy="180000"/>
            </a:xfrm>
          </p:grpSpPr>
          <p:sp>
            <p:nvSpPr>
              <p:cNvPr id="648" name=""/>
              <p:cNvSpPr/>
              <p:nvPr/>
            </p:nvSpPr>
            <p:spPr>
              <a:xfrm>
                <a:off x="4129200" y="2911320"/>
                <a:ext cx="249480" cy="41760"/>
              </a:xfrm>
              <a:custGeom>
                <a:avLst/>
                <a:gdLst/>
                <a:ahLst/>
                <a:rect l="0" t="0" r="r" b="b"/>
                <a:pathLst>
                  <a:path fill="none" w="693" h="116">
                    <a:moveTo>
                      <a:pt x="0" y="116"/>
                    </a:moveTo>
                    <a:lnTo>
                      <a:pt x="211" y="53"/>
                    </a:lnTo>
                    <a:lnTo>
                      <a:pt x="389" y="36"/>
                    </a:lnTo>
                    <a:lnTo>
                      <a:pt x="618" y="0"/>
                    </a:lnTo>
                    <a:lnTo>
                      <a:pt x="693" y="4"/>
                    </a:lnTo>
                  </a:path>
                </a:pathLst>
              </a:custGeom>
              <a:ln w="12600">
                <a:solidFill>
                  <a:srgbClr val="804000"/>
                </a:solidFill>
                <a:round/>
              </a:ln>
            </p:spPr>
            <p:txBody>
              <a:bodyPr lIns="96120" rIns="96120" tIns="-9360" bIns="-9360" anchor="t">
                <a:noAutofit/>
              </a:bodyPr>
              <a:p>
                <a:endParaRPr b="0" lang="en-US" sz="1800" spc="-1" strike="noStrike">
                  <a:solidFill>
                    <a:srgbClr val="000000"/>
                  </a:solidFill>
                  <a:latin typeface="Arial"/>
                </a:endParaRPr>
              </a:p>
            </p:txBody>
          </p:sp>
          <p:sp>
            <p:nvSpPr>
              <p:cNvPr id="649" name=""/>
              <p:cNvSpPr/>
              <p:nvPr/>
            </p:nvSpPr>
            <p:spPr>
              <a:xfrm>
                <a:off x="4189320" y="2919240"/>
                <a:ext cx="203400" cy="95760"/>
              </a:xfrm>
              <a:custGeom>
                <a:avLst/>
                <a:gdLst/>
                <a:ahLst/>
                <a:rect l="0" t="0" r="r" b="b"/>
                <a:pathLst>
                  <a:path fill="none" w="565" h="266">
                    <a:moveTo>
                      <a:pt x="0" y="266"/>
                    </a:moveTo>
                    <a:lnTo>
                      <a:pt x="211" y="172"/>
                    </a:lnTo>
                    <a:lnTo>
                      <a:pt x="411" y="80"/>
                    </a:lnTo>
                    <a:lnTo>
                      <a:pt x="565" y="0"/>
                    </a:lnTo>
                  </a:path>
                </a:pathLst>
              </a:custGeom>
              <a:ln w="12600">
                <a:solidFill>
                  <a:srgbClr val="804000"/>
                </a:solidFill>
                <a:round/>
              </a:ln>
            </p:spPr>
            <p:txBody>
              <a:bodyPr lIns="96120" rIns="96120" tIns="44640" bIns="44640" anchor="t">
                <a:noAutofit/>
              </a:bodyPr>
              <a:p>
                <a:endParaRPr b="0" lang="en-US" sz="1800" spc="-1" strike="noStrike">
                  <a:solidFill>
                    <a:srgbClr val="000000"/>
                  </a:solidFill>
                  <a:latin typeface="Arial"/>
                </a:endParaRPr>
              </a:p>
            </p:txBody>
          </p:sp>
          <p:sp>
            <p:nvSpPr>
              <p:cNvPr id="650" name=""/>
              <p:cNvSpPr/>
              <p:nvPr/>
            </p:nvSpPr>
            <p:spPr>
              <a:xfrm>
                <a:off x="4255920" y="2928960"/>
                <a:ext cx="163800" cy="162360"/>
              </a:xfrm>
              <a:custGeom>
                <a:avLst/>
                <a:gdLst/>
                <a:ahLst/>
                <a:rect l="0" t="0" r="r" b="b"/>
                <a:pathLst>
                  <a:path fill="none" w="455" h="451">
                    <a:moveTo>
                      <a:pt x="0" y="451"/>
                    </a:moveTo>
                    <a:lnTo>
                      <a:pt x="189" y="261"/>
                    </a:lnTo>
                    <a:lnTo>
                      <a:pt x="358" y="88"/>
                    </a:lnTo>
                    <a:lnTo>
                      <a:pt x="455" y="0"/>
                    </a:lnTo>
                  </a:path>
                </a:pathLst>
              </a:custGeom>
              <a:ln w="12600">
                <a:solidFill>
                  <a:srgbClr val="804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4567320" y="2943360"/>
                <a:ext cx="173520" cy="93960"/>
              </a:xfrm>
              <a:custGeom>
                <a:avLst/>
                <a:gdLst/>
                <a:ahLst/>
                <a:rect l="0" t="0" r="r" b="b"/>
                <a:pathLst>
                  <a:path fill="none" w="482" h="261">
                    <a:moveTo>
                      <a:pt x="0" y="0"/>
                    </a:moveTo>
                    <a:lnTo>
                      <a:pt x="150" y="17"/>
                    </a:lnTo>
                    <a:lnTo>
                      <a:pt x="269" y="44"/>
                    </a:lnTo>
                    <a:lnTo>
                      <a:pt x="368" y="123"/>
                    </a:lnTo>
                    <a:lnTo>
                      <a:pt x="451" y="221"/>
                    </a:lnTo>
                    <a:lnTo>
                      <a:pt x="482" y="261"/>
                    </a:lnTo>
                  </a:path>
                </a:pathLst>
              </a:custGeom>
              <a:ln w="12600">
                <a:solidFill>
                  <a:srgbClr val="804000"/>
                </a:solidFill>
                <a:round/>
              </a:ln>
            </p:spPr>
            <p:txBody>
              <a:bodyPr lIns="96120" rIns="96120" tIns="42840" bIns="42840" anchor="t">
                <a:noAutofit/>
              </a:bodyPr>
              <a:p>
                <a:endParaRPr b="0" lang="en-US" sz="1800" spc="-1" strike="noStrike">
                  <a:solidFill>
                    <a:srgbClr val="000000"/>
                  </a:solidFill>
                  <a:latin typeface="Arial"/>
                </a:endParaRPr>
              </a:p>
            </p:txBody>
          </p:sp>
          <p:sp>
            <p:nvSpPr>
              <p:cNvPr id="652" name=""/>
              <p:cNvSpPr/>
              <p:nvPr/>
            </p:nvSpPr>
            <p:spPr>
              <a:xfrm>
                <a:off x="4611600" y="2930400"/>
                <a:ext cx="176400" cy="46440"/>
              </a:xfrm>
              <a:custGeom>
                <a:avLst/>
                <a:gdLst/>
                <a:ahLst/>
                <a:rect l="0" t="0" r="r" b="b"/>
                <a:pathLst>
                  <a:path fill="none" w="490" h="129">
                    <a:moveTo>
                      <a:pt x="0" y="0"/>
                    </a:moveTo>
                    <a:lnTo>
                      <a:pt x="176" y="0"/>
                    </a:lnTo>
                    <a:lnTo>
                      <a:pt x="305" y="8"/>
                    </a:lnTo>
                    <a:lnTo>
                      <a:pt x="424" y="67"/>
                    </a:lnTo>
                    <a:lnTo>
                      <a:pt x="490" y="129"/>
                    </a:lnTo>
                  </a:path>
                </a:pathLst>
              </a:custGeom>
              <a:ln w="12600">
                <a:solidFill>
                  <a:srgbClr val="804000"/>
                </a:solidFill>
                <a:round/>
              </a:ln>
            </p:spPr>
            <p:txBody>
              <a:bodyPr lIns="96120" rIns="96120" tIns="-4680" bIns="-4680" anchor="t">
                <a:noAutofit/>
              </a:bodyPr>
              <a:p>
                <a:endParaRPr b="0" lang="en-US" sz="1800" spc="-1" strike="noStrike">
                  <a:solidFill>
                    <a:srgbClr val="000000"/>
                  </a:solidFill>
                  <a:latin typeface="Arial"/>
                </a:endParaRPr>
              </a:p>
            </p:txBody>
          </p:sp>
        </p:grpSp>
      </p:grpSp>
      <p:grpSp>
        <p:nvGrpSpPr>
          <p:cNvPr id="653" name=""/>
          <p:cNvGrpSpPr/>
          <p:nvPr/>
        </p:nvGrpSpPr>
        <p:grpSpPr>
          <a:xfrm>
            <a:off x="5307120" y="3479760"/>
            <a:ext cx="279720" cy="332280"/>
            <a:chOff x="5307120" y="3479760"/>
            <a:chExt cx="279720" cy="332280"/>
          </a:xfrm>
        </p:grpSpPr>
        <p:sp>
          <p:nvSpPr>
            <p:cNvPr id="654" name=""/>
            <p:cNvSpPr/>
            <p:nvPr/>
          </p:nvSpPr>
          <p:spPr>
            <a:xfrm>
              <a:off x="5310360" y="3568680"/>
              <a:ext cx="262440" cy="117720"/>
            </a:xfrm>
            <a:custGeom>
              <a:avLst/>
              <a:gdLst/>
              <a:ahLst/>
              <a:rect l="0" t="0" r="r" b="b"/>
              <a:pathLst>
                <a:path w="729" h="327">
                  <a:moveTo>
                    <a:pt x="632" y="8"/>
                  </a:moveTo>
                  <a:lnTo>
                    <a:pt x="562" y="0"/>
                  </a:lnTo>
                  <a:lnTo>
                    <a:pt x="450" y="8"/>
                  </a:lnTo>
                  <a:lnTo>
                    <a:pt x="318" y="30"/>
                  </a:lnTo>
                  <a:lnTo>
                    <a:pt x="186" y="61"/>
                  </a:lnTo>
                  <a:lnTo>
                    <a:pt x="97" y="92"/>
                  </a:lnTo>
                  <a:lnTo>
                    <a:pt x="35" y="114"/>
                  </a:lnTo>
                  <a:lnTo>
                    <a:pt x="4" y="158"/>
                  </a:lnTo>
                  <a:lnTo>
                    <a:pt x="0" y="199"/>
                  </a:lnTo>
                  <a:lnTo>
                    <a:pt x="4" y="239"/>
                  </a:lnTo>
                  <a:lnTo>
                    <a:pt x="39" y="292"/>
                  </a:lnTo>
                  <a:lnTo>
                    <a:pt x="79" y="309"/>
                  </a:lnTo>
                  <a:lnTo>
                    <a:pt x="149" y="327"/>
                  </a:lnTo>
                  <a:lnTo>
                    <a:pt x="225" y="322"/>
                  </a:lnTo>
                  <a:lnTo>
                    <a:pt x="353" y="292"/>
                  </a:lnTo>
                  <a:lnTo>
                    <a:pt x="508" y="269"/>
                  </a:lnTo>
                  <a:lnTo>
                    <a:pt x="614" y="239"/>
                  </a:lnTo>
                  <a:lnTo>
                    <a:pt x="676" y="208"/>
                  </a:lnTo>
                  <a:lnTo>
                    <a:pt x="707" y="190"/>
                  </a:lnTo>
                  <a:lnTo>
                    <a:pt x="729" y="149"/>
                  </a:lnTo>
                  <a:lnTo>
                    <a:pt x="729" y="110"/>
                  </a:lnTo>
                  <a:lnTo>
                    <a:pt x="725" y="61"/>
                  </a:lnTo>
                  <a:lnTo>
                    <a:pt x="694" y="22"/>
                  </a:lnTo>
                  <a:lnTo>
                    <a:pt x="632" y="8"/>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5307120" y="3479760"/>
              <a:ext cx="244800" cy="124200"/>
            </a:xfrm>
            <a:custGeom>
              <a:avLst/>
              <a:gdLst/>
              <a:ahLst/>
              <a:rect l="0" t="0" r="r" b="b"/>
              <a:pathLst>
                <a:path w="680" h="345">
                  <a:moveTo>
                    <a:pt x="508" y="0"/>
                  </a:moveTo>
                  <a:lnTo>
                    <a:pt x="411" y="0"/>
                  </a:lnTo>
                  <a:lnTo>
                    <a:pt x="321" y="17"/>
                  </a:lnTo>
                  <a:lnTo>
                    <a:pt x="255" y="26"/>
                  </a:lnTo>
                  <a:lnTo>
                    <a:pt x="167" y="48"/>
                  </a:lnTo>
                  <a:lnTo>
                    <a:pt x="88" y="83"/>
                  </a:lnTo>
                  <a:lnTo>
                    <a:pt x="30" y="124"/>
                  </a:lnTo>
                  <a:lnTo>
                    <a:pt x="8" y="159"/>
                  </a:lnTo>
                  <a:lnTo>
                    <a:pt x="0" y="199"/>
                  </a:lnTo>
                  <a:lnTo>
                    <a:pt x="8" y="239"/>
                  </a:lnTo>
                  <a:lnTo>
                    <a:pt x="30" y="275"/>
                  </a:lnTo>
                  <a:lnTo>
                    <a:pt x="48" y="310"/>
                  </a:lnTo>
                  <a:lnTo>
                    <a:pt x="92" y="345"/>
                  </a:lnTo>
                  <a:lnTo>
                    <a:pt x="163" y="345"/>
                  </a:lnTo>
                  <a:lnTo>
                    <a:pt x="273" y="328"/>
                  </a:lnTo>
                  <a:lnTo>
                    <a:pt x="375" y="306"/>
                  </a:lnTo>
                  <a:lnTo>
                    <a:pt x="508" y="270"/>
                  </a:lnTo>
                  <a:lnTo>
                    <a:pt x="609" y="239"/>
                  </a:lnTo>
                  <a:lnTo>
                    <a:pt x="658" y="195"/>
                  </a:lnTo>
                  <a:lnTo>
                    <a:pt x="680" y="142"/>
                  </a:lnTo>
                  <a:lnTo>
                    <a:pt x="680" y="102"/>
                  </a:lnTo>
                  <a:lnTo>
                    <a:pt x="658" y="61"/>
                  </a:lnTo>
                  <a:lnTo>
                    <a:pt x="622" y="35"/>
                  </a:lnTo>
                  <a:lnTo>
                    <a:pt x="574" y="13"/>
                  </a:lnTo>
                  <a:lnTo>
                    <a:pt x="508"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5327640" y="3654360"/>
              <a:ext cx="259200" cy="157680"/>
            </a:xfrm>
            <a:custGeom>
              <a:avLst/>
              <a:gdLst/>
              <a:ahLst/>
              <a:rect l="0" t="0" r="r" b="b"/>
              <a:pathLst>
                <a:path w="720" h="438">
                  <a:moveTo>
                    <a:pt x="17" y="133"/>
                  </a:moveTo>
                  <a:lnTo>
                    <a:pt x="57" y="97"/>
                  </a:lnTo>
                  <a:lnTo>
                    <a:pt x="123" y="70"/>
                  </a:lnTo>
                  <a:lnTo>
                    <a:pt x="252" y="39"/>
                  </a:lnTo>
                  <a:lnTo>
                    <a:pt x="371" y="17"/>
                  </a:lnTo>
                  <a:lnTo>
                    <a:pt x="508" y="0"/>
                  </a:lnTo>
                  <a:lnTo>
                    <a:pt x="575" y="4"/>
                  </a:lnTo>
                  <a:lnTo>
                    <a:pt x="659" y="35"/>
                  </a:lnTo>
                  <a:lnTo>
                    <a:pt x="711" y="83"/>
                  </a:lnTo>
                  <a:lnTo>
                    <a:pt x="720" y="137"/>
                  </a:lnTo>
                  <a:lnTo>
                    <a:pt x="694" y="217"/>
                  </a:lnTo>
                  <a:lnTo>
                    <a:pt x="614" y="305"/>
                  </a:lnTo>
                  <a:lnTo>
                    <a:pt x="548" y="363"/>
                  </a:lnTo>
                  <a:lnTo>
                    <a:pt x="468" y="394"/>
                  </a:lnTo>
                  <a:lnTo>
                    <a:pt x="367" y="429"/>
                  </a:lnTo>
                  <a:lnTo>
                    <a:pt x="239" y="438"/>
                  </a:lnTo>
                  <a:lnTo>
                    <a:pt x="176" y="438"/>
                  </a:lnTo>
                  <a:lnTo>
                    <a:pt x="234" y="345"/>
                  </a:lnTo>
                  <a:lnTo>
                    <a:pt x="123" y="322"/>
                  </a:lnTo>
                  <a:lnTo>
                    <a:pt x="61" y="305"/>
                  </a:lnTo>
                  <a:lnTo>
                    <a:pt x="17" y="278"/>
                  </a:lnTo>
                  <a:lnTo>
                    <a:pt x="0" y="243"/>
                  </a:lnTo>
                  <a:lnTo>
                    <a:pt x="0" y="181"/>
                  </a:lnTo>
                  <a:lnTo>
                    <a:pt x="17" y="13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57" name=""/>
          <p:cNvSpPr/>
          <p:nvPr/>
        </p:nvSpPr>
        <p:spPr>
          <a:xfrm>
            <a:off x="3781440" y="3746520"/>
            <a:ext cx="124200" cy="298800"/>
          </a:xfrm>
          <a:custGeom>
            <a:avLst/>
            <a:gdLst/>
            <a:ahLst/>
            <a:rect l="0" t="0" r="r" b="b"/>
            <a:pathLst>
              <a:path w="345" h="830">
                <a:moveTo>
                  <a:pt x="345" y="51"/>
                </a:moveTo>
                <a:lnTo>
                  <a:pt x="213" y="0"/>
                </a:lnTo>
                <a:lnTo>
                  <a:pt x="0" y="766"/>
                </a:lnTo>
                <a:lnTo>
                  <a:pt x="115" y="830"/>
                </a:lnTo>
                <a:lnTo>
                  <a:pt x="345" y="51"/>
                </a:lnTo>
                <a:close/>
              </a:path>
            </a:pathLst>
          </a:custGeom>
          <a:gradFill rotWithShape="0">
            <a:gsLst>
              <a:gs pos="0">
                <a:srgbClr val="ffffff"/>
              </a:gs>
              <a:gs pos="100000">
                <a:srgbClr val="4c4c4c"/>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4870440" y="2736720"/>
            <a:ext cx="857520" cy="501840"/>
          </a:xfrm>
          <a:custGeom>
            <a:avLst/>
            <a:gdLst/>
            <a:ahLst/>
            <a:rect l="0" t="0" r="r" b="b"/>
            <a:pathLst>
              <a:path w="2382" h="1394">
                <a:moveTo>
                  <a:pt x="1171" y="1394"/>
                </a:moveTo>
                <a:lnTo>
                  <a:pt x="1096" y="976"/>
                </a:lnTo>
                <a:lnTo>
                  <a:pt x="661" y="1185"/>
                </a:lnTo>
                <a:lnTo>
                  <a:pt x="0" y="929"/>
                </a:lnTo>
                <a:lnTo>
                  <a:pt x="548" y="603"/>
                </a:lnTo>
                <a:lnTo>
                  <a:pt x="1286" y="348"/>
                </a:lnTo>
                <a:lnTo>
                  <a:pt x="1777" y="0"/>
                </a:lnTo>
                <a:lnTo>
                  <a:pt x="2363" y="185"/>
                </a:lnTo>
                <a:lnTo>
                  <a:pt x="2382" y="418"/>
                </a:lnTo>
                <a:lnTo>
                  <a:pt x="1796" y="696"/>
                </a:lnTo>
                <a:lnTo>
                  <a:pt x="1267" y="906"/>
                </a:lnTo>
                <a:lnTo>
                  <a:pt x="1342" y="1301"/>
                </a:lnTo>
                <a:lnTo>
                  <a:pt x="1171" y="1394"/>
                </a:lnTo>
                <a:close/>
              </a:path>
            </a:pathLst>
          </a:custGeom>
          <a:gradFill rotWithShape="0">
            <a:gsLst>
              <a:gs pos="0">
                <a:srgbClr val="ffffff"/>
              </a:gs>
              <a:gs pos="100000">
                <a:srgbClr val="4c4c4c"/>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3930480" y="2921040"/>
            <a:ext cx="698760" cy="635400"/>
          </a:xfrm>
          <a:custGeom>
            <a:avLst/>
            <a:gdLst/>
            <a:ahLst/>
            <a:rect l="0" t="0" r="r" b="b"/>
            <a:pathLst>
              <a:path w="1941" h="1765">
                <a:moveTo>
                  <a:pt x="92" y="1765"/>
                </a:moveTo>
                <a:lnTo>
                  <a:pt x="50" y="1691"/>
                </a:lnTo>
                <a:lnTo>
                  <a:pt x="0" y="1641"/>
                </a:lnTo>
                <a:lnTo>
                  <a:pt x="143" y="1317"/>
                </a:lnTo>
                <a:lnTo>
                  <a:pt x="658" y="945"/>
                </a:lnTo>
                <a:lnTo>
                  <a:pt x="1350" y="622"/>
                </a:lnTo>
                <a:lnTo>
                  <a:pt x="1856" y="0"/>
                </a:lnTo>
                <a:lnTo>
                  <a:pt x="1941" y="124"/>
                </a:lnTo>
                <a:lnTo>
                  <a:pt x="1409" y="746"/>
                </a:lnTo>
                <a:lnTo>
                  <a:pt x="691" y="1118"/>
                </a:lnTo>
                <a:lnTo>
                  <a:pt x="236" y="1418"/>
                </a:lnTo>
                <a:lnTo>
                  <a:pt x="92" y="1765"/>
                </a:lnTo>
                <a:close/>
              </a:path>
            </a:pathLst>
          </a:custGeom>
          <a:gradFill rotWithShape="0">
            <a:gsLst>
              <a:gs pos="0">
                <a:srgbClr val="ffffff"/>
              </a:gs>
              <a:gs pos="100000">
                <a:srgbClr val="4c4c4c"/>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5416560" y="3759120"/>
            <a:ext cx="159120" cy="356040"/>
          </a:xfrm>
          <a:custGeom>
            <a:avLst/>
            <a:gdLst/>
            <a:ahLst/>
            <a:rect l="0" t="0" r="r" b="b"/>
            <a:pathLst>
              <a:path w="442" h="989">
                <a:moveTo>
                  <a:pt x="0" y="17"/>
                </a:moveTo>
                <a:lnTo>
                  <a:pt x="177" y="989"/>
                </a:lnTo>
                <a:lnTo>
                  <a:pt x="300" y="989"/>
                </a:lnTo>
                <a:lnTo>
                  <a:pt x="442" y="919"/>
                </a:lnTo>
                <a:lnTo>
                  <a:pt x="442" y="848"/>
                </a:lnTo>
                <a:lnTo>
                  <a:pt x="177" y="35"/>
                </a:lnTo>
                <a:lnTo>
                  <a:pt x="142" y="0"/>
                </a:lnTo>
                <a:lnTo>
                  <a:pt x="105" y="17"/>
                </a:lnTo>
                <a:lnTo>
                  <a:pt x="0" y="17"/>
                </a:lnTo>
                <a:close/>
              </a:path>
            </a:pathLst>
          </a:custGeom>
          <a:gradFill rotWithShape="0">
            <a:gsLst>
              <a:gs pos="0">
                <a:srgbClr val="ffffff"/>
              </a:gs>
              <a:gs pos="100000">
                <a:srgbClr val="4c4c4c"/>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1" name=""/>
          <p:cNvGrpSpPr/>
          <p:nvPr/>
        </p:nvGrpSpPr>
        <p:grpSpPr>
          <a:xfrm>
            <a:off x="3767040" y="3490920"/>
            <a:ext cx="268560" cy="319320"/>
            <a:chOff x="3767040" y="3490920"/>
            <a:chExt cx="268560" cy="319320"/>
          </a:xfrm>
        </p:grpSpPr>
        <p:sp>
          <p:nvSpPr>
            <p:cNvPr id="662" name=""/>
            <p:cNvSpPr/>
            <p:nvPr/>
          </p:nvSpPr>
          <p:spPr>
            <a:xfrm>
              <a:off x="3778200" y="3578400"/>
              <a:ext cx="257400" cy="117720"/>
            </a:xfrm>
            <a:custGeom>
              <a:avLst/>
              <a:gdLst/>
              <a:ahLst/>
              <a:rect l="0" t="0" r="r" b="b"/>
              <a:pathLst>
                <a:path w="715" h="327">
                  <a:moveTo>
                    <a:pt x="653" y="97"/>
                  </a:moveTo>
                  <a:lnTo>
                    <a:pt x="596" y="79"/>
                  </a:lnTo>
                  <a:lnTo>
                    <a:pt x="494" y="48"/>
                  </a:lnTo>
                  <a:lnTo>
                    <a:pt x="415" y="30"/>
                  </a:lnTo>
                  <a:lnTo>
                    <a:pt x="330" y="8"/>
                  </a:lnTo>
                  <a:lnTo>
                    <a:pt x="233" y="0"/>
                  </a:lnTo>
                  <a:lnTo>
                    <a:pt x="132" y="4"/>
                  </a:lnTo>
                  <a:lnTo>
                    <a:pt x="83" y="8"/>
                  </a:lnTo>
                  <a:lnTo>
                    <a:pt x="44" y="22"/>
                  </a:lnTo>
                  <a:lnTo>
                    <a:pt x="13" y="52"/>
                  </a:lnTo>
                  <a:lnTo>
                    <a:pt x="0" y="83"/>
                  </a:lnTo>
                  <a:lnTo>
                    <a:pt x="0" y="132"/>
                  </a:lnTo>
                  <a:lnTo>
                    <a:pt x="17" y="186"/>
                  </a:lnTo>
                  <a:lnTo>
                    <a:pt x="35" y="208"/>
                  </a:lnTo>
                  <a:lnTo>
                    <a:pt x="66" y="234"/>
                  </a:lnTo>
                  <a:lnTo>
                    <a:pt x="145" y="247"/>
                  </a:lnTo>
                  <a:lnTo>
                    <a:pt x="229" y="269"/>
                  </a:lnTo>
                  <a:lnTo>
                    <a:pt x="358" y="292"/>
                  </a:lnTo>
                  <a:lnTo>
                    <a:pt x="508" y="327"/>
                  </a:lnTo>
                  <a:lnTo>
                    <a:pt x="596" y="327"/>
                  </a:lnTo>
                  <a:lnTo>
                    <a:pt x="671" y="292"/>
                  </a:lnTo>
                  <a:lnTo>
                    <a:pt x="706" y="243"/>
                  </a:lnTo>
                  <a:lnTo>
                    <a:pt x="715" y="199"/>
                  </a:lnTo>
                  <a:lnTo>
                    <a:pt x="715" y="164"/>
                  </a:lnTo>
                  <a:lnTo>
                    <a:pt x="702" y="132"/>
                  </a:lnTo>
                  <a:lnTo>
                    <a:pt x="653" y="97"/>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800520" y="3490920"/>
              <a:ext cx="233640" cy="116280"/>
            </a:xfrm>
            <a:custGeom>
              <a:avLst/>
              <a:gdLst/>
              <a:ahLst/>
              <a:rect l="0" t="0" r="r" b="b"/>
              <a:pathLst>
                <a:path w="649" h="323">
                  <a:moveTo>
                    <a:pt x="556" y="315"/>
                  </a:moveTo>
                  <a:lnTo>
                    <a:pt x="609" y="284"/>
                  </a:lnTo>
                  <a:lnTo>
                    <a:pt x="649" y="225"/>
                  </a:lnTo>
                  <a:lnTo>
                    <a:pt x="649" y="186"/>
                  </a:lnTo>
                  <a:lnTo>
                    <a:pt x="649" y="137"/>
                  </a:lnTo>
                  <a:lnTo>
                    <a:pt x="631" y="111"/>
                  </a:lnTo>
                  <a:lnTo>
                    <a:pt x="583" y="70"/>
                  </a:lnTo>
                  <a:lnTo>
                    <a:pt x="534" y="48"/>
                  </a:lnTo>
                  <a:lnTo>
                    <a:pt x="446" y="30"/>
                  </a:lnTo>
                  <a:lnTo>
                    <a:pt x="375" y="17"/>
                  </a:lnTo>
                  <a:lnTo>
                    <a:pt x="260" y="4"/>
                  </a:lnTo>
                  <a:lnTo>
                    <a:pt x="171" y="0"/>
                  </a:lnTo>
                  <a:lnTo>
                    <a:pt x="101" y="8"/>
                  </a:lnTo>
                  <a:lnTo>
                    <a:pt x="35" y="44"/>
                  </a:lnTo>
                  <a:lnTo>
                    <a:pt x="13" y="84"/>
                  </a:lnTo>
                  <a:lnTo>
                    <a:pt x="0" y="128"/>
                  </a:lnTo>
                  <a:lnTo>
                    <a:pt x="0" y="164"/>
                  </a:lnTo>
                  <a:lnTo>
                    <a:pt x="26" y="203"/>
                  </a:lnTo>
                  <a:lnTo>
                    <a:pt x="79" y="239"/>
                  </a:lnTo>
                  <a:lnTo>
                    <a:pt x="149" y="266"/>
                  </a:lnTo>
                  <a:lnTo>
                    <a:pt x="260" y="284"/>
                  </a:lnTo>
                  <a:lnTo>
                    <a:pt x="367" y="306"/>
                  </a:lnTo>
                  <a:lnTo>
                    <a:pt x="477" y="323"/>
                  </a:lnTo>
                  <a:lnTo>
                    <a:pt x="556" y="315"/>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767040" y="3665520"/>
              <a:ext cx="259200" cy="144720"/>
            </a:xfrm>
            <a:custGeom>
              <a:avLst/>
              <a:gdLst/>
              <a:ahLst/>
              <a:rect l="0" t="0" r="r" b="b"/>
              <a:pathLst>
                <a:path w="720" h="402">
                  <a:moveTo>
                    <a:pt x="689" y="114"/>
                  </a:moveTo>
                  <a:lnTo>
                    <a:pt x="623" y="88"/>
                  </a:lnTo>
                  <a:lnTo>
                    <a:pt x="553" y="70"/>
                  </a:lnTo>
                  <a:lnTo>
                    <a:pt x="428" y="35"/>
                  </a:lnTo>
                  <a:lnTo>
                    <a:pt x="318" y="17"/>
                  </a:lnTo>
                  <a:lnTo>
                    <a:pt x="203" y="0"/>
                  </a:lnTo>
                  <a:lnTo>
                    <a:pt x="132" y="0"/>
                  </a:lnTo>
                  <a:lnTo>
                    <a:pt x="48" y="30"/>
                  </a:lnTo>
                  <a:lnTo>
                    <a:pt x="8" y="70"/>
                  </a:lnTo>
                  <a:lnTo>
                    <a:pt x="0" y="105"/>
                  </a:lnTo>
                  <a:lnTo>
                    <a:pt x="4" y="163"/>
                  </a:lnTo>
                  <a:lnTo>
                    <a:pt x="44" y="225"/>
                  </a:lnTo>
                  <a:lnTo>
                    <a:pt x="105" y="292"/>
                  </a:lnTo>
                  <a:lnTo>
                    <a:pt x="176" y="353"/>
                  </a:lnTo>
                  <a:lnTo>
                    <a:pt x="230" y="384"/>
                  </a:lnTo>
                  <a:lnTo>
                    <a:pt x="292" y="402"/>
                  </a:lnTo>
                  <a:lnTo>
                    <a:pt x="353" y="353"/>
                  </a:lnTo>
                  <a:lnTo>
                    <a:pt x="486" y="331"/>
                  </a:lnTo>
                  <a:lnTo>
                    <a:pt x="584" y="314"/>
                  </a:lnTo>
                  <a:lnTo>
                    <a:pt x="654" y="292"/>
                  </a:lnTo>
                  <a:lnTo>
                    <a:pt x="703" y="256"/>
                  </a:lnTo>
                  <a:lnTo>
                    <a:pt x="716" y="198"/>
                  </a:lnTo>
                  <a:lnTo>
                    <a:pt x="720" y="154"/>
                  </a:lnTo>
                  <a:lnTo>
                    <a:pt x="689"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65" name=""/>
          <p:cNvSpPr/>
          <p:nvPr/>
        </p:nvSpPr>
        <p:spPr>
          <a:xfrm>
            <a:off x="5289480" y="3213000"/>
            <a:ext cx="114840" cy="292320"/>
          </a:xfrm>
          <a:custGeom>
            <a:avLst/>
            <a:gdLst/>
            <a:ahLst/>
            <a:rect l="0" t="0" r="r" b="b"/>
            <a:pathLst>
              <a:path w="319" h="812">
                <a:moveTo>
                  <a:pt x="195" y="812"/>
                </a:moveTo>
                <a:lnTo>
                  <a:pt x="0" y="35"/>
                </a:lnTo>
                <a:lnTo>
                  <a:pt x="177" y="0"/>
                </a:lnTo>
                <a:lnTo>
                  <a:pt x="319" y="299"/>
                </a:lnTo>
                <a:lnTo>
                  <a:pt x="319" y="777"/>
                </a:lnTo>
                <a:lnTo>
                  <a:pt x="195" y="812"/>
                </a:lnTo>
                <a:close/>
              </a:path>
            </a:pathLst>
          </a:custGeom>
          <a:gradFill rotWithShape="0">
            <a:gsLst>
              <a:gs pos="0">
                <a:srgbClr val="919191"/>
              </a:gs>
              <a:gs pos="100000">
                <a:srgbClr val="2b2b2b"/>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6" name=""/>
          <p:cNvGrpSpPr/>
          <p:nvPr/>
        </p:nvGrpSpPr>
        <p:grpSpPr>
          <a:xfrm>
            <a:off x="5124600" y="2819520"/>
            <a:ext cx="583920" cy="330120"/>
            <a:chOff x="5124600" y="2819520"/>
            <a:chExt cx="583920" cy="330120"/>
          </a:xfrm>
        </p:grpSpPr>
        <p:sp>
          <p:nvSpPr>
            <p:cNvPr id="667" name=""/>
            <p:cNvSpPr/>
            <p:nvPr/>
          </p:nvSpPr>
          <p:spPr>
            <a:xfrm flipV="1">
              <a:off x="5124600" y="3035160"/>
              <a:ext cx="12060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flipV="1">
              <a:off x="5245200" y="2978280"/>
              <a:ext cx="228600" cy="56880"/>
            </a:xfrm>
            <a:prstGeom prst="line">
              <a:avLst/>
            </a:prstGeom>
            <a:ln w="12600">
              <a:solidFill>
                <a:srgbClr val="000000"/>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669" name=""/>
            <p:cNvSpPr/>
            <p:nvPr/>
          </p:nvSpPr>
          <p:spPr>
            <a:xfrm flipV="1">
              <a:off x="5473800" y="2819520"/>
              <a:ext cx="23472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5270400" y="3060720"/>
              <a:ext cx="5076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sp>
        <p:nvSpPr>
          <p:cNvPr id="671" name=""/>
          <p:cNvSpPr/>
          <p:nvPr/>
        </p:nvSpPr>
        <p:spPr>
          <a:xfrm>
            <a:off x="4600440" y="2924280"/>
            <a:ext cx="232200" cy="76680"/>
          </a:xfrm>
          <a:custGeom>
            <a:avLst/>
            <a:gdLst/>
            <a:ahLst/>
            <a:rect l="0" t="0" r="r" b="b"/>
            <a:pathLst>
              <a:path w="645" h="213">
                <a:moveTo>
                  <a:pt x="0" y="0"/>
                </a:moveTo>
                <a:lnTo>
                  <a:pt x="645" y="213"/>
                </a:lnTo>
                <a:lnTo>
                  <a:pt x="88" y="111"/>
                </a:lnTo>
                <a:lnTo>
                  <a:pt x="0" y="0"/>
                </a:lnTo>
                <a:close/>
              </a:path>
            </a:pathLst>
          </a:custGeom>
          <a:gradFill rotWithShape="0">
            <a:gsLst>
              <a:gs pos="0">
                <a:srgbClr val="ffffff"/>
              </a:gs>
              <a:gs pos="100000">
                <a:srgbClr val="4c4c4c"/>
              </a:gs>
            </a:gsLst>
            <a:lin ang="5400000"/>
          </a:gra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5"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1156"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157"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8" name=""/>
          <p:cNvSpPr/>
          <p:nvPr/>
        </p:nvSpPr>
        <p:spPr>
          <a:xfrm>
            <a:off x="1104840" y="2048040"/>
            <a:ext cx="3276720" cy="57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9" name=""/>
          <p:cNvSpPr/>
          <p:nvPr/>
        </p:nvSpPr>
        <p:spPr>
          <a:xfrm>
            <a:off x="1090440" y="3071880"/>
            <a:ext cx="3314880" cy="947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60"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1161" name=""/>
          <p:cNvSpPr/>
          <p:nvPr/>
        </p:nvSpPr>
        <p:spPr>
          <a:xfrm flipH="1">
            <a:off x="2690640" y="1536840"/>
            <a:ext cx="18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2695680" y="261936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4"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a:off x="4381560" y="2541600"/>
            <a:ext cx="882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 name=""/>
          <p:cNvSpPr txBox="1"/>
          <p:nvPr/>
        </p:nvSpPr>
        <p:spPr>
          <a:xfrm>
            <a:off x="2011320" y="157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167" name=""/>
          <p:cNvSpPr txBox="1"/>
          <p:nvPr/>
        </p:nvSpPr>
        <p:spPr>
          <a:xfrm>
            <a:off x="4491000" y="21337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168" name=""/>
          <p:cNvSpPr txBox="1"/>
          <p:nvPr/>
        </p:nvSpPr>
        <p:spPr>
          <a:xfrm>
            <a:off x="1074600" y="2108160"/>
            <a:ext cx="3171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re any modifiers used?</a:t>
            </a:r>
            <a:endParaRPr b="0" lang="en-US" sz="2400" spc="-1" strike="noStrike">
              <a:solidFill>
                <a:srgbClr val="000000"/>
              </a:solidFill>
              <a:latin typeface="Arial"/>
            </a:endParaRPr>
          </a:p>
        </p:txBody>
      </p:sp>
      <p:sp>
        <p:nvSpPr>
          <p:cNvPr id="1169" name=""/>
          <p:cNvSpPr txBox="1"/>
          <p:nvPr/>
        </p:nvSpPr>
        <p:spPr>
          <a:xfrm>
            <a:off x="1098720" y="3156120"/>
            <a:ext cx="30956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Flatness control appli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 a planar feature?</a:t>
            </a:r>
            <a:endParaRPr b="0" lang="en-US" sz="2400" spc="-1" strike="noStrike">
              <a:solidFill>
                <a:srgbClr val="000000"/>
              </a:solidFill>
              <a:latin typeface="Arial"/>
            </a:endParaRPr>
          </a:p>
        </p:txBody>
      </p:sp>
      <p:sp>
        <p:nvSpPr>
          <p:cNvPr id="1170" name=""/>
          <p:cNvSpPr txBox="1"/>
          <p:nvPr/>
        </p:nvSpPr>
        <p:spPr>
          <a:xfrm>
            <a:off x="1979640" y="2608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171" name=""/>
          <p:cNvSpPr/>
          <p:nvPr/>
        </p:nvSpPr>
        <p:spPr>
          <a:xfrm>
            <a:off x="5262480" y="2381400"/>
            <a:ext cx="345276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72" name=""/>
          <p:cNvSpPr txBox="1"/>
          <p:nvPr/>
        </p:nvSpPr>
        <p:spPr>
          <a:xfrm>
            <a:off x="5551560" y="2513160"/>
            <a:ext cx="303840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73"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1174"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175"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6" name=""/>
          <p:cNvSpPr/>
          <p:nvPr/>
        </p:nvSpPr>
        <p:spPr>
          <a:xfrm>
            <a:off x="1104840" y="2048040"/>
            <a:ext cx="3276720" cy="57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7" name=""/>
          <p:cNvSpPr/>
          <p:nvPr/>
        </p:nvSpPr>
        <p:spPr>
          <a:xfrm>
            <a:off x="1090440" y="3071880"/>
            <a:ext cx="3314880" cy="947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8"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1179" name=""/>
          <p:cNvSpPr/>
          <p:nvPr/>
        </p:nvSpPr>
        <p:spPr>
          <a:xfrm flipH="1">
            <a:off x="2690640" y="1536840"/>
            <a:ext cx="18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p:nvPr/>
        </p:nvSpPr>
        <p:spPr>
          <a:xfrm>
            <a:off x="2695680" y="261936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a:off x="4381560" y="2541600"/>
            <a:ext cx="882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 name=""/>
          <p:cNvSpPr txBox="1"/>
          <p:nvPr/>
        </p:nvSpPr>
        <p:spPr>
          <a:xfrm>
            <a:off x="2011320" y="157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185" name=""/>
          <p:cNvSpPr txBox="1"/>
          <p:nvPr/>
        </p:nvSpPr>
        <p:spPr>
          <a:xfrm>
            <a:off x="4491000" y="21337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186" name=""/>
          <p:cNvSpPr txBox="1"/>
          <p:nvPr/>
        </p:nvSpPr>
        <p:spPr>
          <a:xfrm>
            <a:off x="4457880" y="31147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187" name=""/>
          <p:cNvSpPr txBox="1"/>
          <p:nvPr/>
        </p:nvSpPr>
        <p:spPr>
          <a:xfrm>
            <a:off x="1074600" y="2108160"/>
            <a:ext cx="3171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re any modifiers used?</a:t>
            </a:r>
            <a:endParaRPr b="0" lang="en-US" sz="2400" spc="-1" strike="noStrike">
              <a:solidFill>
                <a:srgbClr val="000000"/>
              </a:solidFill>
              <a:latin typeface="Arial"/>
            </a:endParaRPr>
          </a:p>
        </p:txBody>
      </p:sp>
      <p:sp>
        <p:nvSpPr>
          <p:cNvPr id="1188" name=""/>
          <p:cNvSpPr txBox="1"/>
          <p:nvPr/>
        </p:nvSpPr>
        <p:spPr>
          <a:xfrm>
            <a:off x="1098720" y="3156120"/>
            <a:ext cx="30956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Flatness control appli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 a planar feature?</a:t>
            </a:r>
            <a:endParaRPr b="0" lang="en-US" sz="2400" spc="-1" strike="noStrike">
              <a:solidFill>
                <a:srgbClr val="000000"/>
              </a:solidFill>
              <a:latin typeface="Arial"/>
            </a:endParaRPr>
          </a:p>
        </p:txBody>
      </p:sp>
      <p:sp>
        <p:nvSpPr>
          <p:cNvPr id="1189" name=""/>
          <p:cNvSpPr/>
          <p:nvPr/>
        </p:nvSpPr>
        <p:spPr>
          <a:xfrm>
            <a:off x="4405320" y="3524400"/>
            <a:ext cx="880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 name=""/>
          <p:cNvSpPr txBox="1"/>
          <p:nvPr/>
        </p:nvSpPr>
        <p:spPr>
          <a:xfrm>
            <a:off x="1979640" y="2608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191" name=""/>
          <p:cNvSpPr/>
          <p:nvPr/>
        </p:nvSpPr>
        <p:spPr>
          <a:xfrm>
            <a:off x="5262480" y="2381400"/>
            <a:ext cx="345276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92" name=""/>
          <p:cNvSpPr txBox="1"/>
          <p:nvPr/>
        </p:nvSpPr>
        <p:spPr>
          <a:xfrm>
            <a:off x="5551560" y="2513160"/>
            <a:ext cx="303840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93"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1194"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195"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6" name=""/>
          <p:cNvSpPr/>
          <p:nvPr/>
        </p:nvSpPr>
        <p:spPr>
          <a:xfrm>
            <a:off x="1104840" y="2048040"/>
            <a:ext cx="3276720" cy="57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7" name=""/>
          <p:cNvSpPr/>
          <p:nvPr/>
        </p:nvSpPr>
        <p:spPr>
          <a:xfrm>
            <a:off x="1090440" y="3071880"/>
            <a:ext cx="3314880" cy="947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8" name=""/>
          <p:cNvSpPr/>
          <p:nvPr/>
        </p:nvSpPr>
        <p:spPr>
          <a:xfrm>
            <a:off x="1100160" y="4403880"/>
            <a:ext cx="418608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9"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1200" name=""/>
          <p:cNvSpPr txBox="1"/>
          <p:nvPr/>
        </p:nvSpPr>
        <p:spPr>
          <a:xfrm>
            <a:off x="1170000" y="4465800"/>
            <a:ext cx="38829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m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other geometric tolerances?</a:t>
            </a:r>
            <a:endParaRPr b="0" lang="en-US" sz="2400" spc="-1" strike="noStrike">
              <a:solidFill>
                <a:srgbClr val="000000"/>
              </a:solidFill>
              <a:latin typeface="Arial"/>
            </a:endParaRPr>
          </a:p>
        </p:txBody>
      </p:sp>
      <p:sp>
        <p:nvSpPr>
          <p:cNvPr id="1201" name=""/>
          <p:cNvSpPr/>
          <p:nvPr/>
        </p:nvSpPr>
        <p:spPr>
          <a:xfrm flipH="1">
            <a:off x="2690640" y="1536840"/>
            <a:ext cx="18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2" name=""/>
          <p:cNvSpPr/>
          <p:nvPr/>
        </p:nvSpPr>
        <p:spPr>
          <a:xfrm>
            <a:off x="2695680" y="261936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 name=""/>
          <p:cNvSpPr/>
          <p:nvPr/>
        </p:nvSpPr>
        <p:spPr>
          <a:xfrm>
            <a:off x="2685960" y="402444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5"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6" name=""/>
          <p:cNvSpPr/>
          <p:nvPr/>
        </p:nvSpPr>
        <p:spPr>
          <a:xfrm>
            <a:off x="4381560" y="2541600"/>
            <a:ext cx="882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 name=""/>
          <p:cNvSpPr txBox="1"/>
          <p:nvPr/>
        </p:nvSpPr>
        <p:spPr>
          <a:xfrm>
            <a:off x="2011320" y="157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08" name=""/>
          <p:cNvSpPr txBox="1"/>
          <p:nvPr/>
        </p:nvSpPr>
        <p:spPr>
          <a:xfrm>
            <a:off x="4491000" y="21337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209" name=""/>
          <p:cNvSpPr txBox="1"/>
          <p:nvPr/>
        </p:nvSpPr>
        <p:spPr>
          <a:xfrm>
            <a:off x="4457880" y="31147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10" name=""/>
          <p:cNvSpPr txBox="1"/>
          <p:nvPr/>
        </p:nvSpPr>
        <p:spPr>
          <a:xfrm>
            <a:off x="1938240" y="40356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211" name=""/>
          <p:cNvSpPr txBox="1"/>
          <p:nvPr/>
        </p:nvSpPr>
        <p:spPr>
          <a:xfrm>
            <a:off x="1074600" y="2108160"/>
            <a:ext cx="3171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re any modifiers used?</a:t>
            </a:r>
            <a:endParaRPr b="0" lang="en-US" sz="2400" spc="-1" strike="noStrike">
              <a:solidFill>
                <a:srgbClr val="000000"/>
              </a:solidFill>
              <a:latin typeface="Arial"/>
            </a:endParaRPr>
          </a:p>
        </p:txBody>
      </p:sp>
      <p:sp>
        <p:nvSpPr>
          <p:cNvPr id="1212" name=""/>
          <p:cNvSpPr txBox="1"/>
          <p:nvPr/>
        </p:nvSpPr>
        <p:spPr>
          <a:xfrm>
            <a:off x="1098720" y="3156120"/>
            <a:ext cx="30956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Flatness control appli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 a planar feature?</a:t>
            </a:r>
            <a:endParaRPr b="0" lang="en-US" sz="2400" spc="-1" strike="noStrike">
              <a:solidFill>
                <a:srgbClr val="000000"/>
              </a:solidFill>
              <a:latin typeface="Arial"/>
            </a:endParaRPr>
          </a:p>
        </p:txBody>
      </p:sp>
      <p:sp>
        <p:nvSpPr>
          <p:cNvPr id="1213" name=""/>
          <p:cNvSpPr/>
          <p:nvPr/>
        </p:nvSpPr>
        <p:spPr>
          <a:xfrm>
            <a:off x="4405320" y="3524400"/>
            <a:ext cx="880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 name=""/>
          <p:cNvSpPr txBox="1"/>
          <p:nvPr/>
        </p:nvSpPr>
        <p:spPr>
          <a:xfrm>
            <a:off x="1979640" y="2608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15" name=""/>
          <p:cNvSpPr/>
          <p:nvPr/>
        </p:nvSpPr>
        <p:spPr>
          <a:xfrm>
            <a:off x="5262480" y="2381400"/>
            <a:ext cx="345276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16" name=""/>
          <p:cNvSpPr txBox="1"/>
          <p:nvPr/>
        </p:nvSpPr>
        <p:spPr>
          <a:xfrm>
            <a:off x="5551560" y="2513160"/>
            <a:ext cx="303840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17"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1218"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219"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0" name=""/>
          <p:cNvSpPr/>
          <p:nvPr/>
        </p:nvSpPr>
        <p:spPr>
          <a:xfrm>
            <a:off x="1104840" y="2048040"/>
            <a:ext cx="3276720" cy="57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1" name=""/>
          <p:cNvSpPr/>
          <p:nvPr/>
        </p:nvSpPr>
        <p:spPr>
          <a:xfrm>
            <a:off x="1090440" y="3071880"/>
            <a:ext cx="3314880" cy="947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2" name=""/>
          <p:cNvSpPr/>
          <p:nvPr/>
        </p:nvSpPr>
        <p:spPr>
          <a:xfrm>
            <a:off x="1100160" y="4403880"/>
            <a:ext cx="418608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3"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1224" name=""/>
          <p:cNvSpPr txBox="1"/>
          <p:nvPr/>
        </p:nvSpPr>
        <p:spPr>
          <a:xfrm>
            <a:off x="1170000" y="4465800"/>
            <a:ext cx="38829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m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other geometric tolerances?</a:t>
            </a:r>
            <a:endParaRPr b="0" lang="en-US" sz="2400" spc="-1" strike="noStrike">
              <a:solidFill>
                <a:srgbClr val="000000"/>
              </a:solidFill>
              <a:latin typeface="Arial"/>
            </a:endParaRPr>
          </a:p>
        </p:txBody>
      </p:sp>
      <p:sp>
        <p:nvSpPr>
          <p:cNvPr id="1225" name=""/>
          <p:cNvSpPr/>
          <p:nvPr/>
        </p:nvSpPr>
        <p:spPr>
          <a:xfrm flipH="1">
            <a:off x="2690640" y="1536840"/>
            <a:ext cx="18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2695680" y="261936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2685960" y="402444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 name=""/>
          <p:cNvSpPr/>
          <p:nvPr/>
        </p:nvSpPr>
        <p:spPr>
          <a:xfrm>
            <a:off x="4381560" y="2541600"/>
            <a:ext cx="882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5286240" y="4881600"/>
            <a:ext cx="157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flipV="1">
            <a:off x="6867360" y="3833640"/>
            <a:ext cx="0" cy="104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txBox="1"/>
          <p:nvPr/>
        </p:nvSpPr>
        <p:spPr>
          <a:xfrm>
            <a:off x="2011320" y="157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34" name=""/>
          <p:cNvSpPr txBox="1"/>
          <p:nvPr/>
        </p:nvSpPr>
        <p:spPr>
          <a:xfrm>
            <a:off x="4491000" y="21337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235" name=""/>
          <p:cNvSpPr txBox="1"/>
          <p:nvPr/>
        </p:nvSpPr>
        <p:spPr>
          <a:xfrm>
            <a:off x="4457880" y="31147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36" name=""/>
          <p:cNvSpPr txBox="1"/>
          <p:nvPr/>
        </p:nvSpPr>
        <p:spPr>
          <a:xfrm>
            <a:off x="5627520" y="4422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37" name=""/>
          <p:cNvSpPr txBox="1"/>
          <p:nvPr/>
        </p:nvSpPr>
        <p:spPr>
          <a:xfrm>
            <a:off x="1938240" y="40356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238" name=""/>
          <p:cNvSpPr txBox="1"/>
          <p:nvPr/>
        </p:nvSpPr>
        <p:spPr>
          <a:xfrm>
            <a:off x="1074600" y="2108160"/>
            <a:ext cx="3171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re any modifiers used?</a:t>
            </a:r>
            <a:endParaRPr b="0" lang="en-US" sz="2400" spc="-1" strike="noStrike">
              <a:solidFill>
                <a:srgbClr val="000000"/>
              </a:solidFill>
              <a:latin typeface="Arial"/>
            </a:endParaRPr>
          </a:p>
        </p:txBody>
      </p:sp>
      <p:sp>
        <p:nvSpPr>
          <p:cNvPr id="1239" name=""/>
          <p:cNvSpPr txBox="1"/>
          <p:nvPr/>
        </p:nvSpPr>
        <p:spPr>
          <a:xfrm>
            <a:off x="1098720" y="3156120"/>
            <a:ext cx="30956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Flatness control appli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 a planar feature?</a:t>
            </a:r>
            <a:endParaRPr b="0" lang="en-US" sz="2400" spc="-1" strike="noStrike">
              <a:solidFill>
                <a:srgbClr val="000000"/>
              </a:solidFill>
              <a:latin typeface="Arial"/>
            </a:endParaRPr>
          </a:p>
        </p:txBody>
      </p:sp>
      <p:sp>
        <p:nvSpPr>
          <p:cNvPr id="1240" name=""/>
          <p:cNvSpPr/>
          <p:nvPr/>
        </p:nvSpPr>
        <p:spPr>
          <a:xfrm>
            <a:off x="4405320" y="3524400"/>
            <a:ext cx="880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txBox="1"/>
          <p:nvPr/>
        </p:nvSpPr>
        <p:spPr>
          <a:xfrm>
            <a:off x="1979640" y="2608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42" name=""/>
          <p:cNvSpPr/>
          <p:nvPr/>
        </p:nvSpPr>
        <p:spPr>
          <a:xfrm>
            <a:off x="5262480" y="2381400"/>
            <a:ext cx="345276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43" name=""/>
          <p:cNvSpPr txBox="1"/>
          <p:nvPr/>
        </p:nvSpPr>
        <p:spPr>
          <a:xfrm>
            <a:off x="5551560" y="2513160"/>
            <a:ext cx="303840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44" name=""/>
          <p:cNvSpPr txBox="1"/>
          <p:nvPr/>
        </p:nvSpPr>
        <p:spPr>
          <a:xfrm>
            <a:off x="380880" y="214200"/>
            <a:ext cx="8453520" cy="56196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SPECIFICATION TEST -- FLATNESS</a:t>
            </a:r>
            <a:endParaRPr b="0" lang="en-US" sz="3200" spc="-1" strike="noStrike">
              <a:solidFill>
                <a:srgbClr val="000000"/>
              </a:solidFill>
              <a:latin typeface="Arial"/>
            </a:endParaRPr>
          </a:p>
        </p:txBody>
      </p:sp>
      <p:sp>
        <p:nvSpPr>
          <p:cNvPr id="1245" name=""/>
          <p:cNvSpPr txBox="1"/>
          <p:nvPr/>
        </p:nvSpPr>
        <p:spPr>
          <a:xfrm>
            <a:off x="5045040" y="776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246" name=""/>
          <p:cNvSpPr/>
          <p:nvPr/>
        </p:nvSpPr>
        <p:spPr>
          <a:xfrm>
            <a:off x="1095480" y="1000080"/>
            <a:ext cx="335772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7" name=""/>
          <p:cNvSpPr/>
          <p:nvPr/>
        </p:nvSpPr>
        <p:spPr>
          <a:xfrm>
            <a:off x="1104840" y="2048040"/>
            <a:ext cx="3276720" cy="57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8" name=""/>
          <p:cNvSpPr/>
          <p:nvPr/>
        </p:nvSpPr>
        <p:spPr>
          <a:xfrm>
            <a:off x="1090440" y="3071880"/>
            <a:ext cx="3314880" cy="947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9" name=""/>
          <p:cNvSpPr/>
          <p:nvPr/>
        </p:nvSpPr>
        <p:spPr>
          <a:xfrm>
            <a:off x="1100160" y="4403880"/>
            <a:ext cx="418608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50" name=""/>
          <p:cNvSpPr/>
          <p:nvPr/>
        </p:nvSpPr>
        <p:spPr>
          <a:xfrm>
            <a:off x="5262480" y="2381400"/>
            <a:ext cx="3452760" cy="1452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51" name=""/>
          <p:cNvSpPr/>
          <p:nvPr/>
        </p:nvSpPr>
        <p:spPr>
          <a:xfrm>
            <a:off x="1071720" y="5657760"/>
            <a:ext cx="6124680" cy="62856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52" name=""/>
          <p:cNvSpPr txBox="1"/>
          <p:nvPr/>
        </p:nvSpPr>
        <p:spPr>
          <a:xfrm>
            <a:off x="1241280" y="1012680"/>
            <a:ext cx="3095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1253" name=""/>
          <p:cNvSpPr txBox="1"/>
          <p:nvPr/>
        </p:nvSpPr>
        <p:spPr>
          <a:xfrm>
            <a:off x="1170000" y="4465800"/>
            <a:ext cx="38829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olerance value a refinem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other geometric tolerances?</a:t>
            </a:r>
            <a:endParaRPr b="0" lang="en-US" sz="2400" spc="-1" strike="noStrike">
              <a:solidFill>
                <a:srgbClr val="000000"/>
              </a:solidFill>
              <a:latin typeface="Arial"/>
            </a:endParaRPr>
          </a:p>
        </p:txBody>
      </p:sp>
      <p:sp>
        <p:nvSpPr>
          <p:cNvPr id="1254" name=""/>
          <p:cNvSpPr txBox="1"/>
          <p:nvPr/>
        </p:nvSpPr>
        <p:spPr>
          <a:xfrm>
            <a:off x="1122480" y="5718240"/>
            <a:ext cx="55674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 </a:t>
            </a:r>
            <a:r>
              <a:rPr b="1" i="1" lang="en-US" sz="2400" spc="-1" strike="noStrike" u="sng">
                <a:solidFill>
                  <a:srgbClr val="fafd00"/>
                </a:solidFill>
                <a:uFillTx/>
                <a:latin typeface="Times New Roman"/>
                <a:ea typeface="Times New Roman"/>
              </a:rPr>
              <a:t>PROPER</a:t>
            </a:r>
            <a:r>
              <a:rPr b="0" lang="en-US" sz="2400" spc="-1" strike="noStrike">
                <a:solidFill>
                  <a:srgbClr val="ffffff"/>
                </a:solidFill>
                <a:latin typeface="Times New Roman"/>
                <a:ea typeface="Times New Roman"/>
              </a:rPr>
              <a:t> specification for flatness</a:t>
            </a:r>
            <a:endParaRPr b="0" lang="en-US" sz="2400" spc="-1" strike="noStrike">
              <a:solidFill>
                <a:srgbClr val="000000"/>
              </a:solidFill>
              <a:latin typeface="Arial"/>
            </a:endParaRPr>
          </a:p>
        </p:txBody>
      </p:sp>
      <p:sp>
        <p:nvSpPr>
          <p:cNvPr id="1255" name=""/>
          <p:cNvSpPr txBox="1"/>
          <p:nvPr/>
        </p:nvSpPr>
        <p:spPr>
          <a:xfrm>
            <a:off x="5551560" y="2513160"/>
            <a:ext cx="303840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1" i="1"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of a</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latness control</a:t>
            </a:r>
            <a:endParaRPr b="0" lang="en-US" sz="2400" spc="-1" strike="noStrike">
              <a:solidFill>
                <a:srgbClr val="000000"/>
              </a:solidFill>
              <a:latin typeface="Arial"/>
            </a:endParaRPr>
          </a:p>
        </p:txBody>
      </p:sp>
      <p:sp>
        <p:nvSpPr>
          <p:cNvPr id="1256" name=""/>
          <p:cNvSpPr/>
          <p:nvPr/>
        </p:nvSpPr>
        <p:spPr>
          <a:xfrm flipH="1">
            <a:off x="2690640" y="1536840"/>
            <a:ext cx="18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2695680" y="261936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2685960" y="4024440"/>
            <a:ext cx="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2685960" y="5307120"/>
            <a:ext cx="0" cy="34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4464000" y="1236600"/>
            <a:ext cx="240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6865920" y="1236600"/>
            <a:ext cx="0" cy="114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4381560" y="2541600"/>
            <a:ext cx="882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 name=""/>
          <p:cNvSpPr/>
          <p:nvPr/>
        </p:nvSpPr>
        <p:spPr>
          <a:xfrm>
            <a:off x="5286240" y="4881600"/>
            <a:ext cx="157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p:nvPr/>
        </p:nvSpPr>
        <p:spPr>
          <a:xfrm flipV="1">
            <a:off x="6867360" y="3833640"/>
            <a:ext cx="0" cy="104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5" name=""/>
          <p:cNvSpPr txBox="1"/>
          <p:nvPr/>
        </p:nvSpPr>
        <p:spPr>
          <a:xfrm>
            <a:off x="2011320" y="157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66" name=""/>
          <p:cNvSpPr txBox="1"/>
          <p:nvPr/>
        </p:nvSpPr>
        <p:spPr>
          <a:xfrm>
            <a:off x="4491000" y="213372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267" name=""/>
          <p:cNvSpPr txBox="1"/>
          <p:nvPr/>
        </p:nvSpPr>
        <p:spPr>
          <a:xfrm>
            <a:off x="4457880" y="31147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68" name=""/>
          <p:cNvSpPr txBox="1"/>
          <p:nvPr/>
        </p:nvSpPr>
        <p:spPr>
          <a:xfrm>
            <a:off x="5627520" y="4422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1269" name=""/>
          <p:cNvSpPr txBox="1"/>
          <p:nvPr/>
        </p:nvSpPr>
        <p:spPr>
          <a:xfrm>
            <a:off x="1938240" y="40356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270" name=""/>
          <p:cNvSpPr txBox="1"/>
          <p:nvPr/>
        </p:nvSpPr>
        <p:spPr>
          <a:xfrm>
            <a:off x="1889280" y="52941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1271" name=""/>
          <p:cNvSpPr txBox="1"/>
          <p:nvPr/>
        </p:nvSpPr>
        <p:spPr>
          <a:xfrm>
            <a:off x="1074600" y="2108160"/>
            <a:ext cx="3171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re any modifiers used?</a:t>
            </a:r>
            <a:endParaRPr b="0" lang="en-US" sz="2400" spc="-1" strike="noStrike">
              <a:solidFill>
                <a:srgbClr val="000000"/>
              </a:solidFill>
              <a:latin typeface="Arial"/>
            </a:endParaRPr>
          </a:p>
        </p:txBody>
      </p:sp>
      <p:sp>
        <p:nvSpPr>
          <p:cNvPr id="1272" name=""/>
          <p:cNvSpPr txBox="1"/>
          <p:nvPr/>
        </p:nvSpPr>
        <p:spPr>
          <a:xfrm>
            <a:off x="1098720" y="3156120"/>
            <a:ext cx="30956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Flatness control appli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 a planar feature?</a:t>
            </a:r>
            <a:endParaRPr b="0" lang="en-US" sz="2400" spc="-1" strike="noStrike">
              <a:solidFill>
                <a:srgbClr val="000000"/>
              </a:solidFill>
              <a:latin typeface="Arial"/>
            </a:endParaRPr>
          </a:p>
        </p:txBody>
      </p:sp>
      <p:sp>
        <p:nvSpPr>
          <p:cNvPr id="1273" name=""/>
          <p:cNvSpPr/>
          <p:nvPr/>
        </p:nvSpPr>
        <p:spPr>
          <a:xfrm>
            <a:off x="4405320" y="3524400"/>
            <a:ext cx="880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txBox="1"/>
          <p:nvPr/>
        </p:nvSpPr>
        <p:spPr>
          <a:xfrm>
            <a:off x="1979640" y="2608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72" name=""/>
          <p:cNvSpPr txBox="1"/>
          <p:nvPr/>
        </p:nvSpPr>
        <p:spPr>
          <a:xfrm>
            <a:off x="262080" y="500040"/>
            <a:ext cx="8429760" cy="1518840"/>
          </a:xfrm>
          <a:prstGeom prst="rect">
            <a:avLst/>
          </a:prstGeom>
          <a:noFill/>
          <a:ln w="0">
            <a:noFill/>
          </a:ln>
        </p:spPr>
        <p:txBody>
          <a:bodyPr lIns="0" rIns="0" tIns="0" bIns="0" anchor="t">
            <a:noAutofit/>
          </a:bodyPr>
          <a:p>
            <a:pPr algn="ctr">
              <a:lnSpc>
                <a:spcPct val="100000"/>
              </a:lnSpc>
            </a:pPr>
            <a:r>
              <a:rPr b="1" lang="en-US" sz="5400" spc="-1" strike="noStrike">
                <a:solidFill>
                  <a:srgbClr val="fc0128"/>
                </a:solidFill>
                <a:latin typeface="Times New Roman"/>
                <a:ea typeface="Times New Roman"/>
              </a:rPr>
              <a:t>GEOMETRIC TOLERANCING</a:t>
            </a:r>
            <a:endParaRPr b="0" lang="en-US" sz="5400" spc="-1" strike="noStrike">
              <a:solidFill>
                <a:srgbClr val="000000"/>
              </a:solidFill>
              <a:latin typeface="Arial"/>
            </a:endParaRPr>
          </a:p>
        </p:txBody>
      </p:sp>
      <p:sp>
        <p:nvSpPr>
          <p:cNvPr id="673" name=""/>
          <p:cNvSpPr txBox="1"/>
          <p:nvPr/>
        </p:nvSpPr>
        <p:spPr>
          <a:xfrm>
            <a:off x="1395360" y="5140440"/>
            <a:ext cx="6400800" cy="114624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fafd00"/>
                </a:solidFill>
                <a:latin typeface="Times New Roman"/>
                <a:ea typeface="Times New Roman"/>
              </a:rPr>
              <a:t>TOLERANCES OF FORM</a:t>
            </a:r>
            <a:endParaRPr b="0" lang="en-US" sz="3200" spc="-1" strike="noStrike">
              <a:solidFill>
                <a:srgbClr val="000000"/>
              </a:solidFill>
              <a:latin typeface="Arial"/>
            </a:endParaRPr>
          </a:p>
          <a:p>
            <a:pPr marL="343080" indent="-343080" algn="ctr">
              <a:lnSpc>
                <a:spcPct val="100000"/>
              </a:lnSpc>
              <a:spcBef>
                <a:spcPts val="479"/>
              </a:spcBef>
            </a:pPr>
            <a:r>
              <a:rPr b="1" lang="en-US" sz="3200" spc="-1" strike="noStrike">
                <a:solidFill>
                  <a:srgbClr val="fafd00"/>
                </a:solidFill>
                <a:latin typeface="Times New Roman"/>
                <a:ea typeface="Times New Roman"/>
              </a:rPr>
              <a:t>(FLATNESS)</a:t>
            </a:r>
            <a:endParaRPr b="0" lang="en-US" sz="3200" spc="-1" strike="noStrike">
              <a:solidFill>
                <a:srgbClr val="000000"/>
              </a:solidFill>
              <a:latin typeface="Arial"/>
            </a:endParaRPr>
          </a:p>
        </p:txBody>
      </p:sp>
      <p:grpSp>
        <p:nvGrpSpPr>
          <p:cNvPr id="674" name=""/>
          <p:cNvGrpSpPr/>
          <p:nvPr/>
        </p:nvGrpSpPr>
        <p:grpSpPr>
          <a:xfrm>
            <a:off x="3711600" y="2955960"/>
            <a:ext cx="1641960" cy="1045080"/>
            <a:chOff x="3711600" y="2955960"/>
            <a:chExt cx="1641960" cy="1045080"/>
          </a:xfrm>
        </p:grpSpPr>
        <p:grpSp>
          <p:nvGrpSpPr>
            <p:cNvPr id="675" name=""/>
            <p:cNvGrpSpPr/>
            <p:nvPr/>
          </p:nvGrpSpPr>
          <p:grpSpPr>
            <a:xfrm>
              <a:off x="3711600" y="2955960"/>
              <a:ext cx="1641960" cy="1045080"/>
              <a:chOff x="3711600" y="2955960"/>
              <a:chExt cx="1641960" cy="1045080"/>
            </a:xfrm>
          </p:grpSpPr>
          <p:sp>
            <p:nvSpPr>
              <p:cNvPr id="676" name=""/>
              <p:cNvSpPr/>
              <p:nvPr/>
            </p:nvSpPr>
            <p:spPr>
              <a:xfrm>
                <a:off x="3711600" y="2955960"/>
                <a:ext cx="1641960" cy="1045080"/>
              </a:xfrm>
              <a:custGeom>
                <a:avLst/>
                <a:gdLst/>
                <a:ahLst/>
                <a:rect l="0" t="0" r="r" b="b"/>
                <a:pathLst>
                  <a:path w="4561" h="2903">
                    <a:moveTo>
                      <a:pt x="789" y="141"/>
                    </a:moveTo>
                    <a:lnTo>
                      <a:pt x="476" y="295"/>
                    </a:lnTo>
                    <a:lnTo>
                      <a:pt x="348" y="445"/>
                    </a:lnTo>
                    <a:lnTo>
                      <a:pt x="220" y="674"/>
                    </a:lnTo>
                    <a:lnTo>
                      <a:pt x="114" y="940"/>
                    </a:lnTo>
                    <a:lnTo>
                      <a:pt x="79" y="1169"/>
                    </a:lnTo>
                    <a:lnTo>
                      <a:pt x="0" y="1500"/>
                    </a:lnTo>
                    <a:lnTo>
                      <a:pt x="22" y="1764"/>
                    </a:lnTo>
                    <a:lnTo>
                      <a:pt x="79" y="2069"/>
                    </a:lnTo>
                    <a:lnTo>
                      <a:pt x="154" y="2268"/>
                    </a:lnTo>
                    <a:lnTo>
                      <a:pt x="229" y="2370"/>
                    </a:lnTo>
                    <a:lnTo>
                      <a:pt x="361" y="2484"/>
                    </a:lnTo>
                    <a:lnTo>
                      <a:pt x="476" y="2515"/>
                    </a:lnTo>
                    <a:lnTo>
                      <a:pt x="577" y="2515"/>
                    </a:lnTo>
                    <a:lnTo>
                      <a:pt x="727" y="2484"/>
                    </a:lnTo>
                    <a:lnTo>
                      <a:pt x="776" y="2400"/>
                    </a:lnTo>
                    <a:lnTo>
                      <a:pt x="881" y="2321"/>
                    </a:lnTo>
                    <a:lnTo>
                      <a:pt x="939" y="2144"/>
                    </a:lnTo>
                    <a:lnTo>
                      <a:pt x="956" y="2277"/>
                    </a:lnTo>
                    <a:lnTo>
                      <a:pt x="1098" y="2418"/>
                    </a:lnTo>
                    <a:lnTo>
                      <a:pt x="1306" y="2647"/>
                    </a:lnTo>
                    <a:lnTo>
                      <a:pt x="1495" y="2819"/>
                    </a:lnTo>
                    <a:lnTo>
                      <a:pt x="2016" y="2903"/>
                    </a:lnTo>
                    <a:lnTo>
                      <a:pt x="2951" y="2802"/>
                    </a:lnTo>
                    <a:lnTo>
                      <a:pt x="3087" y="2727"/>
                    </a:lnTo>
                    <a:lnTo>
                      <a:pt x="3273" y="2612"/>
                    </a:lnTo>
                    <a:lnTo>
                      <a:pt x="3387" y="2497"/>
                    </a:lnTo>
                    <a:lnTo>
                      <a:pt x="3463" y="2347"/>
                    </a:lnTo>
                    <a:lnTo>
                      <a:pt x="3578" y="2100"/>
                    </a:lnTo>
                    <a:lnTo>
                      <a:pt x="3591" y="1800"/>
                    </a:lnTo>
                    <a:lnTo>
                      <a:pt x="3512" y="1434"/>
                    </a:lnTo>
                    <a:lnTo>
                      <a:pt x="3692" y="1980"/>
                    </a:lnTo>
                    <a:lnTo>
                      <a:pt x="3807" y="2220"/>
                    </a:lnTo>
                    <a:lnTo>
                      <a:pt x="4041" y="2361"/>
                    </a:lnTo>
                    <a:lnTo>
                      <a:pt x="4230" y="2361"/>
                    </a:lnTo>
                    <a:lnTo>
                      <a:pt x="4345" y="2321"/>
                    </a:lnTo>
                    <a:lnTo>
                      <a:pt x="4495" y="2303"/>
                    </a:lnTo>
                    <a:lnTo>
                      <a:pt x="4561" y="2126"/>
                    </a:lnTo>
                    <a:lnTo>
                      <a:pt x="4513" y="1659"/>
                    </a:lnTo>
                    <a:lnTo>
                      <a:pt x="4323" y="1451"/>
                    </a:lnTo>
                    <a:lnTo>
                      <a:pt x="4050" y="1301"/>
                    </a:lnTo>
                    <a:lnTo>
                      <a:pt x="3878" y="1112"/>
                    </a:lnTo>
                    <a:lnTo>
                      <a:pt x="3692" y="790"/>
                    </a:lnTo>
                    <a:lnTo>
                      <a:pt x="3503" y="449"/>
                    </a:lnTo>
                    <a:lnTo>
                      <a:pt x="3352" y="295"/>
                    </a:lnTo>
                    <a:lnTo>
                      <a:pt x="3273" y="238"/>
                    </a:lnTo>
                    <a:lnTo>
                      <a:pt x="3140" y="180"/>
                    </a:lnTo>
                    <a:lnTo>
                      <a:pt x="2973" y="123"/>
                    </a:lnTo>
                    <a:lnTo>
                      <a:pt x="2757" y="48"/>
                    </a:lnTo>
                    <a:lnTo>
                      <a:pt x="2294" y="0"/>
                    </a:lnTo>
                    <a:lnTo>
                      <a:pt x="1751" y="8"/>
                    </a:lnTo>
                    <a:lnTo>
                      <a:pt x="1128" y="17"/>
                    </a:lnTo>
                    <a:lnTo>
                      <a:pt x="789" y="141"/>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7" name=""/>
              <p:cNvGrpSpPr/>
              <p:nvPr/>
            </p:nvGrpSpPr>
            <p:grpSpPr>
              <a:xfrm>
                <a:off x="3763800" y="3567240"/>
                <a:ext cx="194040" cy="27000"/>
                <a:chOff x="3763800" y="3567240"/>
                <a:chExt cx="194040" cy="27000"/>
              </a:xfrm>
            </p:grpSpPr>
            <p:sp>
              <p:nvSpPr>
                <p:cNvPr id="678" name=""/>
                <p:cNvSpPr/>
                <p:nvPr/>
              </p:nvSpPr>
              <p:spPr>
                <a:xfrm>
                  <a:off x="3763800" y="3567240"/>
                  <a:ext cx="194040" cy="12960"/>
                </a:xfrm>
                <a:custGeom>
                  <a:avLst/>
                  <a:gdLst/>
                  <a:ahLst/>
                  <a:rect l="0" t="0" r="r" b="b"/>
                  <a:pathLst>
                    <a:path fill="none" w="539" h="36">
                      <a:moveTo>
                        <a:pt x="0" y="4"/>
                      </a:moveTo>
                      <a:lnTo>
                        <a:pt x="132" y="0"/>
                      </a:lnTo>
                      <a:lnTo>
                        <a:pt x="296" y="4"/>
                      </a:lnTo>
                      <a:lnTo>
                        <a:pt x="465" y="17"/>
                      </a:lnTo>
                      <a:lnTo>
                        <a:pt x="539" y="36"/>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679" name=""/>
                <p:cNvSpPr/>
                <p:nvPr/>
              </p:nvSpPr>
              <p:spPr>
                <a:xfrm flipV="1">
                  <a:off x="3795840" y="3568680"/>
                  <a:ext cx="7272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sp>
            <p:nvSpPr>
              <p:cNvPr id="680" name=""/>
              <p:cNvSpPr/>
              <p:nvPr/>
            </p:nvSpPr>
            <p:spPr>
              <a:xfrm>
                <a:off x="4645080" y="3771720"/>
                <a:ext cx="35280" cy="41760"/>
              </a:xfrm>
              <a:custGeom>
                <a:avLst/>
                <a:gdLst/>
                <a:ahLst/>
                <a:rect l="0" t="0" r="r" b="b"/>
                <a:pathLst>
                  <a:path w="98" h="116">
                    <a:moveTo>
                      <a:pt x="89" y="40"/>
                    </a:moveTo>
                    <a:lnTo>
                      <a:pt x="71" y="4"/>
                    </a:lnTo>
                    <a:lnTo>
                      <a:pt x="44" y="0"/>
                    </a:lnTo>
                    <a:lnTo>
                      <a:pt x="13" y="4"/>
                    </a:lnTo>
                    <a:lnTo>
                      <a:pt x="0" y="40"/>
                    </a:lnTo>
                    <a:lnTo>
                      <a:pt x="8" y="80"/>
                    </a:lnTo>
                    <a:lnTo>
                      <a:pt x="30" y="107"/>
                    </a:lnTo>
                    <a:lnTo>
                      <a:pt x="53" y="116"/>
                    </a:lnTo>
                    <a:lnTo>
                      <a:pt x="75" y="112"/>
                    </a:lnTo>
                    <a:lnTo>
                      <a:pt x="98" y="84"/>
                    </a:lnTo>
                    <a:lnTo>
                      <a:pt x="89" y="40"/>
                    </a:lnTo>
                    <a:close/>
                  </a:path>
                </a:pathLst>
              </a:custGeom>
              <a:solidFill>
                <a:srgbClr val="ffc080"/>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sp>
          <p:nvSpPr>
            <p:cNvPr id="681" name=""/>
            <p:cNvSpPr/>
            <p:nvPr/>
          </p:nvSpPr>
          <p:spPr>
            <a:xfrm>
              <a:off x="4043520" y="3348000"/>
              <a:ext cx="9720" cy="144720"/>
            </a:xfrm>
            <a:custGeom>
              <a:avLst/>
              <a:gdLst/>
              <a:ahLst/>
              <a:rect l="0" t="0" r="r" b="b"/>
              <a:pathLst>
                <a:path fill="none" w="27" h="402">
                  <a:moveTo>
                    <a:pt x="0" y="0"/>
                  </a:moveTo>
                  <a:lnTo>
                    <a:pt x="27" y="185"/>
                  </a:lnTo>
                  <a:lnTo>
                    <a:pt x="27" y="322"/>
                  </a:lnTo>
                  <a:lnTo>
                    <a:pt x="0"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82" name=""/>
          <p:cNvGrpSpPr/>
          <p:nvPr/>
        </p:nvGrpSpPr>
        <p:grpSpPr>
          <a:xfrm>
            <a:off x="3706920" y="2305080"/>
            <a:ext cx="1241640" cy="1060920"/>
            <a:chOff x="3706920" y="2305080"/>
            <a:chExt cx="1241640" cy="1060920"/>
          </a:xfrm>
        </p:grpSpPr>
        <p:sp>
          <p:nvSpPr>
            <p:cNvPr id="683" name=""/>
            <p:cNvSpPr/>
            <p:nvPr/>
          </p:nvSpPr>
          <p:spPr>
            <a:xfrm>
              <a:off x="3706920" y="2305080"/>
              <a:ext cx="1241640" cy="1060920"/>
            </a:xfrm>
            <a:custGeom>
              <a:avLst/>
              <a:gdLst/>
              <a:ahLst/>
              <a:rect l="0" t="0" r="r" b="b"/>
              <a:pathLst>
                <a:path w="3449" h="2947">
                  <a:moveTo>
                    <a:pt x="1525" y="361"/>
                  </a:moveTo>
                  <a:lnTo>
                    <a:pt x="1406" y="255"/>
                  </a:lnTo>
                  <a:lnTo>
                    <a:pt x="1300" y="198"/>
                  </a:lnTo>
                  <a:lnTo>
                    <a:pt x="1159" y="163"/>
                  </a:lnTo>
                  <a:lnTo>
                    <a:pt x="1045" y="163"/>
                  </a:lnTo>
                  <a:lnTo>
                    <a:pt x="912" y="171"/>
                  </a:lnTo>
                  <a:lnTo>
                    <a:pt x="846" y="198"/>
                  </a:lnTo>
                  <a:lnTo>
                    <a:pt x="1045" y="229"/>
                  </a:lnTo>
                  <a:lnTo>
                    <a:pt x="1177" y="255"/>
                  </a:lnTo>
                  <a:lnTo>
                    <a:pt x="1318" y="379"/>
                  </a:lnTo>
                  <a:lnTo>
                    <a:pt x="1036" y="264"/>
                  </a:lnTo>
                  <a:lnTo>
                    <a:pt x="855" y="238"/>
                  </a:lnTo>
                  <a:lnTo>
                    <a:pt x="754" y="229"/>
                  </a:lnTo>
                  <a:lnTo>
                    <a:pt x="630" y="229"/>
                  </a:lnTo>
                  <a:lnTo>
                    <a:pt x="515" y="246"/>
                  </a:lnTo>
                  <a:lnTo>
                    <a:pt x="440" y="277"/>
                  </a:lnTo>
                  <a:lnTo>
                    <a:pt x="361" y="330"/>
                  </a:lnTo>
                  <a:lnTo>
                    <a:pt x="299" y="436"/>
                  </a:lnTo>
                  <a:lnTo>
                    <a:pt x="260" y="604"/>
                  </a:lnTo>
                  <a:lnTo>
                    <a:pt x="388" y="485"/>
                  </a:lnTo>
                  <a:lnTo>
                    <a:pt x="471" y="427"/>
                  </a:lnTo>
                  <a:lnTo>
                    <a:pt x="533" y="388"/>
                  </a:lnTo>
                  <a:lnTo>
                    <a:pt x="617" y="370"/>
                  </a:lnTo>
                  <a:lnTo>
                    <a:pt x="687" y="379"/>
                  </a:lnTo>
                  <a:lnTo>
                    <a:pt x="723" y="379"/>
                  </a:lnTo>
                  <a:lnTo>
                    <a:pt x="577" y="480"/>
                  </a:lnTo>
                  <a:lnTo>
                    <a:pt x="445" y="564"/>
                  </a:lnTo>
                  <a:lnTo>
                    <a:pt x="299" y="705"/>
                  </a:lnTo>
                  <a:lnTo>
                    <a:pt x="180" y="852"/>
                  </a:lnTo>
                  <a:lnTo>
                    <a:pt x="101" y="979"/>
                  </a:lnTo>
                  <a:lnTo>
                    <a:pt x="0" y="1178"/>
                  </a:lnTo>
                  <a:lnTo>
                    <a:pt x="149" y="1054"/>
                  </a:lnTo>
                  <a:lnTo>
                    <a:pt x="216" y="1024"/>
                  </a:lnTo>
                  <a:lnTo>
                    <a:pt x="299" y="1006"/>
                  </a:lnTo>
                  <a:lnTo>
                    <a:pt x="352" y="1010"/>
                  </a:lnTo>
                  <a:lnTo>
                    <a:pt x="410" y="1046"/>
                  </a:lnTo>
                  <a:lnTo>
                    <a:pt x="339" y="1099"/>
                  </a:lnTo>
                  <a:lnTo>
                    <a:pt x="277" y="1169"/>
                  </a:lnTo>
                  <a:lnTo>
                    <a:pt x="207" y="1248"/>
                  </a:lnTo>
                  <a:lnTo>
                    <a:pt x="145" y="1328"/>
                  </a:lnTo>
                  <a:lnTo>
                    <a:pt x="83" y="1451"/>
                  </a:lnTo>
                  <a:lnTo>
                    <a:pt x="246" y="1363"/>
                  </a:lnTo>
                  <a:lnTo>
                    <a:pt x="335" y="1328"/>
                  </a:lnTo>
                  <a:lnTo>
                    <a:pt x="427" y="1328"/>
                  </a:lnTo>
                  <a:lnTo>
                    <a:pt x="357" y="1398"/>
                  </a:lnTo>
                  <a:lnTo>
                    <a:pt x="291" y="1517"/>
                  </a:lnTo>
                  <a:lnTo>
                    <a:pt x="224" y="1641"/>
                  </a:lnTo>
                  <a:lnTo>
                    <a:pt x="158" y="1914"/>
                  </a:lnTo>
                  <a:lnTo>
                    <a:pt x="260" y="1773"/>
                  </a:lnTo>
                  <a:lnTo>
                    <a:pt x="361" y="1659"/>
                  </a:lnTo>
                  <a:lnTo>
                    <a:pt x="489" y="1592"/>
                  </a:lnTo>
                  <a:lnTo>
                    <a:pt x="542" y="1592"/>
                  </a:lnTo>
                  <a:lnTo>
                    <a:pt x="489" y="1734"/>
                  </a:lnTo>
                  <a:lnTo>
                    <a:pt x="476" y="1910"/>
                  </a:lnTo>
                  <a:lnTo>
                    <a:pt x="489" y="2020"/>
                  </a:lnTo>
                  <a:lnTo>
                    <a:pt x="555" y="2179"/>
                  </a:lnTo>
                  <a:lnTo>
                    <a:pt x="665" y="2343"/>
                  </a:lnTo>
                  <a:lnTo>
                    <a:pt x="665" y="2144"/>
                  </a:lnTo>
                  <a:lnTo>
                    <a:pt x="723" y="2011"/>
                  </a:lnTo>
                  <a:lnTo>
                    <a:pt x="789" y="1963"/>
                  </a:lnTo>
                  <a:lnTo>
                    <a:pt x="767" y="2170"/>
                  </a:lnTo>
                  <a:lnTo>
                    <a:pt x="767" y="2325"/>
                  </a:lnTo>
                  <a:lnTo>
                    <a:pt x="767" y="2444"/>
                  </a:lnTo>
                  <a:lnTo>
                    <a:pt x="789" y="2572"/>
                  </a:lnTo>
                  <a:lnTo>
                    <a:pt x="903" y="2722"/>
                  </a:lnTo>
                  <a:lnTo>
                    <a:pt x="1036" y="2846"/>
                  </a:lnTo>
                  <a:lnTo>
                    <a:pt x="1058" y="2665"/>
                  </a:lnTo>
                  <a:lnTo>
                    <a:pt x="1058" y="2458"/>
                  </a:lnTo>
                  <a:lnTo>
                    <a:pt x="1168" y="2837"/>
                  </a:lnTo>
                  <a:lnTo>
                    <a:pt x="1243" y="2938"/>
                  </a:lnTo>
                  <a:lnTo>
                    <a:pt x="1318" y="2674"/>
                  </a:lnTo>
                  <a:lnTo>
                    <a:pt x="1433" y="2912"/>
                  </a:lnTo>
                  <a:lnTo>
                    <a:pt x="1658" y="2656"/>
                  </a:lnTo>
                  <a:lnTo>
                    <a:pt x="1861" y="2890"/>
                  </a:lnTo>
                  <a:lnTo>
                    <a:pt x="1954" y="2705"/>
                  </a:lnTo>
                  <a:lnTo>
                    <a:pt x="2201" y="2921"/>
                  </a:lnTo>
                  <a:lnTo>
                    <a:pt x="2285" y="2639"/>
                  </a:lnTo>
                  <a:lnTo>
                    <a:pt x="2532" y="2947"/>
                  </a:lnTo>
                  <a:lnTo>
                    <a:pt x="2704" y="2647"/>
                  </a:lnTo>
                  <a:lnTo>
                    <a:pt x="2973" y="2846"/>
                  </a:lnTo>
                  <a:lnTo>
                    <a:pt x="2946" y="2590"/>
                  </a:lnTo>
                  <a:lnTo>
                    <a:pt x="3250" y="2705"/>
                  </a:lnTo>
                  <a:lnTo>
                    <a:pt x="3118" y="2361"/>
                  </a:lnTo>
                  <a:lnTo>
                    <a:pt x="3317" y="2506"/>
                  </a:lnTo>
                  <a:lnTo>
                    <a:pt x="3136" y="2104"/>
                  </a:lnTo>
                  <a:lnTo>
                    <a:pt x="3409" y="2361"/>
                  </a:lnTo>
                  <a:lnTo>
                    <a:pt x="3021" y="1831"/>
                  </a:lnTo>
                  <a:lnTo>
                    <a:pt x="3343" y="2047"/>
                  </a:lnTo>
                  <a:lnTo>
                    <a:pt x="3021" y="1689"/>
                  </a:lnTo>
                  <a:lnTo>
                    <a:pt x="3211" y="1751"/>
                  </a:lnTo>
                  <a:lnTo>
                    <a:pt x="3343" y="1839"/>
                  </a:lnTo>
                  <a:lnTo>
                    <a:pt x="3259" y="1676"/>
                  </a:lnTo>
                  <a:lnTo>
                    <a:pt x="3118" y="1531"/>
                  </a:lnTo>
                  <a:lnTo>
                    <a:pt x="3026" y="1438"/>
                  </a:lnTo>
                  <a:lnTo>
                    <a:pt x="2964" y="1363"/>
                  </a:lnTo>
                  <a:lnTo>
                    <a:pt x="3078" y="1412"/>
                  </a:lnTo>
                  <a:lnTo>
                    <a:pt x="3193" y="1517"/>
                  </a:lnTo>
                  <a:lnTo>
                    <a:pt x="3334" y="1650"/>
                  </a:lnTo>
                  <a:lnTo>
                    <a:pt x="3409" y="1716"/>
                  </a:lnTo>
                  <a:lnTo>
                    <a:pt x="3268" y="1491"/>
                  </a:lnTo>
                  <a:lnTo>
                    <a:pt x="3193" y="1345"/>
                  </a:lnTo>
                  <a:lnTo>
                    <a:pt x="3070" y="1271"/>
                  </a:lnTo>
                  <a:lnTo>
                    <a:pt x="2937" y="1196"/>
                  </a:lnTo>
                  <a:lnTo>
                    <a:pt x="3087" y="1204"/>
                  </a:lnTo>
                  <a:lnTo>
                    <a:pt x="3184" y="1253"/>
                  </a:lnTo>
                  <a:lnTo>
                    <a:pt x="3286" y="1345"/>
                  </a:lnTo>
                  <a:lnTo>
                    <a:pt x="3383" y="1412"/>
                  </a:lnTo>
                  <a:lnTo>
                    <a:pt x="3233" y="1129"/>
                  </a:lnTo>
                  <a:lnTo>
                    <a:pt x="3105" y="1015"/>
                  </a:lnTo>
                  <a:lnTo>
                    <a:pt x="3021" y="949"/>
                  </a:lnTo>
                  <a:lnTo>
                    <a:pt x="3184" y="984"/>
                  </a:lnTo>
                  <a:lnTo>
                    <a:pt x="3449" y="1112"/>
                  </a:lnTo>
                  <a:lnTo>
                    <a:pt x="3171" y="852"/>
                  </a:lnTo>
                  <a:lnTo>
                    <a:pt x="3061" y="777"/>
                  </a:lnTo>
                  <a:lnTo>
                    <a:pt x="2871" y="736"/>
                  </a:lnTo>
                  <a:lnTo>
                    <a:pt x="2792" y="727"/>
                  </a:lnTo>
                  <a:lnTo>
                    <a:pt x="2898" y="679"/>
                  </a:lnTo>
                  <a:lnTo>
                    <a:pt x="3087" y="718"/>
                  </a:lnTo>
                  <a:lnTo>
                    <a:pt x="3030" y="626"/>
                  </a:lnTo>
                  <a:lnTo>
                    <a:pt x="2880" y="586"/>
                  </a:lnTo>
                  <a:lnTo>
                    <a:pt x="2673" y="564"/>
                  </a:lnTo>
                  <a:lnTo>
                    <a:pt x="2554" y="564"/>
                  </a:lnTo>
                  <a:lnTo>
                    <a:pt x="2686" y="493"/>
                  </a:lnTo>
                  <a:lnTo>
                    <a:pt x="2505" y="463"/>
                  </a:lnTo>
                  <a:lnTo>
                    <a:pt x="2541" y="388"/>
                  </a:lnTo>
                  <a:lnTo>
                    <a:pt x="2792" y="388"/>
                  </a:lnTo>
                  <a:lnTo>
                    <a:pt x="3021" y="445"/>
                  </a:lnTo>
                  <a:lnTo>
                    <a:pt x="2871" y="321"/>
                  </a:lnTo>
                  <a:lnTo>
                    <a:pt x="2457" y="304"/>
                  </a:lnTo>
                  <a:lnTo>
                    <a:pt x="2342" y="343"/>
                  </a:lnTo>
                  <a:lnTo>
                    <a:pt x="2646" y="180"/>
                  </a:lnTo>
                  <a:lnTo>
                    <a:pt x="2792" y="132"/>
                  </a:lnTo>
                  <a:lnTo>
                    <a:pt x="2523" y="83"/>
                  </a:lnTo>
                  <a:lnTo>
                    <a:pt x="2258" y="163"/>
                  </a:lnTo>
                  <a:lnTo>
                    <a:pt x="2161" y="163"/>
                  </a:lnTo>
                  <a:lnTo>
                    <a:pt x="2285" y="0"/>
                  </a:lnTo>
                  <a:lnTo>
                    <a:pt x="2077" y="141"/>
                  </a:lnTo>
                  <a:lnTo>
                    <a:pt x="1972" y="114"/>
                  </a:lnTo>
                  <a:lnTo>
                    <a:pt x="1839" y="114"/>
                  </a:lnTo>
                  <a:lnTo>
                    <a:pt x="1729" y="163"/>
                  </a:lnTo>
                  <a:lnTo>
                    <a:pt x="1587" y="295"/>
                  </a:lnTo>
                  <a:lnTo>
                    <a:pt x="1547" y="48"/>
                  </a:lnTo>
                  <a:lnTo>
                    <a:pt x="1525" y="361"/>
                  </a:lnTo>
                  <a:close/>
                </a:path>
              </a:pathLst>
            </a:custGeom>
            <a:solidFill>
              <a:srgbClr val="804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4" name=""/>
            <p:cNvGrpSpPr/>
            <p:nvPr/>
          </p:nvGrpSpPr>
          <p:grpSpPr>
            <a:xfrm>
              <a:off x="3821040" y="2359080"/>
              <a:ext cx="1056240" cy="406800"/>
              <a:chOff x="3821040" y="2359080"/>
              <a:chExt cx="1056240" cy="406800"/>
            </a:xfrm>
          </p:grpSpPr>
          <p:sp>
            <p:nvSpPr>
              <p:cNvPr id="685" name=""/>
              <p:cNvSpPr/>
              <p:nvPr/>
            </p:nvSpPr>
            <p:spPr>
              <a:xfrm>
                <a:off x="3821040" y="2448000"/>
                <a:ext cx="433800" cy="187560"/>
              </a:xfrm>
              <a:custGeom>
                <a:avLst/>
                <a:gdLst/>
                <a:ahLst/>
                <a:rect l="0" t="0" r="r" b="b"/>
                <a:pathLst>
                  <a:path fill="none" w="1205" h="521">
                    <a:moveTo>
                      <a:pt x="1205" y="189"/>
                    </a:moveTo>
                    <a:lnTo>
                      <a:pt x="1139" y="92"/>
                    </a:lnTo>
                    <a:lnTo>
                      <a:pt x="1051" y="39"/>
                    </a:lnTo>
                    <a:lnTo>
                      <a:pt x="972" y="22"/>
                    </a:lnTo>
                    <a:lnTo>
                      <a:pt x="860" y="0"/>
                    </a:lnTo>
                    <a:lnTo>
                      <a:pt x="702" y="0"/>
                    </a:lnTo>
                    <a:lnTo>
                      <a:pt x="591" y="22"/>
                    </a:lnTo>
                    <a:lnTo>
                      <a:pt x="464" y="79"/>
                    </a:lnTo>
                    <a:lnTo>
                      <a:pt x="314" y="189"/>
                    </a:lnTo>
                    <a:lnTo>
                      <a:pt x="83" y="380"/>
                    </a:lnTo>
                    <a:lnTo>
                      <a:pt x="0" y="521"/>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4376880" y="2359080"/>
                <a:ext cx="279720" cy="130680"/>
              </a:xfrm>
              <a:custGeom>
                <a:avLst/>
                <a:gdLst/>
                <a:ahLst/>
                <a:rect l="0" t="0" r="r" b="b"/>
                <a:pathLst>
                  <a:path fill="none" w="777" h="363">
                    <a:moveTo>
                      <a:pt x="0" y="363"/>
                    </a:moveTo>
                    <a:lnTo>
                      <a:pt x="105" y="199"/>
                    </a:lnTo>
                    <a:lnTo>
                      <a:pt x="180" y="142"/>
                    </a:lnTo>
                    <a:lnTo>
                      <a:pt x="251" y="106"/>
                    </a:lnTo>
                    <a:lnTo>
                      <a:pt x="352" y="70"/>
                    </a:lnTo>
                    <a:lnTo>
                      <a:pt x="446" y="39"/>
                    </a:lnTo>
                    <a:lnTo>
                      <a:pt x="574" y="22"/>
                    </a:lnTo>
                    <a:lnTo>
                      <a:pt x="693" y="0"/>
                    </a:lnTo>
                    <a:lnTo>
                      <a:pt x="777"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4567320" y="2587680"/>
                <a:ext cx="309960" cy="62280"/>
              </a:xfrm>
              <a:custGeom>
                <a:avLst/>
                <a:gdLst/>
                <a:ahLst/>
                <a:rect l="0" t="0" r="r" b="b"/>
                <a:pathLst>
                  <a:path fill="none" w="861" h="173">
                    <a:moveTo>
                      <a:pt x="0" y="8"/>
                    </a:moveTo>
                    <a:lnTo>
                      <a:pt x="274" y="0"/>
                    </a:lnTo>
                    <a:lnTo>
                      <a:pt x="499" y="30"/>
                    </a:lnTo>
                    <a:lnTo>
                      <a:pt x="711" y="89"/>
                    </a:lnTo>
                    <a:lnTo>
                      <a:pt x="861" y="173"/>
                    </a:lnTo>
                  </a:path>
                </a:pathLst>
              </a:custGeom>
              <a:ln w="12600">
                <a:solidFill>
                  <a:srgbClr val="402000"/>
                </a:solidFill>
                <a:round/>
              </a:ln>
            </p:spPr>
            <p:txBody>
              <a:bodyPr lIns="96120" rIns="96120" tIns="11160" bIns="11160" anchor="t">
                <a:noAutofit/>
              </a:bodyPr>
              <a:p>
                <a:endParaRPr b="0" lang="en-US" sz="1800" spc="-1" strike="noStrike">
                  <a:solidFill>
                    <a:srgbClr val="000000"/>
                  </a:solidFill>
                  <a:latin typeface="Arial"/>
                </a:endParaRPr>
              </a:p>
            </p:txBody>
          </p:sp>
          <p:sp>
            <p:nvSpPr>
              <p:cNvPr id="688" name=""/>
              <p:cNvSpPr/>
              <p:nvPr/>
            </p:nvSpPr>
            <p:spPr>
              <a:xfrm>
                <a:off x="3895560" y="2540160"/>
                <a:ext cx="354240" cy="225720"/>
              </a:xfrm>
              <a:custGeom>
                <a:avLst/>
                <a:gdLst/>
                <a:ahLst/>
                <a:rect l="0" t="0" r="r" b="b"/>
                <a:pathLst>
                  <a:path fill="none" w="984" h="627">
                    <a:moveTo>
                      <a:pt x="984" y="17"/>
                    </a:moveTo>
                    <a:lnTo>
                      <a:pt x="750" y="0"/>
                    </a:lnTo>
                    <a:lnTo>
                      <a:pt x="534" y="17"/>
                    </a:lnTo>
                    <a:lnTo>
                      <a:pt x="321" y="123"/>
                    </a:lnTo>
                    <a:lnTo>
                      <a:pt x="123" y="331"/>
                    </a:lnTo>
                    <a:lnTo>
                      <a:pt x="35" y="486"/>
                    </a:lnTo>
                    <a:lnTo>
                      <a:pt x="0" y="62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3916440" y="2494080"/>
                <a:ext cx="306720" cy="132120"/>
              </a:xfrm>
              <a:custGeom>
                <a:avLst/>
                <a:gdLst/>
                <a:ahLst/>
                <a:rect l="0" t="0" r="r" b="b"/>
                <a:pathLst>
                  <a:path fill="none" w="852" h="367">
                    <a:moveTo>
                      <a:pt x="852" y="61"/>
                    </a:moveTo>
                    <a:lnTo>
                      <a:pt x="587" y="0"/>
                    </a:lnTo>
                    <a:lnTo>
                      <a:pt x="428" y="4"/>
                    </a:lnTo>
                    <a:lnTo>
                      <a:pt x="220" y="88"/>
                    </a:lnTo>
                    <a:lnTo>
                      <a:pt x="92" y="195"/>
                    </a:lnTo>
                    <a:lnTo>
                      <a:pt x="0" y="367"/>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4626000" y="2646360"/>
                <a:ext cx="236880" cy="97200"/>
              </a:xfrm>
              <a:custGeom>
                <a:avLst/>
                <a:gdLst/>
                <a:ahLst/>
                <a:rect l="0" t="0" r="r" b="b"/>
                <a:pathLst>
                  <a:path fill="none" w="658" h="270">
                    <a:moveTo>
                      <a:pt x="0" y="0"/>
                    </a:moveTo>
                    <a:lnTo>
                      <a:pt x="136" y="0"/>
                    </a:lnTo>
                    <a:lnTo>
                      <a:pt x="295" y="30"/>
                    </a:lnTo>
                    <a:lnTo>
                      <a:pt x="380" y="75"/>
                    </a:lnTo>
                    <a:lnTo>
                      <a:pt x="525" y="164"/>
                    </a:lnTo>
                    <a:lnTo>
                      <a:pt x="658" y="270"/>
                    </a:lnTo>
                  </a:path>
                </a:pathLst>
              </a:custGeom>
              <a:ln w="12600">
                <a:solidFill>
                  <a:srgbClr val="402000"/>
                </a:solidFill>
                <a:round/>
              </a:ln>
            </p:spPr>
            <p:txBody>
              <a:bodyPr lIns="96120" rIns="96120" tIns="46080" bIns="46080" anchor="t">
                <a:noAutofit/>
              </a:bodyPr>
              <a:p>
                <a:endParaRPr b="0" lang="en-US" sz="1800" spc="-1" strike="noStrike">
                  <a:solidFill>
                    <a:srgbClr val="000000"/>
                  </a:solidFill>
                  <a:latin typeface="Arial"/>
                </a:endParaRPr>
              </a:p>
            </p:txBody>
          </p:sp>
          <p:sp>
            <p:nvSpPr>
              <p:cNvPr id="691" name=""/>
              <p:cNvSpPr/>
              <p:nvPr/>
            </p:nvSpPr>
            <p:spPr>
              <a:xfrm>
                <a:off x="4437000" y="2438280"/>
                <a:ext cx="255960" cy="41760"/>
              </a:xfrm>
              <a:custGeom>
                <a:avLst/>
                <a:gdLst/>
                <a:ahLst/>
                <a:rect l="0" t="0" r="r" b="b"/>
                <a:pathLst>
                  <a:path fill="none" w="711" h="116">
                    <a:moveTo>
                      <a:pt x="0" y="116"/>
                    </a:moveTo>
                    <a:lnTo>
                      <a:pt x="123" y="67"/>
                    </a:lnTo>
                    <a:lnTo>
                      <a:pt x="305" y="17"/>
                    </a:lnTo>
                    <a:lnTo>
                      <a:pt x="477" y="0"/>
                    </a:lnTo>
                    <a:lnTo>
                      <a:pt x="711" y="0"/>
                    </a:lnTo>
                  </a:path>
                </a:pathLst>
              </a:custGeom>
              <a:ln w="12600">
                <a:solidFill>
                  <a:srgbClr val="402000"/>
                </a:solidFill>
                <a:round/>
              </a:ln>
            </p:spPr>
            <p:txBody>
              <a:bodyPr lIns="96120" rIns="96120" tIns="-9360" bIns="-9360" anchor="t">
                <a:noAutofit/>
              </a:bodyPr>
              <a:p>
                <a:endParaRPr b="0" lang="en-US" sz="1800" spc="-1" strike="noStrike">
                  <a:solidFill>
                    <a:srgbClr val="000000"/>
                  </a:solidFill>
                  <a:latin typeface="Arial"/>
                </a:endParaRPr>
              </a:p>
            </p:txBody>
          </p:sp>
          <p:sp>
            <p:nvSpPr>
              <p:cNvPr id="692" name=""/>
              <p:cNvSpPr/>
              <p:nvPr/>
            </p:nvSpPr>
            <p:spPr>
              <a:xfrm>
                <a:off x="4546440" y="2533680"/>
                <a:ext cx="213120" cy="24120"/>
              </a:xfrm>
              <a:custGeom>
                <a:avLst/>
                <a:gdLst/>
                <a:ahLst/>
                <a:rect l="0" t="0" r="r" b="b"/>
                <a:pathLst>
                  <a:path fill="none" w="592" h="67">
                    <a:moveTo>
                      <a:pt x="0" y="67"/>
                    </a:moveTo>
                    <a:lnTo>
                      <a:pt x="199" y="26"/>
                    </a:lnTo>
                    <a:lnTo>
                      <a:pt x="353" y="8"/>
                    </a:lnTo>
                    <a:lnTo>
                      <a:pt x="460" y="0"/>
                    </a:lnTo>
                    <a:lnTo>
                      <a:pt x="592" y="0"/>
                    </a:lnTo>
                  </a:path>
                </a:pathLst>
              </a:custGeom>
              <a:ln w="12600">
                <a:solidFill>
                  <a:srgbClr val="402000"/>
                </a:solidFill>
                <a:round/>
              </a:ln>
            </p:spPr>
            <p:txBody>
              <a:bodyPr lIns="96120" rIns="96120" tIns="-27000" bIns="-27000" anchor="t">
                <a:noAutofit/>
              </a:bodyPr>
              <a:p>
                <a:endParaRPr b="0" lang="en-US" sz="1800" spc="-1" strike="noStrike">
                  <a:solidFill>
                    <a:srgbClr val="000000"/>
                  </a:solidFill>
                  <a:latin typeface="Arial"/>
                </a:endParaRPr>
              </a:p>
            </p:txBody>
          </p:sp>
          <p:sp>
            <p:nvSpPr>
              <p:cNvPr id="693" name=""/>
              <p:cNvSpPr/>
              <p:nvPr/>
            </p:nvSpPr>
            <p:spPr>
              <a:xfrm>
                <a:off x="4341960" y="2367000"/>
                <a:ext cx="116280" cy="122760"/>
              </a:xfrm>
              <a:custGeom>
                <a:avLst/>
                <a:gdLst/>
                <a:ahLst/>
                <a:rect l="0" t="0" r="r" b="b"/>
                <a:pathLst>
                  <a:path fill="none" w="323" h="341">
                    <a:moveTo>
                      <a:pt x="0" y="341"/>
                    </a:moveTo>
                    <a:lnTo>
                      <a:pt x="52" y="225"/>
                    </a:lnTo>
                    <a:lnTo>
                      <a:pt x="115" y="137"/>
                    </a:lnTo>
                    <a:lnTo>
                      <a:pt x="208" y="44"/>
                    </a:lnTo>
                    <a:lnTo>
                      <a:pt x="284" y="8"/>
                    </a:lnTo>
                    <a:lnTo>
                      <a:pt x="323" y="0"/>
                    </a:lnTo>
                  </a:path>
                </a:pathLst>
              </a:custGeom>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94" name=""/>
          <p:cNvGrpSpPr/>
          <p:nvPr/>
        </p:nvGrpSpPr>
        <p:grpSpPr>
          <a:xfrm>
            <a:off x="3675240" y="3786120"/>
            <a:ext cx="1647720" cy="987840"/>
            <a:chOff x="3675240" y="3786120"/>
            <a:chExt cx="1647720" cy="987840"/>
          </a:xfrm>
        </p:grpSpPr>
        <p:grpSp>
          <p:nvGrpSpPr>
            <p:cNvPr id="695" name=""/>
            <p:cNvGrpSpPr/>
            <p:nvPr/>
          </p:nvGrpSpPr>
          <p:grpSpPr>
            <a:xfrm>
              <a:off x="3675240" y="3909960"/>
              <a:ext cx="1647720" cy="864000"/>
              <a:chOff x="3675240" y="3909960"/>
              <a:chExt cx="1647720" cy="864000"/>
            </a:xfrm>
          </p:grpSpPr>
          <p:sp>
            <p:nvSpPr>
              <p:cNvPr id="696" name=""/>
              <p:cNvSpPr/>
              <p:nvPr/>
            </p:nvSpPr>
            <p:spPr>
              <a:xfrm>
                <a:off x="3675240" y="3909960"/>
                <a:ext cx="916200" cy="864000"/>
              </a:xfrm>
              <a:custGeom>
                <a:avLst/>
                <a:gdLst/>
                <a:ahLst/>
                <a:rect l="0" t="0" r="r" b="b"/>
                <a:pathLst>
                  <a:path w="2545" h="2400">
                    <a:moveTo>
                      <a:pt x="2364" y="114"/>
                    </a:moveTo>
                    <a:lnTo>
                      <a:pt x="2355" y="418"/>
                    </a:lnTo>
                    <a:lnTo>
                      <a:pt x="2316" y="768"/>
                    </a:lnTo>
                    <a:lnTo>
                      <a:pt x="2307" y="1046"/>
                    </a:lnTo>
                    <a:lnTo>
                      <a:pt x="2307" y="1187"/>
                    </a:lnTo>
                    <a:lnTo>
                      <a:pt x="2355" y="1500"/>
                    </a:lnTo>
                    <a:lnTo>
                      <a:pt x="2373" y="1681"/>
                    </a:lnTo>
                    <a:lnTo>
                      <a:pt x="2439" y="1827"/>
                    </a:lnTo>
                    <a:lnTo>
                      <a:pt x="2527" y="1973"/>
                    </a:lnTo>
                    <a:lnTo>
                      <a:pt x="2545" y="2096"/>
                    </a:lnTo>
                    <a:lnTo>
                      <a:pt x="2545" y="2162"/>
                    </a:lnTo>
                    <a:lnTo>
                      <a:pt x="2536" y="2228"/>
                    </a:lnTo>
                    <a:lnTo>
                      <a:pt x="2430" y="2286"/>
                    </a:lnTo>
                    <a:lnTo>
                      <a:pt x="2329" y="2352"/>
                    </a:lnTo>
                    <a:lnTo>
                      <a:pt x="2117" y="2334"/>
                    </a:lnTo>
                    <a:lnTo>
                      <a:pt x="1994" y="2325"/>
                    </a:lnTo>
                    <a:lnTo>
                      <a:pt x="1844" y="2286"/>
                    </a:lnTo>
                    <a:lnTo>
                      <a:pt x="1778" y="2268"/>
                    </a:lnTo>
                    <a:lnTo>
                      <a:pt x="1694" y="2277"/>
                    </a:lnTo>
                    <a:lnTo>
                      <a:pt x="1579" y="2343"/>
                    </a:lnTo>
                    <a:lnTo>
                      <a:pt x="1416" y="2374"/>
                    </a:lnTo>
                    <a:lnTo>
                      <a:pt x="1297" y="2400"/>
                    </a:lnTo>
                    <a:lnTo>
                      <a:pt x="1124" y="2400"/>
                    </a:lnTo>
                    <a:lnTo>
                      <a:pt x="956" y="2383"/>
                    </a:lnTo>
                    <a:lnTo>
                      <a:pt x="793" y="2334"/>
                    </a:lnTo>
                    <a:lnTo>
                      <a:pt x="709" y="2334"/>
                    </a:lnTo>
                    <a:lnTo>
                      <a:pt x="498" y="2334"/>
                    </a:lnTo>
                    <a:lnTo>
                      <a:pt x="388" y="2343"/>
                    </a:lnTo>
                    <a:lnTo>
                      <a:pt x="370" y="2343"/>
                    </a:lnTo>
                    <a:lnTo>
                      <a:pt x="282" y="2343"/>
                    </a:lnTo>
                    <a:lnTo>
                      <a:pt x="198" y="2334"/>
                    </a:lnTo>
                    <a:lnTo>
                      <a:pt x="57" y="2277"/>
                    </a:lnTo>
                    <a:lnTo>
                      <a:pt x="30" y="2220"/>
                    </a:lnTo>
                    <a:lnTo>
                      <a:pt x="8" y="2136"/>
                    </a:lnTo>
                    <a:lnTo>
                      <a:pt x="0" y="2061"/>
                    </a:lnTo>
                    <a:lnTo>
                      <a:pt x="35" y="1999"/>
                    </a:lnTo>
                    <a:lnTo>
                      <a:pt x="101" y="1981"/>
                    </a:lnTo>
                    <a:lnTo>
                      <a:pt x="207" y="1981"/>
                    </a:lnTo>
                    <a:lnTo>
                      <a:pt x="343" y="1995"/>
                    </a:lnTo>
                    <a:lnTo>
                      <a:pt x="582" y="2021"/>
                    </a:lnTo>
                    <a:lnTo>
                      <a:pt x="679" y="2012"/>
                    </a:lnTo>
                    <a:lnTo>
                      <a:pt x="754" y="1973"/>
                    </a:lnTo>
                    <a:lnTo>
                      <a:pt x="868" y="1880"/>
                    </a:lnTo>
                    <a:lnTo>
                      <a:pt x="1049" y="1764"/>
                    </a:lnTo>
                    <a:lnTo>
                      <a:pt x="1199" y="1672"/>
                    </a:lnTo>
                    <a:lnTo>
                      <a:pt x="1341" y="1606"/>
                    </a:lnTo>
                    <a:lnTo>
                      <a:pt x="1438" y="1579"/>
                    </a:lnTo>
                    <a:lnTo>
                      <a:pt x="1473" y="1531"/>
                    </a:lnTo>
                    <a:lnTo>
                      <a:pt x="1548" y="1226"/>
                    </a:lnTo>
                    <a:lnTo>
                      <a:pt x="1637" y="940"/>
                    </a:lnTo>
                    <a:lnTo>
                      <a:pt x="1676" y="759"/>
                    </a:lnTo>
                    <a:lnTo>
                      <a:pt x="1681" y="564"/>
                    </a:lnTo>
                    <a:lnTo>
                      <a:pt x="1614" y="427"/>
                    </a:lnTo>
                    <a:lnTo>
                      <a:pt x="1513" y="246"/>
                    </a:lnTo>
                    <a:lnTo>
                      <a:pt x="1429" y="0"/>
                    </a:lnTo>
                    <a:lnTo>
                      <a:pt x="2364"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4406760" y="3921120"/>
                <a:ext cx="916200" cy="852840"/>
              </a:xfrm>
              <a:custGeom>
                <a:avLst/>
                <a:gdLst/>
                <a:ahLst/>
                <a:rect l="0" t="0" r="r" b="b"/>
                <a:pathLst>
                  <a:path w="2545" h="2369">
                    <a:moveTo>
                      <a:pt x="180" y="83"/>
                    </a:moveTo>
                    <a:lnTo>
                      <a:pt x="189" y="388"/>
                    </a:lnTo>
                    <a:lnTo>
                      <a:pt x="229" y="736"/>
                    </a:lnTo>
                    <a:lnTo>
                      <a:pt x="233" y="1014"/>
                    </a:lnTo>
                    <a:lnTo>
                      <a:pt x="233" y="1155"/>
                    </a:lnTo>
                    <a:lnTo>
                      <a:pt x="189" y="1469"/>
                    </a:lnTo>
                    <a:lnTo>
                      <a:pt x="167" y="1650"/>
                    </a:lnTo>
                    <a:lnTo>
                      <a:pt x="101" y="1795"/>
                    </a:lnTo>
                    <a:lnTo>
                      <a:pt x="17" y="1941"/>
                    </a:lnTo>
                    <a:lnTo>
                      <a:pt x="0" y="2064"/>
                    </a:lnTo>
                    <a:lnTo>
                      <a:pt x="0" y="2130"/>
                    </a:lnTo>
                    <a:lnTo>
                      <a:pt x="8" y="2197"/>
                    </a:lnTo>
                    <a:lnTo>
                      <a:pt x="114" y="2254"/>
                    </a:lnTo>
                    <a:lnTo>
                      <a:pt x="216" y="2320"/>
                    </a:lnTo>
                    <a:lnTo>
                      <a:pt x="427" y="2302"/>
                    </a:lnTo>
                    <a:lnTo>
                      <a:pt x="546" y="2294"/>
                    </a:lnTo>
                    <a:lnTo>
                      <a:pt x="701" y="2254"/>
                    </a:lnTo>
                    <a:lnTo>
                      <a:pt x="767" y="2236"/>
                    </a:lnTo>
                    <a:lnTo>
                      <a:pt x="846" y="2245"/>
                    </a:lnTo>
                    <a:lnTo>
                      <a:pt x="961" y="2311"/>
                    </a:lnTo>
                    <a:lnTo>
                      <a:pt x="1124" y="2342"/>
                    </a:lnTo>
                    <a:lnTo>
                      <a:pt x="1247" y="2369"/>
                    </a:lnTo>
                    <a:lnTo>
                      <a:pt x="1420" y="2369"/>
                    </a:lnTo>
                    <a:lnTo>
                      <a:pt x="1592" y="2351"/>
                    </a:lnTo>
                    <a:lnTo>
                      <a:pt x="1747" y="2302"/>
                    </a:lnTo>
                    <a:lnTo>
                      <a:pt x="1835" y="2302"/>
                    </a:lnTo>
                    <a:lnTo>
                      <a:pt x="2042" y="2302"/>
                    </a:lnTo>
                    <a:lnTo>
                      <a:pt x="2157" y="2311"/>
                    </a:lnTo>
                    <a:lnTo>
                      <a:pt x="2174" y="2311"/>
                    </a:lnTo>
                    <a:lnTo>
                      <a:pt x="2258" y="2311"/>
                    </a:lnTo>
                    <a:lnTo>
                      <a:pt x="2346" y="2302"/>
                    </a:lnTo>
                    <a:lnTo>
                      <a:pt x="2488" y="2245"/>
                    </a:lnTo>
                    <a:lnTo>
                      <a:pt x="2514" y="2188"/>
                    </a:lnTo>
                    <a:lnTo>
                      <a:pt x="2532" y="2104"/>
                    </a:lnTo>
                    <a:lnTo>
                      <a:pt x="2545" y="2029"/>
                    </a:lnTo>
                    <a:lnTo>
                      <a:pt x="2505" y="1967"/>
                    </a:lnTo>
                    <a:lnTo>
                      <a:pt x="2439" y="1950"/>
                    </a:lnTo>
                    <a:lnTo>
                      <a:pt x="2338" y="1950"/>
                    </a:lnTo>
                    <a:lnTo>
                      <a:pt x="2205" y="1963"/>
                    </a:lnTo>
                    <a:lnTo>
                      <a:pt x="1958" y="1989"/>
                    </a:lnTo>
                    <a:lnTo>
                      <a:pt x="1861" y="1980"/>
                    </a:lnTo>
                    <a:lnTo>
                      <a:pt x="1786" y="1941"/>
                    </a:lnTo>
                    <a:lnTo>
                      <a:pt x="1672" y="1848"/>
                    </a:lnTo>
                    <a:lnTo>
                      <a:pt x="1495" y="1734"/>
                    </a:lnTo>
                    <a:lnTo>
                      <a:pt x="1341" y="1667"/>
                    </a:lnTo>
                    <a:lnTo>
                      <a:pt x="1190" y="1601"/>
                    </a:lnTo>
                    <a:lnTo>
                      <a:pt x="1106" y="1548"/>
                    </a:lnTo>
                    <a:lnTo>
                      <a:pt x="1067" y="1500"/>
                    </a:lnTo>
                    <a:lnTo>
                      <a:pt x="992" y="1196"/>
                    </a:lnTo>
                    <a:lnTo>
                      <a:pt x="908" y="908"/>
                    </a:lnTo>
                    <a:lnTo>
                      <a:pt x="868" y="727"/>
                    </a:lnTo>
                    <a:lnTo>
                      <a:pt x="859" y="533"/>
                    </a:lnTo>
                    <a:lnTo>
                      <a:pt x="895" y="379"/>
                    </a:lnTo>
                    <a:lnTo>
                      <a:pt x="952" y="207"/>
                    </a:lnTo>
                    <a:lnTo>
                      <a:pt x="992" y="0"/>
                    </a:lnTo>
                    <a:lnTo>
                      <a:pt x="180" y="8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98" name=""/>
            <p:cNvSpPr/>
            <p:nvPr/>
          </p:nvSpPr>
          <p:spPr>
            <a:xfrm>
              <a:off x="3998880" y="3786120"/>
              <a:ext cx="1054440" cy="587880"/>
            </a:xfrm>
            <a:custGeom>
              <a:avLst/>
              <a:gdLst/>
              <a:ahLst/>
              <a:rect l="0" t="0" r="r" b="b"/>
              <a:pathLst>
                <a:path w="2929" h="1633">
                  <a:moveTo>
                    <a:pt x="317" y="92"/>
                  </a:moveTo>
                  <a:lnTo>
                    <a:pt x="604" y="264"/>
                  </a:lnTo>
                  <a:lnTo>
                    <a:pt x="886" y="357"/>
                  </a:lnTo>
                  <a:lnTo>
                    <a:pt x="1150" y="396"/>
                  </a:lnTo>
                  <a:lnTo>
                    <a:pt x="1397" y="419"/>
                  </a:lnTo>
                  <a:lnTo>
                    <a:pt x="1628" y="396"/>
                  </a:lnTo>
                  <a:lnTo>
                    <a:pt x="1813" y="357"/>
                  </a:lnTo>
                  <a:lnTo>
                    <a:pt x="2113" y="304"/>
                  </a:lnTo>
                  <a:lnTo>
                    <a:pt x="2307" y="224"/>
                  </a:lnTo>
                  <a:lnTo>
                    <a:pt x="2474" y="132"/>
                  </a:lnTo>
                  <a:lnTo>
                    <a:pt x="2704" y="0"/>
                  </a:lnTo>
                  <a:lnTo>
                    <a:pt x="2814" y="379"/>
                  </a:lnTo>
                  <a:lnTo>
                    <a:pt x="2893" y="777"/>
                  </a:lnTo>
                  <a:lnTo>
                    <a:pt x="2929" y="1307"/>
                  </a:lnTo>
                  <a:lnTo>
                    <a:pt x="2664" y="644"/>
                  </a:lnTo>
                  <a:lnTo>
                    <a:pt x="2664" y="1307"/>
                  </a:lnTo>
                  <a:lnTo>
                    <a:pt x="2421" y="834"/>
                  </a:lnTo>
                  <a:lnTo>
                    <a:pt x="2421" y="1518"/>
                  </a:lnTo>
                  <a:lnTo>
                    <a:pt x="2210" y="834"/>
                  </a:lnTo>
                  <a:lnTo>
                    <a:pt x="2135" y="1501"/>
                  </a:lnTo>
                  <a:lnTo>
                    <a:pt x="1963" y="874"/>
                  </a:lnTo>
                  <a:lnTo>
                    <a:pt x="1892" y="1576"/>
                  </a:lnTo>
                  <a:lnTo>
                    <a:pt x="1663" y="852"/>
                  </a:lnTo>
                  <a:lnTo>
                    <a:pt x="1588" y="1479"/>
                  </a:lnTo>
                  <a:lnTo>
                    <a:pt x="1495" y="891"/>
                  </a:lnTo>
                  <a:lnTo>
                    <a:pt x="1300" y="1633"/>
                  </a:lnTo>
                  <a:lnTo>
                    <a:pt x="1190" y="891"/>
                  </a:lnTo>
                  <a:lnTo>
                    <a:pt x="1075" y="1633"/>
                  </a:lnTo>
                  <a:lnTo>
                    <a:pt x="1075" y="852"/>
                  </a:lnTo>
                  <a:lnTo>
                    <a:pt x="776" y="1611"/>
                  </a:lnTo>
                  <a:lnTo>
                    <a:pt x="776" y="984"/>
                  </a:lnTo>
                  <a:lnTo>
                    <a:pt x="489" y="1611"/>
                  </a:lnTo>
                  <a:lnTo>
                    <a:pt x="661" y="777"/>
                  </a:lnTo>
                  <a:lnTo>
                    <a:pt x="264" y="1501"/>
                  </a:lnTo>
                  <a:lnTo>
                    <a:pt x="432" y="702"/>
                  </a:lnTo>
                  <a:lnTo>
                    <a:pt x="0" y="1346"/>
                  </a:lnTo>
                  <a:lnTo>
                    <a:pt x="35" y="1024"/>
                  </a:lnTo>
                  <a:lnTo>
                    <a:pt x="57" y="816"/>
                  </a:lnTo>
                  <a:lnTo>
                    <a:pt x="132" y="530"/>
                  </a:lnTo>
                  <a:lnTo>
                    <a:pt x="224" y="304"/>
                  </a:lnTo>
                  <a:lnTo>
                    <a:pt x="317" y="92"/>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99" name=""/>
          <p:cNvSpPr/>
          <p:nvPr/>
        </p:nvSpPr>
        <p:spPr>
          <a:xfrm>
            <a:off x="4078440" y="2505240"/>
            <a:ext cx="609840" cy="711720"/>
          </a:xfrm>
          <a:custGeom>
            <a:avLst/>
            <a:gdLst/>
            <a:ahLst/>
            <a:rect l="0" t="0" r="r" b="b"/>
            <a:pathLst>
              <a:path w="1694" h="1977">
                <a:moveTo>
                  <a:pt x="852" y="0"/>
                </a:moveTo>
                <a:lnTo>
                  <a:pt x="740" y="13"/>
                </a:lnTo>
                <a:lnTo>
                  <a:pt x="626" y="57"/>
                </a:lnTo>
                <a:lnTo>
                  <a:pt x="493" y="154"/>
                </a:lnTo>
                <a:lnTo>
                  <a:pt x="357" y="299"/>
                </a:lnTo>
                <a:lnTo>
                  <a:pt x="229" y="480"/>
                </a:lnTo>
                <a:lnTo>
                  <a:pt x="123" y="680"/>
                </a:lnTo>
                <a:lnTo>
                  <a:pt x="48" y="874"/>
                </a:lnTo>
                <a:lnTo>
                  <a:pt x="13" y="1015"/>
                </a:lnTo>
                <a:lnTo>
                  <a:pt x="0" y="1134"/>
                </a:lnTo>
                <a:lnTo>
                  <a:pt x="0" y="1284"/>
                </a:lnTo>
                <a:lnTo>
                  <a:pt x="30" y="1363"/>
                </a:lnTo>
                <a:lnTo>
                  <a:pt x="74" y="1438"/>
                </a:lnTo>
                <a:lnTo>
                  <a:pt x="141" y="1545"/>
                </a:lnTo>
                <a:lnTo>
                  <a:pt x="198" y="1660"/>
                </a:lnTo>
                <a:lnTo>
                  <a:pt x="260" y="1726"/>
                </a:lnTo>
                <a:lnTo>
                  <a:pt x="348" y="1805"/>
                </a:lnTo>
                <a:lnTo>
                  <a:pt x="445" y="1876"/>
                </a:lnTo>
                <a:lnTo>
                  <a:pt x="586" y="1933"/>
                </a:lnTo>
                <a:lnTo>
                  <a:pt x="740" y="1973"/>
                </a:lnTo>
                <a:lnTo>
                  <a:pt x="882" y="1977"/>
                </a:lnTo>
                <a:lnTo>
                  <a:pt x="1081" y="1959"/>
                </a:lnTo>
                <a:lnTo>
                  <a:pt x="1248" y="1924"/>
                </a:lnTo>
                <a:lnTo>
                  <a:pt x="1337" y="1884"/>
                </a:lnTo>
                <a:lnTo>
                  <a:pt x="1425" y="1832"/>
                </a:lnTo>
                <a:lnTo>
                  <a:pt x="1544" y="1739"/>
                </a:lnTo>
                <a:lnTo>
                  <a:pt x="1619" y="1602"/>
                </a:lnTo>
                <a:lnTo>
                  <a:pt x="1689" y="1425"/>
                </a:lnTo>
                <a:lnTo>
                  <a:pt x="1694" y="1284"/>
                </a:lnTo>
                <a:lnTo>
                  <a:pt x="1689" y="1143"/>
                </a:lnTo>
                <a:lnTo>
                  <a:pt x="1663" y="997"/>
                </a:lnTo>
                <a:lnTo>
                  <a:pt x="1641" y="896"/>
                </a:lnTo>
                <a:lnTo>
                  <a:pt x="1575" y="737"/>
                </a:lnTo>
                <a:lnTo>
                  <a:pt x="1531" y="636"/>
                </a:lnTo>
                <a:lnTo>
                  <a:pt x="1447" y="503"/>
                </a:lnTo>
                <a:lnTo>
                  <a:pt x="1372" y="370"/>
                </a:lnTo>
                <a:lnTo>
                  <a:pt x="1315" y="286"/>
                </a:lnTo>
                <a:lnTo>
                  <a:pt x="1253" y="194"/>
                </a:lnTo>
                <a:lnTo>
                  <a:pt x="1169" y="123"/>
                </a:lnTo>
                <a:lnTo>
                  <a:pt x="1090" y="57"/>
                </a:lnTo>
                <a:lnTo>
                  <a:pt x="1006" y="22"/>
                </a:lnTo>
                <a:lnTo>
                  <a:pt x="852"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0" name=""/>
          <p:cNvGrpSpPr/>
          <p:nvPr/>
        </p:nvGrpSpPr>
        <p:grpSpPr>
          <a:xfrm>
            <a:off x="4129200" y="2593800"/>
            <a:ext cx="658800" cy="518040"/>
            <a:chOff x="4129200" y="2593800"/>
            <a:chExt cx="658800" cy="518040"/>
          </a:xfrm>
        </p:grpSpPr>
        <p:grpSp>
          <p:nvGrpSpPr>
            <p:cNvPr id="701" name=""/>
            <p:cNvGrpSpPr/>
            <p:nvPr/>
          </p:nvGrpSpPr>
          <p:grpSpPr>
            <a:xfrm>
              <a:off x="4367160" y="2730600"/>
              <a:ext cx="341640" cy="209880"/>
              <a:chOff x="4367160" y="2730600"/>
              <a:chExt cx="341640" cy="209880"/>
            </a:xfrm>
          </p:grpSpPr>
          <p:sp>
            <p:nvSpPr>
              <p:cNvPr id="702" name=""/>
              <p:cNvSpPr/>
              <p:nvPr/>
            </p:nvSpPr>
            <p:spPr>
              <a:xfrm>
                <a:off x="4367160" y="2730600"/>
                <a:ext cx="325800" cy="195480"/>
              </a:xfrm>
              <a:custGeom>
                <a:avLst/>
                <a:gdLst/>
                <a:ahLst/>
                <a:rect l="0" t="0" r="r" b="b"/>
                <a:pathLst>
                  <a:path w="905" h="543">
                    <a:moveTo>
                      <a:pt x="302" y="8"/>
                    </a:moveTo>
                    <a:lnTo>
                      <a:pt x="429" y="8"/>
                    </a:lnTo>
                    <a:lnTo>
                      <a:pt x="569" y="0"/>
                    </a:lnTo>
                    <a:lnTo>
                      <a:pt x="646" y="8"/>
                    </a:lnTo>
                    <a:lnTo>
                      <a:pt x="681" y="16"/>
                    </a:lnTo>
                    <a:lnTo>
                      <a:pt x="719" y="24"/>
                    </a:lnTo>
                    <a:lnTo>
                      <a:pt x="757" y="37"/>
                    </a:lnTo>
                    <a:lnTo>
                      <a:pt x="795" y="57"/>
                    </a:lnTo>
                    <a:lnTo>
                      <a:pt x="829" y="78"/>
                    </a:lnTo>
                    <a:lnTo>
                      <a:pt x="859" y="120"/>
                    </a:lnTo>
                    <a:lnTo>
                      <a:pt x="880" y="149"/>
                    </a:lnTo>
                    <a:lnTo>
                      <a:pt x="897" y="178"/>
                    </a:lnTo>
                    <a:lnTo>
                      <a:pt x="901" y="211"/>
                    </a:lnTo>
                    <a:lnTo>
                      <a:pt x="905" y="244"/>
                    </a:lnTo>
                    <a:lnTo>
                      <a:pt x="905" y="278"/>
                    </a:lnTo>
                    <a:lnTo>
                      <a:pt x="901" y="315"/>
                    </a:lnTo>
                    <a:lnTo>
                      <a:pt x="897" y="348"/>
                    </a:lnTo>
                    <a:lnTo>
                      <a:pt x="884" y="373"/>
                    </a:lnTo>
                    <a:lnTo>
                      <a:pt x="863" y="410"/>
                    </a:lnTo>
                    <a:lnTo>
                      <a:pt x="838" y="435"/>
                    </a:lnTo>
                    <a:lnTo>
                      <a:pt x="774" y="481"/>
                    </a:lnTo>
                    <a:lnTo>
                      <a:pt x="736" y="493"/>
                    </a:lnTo>
                    <a:lnTo>
                      <a:pt x="685" y="506"/>
                    </a:lnTo>
                    <a:lnTo>
                      <a:pt x="620" y="526"/>
                    </a:lnTo>
                    <a:lnTo>
                      <a:pt x="556" y="535"/>
                    </a:lnTo>
                    <a:lnTo>
                      <a:pt x="472" y="543"/>
                    </a:lnTo>
                    <a:lnTo>
                      <a:pt x="387" y="543"/>
                    </a:lnTo>
                    <a:lnTo>
                      <a:pt x="315" y="543"/>
                    </a:lnTo>
                    <a:lnTo>
                      <a:pt x="234" y="530"/>
                    </a:lnTo>
                    <a:lnTo>
                      <a:pt x="161" y="510"/>
                    </a:lnTo>
                    <a:lnTo>
                      <a:pt x="97" y="501"/>
                    </a:lnTo>
                    <a:lnTo>
                      <a:pt x="0" y="481"/>
                    </a:lnTo>
                    <a:lnTo>
                      <a:pt x="302" y="8"/>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3" name=""/>
              <p:cNvSpPr/>
              <p:nvPr/>
            </p:nvSpPr>
            <p:spPr>
              <a:xfrm>
                <a:off x="4367160" y="2730600"/>
                <a:ext cx="341640" cy="209880"/>
              </a:xfrm>
              <a:custGeom>
                <a:avLst/>
                <a:gdLst/>
                <a:ahLst/>
                <a:rect l="0" t="0" r="r" b="b"/>
                <a:pathLst>
                  <a:path fill="none" w="949" h="583">
                    <a:moveTo>
                      <a:pt x="313" y="8"/>
                    </a:moveTo>
                    <a:lnTo>
                      <a:pt x="449" y="8"/>
                    </a:lnTo>
                    <a:lnTo>
                      <a:pt x="596" y="0"/>
                    </a:lnTo>
                    <a:lnTo>
                      <a:pt x="671" y="8"/>
                    </a:lnTo>
                    <a:lnTo>
                      <a:pt x="710" y="17"/>
                    </a:lnTo>
                    <a:lnTo>
                      <a:pt x="750" y="26"/>
                    </a:lnTo>
                    <a:lnTo>
                      <a:pt x="790" y="39"/>
                    </a:lnTo>
                    <a:lnTo>
                      <a:pt x="830" y="61"/>
                    </a:lnTo>
                    <a:lnTo>
                      <a:pt x="865" y="83"/>
                    </a:lnTo>
                    <a:lnTo>
                      <a:pt x="900" y="127"/>
                    </a:lnTo>
                    <a:lnTo>
                      <a:pt x="918" y="158"/>
                    </a:lnTo>
                    <a:lnTo>
                      <a:pt x="935" y="189"/>
                    </a:lnTo>
                    <a:lnTo>
                      <a:pt x="940" y="224"/>
                    </a:lnTo>
                    <a:lnTo>
                      <a:pt x="949" y="260"/>
                    </a:lnTo>
                    <a:lnTo>
                      <a:pt x="949" y="296"/>
                    </a:lnTo>
                    <a:lnTo>
                      <a:pt x="940" y="340"/>
                    </a:lnTo>
                    <a:lnTo>
                      <a:pt x="935" y="375"/>
                    </a:lnTo>
                    <a:lnTo>
                      <a:pt x="922" y="402"/>
                    </a:lnTo>
                    <a:lnTo>
                      <a:pt x="900" y="437"/>
                    </a:lnTo>
                    <a:lnTo>
                      <a:pt x="874" y="472"/>
                    </a:lnTo>
                    <a:lnTo>
                      <a:pt x="807" y="516"/>
                    </a:lnTo>
                    <a:lnTo>
                      <a:pt x="768" y="530"/>
                    </a:lnTo>
                    <a:lnTo>
                      <a:pt x="715" y="543"/>
                    </a:lnTo>
                    <a:lnTo>
                      <a:pt x="649" y="565"/>
                    </a:lnTo>
                    <a:lnTo>
                      <a:pt x="583" y="574"/>
                    </a:lnTo>
                    <a:lnTo>
                      <a:pt x="494" y="583"/>
                    </a:lnTo>
                    <a:lnTo>
                      <a:pt x="405" y="583"/>
                    </a:lnTo>
                    <a:lnTo>
                      <a:pt x="326" y="583"/>
                    </a:lnTo>
                    <a:lnTo>
                      <a:pt x="246" y="569"/>
                    </a:lnTo>
                    <a:lnTo>
                      <a:pt x="167" y="552"/>
                    </a:lnTo>
                    <a:lnTo>
                      <a:pt x="101" y="538"/>
                    </a:lnTo>
                    <a:lnTo>
                      <a:pt x="0" y="51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04" name=""/>
            <p:cNvGrpSpPr/>
            <p:nvPr/>
          </p:nvGrpSpPr>
          <p:grpSpPr>
            <a:xfrm>
              <a:off x="4245120" y="2593800"/>
              <a:ext cx="284400" cy="225720"/>
              <a:chOff x="4245120" y="2593800"/>
              <a:chExt cx="284400" cy="225720"/>
            </a:xfrm>
          </p:grpSpPr>
          <p:grpSp>
            <p:nvGrpSpPr>
              <p:cNvPr id="705" name=""/>
              <p:cNvGrpSpPr/>
              <p:nvPr/>
            </p:nvGrpSpPr>
            <p:grpSpPr>
              <a:xfrm>
                <a:off x="4245120" y="2593800"/>
                <a:ext cx="241560" cy="225720"/>
                <a:chOff x="4245120" y="2593800"/>
                <a:chExt cx="241560" cy="225720"/>
              </a:xfrm>
            </p:grpSpPr>
            <p:sp>
              <p:nvSpPr>
                <p:cNvPr id="706" name=""/>
                <p:cNvSpPr/>
                <p:nvPr/>
              </p:nvSpPr>
              <p:spPr>
                <a:xfrm>
                  <a:off x="4282920" y="2604960"/>
                  <a:ext cx="74880" cy="41760"/>
                </a:xfrm>
                <a:custGeom>
                  <a:avLst/>
                  <a:gdLst/>
                  <a:ahLst/>
                  <a:rect l="0" t="0" r="r" b="b"/>
                  <a:pathLst>
                    <a:path fill="none" w="208" h="116">
                      <a:moveTo>
                        <a:pt x="0" y="116"/>
                      </a:moveTo>
                      <a:lnTo>
                        <a:pt x="35" y="75"/>
                      </a:lnTo>
                      <a:lnTo>
                        <a:pt x="70" y="40"/>
                      </a:lnTo>
                      <a:lnTo>
                        <a:pt x="101" y="17"/>
                      </a:lnTo>
                      <a:lnTo>
                        <a:pt x="120" y="8"/>
                      </a:lnTo>
                      <a:lnTo>
                        <a:pt x="168" y="0"/>
                      </a:lnTo>
                      <a:lnTo>
                        <a:pt x="208"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07" name=""/>
                <p:cNvSpPr/>
                <p:nvPr/>
              </p:nvSpPr>
              <p:spPr>
                <a:xfrm>
                  <a:off x="4433760" y="2593800"/>
                  <a:ext cx="52920" cy="25920"/>
                </a:xfrm>
                <a:custGeom>
                  <a:avLst/>
                  <a:gdLst/>
                  <a:ahLst/>
                  <a:rect l="0" t="0" r="r" b="b"/>
                  <a:pathLst>
                    <a:path fill="none" w="147" h="72">
                      <a:moveTo>
                        <a:pt x="0" y="0"/>
                      </a:moveTo>
                      <a:lnTo>
                        <a:pt x="26" y="0"/>
                      </a:lnTo>
                      <a:lnTo>
                        <a:pt x="49" y="4"/>
                      </a:lnTo>
                      <a:lnTo>
                        <a:pt x="84" y="17"/>
                      </a:lnTo>
                      <a:lnTo>
                        <a:pt x="121" y="40"/>
                      </a:lnTo>
                      <a:lnTo>
                        <a:pt x="147"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08" name=""/>
                <p:cNvSpPr/>
                <p:nvPr/>
              </p:nvSpPr>
              <p:spPr>
                <a:xfrm flipV="1">
                  <a:off x="4245120" y="2760840"/>
                  <a:ext cx="6192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09" name=""/>
                <p:cNvSpPr/>
                <p:nvPr/>
              </p:nvSpPr>
              <p:spPr>
                <a:xfrm flipV="1">
                  <a:off x="4251240" y="2778120"/>
                  <a:ext cx="54000" cy="41400"/>
                </a:xfrm>
                <a:prstGeom prst="line">
                  <a:avLst/>
                </a:prstGeom>
                <a:ln w="12600">
                  <a:solidFill>
                    <a:srgbClr val="000000"/>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grpSp>
          <p:grpSp>
            <p:nvGrpSpPr>
              <p:cNvPr id="710" name=""/>
              <p:cNvGrpSpPr/>
              <p:nvPr/>
            </p:nvGrpSpPr>
            <p:grpSpPr>
              <a:xfrm>
                <a:off x="4324320" y="2673360"/>
                <a:ext cx="205200" cy="62280"/>
                <a:chOff x="4324320" y="2673360"/>
                <a:chExt cx="205200" cy="62280"/>
              </a:xfrm>
            </p:grpSpPr>
            <p:sp>
              <p:nvSpPr>
                <p:cNvPr id="711" name=""/>
                <p:cNvSpPr/>
                <p:nvPr/>
              </p:nvSpPr>
              <p:spPr>
                <a:xfrm>
                  <a:off x="4324320" y="2682720"/>
                  <a:ext cx="79560" cy="36720"/>
                </a:xfrm>
                <a:custGeom>
                  <a:avLst/>
                  <a:gdLst/>
                  <a:ahLst/>
                  <a:rect l="0" t="0" r="r" b="b"/>
                  <a:pathLst>
                    <a:path fill="none" w="221" h="102">
                      <a:moveTo>
                        <a:pt x="221" y="0"/>
                      </a:moveTo>
                      <a:lnTo>
                        <a:pt x="181" y="22"/>
                      </a:lnTo>
                      <a:lnTo>
                        <a:pt x="120" y="53"/>
                      </a:lnTo>
                      <a:lnTo>
                        <a:pt x="88" y="71"/>
                      </a:lnTo>
                      <a:lnTo>
                        <a:pt x="30" y="89"/>
                      </a:lnTo>
                      <a:lnTo>
                        <a:pt x="0" y="102"/>
                      </a:lnTo>
                    </a:path>
                  </a:pathLst>
                </a:custGeom>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2" name=""/>
                <p:cNvSpPr/>
                <p:nvPr/>
              </p:nvSpPr>
              <p:spPr>
                <a:xfrm>
                  <a:off x="4457880" y="2673360"/>
                  <a:ext cx="71640" cy="25920"/>
                </a:xfrm>
                <a:custGeom>
                  <a:avLst/>
                  <a:gdLst/>
                  <a:ahLst/>
                  <a:rect l="0" t="0" r="r" b="b"/>
                  <a:pathLst>
                    <a:path fill="none" w="199" h="72">
                      <a:moveTo>
                        <a:pt x="0" y="0"/>
                      </a:moveTo>
                      <a:lnTo>
                        <a:pt x="26" y="13"/>
                      </a:lnTo>
                      <a:lnTo>
                        <a:pt x="57" y="27"/>
                      </a:lnTo>
                      <a:lnTo>
                        <a:pt x="97" y="45"/>
                      </a:lnTo>
                      <a:lnTo>
                        <a:pt x="124" y="59"/>
                      </a:lnTo>
                      <a:lnTo>
                        <a:pt x="155" y="63"/>
                      </a:lnTo>
                      <a:lnTo>
                        <a:pt x="181" y="72"/>
                      </a:lnTo>
                      <a:lnTo>
                        <a:pt x="199"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713" name=""/>
                <p:cNvGrpSpPr/>
                <p:nvPr/>
              </p:nvGrpSpPr>
              <p:grpSpPr>
                <a:xfrm>
                  <a:off x="4351320" y="2673360"/>
                  <a:ext cx="154440" cy="62280"/>
                  <a:chOff x="4351320" y="2673360"/>
                  <a:chExt cx="154440" cy="62280"/>
                </a:xfrm>
              </p:grpSpPr>
              <p:sp>
                <p:nvSpPr>
                  <p:cNvPr id="714" name=""/>
                  <p:cNvSpPr/>
                  <p:nvPr/>
                </p:nvSpPr>
                <p:spPr>
                  <a:xfrm>
                    <a:off x="4351320" y="2682720"/>
                    <a:ext cx="52920" cy="52920"/>
                  </a:xfrm>
                  <a:custGeom>
                    <a:avLst/>
                    <a:gdLst/>
                    <a:ahLst/>
                    <a:rect l="0" t="0" r="r" b="b"/>
                    <a:pathLst>
                      <a:path w="147" h="147">
                        <a:moveTo>
                          <a:pt x="147" y="0"/>
                        </a:moveTo>
                        <a:lnTo>
                          <a:pt x="147" y="26"/>
                        </a:lnTo>
                        <a:lnTo>
                          <a:pt x="147" y="62"/>
                        </a:lnTo>
                        <a:lnTo>
                          <a:pt x="147" y="98"/>
                        </a:lnTo>
                        <a:lnTo>
                          <a:pt x="147" y="116"/>
                        </a:lnTo>
                        <a:lnTo>
                          <a:pt x="134" y="134"/>
                        </a:lnTo>
                        <a:lnTo>
                          <a:pt x="106" y="147"/>
                        </a:lnTo>
                        <a:lnTo>
                          <a:pt x="84" y="147"/>
                        </a:lnTo>
                        <a:lnTo>
                          <a:pt x="45" y="147"/>
                        </a:lnTo>
                        <a:lnTo>
                          <a:pt x="13" y="138"/>
                        </a:lnTo>
                        <a:lnTo>
                          <a:pt x="4" y="125"/>
                        </a:lnTo>
                        <a:lnTo>
                          <a:pt x="0" y="102"/>
                        </a:lnTo>
                        <a:lnTo>
                          <a:pt x="0" y="89"/>
                        </a:lnTo>
                        <a:lnTo>
                          <a:pt x="4" y="80"/>
                        </a:lnTo>
                        <a:lnTo>
                          <a:pt x="45" y="58"/>
                        </a:lnTo>
                        <a:lnTo>
                          <a:pt x="80" y="40"/>
                        </a:lnTo>
                        <a:lnTo>
                          <a:pt x="116" y="17"/>
                        </a:lnTo>
                        <a:lnTo>
                          <a:pt x="147" y="0"/>
                        </a:lnTo>
                        <a:close/>
                      </a:path>
                    </a:pathLst>
                  </a:custGeom>
                  <a:solidFill>
                    <a:srgbClr val="ffffff"/>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715" name=""/>
                  <p:cNvSpPr/>
                  <p:nvPr/>
                </p:nvSpPr>
                <p:spPr>
                  <a:xfrm>
                    <a:off x="4454640" y="2673360"/>
                    <a:ext cx="51120" cy="49680"/>
                  </a:xfrm>
                  <a:custGeom>
                    <a:avLst/>
                    <a:gdLst/>
                    <a:ahLst/>
                    <a:rect l="0" t="0" r="r" b="b"/>
                    <a:pathLst>
                      <a:path w="142" h="138">
                        <a:moveTo>
                          <a:pt x="8" y="0"/>
                        </a:moveTo>
                        <a:lnTo>
                          <a:pt x="4" y="8"/>
                        </a:lnTo>
                        <a:lnTo>
                          <a:pt x="4" y="30"/>
                        </a:lnTo>
                        <a:lnTo>
                          <a:pt x="0" y="58"/>
                        </a:lnTo>
                        <a:lnTo>
                          <a:pt x="0" y="84"/>
                        </a:lnTo>
                        <a:lnTo>
                          <a:pt x="4" y="107"/>
                        </a:lnTo>
                        <a:lnTo>
                          <a:pt x="8" y="112"/>
                        </a:lnTo>
                        <a:lnTo>
                          <a:pt x="26" y="129"/>
                        </a:lnTo>
                        <a:lnTo>
                          <a:pt x="57" y="138"/>
                        </a:lnTo>
                        <a:lnTo>
                          <a:pt x="98" y="134"/>
                        </a:lnTo>
                        <a:lnTo>
                          <a:pt x="124" y="121"/>
                        </a:lnTo>
                        <a:lnTo>
                          <a:pt x="133" y="107"/>
                        </a:lnTo>
                        <a:lnTo>
                          <a:pt x="137" y="93"/>
                        </a:lnTo>
                        <a:lnTo>
                          <a:pt x="142" y="75"/>
                        </a:lnTo>
                        <a:lnTo>
                          <a:pt x="137" y="62"/>
                        </a:lnTo>
                        <a:lnTo>
                          <a:pt x="133" y="58"/>
                        </a:lnTo>
                        <a:lnTo>
                          <a:pt x="102" y="45"/>
                        </a:lnTo>
                        <a:lnTo>
                          <a:pt x="70" y="30"/>
                        </a:lnTo>
                        <a:lnTo>
                          <a:pt x="44" y="17"/>
                        </a:lnTo>
                        <a:lnTo>
                          <a:pt x="8" y="0"/>
                        </a:lnTo>
                        <a:close/>
                      </a:path>
                    </a:pathLst>
                  </a:custGeom>
                  <a:solidFill>
                    <a:srgbClr val="ffff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nvGrpSpPr>
                  <p:cNvPr id="716" name=""/>
                  <p:cNvGrpSpPr/>
                  <p:nvPr/>
                </p:nvGrpSpPr>
                <p:grpSpPr>
                  <a:xfrm>
                    <a:off x="4368960" y="2695680"/>
                    <a:ext cx="17640" cy="28440"/>
                    <a:chOff x="4368960" y="2695680"/>
                    <a:chExt cx="17640" cy="28440"/>
                  </a:xfrm>
                </p:grpSpPr>
                <p:sp>
                  <p:nvSpPr>
                    <p:cNvPr id="717" name=""/>
                    <p:cNvSpPr/>
                    <p:nvPr/>
                  </p:nvSpPr>
                  <p:spPr>
                    <a:xfrm>
                      <a:off x="4368960" y="269568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718" name=""/>
                    <p:cNvSpPr/>
                    <p:nvPr/>
                  </p:nvSpPr>
                  <p:spPr>
                    <a:xfrm rot="10800000">
                      <a:off x="4371840" y="2703600"/>
                      <a:ext cx="64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719" name=""/>
                  <p:cNvGrpSpPr/>
                  <p:nvPr/>
                </p:nvGrpSpPr>
                <p:grpSpPr>
                  <a:xfrm>
                    <a:off x="4467240" y="2682720"/>
                    <a:ext cx="17640" cy="28440"/>
                    <a:chOff x="4467240" y="2682720"/>
                    <a:chExt cx="17640" cy="28440"/>
                  </a:xfrm>
                </p:grpSpPr>
                <p:sp>
                  <p:nvSpPr>
                    <p:cNvPr id="720" name=""/>
                    <p:cNvSpPr/>
                    <p:nvPr/>
                  </p:nvSpPr>
                  <p:spPr>
                    <a:xfrm>
                      <a:off x="4467240" y="2682720"/>
                      <a:ext cx="17640" cy="28440"/>
                    </a:xfrm>
                    <a:prstGeom prst="ellipse">
                      <a:avLst/>
                    </a:prstGeom>
                    <a:solidFill>
                      <a:srgbClr val="8080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721" name=""/>
                    <p:cNvSpPr/>
                    <p:nvPr/>
                  </p:nvSpPr>
                  <p:spPr>
                    <a:xfrm rot="10800000">
                      <a:off x="4470480" y="2692440"/>
                      <a:ext cx="468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grpSp>
            </p:grpSp>
          </p:grpSp>
        </p:grpSp>
        <p:grpSp>
          <p:nvGrpSpPr>
            <p:cNvPr id="722" name=""/>
            <p:cNvGrpSpPr/>
            <p:nvPr/>
          </p:nvGrpSpPr>
          <p:grpSpPr>
            <a:xfrm>
              <a:off x="4265640" y="2940120"/>
              <a:ext cx="316440" cy="171720"/>
              <a:chOff x="4265640" y="2940120"/>
              <a:chExt cx="316440" cy="171720"/>
            </a:xfrm>
          </p:grpSpPr>
          <p:sp>
            <p:nvSpPr>
              <p:cNvPr id="723" name=""/>
              <p:cNvSpPr/>
              <p:nvPr/>
            </p:nvSpPr>
            <p:spPr>
              <a:xfrm>
                <a:off x="4313160" y="3029040"/>
                <a:ext cx="60840" cy="59040"/>
              </a:xfrm>
              <a:custGeom>
                <a:avLst/>
                <a:gdLst/>
                <a:ahLst/>
                <a:rect l="0" t="0" r="r" b="b"/>
                <a:pathLst>
                  <a:path w="169" h="164">
                    <a:moveTo>
                      <a:pt x="30" y="0"/>
                    </a:moveTo>
                    <a:lnTo>
                      <a:pt x="8" y="22"/>
                    </a:lnTo>
                    <a:lnTo>
                      <a:pt x="0" y="57"/>
                    </a:lnTo>
                    <a:lnTo>
                      <a:pt x="0" y="84"/>
                    </a:lnTo>
                    <a:lnTo>
                      <a:pt x="0" y="111"/>
                    </a:lnTo>
                    <a:lnTo>
                      <a:pt x="8" y="128"/>
                    </a:lnTo>
                    <a:lnTo>
                      <a:pt x="17" y="142"/>
                    </a:lnTo>
                    <a:lnTo>
                      <a:pt x="30" y="150"/>
                    </a:lnTo>
                    <a:lnTo>
                      <a:pt x="39" y="159"/>
                    </a:lnTo>
                    <a:lnTo>
                      <a:pt x="62" y="164"/>
                    </a:lnTo>
                    <a:lnTo>
                      <a:pt x="80" y="164"/>
                    </a:lnTo>
                    <a:lnTo>
                      <a:pt x="98" y="159"/>
                    </a:lnTo>
                    <a:lnTo>
                      <a:pt x="129" y="150"/>
                    </a:lnTo>
                    <a:lnTo>
                      <a:pt x="156" y="124"/>
                    </a:lnTo>
                    <a:lnTo>
                      <a:pt x="169" y="106"/>
                    </a:lnTo>
                    <a:lnTo>
                      <a:pt x="169" y="98"/>
                    </a:lnTo>
                    <a:lnTo>
                      <a:pt x="143" y="74"/>
                    </a:lnTo>
                    <a:lnTo>
                      <a:pt x="98" y="48"/>
                    </a:lnTo>
                    <a:lnTo>
                      <a:pt x="53" y="17"/>
                    </a:lnTo>
                    <a:lnTo>
                      <a:pt x="30" y="0"/>
                    </a:lnTo>
                    <a:close/>
                  </a:path>
                </a:pathLst>
              </a:custGeom>
              <a:solidFill>
                <a:srgbClr val="ff404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724" name=""/>
              <p:cNvSpPr/>
              <p:nvPr/>
            </p:nvSpPr>
            <p:spPr>
              <a:xfrm>
                <a:off x="4265640" y="2940120"/>
                <a:ext cx="316440" cy="171720"/>
              </a:xfrm>
              <a:custGeom>
                <a:avLst/>
                <a:gdLst/>
                <a:ahLst/>
                <a:rect l="0" t="0" r="r" b="b"/>
                <a:pathLst>
                  <a:path fill="none" w="879" h="477">
                    <a:moveTo>
                      <a:pt x="0" y="74"/>
                    </a:moveTo>
                    <a:lnTo>
                      <a:pt x="35" y="136"/>
                    </a:lnTo>
                    <a:lnTo>
                      <a:pt x="79" y="185"/>
                    </a:lnTo>
                    <a:lnTo>
                      <a:pt x="180" y="261"/>
                    </a:lnTo>
                    <a:lnTo>
                      <a:pt x="296" y="336"/>
                    </a:lnTo>
                    <a:lnTo>
                      <a:pt x="371" y="380"/>
                    </a:lnTo>
                    <a:lnTo>
                      <a:pt x="437" y="419"/>
                    </a:lnTo>
                    <a:lnTo>
                      <a:pt x="499" y="450"/>
                    </a:lnTo>
                    <a:lnTo>
                      <a:pt x="583" y="477"/>
                    </a:lnTo>
                    <a:lnTo>
                      <a:pt x="631" y="477"/>
                    </a:lnTo>
                    <a:lnTo>
                      <a:pt x="694" y="446"/>
                    </a:lnTo>
                    <a:lnTo>
                      <a:pt x="747" y="393"/>
                    </a:lnTo>
                    <a:lnTo>
                      <a:pt x="813" y="314"/>
                    </a:lnTo>
                    <a:lnTo>
                      <a:pt x="848" y="229"/>
                    </a:lnTo>
                    <a:lnTo>
                      <a:pt x="870" y="171"/>
                    </a:lnTo>
                    <a:lnTo>
                      <a:pt x="879" y="97"/>
                    </a:lnTo>
                    <a:lnTo>
                      <a:pt x="879" y="39"/>
                    </a:lnTo>
                    <a:lnTo>
                      <a:pt x="87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25" name=""/>
            <p:cNvGrpSpPr/>
            <p:nvPr/>
          </p:nvGrpSpPr>
          <p:grpSpPr>
            <a:xfrm>
              <a:off x="4129200" y="2911320"/>
              <a:ext cx="658800" cy="180000"/>
              <a:chOff x="4129200" y="2911320"/>
              <a:chExt cx="658800" cy="180000"/>
            </a:xfrm>
          </p:grpSpPr>
          <p:sp>
            <p:nvSpPr>
              <p:cNvPr id="726" name=""/>
              <p:cNvSpPr/>
              <p:nvPr/>
            </p:nvSpPr>
            <p:spPr>
              <a:xfrm>
                <a:off x="4129200" y="2911320"/>
                <a:ext cx="249480" cy="41760"/>
              </a:xfrm>
              <a:custGeom>
                <a:avLst/>
                <a:gdLst/>
                <a:ahLst/>
                <a:rect l="0" t="0" r="r" b="b"/>
                <a:pathLst>
                  <a:path fill="none" w="693" h="116">
                    <a:moveTo>
                      <a:pt x="0" y="116"/>
                    </a:moveTo>
                    <a:lnTo>
                      <a:pt x="211" y="53"/>
                    </a:lnTo>
                    <a:lnTo>
                      <a:pt x="389" y="36"/>
                    </a:lnTo>
                    <a:lnTo>
                      <a:pt x="618" y="0"/>
                    </a:lnTo>
                    <a:lnTo>
                      <a:pt x="693" y="4"/>
                    </a:lnTo>
                  </a:path>
                </a:pathLst>
              </a:custGeom>
              <a:ln w="12600">
                <a:solidFill>
                  <a:srgbClr val="804000"/>
                </a:solidFill>
                <a:round/>
              </a:ln>
            </p:spPr>
            <p:txBody>
              <a:bodyPr lIns="96120" rIns="96120" tIns="-9360" bIns="-9360" anchor="t">
                <a:noAutofit/>
              </a:bodyPr>
              <a:p>
                <a:endParaRPr b="0" lang="en-US" sz="1800" spc="-1" strike="noStrike">
                  <a:solidFill>
                    <a:srgbClr val="000000"/>
                  </a:solidFill>
                  <a:latin typeface="Arial"/>
                </a:endParaRPr>
              </a:p>
            </p:txBody>
          </p:sp>
          <p:sp>
            <p:nvSpPr>
              <p:cNvPr id="727" name=""/>
              <p:cNvSpPr/>
              <p:nvPr/>
            </p:nvSpPr>
            <p:spPr>
              <a:xfrm>
                <a:off x="4189320" y="2919240"/>
                <a:ext cx="203400" cy="95760"/>
              </a:xfrm>
              <a:custGeom>
                <a:avLst/>
                <a:gdLst/>
                <a:ahLst/>
                <a:rect l="0" t="0" r="r" b="b"/>
                <a:pathLst>
                  <a:path fill="none" w="565" h="266">
                    <a:moveTo>
                      <a:pt x="0" y="266"/>
                    </a:moveTo>
                    <a:lnTo>
                      <a:pt x="211" y="172"/>
                    </a:lnTo>
                    <a:lnTo>
                      <a:pt x="411" y="80"/>
                    </a:lnTo>
                    <a:lnTo>
                      <a:pt x="565" y="0"/>
                    </a:lnTo>
                  </a:path>
                </a:pathLst>
              </a:custGeom>
              <a:ln w="12600">
                <a:solidFill>
                  <a:srgbClr val="804000"/>
                </a:solidFill>
                <a:round/>
              </a:ln>
            </p:spPr>
            <p:txBody>
              <a:bodyPr lIns="96120" rIns="96120" tIns="44640" bIns="44640" anchor="t">
                <a:noAutofit/>
              </a:bodyPr>
              <a:p>
                <a:endParaRPr b="0" lang="en-US" sz="1800" spc="-1" strike="noStrike">
                  <a:solidFill>
                    <a:srgbClr val="000000"/>
                  </a:solidFill>
                  <a:latin typeface="Arial"/>
                </a:endParaRPr>
              </a:p>
            </p:txBody>
          </p:sp>
          <p:sp>
            <p:nvSpPr>
              <p:cNvPr id="728" name=""/>
              <p:cNvSpPr/>
              <p:nvPr/>
            </p:nvSpPr>
            <p:spPr>
              <a:xfrm>
                <a:off x="4255920" y="2928960"/>
                <a:ext cx="163800" cy="162360"/>
              </a:xfrm>
              <a:custGeom>
                <a:avLst/>
                <a:gdLst/>
                <a:ahLst/>
                <a:rect l="0" t="0" r="r" b="b"/>
                <a:pathLst>
                  <a:path fill="none" w="455" h="451">
                    <a:moveTo>
                      <a:pt x="0" y="451"/>
                    </a:moveTo>
                    <a:lnTo>
                      <a:pt x="189" y="261"/>
                    </a:lnTo>
                    <a:lnTo>
                      <a:pt x="358" y="88"/>
                    </a:lnTo>
                    <a:lnTo>
                      <a:pt x="455" y="0"/>
                    </a:lnTo>
                  </a:path>
                </a:pathLst>
              </a:custGeom>
              <a:ln w="12600">
                <a:solidFill>
                  <a:srgbClr val="804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4567320" y="2943360"/>
                <a:ext cx="173520" cy="93960"/>
              </a:xfrm>
              <a:custGeom>
                <a:avLst/>
                <a:gdLst/>
                <a:ahLst/>
                <a:rect l="0" t="0" r="r" b="b"/>
                <a:pathLst>
                  <a:path fill="none" w="482" h="261">
                    <a:moveTo>
                      <a:pt x="0" y="0"/>
                    </a:moveTo>
                    <a:lnTo>
                      <a:pt x="150" y="17"/>
                    </a:lnTo>
                    <a:lnTo>
                      <a:pt x="269" y="44"/>
                    </a:lnTo>
                    <a:lnTo>
                      <a:pt x="368" y="123"/>
                    </a:lnTo>
                    <a:lnTo>
                      <a:pt x="451" y="221"/>
                    </a:lnTo>
                    <a:lnTo>
                      <a:pt x="482" y="261"/>
                    </a:lnTo>
                  </a:path>
                </a:pathLst>
              </a:custGeom>
              <a:ln w="12600">
                <a:solidFill>
                  <a:srgbClr val="804000"/>
                </a:solidFill>
                <a:round/>
              </a:ln>
            </p:spPr>
            <p:txBody>
              <a:bodyPr lIns="96120" rIns="96120" tIns="42840" bIns="42840" anchor="t">
                <a:noAutofit/>
              </a:bodyPr>
              <a:p>
                <a:endParaRPr b="0" lang="en-US" sz="1800" spc="-1" strike="noStrike">
                  <a:solidFill>
                    <a:srgbClr val="000000"/>
                  </a:solidFill>
                  <a:latin typeface="Arial"/>
                </a:endParaRPr>
              </a:p>
            </p:txBody>
          </p:sp>
          <p:sp>
            <p:nvSpPr>
              <p:cNvPr id="730" name=""/>
              <p:cNvSpPr/>
              <p:nvPr/>
            </p:nvSpPr>
            <p:spPr>
              <a:xfrm>
                <a:off x="4611600" y="2930400"/>
                <a:ext cx="176400" cy="46440"/>
              </a:xfrm>
              <a:custGeom>
                <a:avLst/>
                <a:gdLst/>
                <a:ahLst/>
                <a:rect l="0" t="0" r="r" b="b"/>
                <a:pathLst>
                  <a:path fill="none" w="490" h="129">
                    <a:moveTo>
                      <a:pt x="0" y="0"/>
                    </a:moveTo>
                    <a:lnTo>
                      <a:pt x="176" y="0"/>
                    </a:lnTo>
                    <a:lnTo>
                      <a:pt x="305" y="8"/>
                    </a:lnTo>
                    <a:lnTo>
                      <a:pt x="424" y="67"/>
                    </a:lnTo>
                    <a:lnTo>
                      <a:pt x="490" y="129"/>
                    </a:lnTo>
                  </a:path>
                </a:pathLst>
              </a:custGeom>
              <a:ln w="12600">
                <a:solidFill>
                  <a:srgbClr val="804000"/>
                </a:solidFill>
                <a:round/>
              </a:ln>
            </p:spPr>
            <p:txBody>
              <a:bodyPr lIns="96120" rIns="96120" tIns="-4680" bIns="-4680" anchor="t">
                <a:noAutofit/>
              </a:bodyPr>
              <a:p>
                <a:endParaRPr b="0" lang="en-US" sz="1800" spc="-1" strike="noStrike">
                  <a:solidFill>
                    <a:srgbClr val="000000"/>
                  </a:solidFill>
                  <a:latin typeface="Arial"/>
                </a:endParaRPr>
              </a:p>
            </p:txBody>
          </p:sp>
        </p:grpSp>
      </p:grpSp>
      <p:grpSp>
        <p:nvGrpSpPr>
          <p:cNvPr id="731" name=""/>
          <p:cNvGrpSpPr/>
          <p:nvPr/>
        </p:nvGrpSpPr>
        <p:grpSpPr>
          <a:xfrm>
            <a:off x="5186520" y="3479760"/>
            <a:ext cx="279720" cy="332280"/>
            <a:chOff x="5186520" y="3479760"/>
            <a:chExt cx="279720" cy="332280"/>
          </a:xfrm>
        </p:grpSpPr>
        <p:sp>
          <p:nvSpPr>
            <p:cNvPr id="732" name=""/>
            <p:cNvSpPr/>
            <p:nvPr/>
          </p:nvSpPr>
          <p:spPr>
            <a:xfrm>
              <a:off x="5189400" y="3568680"/>
              <a:ext cx="262440" cy="117720"/>
            </a:xfrm>
            <a:custGeom>
              <a:avLst/>
              <a:gdLst/>
              <a:ahLst/>
              <a:rect l="0" t="0" r="r" b="b"/>
              <a:pathLst>
                <a:path w="729" h="327">
                  <a:moveTo>
                    <a:pt x="632" y="8"/>
                  </a:moveTo>
                  <a:lnTo>
                    <a:pt x="562" y="0"/>
                  </a:lnTo>
                  <a:lnTo>
                    <a:pt x="450" y="8"/>
                  </a:lnTo>
                  <a:lnTo>
                    <a:pt x="318" y="30"/>
                  </a:lnTo>
                  <a:lnTo>
                    <a:pt x="186" y="61"/>
                  </a:lnTo>
                  <a:lnTo>
                    <a:pt x="97" y="92"/>
                  </a:lnTo>
                  <a:lnTo>
                    <a:pt x="35" y="114"/>
                  </a:lnTo>
                  <a:lnTo>
                    <a:pt x="4" y="158"/>
                  </a:lnTo>
                  <a:lnTo>
                    <a:pt x="0" y="199"/>
                  </a:lnTo>
                  <a:lnTo>
                    <a:pt x="4" y="239"/>
                  </a:lnTo>
                  <a:lnTo>
                    <a:pt x="39" y="292"/>
                  </a:lnTo>
                  <a:lnTo>
                    <a:pt x="79" y="309"/>
                  </a:lnTo>
                  <a:lnTo>
                    <a:pt x="149" y="327"/>
                  </a:lnTo>
                  <a:lnTo>
                    <a:pt x="225" y="322"/>
                  </a:lnTo>
                  <a:lnTo>
                    <a:pt x="353" y="292"/>
                  </a:lnTo>
                  <a:lnTo>
                    <a:pt x="508" y="269"/>
                  </a:lnTo>
                  <a:lnTo>
                    <a:pt x="614" y="239"/>
                  </a:lnTo>
                  <a:lnTo>
                    <a:pt x="676" y="208"/>
                  </a:lnTo>
                  <a:lnTo>
                    <a:pt x="707" y="190"/>
                  </a:lnTo>
                  <a:lnTo>
                    <a:pt x="729" y="149"/>
                  </a:lnTo>
                  <a:lnTo>
                    <a:pt x="729" y="110"/>
                  </a:lnTo>
                  <a:lnTo>
                    <a:pt x="725" y="61"/>
                  </a:lnTo>
                  <a:lnTo>
                    <a:pt x="694" y="22"/>
                  </a:lnTo>
                  <a:lnTo>
                    <a:pt x="632" y="8"/>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5186520" y="3479760"/>
              <a:ext cx="244800" cy="124200"/>
            </a:xfrm>
            <a:custGeom>
              <a:avLst/>
              <a:gdLst/>
              <a:ahLst/>
              <a:rect l="0" t="0" r="r" b="b"/>
              <a:pathLst>
                <a:path w="680" h="345">
                  <a:moveTo>
                    <a:pt x="508" y="0"/>
                  </a:moveTo>
                  <a:lnTo>
                    <a:pt x="411" y="0"/>
                  </a:lnTo>
                  <a:lnTo>
                    <a:pt x="321" y="17"/>
                  </a:lnTo>
                  <a:lnTo>
                    <a:pt x="255" y="26"/>
                  </a:lnTo>
                  <a:lnTo>
                    <a:pt x="167" y="48"/>
                  </a:lnTo>
                  <a:lnTo>
                    <a:pt x="88" y="83"/>
                  </a:lnTo>
                  <a:lnTo>
                    <a:pt x="30" y="124"/>
                  </a:lnTo>
                  <a:lnTo>
                    <a:pt x="8" y="159"/>
                  </a:lnTo>
                  <a:lnTo>
                    <a:pt x="0" y="199"/>
                  </a:lnTo>
                  <a:lnTo>
                    <a:pt x="8" y="239"/>
                  </a:lnTo>
                  <a:lnTo>
                    <a:pt x="30" y="275"/>
                  </a:lnTo>
                  <a:lnTo>
                    <a:pt x="48" y="310"/>
                  </a:lnTo>
                  <a:lnTo>
                    <a:pt x="92" y="345"/>
                  </a:lnTo>
                  <a:lnTo>
                    <a:pt x="163" y="345"/>
                  </a:lnTo>
                  <a:lnTo>
                    <a:pt x="273" y="328"/>
                  </a:lnTo>
                  <a:lnTo>
                    <a:pt x="375" y="306"/>
                  </a:lnTo>
                  <a:lnTo>
                    <a:pt x="508" y="270"/>
                  </a:lnTo>
                  <a:lnTo>
                    <a:pt x="609" y="239"/>
                  </a:lnTo>
                  <a:lnTo>
                    <a:pt x="658" y="195"/>
                  </a:lnTo>
                  <a:lnTo>
                    <a:pt x="680" y="142"/>
                  </a:lnTo>
                  <a:lnTo>
                    <a:pt x="680" y="102"/>
                  </a:lnTo>
                  <a:lnTo>
                    <a:pt x="658" y="61"/>
                  </a:lnTo>
                  <a:lnTo>
                    <a:pt x="622" y="35"/>
                  </a:lnTo>
                  <a:lnTo>
                    <a:pt x="574" y="13"/>
                  </a:lnTo>
                  <a:lnTo>
                    <a:pt x="508" y="0"/>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5207040" y="3654360"/>
              <a:ext cx="259200" cy="157680"/>
            </a:xfrm>
            <a:custGeom>
              <a:avLst/>
              <a:gdLst/>
              <a:ahLst/>
              <a:rect l="0" t="0" r="r" b="b"/>
              <a:pathLst>
                <a:path w="720" h="438">
                  <a:moveTo>
                    <a:pt x="17" y="133"/>
                  </a:moveTo>
                  <a:lnTo>
                    <a:pt x="57" y="97"/>
                  </a:lnTo>
                  <a:lnTo>
                    <a:pt x="123" y="70"/>
                  </a:lnTo>
                  <a:lnTo>
                    <a:pt x="252" y="39"/>
                  </a:lnTo>
                  <a:lnTo>
                    <a:pt x="371" y="17"/>
                  </a:lnTo>
                  <a:lnTo>
                    <a:pt x="508" y="0"/>
                  </a:lnTo>
                  <a:lnTo>
                    <a:pt x="575" y="4"/>
                  </a:lnTo>
                  <a:lnTo>
                    <a:pt x="659" y="35"/>
                  </a:lnTo>
                  <a:lnTo>
                    <a:pt x="711" y="83"/>
                  </a:lnTo>
                  <a:lnTo>
                    <a:pt x="720" y="137"/>
                  </a:lnTo>
                  <a:lnTo>
                    <a:pt x="694" y="217"/>
                  </a:lnTo>
                  <a:lnTo>
                    <a:pt x="614" y="305"/>
                  </a:lnTo>
                  <a:lnTo>
                    <a:pt x="548" y="363"/>
                  </a:lnTo>
                  <a:lnTo>
                    <a:pt x="468" y="394"/>
                  </a:lnTo>
                  <a:lnTo>
                    <a:pt x="367" y="429"/>
                  </a:lnTo>
                  <a:lnTo>
                    <a:pt x="239" y="438"/>
                  </a:lnTo>
                  <a:lnTo>
                    <a:pt x="176" y="438"/>
                  </a:lnTo>
                  <a:lnTo>
                    <a:pt x="234" y="345"/>
                  </a:lnTo>
                  <a:lnTo>
                    <a:pt x="123" y="322"/>
                  </a:lnTo>
                  <a:lnTo>
                    <a:pt x="61" y="305"/>
                  </a:lnTo>
                  <a:lnTo>
                    <a:pt x="17" y="278"/>
                  </a:lnTo>
                  <a:lnTo>
                    <a:pt x="0" y="243"/>
                  </a:lnTo>
                  <a:lnTo>
                    <a:pt x="0" y="181"/>
                  </a:lnTo>
                  <a:lnTo>
                    <a:pt x="17" y="133"/>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35" name=""/>
          <p:cNvSpPr/>
          <p:nvPr/>
        </p:nvSpPr>
        <p:spPr>
          <a:xfrm>
            <a:off x="3914640" y="3746520"/>
            <a:ext cx="124200" cy="298800"/>
          </a:xfrm>
          <a:custGeom>
            <a:avLst/>
            <a:gdLst/>
            <a:ahLst/>
            <a:rect l="0" t="0" r="r" b="b"/>
            <a:pathLst>
              <a:path w="345" h="830">
                <a:moveTo>
                  <a:pt x="345" y="51"/>
                </a:moveTo>
                <a:lnTo>
                  <a:pt x="213" y="0"/>
                </a:lnTo>
                <a:lnTo>
                  <a:pt x="0" y="766"/>
                </a:lnTo>
                <a:lnTo>
                  <a:pt x="115" y="830"/>
                </a:lnTo>
                <a:lnTo>
                  <a:pt x="345" y="51"/>
                </a:lnTo>
                <a:close/>
              </a:path>
            </a:pathLst>
          </a:custGeom>
          <a:gradFill rotWithShape="0">
            <a:gsLst>
              <a:gs pos="0">
                <a:srgbClr val="ffffff"/>
              </a:gs>
              <a:gs pos="100000">
                <a:srgbClr val="4c4c4c"/>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4749840" y="2736720"/>
            <a:ext cx="857520" cy="501840"/>
          </a:xfrm>
          <a:custGeom>
            <a:avLst/>
            <a:gdLst/>
            <a:ahLst/>
            <a:rect l="0" t="0" r="r" b="b"/>
            <a:pathLst>
              <a:path w="2382" h="1394">
                <a:moveTo>
                  <a:pt x="1171" y="1394"/>
                </a:moveTo>
                <a:lnTo>
                  <a:pt x="1096" y="976"/>
                </a:lnTo>
                <a:lnTo>
                  <a:pt x="661" y="1185"/>
                </a:lnTo>
                <a:lnTo>
                  <a:pt x="0" y="929"/>
                </a:lnTo>
                <a:lnTo>
                  <a:pt x="548" y="603"/>
                </a:lnTo>
                <a:lnTo>
                  <a:pt x="1286" y="348"/>
                </a:lnTo>
                <a:lnTo>
                  <a:pt x="1777" y="0"/>
                </a:lnTo>
                <a:lnTo>
                  <a:pt x="2363" y="185"/>
                </a:lnTo>
                <a:lnTo>
                  <a:pt x="2382" y="418"/>
                </a:lnTo>
                <a:lnTo>
                  <a:pt x="1796" y="696"/>
                </a:lnTo>
                <a:lnTo>
                  <a:pt x="1267" y="906"/>
                </a:lnTo>
                <a:lnTo>
                  <a:pt x="1342" y="1301"/>
                </a:lnTo>
                <a:lnTo>
                  <a:pt x="1171" y="1394"/>
                </a:lnTo>
                <a:close/>
              </a:path>
            </a:pathLst>
          </a:custGeom>
          <a:gradFill rotWithShape="0">
            <a:gsLst>
              <a:gs pos="0">
                <a:srgbClr val="ffffff"/>
              </a:gs>
              <a:gs pos="100000">
                <a:srgbClr val="4c4c4c"/>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064040" y="2921040"/>
            <a:ext cx="698760" cy="635400"/>
          </a:xfrm>
          <a:custGeom>
            <a:avLst/>
            <a:gdLst/>
            <a:ahLst/>
            <a:rect l="0" t="0" r="r" b="b"/>
            <a:pathLst>
              <a:path w="1941" h="1765">
                <a:moveTo>
                  <a:pt x="92" y="1765"/>
                </a:moveTo>
                <a:lnTo>
                  <a:pt x="50" y="1691"/>
                </a:lnTo>
                <a:lnTo>
                  <a:pt x="0" y="1641"/>
                </a:lnTo>
                <a:lnTo>
                  <a:pt x="143" y="1317"/>
                </a:lnTo>
                <a:lnTo>
                  <a:pt x="658" y="945"/>
                </a:lnTo>
                <a:lnTo>
                  <a:pt x="1350" y="622"/>
                </a:lnTo>
                <a:lnTo>
                  <a:pt x="1856" y="0"/>
                </a:lnTo>
                <a:lnTo>
                  <a:pt x="1941" y="124"/>
                </a:lnTo>
                <a:lnTo>
                  <a:pt x="1409" y="746"/>
                </a:lnTo>
                <a:lnTo>
                  <a:pt x="691" y="1118"/>
                </a:lnTo>
                <a:lnTo>
                  <a:pt x="236" y="1418"/>
                </a:lnTo>
                <a:lnTo>
                  <a:pt x="92" y="1765"/>
                </a:lnTo>
                <a:close/>
              </a:path>
            </a:pathLst>
          </a:custGeom>
          <a:gradFill rotWithShape="0">
            <a:gsLst>
              <a:gs pos="0">
                <a:srgbClr val="ffffff"/>
              </a:gs>
              <a:gs pos="100000">
                <a:srgbClr val="4c4c4c"/>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5295960" y="3759120"/>
            <a:ext cx="159120" cy="356040"/>
          </a:xfrm>
          <a:custGeom>
            <a:avLst/>
            <a:gdLst/>
            <a:ahLst/>
            <a:rect l="0" t="0" r="r" b="b"/>
            <a:pathLst>
              <a:path w="442" h="989">
                <a:moveTo>
                  <a:pt x="0" y="17"/>
                </a:moveTo>
                <a:lnTo>
                  <a:pt x="177" y="989"/>
                </a:lnTo>
                <a:lnTo>
                  <a:pt x="300" y="989"/>
                </a:lnTo>
                <a:lnTo>
                  <a:pt x="442" y="919"/>
                </a:lnTo>
                <a:lnTo>
                  <a:pt x="442" y="848"/>
                </a:lnTo>
                <a:lnTo>
                  <a:pt x="177" y="35"/>
                </a:lnTo>
                <a:lnTo>
                  <a:pt x="142" y="0"/>
                </a:lnTo>
                <a:lnTo>
                  <a:pt x="105" y="17"/>
                </a:lnTo>
                <a:lnTo>
                  <a:pt x="0" y="17"/>
                </a:lnTo>
                <a:close/>
              </a:path>
            </a:pathLst>
          </a:custGeom>
          <a:gradFill rotWithShape="0">
            <a:gsLst>
              <a:gs pos="0">
                <a:srgbClr val="ffffff"/>
              </a:gs>
              <a:gs pos="100000">
                <a:srgbClr val="4c4c4c"/>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9" name=""/>
          <p:cNvGrpSpPr/>
          <p:nvPr/>
        </p:nvGrpSpPr>
        <p:grpSpPr>
          <a:xfrm>
            <a:off x="3900600" y="3490920"/>
            <a:ext cx="268560" cy="319320"/>
            <a:chOff x="3900600" y="3490920"/>
            <a:chExt cx="268560" cy="319320"/>
          </a:xfrm>
        </p:grpSpPr>
        <p:sp>
          <p:nvSpPr>
            <p:cNvPr id="740" name=""/>
            <p:cNvSpPr/>
            <p:nvPr/>
          </p:nvSpPr>
          <p:spPr>
            <a:xfrm>
              <a:off x="3911760" y="3578400"/>
              <a:ext cx="257400" cy="117720"/>
            </a:xfrm>
            <a:custGeom>
              <a:avLst/>
              <a:gdLst/>
              <a:ahLst/>
              <a:rect l="0" t="0" r="r" b="b"/>
              <a:pathLst>
                <a:path w="715" h="327">
                  <a:moveTo>
                    <a:pt x="653" y="97"/>
                  </a:moveTo>
                  <a:lnTo>
                    <a:pt x="596" y="79"/>
                  </a:lnTo>
                  <a:lnTo>
                    <a:pt x="494" y="48"/>
                  </a:lnTo>
                  <a:lnTo>
                    <a:pt x="415" y="30"/>
                  </a:lnTo>
                  <a:lnTo>
                    <a:pt x="330" y="8"/>
                  </a:lnTo>
                  <a:lnTo>
                    <a:pt x="233" y="0"/>
                  </a:lnTo>
                  <a:lnTo>
                    <a:pt x="132" y="4"/>
                  </a:lnTo>
                  <a:lnTo>
                    <a:pt x="83" y="8"/>
                  </a:lnTo>
                  <a:lnTo>
                    <a:pt x="44" y="22"/>
                  </a:lnTo>
                  <a:lnTo>
                    <a:pt x="13" y="52"/>
                  </a:lnTo>
                  <a:lnTo>
                    <a:pt x="0" y="83"/>
                  </a:lnTo>
                  <a:lnTo>
                    <a:pt x="0" y="132"/>
                  </a:lnTo>
                  <a:lnTo>
                    <a:pt x="17" y="186"/>
                  </a:lnTo>
                  <a:lnTo>
                    <a:pt x="35" y="208"/>
                  </a:lnTo>
                  <a:lnTo>
                    <a:pt x="66" y="234"/>
                  </a:lnTo>
                  <a:lnTo>
                    <a:pt x="145" y="247"/>
                  </a:lnTo>
                  <a:lnTo>
                    <a:pt x="229" y="269"/>
                  </a:lnTo>
                  <a:lnTo>
                    <a:pt x="358" y="292"/>
                  </a:lnTo>
                  <a:lnTo>
                    <a:pt x="508" y="327"/>
                  </a:lnTo>
                  <a:lnTo>
                    <a:pt x="596" y="327"/>
                  </a:lnTo>
                  <a:lnTo>
                    <a:pt x="671" y="292"/>
                  </a:lnTo>
                  <a:lnTo>
                    <a:pt x="706" y="243"/>
                  </a:lnTo>
                  <a:lnTo>
                    <a:pt x="715" y="199"/>
                  </a:lnTo>
                  <a:lnTo>
                    <a:pt x="715" y="164"/>
                  </a:lnTo>
                  <a:lnTo>
                    <a:pt x="702" y="132"/>
                  </a:lnTo>
                  <a:lnTo>
                    <a:pt x="653" y="97"/>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3933720" y="3490920"/>
              <a:ext cx="233640" cy="116280"/>
            </a:xfrm>
            <a:custGeom>
              <a:avLst/>
              <a:gdLst/>
              <a:ahLst/>
              <a:rect l="0" t="0" r="r" b="b"/>
              <a:pathLst>
                <a:path w="649" h="323">
                  <a:moveTo>
                    <a:pt x="556" y="315"/>
                  </a:moveTo>
                  <a:lnTo>
                    <a:pt x="609" y="284"/>
                  </a:lnTo>
                  <a:lnTo>
                    <a:pt x="649" y="225"/>
                  </a:lnTo>
                  <a:lnTo>
                    <a:pt x="649" y="186"/>
                  </a:lnTo>
                  <a:lnTo>
                    <a:pt x="649" y="137"/>
                  </a:lnTo>
                  <a:lnTo>
                    <a:pt x="631" y="111"/>
                  </a:lnTo>
                  <a:lnTo>
                    <a:pt x="583" y="70"/>
                  </a:lnTo>
                  <a:lnTo>
                    <a:pt x="534" y="48"/>
                  </a:lnTo>
                  <a:lnTo>
                    <a:pt x="446" y="30"/>
                  </a:lnTo>
                  <a:lnTo>
                    <a:pt x="375" y="17"/>
                  </a:lnTo>
                  <a:lnTo>
                    <a:pt x="260" y="4"/>
                  </a:lnTo>
                  <a:lnTo>
                    <a:pt x="171" y="0"/>
                  </a:lnTo>
                  <a:lnTo>
                    <a:pt x="101" y="8"/>
                  </a:lnTo>
                  <a:lnTo>
                    <a:pt x="35" y="44"/>
                  </a:lnTo>
                  <a:lnTo>
                    <a:pt x="13" y="84"/>
                  </a:lnTo>
                  <a:lnTo>
                    <a:pt x="0" y="128"/>
                  </a:lnTo>
                  <a:lnTo>
                    <a:pt x="0" y="164"/>
                  </a:lnTo>
                  <a:lnTo>
                    <a:pt x="26" y="203"/>
                  </a:lnTo>
                  <a:lnTo>
                    <a:pt x="79" y="239"/>
                  </a:lnTo>
                  <a:lnTo>
                    <a:pt x="149" y="266"/>
                  </a:lnTo>
                  <a:lnTo>
                    <a:pt x="260" y="284"/>
                  </a:lnTo>
                  <a:lnTo>
                    <a:pt x="367" y="306"/>
                  </a:lnTo>
                  <a:lnTo>
                    <a:pt x="477" y="323"/>
                  </a:lnTo>
                  <a:lnTo>
                    <a:pt x="556" y="315"/>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3900600" y="3665520"/>
              <a:ext cx="259200" cy="144720"/>
            </a:xfrm>
            <a:custGeom>
              <a:avLst/>
              <a:gdLst/>
              <a:ahLst/>
              <a:rect l="0" t="0" r="r" b="b"/>
              <a:pathLst>
                <a:path w="720" h="402">
                  <a:moveTo>
                    <a:pt x="689" y="114"/>
                  </a:moveTo>
                  <a:lnTo>
                    <a:pt x="623" y="88"/>
                  </a:lnTo>
                  <a:lnTo>
                    <a:pt x="553" y="70"/>
                  </a:lnTo>
                  <a:lnTo>
                    <a:pt x="428" y="35"/>
                  </a:lnTo>
                  <a:lnTo>
                    <a:pt x="318" y="17"/>
                  </a:lnTo>
                  <a:lnTo>
                    <a:pt x="203" y="0"/>
                  </a:lnTo>
                  <a:lnTo>
                    <a:pt x="132" y="0"/>
                  </a:lnTo>
                  <a:lnTo>
                    <a:pt x="48" y="30"/>
                  </a:lnTo>
                  <a:lnTo>
                    <a:pt x="8" y="70"/>
                  </a:lnTo>
                  <a:lnTo>
                    <a:pt x="0" y="105"/>
                  </a:lnTo>
                  <a:lnTo>
                    <a:pt x="4" y="163"/>
                  </a:lnTo>
                  <a:lnTo>
                    <a:pt x="44" y="225"/>
                  </a:lnTo>
                  <a:lnTo>
                    <a:pt x="105" y="292"/>
                  </a:lnTo>
                  <a:lnTo>
                    <a:pt x="176" y="353"/>
                  </a:lnTo>
                  <a:lnTo>
                    <a:pt x="230" y="384"/>
                  </a:lnTo>
                  <a:lnTo>
                    <a:pt x="292" y="402"/>
                  </a:lnTo>
                  <a:lnTo>
                    <a:pt x="353" y="353"/>
                  </a:lnTo>
                  <a:lnTo>
                    <a:pt x="486" y="331"/>
                  </a:lnTo>
                  <a:lnTo>
                    <a:pt x="584" y="314"/>
                  </a:lnTo>
                  <a:lnTo>
                    <a:pt x="654" y="292"/>
                  </a:lnTo>
                  <a:lnTo>
                    <a:pt x="703" y="256"/>
                  </a:lnTo>
                  <a:lnTo>
                    <a:pt x="716" y="198"/>
                  </a:lnTo>
                  <a:lnTo>
                    <a:pt x="720" y="154"/>
                  </a:lnTo>
                  <a:lnTo>
                    <a:pt x="689" y="114"/>
                  </a:lnTo>
                  <a:close/>
                </a:path>
              </a:pathLst>
            </a:custGeom>
            <a:solidFill>
              <a:srgbClr val="ffe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43" name=""/>
          <p:cNvSpPr/>
          <p:nvPr/>
        </p:nvSpPr>
        <p:spPr>
          <a:xfrm>
            <a:off x="5168880" y="3213000"/>
            <a:ext cx="114840" cy="292320"/>
          </a:xfrm>
          <a:custGeom>
            <a:avLst/>
            <a:gdLst/>
            <a:ahLst/>
            <a:rect l="0" t="0" r="r" b="b"/>
            <a:pathLst>
              <a:path w="319" h="812">
                <a:moveTo>
                  <a:pt x="195" y="812"/>
                </a:moveTo>
                <a:lnTo>
                  <a:pt x="0" y="35"/>
                </a:lnTo>
                <a:lnTo>
                  <a:pt x="177" y="0"/>
                </a:lnTo>
                <a:lnTo>
                  <a:pt x="319" y="299"/>
                </a:lnTo>
                <a:lnTo>
                  <a:pt x="319" y="777"/>
                </a:lnTo>
                <a:lnTo>
                  <a:pt x="195" y="812"/>
                </a:lnTo>
                <a:close/>
              </a:path>
            </a:pathLst>
          </a:custGeom>
          <a:gradFill rotWithShape="0">
            <a:gsLst>
              <a:gs pos="0">
                <a:srgbClr val="919191"/>
              </a:gs>
              <a:gs pos="100000">
                <a:srgbClr val="2b2b2b"/>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4" name=""/>
          <p:cNvGrpSpPr/>
          <p:nvPr/>
        </p:nvGrpSpPr>
        <p:grpSpPr>
          <a:xfrm>
            <a:off x="5003640" y="2819520"/>
            <a:ext cx="584280" cy="330120"/>
            <a:chOff x="5003640" y="2819520"/>
            <a:chExt cx="584280" cy="330120"/>
          </a:xfrm>
        </p:grpSpPr>
        <p:sp>
          <p:nvSpPr>
            <p:cNvPr id="745" name=""/>
            <p:cNvSpPr/>
            <p:nvPr/>
          </p:nvSpPr>
          <p:spPr>
            <a:xfrm flipV="1">
              <a:off x="5003640" y="3035160"/>
              <a:ext cx="12096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flipV="1">
              <a:off x="5124600" y="2978280"/>
              <a:ext cx="228600" cy="56880"/>
            </a:xfrm>
            <a:prstGeom prst="line">
              <a:avLst/>
            </a:prstGeom>
            <a:ln w="12600">
              <a:solidFill>
                <a:srgbClr val="000000"/>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747" name=""/>
            <p:cNvSpPr/>
            <p:nvPr/>
          </p:nvSpPr>
          <p:spPr>
            <a:xfrm flipV="1">
              <a:off x="5353200" y="2819520"/>
              <a:ext cx="23472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flipV="1">
              <a:off x="5149800" y="3060720"/>
              <a:ext cx="5076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sp>
        <p:nvSpPr>
          <p:cNvPr id="749" name=""/>
          <p:cNvSpPr/>
          <p:nvPr/>
        </p:nvSpPr>
        <p:spPr>
          <a:xfrm>
            <a:off x="4734000" y="2924280"/>
            <a:ext cx="232200" cy="76680"/>
          </a:xfrm>
          <a:custGeom>
            <a:avLst/>
            <a:gdLst/>
            <a:ahLst/>
            <a:rect l="0" t="0" r="r" b="b"/>
            <a:pathLst>
              <a:path w="645" h="213">
                <a:moveTo>
                  <a:pt x="0" y="0"/>
                </a:moveTo>
                <a:lnTo>
                  <a:pt x="645" y="213"/>
                </a:lnTo>
                <a:lnTo>
                  <a:pt x="88" y="111"/>
                </a:lnTo>
                <a:lnTo>
                  <a:pt x="0" y="0"/>
                </a:lnTo>
                <a:close/>
              </a:path>
            </a:pathLst>
          </a:custGeom>
          <a:gradFill rotWithShape="0">
            <a:gsLst>
              <a:gs pos="0">
                <a:srgbClr val="ffffff"/>
              </a:gs>
              <a:gs pos="100000">
                <a:srgbClr val="4c4c4c"/>
              </a:gs>
            </a:gsLst>
            <a:lin ang="5400000"/>
          </a:gra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0" name=""/>
          <p:cNvSpPr txBox="1"/>
          <p:nvPr/>
        </p:nvSpPr>
        <p:spPr>
          <a:xfrm>
            <a:off x="262080" y="500040"/>
            <a:ext cx="8429760" cy="1518840"/>
          </a:xfrm>
          <a:prstGeom prst="rect">
            <a:avLst/>
          </a:prstGeom>
          <a:noFill/>
          <a:ln w="0">
            <a:noFill/>
          </a:ln>
        </p:spPr>
        <p:txBody>
          <a:bodyPr lIns="0" rIns="0" tIns="0" bIns="0" anchor="t">
            <a:noAutofit/>
          </a:bodyPr>
          <a:p>
            <a:pPr algn="ctr">
              <a:lnSpc>
                <a:spcPct val="100000"/>
              </a:lnSpc>
            </a:pPr>
            <a:r>
              <a:rPr b="1" lang="en-US" sz="5400" spc="-1" strike="noStrike">
                <a:solidFill>
                  <a:srgbClr val="fc0128"/>
                </a:solidFill>
                <a:latin typeface="Times New Roman"/>
                <a:ea typeface="Times New Roman"/>
              </a:rPr>
              <a:t>GEOMETRIC TOLERANCING</a:t>
            </a:r>
            <a:endParaRPr b="0" lang="en-US" sz="5400" spc="-1" strike="noStrike">
              <a:solidFill>
                <a:srgbClr val="000000"/>
              </a:solidFill>
              <a:latin typeface="Arial"/>
            </a:endParaRPr>
          </a:p>
        </p:txBody>
      </p:sp>
      <p:sp>
        <p:nvSpPr>
          <p:cNvPr id="751" name=""/>
          <p:cNvSpPr txBox="1"/>
          <p:nvPr/>
        </p:nvSpPr>
        <p:spPr>
          <a:xfrm>
            <a:off x="1395360" y="5140440"/>
            <a:ext cx="6400800" cy="114624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fafd00"/>
                </a:solidFill>
                <a:latin typeface="Times New Roman"/>
                <a:ea typeface="Times New Roman"/>
              </a:rPr>
              <a:t>TOLERANCES OF FORM</a:t>
            </a:r>
            <a:endParaRPr b="0" lang="en-US" sz="3200" spc="-1" strike="noStrike">
              <a:solidFill>
                <a:srgbClr val="000000"/>
              </a:solidFill>
              <a:latin typeface="Arial"/>
            </a:endParaRPr>
          </a:p>
          <a:p>
            <a:pPr marL="343080" indent="-343080" algn="ctr">
              <a:lnSpc>
                <a:spcPct val="100000"/>
              </a:lnSpc>
              <a:spcBef>
                <a:spcPts val="479"/>
              </a:spcBef>
            </a:pPr>
            <a:r>
              <a:rPr b="1" lang="en-US" sz="3200" spc="-1" strike="noStrike">
                <a:solidFill>
                  <a:srgbClr val="fafd00"/>
                </a:solidFill>
                <a:latin typeface="Times New Roman"/>
                <a:ea typeface="Times New Roman"/>
              </a:rPr>
              <a:t>(FLATNESS)</a:t>
            </a:r>
            <a:endParaRPr b="0" lang="en-US" sz="3200" spc="-1" strike="noStrike">
              <a:solidFill>
                <a:srgbClr val="000000"/>
              </a:solidFill>
              <a:latin typeface="Arial"/>
            </a:endParaRPr>
          </a:p>
        </p:txBody>
      </p:sp>
      <p:pic>
        <p:nvPicPr>
          <p:cNvPr id="752" name="" descr=""/>
          <p:cNvPicPr/>
          <p:nvPr/>
        </p:nvPicPr>
        <p:blipFill>
          <a:blip r:embed="rId1"/>
          <a:stretch/>
        </p:blipFill>
        <p:spPr>
          <a:xfrm>
            <a:off x="2209680" y="1928880"/>
            <a:ext cx="4719600" cy="3038400"/>
          </a:xfrm>
          <a:prstGeom prst="rect">
            <a:avLst/>
          </a:prstGeom>
          <a:ln w="0">
            <a:noFill/>
          </a:ln>
        </p:spPr>
      </p:pic>
      <p:sp>
        <p:nvSpPr>
          <p:cNvPr id="753" name=""/>
          <p:cNvSpPr/>
          <p:nvPr/>
        </p:nvSpPr>
        <p:spPr>
          <a:xfrm>
            <a:off x="2214720" y="1881360"/>
            <a:ext cx="4738680" cy="3095640"/>
          </a:xfrm>
          <a:prstGeom prst="rect">
            <a:avLst/>
          </a:prstGeom>
          <a:noFill/>
          <a:ln w="38160">
            <a:solidFill>
              <a:srgbClr val="114ffb"/>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4" name=""/>
          <p:cNvSpPr txBox="1"/>
          <p:nvPr/>
        </p:nvSpPr>
        <p:spPr>
          <a:xfrm>
            <a:off x="3032280" y="922320"/>
            <a:ext cx="302904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EFINI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5" name=""/>
          <p:cNvSpPr txBox="1"/>
          <p:nvPr/>
        </p:nvSpPr>
        <p:spPr>
          <a:xfrm>
            <a:off x="3032280" y="922320"/>
            <a:ext cx="302904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EFINITIONS</a:t>
            </a:r>
            <a:endParaRPr b="0" lang="en-US" sz="3600" spc="-1" strike="noStrike">
              <a:solidFill>
                <a:srgbClr val="000000"/>
              </a:solidFill>
              <a:latin typeface="Arial"/>
            </a:endParaRPr>
          </a:p>
        </p:txBody>
      </p:sp>
      <p:sp>
        <p:nvSpPr>
          <p:cNvPr id="756" name=""/>
          <p:cNvSpPr txBox="1"/>
          <p:nvPr/>
        </p:nvSpPr>
        <p:spPr>
          <a:xfrm>
            <a:off x="987480" y="2100240"/>
            <a:ext cx="7772400" cy="1154160"/>
          </a:xfrm>
          <a:prstGeom prst="rect">
            <a:avLst/>
          </a:prstGeom>
          <a:noFill/>
          <a:ln w="0">
            <a:noFill/>
          </a:ln>
        </p:spPr>
        <p:txBody>
          <a:bodyPr lIns="0" rIns="0" tIns="0" bIns="0" anchor="t">
            <a:noAutofit/>
          </a:bodyPr>
          <a:p>
            <a:pPr>
              <a:lnSpc>
                <a:spcPct val="100000"/>
              </a:lnSpc>
              <a:spcBef>
                <a:spcPts val="479"/>
              </a:spcBef>
            </a:pPr>
            <a:r>
              <a:rPr b="0" i="1" lang="en-US" sz="2800" spc="-1" strike="noStrike" u="sng">
                <a:solidFill>
                  <a:srgbClr val="fafd00"/>
                </a:solidFill>
                <a:uFillTx/>
                <a:latin typeface="Times New Roman"/>
                <a:ea typeface="Times New Roman"/>
              </a:rPr>
              <a:t>Flatness</a:t>
            </a:r>
            <a:r>
              <a:rPr b="0" i="1"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 surface condition where all elements of the surface are in a single 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Form Tolerances - Flatness</dc:title>
</cp:coreProperties>
</file>