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31880" y="3925800"/>
            <a:ext cx="2013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943360" y="4167360"/>
            <a:ext cx="4460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731880" y="3925800"/>
            <a:ext cx="3841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Stra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43360" y="4167360"/>
            <a:ext cx="446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216320" y="4857840"/>
            <a:ext cx="538560" cy="138600"/>
          </a:xfrm>
          <a:custGeom>
            <a:avLst/>
            <a:gdLst/>
            <a:ahLst/>
            <a:rect l="0" t="0" r="r" b="b"/>
            <a:pathLst>
              <a:path fill="none" w="1496" h="385">
                <a:moveTo>
                  <a:pt x="0" y="385"/>
                </a:moveTo>
                <a:lnTo>
                  <a:pt x="1047" y="385"/>
                </a:lnTo>
                <a:lnTo>
                  <a:pt x="1496" y="0"/>
                </a:lnTo>
                <a:lnTo>
                  <a:pt x="449" y="0"/>
                </a:lnTo>
                <a:lnTo>
                  <a:pt x="0" y="385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731880" y="3925800"/>
            <a:ext cx="5670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Stra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Fl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43360" y="4167360"/>
            <a:ext cx="446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216320" y="4857840"/>
            <a:ext cx="538560" cy="138600"/>
          </a:xfrm>
          <a:custGeom>
            <a:avLst/>
            <a:gdLst/>
            <a:ahLst/>
            <a:rect l="0" t="0" r="r" b="b"/>
            <a:pathLst>
              <a:path fill="none" w="1496" h="385">
                <a:moveTo>
                  <a:pt x="0" y="385"/>
                </a:moveTo>
                <a:lnTo>
                  <a:pt x="1047" y="385"/>
                </a:lnTo>
                <a:lnTo>
                  <a:pt x="1496" y="0"/>
                </a:lnTo>
                <a:lnTo>
                  <a:pt x="449" y="0"/>
                </a:lnTo>
                <a:lnTo>
                  <a:pt x="0" y="385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257880" y="5467320"/>
            <a:ext cx="274680" cy="268200"/>
          </a:xfrm>
          <a:prstGeom prst="ellipse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31880" y="3925800"/>
            <a:ext cx="71438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tra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l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ylind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943360" y="4167360"/>
            <a:ext cx="446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16320" y="4857840"/>
            <a:ext cx="538560" cy="138600"/>
          </a:xfrm>
          <a:custGeom>
            <a:avLst/>
            <a:gdLst/>
            <a:ahLst/>
            <a:rect l="0" t="0" r="r" b="b"/>
            <a:pathLst>
              <a:path fill="none" w="1496" h="385">
                <a:moveTo>
                  <a:pt x="0" y="385"/>
                </a:moveTo>
                <a:lnTo>
                  <a:pt x="1047" y="385"/>
                </a:lnTo>
                <a:lnTo>
                  <a:pt x="1496" y="0"/>
                </a:lnTo>
                <a:lnTo>
                  <a:pt x="449" y="0"/>
                </a:lnTo>
                <a:lnTo>
                  <a:pt x="0" y="385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253360" y="6222960"/>
            <a:ext cx="230040" cy="230040"/>
          </a:xfrm>
          <a:prstGeom prst="ellipse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8413920" y="6224760"/>
            <a:ext cx="198360" cy="2602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8120160" y="6207120"/>
            <a:ext cx="198360" cy="2602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257880" y="5467320"/>
            <a:ext cx="274680" cy="2682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285840" y="1050840"/>
            <a:ext cx="7916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n engineering graphics communications, these condi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345960"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controlled using the following geometric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31880" y="3925800"/>
            <a:ext cx="71438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943360" y="4167360"/>
            <a:ext cx="4460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16320" y="4857840"/>
            <a:ext cx="538560" cy="138600"/>
          </a:xfrm>
          <a:custGeom>
            <a:avLst/>
            <a:gdLst/>
            <a:ahLst/>
            <a:rect l="0" t="0" r="r" b="b"/>
            <a:pathLst>
              <a:path fill="none" w="1496" h="385">
                <a:moveTo>
                  <a:pt x="0" y="385"/>
                </a:moveTo>
                <a:lnTo>
                  <a:pt x="1047" y="385"/>
                </a:lnTo>
                <a:lnTo>
                  <a:pt x="1496" y="0"/>
                </a:lnTo>
                <a:lnTo>
                  <a:pt x="449" y="0"/>
                </a:lnTo>
                <a:lnTo>
                  <a:pt x="0" y="385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253360" y="6222960"/>
            <a:ext cx="230040" cy="230040"/>
          </a:xfrm>
          <a:prstGeom prst="ellipse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8413920" y="6224760"/>
            <a:ext cx="198360" cy="2602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8120160" y="6207120"/>
            <a:ext cx="198360" cy="2602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01680" y="3889440"/>
            <a:ext cx="8540640" cy="2765520"/>
          </a:xfrm>
          <a:prstGeom prst="roundRect">
            <a:avLst/>
          </a:prstGeom>
          <a:noFill/>
          <a:ln w="25560">
            <a:solidFill>
              <a:srgbClr val="fc0707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576440" y="6500880"/>
            <a:ext cx="2135160" cy="277920"/>
          </a:xfrm>
          <a:prstGeom prst="rect">
            <a:avLst/>
          </a:prstGeom>
          <a:solidFill>
            <a:srgbClr val="114ffb"/>
          </a:solidFill>
          <a:ln w="25560">
            <a:solidFill>
              <a:srgbClr val="fc0707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606680" y="6516720"/>
            <a:ext cx="2048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707"/>
                </a:solidFill>
                <a:latin typeface="Arial"/>
                <a:ea typeface="Arial"/>
              </a:rPr>
              <a:t>Form Toleranc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57880" y="5467320"/>
            <a:ext cx="274680" cy="268200"/>
          </a:xfrm>
          <a:prstGeom prst="ellipse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31800" y="1801800"/>
            <a:ext cx="7772400" cy="27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apply to individual features, elements of individual features, and, in the case of straightness, may also be applied to features of siz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630360" y="1801800"/>
            <a:ext cx="77724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specify zones within which the considered feature’s individual line elements, collective surface elements, axis, or center plane must l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31800" y="180180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1440"/>
              </a:spcAf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form tolerances are used to define and/or control individual features, or elements of single features, in relation to their own true geometric counterpart, form tolerances</a:t>
            </a:r>
            <a:r>
              <a:rPr b="0" i="1" lang="en-US" sz="2800" spc="-1" strike="noStrike">
                <a:solidFill>
                  <a:srgbClr val="fc0707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datum refer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514440" y="192888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46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control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NEVER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datum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01520"/>
            <a:ext cx="9020160" cy="6743880"/>
            <a:chOff x="0" y="101520"/>
            <a:chExt cx="9020160" cy="6743880"/>
          </a:xfrm>
        </p:grpSpPr>
        <p:sp>
          <p:nvSpPr>
            <p:cNvPr id="39" name=""/>
            <p:cNvSpPr/>
            <p:nvPr/>
          </p:nvSpPr>
          <p:spPr>
            <a:xfrm>
              <a:off x="320760" y="3456000"/>
              <a:ext cx="10382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98680" y="3456000"/>
              <a:ext cx="1364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74800" y="3456000"/>
              <a:ext cx="83196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982880" y="3456000"/>
              <a:ext cx="69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67360" y="3540240"/>
              <a:ext cx="2076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83160" y="3540240"/>
              <a:ext cx="13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59640" y="3540240"/>
              <a:ext cx="2076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50120" y="3470400"/>
              <a:ext cx="0" cy="1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6450120" y="765000"/>
              <a:ext cx="0" cy="2565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50120" y="3746520"/>
              <a:ext cx="0" cy="180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33960" y="1436760"/>
              <a:ext cx="4470480" cy="42400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38520" y="1708200"/>
              <a:ext cx="3860640" cy="3705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880" y="1515960"/>
              <a:ext cx="0" cy="3876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4800" y="1515960"/>
              <a:ext cx="0" cy="762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4800" y="4675320"/>
              <a:ext cx="0" cy="717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74800" y="2279520"/>
              <a:ext cx="288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32040" y="4630680"/>
              <a:ext cx="231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0760" y="2336760"/>
              <a:ext cx="0" cy="352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20760" y="4216320"/>
              <a:ext cx="0" cy="358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73320" y="2749680"/>
              <a:ext cx="230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78000" y="4156200"/>
              <a:ext cx="22068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498680" y="2679840"/>
              <a:ext cx="680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496880" y="4154400"/>
              <a:ext cx="73080" cy="81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66720" y="267984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6720" y="423396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2880" y="26798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982880" y="41576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2720" y="274968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2720" y="408780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52720" y="2817720"/>
              <a:ext cx="19692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2720" y="4087800"/>
              <a:ext cx="20160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6880" y="2554200"/>
              <a:ext cx="36180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6880" y="4354560"/>
              <a:ext cx="357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1240" y="2617920"/>
              <a:ext cx="0" cy="1689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012680" y="2962440"/>
              <a:ext cx="1238400" cy="6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12680" y="3940200"/>
              <a:ext cx="12319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6880" y="15159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53928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880" y="16542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193032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6880" y="497844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880" y="52545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91360" y="1565280"/>
              <a:ext cx="320760" cy="287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95960" y="3390840"/>
              <a:ext cx="29052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9280" y="5272200"/>
              <a:ext cx="29700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40760" y="3417840"/>
              <a:ext cx="2984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18320" y="2048040"/>
              <a:ext cx="322200" cy="2998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78440" y="2081160"/>
              <a:ext cx="3128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5840" y="4748040"/>
              <a:ext cx="29988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45320" y="4756320"/>
              <a:ext cx="30492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496280" y="1924200"/>
              <a:ext cx="558720" cy="558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435560" y="1514520"/>
              <a:ext cx="1036440" cy="10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5240" y="2362320"/>
              <a:ext cx="2475000" cy="23526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24480" y="2568600"/>
              <a:ext cx="2039760" cy="19400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72080" y="2708280"/>
              <a:ext cx="1746360" cy="16606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8920" y="3052800"/>
              <a:ext cx="1019160" cy="9716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7120" y="2725560"/>
              <a:ext cx="50796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5960" y="4175280"/>
              <a:ext cx="50652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2000" y="2614680"/>
              <a:ext cx="1943280" cy="18288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1560" y="462456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60" y="160"/>
                  </a:moveTo>
                  <a:lnTo>
                    <a:pt x="160" y="160"/>
                  </a:lnTo>
                  <a:lnTo>
                    <a:pt x="160" y="160"/>
                  </a:lnTo>
                  <a:cubicBezTo>
                    <a:pt x="160" y="132"/>
                    <a:pt x="153" y="104"/>
                    <a:pt x="139" y="80"/>
                  </a:cubicBezTo>
                  <a:cubicBezTo>
                    <a:pt x="125" y="56"/>
                    <a:pt x="104" y="35"/>
                    <a:pt x="80" y="21"/>
                  </a:cubicBezTo>
                  <a:cubicBezTo>
                    <a:pt x="56" y="7"/>
                    <a:pt x="28" y="0"/>
                    <a:pt x="0" y="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87320" y="179388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77880" y="179388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15800" y="179388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87320" y="511812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77880" y="511812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5800" y="511812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569360" y="4668840"/>
              <a:ext cx="493560" cy="47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857840" y="4676760"/>
              <a:ext cx="469800" cy="469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86080" y="2967120"/>
              <a:ext cx="4032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97240" y="3940200"/>
              <a:ext cx="392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5200" y="2817720"/>
              <a:ext cx="1005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0240" y="4092480"/>
              <a:ext cx="1008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520" y="5506920"/>
              <a:ext cx="0" cy="1087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2720" y="5489640"/>
              <a:ext cx="0" cy="40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2200" y="4702320"/>
              <a:ext cx="3240" cy="66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8040" y="4278240"/>
              <a:ext cx="0" cy="468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2280" y="3902040"/>
              <a:ext cx="0" cy="2730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715240" y="3808440"/>
              <a:ext cx="5040" cy="2874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3919680"/>
              <a:ext cx="0" cy="2306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8800" y="3780000"/>
              <a:ext cx="0" cy="2412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662440" y="1870200"/>
              <a:ext cx="1602000" cy="3378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8080" y="1217520"/>
              <a:ext cx="243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264440" y="1224000"/>
              <a:ext cx="328680" cy="64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1080" y="1068480"/>
              <a:ext cx="592200" cy="297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502320" y="219240"/>
              <a:ext cx="308160" cy="1358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902720" y="1098720"/>
              <a:ext cx="204480" cy="193680"/>
              <a:chOff x="7902720" y="1098720"/>
              <a:chExt cx="204480" cy="193680"/>
            </a:xfrm>
          </p:grpSpPr>
          <p:sp>
            <p:nvSpPr>
              <p:cNvPr id="126" name=""/>
              <p:cNvSpPr/>
              <p:nvPr/>
            </p:nvSpPr>
            <p:spPr>
              <a:xfrm>
                <a:off x="7918560" y="112248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02720" y="1098720"/>
                <a:ext cx="20448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8099280" y="1025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14ffb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7720" y="892080"/>
              <a:ext cx="1927440" cy="698400"/>
            </a:xfrm>
            <a:custGeom>
              <a:avLst/>
              <a:gdLst/>
              <a:ahLst/>
              <a:rect l="0" t="0" r="r" b="b"/>
              <a:pathLst>
                <a:path fill="none" w="5354" h="1940">
                  <a:moveTo>
                    <a:pt x="5354" y="0"/>
                  </a:moveTo>
                  <a:lnTo>
                    <a:pt x="5354" y="0"/>
                  </a:lnTo>
                  <a:lnTo>
                    <a:pt x="5353" y="0"/>
                  </a:lnTo>
                  <a:cubicBezTo>
                    <a:pt x="3886" y="0"/>
                    <a:pt x="2444" y="387"/>
                    <a:pt x="1173" y="1121"/>
                  </a:cubicBezTo>
                  <a:cubicBezTo>
                    <a:pt x="759" y="1360"/>
                    <a:pt x="367" y="1634"/>
                    <a:pt x="0" y="194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032440" y="955800"/>
              <a:ext cx="668160" cy="3240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0520" y="1049400"/>
              <a:ext cx="50760" cy="507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7475400" y="37800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3080" y="384120"/>
              <a:ext cx="213660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136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972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8292960" y="36504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83560" y="3985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02360" y="6062760"/>
              <a:ext cx="739800" cy="7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2400" y="6070680"/>
              <a:ext cx="1071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3720" y="6518160"/>
              <a:ext cx="2631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02400" y="6492960"/>
              <a:ext cx="1209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981760" y="5961240"/>
              <a:ext cx="190440" cy="196560"/>
              <a:chOff x="5981760" y="5961240"/>
              <a:chExt cx="190440" cy="19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5997600" y="59850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981760" y="59612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6129360" y="58118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7058160" y="6288120"/>
              <a:ext cx="480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891480" y="6418440"/>
              <a:ext cx="190440" cy="196560"/>
              <a:chOff x="6891480" y="6418440"/>
              <a:chExt cx="190440" cy="196560"/>
            </a:xfrm>
          </p:grpSpPr>
          <p:sp>
            <p:nvSpPr>
              <p:cNvPr id="155" name=""/>
              <p:cNvSpPr/>
              <p:nvPr/>
            </p:nvSpPr>
            <p:spPr>
              <a:xfrm>
                <a:off x="6907320" y="64422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91480" y="64184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708280" y="2962440"/>
              <a:ext cx="0" cy="965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5840" y="2816280"/>
              <a:ext cx="0" cy="127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77800" y="6256440"/>
              <a:ext cx="4190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8440" y="6256440"/>
              <a:ext cx="7952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2720" y="5803920"/>
              <a:ext cx="752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30320" y="5803920"/>
              <a:ext cx="324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25440" y="5275440"/>
              <a:ext cx="257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0040" y="5294160"/>
              <a:ext cx="314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144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5432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552760" y="439272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452600" y="504036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581120" y="5545080"/>
              <a:ext cx="382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928800" y="60260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227484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6080" y="2684520"/>
              <a:ext cx="66600" cy="66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216080" y="4159080"/>
              <a:ext cx="6012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158840" y="457056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57240" y="4302000"/>
              <a:ext cx="5868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711520" y="1898640"/>
              <a:ext cx="0" cy="1066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1800" y="189864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179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340760" y="184320"/>
              <a:ext cx="163440" cy="155520"/>
              <a:chOff x="7340760" y="184320"/>
              <a:chExt cx="163440" cy="155520"/>
            </a:xfrm>
          </p:grpSpPr>
          <p:sp>
            <p:nvSpPr>
              <p:cNvPr id="182" name=""/>
              <p:cNvSpPr/>
              <p:nvPr/>
            </p:nvSpPr>
            <p:spPr>
              <a:xfrm>
                <a:off x="7353360" y="20304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340760" y="184320"/>
                <a:ext cx="16344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0120" y="1822320"/>
              <a:ext cx="204840" cy="193680"/>
              <a:chOff x="2940120" y="1822320"/>
              <a:chExt cx="204840" cy="193680"/>
            </a:xfrm>
          </p:grpSpPr>
          <p:sp>
            <p:nvSpPr>
              <p:cNvPr id="185" name=""/>
              <p:cNvSpPr/>
              <p:nvPr/>
            </p:nvSpPr>
            <p:spPr>
              <a:xfrm>
                <a:off x="2955960" y="18464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940120" y="182232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 txBox="1"/>
            <p:nvPr/>
          </p:nvSpPr>
          <p:spPr>
            <a:xfrm>
              <a:off x="3124080" y="1768320"/>
              <a:ext cx="12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0.00 - 20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9120" y="2103480"/>
              <a:ext cx="1278000" cy="2714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970360" y="2136600"/>
              <a:ext cx="199800" cy="200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59080" y="2103480"/>
              <a:ext cx="0" cy="27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3213000" y="209556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068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683160" y="20890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3372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886200" y="20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13160" y="2381400"/>
              <a:ext cx="146520" cy="152640"/>
            </a:xfrm>
            <a:custGeom>
              <a:avLst/>
              <a:gdLst/>
              <a:ahLst/>
              <a:rect l="0" t="0" r="r" b="b"/>
              <a:pathLst>
                <a:path fill="none" w="407" h="424">
                  <a:moveTo>
                    <a:pt x="407" y="0"/>
                  </a:moveTo>
                  <a:lnTo>
                    <a:pt x="0" y="0"/>
                  </a:lnTo>
                  <a:lnTo>
                    <a:pt x="203" y="424"/>
                  </a:lnTo>
                  <a:lnTo>
                    <a:pt x="407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7400" y="2516040"/>
              <a:ext cx="0" cy="196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2716200"/>
              <a:ext cx="171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6680" y="2581200"/>
              <a:ext cx="260280" cy="2602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641760" y="25588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49320" y="2549520"/>
              <a:ext cx="63360" cy="63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787400" y="892080"/>
              <a:ext cx="895320" cy="1778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73360" y="892080"/>
              <a:ext cx="2667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898720" y="72396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M42 X 1.5 - 6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65320" y="982800"/>
              <a:ext cx="1625760" cy="2998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98800" y="985680"/>
              <a:ext cx="279360" cy="292320"/>
              <a:chOff x="2998800" y="985680"/>
              <a:chExt cx="279360" cy="2923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49560" y="103680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38480" y="98568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98800" y="112536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32100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55920" y="1035000"/>
              <a:ext cx="204840" cy="193680"/>
              <a:chOff x="3355920" y="1035000"/>
              <a:chExt cx="204840" cy="193680"/>
            </a:xfrm>
          </p:grpSpPr>
          <p:sp>
            <p:nvSpPr>
              <p:cNvPr id="212" name=""/>
              <p:cNvSpPr/>
              <p:nvPr/>
            </p:nvSpPr>
            <p:spPr>
              <a:xfrm>
                <a:off x="3371760" y="105876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355920" y="103500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3540240" y="996840"/>
              <a:ext cx="1093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 M  B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51320" y="1046160"/>
              <a:ext cx="210960" cy="1922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98800" y="1035000"/>
              <a:ext cx="210960" cy="1904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3388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16080" y="565200"/>
              <a:ext cx="0" cy="1685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501920" y="1289160"/>
              <a:ext cx="0" cy="1361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006560" y="870120"/>
              <a:ext cx="0" cy="1647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96880" y="879480"/>
              <a:ext cx="0" cy="581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16080" y="555480"/>
              <a:ext cx="1019160" cy="21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27332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5900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94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504800" y="52056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6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66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01920" y="1384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035000" y="138420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06560" y="974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49200" y="974880"/>
              <a:ext cx="2476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800360" y="115884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81040" y="71136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01520" y="25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2160" y="43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7200" y="2556000"/>
              <a:ext cx="0" cy="36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6920" y="3384720"/>
              <a:ext cx="0" cy="971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0" y="2892600"/>
              <a:ext cx="628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87200" y="136440"/>
              <a:ext cx="0" cy="2400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7200" y="127080"/>
              <a:ext cx="138096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760" y="165240"/>
              <a:ext cx="0" cy="16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80" y="326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7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01480" y="146160"/>
              <a:ext cx="204840" cy="193680"/>
              <a:chOff x="501480" y="146160"/>
              <a:chExt cx="204840" cy="193680"/>
            </a:xfrm>
          </p:grpSpPr>
          <p:sp>
            <p:nvSpPr>
              <p:cNvPr id="245" name=""/>
              <p:cNvSpPr/>
              <p:nvPr/>
            </p:nvSpPr>
            <p:spPr>
              <a:xfrm>
                <a:off x="517680" y="16992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01480" y="14616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657360" y="1015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8 M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11320" y="146160"/>
              <a:ext cx="200160" cy="2001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68400" y="374760"/>
              <a:ext cx="133560" cy="152640"/>
            </a:xfrm>
            <a:custGeom>
              <a:avLst/>
              <a:gdLst/>
              <a:ahLst/>
              <a:rect l="0" t="0" r="r" b="b"/>
              <a:pathLst>
                <a:path fill="none" w="371" h="424">
                  <a:moveTo>
                    <a:pt x="371" y="0"/>
                  </a:moveTo>
                  <a:lnTo>
                    <a:pt x="0" y="0"/>
                  </a:lnTo>
                  <a:lnTo>
                    <a:pt x="186" y="424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35000" y="527040"/>
              <a:ext cx="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96880" y="64152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00" y="50796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14280" y="492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880" y="5899320"/>
              <a:ext cx="152640" cy="133560"/>
            </a:xfrm>
            <a:custGeom>
              <a:avLst/>
              <a:gdLst/>
              <a:ahLst/>
              <a:rect l="0" t="0" r="r" b="b"/>
              <a:pathLst>
                <a:path fill="none" w="424" h="371">
                  <a:moveTo>
                    <a:pt x="424" y="371"/>
                  </a:moveTo>
                  <a:lnTo>
                    <a:pt x="424" y="0"/>
                  </a:lnTo>
                  <a:lnTo>
                    <a:pt x="0" y="186"/>
                  </a:lnTo>
                  <a:lnTo>
                    <a:pt x="424" y="371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20760" y="5965920"/>
              <a:ext cx="123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360" y="584208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7520" y="581652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7520" y="6566040"/>
              <a:ext cx="1000080" cy="228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613560"/>
              <a:ext cx="324360" cy="124200"/>
            </a:xfrm>
            <a:custGeom>
              <a:avLst/>
              <a:gdLst/>
              <a:ahLst/>
              <a:rect l="0" t="0" r="r" b="b"/>
              <a:pathLst>
                <a:path fill="none" w="901" h="345">
                  <a:moveTo>
                    <a:pt x="0" y="345"/>
                  </a:moveTo>
                  <a:lnTo>
                    <a:pt x="630" y="345"/>
                  </a:lnTo>
                  <a:lnTo>
                    <a:pt x="901" y="0"/>
                  </a:lnTo>
                  <a:lnTo>
                    <a:pt x="270" y="0"/>
                  </a:lnTo>
                  <a:lnTo>
                    <a:pt x="0" y="345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25640" y="6566040"/>
              <a:ext cx="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019160" y="654048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251080" y="2816280"/>
              <a:ext cx="0" cy="1263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0120" y="1514520"/>
              <a:ext cx="139680" cy="13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77960" y="152712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00120" y="193356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00120" y="1971720"/>
              <a:ext cx="266760" cy="266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00120" y="213660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76440" y="227664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53920" y="2276640"/>
              <a:ext cx="27972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993600" y="239076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006560" y="2568600"/>
              <a:ext cx="20304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006560" y="2708280"/>
              <a:ext cx="22860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58840" y="274644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33668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1452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679400" y="2682720"/>
              <a:ext cx="27972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857240" y="2784600"/>
              <a:ext cx="177840" cy="177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035080" y="2822400"/>
              <a:ext cx="139680" cy="140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212920" y="2936880"/>
              <a:ext cx="25560" cy="25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0120" y="435924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00120" y="4359240"/>
              <a:ext cx="30492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006560" y="3940200"/>
              <a:ext cx="30456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006560" y="3940200"/>
              <a:ext cx="114120" cy="114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577800" y="1235160"/>
              <a:ext cx="7772400" cy="185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600" spc="-1" strike="noStrike">
                  <a:solidFill>
                    <a:srgbClr val="fc0707"/>
                  </a:solidFill>
                  <a:latin typeface="Times New Roman"/>
                  <a:ea typeface="Times New Roman"/>
                </a:rPr>
                <a:t>GEOMETRIC TOLERANCING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12720" y="4232160"/>
              <a:ext cx="609480" cy="60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298520" y="3940200"/>
              <a:ext cx="20340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63480" y="476568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019160" y="4422600"/>
              <a:ext cx="203040" cy="203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501920" y="3940200"/>
              <a:ext cx="21564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28720" y="4930920"/>
              <a:ext cx="50760" cy="50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616040" y="394020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806480" y="3940200"/>
              <a:ext cx="29232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136600" y="3990960"/>
              <a:ext cx="101880" cy="101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38280" y="5261040"/>
              <a:ext cx="126720" cy="1270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16120" y="5324400"/>
              <a:ext cx="63360" cy="63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9080" y="4084560"/>
              <a:ext cx="0" cy="787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59080" y="4870440"/>
              <a:ext cx="117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422520" y="4789440"/>
              <a:ext cx="204840" cy="193680"/>
              <a:chOff x="3422520" y="4789440"/>
              <a:chExt cx="204840" cy="193680"/>
            </a:xfrm>
          </p:grpSpPr>
          <p:sp>
            <p:nvSpPr>
              <p:cNvPr id="300" name=""/>
              <p:cNvSpPr/>
              <p:nvPr/>
            </p:nvSpPr>
            <p:spPr>
              <a:xfrm>
                <a:off x="3438360" y="481320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422520" y="478944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3603600" y="463068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0400" y="5129280"/>
              <a:ext cx="93996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276720" y="5167440"/>
              <a:ext cx="215640" cy="215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4348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3514680" y="513864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3895560" y="51260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880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7440" y="6496200"/>
              <a:ext cx="1944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47840" y="4168800"/>
              <a:ext cx="0" cy="2235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314360" y="4842000"/>
              <a:ext cx="6400800" cy="135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CHANICAL ENGINEERING 17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571680" y="2889360"/>
            <a:ext cx="7969320" cy="1238400"/>
          </a:xfrm>
          <a:prstGeom prst="roundRect">
            <a:avLst/>
          </a:prstGeom>
          <a:noFill/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14440" y="192888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46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control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NEVER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datum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666880"/>
            <a:ext cx="78883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lications of geometric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ols are applied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regardless of feature siz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ule #2), with respect to the specified tolerance, datum reference, or both, with the exception of straightnes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ich may </a:t>
            </a:r>
            <a:r>
              <a:rPr b="1" i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lso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be  applied to a feature of size, and may, in that case, be modified to apply at MM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2222640"/>
            <a:ext cx="8204040" cy="3508200"/>
          </a:xfrm>
          <a:prstGeom prst="roundRect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673200" y="1577880"/>
            <a:ext cx="77724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larify</a:t>
            </a:r>
            <a:r>
              <a:rPr b="0" lang="en-US" sz="28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ometric shape of a feature or feature of size by defining its tolerance boundar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impose essential controls on feature geometry where the limits established by size and location may not be functionally accep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92280" y="806400"/>
            <a:ext cx="4807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666720" y="1469880"/>
            <a:ext cx="8413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feature form is perceived as critical to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n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/or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interchangeabi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traditional coordinate tolerances do not provide adequate form control, geometric form tolerances should be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sidering the use of form tolerances, care should be exercised in determining the indirect influence on form imposed by other geometric tolerances  such as location, orientation, runout, and pro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96960" y="808200"/>
            <a:ext cx="48070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666720" y="1460520"/>
            <a:ext cx="80503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the tolerance value represents the diameter of a cylindrical tolerance zone, as in the case of straightness of a cylindrical size feature, it is preceded by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zone descript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    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ll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ases, the tolerance value represents a total linear distance between two parallel planes which form the boundaries of the geometric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5634000" y="2911320"/>
            <a:ext cx="211320" cy="211320"/>
            <a:chOff x="5634000" y="2911320"/>
            <a:chExt cx="211320" cy="211320"/>
          </a:xfrm>
        </p:grpSpPr>
        <p:sp>
          <p:nvSpPr>
            <p:cNvPr id="941" name=""/>
            <p:cNvSpPr/>
            <p:nvPr/>
          </p:nvSpPr>
          <p:spPr>
            <a:xfrm>
              <a:off x="5654520" y="2917800"/>
              <a:ext cx="181080" cy="181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634000" y="2911320"/>
              <a:ext cx="211320" cy="211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 txBox="1"/>
          <p:nvPr/>
        </p:nvSpPr>
        <p:spPr>
          <a:xfrm>
            <a:off x="692280" y="808200"/>
            <a:ext cx="48070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1000080" y="2774880"/>
            <a:ext cx="5477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005600" y="2822400"/>
            <a:ext cx="17636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83288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7650000" y="2924280"/>
            <a:ext cx="176400" cy="176040"/>
            <a:chOff x="7650000" y="2924280"/>
            <a:chExt cx="176400" cy="176040"/>
          </a:xfrm>
        </p:grpSpPr>
        <p:sp>
          <p:nvSpPr>
            <p:cNvPr id="954" name=""/>
            <p:cNvSpPr/>
            <p:nvPr/>
          </p:nvSpPr>
          <p:spPr>
            <a:xfrm>
              <a:off x="7672320" y="2935440"/>
              <a:ext cx="144360" cy="14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650000" y="2924280"/>
              <a:ext cx="176400" cy="176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837072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787320" y="808200"/>
            <a:ext cx="6485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1000080" y="2774880"/>
            <a:ext cx="547704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775480" y="3460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95720" y="3443400"/>
            <a:ext cx="15066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087880" y="3554280"/>
            <a:ext cx="559080" cy="178200"/>
          </a:xfrm>
          <a:custGeom>
            <a:avLst/>
            <a:gdLst/>
            <a:ahLst/>
            <a:rect l="0" t="0" r="r" b="b"/>
            <a:pathLst>
              <a:path fill="none" w="1553" h="495">
                <a:moveTo>
                  <a:pt x="0" y="495"/>
                </a:moveTo>
                <a:lnTo>
                  <a:pt x="1087" y="495"/>
                </a:lnTo>
                <a:lnTo>
                  <a:pt x="1553" y="0"/>
                </a:lnTo>
                <a:lnTo>
                  <a:pt x="465" y="0"/>
                </a:lnTo>
                <a:lnTo>
                  <a:pt x="0" y="4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826240" y="34624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05600" y="2822400"/>
            <a:ext cx="17636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783288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7650000" y="2924280"/>
            <a:ext cx="176400" cy="176040"/>
            <a:chOff x="7650000" y="2924280"/>
            <a:chExt cx="176400" cy="176040"/>
          </a:xfrm>
        </p:grpSpPr>
        <p:sp>
          <p:nvSpPr>
            <p:cNvPr id="975" name=""/>
            <p:cNvSpPr/>
            <p:nvPr/>
          </p:nvSpPr>
          <p:spPr>
            <a:xfrm>
              <a:off x="7672320" y="2935440"/>
              <a:ext cx="144360" cy="14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650000" y="2924280"/>
              <a:ext cx="176400" cy="176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37072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787320" y="808200"/>
            <a:ext cx="6485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1000080" y="2774880"/>
            <a:ext cx="547704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75480" y="3460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995720" y="3443400"/>
            <a:ext cx="15066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087880" y="3554280"/>
            <a:ext cx="559080" cy="178200"/>
          </a:xfrm>
          <a:custGeom>
            <a:avLst/>
            <a:gdLst/>
            <a:ahLst/>
            <a:rect l="0" t="0" r="r" b="b"/>
            <a:pathLst>
              <a:path fill="none" w="1553" h="495">
                <a:moveTo>
                  <a:pt x="0" y="495"/>
                </a:moveTo>
                <a:lnTo>
                  <a:pt x="1087" y="495"/>
                </a:lnTo>
                <a:lnTo>
                  <a:pt x="1553" y="0"/>
                </a:lnTo>
                <a:lnTo>
                  <a:pt x="465" y="0"/>
                </a:lnTo>
                <a:lnTo>
                  <a:pt x="0" y="4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5826240" y="34624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010120" y="4041720"/>
            <a:ext cx="12272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60960" y="4079880"/>
            <a:ext cx="325440" cy="304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664240" y="40734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619600" y="404964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005600" y="2822400"/>
            <a:ext cx="17636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783288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7650000" y="2924280"/>
            <a:ext cx="176400" cy="176040"/>
            <a:chOff x="7650000" y="2924280"/>
            <a:chExt cx="176400" cy="176040"/>
          </a:xfrm>
        </p:grpSpPr>
        <p:sp>
          <p:nvSpPr>
            <p:cNvPr id="1000" name=""/>
            <p:cNvSpPr/>
            <p:nvPr/>
          </p:nvSpPr>
          <p:spPr>
            <a:xfrm>
              <a:off x="7672320" y="2935440"/>
              <a:ext cx="144360" cy="14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650000" y="2924280"/>
              <a:ext cx="176400" cy="176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837072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787320" y="808200"/>
            <a:ext cx="6485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1000080" y="2774880"/>
            <a:ext cx="547704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75480" y="3460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995720" y="3443400"/>
            <a:ext cx="15066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087880" y="3554280"/>
            <a:ext cx="559080" cy="178200"/>
          </a:xfrm>
          <a:custGeom>
            <a:avLst/>
            <a:gdLst/>
            <a:ahLst/>
            <a:rect l="0" t="0" r="r" b="b"/>
            <a:pathLst>
              <a:path fill="none" w="1553" h="495">
                <a:moveTo>
                  <a:pt x="0" y="495"/>
                </a:moveTo>
                <a:lnTo>
                  <a:pt x="1087" y="495"/>
                </a:lnTo>
                <a:lnTo>
                  <a:pt x="1553" y="0"/>
                </a:lnTo>
                <a:lnTo>
                  <a:pt x="465" y="0"/>
                </a:lnTo>
                <a:lnTo>
                  <a:pt x="0" y="4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5826240" y="34624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10120" y="4041720"/>
            <a:ext cx="12272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160960" y="4079880"/>
            <a:ext cx="325440" cy="304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5664240" y="40734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016600" y="4629240"/>
            <a:ext cx="129528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194440" y="4699080"/>
            <a:ext cx="246240" cy="222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092560" y="4673520"/>
            <a:ext cx="17460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367240" y="4691160"/>
            <a:ext cx="181080" cy="26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626080" y="46292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5673600" y="46432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19600" y="404964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005600" y="2822400"/>
            <a:ext cx="17636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783288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7650000" y="2924280"/>
            <a:ext cx="176400" cy="176040"/>
            <a:chOff x="7650000" y="2924280"/>
            <a:chExt cx="176400" cy="176040"/>
          </a:xfrm>
        </p:grpSpPr>
        <p:sp>
          <p:nvSpPr>
            <p:cNvPr id="1031" name=""/>
            <p:cNvSpPr/>
            <p:nvPr/>
          </p:nvSpPr>
          <p:spPr>
            <a:xfrm>
              <a:off x="7672320" y="2935440"/>
              <a:ext cx="144360" cy="14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650000" y="2924280"/>
              <a:ext cx="176400" cy="176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837072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87320" y="808200"/>
            <a:ext cx="6485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1000080" y="2774880"/>
            <a:ext cx="547704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75480" y="3460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995720" y="3443400"/>
            <a:ext cx="15066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087880" y="3554280"/>
            <a:ext cx="559080" cy="178200"/>
          </a:xfrm>
          <a:custGeom>
            <a:avLst/>
            <a:gdLst/>
            <a:ahLst/>
            <a:rect l="0" t="0" r="r" b="b"/>
            <a:pathLst>
              <a:path fill="none" w="1553" h="495">
                <a:moveTo>
                  <a:pt x="0" y="495"/>
                </a:moveTo>
                <a:lnTo>
                  <a:pt x="1087" y="495"/>
                </a:lnTo>
                <a:lnTo>
                  <a:pt x="1553" y="0"/>
                </a:lnTo>
                <a:lnTo>
                  <a:pt x="465" y="0"/>
                </a:lnTo>
                <a:lnTo>
                  <a:pt x="0" y="4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5826240" y="34624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010120" y="4041720"/>
            <a:ext cx="12272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160960" y="4079880"/>
            <a:ext cx="325440" cy="304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5664240" y="40734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16600" y="4629240"/>
            <a:ext cx="129528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94440" y="4699080"/>
            <a:ext cx="246240" cy="222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092560" y="4673520"/>
            <a:ext cx="17460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367240" y="4691160"/>
            <a:ext cx="181080" cy="26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626080" y="46292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673600" y="46432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619600" y="404964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005600" y="2822400"/>
            <a:ext cx="17636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783288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7650000" y="2924280"/>
            <a:ext cx="176400" cy="176040"/>
            <a:chOff x="7650000" y="2924280"/>
            <a:chExt cx="176400" cy="176040"/>
          </a:xfrm>
        </p:grpSpPr>
        <p:sp>
          <p:nvSpPr>
            <p:cNvPr id="1062" name=""/>
            <p:cNvSpPr/>
            <p:nvPr/>
          </p:nvSpPr>
          <p:spPr>
            <a:xfrm>
              <a:off x="7672320" y="2935440"/>
              <a:ext cx="144360" cy="1443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7650000" y="2924280"/>
              <a:ext cx="176400" cy="1760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837072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87320" y="808200"/>
            <a:ext cx="6485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6756480" y="3341520"/>
            <a:ext cx="2262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he zone descri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may be removed i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lerance control re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 a feature of size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s not cylindrical,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which case,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would be betwee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parallel 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965840" y="9360"/>
            <a:ext cx="4165560" cy="595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760" y="3456000"/>
            <a:ext cx="10382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98680" y="3456000"/>
            <a:ext cx="1364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74800" y="3456000"/>
            <a:ext cx="83196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82880" y="3456000"/>
            <a:ext cx="69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67360" y="3540240"/>
            <a:ext cx="2076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3160" y="3540240"/>
            <a:ext cx="13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59640" y="3540240"/>
            <a:ext cx="2076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50120" y="3470400"/>
            <a:ext cx="0" cy="1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450120" y="765000"/>
            <a:ext cx="0" cy="2565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50120" y="3746520"/>
            <a:ext cx="0" cy="180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33960" y="1436760"/>
            <a:ext cx="4470480" cy="42400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38520" y="1708200"/>
            <a:ext cx="3860640" cy="3705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6880" y="1515960"/>
            <a:ext cx="0" cy="3876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4800" y="1515960"/>
            <a:ext cx="0" cy="762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4800" y="4675320"/>
            <a:ext cx="0" cy="717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74800" y="2279520"/>
            <a:ext cx="288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32040" y="4630680"/>
            <a:ext cx="231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20760" y="2336760"/>
            <a:ext cx="0" cy="352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20760" y="4216320"/>
            <a:ext cx="0" cy="358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73320" y="2749680"/>
            <a:ext cx="230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78000" y="4156200"/>
            <a:ext cx="22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498680" y="2678040"/>
            <a:ext cx="69840" cy="7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496880" y="4154400"/>
            <a:ext cx="73080" cy="81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66720" y="267984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66720" y="423396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2880" y="26798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982880" y="41576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52720" y="2749680"/>
            <a:ext cx="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52720" y="4087800"/>
            <a:ext cx="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2816280"/>
            <a:ext cx="19224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2720" y="4087800"/>
            <a:ext cx="1951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5440" y="2557440"/>
            <a:ext cx="361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6880" y="4354560"/>
            <a:ext cx="357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11240" y="2617920"/>
            <a:ext cx="0" cy="1689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09800" y="2962440"/>
            <a:ext cx="124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12680" y="3940200"/>
            <a:ext cx="12319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6880" y="15159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880" y="53928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6880" y="16542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880" y="193032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6880" y="497844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6880" y="52545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91360" y="1565280"/>
            <a:ext cx="320760" cy="2872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95960" y="3390840"/>
            <a:ext cx="29052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99280" y="5272200"/>
            <a:ext cx="29700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40760" y="3417840"/>
            <a:ext cx="2984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18320" y="2048040"/>
            <a:ext cx="322200" cy="2998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78440" y="2081160"/>
            <a:ext cx="3128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65840" y="4748040"/>
            <a:ext cx="29988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45320" y="4756320"/>
            <a:ext cx="30492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496280" y="1924200"/>
            <a:ext cx="558720" cy="558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435560" y="1514520"/>
            <a:ext cx="1036440" cy="10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05240" y="2362320"/>
            <a:ext cx="2475000" cy="23526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24480" y="2568600"/>
            <a:ext cx="2039760" cy="19400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72080" y="2708280"/>
            <a:ext cx="1746360" cy="16606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38920" y="3052800"/>
            <a:ext cx="1019160" cy="9716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27120" y="2725560"/>
            <a:ext cx="482760" cy="0"/>
          </a:xfrm>
          <a:prstGeom prst="line">
            <a:avLst/>
          </a:prstGeom>
          <a:ln w="12600">
            <a:solidFill>
              <a:srgbClr val="114ffb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15960" y="4175280"/>
            <a:ext cx="506520" cy="0"/>
          </a:xfrm>
          <a:prstGeom prst="line">
            <a:avLst/>
          </a:prstGeom>
          <a:ln w="12600">
            <a:solidFill>
              <a:srgbClr val="114ffb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72000" y="2614680"/>
            <a:ext cx="1943280" cy="18288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71560" y="4624560"/>
            <a:ext cx="57600" cy="57600"/>
          </a:xfrm>
          <a:custGeom>
            <a:avLst/>
            <a:gdLst/>
            <a:ahLst/>
            <a:rect l="0" t="0" r="r" b="b"/>
            <a:pathLst>
              <a:path fill="none" w="160" h="160">
                <a:moveTo>
                  <a:pt x="160" y="160"/>
                </a:moveTo>
                <a:lnTo>
                  <a:pt x="160" y="160"/>
                </a:lnTo>
                <a:lnTo>
                  <a:pt x="160" y="160"/>
                </a:lnTo>
                <a:cubicBezTo>
                  <a:pt x="160" y="132"/>
                  <a:pt x="153" y="104"/>
                  <a:pt x="139" y="80"/>
                </a:cubicBezTo>
                <a:cubicBezTo>
                  <a:pt x="125" y="56"/>
                  <a:pt x="104" y="35"/>
                  <a:pt x="80" y="21"/>
                </a:cubicBezTo>
                <a:cubicBezTo>
                  <a:pt x="56" y="7"/>
                  <a:pt x="28" y="0"/>
                  <a:pt x="0" y="0"/>
                </a:cubicBez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7320" y="179388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77880" y="179388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5800" y="179388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87320" y="511812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77880" y="511812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15800" y="511812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569360" y="4668840"/>
            <a:ext cx="493560" cy="47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857840" y="4676760"/>
            <a:ext cx="469800" cy="469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86080" y="2967120"/>
            <a:ext cx="4032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97240" y="3940200"/>
            <a:ext cx="392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5200" y="2817720"/>
            <a:ext cx="1005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70240" y="4092480"/>
            <a:ext cx="1008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7520" y="5506920"/>
            <a:ext cx="0" cy="10875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2720" y="5489640"/>
            <a:ext cx="0" cy="40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22200" y="4702320"/>
            <a:ext cx="3240" cy="66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48040" y="4278240"/>
            <a:ext cx="0" cy="468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02280" y="3902040"/>
            <a:ext cx="0" cy="2730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715240" y="3808440"/>
            <a:ext cx="5040" cy="2874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02360" y="3919680"/>
            <a:ext cx="0" cy="23065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78800" y="3780000"/>
            <a:ext cx="0" cy="2412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662440" y="1870200"/>
            <a:ext cx="1602000" cy="33782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88080" y="1217520"/>
            <a:ext cx="243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264440" y="1224000"/>
            <a:ext cx="328680" cy="6462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31080" y="1068480"/>
            <a:ext cx="592200" cy="297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502320" y="219240"/>
            <a:ext cx="308160" cy="13586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16600" y="219240"/>
            <a:ext cx="196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902720" y="1098720"/>
            <a:ext cx="204480" cy="193680"/>
            <a:chOff x="7902720" y="1098720"/>
            <a:chExt cx="204480" cy="193680"/>
          </a:xfrm>
        </p:grpSpPr>
        <p:sp>
          <p:nvSpPr>
            <p:cNvPr id="400" name=""/>
            <p:cNvSpPr/>
            <p:nvPr/>
          </p:nvSpPr>
          <p:spPr>
            <a:xfrm>
              <a:off x="7918560" y="112248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902720" y="1098720"/>
              <a:ext cx="20448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8099280" y="10256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4ffb"/>
                </a:solidFill>
                <a:latin typeface="Arial"/>
                <a:ea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27720" y="892080"/>
            <a:ext cx="1927440" cy="698400"/>
          </a:xfrm>
          <a:custGeom>
            <a:avLst/>
            <a:gdLst/>
            <a:ahLst/>
            <a:rect l="0" t="0" r="r" b="b"/>
            <a:pathLst>
              <a:path fill="none" w="5354" h="1940">
                <a:moveTo>
                  <a:pt x="5354" y="0"/>
                </a:moveTo>
                <a:lnTo>
                  <a:pt x="5354" y="0"/>
                </a:lnTo>
                <a:lnTo>
                  <a:pt x="5353" y="0"/>
                </a:lnTo>
                <a:cubicBezTo>
                  <a:pt x="3886" y="0"/>
                  <a:pt x="2444" y="387"/>
                  <a:pt x="1173" y="1121"/>
                </a:cubicBezTo>
                <a:cubicBezTo>
                  <a:pt x="759" y="1360"/>
                  <a:pt x="367" y="1634"/>
                  <a:pt x="0" y="1940"/>
                </a:cubicBezTo>
              </a:path>
            </a:pathLst>
          </a:cu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32440" y="955800"/>
            <a:ext cx="668160" cy="324000"/>
          </a:xfrm>
          <a:prstGeom prst="rect">
            <a:avLst/>
          </a:prstGeom>
          <a:solidFill>
            <a:srgbClr val="114ffb"/>
          </a:solidFill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X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00520" y="1049400"/>
            <a:ext cx="50760" cy="507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427880" y="38736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4  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997680" y="10152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X      7.9 - 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23080" y="384120"/>
            <a:ext cx="2136600" cy="29196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35680" y="396720"/>
            <a:ext cx="279360" cy="292320"/>
            <a:chOff x="6835680" y="396720"/>
            <a:chExt cx="279360" cy="292320"/>
          </a:xfrm>
        </p:grpSpPr>
        <p:sp>
          <p:nvSpPr>
            <p:cNvPr id="410" name=""/>
            <p:cNvSpPr/>
            <p:nvPr/>
          </p:nvSpPr>
          <p:spPr>
            <a:xfrm>
              <a:off x="6886440" y="447840"/>
              <a:ext cx="177840" cy="1778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5360" y="3967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35680" y="536400"/>
              <a:ext cx="279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714060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7404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07400" y="409680"/>
            <a:ext cx="241200" cy="2412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22024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13760" y="38412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  C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693280" y="411120"/>
            <a:ext cx="241200" cy="2412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202360" y="6062760"/>
            <a:ext cx="739800" cy="792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02400" y="6070680"/>
            <a:ext cx="107172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03720" y="6518160"/>
            <a:ext cx="26319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02400" y="6492960"/>
            <a:ext cx="12099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981760" y="5961240"/>
            <a:ext cx="190440" cy="196560"/>
            <a:chOff x="5981760" y="5961240"/>
            <a:chExt cx="190440" cy="196560"/>
          </a:xfrm>
        </p:grpSpPr>
        <p:sp>
          <p:nvSpPr>
            <p:cNvPr id="424" name=""/>
            <p:cNvSpPr/>
            <p:nvPr/>
          </p:nvSpPr>
          <p:spPr>
            <a:xfrm>
              <a:off x="5997600" y="59850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981760" y="59612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 txBox="1"/>
          <p:nvPr/>
        </p:nvSpPr>
        <p:spPr>
          <a:xfrm>
            <a:off x="6129360" y="58118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7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058160" y="6288120"/>
            <a:ext cx="480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891480" y="6418440"/>
            <a:ext cx="190440" cy="196560"/>
            <a:chOff x="6891480" y="6418440"/>
            <a:chExt cx="190440" cy="196560"/>
          </a:xfrm>
        </p:grpSpPr>
        <p:sp>
          <p:nvSpPr>
            <p:cNvPr id="429" name=""/>
            <p:cNvSpPr/>
            <p:nvPr/>
          </p:nvSpPr>
          <p:spPr>
            <a:xfrm>
              <a:off x="6907320" y="64422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891480" y="64184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708280" y="2962440"/>
            <a:ext cx="0" cy="96516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55840" y="2816280"/>
            <a:ext cx="0" cy="12762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77800" y="6256440"/>
            <a:ext cx="419040" cy="468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68440" y="6256440"/>
            <a:ext cx="795240" cy="46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2720" y="5803920"/>
            <a:ext cx="752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30320" y="5803920"/>
            <a:ext cx="32400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25440" y="5275440"/>
            <a:ext cx="257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40040" y="5294160"/>
            <a:ext cx="31428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1144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5432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52760" y="439272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52600" y="504036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581120" y="5545080"/>
            <a:ext cx="382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28800" y="60260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63520" y="227484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22200" y="2690640"/>
            <a:ext cx="5400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216080" y="4159080"/>
            <a:ext cx="6012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158840" y="457056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957240" y="4302000"/>
            <a:ext cx="5868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711520" y="1898640"/>
            <a:ext cx="0" cy="1066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1800" y="189864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164360" y="422280"/>
            <a:ext cx="204840" cy="193680"/>
            <a:chOff x="7164360" y="422280"/>
            <a:chExt cx="204840" cy="193680"/>
          </a:xfrm>
        </p:grpSpPr>
        <p:sp>
          <p:nvSpPr>
            <p:cNvPr id="453" name=""/>
            <p:cNvSpPr/>
            <p:nvPr/>
          </p:nvSpPr>
          <p:spPr>
            <a:xfrm>
              <a:off x="7180200" y="44604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64360" y="42228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413480" y="162000"/>
            <a:ext cx="163800" cy="155520"/>
            <a:chOff x="7413480" y="162000"/>
            <a:chExt cx="163800" cy="155520"/>
          </a:xfrm>
        </p:grpSpPr>
        <p:sp>
          <p:nvSpPr>
            <p:cNvPr id="456" name=""/>
            <p:cNvSpPr/>
            <p:nvPr/>
          </p:nvSpPr>
          <p:spPr>
            <a:xfrm>
              <a:off x="7426440" y="181080"/>
              <a:ext cx="131760" cy="125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7413480" y="162000"/>
              <a:ext cx="163800" cy="155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940120" y="1822320"/>
            <a:ext cx="204840" cy="193680"/>
            <a:chOff x="2940120" y="1822320"/>
            <a:chExt cx="204840" cy="193680"/>
          </a:xfrm>
        </p:grpSpPr>
        <p:sp>
          <p:nvSpPr>
            <p:cNvPr id="459" name=""/>
            <p:cNvSpPr/>
            <p:nvPr/>
          </p:nvSpPr>
          <p:spPr>
            <a:xfrm>
              <a:off x="2955960" y="184644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940120" y="182232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 txBox="1"/>
          <p:nvPr/>
        </p:nvSpPr>
        <p:spPr>
          <a:xfrm>
            <a:off x="3124080" y="1768320"/>
            <a:ext cx="1231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0.00 - 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59120" y="2103480"/>
            <a:ext cx="1278000" cy="2714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970360" y="2136600"/>
            <a:ext cx="199800" cy="20016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59080" y="2103480"/>
            <a:ext cx="0" cy="27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13000" y="20955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3068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683160" y="20890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3372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6200" y="20955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13160" y="2381400"/>
            <a:ext cx="146520" cy="152640"/>
          </a:xfrm>
          <a:custGeom>
            <a:avLst/>
            <a:gdLst/>
            <a:ahLst/>
            <a:rect l="0" t="0" r="r" b="b"/>
            <a:pathLst>
              <a:path fill="none" w="407" h="424">
                <a:moveTo>
                  <a:pt x="407" y="0"/>
                </a:moveTo>
                <a:lnTo>
                  <a:pt x="0" y="0"/>
                </a:lnTo>
                <a:lnTo>
                  <a:pt x="203" y="424"/>
                </a:lnTo>
                <a:lnTo>
                  <a:pt x="407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7400" y="2516040"/>
            <a:ext cx="0" cy="196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2716200"/>
            <a:ext cx="171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76680" y="2581200"/>
            <a:ext cx="260280" cy="2602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641760" y="25588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57240" y="2557440"/>
            <a:ext cx="55440" cy="55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787400" y="892080"/>
            <a:ext cx="895320" cy="17780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73360" y="892080"/>
            <a:ext cx="2667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898720" y="72396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M42 X 1.5 - 6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65320" y="982800"/>
            <a:ext cx="1625760" cy="2998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98800" y="985680"/>
            <a:ext cx="279360" cy="292320"/>
            <a:chOff x="2998800" y="985680"/>
            <a:chExt cx="279360" cy="292320"/>
          </a:xfrm>
        </p:grpSpPr>
        <p:sp>
          <p:nvSpPr>
            <p:cNvPr id="481" name=""/>
            <p:cNvSpPr/>
            <p:nvPr/>
          </p:nvSpPr>
          <p:spPr>
            <a:xfrm>
              <a:off x="3049560" y="1036800"/>
              <a:ext cx="177840" cy="1778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38480" y="98568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98800" y="1125360"/>
              <a:ext cx="279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32100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355920" y="1035000"/>
            <a:ext cx="204840" cy="193680"/>
            <a:chOff x="3355920" y="1035000"/>
            <a:chExt cx="204840" cy="193680"/>
          </a:xfrm>
        </p:grpSpPr>
        <p:sp>
          <p:nvSpPr>
            <p:cNvPr id="486" name=""/>
            <p:cNvSpPr/>
            <p:nvPr/>
          </p:nvSpPr>
          <p:spPr>
            <a:xfrm>
              <a:off x="3371760" y="105876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355920" y="103500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3540240" y="996840"/>
            <a:ext cx="10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 M  B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51320" y="1046160"/>
            <a:ext cx="210960" cy="1922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98800" y="1035000"/>
            <a:ext cx="210960" cy="1904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216080" y="565200"/>
            <a:ext cx="0" cy="1685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501920" y="1289160"/>
            <a:ext cx="0" cy="1361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06560" y="870120"/>
            <a:ext cx="0" cy="1647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96880" y="879480"/>
            <a:ext cx="0" cy="581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16080" y="555480"/>
            <a:ext cx="1019160" cy="2192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27332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35900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494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504800" y="52056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6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066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01920" y="1384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035000" y="138420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06560" y="974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49200" y="974880"/>
            <a:ext cx="2476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800360" y="115884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81040" y="71136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01520" y="25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92160" y="43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7200" y="2556000"/>
            <a:ext cx="0" cy="3618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6920" y="3384720"/>
            <a:ext cx="0" cy="9712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2892600"/>
            <a:ext cx="628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7200" y="136440"/>
            <a:ext cx="0" cy="2400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7200" y="127080"/>
            <a:ext cx="138096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0760" y="165240"/>
            <a:ext cx="0" cy="16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5080" y="326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27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01480" y="146160"/>
            <a:ext cx="204840" cy="193680"/>
            <a:chOff x="501480" y="146160"/>
            <a:chExt cx="204840" cy="193680"/>
          </a:xfrm>
        </p:grpSpPr>
        <p:sp>
          <p:nvSpPr>
            <p:cNvPr id="519" name=""/>
            <p:cNvSpPr/>
            <p:nvPr/>
          </p:nvSpPr>
          <p:spPr>
            <a:xfrm>
              <a:off x="517680" y="16992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01480" y="14616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 txBox="1"/>
          <p:nvPr/>
        </p:nvSpPr>
        <p:spPr>
          <a:xfrm>
            <a:off x="657360" y="101520"/>
            <a:ext cx="94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8 M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11320" y="146160"/>
            <a:ext cx="200160" cy="2001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683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374760"/>
            <a:ext cx="133560" cy="152640"/>
          </a:xfrm>
          <a:custGeom>
            <a:avLst/>
            <a:gdLst/>
            <a:ahLst/>
            <a:rect l="0" t="0" r="r" b="b"/>
            <a:pathLst>
              <a:path fill="none" w="371" h="424">
                <a:moveTo>
                  <a:pt x="371" y="0"/>
                </a:moveTo>
                <a:lnTo>
                  <a:pt x="0" y="0"/>
                </a:lnTo>
                <a:lnTo>
                  <a:pt x="186" y="424"/>
                </a:lnTo>
                <a:lnTo>
                  <a:pt x="371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035000" y="527040"/>
            <a:ext cx="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96880" y="64152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9200" y="50796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4280" y="4921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4880" y="5899320"/>
            <a:ext cx="152640" cy="133560"/>
          </a:xfrm>
          <a:custGeom>
            <a:avLst/>
            <a:gdLst/>
            <a:ahLst/>
            <a:rect l="0" t="0" r="r" b="b"/>
            <a:pathLst>
              <a:path fill="none" w="424" h="371">
                <a:moveTo>
                  <a:pt x="424" y="371"/>
                </a:moveTo>
                <a:lnTo>
                  <a:pt x="424" y="0"/>
                </a:lnTo>
                <a:lnTo>
                  <a:pt x="0" y="186"/>
                </a:lnTo>
                <a:lnTo>
                  <a:pt x="424" y="371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20760" y="5965920"/>
            <a:ext cx="123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3360" y="584208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160" y="5807160"/>
            <a:ext cx="322200" cy="324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7520" y="6566040"/>
            <a:ext cx="1000080" cy="2286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5320" y="6613560"/>
            <a:ext cx="324360" cy="124200"/>
          </a:xfrm>
          <a:custGeom>
            <a:avLst/>
            <a:gdLst/>
            <a:ahLst/>
            <a:rect l="0" t="0" r="r" b="b"/>
            <a:pathLst>
              <a:path fill="none" w="901" h="345">
                <a:moveTo>
                  <a:pt x="0" y="345"/>
                </a:moveTo>
                <a:lnTo>
                  <a:pt x="630" y="345"/>
                </a:lnTo>
                <a:lnTo>
                  <a:pt x="901" y="0"/>
                </a:lnTo>
                <a:lnTo>
                  <a:pt x="270" y="0"/>
                </a:lnTo>
                <a:lnTo>
                  <a:pt x="0" y="345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25640" y="6566040"/>
            <a:ext cx="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19160" y="654048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51080" y="2819520"/>
            <a:ext cx="1440" cy="126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00120" y="1514520"/>
            <a:ext cx="139680" cy="13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77960" y="152712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00120" y="193356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00120" y="1971720"/>
            <a:ext cx="266760" cy="266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0120" y="213660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76440" y="227664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53920" y="2276640"/>
            <a:ext cx="27972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993600" y="239076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006560" y="2568600"/>
            <a:ext cx="20304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006560" y="2708280"/>
            <a:ext cx="22860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158840" y="2752560"/>
            <a:ext cx="209520" cy="209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33668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51452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679400" y="2682720"/>
            <a:ext cx="27972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857240" y="2771640"/>
            <a:ext cx="190800" cy="190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35080" y="2822400"/>
            <a:ext cx="139680" cy="140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12920" y="2928960"/>
            <a:ext cx="33480" cy="3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00120" y="435924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00120" y="4359240"/>
            <a:ext cx="30492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006560" y="3940200"/>
            <a:ext cx="30456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06560" y="3940200"/>
            <a:ext cx="114120" cy="114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2720" y="4232160"/>
            <a:ext cx="609480" cy="60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298520" y="3940200"/>
            <a:ext cx="20340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63480" y="476568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019160" y="4422600"/>
            <a:ext cx="203040" cy="203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501920" y="3940200"/>
            <a:ext cx="21564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28720" y="4930920"/>
            <a:ext cx="50760" cy="50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616040" y="394020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806480" y="3940200"/>
            <a:ext cx="29232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143080" y="3990960"/>
            <a:ext cx="95400" cy="95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38280" y="5261040"/>
            <a:ext cx="126720" cy="1270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16120" y="5324400"/>
            <a:ext cx="63360" cy="63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59080" y="4084560"/>
            <a:ext cx="0" cy="787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59080" y="4870440"/>
            <a:ext cx="117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422520" y="4789440"/>
            <a:ext cx="204840" cy="193680"/>
            <a:chOff x="3422520" y="4789440"/>
            <a:chExt cx="204840" cy="193680"/>
          </a:xfrm>
        </p:grpSpPr>
        <p:sp>
          <p:nvSpPr>
            <p:cNvPr id="573" name=""/>
            <p:cNvSpPr/>
            <p:nvPr/>
          </p:nvSpPr>
          <p:spPr>
            <a:xfrm>
              <a:off x="3438360" y="481320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422520" y="478944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 txBox="1"/>
          <p:nvPr/>
        </p:nvSpPr>
        <p:spPr>
          <a:xfrm>
            <a:off x="3603600" y="463068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5129280"/>
            <a:ext cx="939960" cy="29196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5167440"/>
            <a:ext cx="215640" cy="21564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4348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14680" y="513864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95560" y="51260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9880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57440" y="6496200"/>
            <a:ext cx="1944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47840" y="4168800"/>
            <a:ext cx="0" cy="2235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200" y="1584360"/>
            <a:ext cx="2854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06840" y="376200"/>
            <a:ext cx="5618520" cy="6258240"/>
          </a:xfrm>
          <a:custGeom>
            <a:avLst/>
            <a:gdLst/>
            <a:ahLst/>
            <a:rect l="0" t="0" r="r" b="b"/>
            <a:pathLst>
              <a:path w="15607" h="17384">
                <a:moveTo>
                  <a:pt x="7804" y="17384"/>
                </a:moveTo>
                <a:lnTo>
                  <a:pt x="15607" y="8691"/>
                </a:lnTo>
                <a:lnTo>
                  <a:pt x="7804" y="0"/>
                </a:lnTo>
                <a:lnTo>
                  <a:pt x="0" y="8691"/>
                </a:lnTo>
                <a:lnTo>
                  <a:pt x="7804" y="17384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23920" y="5168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691080" y="0"/>
            <a:ext cx="3562200" cy="68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2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2</a:t>
            </a:r>
            <a:endParaRPr b="0" lang="en-US" sz="4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924600" y="1039680"/>
            <a:ext cx="2130480" cy="798480"/>
            <a:chOff x="6924600" y="1039680"/>
            <a:chExt cx="2130480" cy="798480"/>
          </a:xfrm>
        </p:grpSpPr>
        <p:sp>
          <p:nvSpPr>
            <p:cNvPr id="589" name=""/>
            <p:cNvSpPr/>
            <p:nvPr/>
          </p:nvSpPr>
          <p:spPr>
            <a:xfrm>
              <a:off x="6924600" y="1039680"/>
              <a:ext cx="2130480" cy="798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65fb"/>
              </a:solidFill>
              <a:round/>
            </a:ln>
          </p:spPr>
          <p:txBody>
            <a:bodyPr lIns="115200" rIns="115200" tIns="70200" bIns="70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6969240" y="1084320"/>
              <a:ext cx="2054160" cy="66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pyright  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Brigham Young Univers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ll Rights Reserv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 txBox="1"/>
          <p:nvPr/>
        </p:nvSpPr>
        <p:spPr>
          <a:xfrm>
            <a:off x="3290760" y="2143080"/>
            <a:ext cx="49309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35360" y="3943440"/>
            <a:ext cx="5510160" cy="378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ffffff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 txBox="1"/>
          <p:nvPr/>
        </p:nvSpPr>
        <p:spPr>
          <a:xfrm>
            <a:off x="1000080" y="2774880"/>
            <a:ext cx="547704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Aft>
                <a:spcPts val="96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689440" y="2847960"/>
            <a:ext cx="0" cy="347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775480" y="3460680"/>
            <a:ext cx="0" cy="3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995720" y="3443400"/>
            <a:ext cx="15066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87880" y="3554280"/>
            <a:ext cx="559080" cy="178200"/>
          </a:xfrm>
          <a:custGeom>
            <a:avLst/>
            <a:gdLst/>
            <a:ahLst/>
            <a:rect l="0" t="0" r="r" b="b"/>
            <a:pathLst>
              <a:path fill="none" w="1553" h="495">
                <a:moveTo>
                  <a:pt x="0" y="495"/>
                </a:moveTo>
                <a:lnTo>
                  <a:pt x="1087" y="495"/>
                </a:lnTo>
                <a:lnTo>
                  <a:pt x="1553" y="0"/>
                </a:lnTo>
                <a:lnTo>
                  <a:pt x="465" y="0"/>
                </a:lnTo>
                <a:lnTo>
                  <a:pt x="0" y="49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03640" y="2822400"/>
            <a:ext cx="14144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56280" y="30290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5843520" y="28353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5826240" y="34624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10120" y="4041720"/>
            <a:ext cx="122724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60960" y="4079880"/>
            <a:ext cx="325440" cy="304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5664240" y="40734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016600" y="4629240"/>
            <a:ext cx="129528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94440" y="4699080"/>
            <a:ext cx="246240" cy="2221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092560" y="4673520"/>
            <a:ext cx="17460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367240" y="4691160"/>
            <a:ext cx="181080" cy="26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626080" y="46292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5673600" y="464328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619600" y="404964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005600" y="2822400"/>
            <a:ext cx="1573200" cy="3808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108920" y="3025800"/>
            <a:ext cx="38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674120" y="2843280"/>
            <a:ext cx="88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.4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580160" y="2830680"/>
            <a:ext cx="0" cy="372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211960" y="2881440"/>
            <a:ext cx="266760" cy="2667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494400" y="284940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822240" y="1639800"/>
            <a:ext cx="771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Tolerance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637240" y="858960"/>
            <a:ext cx="1754280" cy="4539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787320" y="808200"/>
            <a:ext cx="6485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PPLICATION  GUIDEL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756480" y="3341520"/>
            <a:ext cx="2262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he zone descri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may be removed i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lerance control re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 a feature of size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s not cylindrical,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which case,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would be betwee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parallel pla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606600" y="3510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860400" y="1309680"/>
            <a:ext cx="6711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LIMITED CONTROL--AREA O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440" indent="-4604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areas may be designated for form contro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upon design requirements, it may occasionally be more cost-effective (and practical) to specify a small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ng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a given part to be controlled for form, rather than to require form control over an entire surfa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 and/or length, and the location of the form control, are indicated by a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ain lin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n adjacent to the surface with appropriate dimensio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1146240" y="1633680"/>
            <a:ext cx="7232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control-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/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05040" y="2406600"/>
            <a:ext cx="1785960" cy="500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824200" y="2544840"/>
            <a:ext cx="619560" cy="214560"/>
          </a:xfrm>
          <a:custGeom>
            <a:avLst/>
            <a:gdLst/>
            <a:ahLst/>
            <a:rect l="0" t="0" r="r" b="b"/>
            <a:pathLst>
              <a:path fill="none" w="1721" h="596">
                <a:moveTo>
                  <a:pt x="0" y="596"/>
                </a:moveTo>
                <a:lnTo>
                  <a:pt x="1204" y="596"/>
                </a:lnTo>
                <a:lnTo>
                  <a:pt x="1721" y="0"/>
                </a:lnTo>
                <a:lnTo>
                  <a:pt x="516" y="0"/>
                </a:lnTo>
                <a:lnTo>
                  <a:pt x="0" y="5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610080" y="240660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746520" y="24843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95240" y="3411360"/>
            <a:ext cx="0" cy="2497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7320" y="3411360"/>
            <a:ext cx="2276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95240" y="5907240"/>
            <a:ext cx="19544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78040" y="3411360"/>
            <a:ext cx="386280" cy="2495880"/>
          </a:xfrm>
          <a:custGeom>
            <a:avLst/>
            <a:gdLst/>
            <a:ahLst/>
            <a:rect l="0" t="0" r="r" b="b"/>
            <a:pathLst>
              <a:path fill="none" w="1073" h="6933">
                <a:moveTo>
                  <a:pt x="1073" y="0"/>
                </a:moveTo>
                <a:lnTo>
                  <a:pt x="1073" y="189"/>
                </a:lnTo>
                <a:lnTo>
                  <a:pt x="1073" y="379"/>
                </a:lnTo>
                <a:lnTo>
                  <a:pt x="1073" y="820"/>
                </a:lnTo>
                <a:lnTo>
                  <a:pt x="1073" y="1009"/>
                </a:lnTo>
                <a:lnTo>
                  <a:pt x="1073" y="1199"/>
                </a:lnTo>
                <a:lnTo>
                  <a:pt x="883" y="1322"/>
                </a:lnTo>
                <a:lnTo>
                  <a:pt x="755" y="1512"/>
                </a:lnTo>
                <a:lnTo>
                  <a:pt x="565" y="1640"/>
                </a:lnTo>
                <a:lnTo>
                  <a:pt x="441" y="1830"/>
                </a:lnTo>
                <a:lnTo>
                  <a:pt x="251" y="2081"/>
                </a:lnTo>
                <a:lnTo>
                  <a:pt x="123" y="2460"/>
                </a:lnTo>
                <a:lnTo>
                  <a:pt x="61" y="2711"/>
                </a:lnTo>
                <a:lnTo>
                  <a:pt x="0" y="2901"/>
                </a:lnTo>
                <a:lnTo>
                  <a:pt x="0" y="3152"/>
                </a:lnTo>
                <a:lnTo>
                  <a:pt x="0" y="3342"/>
                </a:lnTo>
                <a:lnTo>
                  <a:pt x="0" y="3594"/>
                </a:lnTo>
                <a:lnTo>
                  <a:pt x="0" y="3784"/>
                </a:lnTo>
                <a:lnTo>
                  <a:pt x="0" y="4035"/>
                </a:lnTo>
                <a:lnTo>
                  <a:pt x="0" y="4225"/>
                </a:lnTo>
                <a:lnTo>
                  <a:pt x="0" y="4538"/>
                </a:lnTo>
                <a:lnTo>
                  <a:pt x="0" y="4979"/>
                </a:lnTo>
                <a:lnTo>
                  <a:pt x="61" y="5169"/>
                </a:lnTo>
                <a:lnTo>
                  <a:pt x="61" y="5420"/>
                </a:lnTo>
                <a:lnTo>
                  <a:pt x="123" y="5923"/>
                </a:lnTo>
                <a:lnTo>
                  <a:pt x="189" y="6112"/>
                </a:lnTo>
                <a:lnTo>
                  <a:pt x="189" y="6302"/>
                </a:lnTo>
                <a:lnTo>
                  <a:pt x="189" y="6492"/>
                </a:lnTo>
                <a:lnTo>
                  <a:pt x="189" y="6681"/>
                </a:lnTo>
                <a:lnTo>
                  <a:pt x="189" y="6871"/>
                </a:lnTo>
                <a:lnTo>
                  <a:pt x="0" y="6933"/>
                </a:ln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041480" y="4289400"/>
            <a:ext cx="1182600" cy="1416240"/>
            <a:chOff x="1041480" y="4289400"/>
            <a:chExt cx="1182600" cy="1416240"/>
          </a:xfrm>
        </p:grpSpPr>
        <p:sp>
          <p:nvSpPr>
            <p:cNvPr id="1113" name=""/>
            <p:cNvSpPr/>
            <p:nvPr/>
          </p:nvSpPr>
          <p:spPr>
            <a:xfrm>
              <a:off x="1044720" y="5000760"/>
              <a:ext cx="0" cy="7016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27280" y="5702400"/>
              <a:ext cx="496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2224080" y="5165640"/>
              <a:ext cx="0" cy="540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765440" y="4297320"/>
              <a:ext cx="458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222640" y="5067360"/>
              <a:ext cx="0" cy="950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2222640" y="4843440"/>
              <a:ext cx="0" cy="108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222640" y="4295880"/>
              <a:ext cx="0" cy="425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1044720" y="489888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047600" y="4718160"/>
              <a:ext cx="0" cy="10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047600" y="4289400"/>
              <a:ext cx="0" cy="343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1681200" y="4294080"/>
              <a:ext cx="82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467000" y="4289400"/>
              <a:ext cx="75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1041480" y="4289400"/>
              <a:ext cx="3045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1620720" y="5703840"/>
              <a:ext cx="101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405080" y="5699160"/>
              <a:ext cx="889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1041480" y="5699160"/>
              <a:ext cx="2286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 flipH="1">
            <a:off x="2386080" y="264960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1952640" y="2643120"/>
            <a:ext cx="433440" cy="164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406600" y="429408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28920" y="5702400"/>
            <a:ext cx="1017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294000" y="4294080"/>
            <a:ext cx="0" cy="1408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042920" y="5853240"/>
            <a:ext cx="0" cy="58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233440" y="5810400"/>
            <a:ext cx="0" cy="60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42920" y="6308640"/>
            <a:ext cx="1173240" cy="32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81200" y="60008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61800" y="6311880"/>
            <a:ext cx="4129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844720" y="591192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95800" y="591192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426360" y="3984480"/>
            <a:ext cx="2905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48240" y="5688000"/>
            <a:ext cx="271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025960" y="3103560"/>
            <a:ext cx="852480" cy="1095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025960" y="4199040"/>
            <a:ext cx="2381400" cy="9745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407360" y="3892680"/>
            <a:ext cx="998280" cy="1280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888160" y="3089160"/>
            <a:ext cx="2540520" cy="851400"/>
          </a:xfrm>
          <a:custGeom>
            <a:avLst/>
            <a:gdLst/>
            <a:ahLst/>
            <a:rect l="0" t="0" r="r" b="b"/>
            <a:pathLst>
              <a:path fill="none" w="7057" h="2365">
                <a:moveTo>
                  <a:pt x="0" y="0"/>
                </a:moveTo>
                <a:lnTo>
                  <a:pt x="131" y="56"/>
                </a:lnTo>
                <a:lnTo>
                  <a:pt x="262" y="225"/>
                </a:lnTo>
                <a:lnTo>
                  <a:pt x="394" y="337"/>
                </a:lnTo>
                <a:lnTo>
                  <a:pt x="525" y="393"/>
                </a:lnTo>
                <a:lnTo>
                  <a:pt x="657" y="450"/>
                </a:lnTo>
                <a:lnTo>
                  <a:pt x="788" y="506"/>
                </a:lnTo>
                <a:lnTo>
                  <a:pt x="920" y="506"/>
                </a:lnTo>
                <a:lnTo>
                  <a:pt x="1051" y="506"/>
                </a:lnTo>
                <a:lnTo>
                  <a:pt x="1183" y="506"/>
                </a:lnTo>
                <a:lnTo>
                  <a:pt x="1314" y="506"/>
                </a:lnTo>
                <a:lnTo>
                  <a:pt x="1446" y="506"/>
                </a:lnTo>
                <a:lnTo>
                  <a:pt x="1797" y="506"/>
                </a:lnTo>
                <a:lnTo>
                  <a:pt x="2148" y="506"/>
                </a:lnTo>
                <a:lnTo>
                  <a:pt x="2279" y="506"/>
                </a:lnTo>
                <a:lnTo>
                  <a:pt x="2455" y="506"/>
                </a:lnTo>
                <a:lnTo>
                  <a:pt x="2718" y="506"/>
                </a:lnTo>
                <a:lnTo>
                  <a:pt x="2849" y="506"/>
                </a:lnTo>
                <a:lnTo>
                  <a:pt x="3200" y="506"/>
                </a:lnTo>
                <a:lnTo>
                  <a:pt x="3550" y="506"/>
                </a:lnTo>
                <a:lnTo>
                  <a:pt x="3682" y="506"/>
                </a:lnTo>
                <a:lnTo>
                  <a:pt x="3813" y="506"/>
                </a:lnTo>
                <a:lnTo>
                  <a:pt x="4076" y="562"/>
                </a:lnTo>
                <a:lnTo>
                  <a:pt x="4251" y="732"/>
                </a:lnTo>
                <a:lnTo>
                  <a:pt x="4383" y="845"/>
                </a:lnTo>
                <a:lnTo>
                  <a:pt x="4558" y="1013"/>
                </a:lnTo>
                <a:lnTo>
                  <a:pt x="4690" y="1126"/>
                </a:lnTo>
                <a:lnTo>
                  <a:pt x="4865" y="1239"/>
                </a:lnTo>
                <a:lnTo>
                  <a:pt x="4996" y="1295"/>
                </a:lnTo>
                <a:lnTo>
                  <a:pt x="5172" y="1295"/>
                </a:lnTo>
                <a:lnTo>
                  <a:pt x="5348" y="1295"/>
                </a:lnTo>
                <a:lnTo>
                  <a:pt x="5523" y="1351"/>
                </a:lnTo>
                <a:lnTo>
                  <a:pt x="5786" y="1351"/>
                </a:lnTo>
                <a:lnTo>
                  <a:pt x="5918" y="1351"/>
                </a:lnTo>
                <a:lnTo>
                  <a:pt x="6093" y="1464"/>
                </a:lnTo>
                <a:lnTo>
                  <a:pt x="6224" y="1576"/>
                </a:lnTo>
                <a:lnTo>
                  <a:pt x="6356" y="1745"/>
                </a:lnTo>
                <a:lnTo>
                  <a:pt x="6487" y="1859"/>
                </a:lnTo>
                <a:lnTo>
                  <a:pt x="6619" y="1915"/>
                </a:lnTo>
                <a:lnTo>
                  <a:pt x="6750" y="1971"/>
                </a:lnTo>
                <a:lnTo>
                  <a:pt x="6882" y="2027"/>
                </a:lnTo>
                <a:lnTo>
                  <a:pt x="6969" y="2196"/>
                </a:lnTo>
                <a:lnTo>
                  <a:pt x="7057" y="2365"/>
                </a:ln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025960" y="4200480"/>
            <a:ext cx="0" cy="851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025960" y="5051520"/>
            <a:ext cx="2381400" cy="105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7407360" y="4840200"/>
            <a:ext cx="982440" cy="1265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407360" y="5186520"/>
            <a:ext cx="0" cy="9126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3932280"/>
            <a:ext cx="63720" cy="913320"/>
          </a:xfrm>
          <a:custGeom>
            <a:avLst/>
            <a:gdLst/>
            <a:ahLst/>
            <a:rect l="0" t="0" r="r" b="b"/>
            <a:pathLst>
              <a:path fill="none" w="177" h="2537">
                <a:moveTo>
                  <a:pt x="44" y="0"/>
                </a:moveTo>
                <a:lnTo>
                  <a:pt x="44" y="169"/>
                </a:lnTo>
                <a:lnTo>
                  <a:pt x="44" y="338"/>
                </a:lnTo>
                <a:lnTo>
                  <a:pt x="44" y="507"/>
                </a:lnTo>
                <a:lnTo>
                  <a:pt x="89" y="677"/>
                </a:lnTo>
                <a:lnTo>
                  <a:pt x="177" y="846"/>
                </a:lnTo>
                <a:lnTo>
                  <a:pt x="177" y="1015"/>
                </a:lnTo>
                <a:lnTo>
                  <a:pt x="177" y="1184"/>
                </a:lnTo>
                <a:lnTo>
                  <a:pt x="177" y="1353"/>
                </a:lnTo>
                <a:lnTo>
                  <a:pt x="177" y="1522"/>
                </a:lnTo>
                <a:lnTo>
                  <a:pt x="89" y="1691"/>
                </a:lnTo>
                <a:lnTo>
                  <a:pt x="44" y="1860"/>
                </a:lnTo>
                <a:lnTo>
                  <a:pt x="0" y="2030"/>
                </a:lnTo>
                <a:lnTo>
                  <a:pt x="0" y="2199"/>
                </a:lnTo>
                <a:lnTo>
                  <a:pt x="0" y="2368"/>
                </a:lnTo>
                <a:lnTo>
                  <a:pt x="0" y="2537"/>
                </a:ln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96200" y="3537000"/>
            <a:ext cx="161640" cy="20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662880" y="3538440"/>
            <a:ext cx="430200" cy="149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164360" y="3705120"/>
            <a:ext cx="112680" cy="44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332840" y="3770280"/>
            <a:ext cx="128520" cy="50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451640" y="3816360"/>
            <a:ext cx="486000" cy="2001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02480" y="4019400"/>
            <a:ext cx="335160" cy="428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550280" y="4422600"/>
            <a:ext cx="68040" cy="90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453440" y="4562640"/>
            <a:ext cx="52200" cy="69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7323120" y="4680000"/>
            <a:ext cx="73080" cy="98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6713640" y="4525920"/>
            <a:ext cx="608040" cy="2556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6616800" y="4483080"/>
            <a:ext cx="114120" cy="42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 flipV="1">
            <a:off x="6429240" y="4406760"/>
            <a:ext cx="117720" cy="446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6091200" y="4265640"/>
            <a:ext cx="290520" cy="122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6381720" y="3778200"/>
            <a:ext cx="76320" cy="88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6292800" y="3917880"/>
            <a:ext cx="57240" cy="76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6083280" y="3960720"/>
            <a:ext cx="227160" cy="306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800" y="265752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6168960" y="259236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1050840" y="4297320"/>
            <a:ext cx="149400" cy="149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1050840" y="4303800"/>
            <a:ext cx="354240" cy="35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1031760" y="4303800"/>
            <a:ext cx="601920" cy="601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1047600" y="4303800"/>
            <a:ext cx="825480" cy="825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2131920" y="5599080"/>
            <a:ext cx="93600" cy="9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903320" y="5378400"/>
            <a:ext cx="316080" cy="316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52760" y="5118120"/>
            <a:ext cx="566640" cy="566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1419120" y="4886280"/>
            <a:ext cx="798480" cy="798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047600" y="4303800"/>
            <a:ext cx="1054080" cy="1054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050840" y="4422600"/>
            <a:ext cx="1165320" cy="116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1182600" y="4646520"/>
            <a:ext cx="1030320" cy="1030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949560" y="5413320"/>
            <a:ext cx="29541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desig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ea must b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total tolerance of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571920" y="2658960"/>
            <a:ext cx="0" cy="1517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571920" y="2666880"/>
            <a:ext cx="2975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571920" y="2666880"/>
            <a:ext cx="2976840" cy="1500480"/>
          </a:xfrm>
          <a:custGeom>
            <a:avLst/>
            <a:gdLst/>
            <a:ahLst/>
            <a:rect l="0" t="0" r="r" b="b"/>
            <a:pathLst>
              <a:path fill="none" w="8269" h="4168">
                <a:moveTo>
                  <a:pt x="8269" y="0"/>
                </a:moveTo>
                <a:lnTo>
                  <a:pt x="8269" y="463"/>
                </a:lnTo>
                <a:lnTo>
                  <a:pt x="8203" y="661"/>
                </a:lnTo>
                <a:lnTo>
                  <a:pt x="8004" y="793"/>
                </a:lnTo>
                <a:lnTo>
                  <a:pt x="7872" y="992"/>
                </a:lnTo>
                <a:lnTo>
                  <a:pt x="7740" y="1190"/>
                </a:lnTo>
                <a:lnTo>
                  <a:pt x="7607" y="1389"/>
                </a:lnTo>
                <a:lnTo>
                  <a:pt x="7607" y="1587"/>
                </a:lnTo>
                <a:lnTo>
                  <a:pt x="7475" y="1785"/>
                </a:lnTo>
                <a:lnTo>
                  <a:pt x="7409" y="1984"/>
                </a:lnTo>
                <a:lnTo>
                  <a:pt x="7343" y="2183"/>
                </a:lnTo>
                <a:lnTo>
                  <a:pt x="7210" y="2382"/>
                </a:lnTo>
                <a:lnTo>
                  <a:pt x="7144" y="2580"/>
                </a:lnTo>
                <a:lnTo>
                  <a:pt x="7078" y="2779"/>
                </a:lnTo>
                <a:lnTo>
                  <a:pt x="7078" y="2977"/>
                </a:lnTo>
                <a:lnTo>
                  <a:pt x="6946" y="3176"/>
                </a:lnTo>
                <a:lnTo>
                  <a:pt x="6814" y="3374"/>
                </a:lnTo>
                <a:lnTo>
                  <a:pt x="6814" y="3572"/>
                </a:lnTo>
                <a:lnTo>
                  <a:pt x="6814" y="3771"/>
                </a:lnTo>
                <a:lnTo>
                  <a:pt x="6747" y="3969"/>
                </a:lnTo>
                <a:lnTo>
                  <a:pt x="6747" y="4168"/>
                </a:lnTo>
                <a:lnTo>
                  <a:pt x="0" y="4168"/>
                </a:ln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575160" y="426564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336920" y="4265640"/>
            <a:ext cx="1778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629240" y="426564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565520" y="2975040"/>
            <a:ext cx="0" cy="31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565520" y="3389400"/>
            <a:ext cx="0" cy="16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65520" y="3681360"/>
            <a:ext cx="0" cy="1255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521080" y="3465360"/>
            <a:ext cx="1866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476600" y="3465360"/>
            <a:ext cx="177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738680" y="3465360"/>
            <a:ext cx="331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324320" y="3236760"/>
            <a:ext cx="482760" cy="482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302080" y="4367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575160" y="4379760"/>
            <a:ext cx="0" cy="123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575160" y="551016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641840" y="5497560"/>
            <a:ext cx="6602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232160" y="53150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1616040" y="4165560"/>
            <a:ext cx="1841400" cy="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2647800" y="2982960"/>
            <a:ext cx="0" cy="482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673360" y="417816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441520" y="35942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500040" y="4172040"/>
            <a:ext cx="1785960" cy="500040"/>
            <a:chOff x="500040" y="4172040"/>
            <a:chExt cx="1785960" cy="500040"/>
          </a:xfrm>
        </p:grpSpPr>
        <p:sp>
          <p:nvSpPr>
            <p:cNvPr id="1205" name=""/>
            <p:cNvSpPr/>
            <p:nvPr/>
          </p:nvSpPr>
          <p:spPr>
            <a:xfrm>
              <a:off x="500040" y="4172040"/>
              <a:ext cx="1785960" cy="50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9200" y="4335480"/>
              <a:ext cx="619560" cy="214560"/>
            </a:xfrm>
            <a:custGeom>
              <a:avLst/>
              <a:gdLst/>
              <a:ahLst/>
              <a:rect l="0" t="0" r="r" b="b"/>
              <a:pathLst>
                <a:path fill="none" w="1721" h="596">
                  <a:moveTo>
                    <a:pt x="0" y="596"/>
                  </a:moveTo>
                  <a:lnTo>
                    <a:pt x="1204" y="596"/>
                  </a:lnTo>
                  <a:lnTo>
                    <a:pt x="1721" y="0"/>
                  </a:lnTo>
                  <a:lnTo>
                    <a:pt x="516" y="0"/>
                  </a:lnTo>
                  <a:lnTo>
                    <a:pt x="0" y="59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405080" y="4186080"/>
              <a:ext cx="0" cy="48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1550880" y="427500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"/>
          <p:cNvSpPr/>
          <p:nvPr/>
        </p:nvSpPr>
        <p:spPr>
          <a:xfrm flipH="1">
            <a:off x="3079800" y="482616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603680" y="4826160"/>
            <a:ext cx="42876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765600" y="465300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631800" y="604800"/>
            <a:ext cx="7894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TOLER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146240" y="1633680"/>
            <a:ext cx="7232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control-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/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ig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965840" y="0"/>
            <a:ext cx="4165560" cy="57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6497640"/>
            <a:ext cx="3468600" cy="347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823160" y="6377040"/>
            <a:ext cx="1308240" cy="468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0760" y="3456000"/>
            <a:ext cx="10382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98680" y="3456000"/>
            <a:ext cx="1364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74800" y="3456000"/>
            <a:ext cx="83196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82880" y="3456000"/>
            <a:ext cx="69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67360" y="3540240"/>
            <a:ext cx="2076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83160" y="3540240"/>
            <a:ext cx="13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59640" y="3540240"/>
            <a:ext cx="2076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50120" y="3470400"/>
            <a:ext cx="0" cy="1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0120" y="765000"/>
            <a:ext cx="0" cy="2565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50120" y="3746520"/>
            <a:ext cx="0" cy="180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33960" y="1436760"/>
            <a:ext cx="4470480" cy="42400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38520" y="1708200"/>
            <a:ext cx="3860640" cy="3705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6880" y="1515960"/>
            <a:ext cx="0" cy="3876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74800" y="1515960"/>
            <a:ext cx="0" cy="762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74800" y="4675320"/>
            <a:ext cx="0" cy="717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74800" y="2279520"/>
            <a:ext cx="288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32040" y="4630680"/>
            <a:ext cx="231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20760" y="2336760"/>
            <a:ext cx="0" cy="352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20760" y="4216320"/>
            <a:ext cx="0" cy="358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3320" y="2749680"/>
            <a:ext cx="230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278000" y="4156200"/>
            <a:ext cx="22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498680" y="2678040"/>
            <a:ext cx="69840" cy="7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1496880" y="4154400"/>
            <a:ext cx="73080" cy="81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66720" y="267984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566720" y="423396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82880" y="26798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2880" y="41576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52720" y="2749680"/>
            <a:ext cx="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52720" y="4087800"/>
            <a:ext cx="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2816280"/>
            <a:ext cx="19224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52720" y="4087800"/>
            <a:ext cx="1951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5440" y="2557440"/>
            <a:ext cx="361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6880" y="4354560"/>
            <a:ext cx="357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11240" y="2617920"/>
            <a:ext cx="0" cy="1689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09800" y="2962440"/>
            <a:ext cx="124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12680" y="3940200"/>
            <a:ext cx="12319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6880" y="15159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96880" y="53928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96880" y="16542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6880" y="193032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96880" y="497844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6880" y="52545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91360" y="1565280"/>
            <a:ext cx="320760" cy="2872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95960" y="3390840"/>
            <a:ext cx="29052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99280" y="5272200"/>
            <a:ext cx="29700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240760" y="3417840"/>
            <a:ext cx="2984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18320" y="2048040"/>
            <a:ext cx="322200" cy="2998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978440" y="2081160"/>
            <a:ext cx="3128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65840" y="4748040"/>
            <a:ext cx="29988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45320" y="4756320"/>
            <a:ext cx="30492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496280" y="1924200"/>
            <a:ext cx="558720" cy="558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435560" y="1514520"/>
            <a:ext cx="1036440" cy="10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05240" y="2362320"/>
            <a:ext cx="2475000" cy="23526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24480" y="2568600"/>
            <a:ext cx="2039760" cy="19400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572080" y="2708280"/>
            <a:ext cx="1746360" cy="16606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38920" y="3052800"/>
            <a:ext cx="1019160" cy="9716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7120" y="2725560"/>
            <a:ext cx="4827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15960" y="4175280"/>
            <a:ext cx="5065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72000" y="2614680"/>
            <a:ext cx="1943280" cy="18288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71560" y="4624560"/>
            <a:ext cx="57600" cy="57600"/>
          </a:xfrm>
          <a:custGeom>
            <a:avLst/>
            <a:gdLst/>
            <a:ahLst/>
            <a:rect l="0" t="0" r="r" b="b"/>
            <a:pathLst>
              <a:path fill="none" w="160" h="160">
                <a:moveTo>
                  <a:pt x="160" y="160"/>
                </a:moveTo>
                <a:lnTo>
                  <a:pt x="160" y="160"/>
                </a:lnTo>
                <a:lnTo>
                  <a:pt x="160" y="160"/>
                </a:lnTo>
                <a:cubicBezTo>
                  <a:pt x="160" y="132"/>
                  <a:pt x="153" y="104"/>
                  <a:pt x="139" y="80"/>
                </a:cubicBezTo>
                <a:cubicBezTo>
                  <a:pt x="125" y="56"/>
                  <a:pt x="104" y="35"/>
                  <a:pt x="80" y="21"/>
                </a:cubicBezTo>
                <a:cubicBezTo>
                  <a:pt x="56" y="7"/>
                  <a:pt x="28" y="0"/>
                  <a:pt x="0" y="0"/>
                </a:cubicBez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87320" y="179388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77880" y="179388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415800" y="179388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87320" y="511812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77880" y="511812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15800" y="511812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569360" y="4668840"/>
            <a:ext cx="493560" cy="47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857840" y="4676760"/>
            <a:ext cx="469800" cy="469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386080" y="2967120"/>
            <a:ext cx="4032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397240" y="3940200"/>
            <a:ext cx="392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65200" y="2817720"/>
            <a:ext cx="1005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370240" y="4092480"/>
            <a:ext cx="1008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87520" y="5506920"/>
            <a:ext cx="0" cy="10875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82720" y="5489640"/>
            <a:ext cx="0" cy="40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22200" y="4702320"/>
            <a:ext cx="3240" cy="66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48040" y="4278240"/>
            <a:ext cx="0" cy="468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02280" y="3902040"/>
            <a:ext cx="0" cy="2730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8715240" y="3808440"/>
            <a:ext cx="5040" cy="2874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02360" y="3919680"/>
            <a:ext cx="0" cy="23065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78800" y="3780000"/>
            <a:ext cx="0" cy="2412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662440" y="1870200"/>
            <a:ext cx="1602000" cy="33782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588080" y="1217520"/>
            <a:ext cx="243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7264440" y="1224000"/>
            <a:ext cx="328680" cy="6462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31080" y="1068480"/>
            <a:ext cx="592200" cy="297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502320" y="219240"/>
            <a:ext cx="308160" cy="13586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902720" y="1098720"/>
            <a:ext cx="204480" cy="193680"/>
            <a:chOff x="7902720" y="1098720"/>
            <a:chExt cx="204480" cy="193680"/>
          </a:xfrm>
        </p:grpSpPr>
        <p:sp>
          <p:nvSpPr>
            <p:cNvPr id="682" name=""/>
            <p:cNvSpPr/>
            <p:nvPr/>
          </p:nvSpPr>
          <p:spPr>
            <a:xfrm>
              <a:off x="7918560" y="112248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902720" y="1098720"/>
              <a:ext cx="20448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 txBox="1"/>
          <p:nvPr/>
        </p:nvSpPr>
        <p:spPr>
          <a:xfrm>
            <a:off x="8056440" y="106848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527720" y="892080"/>
            <a:ext cx="1927440" cy="698400"/>
          </a:xfrm>
          <a:custGeom>
            <a:avLst/>
            <a:gdLst/>
            <a:ahLst/>
            <a:rect l="0" t="0" r="r" b="b"/>
            <a:pathLst>
              <a:path fill="none" w="5354" h="1940">
                <a:moveTo>
                  <a:pt x="5354" y="0"/>
                </a:moveTo>
                <a:lnTo>
                  <a:pt x="5354" y="0"/>
                </a:lnTo>
                <a:lnTo>
                  <a:pt x="5353" y="0"/>
                </a:lnTo>
                <a:cubicBezTo>
                  <a:pt x="3886" y="0"/>
                  <a:pt x="2444" y="387"/>
                  <a:pt x="1173" y="1121"/>
                </a:cubicBezTo>
                <a:cubicBezTo>
                  <a:pt x="759" y="1360"/>
                  <a:pt x="367" y="1634"/>
                  <a:pt x="0" y="1940"/>
                </a:cubicBezTo>
              </a:path>
            </a:pathLst>
          </a:cu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032440" y="955800"/>
            <a:ext cx="668160" cy="324000"/>
          </a:xfrm>
          <a:prstGeom prst="rect">
            <a:avLst/>
          </a:prstGeom>
          <a:solidFill>
            <a:srgbClr val="114ffb"/>
          </a:solidFill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X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600520" y="1049400"/>
            <a:ext cx="50760" cy="507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202360" y="6062760"/>
            <a:ext cx="739800" cy="792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02400" y="6070680"/>
            <a:ext cx="107172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03720" y="6518160"/>
            <a:ext cx="26319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02400" y="6492960"/>
            <a:ext cx="12099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981760" y="5961240"/>
            <a:ext cx="190440" cy="196560"/>
            <a:chOff x="5981760" y="5961240"/>
            <a:chExt cx="190440" cy="196560"/>
          </a:xfrm>
        </p:grpSpPr>
        <p:sp>
          <p:nvSpPr>
            <p:cNvPr id="693" name=""/>
            <p:cNvSpPr/>
            <p:nvPr/>
          </p:nvSpPr>
          <p:spPr>
            <a:xfrm>
              <a:off x="5997600" y="59850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5981760" y="59612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6129360" y="58118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7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058160" y="6288120"/>
            <a:ext cx="480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891480" y="6418440"/>
            <a:ext cx="190440" cy="196560"/>
            <a:chOff x="6891480" y="6418440"/>
            <a:chExt cx="190440" cy="196560"/>
          </a:xfrm>
        </p:grpSpPr>
        <p:sp>
          <p:nvSpPr>
            <p:cNvPr id="698" name=""/>
            <p:cNvSpPr/>
            <p:nvPr/>
          </p:nvSpPr>
          <p:spPr>
            <a:xfrm>
              <a:off x="6907320" y="64422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891480" y="64184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2708280" y="2962440"/>
            <a:ext cx="0" cy="96516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55840" y="2816280"/>
            <a:ext cx="0" cy="12762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77800" y="6256440"/>
            <a:ext cx="419040" cy="468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68440" y="6256440"/>
            <a:ext cx="795240" cy="46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82720" y="5803920"/>
            <a:ext cx="752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30320" y="5803920"/>
            <a:ext cx="32400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25440" y="5275440"/>
            <a:ext cx="257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0040" y="5294160"/>
            <a:ext cx="31428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71144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5432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2552760" y="439272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452600" y="504036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1581120" y="5545080"/>
            <a:ext cx="382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28800" y="60260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63520" y="227484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222200" y="2690640"/>
            <a:ext cx="5400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216080" y="4159080"/>
            <a:ext cx="6012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158840" y="457056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957240" y="4302000"/>
            <a:ext cx="5868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711520" y="1898640"/>
            <a:ext cx="0" cy="1066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01800" y="189864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6765840" y="101520"/>
            <a:ext cx="2214360" cy="587520"/>
            <a:chOff x="6765840" y="101520"/>
            <a:chExt cx="2214360" cy="587520"/>
          </a:xfrm>
        </p:grpSpPr>
        <p:sp>
          <p:nvSpPr>
            <p:cNvPr id="722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475400" y="37800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65840" y="384120"/>
              <a:ext cx="219708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727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6284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8204040" y="365040"/>
              <a:ext cx="776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683560" y="3985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737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412040" y="165240"/>
              <a:ext cx="163440" cy="155520"/>
              <a:chOff x="7412040" y="165240"/>
              <a:chExt cx="163440" cy="15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424640" y="18432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412040" y="165240"/>
                <a:ext cx="16344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2940120" y="1822320"/>
            <a:ext cx="204840" cy="193680"/>
            <a:chOff x="2940120" y="1822320"/>
            <a:chExt cx="204840" cy="193680"/>
          </a:xfrm>
        </p:grpSpPr>
        <p:sp>
          <p:nvSpPr>
            <p:cNvPr id="743" name=""/>
            <p:cNvSpPr/>
            <p:nvPr/>
          </p:nvSpPr>
          <p:spPr>
            <a:xfrm>
              <a:off x="2955960" y="184644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940120" y="182232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3124080" y="1768320"/>
            <a:ext cx="1231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0.00 - 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859120" y="2103480"/>
            <a:ext cx="1278000" cy="2714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970360" y="2136600"/>
            <a:ext cx="199800" cy="20016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59080" y="2103480"/>
            <a:ext cx="0" cy="27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213000" y="20955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73068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683160" y="20890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3372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886200" y="20955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13160" y="2381400"/>
            <a:ext cx="146520" cy="152640"/>
          </a:xfrm>
          <a:custGeom>
            <a:avLst/>
            <a:gdLst/>
            <a:ahLst/>
            <a:rect l="0" t="0" r="r" b="b"/>
            <a:pathLst>
              <a:path fill="none" w="407" h="424">
                <a:moveTo>
                  <a:pt x="407" y="0"/>
                </a:moveTo>
                <a:lnTo>
                  <a:pt x="0" y="0"/>
                </a:lnTo>
                <a:lnTo>
                  <a:pt x="203" y="424"/>
                </a:lnTo>
                <a:lnTo>
                  <a:pt x="407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97400" y="2516040"/>
            <a:ext cx="0" cy="196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2716200"/>
            <a:ext cx="171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76680" y="2581200"/>
            <a:ext cx="260280" cy="2602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641760" y="25588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57240" y="2557440"/>
            <a:ext cx="55440" cy="55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1787400" y="892080"/>
            <a:ext cx="895320" cy="17780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73360" y="892080"/>
            <a:ext cx="2667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898720" y="72396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M42 X 1.5 - 6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65320" y="982800"/>
            <a:ext cx="1625760" cy="2998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998800" y="985680"/>
            <a:ext cx="279360" cy="292320"/>
            <a:chOff x="2998800" y="985680"/>
            <a:chExt cx="279360" cy="292320"/>
          </a:xfrm>
        </p:grpSpPr>
        <p:sp>
          <p:nvSpPr>
            <p:cNvPr id="765" name=""/>
            <p:cNvSpPr/>
            <p:nvPr/>
          </p:nvSpPr>
          <p:spPr>
            <a:xfrm>
              <a:off x="3049560" y="1036800"/>
              <a:ext cx="177840" cy="1778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8480" y="98568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98800" y="1125360"/>
              <a:ext cx="279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332100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355920" y="1035000"/>
            <a:ext cx="204840" cy="193680"/>
            <a:chOff x="3355920" y="1035000"/>
            <a:chExt cx="204840" cy="193680"/>
          </a:xfrm>
        </p:grpSpPr>
        <p:sp>
          <p:nvSpPr>
            <p:cNvPr id="770" name=""/>
            <p:cNvSpPr/>
            <p:nvPr/>
          </p:nvSpPr>
          <p:spPr>
            <a:xfrm>
              <a:off x="3371760" y="105876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355920" y="103500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 txBox="1"/>
          <p:nvPr/>
        </p:nvSpPr>
        <p:spPr>
          <a:xfrm>
            <a:off x="3540240" y="996840"/>
            <a:ext cx="10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 M  B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51320" y="1046160"/>
            <a:ext cx="210960" cy="1922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898800" y="1035000"/>
            <a:ext cx="210960" cy="1904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3388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216080" y="565200"/>
            <a:ext cx="0" cy="1685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501920" y="1289160"/>
            <a:ext cx="0" cy="1361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006560" y="870120"/>
            <a:ext cx="0" cy="1647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96880" y="879480"/>
            <a:ext cx="0" cy="581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216080" y="555480"/>
            <a:ext cx="1019160" cy="2192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27332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35900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494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504800" y="52056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6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066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501920" y="1384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035000" y="138420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06560" y="974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49200" y="974880"/>
            <a:ext cx="2476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800360" y="115884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81040" y="71136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01520" y="25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92160" y="43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7200" y="2556000"/>
            <a:ext cx="0" cy="3618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6920" y="3384720"/>
            <a:ext cx="0" cy="9712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0" y="2892600"/>
            <a:ext cx="628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87200" y="136440"/>
            <a:ext cx="0" cy="2400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7200" y="127080"/>
            <a:ext cx="138096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0760" y="165240"/>
            <a:ext cx="0" cy="16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35080" y="326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827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501480" y="146160"/>
            <a:ext cx="204840" cy="193680"/>
            <a:chOff x="501480" y="146160"/>
            <a:chExt cx="204840" cy="193680"/>
          </a:xfrm>
        </p:grpSpPr>
        <p:sp>
          <p:nvSpPr>
            <p:cNvPr id="803" name=""/>
            <p:cNvSpPr/>
            <p:nvPr/>
          </p:nvSpPr>
          <p:spPr>
            <a:xfrm>
              <a:off x="517680" y="16992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501480" y="14616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 txBox="1"/>
          <p:nvPr/>
        </p:nvSpPr>
        <p:spPr>
          <a:xfrm>
            <a:off x="657360" y="101520"/>
            <a:ext cx="94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8 M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11320" y="146160"/>
            <a:ext cx="200160" cy="2001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683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68400" y="374760"/>
            <a:ext cx="133560" cy="152640"/>
          </a:xfrm>
          <a:custGeom>
            <a:avLst/>
            <a:gdLst/>
            <a:ahLst/>
            <a:rect l="0" t="0" r="r" b="b"/>
            <a:pathLst>
              <a:path fill="none" w="371" h="424">
                <a:moveTo>
                  <a:pt x="371" y="0"/>
                </a:moveTo>
                <a:lnTo>
                  <a:pt x="0" y="0"/>
                </a:lnTo>
                <a:lnTo>
                  <a:pt x="186" y="424"/>
                </a:lnTo>
                <a:lnTo>
                  <a:pt x="371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35000" y="527040"/>
            <a:ext cx="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96880" y="64152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9200" y="50796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14280" y="4921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4880" y="5899320"/>
            <a:ext cx="152640" cy="133560"/>
          </a:xfrm>
          <a:custGeom>
            <a:avLst/>
            <a:gdLst/>
            <a:ahLst/>
            <a:rect l="0" t="0" r="r" b="b"/>
            <a:pathLst>
              <a:path fill="none" w="424" h="371">
                <a:moveTo>
                  <a:pt x="424" y="371"/>
                </a:moveTo>
                <a:lnTo>
                  <a:pt x="424" y="0"/>
                </a:lnTo>
                <a:lnTo>
                  <a:pt x="0" y="186"/>
                </a:lnTo>
                <a:lnTo>
                  <a:pt x="424" y="371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20760" y="5965920"/>
            <a:ext cx="123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360" y="584208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8160" y="5807160"/>
            <a:ext cx="322200" cy="324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7520" y="6566040"/>
            <a:ext cx="1000080" cy="2286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25320" y="6613560"/>
            <a:ext cx="324360" cy="124200"/>
          </a:xfrm>
          <a:custGeom>
            <a:avLst/>
            <a:gdLst/>
            <a:ahLst/>
            <a:rect l="0" t="0" r="r" b="b"/>
            <a:pathLst>
              <a:path fill="none" w="901" h="345">
                <a:moveTo>
                  <a:pt x="0" y="345"/>
                </a:moveTo>
                <a:lnTo>
                  <a:pt x="630" y="345"/>
                </a:lnTo>
                <a:lnTo>
                  <a:pt x="901" y="0"/>
                </a:lnTo>
                <a:lnTo>
                  <a:pt x="270" y="0"/>
                </a:lnTo>
                <a:lnTo>
                  <a:pt x="0" y="345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025640" y="6566040"/>
            <a:ext cx="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019160" y="654048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251080" y="2819520"/>
            <a:ext cx="1440" cy="126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00120" y="1514520"/>
            <a:ext cx="139680" cy="13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77960" y="152712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0120" y="193356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00120" y="1971720"/>
            <a:ext cx="266760" cy="266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600120" y="213660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76440" y="227664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53920" y="2276640"/>
            <a:ext cx="27972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993600" y="239076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006560" y="2568600"/>
            <a:ext cx="20304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006560" y="2708280"/>
            <a:ext cx="22860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158840" y="2752560"/>
            <a:ext cx="209520" cy="209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33668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51452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679400" y="2682720"/>
            <a:ext cx="27972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857240" y="2771640"/>
            <a:ext cx="190800" cy="190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035080" y="2822400"/>
            <a:ext cx="139680" cy="140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212920" y="2928960"/>
            <a:ext cx="33480" cy="3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00120" y="435924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00120" y="4359240"/>
            <a:ext cx="30492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006560" y="3940200"/>
            <a:ext cx="30456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006560" y="3940200"/>
            <a:ext cx="114120" cy="114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12720" y="4232160"/>
            <a:ext cx="609480" cy="60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298520" y="3940200"/>
            <a:ext cx="20340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63480" y="476568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019160" y="4422600"/>
            <a:ext cx="203040" cy="203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501920" y="3940200"/>
            <a:ext cx="21564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828720" y="4930920"/>
            <a:ext cx="50760" cy="50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616040" y="394020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806480" y="3940200"/>
            <a:ext cx="29232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143080" y="3990960"/>
            <a:ext cx="95400" cy="95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38280" y="5261040"/>
            <a:ext cx="126720" cy="1270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16120" y="5324400"/>
            <a:ext cx="63360" cy="63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59080" y="4084560"/>
            <a:ext cx="0" cy="787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59080" y="4870440"/>
            <a:ext cx="117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422520" y="4789440"/>
            <a:ext cx="204840" cy="193680"/>
            <a:chOff x="3422520" y="4789440"/>
            <a:chExt cx="204840" cy="193680"/>
          </a:xfrm>
        </p:grpSpPr>
        <p:sp>
          <p:nvSpPr>
            <p:cNvPr id="857" name=""/>
            <p:cNvSpPr/>
            <p:nvPr/>
          </p:nvSpPr>
          <p:spPr>
            <a:xfrm>
              <a:off x="3438360" y="481320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422520" y="478944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 txBox="1"/>
          <p:nvPr/>
        </p:nvSpPr>
        <p:spPr>
          <a:xfrm>
            <a:off x="3603600" y="463068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200400" y="5129280"/>
            <a:ext cx="939960" cy="29196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276720" y="5167440"/>
            <a:ext cx="215640" cy="21564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4348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514680" y="513864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895560" y="51260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9880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57440" y="6496200"/>
            <a:ext cx="1944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47840" y="4168800"/>
            <a:ext cx="0" cy="2235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9200" y="1584360"/>
            <a:ext cx="2854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06840" y="376200"/>
            <a:ext cx="5618520" cy="6258240"/>
          </a:xfrm>
          <a:custGeom>
            <a:avLst/>
            <a:gdLst/>
            <a:ahLst/>
            <a:rect l="0" t="0" r="r" b="b"/>
            <a:pathLst>
              <a:path w="15607" h="17384">
                <a:moveTo>
                  <a:pt x="7804" y="17384"/>
                </a:moveTo>
                <a:lnTo>
                  <a:pt x="15607" y="8691"/>
                </a:lnTo>
                <a:lnTo>
                  <a:pt x="7804" y="0"/>
                </a:lnTo>
                <a:lnTo>
                  <a:pt x="0" y="8691"/>
                </a:lnTo>
                <a:lnTo>
                  <a:pt x="7804" y="17384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223920" y="5168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METRIC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ERAN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691080" y="0"/>
            <a:ext cx="3562200" cy="68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2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2</a:t>
            </a:r>
            <a:endParaRPr b="0" lang="en-US" sz="4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233280" y="2143080"/>
            <a:ext cx="88441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835360" y="3943440"/>
            <a:ext cx="5510160" cy="37800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50000">
                <a:srgbClr val="ffffff"/>
              </a:gs>
              <a:gs pos="100000">
                <a:srgbClr val="4c4c4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264200" y="5854680"/>
            <a:ext cx="188892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285840" y="1050840"/>
            <a:ext cx="408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85840" y="1050840"/>
            <a:ext cx="4611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85840" y="1050840"/>
            <a:ext cx="461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85840" y="1050840"/>
            <a:ext cx="4813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631800" y="358920"/>
            <a:ext cx="789480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285840" y="1050840"/>
            <a:ext cx="4813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bject or feature form ref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339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ness of lin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339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ness of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339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ness of circula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339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ity of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Geometric Dimensioning and Tolerancing</dc:subject>
  <dc:title>Form Tolerancing Introduction</dc:title>
</cp:coreProperties>
</file>