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IRCULA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762120" y="2031840"/>
            <a:ext cx="7772400" cy="37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spcAft>
                <a:spcPts val="961"/>
              </a:spcAf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circularity control is applied to an internal feature, the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n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oundary (smaller circle) is established by gage contact of the high points of the surface.  The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ut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oundary is concentrically larger by the amount of  the specified tolerance.  The feature, at any point of measurement, must be within the limits of siz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662040" y="22860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IRCULA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3286080" y="1581120"/>
            <a:ext cx="4948200" cy="1381320"/>
            <a:chOff x="3286080" y="1581120"/>
            <a:chExt cx="4948200" cy="1381320"/>
          </a:xfrm>
        </p:grpSpPr>
        <p:sp>
          <p:nvSpPr>
            <p:cNvPr id="676" name=""/>
            <p:cNvSpPr/>
            <p:nvPr/>
          </p:nvSpPr>
          <p:spPr>
            <a:xfrm>
              <a:off x="3476520" y="1785960"/>
              <a:ext cx="1000080" cy="10000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524560" y="1785960"/>
              <a:ext cx="2452680" cy="1000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3286080" y="2281320"/>
              <a:ext cx="1428840" cy="0"/>
              <a:chOff x="3286080" y="2281320"/>
              <a:chExt cx="1428840" cy="0"/>
            </a:xfrm>
          </p:grpSpPr>
          <p:sp>
            <p:nvSpPr>
              <p:cNvPr id="679" name=""/>
              <p:cNvSpPr/>
              <p:nvPr/>
            </p:nvSpPr>
            <p:spPr>
              <a:xfrm>
                <a:off x="3286080" y="2281320"/>
                <a:ext cx="50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895560" y="2281320"/>
                <a:ext cx="171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191120" y="2281320"/>
                <a:ext cx="523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5291280" y="2279520"/>
              <a:ext cx="2943000" cy="0"/>
              <a:chOff x="5291280" y="2279520"/>
              <a:chExt cx="2943000" cy="0"/>
            </a:xfrm>
          </p:grpSpPr>
          <p:sp>
            <p:nvSpPr>
              <p:cNvPr id="683" name=""/>
              <p:cNvSpPr/>
              <p:nvPr/>
            </p:nvSpPr>
            <p:spPr>
              <a:xfrm>
                <a:off x="5291280" y="2279520"/>
                <a:ext cx="1314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729480" y="2279520"/>
                <a:ext cx="133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986520" y="2279520"/>
                <a:ext cx="905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891560" y="2279520"/>
                <a:ext cx="34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7" name=""/>
            <p:cNvSpPr/>
            <p:nvPr/>
          </p:nvSpPr>
          <p:spPr>
            <a:xfrm>
              <a:off x="3976560" y="1581120"/>
              <a:ext cx="0" cy="523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976560" y="2190600"/>
              <a:ext cx="0" cy="171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976560" y="2438280"/>
              <a:ext cx="0" cy="524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857160" y="3238560"/>
            <a:ext cx="1619280" cy="452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065240" y="3351240"/>
            <a:ext cx="250920" cy="2509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643040" y="3238560"/>
            <a:ext cx="0" cy="452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1789200" y="3297240"/>
            <a:ext cx="536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0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2805120" y="2647800"/>
            <a:ext cx="833400" cy="835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2476440" y="3487680"/>
            <a:ext cx="330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662040" y="22860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IRCULA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3286080" y="1581120"/>
            <a:ext cx="4948200" cy="1381320"/>
            <a:chOff x="3286080" y="1581120"/>
            <a:chExt cx="4948200" cy="1381320"/>
          </a:xfrm>
        </p:grpSpPr>
        <p:sp>
          <p:nvSpPr>
            <p:cNvPr id="698" name=""/>
            <p:cNvSpPr/>
            <p:nvPr/>
          </p:nvSpPr>
          <p:spPr>
            <a:xfrm>
              <a:off x="3476520" y="1785960"/>
              <a:ext cx="1000080" cy="10000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524560" y="1785960"/>
              <a:ext cx="2452680" cy="1000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3286080" y="2281320"/>
              <a:ext cx="1428840" cy="0"/>
              <a:chOff x="3286080" y="2281320"/>
              <a:chExt cx="1428840" cy="0"/>
            </a:xfrm>
          </p:grpSpPr>
          <p:sp>
            <p:nvSpPr>
              <p:cNvPr id="701" name=""/>
              <p:cNvSpPr/>
              <p:nvPr/>
            </p:nvSpPr>
            <p:spPr>
              <a:xfrm>
                <a:off x="3286080" y="2281320"/>
                <a:ext cx="50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895560" y="2281320"/>
                <a:ext cx="171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191120" y="2281320"/>
                <a:ext cx="523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5291280" y="2279520"/>
              <a:ext cx="2943000" cy="0"/>
              <a:chOff x="5291280" y="2279520"/>
              <a:chExt cx="2943000" cy="0"/>
            </a:xfrm>
          </p:grpSpPr>
          <p:sp>
            <p:nvSpPr>
              <p:cNvPr id="705" name=""/>
              <p:cNvSpPr/>
              <p:nvPr/>
            </p:nvSpPr>
            <p:spPr>
              <a:xfrm>
                <a:off x="5291280" y="2279520"/>
                <a:ext cx="1314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729480" y="2279520"/>
                <a:ext cx="133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986520" y="2279520"/>
                <a:ext cx="905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891560" y="2279520"/>
                <a:ext cx="34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9" name=""/>
            <p:cNvSpPr/>
            <p:nvPr/>
          </p:nvSpPr>
          <p:spPr>
            <a:xfrm>
              <a:off x="3976560" y="1581120"/>
              <a:ext cx="0" cy="523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976560" y="2190600"/>
              <a:ext cx="0" cy="171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976560" y="2438280"/>
              <a:ext cx="0" cy="524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2" name=""/>
          <p:cNvSpPr/>
          <p:nvPr/>
        </p:nvSpPr>
        <p:spPr>
          <a:xfrm>
            <a:off x="857160" y="3238560"/>
            <a:ext cx="1619280" cy="452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643040" y="3238560"/>
            <a:ext cx="0" cy="452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789200" y="3297240"/>
            <a:ext cx="536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0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2805120" y="2647800"/>
            <a:ext cx="833400" cy="835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2476440" y="3487680"/>
            <a:ext cx="330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1471680" y="5162400"/>
            <a:ext cx="3755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wo concentric circles establ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 circularity tolerance z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435640" y="3965400"/>
            <a:ext cx="1714680" cy="1714680"/>
          </a:xfrm>
          <a:prstGeom prst="ellipse">
            <a:avLst/>
          </a:prstGeom>
          <a:noFill/>
          <a:ln w="12600">
            <a:solidFill>
              <a:srgbClr val="fafd00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591160" y="4127400"/>
            <a:ext cx="1405080" cy="1405080"/>
          </a:xfrm>
          <a:prstGeom prst="ellipse">
            <a:avLst/>
          </a:prstGeom>
          <a:noFill/>
          <a:ln w="12600">
            <a:solidFill>
              <a:srgbClr val="fafd00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6286680" y="3800520"/>
            <a:ext cx="0" cy="2070000"/>
            <a:chOff x="6286680" y="3800520"/>
            <a:chExt cx="0" cy="2070000"/>
          </a:xfrm>
        </p:grpSpPr>
        <p:sp>
          <p:nvSpPr>
            <p:cNvPr id="721" name=""/>
            <p:cNvSpPr/>
            <p:nvPr/>
          </p:nvSpPr>
          <p:spPr>
            <a:xfrm>
              <a:off x="6286680" y="3800520"/>
              <a:ext cx="0" cy="846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286680" y="4753080"/>
              <a:ext cx="0" cy="104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286680" y="4933800"/>
              <a:ext cx="0" cy="936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5283360" y="4819680"/>
            <a:ext cx="2070000" cy="0"/>
            <a:chOff x="5283360" y="4819680"/>
            <a:chExt cx="2070000" cy="0"/>
          </a:xfrm>
        </p:grpSpPr>
        <p:sp>
          <p:nvSpPr>
            <p:cNvPr id="725" name=""/>
            <p:cNvSpPr/>
            <p:nvPr/>
          </p:nvSpPr>
          <p:spPr>
            <a:xfrm>
              <a:off x="5283360" y="4819680"/>
              <a:ext cx="846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235560" y="48196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416640" y="4819680"/>
              <a:ext cx="936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1065240" y="3351240"/>
            <a:ext cx="250920" cy="2509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 txBox="1"/>
          <p:nvPr/>
        </p:nvSpPr>
        <p:spPr>
          <a:xfrm>
            <a:off x="662040" y="22860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IRCULA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3286080" y="1581120"/>
            <a:ext cx="4948200" cy="1381320"/>
            <a:chOff x="3286080" y="1581120"/>
            <a:chExt cx="4948200" cy="1381320"/>
          </a:xfrm>
        </p:grpSpPr>
        <p:sp>
          <p:nvSpPr>
            <p:cNvPr id="731" name=""/>
            <p:cNvSpPr/>
            <p:nvPr/>
          </p:nvSpPr>
          <p:spPr>
            <a:xfrm>
              <a:off x="3476520" y="1785960"/>
              <a:ext cx="1000080" cy="10000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524560" y="1785960"/>
              <a:ext cx="2452680" cy="1000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3" name=""/>
            <p:cNvGrpSpPr/>
            <p:nvPr/>
          </p:nvGrpSpPr>
          <p:grpSpPr>
            <a:xfrm>
              <a:off x="3286080" y="2281320"/>
              <a:ext cx="1428840" cy="0"/>
              <a:chOff x="3286080" y="2281320"/>
              <a:chExt cx="1428840" cy="0"/>
            </a:xfrm>
          </p:grpSpPr>
          <p:sp>
            <p:nvSpPr>
              <p:cNvPr id="734" name=""/>
              <p:cNvSpPr/>
              <p:nvPr/>
            </p:nvSpPr>
            <p:spPr>
              <a:xfrm>
                <a:off x="3286080" y="2281320"/>
                <a:ext cx="50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3895560" y="2281320"/>
                <a:ext cx="171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191120" y="2281320"/>
                <a:ext cx="523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5291280" y="2279520"/>
              <a:ext cx="2943000" cy="0"/>
              <a:chOff x="5291280" y="2279520"/>
              <a:chExt cx="2943000" cy="0"/>
            </a:xfrm>
          </p:grpSpPr>
          <p:sp>
            <p:nvSpPr>
              <p:cNvPr id="738" name=""/>
              <p:cNvSpPr/>
              <p:nvPr/>
            </p:nvSpPr>
            <p:spPr>
              <a:xfrm>
                <a:off x="5291280" y="2279520"/>
                <a:ext cx="1314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729480" y="2279520"/>
                <a:ext cx="133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986520" y="2279520"/>
                <a:ext cx="905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891560" y="2279520"/>
                <a:ext cx="34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>
              <a:off x="3976560" y="1581120"/>
              <a:ext cx="0" cy="523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976560" y="2190600"/>
              <a:ext cx="0" cy="171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976560" y="2438280"/>
              <a:ext cx="0" cy="524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5435640" y="3965400"/>
            <a:ext cx="1714680" cy="1714680"/>
          </a:xfrm>
          <a:prstGeom prst="ellipse">
            <a:avLst/>
          </a:prstGeom>
          <a:noFill/>
          <a:ln w="12600">
            <a:solidFill>
              <a:srgbClr val="fafd00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591160" y="4127400"/>
            <a:ext cx="1405080" cy="1405080"/>
          </a:xfrm>
          <a:prstGeom prst="ellipse">
            <a:avLst/>
          </a:prstGeom>
          <a:noFill/>
          <a:ln w="12600">
            <a:solidFill>
              <a:srgbClr val="fafd00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6286680" y="3857760"/>
            <a:ext cx="0" cy="20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6286680" y="3524400"/>
            <a:ext cx="0" cy="16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6286680" y="1380960"/>
            <a:ext cx="0" cy="1928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286680" y="2104920"/>
            <a:ext cx="171360" cy="171360"/>
          </a:xfrm>
          <a:prstGeom prst="rect">
            <a:avLst/>
          </a:prstGeom>
          <a:solidFill>
            <a:srgbClr val="a2c1f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857160" y="3238560"/>
            <a:ext cx="1619280" cy="452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643040" y="3238560"/>
            <a:ext cx="0" cy="452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1789200" y="3297240"/>
            <a:ext cx="536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0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2805120" y="2647800"/>
            <a:ext cx="833400" cy="835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2476440" y="3487680"/>
            <a:ext cx="330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1471680" y="5162400"/>
            <a:ext cx="3825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wo concentric circles establis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 circularity tolerance z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5948280" y="3260880"/>
            <a:ext cx="3237120" cy="1616040"/>
            <a:chOff x="5948280" y="3260880"/>
            <a:chExt cx="3237120" cy="1616040"/>
          </a:xfrm>
        </p:grpSpPr>
        <p:sp>
          <p:nvSpPr>
            <p:cNvPr id="758" name=""/>
            <p:cNvSpPr txBox="1"/>
            <p:nvPr/>
          </p:nvSpPr>
          <p:spPr>
            <a:xfrm>
              <a:off x="6431040" y="3260880"/>
              <a:ext cx="2754360" cy="1616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mallest true cir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at circumscrib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e high poi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f the fea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iameter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5948280" y="3444840"/>
              <a:ext cx="452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948280" y="3444840"/>
              <a:ext cx="135000" cy="528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5283360" y="4819680"/>
            <a:ext cx="2070000" cy="0"/>
            <a:chOff x="5283360" y="4819680"/>
            <a:chExt cx="2070000" cy="0"/>
          </a:xfrm>
        </p:grpSpPr>
        <p:sp>
          <p:nvSpPr>
            <p:cNvPr id="762" name=""/>
            <p:cNvSpPr/>
            <p:nvPr/>
          </p:nvSpPr>
          <p:spPr>
            <a:xfrm>
              <a:off x="5283360" y="4819680"/>
              <a:ext cx="846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235560" y="48196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416640" y="4819680"/>
              <a:ext cx="936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"/>
          <p:cNvSpPr/>
          <p:nvPr/>
        </p:nvSpPr>
        <p:spPr>
          <a:xfrm>
            <a:off x="1065240" y="3351240"/>
            <a:ext cx="250920" cy="2509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662040" y="22860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IRCULA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3286080" y="1581120"/>
            <a:ext cx="4948200" cy="1381320"/>
            <a:chOff x="3286080" y="1581120"/>
            <a:chExt cx="4948200" cy="1381320"/>
          </a:xfrm>
        </p:grpSpPr>
        <p:sp>
          <p:nvSpPr>
            <p:cNvPr id="768" name=""/>
            <p:cNvSpPr/>
            <p:nvPr/>
          </p:nvSpPr>
          <p:spPr>
            <a:xfrm>
              <a:off x="3476520" y="1785960"/>
              <a:ext cx="1000080" cy="10000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524560" y="1785960"/>
              <a:ext cx="2452680" cy="1000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3286080" y="2281320"/>
              <a:ext cx="1428840" cy="0"/>
              <a:chOff x="3286080" y="2281320"/>
              <a:chExt cx="1428840" cy="0"/>
            </a:xfrm>
          </p:grpSpPr>
          <p:sp>
            <p:nvSpPr>
              <p:cNvPr id="771" name=""/>
              <p:cNvSpPr/>
              <p:nvPr/>
            </p:nvSpPr>
            <p:spPr>
              <a:xfrm>
                <a:off x="3286080" y="2281320"/>
                <a:ext cx="50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895560" y="2281320"/>
                <a:ext cx="171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191120" y="2281320"/>
                <a:ext cx="523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5291280" y="2279520"/>
              <a:ext cx="2943000" cy="0"/>
              <a:chOff x="5291280" y="2279520"/>
              <a:chExt cx="2943000" cy="0"/>
            </a:xfrm>
          </p:grpSpPr>
          <p:sp>
            <p:nvSpPr>
              <p:cNvPr id="775" name=""/>
              <p:cNvSpPr/>
              <p:nvPr/>
            </p:nvSpPr>
            <p:spPr>
              <a:xfrm>
                <a:off x="5291280" y="2279520"/>
                <a:ext cx="1314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729480" y="2279520"/>
                <a:ext cx="133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986520" y="2279520"/>
                <a:ext cx="905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91560" y="2279520"/>
                <a:ext cx="34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" name=""/>
            <p:cNvSpPr/>
            <p:nvPr/>
          </p:nvSpPr>
          <p:spPr>
            <a:xfrm>
              <a:off x="3976560" y="1581120"/>
              <a:ext cx="0" cy="523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976560" y="2190600"/>
              <a:ext cx="0" cy="171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976560" y="2438280"/>
              <a:ext cx="0" cy="524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2" name=""/>
          <p:cNvSpPr/>
          <p:nvPr/>
        </p:nvSpPr>
        <p:spPr>
          <a:xfrm flipV="1">
            <a:off x="6286680" y="1380960"/>
            <a:ext cx="0" cy="1928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286680" y="2104920"/>
            <a:ext cx="171360" cy="171360"/>
          </a:xfrm>
          <a:prstGeom prst="rect">
            <a:avLst/>
          </a:prstGeom>
          <a:solidFill>
            <a:srgbClr val="a2c1f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57160" y="3238560"/>
            <a:ext cx="1619280" cy="452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643040" y="3238560"/>
            <a:ext cx="0" cy="452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1789200" y="3297240"/>
            <a:ext cx="536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0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2805120" y="2647800"/>
            <a:ext cx="833400" cy="835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2476440" y="3487680"/>
            <a:ext cx="330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1471680" y="5162400"/>
            <a:ext cx="3755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wo concentric circles establ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 circularity tolerance z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5283360" y="3260880"/>
            <a:ext cx="3902040" cy="2597040"/>
            <a:chOff x="5283360" y="3260880"/>
            <a:chExt cx="3902040" cy="2597040"/>
          </a:xfrm>
        </p:grpSpPr>
        <p:sp>
          <p:nvSpPr>
            <p:cNvPr id="791" name=""/>
            <p:cNvSpPr/>
            <p:nvPr/>
          </p:nvSpPr>
          <p:spPr>
            <a:xfrm>
              <a:off x="5510160" y="3986280"/>
              <a:ext cx="1576800" cy="1653120"/>
            </a:xfrm>
            <a:custGeom>
              <a:avLst/>
              <a:gdLst/>
              <a:ahLst/>
              <a:rect l="0" t="0" r="r" b="b"/>
              <a:pathLst>
                <a:path w="4380" h="4592">
                  <a:moveTo>
                    <a:pt x="2157" y="39"/>
                  </a:moveTo>
                  <a:lnTo>
                    <a:pt x="2104" y="39"/>
                  </a:lnTo>
                  <a:lnTo>
                    <a:pt x="2064" y="39"/>
                  </a:lnTo>
                  <a:lnTo>
                    <a:pt x="2025" y="39"/>
                  </a:lnTo>
                  <a:lnTo>
                    <a:pt x="1985" y="39"/>
                  </a:lnTo>
                  <a:lnTo>
                    <a:pt x="1945" y="39"/>
                  </a:lnTo>
                  <a:lnTo>
                    <a:pt x="1906" y="52"/>
                  </a:lnTo>
                  <a:lnTo>
                    <a:pt x="1866" y="79"/>
                  </a:lnTo>
                  <a:lnTo>
                    <a:pt x="1826" y="105"/>
                  </a:lnTo>
                  <a:lnTo>
                    <a:pt x="1786" y="119"/>
                  </a:lnTo>
                  <a:lnTo>
                    <a:pt x="1734" y="119"/>
                  </a:lnTo>
                  <a:lnTo>
                    <a:pt x="1694" y="119"/>
                  </a:lnTo>
                  <a:lnTo>
                    <a:pt x="1654" y="132"/>
                  </a:lnTo>
                  <a:lnTo>
                    <a:pt x="1614" y="132"/>
                  </a:lnTo>
                  <a:lnTo>
                    <a:pt x="1575" y="145"/>
                  </a:lnTo>
                  <a:lnTo>
                    <a:pt x="1522" y="158"/>
                  </a:lnTo>
                  <a:lnTo>
                    <a:pt x="1469" y="185"/>
                  </a:lnTo>
                  <a:lnTo>
                    <a:pt x="1429" y="198"/>
                  </a:lnTo>
                  <a:lnTo>
                    <a:pt x="1390" y="224"/>
                  </a:lnTo>
                  <a:lnTo>
                    <a:pt x="1363" y="264"/>
                  </a:lnTo>
                  <a:lnTo>
                    <a:pt x="1323" y="277"/>
                  </a:lnTo>
                  <a:lnTo>
                    <a:pt x="1231" y="317"/>
                  </a:lnTo>
                  <a:lnTo>
                    <a:pt x="1191" y="343"/>
                  </a:lnTo>
                  <a:lnTo>
                    <a:pt x="1165" y="383"/>
                  </a:lnTo>
                  <a:lnTo>
                    <a:pt x="1125" y="423"/>
                  </a:lnTo>
                  <a:lnTo>
                    <a:pt x="1099" y="463"/>
                  </a:lnTo>
                  <a:lnTo>
                    <a:pt x="1058" y="502"/>
                  </a:lnTo>
                  <a:lnTo>
                    <a:pt x="1018" y="542"/>
                  </a:lnTo>
                  <a:lnTo>
                    <a:pt x="978" y="568"/>
                  </a:lnTo>
                  <a:lnTo>
                    <a:pt x="939" y="582"/>
                  </a:lnTo>
                  <a:lnTo>
                    <a:pt x="899" y="608"/>
                  </a:lnTo>
                  <a:lnTo>
                    <a:pt x="859" y="635"/>
                  </a:lnTo>
                  <a:lnTo>
                    <a:pt x="820" y="674"/>
                  </a:lnTo>
                  <a:lnTo>
                    <a:pt x="780" y="687"/>
                  </a:lnTo>
                  <a:lnTo>
                    <a:pt x="740" y="714"/>
                  </a:lnTo>
                  <a:lnTo>
                    <a:pt x="687" y="767"/>
                  </a:lnTo>
                  <a:lnTo>
                    <a:pt x="648" y="793"/>
                  </a:lnTo>
                  <a:lnTo>
                    <a:pt x="608" y="846"/>
                  </a:lnTo>
                  <a:lnTo>
                    <a:pt x="555" y="899"/>
                  </a:lnTo>
                  <a:lnTo>
                    <a:pt x="515" y="952"/>
                  </a:lnTo>
                  <a:lnTo>
                    <a:pt x="476" y="992"/>
                  </a:lnTo>
                  <a:lnTo>
                    <a:pt x="449" y="1071"/>
                  </a:lnTo>
                  <a:lnTo>
                    <a:pt x="291" y="1284"/>
                  </a:lnTo>
                  <a:lnTo>
                    <a:pt x="264" y="1337"/>
                  </a:lnTo>
                  <a:lnTo>
                    <a:pt x="251" y="1429"/>
                  </a:lnTo>
                  <a:lnTo>
                    <a:pt x="238" y="1482"/>
                  </a:lnTo>
                  <a:lnTo>
                    <a:pt x="238" y="1562"/>
                  </a:lnTo>
                  <a:lnTo>
                    <a:pt x="224" y="1601"/>
                  </a:lnTo>
                  <a:lnTo>
                    <a:pt x="224" y="1641"/>
                  </a:lnTo>
                  <a:lnTo>
                    <a:pt x="185" y="1773"/>
                  </a:lnTo>
                  <a:lnTo>
                    <a:pt x="158" y="1826"/>
                  </a:lnTo>
                  <a:lnTo>
                    <a:pt x="145" y="1879"/>
                  </a:lnTo>
                  <a:lnTo>
                    <a:pt x="119" y="1932"/>
                  </a:lnTo>
                  <a:lnTo>
                    <a:pt x="105" y="1972"/>
                  </a:lnTo>
                  <a:lnTo>
                    <a:pt x="92" y="2011"/>
                  </a:lnTo>
                  <a:lnTo>
                    <a:pt x="92" y="2117"/>
                  </a:lnTo>
                  <a:lnTo>
                    <a:pt x="105" y="2157"/>
                  </a:lnTo>
                  <a:lnTo>
                    <a:pt x="105" y="2263"/>
                  </a:lnTo>
                  <a:lnTo>
                    <a:pt x="105" y="2302"/>
                  </a:lnTo>
                  <a:lnTo>
                    <a:pt x="105" y="2342"/>
                  </a:lnTo>
                  <a:lnTo>
                    <a:pt x="105" y="2382"/>
                  </a:lnTo>
                  <a:lnTo>
                    <a:pt x="105" y="2435"/>
                  </a:lnTo>
                  <a:lnTo>
                    <a:pt x="92" y="2567"/>
                  </a:lnTo>
                  <a:lnTo>
                    <a:pt x="66" y="2607"/>
                  </a:lnTo>
                  <a:lnTo>
                    <a:pt x="39" y="2646"/>
                  </a:lnTo>
                  <a:lnTo>
                    <a:pt x="26" y="2752"/>
                  </a:lnTo>
                  <a:lnTo>
                    <a:pt x="13" y="2832"/>
                  </a:lnTo>
                  <a:lnTo>
                    <a:pt x="0" y="2937"/>
                  </a:lnTo>
                  <a:lnTo>
                    <a:pt x="0" y="2977"/>
                  </a:lnTo>
                  <a:lnTo>
                    <a:pt x="0" y="3056"/>
                  </a:lnTo>
                  <a:lnTo>
                    <a:pt x="0" y="3096"/>
                  </a:lnTo>
                  <a:lnTo>
                    <a:pt x="13" y="3136"/>
                  </a:lnTo>
                  <a:lnTo>
                    <a:pt x="39" y="3176"/>
                  </a:lnTo>
                  <a:lnTo>
                    <a:pt x="66" y="3215"/>
                  </a:lnTo>
                  <a:lnTo>
                    <a:pt x="105" y="3255"/>
                  </a:lnTo>
                  <a:lnTo>
                    <a:pt x="145" y="3281"/>
                  </a:lnTo>
                  <a:lnTo>
                    <a:pt x="171" y="3334"/>
                  </a:lnTo>
                  <a:lnTo>
                    <a:pt x="224" y="3427"/>
                  </a:lnTo>
                  <a:lnTo>
                    <a:pt x="264" y="3468"/>
                  </a:lnTo>
                  <a:lnTo>
                    <a:pt x="291" y="3547"/>
                  </a:lnTo>
                  <a:lnTo>
                    <a:pt x="330" y="3653"/>
                  </a:lnTo>
                  <a:lnTo>
                    <a:pt x="357" y="3692"/>
                  </a:lnTo>
                  <a:lnTo>
                    <a:pt x="410" y="3767"/>
                  </a:lnTo>
                  <a:lnTo>
                    <a:pt x="432" y="3847"/>
                  </a:lnTo>
                  <a:lnTo>
                    <a:pt x="436" y="3904"/>
                  </a:lnTo>
                  <a:lnTo>
                    <a:pt x="537" y="3966"/>
                  </a:lnTo>
                  <a:lnTo>
                    <a:pt x="617" y="4045"/>
                  </a:lnTo>
                  <a:lnTo>
                    <a:pt x="670" y="4089"/>
                  </a:lnTo>
                  <a:lnTo>
                    <a:pt x="754" y="4125"/>
                  </a:lnTo>
                  <a:lnTo>
                    <a:pt x="776" y="4142"/>
                  </a:lnTo>
                  <a:lnTo>
                    <a:pt x="833" y="4129"/>
                  </a:lnTo>
                  <a:lnTo>
                    <a:pt x="873" y="4204"/>
                  </a:lnTo>
                  <a:lnTo>
                    <a:pt x="939" y="4270"/>
                  </a:lnTo>
                  <a:lnTo>
                    <a:pt x="1027" y="4336"/>
                  </a:lnTo>
                  <a:lnTo>
                    <a:pt x="1067" y="4376"/>
                  </a:lnTo>
                  <a:lnTo>
                    <a:pt x="1138" y="4380"/>
                  </a:lnTo>
                  <a:lnTo>
                    <a:pt x="1204" y="4447"/>
                  </a:lnTo>
                  <a:lnTo>
                    <a:pt x="1244" y="4460"/>
                  </a:lnTo>
                  <a:lnTo>
                    <a:pt x="1323" y="4486"/>
                  </a:lnTo>
                  <a:lnTo>
                    <a:pt x="1376" y="4486"/>
                  </a:lnTo>
                  <a:lnTo>
                    <a:pt x="1456" y="4499"/>
                  </a:lnTo>
                  <a:lnTo>
                    <a:pt x="1588" y="4513"/>
                  </a:lnTo>
                  <a:lnTo>
                    <a:pt x="1641" y="4526"/>
                  </a:lnTo>
                  <a:lnTo>
                    <a:pt x="1760" y="4539"/>
                  </a:lnTo>
                  <a:lnTo>
                    <a:pt x="1813" y="4552"/>
                  </a:lnTo>
                  <a:lnTo>
                    <a:pt x="1945" y="4566"/>
                  </a:lnTo>
                  <a:lnTo>
                    <a:pt x="1985" y="4566"/>
                  </a:lnTo>
                  <a:lnTo>
                    <a:pt x="2091" y="4566"/>
                  </a:lnTo>
                  <a:lnTo>
                    <a:pt x="2183" y="4579"/>
                  </a:lnTo>
                  <a:lnTo>
                    <a:pt x="2223" y="4579"/>
                  </a:lnTo>
                  <a:lnTo>
                    <a:pt x="2382" y="4592"/>
                  </a:lnTo>
                  <a:lnTo>
                    <a:pt x="2435" y="4592"/>
                  </a:lnTo>
                  <a:lnTo>
                    <a:pt x="2474" y="4592"/>
                  </a:lnTo>
                  <a:lnTo>
                    <a:pt x="2580" y="4592"/>
                  </a:lnTo>
                  <a:lnTo>
                    <a:pt x="2620" y="4579"/>
                  </a:lnTo>
                  <a:lnTo>
                    <a:pt x="2699" y="4566"/>
                  </a:lnTo>
                  <a:lnTo>
                    <a:pt x="2792" y="4552"/>
                  </a:lnTo>
                  <a:lnTo>
                    <a:pt x="2832" y="4539"/>
                  </a:lnTo>
                  <a:lnTo>
                    <a:pt x="2911" y="4513"/>
                  </a:lnTo>
                  <a:lnTo>
                    <a:pt x="2964" y="4486"/>
                  </a:lnTo>
                  <a:lnTo>
                    <a:pt x="3017" y="4447"/>
                  </a:lnTo>
                  <a:lnTo>
                    <a:pt x="3056" y="4367"/>
                  </a:lnTo>
                  <a:lnTo>
                    <a:pt x="3109" y="4314"/>
                  </a:lnTo>
                  <a:lnTo>
                    <a:pt x="3215" y="4261"/>
                  </a:lnTo>
                  <a:lnTo>
                    <a:pt x="3255" y="4235"/>
                  </a:lnTo>
                  <a:lnTo>
                    <a:pt x="3296" y="4195"/>
                  </a:lnTo>
                  <a:lnTo>
                    <a:pt x="3388" y="4182"/>
                  </a:lnTo>
                  <a:lnTo>
                    <a:pt x="3468" y="4169"/>
                  </a:lnTo>
                  <a:lnTo>
                    <a:pt x="3547" y="4155"/>
                  </a:lnTo>
                  <a:lnTo>
                    <a:pt x="3626" y="4129"/>
                  </a:lnTo>
                  <a:lnTo>
                    <a:pt x="3679" y="4089"/>
                  </a:lnTo>
                  <a:lnTo>
                    <a:pt x="3719" y="4050"/>
                  </a:lnTo>
                  <a:lnTo>
                    <a:pt x="3754" y="3992"/>
                  </a:lnTo>
                  <a:lnTo>
                    <a:pt x="3834" y="3953"/>
                  </a:lnTo>
                  <a:lnTo>
                    <a:pt x="3904" y="3864"/>
                  </a:lnTo>
                  <a:lnTo>
                    <a:pt x="3931" y="3825"/>
                  </a:lnTo>
                  <a:lnTo>
                    <a:pt x="3944" y="3745"/>
                  </a:lnTo>
                  <a:lnTo>
                    <a:pt x="3957" y="3706"/>
                  </a:lnTo>
                  <a:lnTo>
                    <a:pt x="3957" y="3653"/>
                  </a:lnTo>
                  <a:lnTo>
                    <a:pt x="3983" y="3520"/>
                  </a:lnTo>
                  <a:lnTo>
                    <a:pt x="4010" y="3468"/>
                  </a:lnTo>
                  <a:lnTo>
                    <a:pt x="4036" y="3361"/>
                  </a:lnTo>
                  <a:lnTo>
                    <a:pt x="4063" y="3321"/>
                  </a:lnTo>
                  <a:lnTo>
                    <a:pt x="4089" y="3215"/>
                  </a:lnTo>
                  <a:lnTo>
                    <a:pt x="4116" y="3162"/>
                  </a:lnTo>
                  <a:lnTo>
                    <a:pt x="4142" y="3109"/>
                  </a:lnTo>
                  <a:lnTo>
                    <a:pt x="4248" y="2937"/>
                  </a:lnTo>
                  <a:lnTo>
                    <a:pt x="4275" y="2884"/>
                  </a:lnTo>
                  <a:lnTo>
                    <a:pt x="4301" y="2832"/>
                  </a:lnTo>
                  <a:lnTo>
                    <a:pt x="4341" y="2739"/>
                  </a:lnTo>
                  <a:lnTo>
                    <a:pt x="4354" y="2660"/>
                  </a:lnTo>
                  <a:lnTo>
                    <a:pt x="4367" y="2620"/>
                  </a:lnTo>
                  <a:lnTo>
                    <a:pt x="4380" y="2567"/>
                  </a:lnTo>
                  <a:lnTo>
                    <a:pt x="4380" y="2448"/>
                  </a:lnTo>
                  <a:lnTo>
                    <a:pt x="4380" y="2408"/>
                  </a:lnTo>
                  <a:lnTo>
                    <a:pt x="4380" y="2302"/>
                  </a:lnTo>
                  <a:lnTo>
                    <a:pt x="4380" y="2249"/>
                  </a:lnTo>
                  <a:lnTo>
                    <a:pt x="4367" y="2197"/>
                  </a:lnTo>
                  <a:lnTo>
                    <a:pt x="4354" y="2091"/>
                  </a:lnTo>
                  <a:lnTo>
                    <a:pt x="4327" y="1985"/>
                  </a:lnTo>
                  <a:lnTo>
                    <a:pt x="4301" y="1879"/>
                  </a:lnTo>
                  <a:lnTo>
                    <a:pt x="4288" y="1839"/>
                  </a:lnTo>
                  <a:lnTo>
                    <a:pt x="4275" y="1760"/>
                  </a:lnTo>
                  <a:lnTo>
                    <a:pt x="4261" y="1720"/>
                  </a:lnTo>
                  <a:lnTo>
                    <a:pt x="4248" y="1681"/>
                  </a:lnTo>
                  <a:lnTo>
                    <a:pt x="4222" y="1601"/>
                  </a:lnTo>
                  <a:lnTo>
                    <a:pt x="4208" y="1562"/>
                  </a:lnTo>
                  <a:lnTo>
                    <a:pt x="4195" y="1522"/>
                  </a:lnTo>
                  <a:lnTo>
                    <a:pt x="4182" y="1469"/>
                  </a:lnTo>
                  <a:lnTo>
                    <a:pt x="4169" y="1429"/>
                  </a:lnTo>
                  <a:lnTo>
                    <a:pt x="4169" y="1390"/>
                  </a:lnTo>
                  <a:lnTo>
                    <a:pt x="4155" y="1297"/>
                  </a:lnTo>
                  <a:lnTo>
                    <a:pt x="4142" y="1257"/>
                  </a:lnTo>
                  <a:lnTo>
                    <a:pt x="4116" y="1151"/>
                  </a:lnTo>
                  <a:lnTo>
                    <a:pt x="4103" y="1098"/>
                  </a:lnTo>
                  <a:lnTo>
                    <a:pt x="4076" y="1058"/>
                  </a:lnTo>
                  <a:lnTo>
                    <a:pt x="4036" y="1018"/>
                  </a:lnTo>
                  <a:lnTo>
                    <a:pt x="3997" y="978"/>
                  </a:lnTo>
                  <a:lnTo>
                    <a:pt x="3944" y="939"/>
                  </a:lnTo>
                  <a:lnTo>
                    <a:pt x="3904" y="912"/>
                  </a:lnTo>
                  <a:lnTo>
                    <a:pt x="3825" y="833"/>
                  </a:lnTo>
                  <a:lnTo>
                    <a:pt x="3798" y="793"/>
                  </a:lnTo>
                  <a:lnTo>
                    <a:pt x="3759" y="740"/>
                  </a:lnTo>
                  <a:lnTo>
                    <a:pt x="3719" y="714"/>
                  </a:lnTo>
                  <a:lnTo>
                    <a:pt x="3692" y="674"/>
                  </a:lnTo>
                  <a:lnTo>
                    <a:pt x="3653" y="648"/>
                  </a:lnTo>
                  <a:lnTo>
                    <a:pt x="3626" y="608"/>
                  </a:lnTo>
                  <a:lnTo>
                    <a:pt x="3587" y="582"/>
                  </a:lnTo>
                  <a:lnTo>
                    <a:pt x="3547" y="529"/>
                  </a:lnTo>
                  <a:lnTo>
                    <a:pt x="3507" y="489"/>
                  </a:lnTo>
                  <a:lnTo>
                    <a:pt x="3454" y="449"/>
                  </a:lnTo>
                  <a:lnTo>
                    <a:pt x="3415" y="423"/>
                  </a:lnTo>
                  <a:lnTo>
                    <a:pt x="3281" y="396"/>
                  </a:lnTo>
                  <a:lnTo>
                    <a:pt x="3228" y="370"/>
                  </a:lnTo>
                  <a:lnTo>
                    <a:pt x="3176" y="370"/>
                  </a:lnTo>
                  <a:lnTo>
                    <a:pt x="3043" y="357"/>
                  </a:lnTo>
                  <a:lnTo>
                    <a:pt x="3004" y="357"/>
                  </a:lnTo>
                  <a:lnTo>
                    <a:pt x="2924" y="357"/>
                  </a:lnTo>
                  <a:lnTo>
                    <a:pt x="2884" y="343"/>
                  </a:lnTo>
                  <a:lnTo>
                    <a:pt x="2845" y="317"/>
                  </a:lnTo>
                  <a:lnTo>
                    <a:pt x="2805" y="291"/>
                  </a:lnTo>
                  <a:lnTo>
                    <a:pt x="2765" y="264"/>
                  </a:lnTo>
                  <a:lnTo>
                    <a:pt x="2726" y="224"/>
                  </a:lnTo>
                  <a:lnTo>
                    <a:pt x="2673" y="132"/>
                  </a:lnTo>
                  <a:lnTo>
                    <a:pt x="2633" y="92"/>
                  </a:lnTo>
                  <a:lnTo>
                    <a:pt x="2554" y="66"/>
                  </a:lnTo>
                  <a:lnTo>
                    <a:pt x="2514" y="39"/>
                  </a:lnTo>
                  <a:lnTo>
                    <a:pt x="2488" y="0"/>
                  </a:lnTo>
                  <a:lnTo>
                    <a:pt x="2448" y="0"/>
                  </a:lnTo>
                  <a:lnTo>
                    <a:pt x="2395" y="13"/>
                  </a:lnTo>
                  <a:lnTo>
                    <a:pt x="2355" y="13"/>
                  </a:lnTo>
                  <a:lnTo>
                    <a:pt x="2249" y="13"/>
                  </a:lnTo>
                  <a:lnTo>
                    <a:pt x="2210" y="13"/>
                  </a:lnTo>
                  <a:lnTo>
                    <a:pt x="2170" y="26"/>
                  </a:lnTo>
                  <a:lnTo>
                    <a:pt x="2157" y="39"/>
                  </a:lnTo>
                  <a:close/>
                </a:path>
              </a:pathLst>
            </a:custGeom>
            <a:blipFill rotWithShape="0">
              <a:blip r:embed="rId1"/>
              <a:tile tx="0" ty="0" sx="133018" sy="133018" algn="ctr"/>
            </a:blip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435640" y="3965400"/>
              <a:ext cx="1714680" cy="171468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591160" y="4127400"/>
              <a:ext cx="1405080" cy="140508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6286680" y="3857760"/>
              <a:ext cx="0" cy="2000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6286680" y="3524400"/>
              <a:ext cx="0" cy="166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6" name=""/>
            <p:cNvGrpSpPr/>
            <p:nvPr/>
          </p:nvGrpSpPr>
          <p:grpSpPr>
            <a:xfrm>
              <a:off x="5948280" y="3260880"/>
              <a:ext cx="3237120" cy="1616040"/>
              <a:chOff x="5948280" y="3260880"/>
              <a:chExt cx="3237120" cy="1616040"/>
            </a:xfrm>
          </p:grpSpPr>
          <p:sp>
            <p:nvSpPr>
              <p:cNvPr id="797" name=""/>
              <p:cNvSpPr txBox="1"/>
              <p:nvPr/>
            </p:nvSpPr>
            <p:spPr>
              <a:xfrm>
                <a:off x="6431040" y="3260880"/>
                <a:ext cx="2754360" cy="1616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mallest true circl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 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hat circumscrib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he high poin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         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of the featur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          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iameter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H="1">
                <a:off x="5948280" y="3444840"/>
                <a:ext cx="452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948280" y="3444840"/>
                <a:ext cx="135000" cy="528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5283360" y="4819680"/>
              <a:ext cx="2070000" cy="0"/>
              <a:chOff x="5283360" y="4819680"/>
              <a:chExt cx="2070000" cy="0"/>
            </a:xfrm>
          </p:grpSpPr>
          <p:sp>
            <p:nvSpPr>
              <p:cNvPr id="801" name=""/>
              <p:cNvSpPr/>
              <p:nvPr/>
            </p:nvSpPr>
            <p:spPr>
              <a:xfrm>
                <a:off x="5283360" y="4819680"/>
                <a:ext cx="846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235560" y="4819680"/>
                <a:ext cx="104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16640" y="4819680"/>
                <a:ext cx="936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4" name=""/>
          <p:cNvSpPr/>
          <p:nvPr/>
        </p:nvSpPr>
        <p:spPr>
          <a:xfrm>
            <a:off x="1065240" y="3351240"/>
            <a:ext cx="250920" cy="2509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 txBox="1"/>
          <p:nvPr/>
        </p:nvSpPr>
        <p:spPr>
          <a:xfrm>
            <a:off x="662040" y="22860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IRCULA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3286080" y="1581120"/>
            <a:ext cx="4948200" cy="1381320"/>
            <a:chOff x="3286080" y="1581120"/>
            <a:chExt cx="4948200" cy="1381320"/>
          </a:xfrm>
        </p:grpSpPr>
        <p:sp>
          <p:nvSpPr>
            <p:cNvPr id="807" name=""/>
            <p:cNvSpPr/>
            <p:nvPr/>
          </p:nvSpPr>
          <p:spPr>
            <a:xfrm>
              <a:off x="3476520" y="1785960"/>
              <a:ext cx="1000080" cy="10000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524560" y="1785960"/>
              <a:ext cx="2452680" cy="1000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9" name=""/>
            <p:cNvGrpSpPr/>
            <p:nvPr/>
          </p:nvGrpSpPr>
          <p:grpSpPr>
            <a:xfrm>
              <a:off x="3286080" y="2281320"/>
              <a:ext cx="1428840" cy="0"/>
              <a:chOff x="3286080" y="2281320"/>
              <a:chExt cx="1428840" cy="0"/>
            </a:xfrm>
          </p:grpSpPr>
          <p:sp>
            <p:nvSpPr>
              <p:cNvPr id="810" name=""/>
              <p:cNvSpPr/>
              <p:nvPr/>
            </p:nvSpPr>
            <p:spPr>
              <a:xfrm>
                <a:off x="3286080" y="2281320"/>
                <a:ext cx="50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895560" y="2281320"/>
                <a:ext cx="171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191120" y="2281320"/>
                <a:ext cx="523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5291280" y="2279520"/>
              <a:ext cx="2943000" cy="0"/>
              <a:chOff x="5291280" y="2279520"/>
              <a:chExt cx="2943000" cy="0"/>
            </a:xfrm>
          </p:grpSpPr>
          <p:sp>
            <p:nvSpPr>
              <p:cNvPr id="814" name=""/>
              <p:cNvSpPr/>
              <p:nvPr/>
            </p:nvSpPr>
            <p:spPr>
              <a:xfrm>
                <a:off x="5291280" y="2279520"/>
                <a:ext cx="1314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729480" y="2279520"/>
                <a:ext cx="133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986520" y="2279520"/>
                <a:ext cx="905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891560" y="2279520"/>
                <a:ext cx="34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8" name=""/>
            <p:cNvSpPr/>
            <p:nvPr/>
          </p:nvSpPr>
          <p:spPr>
            <a:xfrm>
              <a:off x="3976560" y="1581120"/>
              <a:ext cx="0" cy="523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976560" y="2190600"/>
              <a:ext cx="0" cy="171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976560" y="2438280"/>
              <a:ext cx="0" cy="524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"/>
          <p:cNvSpPr/>
          <p:nvPr/>
        </p:nvSpPr>
        <p:spPr>
          <a:xfrm flipV="1">
            <a:off x="6286680" y="1380960"/>
            <a:ext cx="0" cy="1928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286680" y="2104920"/>
            <a:ext cx="171360" cy="171360"/>
          </a:xfrm>
          <a:prstGeom prst="rect">
            <a:avLst/>
          </a:prstGeom>
          <a:solidFill>
            <a:srgbClr val="a2c1f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857160" y="3238560"/>
            <a:ext cx="1619280" cy="452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643040" y="3238560"/>
            <a:ext cx="0" cy="452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1789200" y="3297240"/>
            <a:ext cx="536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0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2805120" y="2647800"/>
            <a:ext cx="833400" cy="835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2476440" y="3487680"/>
            <a:ext cx="330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1471680" y="5162400"/>
            <a:ext cx="3755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wo concentric circles establ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 circularity tolerance z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5283360" y="3260880"/>
            <a:ext cx="3902040" cy="2597040"/>
            <a:chOff x="5283360" y="3260880"/>
            <a:chExt cx="3902040" cy="2597040"/>
          </a:xfrm>
        </p:grpSpPr>
        <p:sp>
          <p:nvSpPr>
            <p:cNvPr id="830" name=""/>
            <p:cNvSpPr/>
            <p:nvPr/>
          </p:nvSpPr>
          <p:spPr>
            <a:xfrm>
              <a:off x="5510160" y="3986280"/>
              <a:ext cx="1576800" cy="1653120"/>
            </a:xfrm>
            <a:custGeom>
              <a:avLst/>
              <a:gdLst/>
              <a:ahLst/>
              <a:rect l="0" t="0" r="r" b="b"/>
              <a:pathLst>
                <a:path w="4380" h="4592">
                  <a:moveTo>
                    <a:pt x="2157" y="39"/>
                  </a:moveTo>
                  <a:lnTo>
                    <a:pt x="2104" y="39"/>
                  </a:lnTo>
                  <a:lnTo>
                    <a:pt x="2064" y="39"/>
                  </a:lnTo>
                  <a:lnTo>
                    <a:pt x="2025" y="39"/>
                  </a:lnTo>
                  <a:lnTo>
                    <a:pt x="1985" y="39"/>
                  </a:lnTo>
                  <a:lnTo>
                    <a:pt x="1945" y="39"/>
                  </a:lnTo>
                  <a:lnTo>
                    <a:pt x="1906" y="52"/>
                  </a:lnTo>
                  <a:lnTo>
                    <a:pt x="1866" y="79"/>
                  </a:lnTo>
                  <a:lnTo>
                    <a:pt x="1826" y="105"/>
                  </a:lnTo>
                  <a:lnTo>
                    <a:pt x="1786" y="119"/>
                  </a:lnTo>
                  <a:lnTo>
                    <a:pt x="1734" y="119"/>
                  </a:lnTo>
                  <a:lnTo>
                    <a:pt x="1694" y="119"/>
                  </a:lnTo>
                  <a:lnTo>
                    <a:pt x="1654" y="132"/>
                  </a:lnTo>
                  <a:lnTo>
                    <a:pt x="1614" y="132"/>
                  </a:lnTo>
                  <a:lnTo>
                    <a:pt x="1575" y="145"/>
                  </a:lnTo>
                  <a:lnTo>
                    <a:pt x="1522" y="158"/>
                  </a:lnTo>
                  <a:lnTo>
                    <a:pt x="1469" y="185"/>
                  </a:lnTo>
                  <a:lnTo>
                    <a:pt x="1429" y="198"/>
                  </a:lnTo>
                  <a:lnTo>
                    <a:pt x="1390" y="224"/>
                  </a:lnTo>
                  <a:lnTo>
                    <a:pt x="1363" y="264"/>
                  </a:lnTo>
                  <a:lnTo>
                    <a:pt x="1323" y="277"/>
                  </a:lnTo>
                  <a:lnTo>
                    <a:pt x="1231" y="317"/>
                  </a:lnTo>
                  <a:lnTo>
                    <a:pt x="1191" y="343"/>
                  </a:lnTo>
                  <a:lnTo>
                    <a:pt x="1165" y="383"/>
                  </a:lnTo>
                  <a:lnTo>
                    <a:pt x="1125" y="423"/>
                  </a:lnTo>
                  <a:lnTo>
                    <a:pt x="1099" y="463"/>
                  </a:lnTo>
                  <a:lnTo>
                    <a:pt x="1058" y="502"/>
                  </a:lnTo>
                  <a:lnTo>
                    <a:pt x="1018" y="542"/>
                  </a:lnTo>
                  <a:lnTo>
                    <a:pt x="978" y="568"/>
                  </a:lnTo>
                  <a:lnTo>
                    <a:pt x="939" y="582"/>
                  </a:lnTo>
                  <a:lnTo>
                    <a:pt x="899" y="608"/>
                  </a:lnTo>
                  <a:lnTo>
                    <a:pt x="859" y="635"/>
                  </a:lnTo>
                  <a:lnTo>
                    <a:pt x="820" y="674"/>
                  </a:lnTo>
                  <a:lnTo>
                    <a:pt x="780" y="687"/>
                  </a:lnTo>
                  <a:lnTo>
                    <a:pt x="740" y="714"/>
                  </a:lnTo>
                  <a:lnTo>
                    <a:pt x="687" y="767"/>
                  </a:lnTo>
                  <a:lnTo>
                    <a:pt x="648" y="793"/>
                  </a:lnTo>
                  <a:lnTo>
                    <a:pt x="608" y="846"/>
                  </a:lnTo>
                  <a:lnTo>
                    <a:pt x="555" y="899"/>
                  </a:lnTo>
                  <a:lnTo>
                    <a:pt x="515" y="952"/>
                  </a:lnTo>
                  <a:lnTo>
                    <a:pt x="476" y="992"/>
                  </a:lnTo>
                  <a:lnTo>
                    <a:pt x="449" y="1071"/>
                  </a:lnTo>
                  <a:lnTo>
                    <a:pt x="291" y="1284"/>
                  </a:lnTo>
                  <a:lnTo>
                    <a:pt x="264" y="1337"/>
                  </a:lnTo>
                  <a:lnTo>
                    <a:pt x="251" y="1429"/>
                  </a:lnTo>
                  <a:lnTo>
                    <a:pt x="238" y="1482"/>
                  </a:lnTo>
                  <a:lnTo>
                    <a:pt x="238" y="1562"/>
                  </a:lnTo>
                  <a:lnTo>
                    <a:pt x="224" y="1601"/>
                  </a:lnTo>
                  <a:lnTo>
                    <a:pt x="224" y="1641"/>
                  </a:lnTo>
                  <a:lnTo>
                    <a:pt x="185" y="1773"/>
                  </a:lnTo>
                  <a:lnTo>
                    <a:pt x="158" y="1826"/>
                  </a:lnTo>
                  <a:lnTo>
                    <a:pt x="145" y="1879"/>
                  </a:lnTo>
                  <a:lnTo>
                    <a:pt x="119" y="1932"/>
                  </a:lnTo>
                  <a:lnTo>
                    <a:pt x="105" y="1972"/>
                  </a:lnTo>
                  <a:lnTo>
                    <a:pt x="92" y="2011"/>
                  </a:lnTo>
                  <a:lnTo>
                    <a:pt x="92" y="2117"/>
                  </a:lnTo>
                  <a:lnTo>
                    <a:pt x="105" y="2157"/>
                  </a:lnTo>
                  <a:lnTo>
                    <a:pt x="105" y="2263"/>
                  </a:lnTo>
                  <a:lnTo>
                    <a:pt x="105" y="2302"/>
                  </a:lnTo>
                  <a:lnTo>
                    <a:pt x="105" y="2342"/>
                  </a:lnTo>
                  <a:lnTo>
                    <a:pt x="105" y="2382"/>
                  </a:lnTo>
                  <a:lnTo>
                    <a:pt x="105" y="2435"/>
                  </a:lnTo>
                  <a:lnTo>
                    <a:pt x="92" y="2567"/>
                  </a:lnTo>
                  <a:lnTo>
                    <a:pt x="66" y="2607"/>
                  </a:lnTo>
                  <a:lnTo>
                    <a:pt x="39" y="2646"/>
                  </a:lnTo>
                  <a:lnTo>
                    <a:pt x="26" y="2752"/>
                  </a:lnTo>
                  <a:lnTo>
                    <a:pt x="13" y="2832"/>
                  </a:lnTo>
                  <a:lnTo>
                    <a:pt x="0" y="2937"/>
                  </a:lnTo>
                  <a:lnTo>
                    <a:pt x="0" y="2977"/>
                  </a:lnTo>
                  <a:lnTo>
                    <a:pt x="0" y="3056"/>
                  </a:lnTo>
                  <a:lnTo>
                    <a:pt x="0" y="3096"/>
                  </a:lnTo>
                  <a:lnTo>
                    <a:pt x="13" y="3136"/>
                  </a:lnTo>
                  <a:lnTo>
                    <a:pt x="39" y="3176"/>
                  </a:lnTo>
                  <a:lnTo>
                    <a:pt x="66" y="3215"/>
                  </a:lnTo>
                  <a:lnTo>
                    <a:pt x="105" y="3255"/>
                  </a:lnTo>
                  <a:lnTo>
                    <a:pt x="145" y="3281"/>
                  </a:lnTo>
                  <a:lnTo>
                    <a:pt x="171" y="3334"/>
                  </a:lnTo>
                  <a:lnTo>
                    <a:pt x="224" y="3427"/>
                  </a:lnTo>
                  <a:lnTo>
                    <a:pt x="264" y="3468"/>
                  </a:lnTo>
                  <a:lnTo>
                    <a:pt x="291" y="3547"/>
                  </a:lnTo>
                  <a:lnTo>
                    <a:pt x="330" y="3653"/>
                  </a:lnTo>
                  <a:lnTo>
                    <a:pt x="357" y="3692"/>
                  </a:lnTo>
                  <a:lnTo>
                    <a:pt x="410" y="3767"/>
                  </a:lnTo>
                  <a:lnTo>
                    <a:pt x="432" y="3847"/>
                  </a:lnTo>
                  <a:lnTo>
                    <a:pt x="436" y="3904"/>
                  </a:lnTo>
                  <a:lnTo>
                    <a:pt x="537" y="3966"/>
                  </a:lnTo>
                  <a:lnTo>
                    <a:pt x="617" y="4045"/>
                  </a:lnTo>
                  <a:lnTo>
                    <a:pt x="670" y="4089"/>
                  </a:lnTo>
                  <a:lnTo>
                    <a:pt x="754" y="4125"/>
                  </a:lnTo>
                  <a:lnTo>
                    <a:pt x="776" y="4142"/>
                  </a:lnTo>
                  <a:lnTo>
                    <a:pt x="833" y="4129"/>
                  </a:lnTo>
                  <a:lnTo>
                    <a:pt x="873" y="4204"/>
                  </a:lnTo>
                  <a:lnTo>
                    <a:pt x="939" y="4270"/>
                  </a:lnTo>
                  <a:lnTo>
                    <a:pt x="1027" y="4336"/>
                  </a:lnTo>
                  <a:lnTo>
                    <a:pt x="1067" y="4376"/>
                  </a:lnTo>
                  <a:lnTo>
                    <a:pt x="1138" y="4380"/>
                  </a:lnTo>
                  <a:lnTo>
                    <a:pt x="1204" y="4447"/>
                  </a:lnTo>
                  <a:lnTo>
                    <a:pt x="1244" y="4460"/>
                  </a:lnTo>
                  <a:lnTo>
                    <a:pt x="1323" y="4486"/>
                  </a:lnTo>
                  <a:lnTo>
                    <a:pt x="1376" y="4486"/>
                  </a:lnTo>
                  <a:lnTo>
                    <a:pt x="1456" y="4499"/>
                  </a:lnTo>
                  <a:lnTo>
                    <a:pt x="1588" y="4513"/>
                  </a:lnTo>
                  <a:lnTo>
                    <a:pt x="1641" y="4526"/>
                  </a:lnTo>
                  <a:lnTo>
                    <a:pt x="1760" y="4539"/>
                  </a:lnTo>
                  <a:lnTo>
                    <a:pt x="1813" y="4552"/>
                  </a:lnTo>
                  <a:lnTo>
                    <a:pt x="1945" y="4566"/>
                  </a:lnTo>
                  <a:lnTo>
                    <a:pt x="1985" y="4566"/>
                  </a:lnTo>
                  <a:lnTo>
                    <a:pt x="2091" y="4566"/>
                  </a:lnTo>
                  <a:lnTo>
                    <a:pt x="2183" y="4579"/>
                  </a:lnTo>
                  <a:lnTo>
                    <a:pt x="2223" y="4579"/>
                  </a:lnTo>
                  <a:lnTo>
                    <a:pt x="2382" y="4592"/>
                  </a:lnTo>
                  <a:lnTo>
                    <a:pt x="2435" y="4592"/>
                  </a:lnTo>
                  <a:lnTo>
                    <a:pt x="2474" y="4592"/>
                  </a:lnTo>
                  <a:lnTo>
                    <a:pt x="2580" y="4592"/>
                  </a:lnTo>
                  <a:lnTo>
                    <a:pt x="2620" y="4579"/>
                  </a:lnTo>
                  <a:lnTo>
                    <a:pt x="2699" y="4566"/>
                  </a:lnTo>
                  <a:lnTo>
                    <a:pt x="2792" y="4552"/>
                  </a:lnTo>
                  <a:lnTo>
                    <a:pt x="2832" y="4539"/>
                  </a:lnTo>
                  <a:lnTo>
                    <a:pt x="2911" y="4513"/>
                  </a:lnTo>
                  <a:lnTo>
                    <a:pt x="2964" y="4486"/>
                  </a:lnTo>
                  <a:lnTo>
                    <a:pt x="3017" y="4447"/>
                  </a:lnTo>
                  <a:lnTo>
                    <a:pt x="3056" y="4367"/>
                  </a:lnTo>
                  <a:lnTo>
                    <a:pt x="3109" y="4314"/>
                  </a:lnTo>
                  <a:lnTo>
                    <a:pt x="3215" y="4261"/>
                  </a:lnTo>
                  <a:lnTo>
                    <a:pt x="3255" y="4235"/>
                  </a:lnTo>
                  <a:lnTo>
                    <a:pt x="3296" y="4195"/>
                  </a:lnTo>
                  <a:lnTo>
                    <a:pt x="3388" y="4182"/>
                  </a:lnTo>
                  <a:lnTo>
                    <a:pt x="3468" y="4169"/>
                  </a:lnTo>
                  <a:lnTo>
                    <a:pt x="3547" y="4155"/>
                  </a:lnTo>
                  <a:lnTo>
                    <a:pt x="3626" y="4129"/>
                  </a:lnTo>
                  <a:lnTo>
                    <a:pt x="3679" y="4089"/>
                  </a:lnTo>
                  <a:lnTo>
                    <a:pt x="3719" y="4050"/>
                  </a:lnTo>
                  <a:lnTo>
                    <a:pt x="3754" y="3992"/>
                  </a:lnTo>
                  <a:lnTo>
                    <a:pt x="3834" y="3953"/>
                  </a:lnTo>
                  <a:lnTo>
                    <a:pt x="3904" y="3864"/>
                  </a:lnTo>
                  <a:lnTo>
                    <a:pt x="3931" y="3825"/>
                  </a:lnTo>
                  <a:lnTo>
                    <a:pt x="3944" y="3745"/>
                  </a:lnTo>
                  <a:lnTo>
                    <a:pt x="3957" y="3706"/>
                  </a:lnTo>
                  <a:lnTo>
                    <a:pt x="3957" y="3653"/>
                  </a:lnTo>
                  <a:lnTo>
                    <a:pt x="3983" y="3520"/>
                  </a:lnTo>
                  <a:lnTo>
                    <a:pt x="4010" y="3468"/>
                  </a:lnTo>
                  <a:lnTo>
                    <a:pt x="4036" y="3361"/>
                  </a:lnTo>
                  <a:lnTo>
                    <a:pt x="4063" y="3321"/>
                  </a:lnTo>
                  <a:lnTo>
                    <a:pt x="4089" y="3215"/>
                  </a:lnTo>
                  <a:lnTo>
                    <a:pt x="4116" y="3162"/>
                  </a:lnTo>
                  <a:lnTo>
                    <a:pt x="4142" y="3109"/>
                  </a:lnTo>
                  <a:lnTo>
                    <a:pt x="4248" y="2937"/>
                  </a:lnTo>
                  <a:lnTo>
                    <a:pt x="4275" y="2884"/>
                  </a:lnTo>
                  <a:lnTo>
                    <a:pt x="4301" y="2832"/>
                  </a:lnTo>
                  <a:lnTo>
                    <a:pt x="4341" y="2739"/>
                  </a:lnTo>
                  <a:lnTo>
                    <a:pt x="4354" y="2660"/>
                  </a:lnTo>
                  <a:lnTo>
                    <a:pt x="4367" y="2620"/>
                  </a:lnTo>
                  <a:lnTo>
                    <a:pt x="4380" y="2567"/>
                  </a:lnTo>
                  <a:lnTo>
                    <a:pt x="4380" y="2448"/>
                  </a:lnTo>
                  <a:lnTo>
                    <a:pt x="4380" y="2408"/>
                  </a:lnTo>
                  <a:lnTo>
                    <a:pt x="4380" y="2302"/>
                  </a:lnTo>
                  <a:lnTo>
                    <a:pt x="4380" y="2249"/>
                  </a:lnTo>
                  <a:lnTo>
                    <a:pt x="4367" y="2197"/>
                  </a:lnTo>
                  <a:lnTo>
                    <a:pt x="4354" y="2091"/>
                  </a:lnTo>
                  <a:lnTo>
                    <a:pt x="4327" y="1985"/>
                  </a:lnTo>
                  <a:lnTo>
                    <a:pt x="4301" y="1879"/>
                  </a:lnTo>
                  <a:lnTo>
                    <a:pt x="4288" y="1839"/>
                  </a:lnTo>
                  <a:lnTo>
                    <a:pt x="4275" y="1760"/>
                  </a:lnTo>
                  <a:lnTo>
                    <a:pt x="4261" y="1720"/>
                  </a:lnTo>
                  <a:lnTo>
                    <a:pt x="4248" y="1681"/>
                  </a:lnTo>
                  <a:lnTo>
                    <a:pt x="4222" y="1601"/>
                  </a:lnTo>
                  <a:lnTo>
                    <a:pt x="4208" y="1562"/>
                  </a:lnTo>
                  <a:lnTo>
                    <a:pt x="4195" y="1522"/>
                  </a:lnTo>
                  <a:lnTo>
                    <a:pt x="4182" y="1469"/>
                  </a:lnTo>
                  <a:lnTo>
                    <a:pt x="4169" y="1429"/>
                  </a:lnTo>
                  <a:lnTo>
                    <a:pt x="4169" y="1390"/>
                  </a:lnTo>
                  <a:lnTo>
                    <a:pt x="4155" y="1297"/>
                  </a:lnTo>
                  <a:lnTo>
                    <a:pt x="4142" y="1257"/>
                  </a:lnTo>
                  <a:lnTo>
                    <a:pt x="4116" y="1151"/>
                  </a:lnTo>
                  <a:lnTo>
                    <a:pt x="4103" y="1098"/>
                  </a:lnTo>
                  <a:lnTo>
                    <a:pt x="4076" y="1058"/>
                  </a:lnTo>
                  <a:lnTo>
                    <a:pt x="4036" y="1018"/>
                  </a:lnTo>
                  <a:lnTo>
                    <a:pt x="3997" y="978"/>
                  </a:lnTo>
                  <a:lnTo>
                    <a:pt x="3944" y="939"/>
                  </a:lnTo>
                  <a:lnTo>
                    <a:pt x="3904" y="912"/>
                  </a:lnTo>
                  <a:lnTo>
                    <a:pt x="3825" y="833"/>
                  </a:lnTo>
                  <a:lnTo>
                    <a:pt x="3798" y="793"/>
                  </a:lnTo>
                  <a:lnTo>
                    <a:pt x="3759" y="740"/>
                  </a:lnTo>
                  <a:lnTo>
                    <a:pt x="3719" y="714"/>
                  </a:lnTo>
                  <a:lnTo>
                    <a:pt x="3692" y="674"/>
                  </a:lnTo>
                  <a:lnTo>
                    <a:pt x="3653" y="648"/>
                  </a:lnTo>
                  <a:lnTo>
                    <a:pt x="3626" y="608"/>
                  </a:lnTo>
                  <a:lnTo>
                    <a:pt x="3587" y="582"/>
                  </a:lnTo>
                  <a:lnTo>
                    <a:pt x="3547" y="529"/>
                  </a:lnTo>
                  <a:lnTo>
                    <a:pt x="3507" y="489"/>
                  </a:lnTo>
                  <a:lnTo>
                    <a:pt x="3454" y="449"/>
                  </a:lnTo>
                  <a:lnTo>
                    <a:pt x="3415" y="423"/>
                  </a:lnTo>
                  <a:lnTo>
                    <a:pt x="3281" y="396"/>
                  </a:lnTo>
                  <a:lnTo>
                    <a:pt x="3228" y="370"/>
                  </a:lnTo>
                  <a:lnTo>
                    <a:pt x="3176" y="370"/>
                  </a:lnTo>
                  <a:lnTo>
                    <a:pt x="3043" y="357"/>
                  </a:lnTo>
                  <a:lnTo>
                    <a:pt x="3004" y="357"/>
                  </a:lnTo>
                  <a:lnTo>
                    <a:pt x="2924" y="357"/>
                  </a:lnTo>
                  <a:lnTo>
                    <a:pt x="2884" y="343"/>
                  </a:lnTo>
                  <a:lnTo>
                    <a:pt x="2845" y="317"/>
                  </a:lnTo>
                  <a:lnTo>
                    <a:pt x="2805" y="291"/>
                  </a:lnTo>
                  <a:lnTo>
                    <a:pt x="2765" y="264"/>
                  </a:lnTo>
                  <a:lnTo>
                    <a:pt x="2726" y="224"/>
                  </a:lnTo>
                  <a:lnTo>
                    <a:pt x="2673" y="132"/>
                  </a:lnTo>
                  <a:lnTo>
                    <a:pt x="2633" y="92"/>
                  </a:lnTo>
                  <a:lnTo>
                    <a:pt x="2554" y="66"/>
                  </a:lnTo>
                  <a:lnTo>
                    <a:pt x="2514" y="39"/>
                  </a:lnTo>
                  <a:lnTo>
                    <a:pt x="2488" y="0"/>
                  </a:lnTo>
                  <a:lnTo>
                    <a:pt x="2448" y="0"/>
                  </a:lnTo>
                  <a:lnTo>
                    <a:pt x="2395" y="13"/>
                  </a:lnTo>
                  <a:lnTo>
                    <a:pt x="2355" y="13"/>
                  </a:lnTo>
                  <a:lnTo>
                    <a:pt x="2249" y="13"/>
                  </a:lnTo>
                  <a:lnTo>
                    <a:pt x="2210" y="13"/>
                  </a:lnTo>
                  <a:lnTo>
                    <a:pt x="2170" y="26"/>
                  </a:lnTo>
                  <a:lnTo>
                    <a:pt x="2157" y="39"/>
                  </a:lnTo>
                  <a:close/>
                </a:path>
              </a:pathLst>
            </a:custGeom>
            <a:blipFill rotWithShape="0">
              <a:blip r:embed="rId1"/>
              <a:tile tx="0" ty="0" sx="133018" sy="133018" algn="ctr"/>
            </a:blip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435640" y="3965400"/>
              <a:ext cx="1714680" cy="171468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591160" y="4127400"/>
              <a:ext cx="1405080" cy="140508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>
              <a:off x="6286680" y="3857760"/>
              <a:ext cx="0" cy="2000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6286680" y="3524400"/>
              <a:ext cx="0" cy="166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5" name=""/>
            <p:cNvGrpSpPr/>
            <p:nvPr/>
          </p:nvGrpSpPr>
          <p:grpSpPr>
            <a:xfrm>
              <a:off x="5948280" y="3260880"/>
              <a:ext cx="3237120" cy="1616040"/>
              <a:chOff x="5948280" y="3260880"/>
              <a:chExt cx="3237120" cy="1616040"/>
            </a:xfrm>
          </p:grpSpPr>
          <p:sp>
            <p:nvSpPr>
              <p:cNvPr id="836" name=""/>
              <p:cNvSpPr txBox="1"/>
              <p:nvPr/>
            </p:nvSpPr>
            <p:spPr>
              <a:xfrm>
                <a:off x="6431040" y="3260880"/>
                <a:ext cx="2754360" cy="1616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mallest true circl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 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hat circumscrib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he high poin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         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of the featur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          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iameter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>
                <a:off x="5948280" y="3444840"/>
                <a:ext cx="452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948280" y="3444840"/>
                <a:ext cx="135000" cy="528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"/>
            <p:cNvGrpSpPr/>
            <p:nvPr/>
          </p:nvGrpSpPr>
          <p:grpSpPr>
            <a:xfrm>
              <a:off x="5283360" y="4819680"/>
              <a:ext cx="2070000" cy="0"/>
              <a:chOff x="5283360" y="4819680"/>
              <a:chExt cx="2070000" cy="0"/>
            </a:xfrm>
          </p:grpSpPr>
          <p:sp>
            <p:nvSpPr>
              <p:cNvPr id="840" name=""/>
              <p:cNvSpPr/>
              <p:nvPr/>
            </p:nvSpPr>
            <p:spPr>
              <a:xfrm>
                <a:off x="5283360" y="4819680"/>
                <a:ext cx="846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235560" y="4819680"/>
                <a:ext cx="104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416640" y="4819680"/>
                <a:ext cx="936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3" name=""/>
          <p:cNvSpPr/>
          <p:nvPr/>
        </p:nvSpPr>
        <p:spPr>
          <a:xfrm>
            <a:off x="1065240" y="3351240"/>
            <a:ext cx="250920" cy="2509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5029200" y="5473800"/>
            <a:ext cx="635040" cy="7016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027760" y="6176880"/>
            <a:ext cx="266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5249880" y="6008760"/>
            <a:ext cx="21319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0.4 Offset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centric cir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5772240" y="5079960"/>
            <a:ext cx="234720" cy="2602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IRCULA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900000" y="1981080"/>
            <a:ext cx="7772400" cy="35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3360" indent="-333360">
              <a:lnSpc>
                <a:spcPct val="100000"/>
              </a:lnSpc>
              <a:spcBef>
                <a:spcPts val="479"/>
              </a:spcBef>
              <a:spcAft>
                <a:spcPts val="96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metral features such as cylinders, cones, and spheres are the </a:t>
            </a:r>
            <a:r>
              <a:rPr b="0" i="1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ON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eatures that circularity can be appropriately applied 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479"/>
              </a:spcBef>
              <a:spcAft>
                <a:spcPts val="96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ularity </a:t>
            </a:r>
            <a:r>
              <a:rPr b="0" i="1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CANN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 modified by the use of MMC or LM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le #2 a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 txBox="1"/>
          <p:nvPr/>
        </p:nvSpPr>
        <p:spPr>
          <a:xfrm>
            <a:off x="685800" y="1071720"/>
            <a:ext cx="77724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IRCULARITY -- RULE #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1246320" y="2647800"/>
            <a:ext cx="7188120" cy="24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circularity control is provided by Rule #1. At maximum material condition, perfect form is required.  As the feature size departs from MMC towards LMC, a </a:t>
            </a:r>
            <a:r>
              <a:rPr b="0" i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as well as </a:t>
            </a:r>
            <a:r>
              <a:rPr b="0" i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z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tolerance of an equal amount is permit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 txBox="1"/>
          <p:nvPr/>
        </p:nvSpPr>
        <p:spPr>
          <a:xfrm>
            <a:off x="662040" y="22860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IRCULA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3286080" y="1581120"/>
            <a:ext cx="4948200" cy="1381320"/>
            <a:chOff x="3286080" y="1581120"/>
            <a:chExt cx="4948200" cy="1381320"/>
          </a:xfrm>
        </p:grpSpPr>
        <p:sp>
          <p:nvSpPr>
            <p:cNvPr id="854" name=""/>
            <p:cNvSpPr/>
            <p:nvPr/>
          </p:nvSpPr>
          <p:spPr>
            <a:xfrm>
              <a:off x="3476520" y="1785960"/>
              <a:ext cx="1000080" cy="10000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524560" y="1785960"/>
              <a:ext cx="2452680" cy="1000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6" name=""/>
            <p:cNvGrpSpPr/>
            <p:nvPr/>
          </p:nvGrpSpPr>
          <p:grpSpPr>
            <a:xfrm>
              <a:off x="3286080" y="2281320"/>
              <a:ext cx="1428840" cy="0"/>
              <a:chOff x="3286080" y="2281320"/>
              <a:chExt cx="1428840" cy="0"/>
            </a:xfrm>
          </p:grpSpPr>
          <p:sp>
            <p:nvSpPr>
              <p:cNvPr id="857" name=""/>
              <p:cNvSpPr/>
              <p:nvPr/>
            </p:nvSpPr>
            <p:spPr>
              <a:xfrm>
                <a:off x="3286080" y="2281320"/>
                <a:ext cx="50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895560" y="2281320"/>
                <a:ext cx="171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191120" y="2281320"/>
                <a:ext cx="523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0" name=""/>
            <p:cNvGrpSpPr/>
            <p:nvPr/>
          </p:nvGrpSpPr>
          <p:grpSpPr>
            <a:xfrm>
              <a:off x="5291280" y="2279520"/>
              <a:ext cx="2943000" cy="0"/>
              <a:chOff x="5291280" y="2279520"/>
              <a:chExt cx="2943000" cy="0"/>
            </a:xfrm>
          </p:grpSpPr>
          <p:sp>
            <p:nvSpPr>
              <p:cNvPr id="861" name=""/>
              <p:cNvSpPr/>
              <p:nvPr/>
            </p:nvSpPr>
            <p:spPr>
              <a:xfrm>
                <a:off x="5291280" y="2279520"/>
                <a:ext cx="1314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729480" y="2279520"/>
                <a:ext cx="133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986520" y="2279520"/>
                <a:ext cx="905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891560" y="2279520"/>
                <a:ext cx="34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5" name=""/>
            <p:cNvSpPr/>
            <p:nvPr/>
          </p:nvSpPr>
          <p:spPr>
            <a:xfrm>
              <a:off x="3976560" y="1581120"/>
              <a:ext cx="0" cy="523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976560" y="2190600"/>
              <a:ext cx="0" cy="171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976560" y="2438280"/>
              <a:ext cx="0" cy="524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"/>
          <p:cNvSpPr/>
          <p:nvPr/>
        </p:nvSpPr>
        <p:spPr>
          <a:xfrm flipH="1">
            <a:off x="2805120" y="2647800"/>
            <a:ext cx="833400" cy="835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2476440" y="3487680"/>
            <a:ext cx="330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1390680" y="3386160"/>
            <a:ext cx="218880" cy="218880"/>
            <a:chOff x="1390680" y="3386160"/>
            <a:chExt cx="218880" cy="218880"/>
          </a:xfrm>
        </p:grpSpPr>
        <p:sp>
          <p:nvSpPr>
            <p:cNvPr id="871" name=""/>
            <p:cNvSpPr/>
            <p:nvPr/>
          </p:nvSpPr>
          <p:spPr>
            <a:xfrm>
              <a:off x="1398600" y="3398760"/>
              <a:ext cx="203040" cy="201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1390680" y="3386160"/>
              <a:ext cx="218880" cy="218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3" name=""/>
          <p:cNvSpPr txBox="1"/>
          <p:nvPr/>
        </p:nvSpPr>
        <p:spPr>
          <a:xfrm>
            <a:off x="1622520" y="3178080"/>
            <a:ext cx="677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0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0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 txBox="1"/>
          <p:nvPr/>
        </p:nvSpPr>
        <p:spPr>
          <a:xfrm>
            <a:off x="662040" y="22860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IRCULA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3286080" y="1581120"/>
            <a:ext cx="4948200" cy="1381320"/>
            <a:chOff x="3286080" y="1581120"/>
            <a:chExt cx="4948200" cy="1381320"/>
          </a:xfrm>
        </p:grpSpPr>
        <p:sp>
          <p:nvSpPr>
            <p:cNvPr id="876" name=""/>
            <p:cNvSpPr/>
            <p:nvPr/>
          </p:nvSpPr>
          <p:spPr>
            <a:xfrm>
              <a:off x="3476520" y="1785960"/>
              <a:ext cx="1000080" cy="10000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524560" y="1785960"/>
              <a:ext cx="2452680" cy="1000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8" name=""/>
            <p:cNvGrpSpPr/>
            <p:nvPr/>
          </p:nvGrpSpPr>
          <p:grpSpPr>
            <a:xfrm>
              <a:off x="3286080" y="2281320"/>
              <a:ext cx="1428840" cy="0"/>
              <a:chOff x="3286080" y="2281320"/>
              <a:chExt cx="1428840" cy="0"/>
            </a:xfrm>
          </p:grpSpPr>
          <p:sp>
            <p:nvSpPr>
              <p:cNvPr id="879" name=""/>
              <p:cNvSpPr/>
              <p:nvPr/>
            </p:nvSpPr>
            <p:spPr>
              <a:xfrm>
                <a:off x="3286080" y="2281320"/>
                <a:ext cx="50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895560" y="2281320"/>
                <a:ext cx="171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191120" y="2281320"/>
                <a:ext cx="523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5291280" y="2279520"/>
              <a:ext cx="2943000" cy="0"/>
              <a:chOff x="5291280" y="2279520"/>
              <a:chExt cx="2943000" cy="0"/>
            </a:xfrm>
          </p:grpSpPr>
          <p:sp>
            <p:nvSpPr>
              <p:cNvPr id="883" name=""/>
              <p:cNvSpPr/>
              <p:nvPr/>
            </p:nvSpPr>
            <p:spPr>
              <a:xfrm>
                <a:off x="5291280" y="2279520"/>
                <a:ext cx="1314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729480" y="2279520"/>
                <a:ext cx="133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986520" y="2279520"/>
                <a:ext cx="905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891560" y="2279520"/>
                <a:ext cx="34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7" name=""/>
            <p:cNvSpPr/>
            <p:nvPr/>
          </p:nvSpPr>
          <p:spPr>
            <a:xfrm>
              <a:off x="3976560" y="1581120"/>
              <a:ext cx="0" cy="523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976560" y="2190600"/>
              <a:ext cx="0" cy="171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976560" y="2438280"/>
              <a:ext cx="0" cy="524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"/>
          <p:cNvSpPr txBox="1"/>
          <p:nvPr/>
        </p:nvSpPr>
        <p:spPr>
          <a:xfrm>
            <a:off x="932040" y="4368960"/>
            <a:ext cx="330372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ule #1 size limits establ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 boundary, defined by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centric circles--equal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ize to the upper and 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mits of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6286680" y="3857760"/>
            <a:ext cx="0" cy="20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6286680" y="3524400"/>
            <a:ext cx="0" cy="16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6286680" y="1380960"/>
            <a:ext cx="0" cy="1928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286680" y="2104920"/>
            <a:ext cx="171360" cy="171360"/>
          </a:xfrm>
          <a:prstGeom prst="rect">
            <a:avLst/>
          </a:prstGeom>
          <a:solidFill>
            <a:srgbClr val="a2c1f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2805120" y="2647800"/>
            <a:ext cx="833400" cy="835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2476440" y="3487680"/>
            <a:ext cx="330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1397160" y="3392640"/>
            <a:ext cx="206280" cy="206280"/>
            <a:chOff x="1397160" y="3392640"/>
            <a:chExt cx="206280" cy="206280"/>
          </a:xfrm>
        </p:grpSpPr>
        <p:sp>
          <p:nvSpPr>
            <p:cNvPr id="898" name=""/>
            <p:cNvSpPr/>
            <p:nvPr/>
          </p:nvSpPr>
          <p:spPr>
            <a:xfrm>
              <a:off x="1405080" y="3403440"/>
              <a:ext cx="190440" cy="192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1397160" y="3392640"/>
              <a:ext cx="206280" cy="206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"/>
          <p:cNvSpPr txBox="1"/>
          <p:nvPr/>
        </p:nvSpPr>
        <p:spPr>
          <a:xfrm>
            <a:off x="1622520" y="3178080"/>
            <a:ext cx="677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0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0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5283360" y="4819680"/>
            <a:ext cx="2070000" cy="0"/>
            <a:chOff x="5283360" y="4819680"/>
            <a:chExt cx="2070000" cy="0"/>
          </a:xfrm>
        </p:grpSpPr>
        <p:sp>
          <p:nvSpPr>
            <p:cNvPr id="902" name=""/>
            <p:cNvSpPr/>
            <p:nvPr/>
          </p:nvSpPr>
          <p:spPr>
            <a:xfrm>
              <a:off x="5283360" y="4819680"/>
              <a:ext cx="846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235560" y="48196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416640" y="4819680"/>
              <a:ext cx="936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0" y="101520"/>
            <a:ext cx="9020160" cy="6743880"/>
            <a:chOff x="0" y="101520"/>
            <a:chExt cx="9020160" cy="6743880"/>
          </a:xfrm>
        </p:grpSpPr>
        <p:sp>
          <p:nvSpPr>
            <p:cNvPr id="39" name=""/>
            <p:cNvSpPr/>
            <p:nvPr/>
          </p:nvSpPr>
          <p:spPr>
            <a:xfrm>
              <a:off x="320760" y="3456000"/>
              <a:ext cx="103824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498680" y="3456000"/>
              <a:ext cx="13644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774800" y="3456000"/>
              <a:ext cx="831960" cy="14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flipH="1">
              <a:off x="1982880" y="3456000"/>
              <a:ext cx="6984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167360" y="3540240"/>
              <a:ext cx="20761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383160" y="3540240"/>
              <a:ext cx="13680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659640" y="3540240"/>
              <a:ext cx="207648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450120" y="3470400"/>
              <a:ext cx="0" cy="1364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6450120" y="765000"/>
              <a:ext cx="0" cy="25657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450120" y="3746520"/>
              <a:ext cx="0" cy="18003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233960" y="1436760"/>
              <a:ext cx="4470480" cy="424008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38520" y="1708200"/>
              <a:ext cx="3860640" cy="37051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96880" y="1515960"/>
              <a:ext cx="0" cy="38768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74800" y="1515960"/>
              <a:ext cx="0" cy="7621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74800" y="4675320"/>
              <a:ext cx="0" cy="7174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74800" y="2279520"/>
              <a:ext cx="2887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32040" y="4630680"/>
              <a:ext cx="23148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20760" y="2336760"/>
              <a:ext cx="0" cy="3524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20760" y="4216320"/>
              <a:ext cx="0" cy="3589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73320" y="2749680"/>
              <a:ext cx="23004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78000" y="4156200"/>
              <a:ext cx="220680" cy="14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1498680" y="2679840"/>
              <a:ext cx="68040" cy="698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flipV="1">
              <a:off x="1496880" y="4154400"/>
              <a:ext cx="73080" cy="810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566720" y="2679840"/>
              <a:ext cx="4161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66720" y="4233960"/>
              <a:ext cx="4161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82880" y="2679840"/>
              <a:ext cx="69840" cy="698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982880" y="4157640"/>
              <a:ext cx="69840" cy="698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52720" y="2749680"/>
              <a:ext cx="0" cy="698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52720" y="4087800"/>
              <a:ext cx="0" cy="698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2052720" y="2817720"/>
              <a:ext cx="196920" cy="18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52720" y="4087800"/>
              <a:ext cx="201600" cy="14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6880" y="2554200"/>
              <a:ext cx="361800" cy="18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6880" y="4354560"/>
              <a:ext cx="3571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11240" y="2617920"/>
              <a:ext cx="0" cy="16891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1012680" y="2962440"/>
              <a:ext cx="1238400" cy="61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12680" y="3940200"/>
              <a:ext cx="1231920" cy="14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6880" y="1515960"/>
              <a:ext cx="2779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880" y="5392800"/>
              <a:ext cx="2779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6880" y="1654200"/>
              <a:ext cx="2779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96880" y="1930320"/>
              <a:ext cx="2779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6880" y="4978440"/>
              <a:ext cx="2779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96880" y="5254560"/>
              <a:ext cx="2779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91360" y="1565280"/>
              <a:ext cx="320760" cy="28728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395960" y="3390840"/>
              <a:ext cx="290520" cy="2761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299280" y="5272200"/>
              <a:ext cx="297000" cy="2761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240760" y="3417840"/>
              <a:ext cx="298440" cy="2761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618320" y="2048040"/>
              <a:ext cx="322200" cy="29988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978440" y="2081160"/>
              <a:ext cx="312840" cy="2761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65840" y="4748040"/>
              <a:ext cx="299880" cy="2779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45320" y="4756320"/>
              <a:ext cx="304920" cy="2779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7496280" y="1924200"/>
              <a:ext cx="558720" cy="5587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4435560" y="1514520"/>
              <a:ext cx="1036440" cy="10364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05240" y="2362320"/>
              <a:ext cx="2475000" cy="235260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24480" y="2568600"/>
              <a:ext cx="2039760" cy="194004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72080" y="2708280"/>
              <a:ext cx="1746360" cy="166068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938920" y="3052800"/>
              <a:ext cx="1019160" cy="97164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27120" y="2725560"/>
              <a:ext cx="5079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15960" y="4175280"/>
              <a:ext cx="5065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72000" y="2614680"/>
              <a:ext cx="1943280" cy="182880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71560" y="4624560"/>
              <a:ext cx="57600" cy="57600"/>
            </a:xfrm>
            <a:custGeom>
              <a:avLst/>
              <a:gdLst/>
              <a:ahLst/>
              <a:rect l="0" t="0" r="r" b="b"/>
              <a:pathLst>
                <a:path fill="none" w="160" h="160">
                  <a:moveTo>
                    <a:pt x="160" y="160"/>
                  </a:moveTo>
                  <a:lnTo>
                    <a:pt x="160" y="160"/>
                  </a:lnTo>
                  <a:lnTo>
                    <a:pt x="160" y="160"/>
                  </a:lnTo>
                  <a:cubicBezTo>
                    <a:pt x="160" y="132"/>
                    <a:pt x="153" y="104"/>
                    <a:pt x="139" y="80"/>
                  </a:cubicBezTo>
                  <a:cubicBezTo>
                    <a:pt x="125" y="56"/>
                    <a:pt x="104" y="35"/>
                    <a:pt x="80" y="21"/>
                  </a:cubicBezTo>
                  <a:cubicBezTo>
                    <a:pt x="56" y="7"/>
                    <a:pt x="28" y="0"/>
                    <a:pt x="0" y="0"/>
                  </a:cubicBezTo>
                </a:path>
              </a:pathLst>
            </a:custGeom>
            <a:ln w="12600">
              <a:solidFill>
                <a:srgbClr val="114ffb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787320" y="1793880"/>
              <a:ext cx="2383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677880" y="1793880"/>
              <a:ext cx="7128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415800" y="1793880"/>
              <a:ext cx="2145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787320" y="5118120"/>
              <a:ext cx="2383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677880" y="5118120"/>
              <a:ext cx="7128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415800" y="5118120"/>
              <a:ext cx="2145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7569360" y="4668840"/>
              <a:ext cx="493560" cy="4730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4857840" y="4676760"/>
              <a:ext cx="469800" cy="4698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86080" y="2967120"/>
              <a:ext cx="40320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97240" y="3940200"/>
              <a:ext cx="39204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65200" y="2817720"/>
              <a:ext cx="10051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70240" y="4092480"/>
              <a:ext cx="100800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87520" y="5506920"/>
              <a:ext cx="0" cy="10875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82720" y="5489640"/>
              <a:ext cx="0" cy="409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22200" y="4702320"/>
              <a:ext cx="3240" cy="6634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48040" y="4278240"/>
              <a:ext cx="0" cy="4683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02280" y="3902040"/>
              <a:ext cx="0" cy="27306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8715240" y="3808440"/>
              <a:ext cx="5040" cy="28749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02360" y="3919680"/>
              <a:ext cx="0" cy="23065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78800" y="3780000"/>
              <a:ext cx="0" cy="24127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5662440" y="1870200"/>
              <a:ext cx="1602000" cy="33782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88080" y="1217520"/>
              <a:ext cx="24300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264440" y="1224000"/>
              <a:ext cx="328680" cy="6462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31080" y="1068480"/>
              <a:ext cx="592200" cy="29700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6502320" y="219240"/>
              <a:ext cx="308160" cy="13586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816600" y="219240"/>
              <a:ext cx="1969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7902720" y="1098720"/>
              <a:ext cx="204480" cy="193680"/>
              <a:chOff x="7902720" y="1098720"/>
              <a:chExt cx="204480" cy="193680"/>
            </a:xfrm>
          </p:grpSpPr>
          <p:sp>
            <p:nvSpPr>
              <p:cNvPr id="126" name=""/>
              <p:cNvSpPr/>
              <p:nvPr/>
            </p:nvSpPr>
            <p:spPr>
              <a:xfrm>
                <a:off x="7918560" y="1122480"/>
                <a:ext cx="165240" cy="15552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7902720" y="1098720"/>
                <a:ext cx="204480" cy="19368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 txBox="1"/>
            <p:nvPr/>
          </p:nvSpPr>
          <p:spPr>
            <a:xfrm>
              <a:off x="8099280" y="1025640"/>
              <a:ext cx="4096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114ffb"/>
                  </a:solidFill>
                  <a:latin typeface="Arial"/>
                  <a:ea typeface="Arial"/>
                </a:rPr>
                <a:t>8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27720" y="892080"/>
              <a:ext cx="1927440" cy="698400"/>
            </a:xfrm>
            <a:custGeom>
              <a:avLst/>
              <a:gdLst/>
              <a:ahLst/>
              <a:rect l="0" t="0" r="r" b="b"/>
              <a:pathLst>
                <a:path fill="none" w="5354" h="1940">
                  <a:moveTo>
                    <a:pt x="5354" y="0"/>
                  </a:moveTo>
                  <a:lnTo>
                    <a:pt x="5354" y="0"/>
                  </a:lnTo>
                  <a:lnTo>
                    <a:pt x="5353" y="0"/>
                  </a:lnTo>
                  <a:cubicBezTo>
                    <a:pt x="3886" y="0"/>
                    <a:pt x="2444" y="387"/>
                    <a:pt x="1173" y="1121"/>
                  </a:cubicBezTo>
                  <a:cubicBezTo>
                    <a:pt x="759" y="1360"/>
                    <a:pt x="367" y="1634"/>
                    <a:pt x="0" y="1940"/>
                  </a:cubicBezTo>
                </a:path>
              </a:pathLst>
            </a:custGeom>
            <a:ln w="12600">
              <a:solidFill>
                <a:srgbClr val="114ffb"/>
              </a:solidFill>
              <a:round/>
              <a:headEnd len="med" type="triangle" w="med"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5032440" y="955800"/>
              <a:ext cx="668160" cy="324000"/>
            </a:xfrm>
            <a:prstGeom prst="rect">
              <a:avLst/>
            </a:prstGeom>
            <a:solidFill>
              <a:srgbClr val="114ffb"/>
            </a:solidFill>
            <a:ln w="12600">
              <a:solidFill>
                <a:srgbClr val="114ffb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8X 4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00520" y="1049400"/>
              <a:ext cx="50760" cy="5076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7475400" y="378000"/>
              <a:ext cx="8762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0.14  M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6997680" y="101520"/>
              <a:ext cx="13510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8X      7.9 - 8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23080" y="384120"/>
              <a:ext cx="2136600" cy="291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6835680" y="396720"/>
              <a:ext cx="279360" cy="292320"/>
              <a:chOff x="6835680" y="396720"/>
              <a:chExt cx="279360" cy="292320"/>
            </a:xfrm>
          </p:grpSpPr>
          <p:sp>
            <p:nvSpPr>
              <p:cNvPr id="136" name=""/>
              <p:cNvSpPr/>
              <p:nvPr/>
            </p:nvSpPr>
            <p:spPr>
              <a:xfrm>
                <a:off x="6886440" y="447840"/>
                <a:ext cx="177840" cy="17784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975360" y="396720"/>
                <a:ext cx="0" cy="29232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35680" y="536400"/>
                <a:ext cx="279360" cy="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7140600" y="384120"/>
              <a:ext cx="0" cy="2923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74040" y="384120"/>
              <a:ext cx="0" cy="2923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29720" y="409680"/>
              <a:ext cx="241200" cy="24120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20240" y="384120"/>
              <a:ext cx="0" cy="2923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8292960" y="365040"/>
              <a:ext cx="727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A C 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683560" y="398520"/>
              <a:ext cx="241200" cy="24120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5202360" y="6062760"/>
              <a:ext cx="739800" cy="79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02400" y="6070680"/>
              <a:ext cx="10717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03720" y="6518160"/>
              <a:ext cx="26319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502400" y="6492960"/>
              <a:ext cx="12099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981760" y="5961240"/>
              <a:ext cx="190440" cy="196560"/>
              <a:chOff x="5981760" y="5961240"/>
              <a:chExt cx="190440" cy="196560"/>
            </a:xfrm>
          </p:grpSpPr>
          <p:sp>
            <p:nvSpPr>
              <p:cNvPr id="150" name=""/>
              <p:cNvSpPr/>
              <p:nvPr/>
            </p:nvSpPr>
            <p:spPr>
              <a:xfrm>
                <a:off x="5997600" y="5985000"/>
                <a:ext cx="152280" cy="15732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5981760" y="5961240"/>
                <a:ext cx="190440" cy="19656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 txBox="1"/>
            <p:nvPr/>
          </p:nvSpPr>
          <p:spPr>
            <a:xfrm>
              <a:off x="6129360" y="5811840"/>
              <a:ext cx="5302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57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56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7058160" y="6288120"/>
              <a:ext cx="48096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9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6891480" y="6418440"/>
              <a:ext cx="190440" cy="196560"/>
              <a:chOff x="6891480" y="6418440"/>
              <a:chExt cx="190440" cy="196560"/>
            </a:xfrm>
          </p:grpSpPr>
          <p:sp>
            <p:nvSpPr>
              <p:cNvPr id="155" name=""/>
              <p:cNvSpPr/>
              <p:nvPr/>
            </p:nvSpPr>
            <p:spPr>
              <a:xfrm>
                <a:off x="6907320" y="6442200"/>
                <a:ext cx="152280" cy="15732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6891480" y="6418440"/>
                <a:ext cx="190440" cy="19656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2708280" y="2962440"/>
              <a:ext cx="0" cy="9651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55840" y="2816280"/>
              <a:ext cx="0" cy="12762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77800" y="6256440"/>
              <a:ext cx="419040" cy="4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68440" y="6256440"/>
              <a:ext cx="795240" cy="4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82720" y="5803920"/>
              <a:ext cx="75240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30320" y="5803920"/>
              <a:ext cx="32400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25440" y="5275440"/>
              <a:ext cx="25740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40040" y="5294160"/>
              <a:ext cx="31428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11440" y="4651200"/>
              <a:ext cx="3333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54320" y="4651200"/>
              <a:ext cx="3333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2552760" y="4392720"/>
              <a:ext cx="43164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9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9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1452600" y="5040360"/>
              <a:ext cx="5302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25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25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1581120" y="5545080"/>
              <a:ext cx="3826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3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3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928800" y="6026040"/>
              <a:ext cx="5302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41.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41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63520" y="2274840"/>
              <a:ext cx="61920" cy="619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16080" y="2684520"/>
              <a:ext cx="66600" cy="666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1216080" y="4159080"/>
              <a:ext cx="60120" cy="540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1158840" y="4570560"/>
              <a:ext cx="61920" cy="619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957240" y="4302000"/>
              <a:ext cx="58680" cy="540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2711520" y="1898640"/>
              <a:ext cx="0" cy="1066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01800" y="1898640"/>
              <a:ext cx="18108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7164360" y="422280"/>
              <a:ext cx="204840" cy="193680"/>
              <a:chOff x="7164360" y="422280"/>
              <a:chExt cx="204840" cy="193680"/>
            </a:xfrm>
          </p:grpSpPr>
          <p:sp>
            <p:nvSpPr>
              <p:cNvPr id="179" name=""/>
              <p:cNvSpPr/>
              <p:nvPr/>
            </p:nvSpPr>
            <p:spPr>
              <a:xfrm>
                <a:off x="7180200" y="446040"/>
                <a:ext cx="165240" cy="15552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7164360" y="422280"/>
                <a:ext cx="204840" cy="19368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7340760" y="184320"/>
              <a:ext cx="163440" cy="155520"/>
              <a:chOff x="7340760" y="184320"/>
              <a:chExt cx="163440" cy="155520"/>
            </a:xfrm>
          </p:grpSpPr>
          <p:sp>
            <p:nvSpPr>
              <p:cNvPr id="182" name=""/>
              <p:cNvSpPr/>
              <p:nvPr/>
            </p:nvSpPr>
            <p:spPr>
              <a:xfrm>
                <a:off x="7353360" y="203040"/>
                <a:ext cx="131760" cy="12528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7340760" y="184320"/>
                <a:ext cx="163440" cy="15552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2940120" y="1822320"/>
              <a:ext cx="204840" cy="193680"/>
              <a:chOff x="2940120" y="1822320"/>
              <a:chExt cx="204840" cy="193680"/>
            </a:xfrm>
          </p:grpSpPr>
          <p:sp>
            <p:nvSpPr>
              <p:cNvPr id="185" name=""/>
              <p:cNvSpPr/>
              <p:nvPr/>
            </p:nvSpPr>
            <p:spPr>
              <a:xfrm>
                <a:off x="2955960" y="1846440"/>
                <a:ext cx="165240" cy="15552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2940120" y="1822320"/>
                <a:ext cx="204840" cy="19368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 txBox="1"/>
            <p:nvPr/>
          </p:nvSpPr>
          <p:spPr>
            <a:xfrm>
              <a:off x="3124080" y="1768320"/>
              <a:ext cx="12319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20.00 - 20.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59120" y="2103480"/>
              <a:ext cx="1278000" cy="2714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2970360" y="2136600"/>
              <a:ext cx="199800" cy="2001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59080" y="2103480"/>
              <a:ext cx="0" cy="2714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3213000" y="2095560"/>
              <a:ext cx="5302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0.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30680" y="2111400"/>
              <a:ext cx="0" cy="2602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3683160" y="2089080"/>
              <a:ext cx="3031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933720" y="2111400"/>
              <a:ext cx="0" cy="2602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3886200" y="2095560"/>
              <a:ext cx="3128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413160" y="2381400"/>
              <a:ext cx="146520" cy="152640"/>
            </a:xfrm>
            <a:custGeom>
              <a:avLst/>
              <a:gdLst/>
              <a:ahLst/>
              <a:rect l="0" t="0" r="r" b="b"/>
              <a:pathLst>
                <a:path fill="none" w="407" h="424">
                  <a:moveTo>
                    <a:pt x="407" y="0"/>
                  </a:moveTo>
                  <a:lnTo>
                    <a:pt x="0" y="0"/>
                  </a:lnTo>
                  <a:lnTo>
                    <a:pt x="203" y="424"/>
                  </a:lnTo>
                  <a:lnTo>
                    <a:pt x="407" y="0"/>
                  </a:lnTo>
                </a:path>
              </a:pathLst>
            </a:custGeom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497400" y="2516040"/>
              <a:ext cx="0" cy="1969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505320" y="2716200"/>
              <a:ext cx="1713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76680" y="2581200"/>
              <a:ext cx="260280" cy="26028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3641760" y="2558880"/>
              <a:ext cx="3031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49320" y="2549520"/>
              <a:ext cx="63360" cy="633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1787400" y="892080"/>
              <a:ext cx="895320" cy="17780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73360" y="892080"/>
              <a:ext cx="2667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>
              <a:off x="2898720" y="723960"/>
              <a:ext cx="13510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M42 X 1.5 - 6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65320" y="982800"/>
              <a:ext cx="1625760" cy="29988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2998800" y="985680"/>
              <a:ext cx="279360" cy="292320"/>
              <a:chOff x="2998800" y="985680"/>
              <a:chExt cx="279360" cy="292320"/>
            </a:xfrm>
          </p:grpSpPr>
          <p:sp>
            <p:nvSpPr>
              <p:cNvPr id="207" name=""/>
              <p:cNvSpPr/>
              <p:nvPr/>
            </p:nvSpPr>
            <p:spPr>
              <a:xfrm>
                <a:off x="3049560" y="1036800"/>
                <a:ext cx="177840" cy="17784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38480" y="985680"/>
                <a:ext cx="0" cy="29232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998800" y="1125360"/>
                <a:ext cx="279360" cy="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3321000" y="981000"/>
              <a:ext cx="0" cy="2923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3355920" y="1035000"/>
              <a:ext cx="204840" cy="193680"/>
              <a:chOff x="3355920" y="1035000"/>
              <a:chExt cx="204840" cy="193680"/>
            </a:xfrm>
          </p:grpSpPr>
          <p:sp>
            <p:nvSpPr>
              <p:cNvPr id="212" name=""/>
              <p:cNvSpPr/>
              <p:nvPr/>
            </p:nvSpPr>
            <p:spPr>
              <a:xfrm>
                <a:off x="3371760" y="1058760"/>
                <a:ext cx="165240" cy="15552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3355920" y="1035000"/>
                <a:ext cx="204840" cy="19368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 txBox="1"/>
            <p:nvPr/>
          </p:nvSpPr>
          <p:spPr>
            <a:xfrm>
              <a:off x="3540240" y="996840"/>
              <a:ext cx="10936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0.1 M  B 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351320" y="1046160"/>
              <a:ext cx="210960" cy="19224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98800" y="1035000"/>
              <a:ext cx="210960" cy="19044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33880" y="981000"/>
              <a:ext cx="0" cy="2923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1216080" y="565200"/>
              <a:ext cx="0" cy="16858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1501920" y="1289160"/>
              <a:ext cx="0" cy="13618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1006560" y="870120"/>
              <a:ext cx="0" cy="16477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596880" y="879480"/>
              <a:ext cx="0" cy="5810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16080" y="555480"/>
              <a:ext cx="1019160" cy="21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1273320" y="593640"/>
              <a:ext cx="104760" cy="1429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359000" y="593640"/>
              <a:ext cx="104760" cy="1429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49440" y="555480"/>
              <a:ext cx="0" cy="2192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1504800" y="520560"/>
              <a:ext cx="7477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0.06 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06640" y="555480"/>
              <a:ext cx="0" cy="2192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01920" y="1384200"/>
              <a:ext cx="3333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1035000" y="1384200"/>
              <a:ext cx="18108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06560" y="974880"/>
              <a:ext cx="1807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349200" y="974880"/>
              <a:ext cx="24768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1800360" y="1158840"/>
              <a:ext cx="43164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6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6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 txBox="1"/>
            <p:nvPr/>
          </p:nvSpPr>
          <p:spPr>
            <a:xfrm>
              <a:off x="581040" y="711360"/>
              <a:ext cx="43164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9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9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101520" y="2556000"/>
              <a:ext cx="4381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92160" y="4356000"/>
              <a:ext cx="4381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87200" y="2556000"/>
              <a:ext cx="0" cy="3618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6920" y="3384720"/>
              <a:ext cx="0" cy="9712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0" y="2892600"/>
              <a:ext cx="62856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44.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44.4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187200" y="136440"/>
              <a:ext cx="0" cy="24004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87200" y="127080"/>
              <a:ext cx="1380960" cy="24768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0760" y="165240"/>
              <a:ext cx="0" cy="1616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80" y="326880"/>
              <a:ext cx="1807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2760" y="127080"/>
              <a:ext cx="0" cy="247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01480" y="146160"/>
              <a:ext cx="204840" cy="193680"/>
              <a:chOff x="501480" y="146160"/>
              <a:chExt cx="204840" cy="193680"/>
            </a:xfrm>
          </p:grpSpPr>
          <p:sp>
            <p:nvSpPr>
              <p:cNvPr id="245" name=""/>
              <p:cNvSpPr/>
              <p:nvPr/>
            </p:nvSpPr>
            <p:spPr>
              <a:xfrm>
                <a:off x="517680" y="169920"/>
                <a:ext cx="165240" cy="15552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501480" y="146160"/>
                <a:ext cx="204840" cy="19368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"/>
            <p:cNvSpPr txBox="1"/>
            <p:nvPr/>
          </p:nvSpPr>
          <p:spPr>
            <a:xfrm>
              <a:off x="657360" y="101520"/>
              <a:ext cx="944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0.08 M 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111320" y="146160"/>
              <a:ext cx="200160" cy="20016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68360" y="127080"/>
              <a:ext cx="0" cy="247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968400" y="374760"/>
              <a:ext cx="133560" cy="152640"/>
            </a:xfrm>
            <a:custGeom>
              <a:avLst/>
              <a:gdLst/>
              <a:ahLst/>
              <a:rect l="0" t="0" r="r" b="b"/>
              <a:pathLst>
                <a:path fill="none" w="371" h="424">
                  <a:moveTo>
                    <a:pt x="371" y="0"/>
                  </a:moveTo>
                  <a:lnTo>
                    <a:pt x="0" y="0"/>
                  </a:lnTo>
                  <a:lnTo>
                    <a:pt x="186" y="424"/>
                  </a:lnTo>
                  <a:lnTo>
                    <a:pt x="371" y="0"/>
                  </a:lnTo>
                </a:path>
              </a:pathLst>
            </a:custGeom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35000" y="527040"/>
              <a:ext cx="0" cy="1144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596880" y="641520"/>
              <a:ext cx="4381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9200" y="507960"/>
              <a:ext cx="247680" cy="24768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314280" y="492120"/>
              <a:ext cx="3128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34880" y="5899320"/>
              <a:ext cx="152640" cy="133560"/>
            </a:xfrm>
            <a:custGeom>
              <a:avLst/>
              <a:gdLst/>
              <a:ahLst/>
              <a:rect l="0" t="0" r="r" b="b"/>
              <a:pathLst>
                <a:path fill="none" w="424" h="371">
                  <a:moveTo>
                    <a:pt x="424" y="371"/>
                  </a:moveTo>
                  <a:lnTo>
                    <a:pt x="424" y="0"/>
                  </a:lnTo>
                  <a:lnTo>
                    <a:pt x="0" y="186"/>
                  </a:lnTo>
                  <a:lnTo>
                    <a:pt x="424" y="371"/>
                  </a:lnTo>
                </a:path>
              </a:pathLst>
            </a:custGeom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320760" y="5965920"/>
              <a:ext cx="12384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3360" y="5842080"/>
              <a:ext cx="247680" cy="24768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38160" y="5807160"/>
              <a:ext cx="322200" cy="32400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87520" y="6566040"/>
              <a:ext cx="1000080" cy="22860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5320" y="6613560"/>
              <a:ext cx="324360" cy="124200"/>
            </a:xfrm>
            <a:custGeom>
              <a:avLst/>
              <a:gdLst/>
              <a:ahLst/>
              <a:rect l="0" t="0" r="r" b="b"/>
              <a:pathLst>
                <a:path fill="none" w="901" h="345">
                  <a:moveTo>
                    <a:pt x="0" y="345"/>
                  </a:moveTo>
                  <a:lnTo>
                    <a:pt x="630" y="345"/>
                  </a:lnTo>
                  <a:lnTo>
                    <a:pt x="901" y="0"/>
                  </a:lnTo>
                  <a:lnTo>
                    <a:pt x="270" y="0"/>
                  </a:lnTo>
                  <a:lnTo>
                    <a:pt x="0" y="345"/>
                  </a:lnTo>
                </a:path>
              </a:pathLst>
            </a:custGeom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25640" y="6566040"/>
              <a:ext cx="0" cy="2286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1019160" y="6540480"/>
              <a:ext cx="5302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0.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2251080" y="2816280"/>
              <a:ext cx="0" cy="12636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600120" y="1514520"/>
              <a:ext cx="139680" cy="139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777960" y="1527120"/>
              <a:ext cx="114120" cy="1144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00120" y="1933560"/>
              <a:ext cx="114120" cy="1144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00120" y="1971720"/>
              <a:ext cx="266760" cy="2667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600120" y="2136600"/>
              <a:ext cx="279360" cy="2797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676440" y="2276640"/>
              <a:ext cx="279360" cy="2793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853920" y="2276640"/>
              <a:ext cx="279720" cy="2793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993600" y="2390760"/>
              <a:ext cx="216000" cy="2160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1006560" y="2568600"/>
              <a:ext cx="203040" cy="2030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1006560" y="2708280"/>
              <a:ext cx="228600" cy="2286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1158840" y="2746440"/>
              <a:ext cx="216000" cy="2160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1336680" y="2682720"/>
              <a:ext cx="279360" cy="2797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1514520" y="2682720"/>
              <a:ext cx="279360" cy="2797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1679400" y="2682720"/>
              <a:ext cx="279720" cy="2797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857240" y="2784600"/>
              <a:ext cx="177840" cy="1778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2035080" y="2822400"/>
              <a:ext cx="139680" cy="1400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2212920" y="2936880"/>
              <a:ext cx="25560" cy="255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600120" y="4359240"/>
              <a:ext cx="114120" cy="1144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00120" y="4359240"/>
              <a:ext cx="304920" cy="3049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1006560" y="3940200"/>
              <a:ext cx="304560" cy="3049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1006560" y="3940200"/>
              <a:ext cx="114120" cy="1141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12720" y="4232160"/>
              <a:ext cx="609480" cy="6098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298520" y="3940200"/>
              <a:ext cx="203400" cy="2030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663480" y="4765680"/>
              <a:ext cx="216000" cy="2160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1019160" y="4422600"/>
              <a:ext cx="203040" cy="2034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1501920" y="3940200"/>
              <a:ext cx="215640" cy="2160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828720" y="4930920"/>
              <a:ext cx="50760" cy="507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616040" y="3940200"/>
              <a:ext cx="279360" cy="2793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1806480" y="3940200"/>
              <a:ext cx="292320" cy="2919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2136600" y="3990960"/>
              <a:ext cx="101880" cy="1015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638280" y="5261040"/>
              <a:ext cx="126720" cy="1270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816120" y="5324400"/>
              <a:ext cx="63360" cy="637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59080" y="4084560"/>
              <a:ext cx="0" cy="7873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59080" y="4870440"/>
              <a:ext cx="1173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3422520" y="4789440"/>
              <a:ext cx="204840" cy="193680"/>
              <a:chOff x="3422520" y="4789440"/>
              <a:chExt cx="204840" cy="193680"/>
            </a:xfrm>
          </p:grpSpPr>
          <p:sp>
            <p:nvSpPr>
              <p:cNvPr id="299" name=""/>
              <p:cNvSpPr/>
              <p:nvPr/>
            </p:nvSpPr>
            <p:spPr>
              <a:xfrm>
                <a:off x="3438360" y="4813200"/>
                <a:ext cx="165240" cy="15552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3422520" y="4789440"/>
                <a:ext cx="204840" cy="19368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 txBox="1"/>
            <p:nvPr/>
          </p:nvSpPr>
          <p:spPr>
            <a:xfrm>
              <a:off x="3603600" y="4630680"/>
              <a:ext cx="5302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31.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31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00400" y="5129280"/>
              <a:ext cx="939960" cy="291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3276720" y="5167440"/>
              <a:ext cx="215640" cy="2156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543480" y="5129280"/>
              <a:ext cx="0" cy="2919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3514680" y="5138640"/>
              <a:ext cx="431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0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 txBox="1"/>
            <p:nvPr/>
          </p:nvSpPr>
          <p:spPr>
            <a:xfrm>
              <a:off x="3895560" y="5126040"/>
              <a:ext cx="3031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98800" y="5129280"/>
              <a:ext cx="0" cy="2919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57440" y="6496200"/>
              <a:ext cx="19447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47840" y="4168800"/>
              <a:ext cx="0" cy="22352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 txBox="1"/>
          <p:nvPr/>
        </p:nvSpPr>
        <p:spPr>
          <a:xfrm>
            <a:off x="662040" y="22860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IRCULA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3286080" y="1581120"/>
            <a:ext cx="4948200" cy="1381320"/>
            <a:chOff x="3286080" y="1581120"/>
            <a:chExt cx="4948200" cy="1381320"/>
          </a:xfrm>
        </p:grpSpPr>
        <p:sp>
          <p:nvSpPr>
            <p:cNvPr id="907" name=""/>
            <p:cNvSpPr/>
            <p:nvPr/>
          </p:nvSpPr>
          <p:spPr>
            <a:xfrm>
              <a:off x="3476520" y="1785960"/>
              <a:ext cx="1000080" cy="10000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524560" y="1785960"/>
              <a:ext cx="2452680" cy="1000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9" name=""/>
            <p:cNvGrpSpPr/>
            <p:nvPr/>
          </p:nvGrpSpPr>
          <p:grpSpPr>
            <a:xfrm>
              <a:off x="3286080" y="2281320"/>
              <a:ext cx="1428840" cy="0"/>
              <a:chOff x="3286080" y="2281320"/>
              <a:chExt cx="1428840" cy="0"/>
            </a:xfrm>
          </p:grpSpPr>
          <p:sp>
            <p:nvSpPr>
              <p:cNvPr id="910" name=""/>
              <p:cNvSpPr/>
              <p:nvPr/>
            </p:nvSpPr>
            <p:spPr>
              <a:xfrm>
                <a:off x="3286080" y="2281320"/>
                <a:ext cx="50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895560" y="2281320"/>
                <a:ext cx="171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191120" y="2281320"/>
                <a:ext cx="523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3" name=""/>
            <p:cNvGrpSpPr/>
            <p:nvPr/>
          </p:nvGrpSpPr>
          <p:grpSpPr>
            <a:xfrm>
              <a:off x="5291280" y="2279520"/>
              <a:ext cx="2943000" cy="0"/>
              <a:chOff x="5291280" y="2279520"/>
              <a:chExt cx="2943000" cy="0"/>
            </a:xfrm>
          </p:grpSpPr>
          <p:sp>
            <p:nvSpPr>
              <p:cNvPr id="914" name=""/>
              <p:cNvSpPr/>
              <p:nvPr/>
            </p:nvSpPr>
            <p:spPr>
              <a:xfrm>
                <a:off x="5291280" y="2279520"/>
                <a:ext cx="1314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6729480" y="2279520"/>
                <a:ext cx="133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6986520" y="2279520"/>
                <a:ext cx="905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891560" y="2279520"/>
                <a:ext cx="34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8" name=""/>
            <p:cNvSpPr/>
            <p:nvPr/>
          </p:nvSpPr>
          <p:spPr>
            <a:xfrm>
              <a:off x="3976560" y="1581120"/>
              <a:ext cx="0" cy="523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976560" y="2190600"/>
              <a:ext cx="0" cy="171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976560" y="2438280"/>
              <a:ext cx="0" cy="524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1" name=""/>
          <p:cNvSpPr/>
          <p:nvPr/>
        </p:nvSpPr>
        <p:spPr>
          <a:xfrm>
            <a:off x="5435640" y="3965400"/>
            <a:ext cx="1714680" cy="1714680"/>
          </a:xfrm>
          <a:prstGeom prst="ellipse">
            <a:avLst/>
          </a:prstGeom>
          <a:noFill/>
          <a:ln w="12600">
            <a:solidFill>
              <a:srgbClr val="fafd00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5591160" y="4127400"/>
            <a:ext cx="1405080" cy="1405080"/>
          </a:xfrm>
          <a:prstGeom prst="ellipse">
            <a:avLst/>
          </a:prstGeom>
          <a:noFill/>
          <a:ln w="12600">
            <a:solidFill>
              <a:srgbClr val="fafd00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932040" y="4368960"/>
            <a:ext cx="330372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ule #1 size limits establ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 boundary, defined by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centric circles--equal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ize to the upper and 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mits of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6286680" y="3857760"/>
            <a:ext cx="0" cy="20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6286680" y="3524400"/>
            <a:ext cx="0" cy="16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6286680" y="1380960"/>
            <a:ext cx="0" cy="1928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286680" y="2104920"/>
            <a:ext cx="171360" cy="171360"/>
          </a:xfrm>
          <a:prstGeom prst="rect">
            <a:avLst/>
          </a:prstGeom>
          <a:solidFill>
            <a:srgbClr val="a2c1f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2805120" y="2647800"/>
            <a:ext cx="833400" cy="835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2476440" y="3487680"/>
            <a:ext cx="330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1397160" y="3392640"/>
            <a:ext cx="206280" cy="206280"/>
            <a:chOff x="1397160" y="3392640"/>
            <a:chExt cx="206280" cy="206280"/>
          </a:xfrm>
        </p:grpSpPr>
        <p:sp>
          <p:nvSpPr>
            <p:cNvPr id="931" name=""/>
            <p:cNvSpPr/>
            <p:nvPr/>
          </p:nvSpPr>
          <p:spPr>
            <a:xfrm>
              <a:off x="1405080" y="3403440"/>
              <a:ext cx="190440" cy="192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1397160" y="3392640"/>
              <a:ext cx="206280" cy="206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3" name=""/>
          <p:cNvSpPr txBox="1"/>
          <p:nvPr/>
        </p:nvSpPr>
        <p:spPr>
          <a:xfrm>
            <a:off x="1622520" y="3178080"/>
            <a:ext cx="677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0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0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6438960" y="3200400"/>
            <a:ext cx="123840" cy="781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562800" y="3200400"/>
            <a:ext cx="285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6815160" y="3886200"/>
            <a:ext cx="504720" cy="5047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7319880" y="3886200"/>
            <a:ext cx="314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7256520" y="3044880"/>
            <a:ext cx="677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10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8023320" y="3701880"/>
            <a:ext cx="677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10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6954840" y="3092400"/>
            <a:ext cx="206280" cy="206280"/>
            <a:chOff x="6954840" y="3092400"/>
            <a:chExt cx="206280" cy="206280"/>
          </a:xfrm>
        </p:grpSpPr>
        <p:sp>
          <p:nvSpPr>
            <p:cNvPr id="941" name=""/>
            <p:cNvSpPr/>
            <p:nvPr/>
          </p:nvSpPr>
          <p:spPr>
            <a:xfrm>
              <a:off x="6962760" y="3103560"/>
              <a:ext cx="190440" cy="19224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flipH="1">
              <a:off x="6954840" y="3092400"/>
              <a:ext cx="206280" cy="2062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7764480" y="3782880"/>
            <a:ext cx="206280" cy="206640"/>
            <a:chOff x="7764480" y="3782880"/>
            <a:chExt cx="206280" cy="206640"/>
          </a:xfrm>
        </p:grpSpPr>
        <p:sp>
          <p:nvSpPr>
            <p:cNvPr id="944" name=""/>
            <p:cNvSpPr/>
            <p:nvPr/>
          </p:nvSpPr>
          <p:spPr>
            <a:xfrm>
              <a:off x="7772400" y="3794040"/>
              <a:ext cx="190440" cy="19224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7764480" y="3782880"/>
              <a:ext cx="206280" cy="20664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5283360" y="4819680"/>
            <a:ext cx="2070000" cy="0"/>
            <a:chOff x="5283360" y="4819680"/>
            <a:chExt cx="2070000" cy="0"/>
          </a:xfrm>
        </p:grpSpPr>
        <p:sp>
          <p:nvSpPr>
            <p:cNvPr id="947" name=""/>
            <p:cNvSpPr/>
            <p:nvPr/>
          </p:nvSpPr>
          <p:spPr>
            <a:xfrm>
              <a:off x="5283360" y="4819680"/>
              <a:ext cx="846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235560" y="48196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416640" y="4819680"/>
              <a:ext cx="936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662040" y="22860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IRCULA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3286080" y="1581120"/>
            <a:ext cx="4948200" cy="1381320"/>
            <a:chOff x="3286080" y="1581120"/>
            <a:chExt cx="4948200" cy="1381320"/>
          </a:xfrm>
        </p:grpSpPr>
        <p:sp>
          <p:nvSpPr>
            <p:cNvPr id="952" name=""/>
            <p:cNvSpPr/>
            <p:nvPr/>
          </p:nvSpPr>
          <p:spPr>
            <a:xfrm>
              <a:off x="3476520" y="1785960"/>
              <a:ext cx="1000080" cy="10000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524560" y="1785960"/>
              <a:ext cx="2452680" cy="1000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3286080" y="2281320"/>
              <a:ext cx="1428840" cy="0"/>
              <a:chOff x="3286080" y="2281320"/>
              <a:chExt cx="1428840" cy="0"/>
            </a:xfrm>
          </p:grpSpPr>
          <p:sp>
            <p:nvSpPr>
              <p:cNvPr id="955" name=""/>
              <p:cNvSpPr/>
              <p:nvPr/>
            </p:nvSpPr>
            <p:spPr>
              <a:xfrm>
                <a:off x="3286080" y="2281320"/>
                <a:ext cx="50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3895560" y="2281320"/>
                <a:ext cx="171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191120" y="2281320"/>
                <a:ext cx="523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8" name=""/>
            <p:cNvGrpSpPr/>
            <p:nvPr/>
          </p:nvGrpSpPr>
          <p:grpSpPr>
            <a:xfrm>
              <a:off x="5291280" y="2279520"/>
              <a:ext cx="2943000" cy="0"/>
              <a:chOff x="5291280" y="2279520"/>
              <a:chExt cx="2943000" cy="0"/>
            </a:xfrm>
          </p:grpSpPr>
          <p:sp>
            <p:nvSpPr>
              <p:cNvPr id="959" name=""/>
              <p:cNvSpPr/>
              <p:nvPr/>
            </p:nvSpPr>
            <p:spPr>
              <a:xfrm>
                <a:off x="5291280" y="2279520"/>
                <a:ext cx="1314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729480" y="2279520"/>
                <a:ext cx="133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986520" y="2279520"/>
                <a:ext cx="905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7891560" y="2279520"/>
                <a:ext cx="34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3" name=""/>
            <p:cNvSpPr/>
            <p:nvPr/>
          </p:nvSpPr>
          <p:spPr>
            <a:xfrm>
              <a:off x="3976560" y="1581120"/>
              <a:ext cx="0" cy="523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976560" y="2190600"/>
              <a:ext cx="0" cy="171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976560" y="2438280"/>
              <a:ext cx="0" cy="524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5435640" y="3965400"/>
            <a:ext cx="1714680" cy="1714680"/>
          </a:xfrm>
          <a:prstGeom prst="ellipse">
            <a:avLst/>
          </a:prstGeom>
          <a:noFill/>
          <a:ln w="12600">
            <a:solidFill>
              <a:srgbClr val="fafd00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591160" y="4127400"/>
            <a:ext cx="1405080" cy="1405080"/>
          </a:xfrm>
          <a:prstGeom prst="ellipse">
            <a:avLst/>
          </a:prstGeom>
          <a:noFill/>
          <a:ln w="12600">
            <a:solidFill>
              <a:srgbClr val="fafd00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5743440" y="4983120"/>
            <a:ext cx="265320" cy="2653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4743360" y="5381640"/>
            <a:ext cx="885960" cy="8859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4743360" y="6267600"/>
            <a:ext cx="266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5070600" y="6087960"/>
            <a:ext cx="254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0.4 Annular D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6286680" y="3857760"/>
            <a:ext cx="0" cy="20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flipV="1">
            <a:off x="6286680" y="3524400"/>
            <a:ext cx="0" cy="16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V="1">
            <a:off x="6286680" y="1380960"/>
            <a:ext cx="0" cy="1928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6286680" y="2104920"/>
            <a:ext cx="171360" cy="171360"/>
          </a:xfrm>
          <a:prstGeom prst="rect">
            <a:avLst/>
          </a:prstGeom>
          <a:solidFill>
            <a:srgbClr val="a2c1f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2805120" y="2647800"/>
            <a:ext cx="833400" cy="835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2476440" y="3487680"/>
            <a:ext cx="330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1397160" y="3392640"/>
            <a:ext cx="206280" cy="206280"/>
            <a:chOff x="1397160" y="3392640"/>
            <a:chExt cx="206280" cy="206280"/>
          </a:xfrm>
        </p:grpSpPr>
        <p:sp>
          <p:nvSpPr>
            <p:cNvPr id="979" name=""/>
            <p:cNvSpPr/>
            <p:nvPr/>
          </p:nvSpPr>
          <p:spPr>
            <a:xfrm>
              <a:off x="1405080" y="3403440"/>
              <a:ext cx="190440" cy="192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1397160" y="3392640"/>
              <a:ext cx="206280" cy="206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1" name=""/>
          <p:cNvSpPr txBox="1"/>
          <p:nvPr/>
        </p:nvSpPr>
        <p:spPr>
          <a:xfrm>
            <a:off x="1622520" y="3178080"/>
            <a:ext cx="677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0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0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6438960" y="3200400"/>
            <a:ext cx="123840" cy="781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562800" y="3200400"/>
            <a:ext cx="285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 flipV="1">
            <a:off x="6815160" y="3886200"/>
            <a:ext cx="504720" cy="5047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7319880" y="3886200"/>
            <a:ext cx="314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7256520" y="3044880"/>
            <a:ext cx="677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10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8023320" y="3701880"/>
            <a:ext cx="677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10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6954840" y="3092400"/>
            <a:ext cx="206280" cy="206280"/>
            <a:chOff x="6954840" y="3092400"/>
            <a:chExt cx="206280" cy="206280"/>
          </a:xfrm>
        </p:grpSpPr>
        <p:sp>
          <p:nvSpPr>
            <p:cNvPr id="989" name=""/>
            <p:cNvSpPr/>
            <p:nvPr/>
          </p:nvSpPr>
          <p:spPr>
            <a:xfrm>
              <a:off x="6962760" y="3103560"/>
              <a:ext cx="190440" cy="19224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>
              <a:off x="6954840" y="3092400"/>
              <a:ext cx="206280" cy="2062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7764480" y="3782880"/>
            <a:ext cx="206280" cy="206640"/>
            <a:chOff x="7764480" y="3782880"/>
            <a:chExt cx="206280" cy="206640"/>
          </a:xfrm>
        </p:grpSpPr>
        <p:sp>
          <p:nvSpPr>
            <p:cNvPr id="992" name=""/>
            <p:cNvSpPr/>
            <p:nvPr/>
          </p:nvSpPr>
          <p:spPr>
            <a:xfrm>
              <a:off x="7772400" y="3794040"/>
              <a:ext cx="190440" cy="19224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7764480" y="3782880"/>
              <a:ext cx="206280" cy="20664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4" name=""/>
          <p:cNvSpPr txBox="1"/>
          <p:nvPr/>
        </p:nvSpPr>
        <p:spPr>
          <a:xfrm>
            <a:off x="932040" y="4368960"/>
            <a:ext cx="330372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ule #1 size limits establ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 boundary, defined by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centric circles--equal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ize to the upper and 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mits of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5283360" y="4819680"/>
            <a:ext cx="2070000" cy="0"/>
            <a:chOff x="5283360" y="4819680"/>
            <a:chExt cx="2070000" cy="0"/>
          </a:xfrm>
        </p:grpSpPr>
        <p:sp>
          <p:nvSpPr>
            <p:cNvPr id="996" name=""/>
            <p:cNvSpPr/>
            <p:nvPr/>
          </p:nvSpPr>
          <p:spPr>
            <a:xfrm>
              <a:off x="5283360" y="4819680"/>
              <a:ext cx="846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235560" y="48196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416640" y="4819680"/>
              <a:ext cx="936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 txBox="1"/>
          <p:nvPr/>
        </p:nvSpPr>
        <p:spPr>
          <a:xfrm>
            <a:off x="662040" y="22860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IRCULA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452920" y="4010040"/>
            <a:ext cx="1638720" cy="1567080"/>
          </a:xfrm>
          <a:custGeom>
            <a:avLst/>
            <a:gdLst/>
            <a:ahLst/>
            <a:rect l="0" t="0" r="r" b="b"/>
            <a:pathLst>
              <a:path w="4552" h="4353">
                <a:moveTo>
                  <a:pt x="2289" y="13"/>
                </a:moveTo>
                <a:lnTo>
                  <a:pt x="2249" y="13"/>
                </a:lnTo>
                <a:lnTo>
                  <a:pt x="2210" y="13"/>
                </a:lnTo>
                <a:lnTo>
                  <a:pt x="2170" y="26"/>
                </a:lnTo>
                <a:lnTo>
                  <a:pt x="2130" y="39"/>
                </a:lnTo>
                <a:lnTo>
                  <a:pt x="2091" y="52"/>
                </a:lnTo>
                <a:lnTo>
                  <a:pt x="2038" y="79"/>
                </a:lnTo>
                <a:lnTo>
                  <a:pt x="1998" y="79"/>
                </a:lnTo>
                <a:lnTo>
                  <a:pt x="1958" y="79"/>
                </a:lnTo>
                <a:lnTo>
                  <a:pt x="1919" y="79"/>
                </a:lnTo>
                <a:lnTo>
                  <a:pt x="1879" y="92"/>
                </a:lnTo>
                <a:lnTo>
                  <a:pt x="1826" y="105"/>
                </a:lnTo>
                <a:lnTo>
                  <a:pt x="1747" y="119"/>
                </a:lnTo>
                <a:lnTo>
                  <a:pt x="1707" y="132"/>
                </a:lnTo>
                <a:lnTo>
                  <a:pt x="1667" y="145"/>
                </a:lnTo>
                <a:lnTo>
                  <a:pt x="1614" y="158"/>
                </a:lnTo>
                <a:lnTo>
                  <a:pt x="1575" y="185"/>
                </a:lnTo>
                <a:lnTo>
                  <a:pt x="1495" y="198"/>
                </a:lnTo>
                <a:lnTo>
                  <a:pt x="1456" y="224"/>
                </a:lnTo>
                <a:lnTo>
                  <a:pt x="1403" y="238"/>
                </a:lnTo>
                <a:lnTo>
                  <a:pt x="1350" y="251"/>
                </a:lnTo>
                <a:lnTo>
                  <a:pt x="1297" y="277"/>
                </a:lnTo>
                <a:lnTo>
                  <a:pt x="1257" y="304"/>
                </a:lnTo>
                <a:lnTo>
                  <a:pt x="1204" y="330"/>
                </a:lnTo>
                <a:lnTo>
                  <a:pt x="1165" y="357"/>
                </a:lnTo>
                <a:lnTo>
                  <a:pt x="1124" y="396"/>
                </a:lnTo>
                <a:lnTo>
                  <a:pt x="1084" y="436"/>
                </a:lnTo>
                <a:lnTo>
                  <a:pt x="1045" y="463"/>
                </a:lnTo>
                <a:lnTo>
                  <a:pt x="1005" y="502"/>
                </a:lnTo>
                <a:lnTo>
                  <a:pt x="965" y="542"/>
                </a:lnTo>
                <a:lnTo>
                  <a:pt x="912" y="582"/>
                </a:lnTo>
                <a:lnTo>
                  <a:pt x="873" y="608"/>
                </a:lnTo>
                <a:lnTo>
                  <a:pt x="846" y="648"/>
                </a:lnTo>
                <a:lnTo>
                  <a:pt x="820" y="687"/>
                </a:lnTo>
                <a:lnTo>
                  <a:pt x="793" y="740"/>
                </a:lnTo>
                <a:lnTo>
                  <a:pt x="754" y="780"/>
                </a:lnTo>
                <a:lnTo>
                  <a:pt x="727" y="820"/>
                </a:lnTo>
                <a:lnTo>
                  <a:pt x="687" y="846"/>
                </a:lnTo>
                <a:lnTo>
                  <a:pt x="661" y="886"/>
                </a:lnTo>
                <a:lnTo>
                  <a:pt x="621" y="912"/>
                </a:lnTo>
                <a:lnTo>
                  <a:pt x="582" y="952"/>
                </a:lnTo>
                <a:lnTo>
                  <a:pt x="542" y="992"/>
                </a:lnTo>
                <a:lnTo>
                  <a:pt x="502" y="1031"/>
                </a:lnTo>
                <a:lnTo>
                  <a:pt x="449" y="1071"/>
                </a:lnTo>
                <a:lnTo>
                  <a:pt x="423" y="1111"/>
                </a:lnTo>
                <a:lnTo>
                  <a:pt x="396" y="1150"/>
                </a:lnTo>
                <a:lnTo>
                  <a:pt x="370" y="1190"/>
                </a:lnTo>
                <a:lnTo>
                  <a:pt x="343" y="1243"/>
                </a:lnTo>
                <a:lnTo>
                  <a:pt x="304" y="1296"/>
                </a:lnTo>
                <a:lnTo>
                  <a:pt x="211" y="1389"/>
                </a:lnTo>
                <a:lnTo>
                  <a:pt x="171" y="1415"/>
                </a:lnTo>
                <a:lnTo>
                  <a:pt x="145" y="1455"/>
                </a:lnTo>
                <a:lnTo>
                  <a:pt x="132" y="1494"/>
                </a:lnTo>
                <a:lnTo>
                  <a:pt x="119" y="1534"/>
                </a:lnTo>
                <a:lnTo>
                  <a:pt x="92" y="1574"/>
                </a:lnTo>
                <a:lnTo>
                  <a:pt x="79" y="1613"/>
                </a:lnTo>
                <a:lnTo>
                  <a:pt x="66" y="1653"/>
                </a:lnTo>
                <a:lnTo>
                  <a:pt x="52" y="1693"/>
                </a:lnTo>
                <a:lnTo>
                  <a:pt x="52" y="1733"/>
                </a:lnTo>
                <a:lnTo>
                  <a:pt x="39" y="1772"/>
                </a:lnTo>
                <a:lnTo>
                  <a:pt x="39" y="1825"/>
                </a:lnTo>
                <a:lnTo>
                  <a:pt x="39" y="1865"/>
                </a:lnTo>
                <a:lnTo>
                  <a:pt x="39" y="1918"/>
                </a:lnTo>
                <a:lnTo>
                  <a:pt x="26" y="2010"/>
                </a:lnTo>
                <a:lnTo>
                  <a:pt x="13" y="2063"/>
                </a:lnTo>
                <a:lnTo>
                  <a:pt x="0" y="2103"/>
                </a:lnTo>
                <a:lnTo>
                  <a:pt x="0" y="2143"/>
                </a:lnTo>
                <a:lnTo>
                  <a:pt x="0" y="2183"/>
                </a:lnTo>
                <a:lnTo>
                  <a:pt x="0" y="2223"/>
                </a:lnTo>
                <a:lnTo>
                  <a:pt x="0" y="2263"/>
                </a:lnTo>
                <a:lnTo>
                  <a:pt x="0" y="2302"/>
                </a:lnTo>
                <a:lnTo>
                  <a:pt x="13" y="2355"/>
                </a:lnTo>
                <a:lnTo>
                  <a:pt x="26" y="2395"/>
                </a:lnTo>
                <a:lnTo>
                  <a:pt x="39" y="2474"/>
                </a:lnTo>
                <a:lnTo>
                  <a:pt x="52" y="2527"/>
                </a:lnTo>
                <a:lnTo>
                  <a:pt x="66" y="2620"/>
                </a:lnTo>
                <a:lnTo>
                  <a:pt x="66" y="2660"/>
                </a:lnTo>
                <a:lnTo>
                  <a:pt x="92" y="2699"/>
                </a:lnTo>
                <a:lnTo>
                  <a:pt x="119" y="2739"/>
                </a:lnTo>
                <a:lnTo>
                  <a:pt x="132" y="2779"/>
                </a:lnTo>
                <a:lnTo>
                  <a:pt x="158" y="2818"/>
                </a:lnTo>
                <a:lnTo>
                  <a:pt x="185" y="2858"/>
                </a:lnTo>
                <a:lnTo>
                  <a:pt x="211" y="2911"/>
                </a:lnTo>
                <a:lnTo>
                  <a:pt x="224" y="2964"/>
                </a:lnTo>
                <a:lnTo>
                  <a:pt x="251" y="3070"/>
                </a:lnTo>
                <a:lnTo>
                  <a:pt x="264" y="3109"/>
                </a:lnTo>
                <a:lnTo>
                  <a:pt x="291" y="3162"/>
                </a:lnTo>
                <a:lnTo>
                  <a:pt x="304" y="3202"/>
                </a:lnTo>
                <a:lnTo>
                  <a:pt x="330" y="3242"/>
                </a:lnTo>
                <a:lnTo>
                  <a:pt x="343" y="3281"/>
                </a:lnTo>
                <a:lnTo>
                  <a:pt x="357" y="3321"/>
                </a:lnTo>
                <a:lnTo>
                  <a:pt x="370" y="3361"/>
                </a:lnTo>
                <a:lnTo>
                  <a:pt x="383" y="3400"/>
                </a:lnTo>
                <a:lnTo>
                  <a:pt x="410" y="3506"/>
                </a:lnTo>
                <a:lnTo>
                  <a:pt x="436" y="3546"/>
                </a:lnTo>
                <a:lnTo>
                  <a:pt x="449" y="3586"/>
                </a:lnTo>
                <a:lnTo>
                  <a:pt x="489" y="3612"/>
                </a:lnTo>
                <a:lnTo>
                  <a:pt x="529" y="3665"/>
                </a:lnTo>
                <a:lnTo>
                  <a:pt x="568" y="3705"/>
                </a:lnTo>
                <a:lnTo>
                  <a:pt x="621" y="3758"/>
                </a:lnTo>
                <a:lnTo>
                  <a:pt x="661" y="3771"/>
                </a:lnTo>
                <a:lnTo>
                  <a:pt x="701" y="3824"/>
                </a:lnTo>
                <a:lnTo>
                  <a:pt x="754" y="3850"/>
                </a:lnTo>
                <a:lnTo>
                  <a:pt x="886" y="3890"/>
                </a:lnTo>
                <a:lnTo>
                  <a:pt x="926" y="3903"/>
                </a:lnTo>
                <a:lnTo>
                  <a:pt x="965" y="3930"/>
                </a:lnTo>
                <a:lnTo>
                  <a:pt x="1005" y="3969"/>
                </a:lnTo>
                <a:lnTo>
                  <a:pt x="1045" y="3982"/>
                </a:lnTo>
                <a:lnTo>
                  <a:pt x="1098" y="4022"/>
                </a:lnTo>
                <a:lnTo>
                  <a:pt x="1178" y="4035"/>
                </a:lnTo>
                <a:lnTo>
                  <a:pt x="1218" y="4062"/>
                </a:lnTo>
                <a:lnTo>
                  <a:pt x="1297" y="4088"/>
                </a:lnTo>
                <a:lnTo>
                  <a:pt x="1403" y="4168"/>
                </a:lnTo>
                <a:lnTo>
                  <a:pt x="1456" y="4181"/>
                </a:lnTo>
                <a:lnTo>
                  <a:pt x="1495" y="4207"/>
                </a:lnTo>
                <a:lnTo>
                  <a:pt x="1535" y="4221"/>
                </a:lnTo>
                <a:lnTo>
                  <a:pt x="1641" y="4234"/>
                </a:lnTo>
                <a:lnTo>
                  <a:pt x="1694" y="4234"/>
                </a:lnTo>
                <a:lnTo>
                  <a:pt x="1786" y="4247"/>
                </a:lnTo>
                <a:lnTo>
                  <a:pt x="1826" y="4260"/>
                </a:lnTo>
                <a:lnTo>
                  <a:pt x="1958" y="4287"/>
                </a:lnTo>
                <a:lnTo>
                  <a:pt x="1998" y="4313"/>
                </a:lnTo>
                <a:lnTo>
                  <a:pt x="2104" y="4313"/>
                </a:lnTo>
                <a:lnTo>
                  <a:pt x="2157" y="4340"/>
                </a:lnTo>
                <a:lnTo>
                  <a:pt x="2197" y="4340"/>
                </a:lnTo>
                <a:lnTo>
                  <a:pt x="2276" y="4353"/>
                </a:lnTo>
                <a:lnTo>
                  <a:pt x="2329" y="4353"/>
                </a:lnTo>
                <a:lnTo>
                  <a:pt x="2369" y="4353"/>
                </a:lnTo>
                <a:lnTo>
                  <a:pt x="2408" y="4353"/>
                </a:lnTo>
                <a:lnTo>
                  <a:pt x="2461" y="4340"/>
                </a:lnTo>
                <a:lnTo>
                  <a:pt x="2501" y="4340"/>
                </a:lnTo>
                <a:lnTo>
                  <a:pt x="2554" y="4340"/>
                </a:lnTo>
                <a:lnTo>
                  <a:pt x="2633" y="4340"/>
                </a:lnTo>
                <a:lnTo>
                  <a:pt x="2739" y="4340"/>
                </a:lnTo>
                <a:lnTo>
                  <a:pt x="2779" y="4340"/>
                </a:lnTo>
                <a:lnTo>
                  <a:pt x="2818" y="4340"/>
                </a:lnTo>
                <a:lnTo>
                  <a:pt x="2858" y="4340"/>
                </a:lnTo>
                <a:lnTo>
                  <a:pt x="2898" y="4340"/>
                </a:lnTo>
                <a:lnTo>
                  <a:pt x="2937" y="4326"/>
                </a:lnTo>
                <a:lnTo>
                  <a:pt x="2977" y="4313"/>
                </a:lnTo>
                <a:lnTo>
                  <a:pt x="3017" y="4287"/>
                </a:lnTo>
                <a:lnTo>
                  <a:pt x="3123" y="4260"/>
                </a:lnTo>
                <a:lnTo>
                  <a:pt x="3162" y="4221"/>
                </a:lnTo>
                <a:lnTo>
                  <a:pt x="3202" y="4194"/>
                </a:lnTo>
                <a:lnTo>
                  <a:pt x="3242" y="4154"/>
                </a:lnTo>
                <a:lnTo>
                  <a:pt x="3281" y="4115"/>
                </a:lnTo>
                <a:lnTo>
                  <a:pt x="3321" y="4102"/>
                </a:lnTo>
                <a:lnTo>
                  <a:pt x="3361" y="4075"/>
                </a:lnTo>
                <a:lnTo>
                  <a:pt x="3415" y="4049"/>
                </a:lnTo>
                <a:lnTo>
                  <a:pt x="3454" y="4035"/>
                </a:lnTo>
                <a:lnTo>
                  <a:pt x="3507" y="4009"/>
                </a:lnTo>
                <a:lnTo>
                  <a:pt x="3547" y="4009"/>
                </a:lnTo>
                <a:lnTo>
                  <a:pt x="3626" y="3996"/>
                </a:lnTo>
                <a:lnTo>
                  <a:pt x="3666" y="3982"/>
                </a:lnTo>
                <a:lnTo>
                  <a:pt x="3772" y="3956"/>
                </a:lnTo>
                <a:lnTo>
                  <a:pt x="3812" y="3943"/>
                </a:lnTo>
                <a:lnTo>
                  <a:pt x="3851" y="3930"/>
                </a:lnTo>
                <a:lnTo>
                  <a:pt x="3891" y="3916"/>
                </a:lnTo>
                <a:lnTo>
                  <a:pt x="3931" y="3890"/>
                </a:lnTo>
                <a:lnTo>
                  <a:pt x="3970" y="3863"/>
                </a:lnTo>
                <a:lnTo>
                  <a:pt x="4023" y="3811"/>
                </a:lnTo>
                <a:lnTo>
                  <a:pt x="4076" y="3771"/>
                </a:lnTo>
                <a:lnTo>
                  <a:pt x="4116" y="3731"/>
                </a:lnTo>
                <a:lnTo>
                  <a:pt x="4155" y="3691"/>
                </a:lnTo>
                <a:lnTo>
                  <a:pt x="4182" y="3652"/>
                </a:lnTo>
                <a:lnTo>
                  <a:pt x="4208" y="3612"/>
                </a:lnTo>
                <a:lnTo>
                  <a:pt x="4222" y="3572"/>
                </a:lnTo>
                <a:lnTo>
                  <a:pt x="4222" y="3533"/>
                </a:lnTo>
                <a:lnTo>
                  <a:pt x="4222" y="3453"/>
                </a:lnTo>
                <a:lnTo>
                  <a:pt x="4248" y="3400"/>
                </a:lnTo>
                <a:lnTo>
                  <a:pt x="4261" y="3347"/>
                </a:lnTo>
                <a:lnTo>
                  <a:pt x="4275" y="3295"/>
                </a:lnTo>
                <a:lnTo>
                  <a:pt x="4288" y="3242"/>
                </a:lnTo>
                <a:lnTo>
                  <a:pt x="4301" y="3202"/>
                </a:lnTo>
                <a:lnTo>
                  <a:pt x="4327" y="3149"/>
                </a:lnTo>
                <a:lnTo>
                  <a:pt x="4367" y="3109"/>
                </a:lnTo>
                <a:lnTo>
                  <a:pt x="4407" y="3004"/>
                </a:lnTo>
                <a:lnTo>
                  <a:pt x="4433" y="2964"/>
                </a:lnTo>
                <a:lnTo>
                  <a:pt x="4447" y="2911"/>
                </a:lnTo>
                <a:lnTo>
                  <a:pt x="4473" y="2832"/>
                </a:lnTo>
                <a:lnTo>
                  <a:pt x="4486" y="2792"/>
                </a:lnTo>
                <a:lnTo>
                  <a:pt x="4499" y="2752"/>
                </a:lnTo>
                <a:lnTo>
                  <a:pt x="4513" y="2646"/>
                </a:lnTo>
                <a:lnTo>
                  <a:pt x="4526" y="2607"/>
                </a:lnTo>
                <a:lnTo>
                  <a:pt x="4526" y="2567"/>
                </a:lnTo>
                <a:lnTo>
                  <a:pt x="4539" y="2488"/>
                </a:lnTo>
                <a:lnTo>
                  <a:pt x="4539" y="2435"/>
                </a:lnTo>
                <a:lnTo>
                  <a:pt x="4552" y="2355"/>
                </a:lnTo>
                <a:lnTo>
                  <a:pt x="4552" y="2316"/>
                </a:lnTo>
                <a:lnTo>
                  <a:pt x="4552" y="2276"/>
                </a:lnTo>
                <a:lnTo>
                  <a:pt x="4552" y="2236"/>
                </a:lnTo>
                <a:lnTo>
                  <a:pt x="4552" y="2197"/>
                </a:lnTo>
                <a:lnTo>
                  <a:pt x="4552" y="2156"/>
                </a:lnTo>
                <a:lnTo>
                  <a:pt x="4552" y="2116"/>
                </a:lnTo>
                <a:lnTo>
                  <a:pt x="4526" y="2076"/>
                </a:lnTo>
                <a:lnTo>
                  <a:pt x="4526" y="2037"/>
                </a:lnTo>
                <a:lnTo>
                  <a:pt x="4513" y="1997"/>
                </a:lnTo>
                <a:lnTo>
                  <a:pt x="4499" y="1957"/>
                </a:lnTo>
                <a:lnTo>
                  <a:pt x="4499" y="1918"/>
                </a:lnTo>
                <a:lnTo>
                  <a:pt x="4486" y="1878"/>
                </a:lnTo>
                <a:lnTo>
                  <a:pt x="4473" y="1785"/>
                </a:lnTo>
                <a:lnTo>
                  <a:pt x="4460" y="1733"/>
                </a:lnTo>
                <a:lnTo>
                  <a:pt x="4447" y="1693"/>
                </a:lnTo>
                <a:lnTo>
                  <a:pt x="4433" y="1640"/>
                </a:lnTo>
                <a:lnTo>
                  <a:pt x="4420" y="1600"/>
                </a:lnTo>
                <a:lnTo>
                  <a:pt x="4420" y="1561"/>
                </a:lnTo>
                <a:lnTo>
                  <a:pt x="4407" y="1521"/>
                </a:lnTo>
                <a:lnTo>
                  <a:pt x="4407" y="1481"/>
                </a:lnTo>
                <a:lnTo>
                  <a:pt x="4394" y="1441"/>
                </a:lnTo>
                <a:lnTo>
                  <a:pt x="4394" y="1402"/>
                </a:lnTo>
                <a:lnTo>
                  <a:pt x="4380" y="1362"/>
                </a:lnTo>
                <a:lnTo>
                  <a:pt x="4367" y="1322"/>
                </a:lnTo>
                <a:lnTo>
                  <a:pt x="4354" y="1283"/>
                </a:lnTo>
                <a:lnTo>
                  <a:pt x="4314" y="1243"/>
                </a:lnTo>
                <a:lnTo>
                  <a:pt x="4288" y="1203"/>
                </a:lnTo>
                <a:lnTo>
                  <a:pt x="4261" y="1164"/>
                </a:lnTo>
                <a:lnTo>
                  <a:pt x="4235" y="1124"/>
                </a:lnTo>
                <a:lnTo>
                  <a:pt x="4208" y="1084"/>
                </a:lnTo>
                <a:lnTo>
                  <a:pt x="4169" y="1045"/>
                </a:lnTo>
                <a:lnTo>
                  <a:pt x="4155" y="1005"/>
                </a:lnTo>
                <a:lnTo>
                  <a:pt x="4129" y="965"/>
                </a:lnTo>
                <a:lnTo>
                  <a:pt x="4116" y="886"/>
                </a:lnTo>
                <a:lnTo>
                  <a:pt x="4089" y="833"/>
                </a:lnTo>
                <a:lnTo>
                  <a:pt x="4063" y="754"/>
                </a:lnTo>
                <a:lnTo>
                  <a:pt x="4036" y="648"/>
                </a:lnTo>
                <a:lnTo>
                  <a:pt x="3997" y="621"/>
                </a:lnTo>
                <a:lnTo>
                  <a:pt x="3944" y="621"/>
                </a:lnTo>
                <a:lnTo>
                  <a:pt x="3904" y="621"/>
                </a:lnTo>
                <a:lnTo>
                  <a:pt x="3785" y="608"/>
                </a:lnTo>
                <a:lnTo>
                  <a:pt x="3679" y="582"/>
                </a:lnTo>
                <a:lnTo>
                  <a:pt x="3600" y="568"/>
                </a:lnTo>
                <a:lnTo>
                  <a:pt x="3573" y="529"/>
                </a:lnTo>
                <a:lnTo>
                  <a:pt x="3534" y="476"/>
                </a:lnTo>
                <a:lnTo>
                  <a:pt x="3494" y="449"/>
                </a:lnTo>
                <a:lnTo>
                  <a:pt x="3441" y="396"/>
                </a:lnTo>
                <a:lnTo>
                  <a:pt x="3400" y="357"/>
                </a:lnTo>
                <a:lnTo>
                  <a:pt x="3361" y="317"/>
                </a:lnTo>
                <a:lnTo>
                  <a:pt x="3321" y="277"/>
                </a:lnTo>
                <a:lnTo>
                  <a:pt x="3281" y="277"/>
                </a:lnTo>
                <a:lnTo>
                  <a:pt x="3228" y="264"/>
                </a:lnTo>
                <a:lnTo>
                  <a:pt x="3176" y="251"/>
                </a:lnTo>
                <a:lnTo>
                  <a:pt x="3136" y="251"/>
                </a:lnTo>
                <a:lnTo>
                  <a:pt x="3096" y="238"/>
                </a:lnTo>
                <a:lnTo>
                  <a:pt x="3056" y="224"/>
                </a:lnTo>
                <a:lnTo>
                  <a:pt x="3017" y="198"/>
                </a:lnTo>
                <a:lnTo>
                  <a:pt x="2937" y="185"/>
                </a:lnTo>
                <a:lnTo>
                  <a:pt x="2818" y="145"/>
                </a:lnTo>
                <a:lnTo>
                  <a:pt x="2779" y="132"/>
                </a:lnTo>
                <a:lnTo>
                  <a:pt x="2739" y="105"/>
                </a:lnTo>
                <a:lnTo>
                  <a:pt x="2699" y="79"/>
                </a:lnTo>
                <a:lnTo>
                  <a:pt x="2660" y="52"/>
                </a:lnTo>
                <a:lnTo>
                  <a:pt x="2620" y="26"/>
                </a:lnTo>
                <a:lnTo>
                  <a:pt x="2580" y="13"/>
                </a:lnTo>
                <a:lnTo>
                  <a:pt x="2541" y="13"/>
                </a:lnTo>
                <a:lnTo>
                  <a:pt x="2501" y="0"/>
                </a:lnTo>
                <a:lnTo>
                  <a:pt x="2461" y="0"/>
                </a:lnTo>
                <a:lnTo>
                  <a:pt x="2421" y="0"/>
                </a:lnTo>
                <a:lnTo>
                  <a:pt x="2382" y="13"/>
                </a:lnTo>
                <a:lnTo>
                  <a:pt x="2342" y="13"/>
                </a:lnTo>
                <a:lnTo>
                  <a:pt x="2302" y="13"/>
                </a:lnTo>
                <a:lnTo>
                  <a:pt x="2289" y="13"/>
                </a:lnTo>
                <a:close/>
              </a:path>
            </a:pathLst>
          </a:custGeom>
          <a:blipFill rotWithShape="0">
            <a:blip r:embed="rId1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1" name=""/>
          <p:cNvGrpSpPr/>
          <p:nvPr/>
        </p:nvGrpSpPr>
        <p:grpSpPr>
          <a:xfrm>
            <a:off x="3286080" y="1581120"/>
            <a:ext cx="4948200" cy="1381320"/>
            <a:chOff x="3286080" y="1581120"/>
            <a:chExt cx="4948200" cy="1381320"/>
          </a:xfrm>
        </p:grpSpPr>
        <p:sp>
          <p:nvSpPr>
            <p:cNvPr id="1002" name=""/>
            <p:cNvSpPr/>
            <p:nvPr/>
          </p:nvSpPr>
          <p:spPr>
            <a:xfrm>
              <a:off x="3476520" y="1785960"/>
              <a:ext cx="1000080" cy="10000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524560" y="1785960"/>
              <a:ext cx="2452680" cy="1000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4" name=""/>
            <p:cNvGrpSpPr/>
            <p:nvPr/>
          </p:nvGrpSpPr>
          <p:grpSpPr>
            <a:xfrm>
              <a:off x="3286080" y="2281320"/>
              <a:ext cx="1428840" cy="0"/>
              <a:chOff x="3286080" y="2281320"/>
              <a:chExt cx="1428840" cy="0"/>
            </a:xfrm>
          </p:grpSpPr>
          <p:sp>
            <p:nvSpPr>
              <p:cNvPr id="1005" name=""/>
              <p:cNvSpPr/>
              <p:nvPr/>
            </p:nvSpPr>
            <p:spPr>
              <a:xfrm>
                <a:off x="3286080" y="2281320"/>
                <a:ext cx="50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3895560" y="2281320"/>
                <a:ext cx="171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191120" y="2281320"/>
                <a:ext cx="523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"/>
            <p:cNvGrpSpPr/>
            <p:nvPr/>
          </p:nvGrpSpPr>
          <p:grpSpPr>
            <a:xfrm>
              <a:off x="5291280" y="2279520"/>
              <a:ext cx="2943000" cy="0"/>
              <a:chOff x="5291280" y="2279520"/>
              <a:chExt cx="2943000" cy="0"/>
            </a:xfrm>
          </p:grpSpPr>
          <p:sp>
            <p:nvSpPr>
              <p:cNvPr id="1009" name=""/>
              <p:cNvSpPr/>
              <p:nvPr/>
            </p:nvSpPr>
            <p:spPr>
              <a:xfrm>
                <a:off x="5291280" y="2279520"/>
                <a:ext cx="1314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729480" y="2279520"/>
                <a:ext cx="133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986520" y="2279520"/>
                <a:ext cx="905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891560" y="2279520"/>
                <a:ext cx="34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3" name=""/>
            <p:cNvSpPr/>
            <p:nvPr/>
          </p:nvSpPr>
          <p:spPr>
            <a:xfrm>
              <a:off x="3976560" y="1581120"/>
              <a:ext cx="0" cy="523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976560" y="2190600"/>
              <a:ext cx="0" cy="171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976560" y="2438280"/>
              <a:ext cx="0" cy="524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5435640" y="3965400"/>
            <a:ext cx="1714680" cy="1714680"/>
          </a:xfrm>
          <a:prstGeom prst="ellipse">
            <a:avLst/>
          </a:prstGeom>
          <a:noFill/>
          <a:ln w="12600">
            <a:solidFill>
              <a:srgbClr val="fafd00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5591160" y="4127400"/>
            <a:ext cx="1405080" cy="1405080"/>
          </a:xfrm>
          <a:prstGeom prst="ellipse">
            <a:avLst/>
          </a:prstGeom>
          <a:noFill/>
          <a:ln w="12600">
            <a:solidFill>
              <a:srgbClr val="fafd00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 flipH="1">
            <a:off x="4743360" y="5381640"/>
            <a:ext cx="885960" cy="8859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743360" y="6267600"/>
            <a:ext cx="266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5070600" y="6087960"/>
            <a:ext cx="254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0.4 Annular D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6286680" y="3857760"/>
            <a:ext cx="0" cy="20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6286680" y="3524400"/>
            <a:ext cx="0" cy="16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6286680" y="1380960"/>
            <a:ext cx="0" cy="1928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6286680" y="2104920"/>
            <a:ext cx="171360" cy="171360"/>
          </a:xfrm>
          <a:prstGeom prst="rect">
            <a:avLst/>
          </a:prstGeom>
          <a:solidFill>
            <a:srgbClr val="a2c1f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2805120" y="2647800"/>
            <a:ext cx="833400" cy="835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 flipH="1">
            <a:off x="2476440" y="3487680"/>
            <a:ext cx="330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7" name=""/>
          <p:cNvGrpSpPr/>
          <p:nvPr/>
        </p:nvGrpSpPr>
        <p:grpSpPr>
          <a:xfrm>
            <a:off x="1397160" y="3392640"/>
            <a:ext cx="206280" cy="206280"/>
            <a:chOff x="1397160" y="3392640"/>
            <a:chExt cx="206280" cy="206280"/>
          </a:xfrm>
        </p:grpSpPr>
        <p:sp>
          <p:nvSpPr>
            <p:cNvPr id="1028" name=""/>
            <p:cNvSpPr/>
            <p:nvPr/>
          </p:nvSpPr>
          <p:spPr>
            <a:xfrm>
              <a:off x="1405080" y="3403440"/>
              <a:ext cx="190440" cy="192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1397160" y="3392640"/>
              <a:ext cx="206280" cy="206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"/>
          <p:cNvSpPr txBox="1"/>
          <p:nvPr/>
        </p:nvSpPr>
        <p:spPr>
          <a:xfrm>
            <a:off x="1622520" y="3178080"/>
            <a:ext cx="677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0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0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6438960" y="3200400"/>
            <a:ext cx="123840" cy="781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562800" y="3200400"/>
            <a:ext cx="285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6815160" y="3886200"/>
            <a:ext cx="504720" cy="5047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7319880" y="3886200"/>
            <a:ext cx="314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7256520" y="3044880"/>
            <a:ext cx="677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10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8023320" y="3701880"/>
            <a:ext cx="677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10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6954840" y="3092400"/>
            <a:ext cx="206280" cy="206280"/>
            <a:chOff x="6954840" y="3092400"/>
            <a:chExt cx="206280" cy="206280"/>
          </a:xfrm>
        </p:grpSpPr>
        <p:sp>
          <p:nvSpPr>
            <p:cNvPr id="1038" name=""/>
            <p:cNvSpPr/>
            <p:nvPr/>
          </p:nvSpPr>
          <p:spPr>
            <a:xfrm>
              <a:off x="6962760" y="3103560"/>
              <a:ext cx="190440" cy="19224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H="1">
              <a:off x="6954840" y="3092400"/>
              <a:ext cx="206280" cy="2062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0" name=""/>
          <p:cNvGrpSpPr/>
          <p:nvPr/>
        </p:nvGrpSpPr>
        <p:grpSpPr>
          <a:xfrm>
            <a:off x="7764480" y="3782880"/>
            <a:ext cx="206280" cy="206640"/>
            <a:chOff x="7764480" y="3782880"/>
            <a:chExt cx="206280" cy="206640"/>
          </a:xfrm>
        </p:grpSpPr>
        <p:sp>
          <p:nvSpPr>
            <p:cNvPr id="1041" name=""/>
            <p:cNvSpPr/>
            <p:nvPr/>
          </p:nvSpPr>
          <p:spPr>
            <a:xfrm>
              <a:off x="7772400" y="3794040"/>
              <a:ext cx="190440" cy="19224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>
              <a:off x="7764480" y="3782880"/>
              <a:ext cx="206280" cy="20664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3" name=""/>
          <p:cNvSpPr txBox="1"/>
          <p:nvPr/>
        </p:nvSpPr>
        <p:spPr>
          <a:xfrm>
            <a:off x="932040" y="4368960"/>
            <a:ext cx="330372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ule #1 size limits establ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 boundary, defined by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centric circles--equal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ize to the upper and 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mits of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"/>
          <p:cNvGrpSpPr/>
          <p:nvPr/>
        </p:nvGrpSpPr>
        <p:grpSpPr>
          <a:xfrm>
            <a:off x="5283360" y="4819680"/>
            <a:ext cx="2070000" cy="0"/>
            <a:chOff x="5283360" y="4819680"/>
            <a:chExt cx="2070000" cy="0"/>
          </a:xfrm>
        </p:grpSpPr>
        <p:sp>
          <p:nvSpPr>
            <p:cNvPr id="1045" name=""/>
            <p:cNvSpPr/>
            <p:nvPr/>
          </p:nvSpPr>
          <p:spPr>
            <a:xfrm>
              <a:off x="5283360" y="4819680"/>
              <a:ext cx="846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235560" y="48196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416640" y="4819680"/>
              <a:ext cx="936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8" name=""/>
          <p:cNvSpPr/>
          <p:nvPr/>
        </p:nvSpPr>
        <p:spPr>
          <a:xfrm flipV="1">
            <a:off x="5743440" y="4983120"/>
            <a:ext cx="265320" cy="2653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"/>
          <p:cNvSpPr txBox="1"/>
          <p:nvPr/>
        </p:nvSpPr>
        <p:spPr>
          <a:xfrm>
            <a:off x="552600" y="120168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 u="sng">
                <a:solidFill>
                  <a:srgbClr val="fc0128"/>
                </a:solidFill>
                <a:uFillTx/>
                <a:latin typeface="Times New Roman"/>
                <a:ea typeface="Times New Roman"/>
              </a:rPr>
              <a:t>CONCEPTS TO CLING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1004760" y="2395440"/>
            <a:ext cx="7043760" cy="23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720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le #1 provides for a two concentric circle tolerance zone; equal to the MMC and LMC of the fe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metral dimensions restrict circularity to one-half its size toler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11200" y="2155680"/>
            <a:ext cx="7929720" cy="2951280"/>
          </a:xfrm>
          <a:prstGeom prst="roundRect">
            <a:avLst/>
          </a:prstGeom>
          <a:noFill/>
          <a:ln w="38160">
            <a:solidFill>
              <a:srgbClr val="fafd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662040" y="22860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IRCULA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 txBox="1"/>
          <p:nvPr/>
        </p:nvSpPr>
        <p:spPr>
          <a:xfrm>
            <a:off x="685800" y="25236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IRCULARITY CONTR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641520" y="158256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le #1 cannot be overridden by a circularity tolerance.  Therefore, the actual diameter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must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within stated size limi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condition is not affected by circula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rface variation is limited </a:t>
            </a:r>
            <a:r>
              <a:rPr b="0" i="1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only</a:t>
            </a:r>
            <a:r>
              <a:rPr b="0" i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the feature departs from maximum material condition by more than the circularity tolerance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ularity tolerance value must be </a:t>
            </a:r>
            <a:r>
              <a:rPr b="0" i="1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less than half</a:t>
            </a:r>
            <a:r>
              <a:rPr b="0" i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iameter toler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76280" y="1374840"/>
            <a:ext cx="8215200" cy="4684680"/>
          </a:xfrm>
          <a:prstGeom prst="rect">
            <a:avLst/>
          </a:prstGeom>
          <a:noFill/>
          <a:ln w="38160">
            <a:solidFill>
              <a:srgbClr val="114ffb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 txBox="1"/>
          <p:nvPr/>
        </p:nvSpPr>
        <p:spPr>
          <a:xfrm>
            <a:off x="285840" y="228600"/>
            <a:ext cx="85248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IRCULARITY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2333520" y="1628640"/>
            <a:ext cx="4948200" cy="1381320"/>
            <a:chOff x="2333520" y="1628640"/>
            <a:chExt cx="4948200" cy="1381320"/>
          </a:xfrm>
        </p:grpSpPr>
        <p:sp>
          <p:nvSpPr>
            <p:cNvPr id="1058" name=""/>
            <p:cNvSpPr/>
            <p:nvPr/>
          </p:nvSpPr>
          <p:spPr>
            <a:xfrm>
              <a:off x="2523960" y="1833480"/>
              <a:ext cx="1000080" cy="10000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572000" y="1833480"/>
              <a:ext cx="2452680" cy="1000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0" name=""/>
            <p:cNvGrpSpPr/>
            <p:nvPr/>
          </p:nvGrpSpPr>
          <p:grpSpPr>
            <a:xfrm>
              <a:off x="2333520" y="2328840"/>
              <a:ext cx="1428840" cy="0"/>
              <a:chOff x="2333520" y="2328840"/>
              <a:chExt cx="1428840" cy="0"/>
            </a:xfrm>
          </p:grpSpPr>
          <p:sp>
            <p:nvSpPr>
              <p:cNvPr id="1061" name=""/>
              <p:cNvSpPr/>
              <p:nvPr/>
            </p:nvSpPr>
            <p:spPr>
              <a:xfrm>
                <a:off x="2333520" y="2328840"/>
                <a:ext cx="505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2943360" y="23288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238560" y="2328840"/>
                <a:ext cx="523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4338720" y="2327400"/>
              <a:ext cx="2943000" cy="0"/>
              <a:chOff x="4338720" y="2327400"/>
              <a:chExt cx="2943000" cy="0"/>
            </a:xfrm>
          </p:grpSpPr>
          <p:sp>
            <p:nvSpPr>
              <p:cNvPr id="1065" name=""/>
              <p:cNvSpPr/>
              <p:nvPr/>
            </p:nvSpPr>
            <p:spPr>
              <a:xfrm>
                <a:off x="4338720" y="2327400"/>
                <a:ext cx="1314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776920" y="2327400"/>
                <a:ext cx="133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033960" y="2327400"/>
                <a:ext cx="905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6939000" y="2327400"/>
                <a:ext cx="34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9" name=""/>
            <p:cNvSpPr/>
            <p:nvPr/>
          </p:nvSpPr>
          <p:spPr>
            <a:xfrm>
              <a:off x="3024360" y="1628640"/>
              <a:ext cx="0" cy="524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024360" y="2238480"/>
              <a:ext cx="0" cy="171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024360" y="2486160"/>
              <a:ext cx="0" cy="523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2" name=""/>
          <p:cNvSpPr/>
          <p:nvPr/>
        </p:nvSpPr>
        <p:spPr>
          <a:xfrm flipH="1">
            <a:off x="2305080" y="2695680"/>
            <a:ext cx="380880" cy="3808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 flipH="1">
            <a:off x="1971720" y="3071880"/>
            <a:ext cx="330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4" name=""/>
          <p:cNvGrpSpPr/>
          <p:nvPr/>
        </p:nvGrpSpPr>
        <p:grpSpPr>
          <a:xfrm>
            <a:off x="936720" y="2925720"/>
            <a:ext cx="257040" cy="257040"/>
            <a:chOff x="936720" y="2925720"/>
            <a:chExt cx="257040" cy="257040"/>
          </a:xfrm>
        </p:grpSpPr>
        <p:sp>
          <p:nvSpPr>
            <p:cNvPr id="1075" name=""/>
            <p:cNvSpPr/>
            <p:nvPr/>
          </p:nvSpPr>
          <p:spPr>
            <a:xfrm>
              <a:off x="946080" y="2940120"/>
              <a:ext cx="237960" cy="2379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>
              <a:off x="936720" y="2925720"/>
              <a:ext cx="257040" cy="257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7" name=""/>
          <p:cNvSpPr txBox="1"/>
          <p:nvPr/>
        </p:nvSpPr>
        <p:spPr>
          <a:xfrm>
            <a:off x="1187280" y="2736720"/>
            <a:ext cx="677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0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404640" y="1095480"/>
            <a:ext cx="1619280" cy="452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12720" y="1208160"/>
            <a:ext cx="250920" cy="2509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190520" y="1095480"/>
            <a:ext cx="0" cy="452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1336680" y="1154160"/>
            <a:ext cx="536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 flipH="1" flipV="1">
            <a:off x="2352600" y="1339920"/>
            <a:ext cx="390600" cy="5745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2023920" y="1344600"/>
            <a:ext cx="330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 txBox="1"/>
          <p:nvPr/>
        </p:nvSpPr>
        <p:spPr>
          <a:xfrm>
            <a:off x="285840" y="228600"/>
            <a:ext cx="85248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IRCULARITY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2333520" y="1628640"/>
            <a:ext cx="4948200" cy="1381320"/>
            <a:chOff x="2333520" y="1628640"/>
            <a:chExt cx="4948200" cy="1381320"/>
          </a:xfrm>
        </p:grpSpPr>
        <p:sp>
          <p:nvSpPr>
            <p:cNvPr id="1086" name=""/>
            <p:cNvSpPr/>
            <p:nvPr/>
          </p:nvSpPr>
          <p:spPr>
            <a:xfrm>
              <a:off x="2523960" y="1833480"/>
              <a:ext cx="1000080" cy="10000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572000" y="1833480"/>
              <a:ext cx="2452680" cy="1000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8" name=""/>
            <p:cNvGrpSpPr/>
            <p:nvPr/>
          </p:nvGrpSpPr>
          <p:grpSpPr>
            <a:xfrm>
              <a:off x="2333520" y="2328840"/>
              <a:ext cx="1428840" cy="0"/>
              <a:chOff x="2333520" y="2328840"/>
              <a:chExt cx="1428840" cy="0"/>
            </a:xfrm>
          </p:grpSpPr>
          <p:sp>
            <p:nvSpPr>
              <p:cNvPr id="1089" name=""/>
              <p:cNvSpPr/>
              <p:nvPr/>
            </p:nvSpPr>
            <p:spPr>
              <a:xfrm>
                <a:off x="2333520" y="2328840"/>
                <a:ext cx="505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943360" y="23288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238560" y="2328840"/>
                <a:ext cx="523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2" name=""/>
            <p:cNvGrpSpPr/>
            <p:nvPr/>
          </p:nvGrpSpPr>
          <p:grpSpPr>
            <a:xfrm>
              <a:off x="4338720" y="2327400"/>
              <a:ext cx="2943000" cy="0"/>
              <a:chOff x="4338720" y="2327400"/>
              <a:chExt cx="2943000" cy="0"/>
            </a:xfrm>
          </p:grpSpPr>
          <p:sp>
            <p:nvSpPr>
              <p:cNvPr id="1093" name=""/>
              <p:cNvSpPr/>
              <p:nvPr/>
            </p:nvSpPr>
            <p:spPr>
              <a:xfrm>
                <a:off x="4338720" y="2327400"/>
                <a:ext cx="1314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776920" y="2327400"/>
                <a:ext cx="133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033960" y="2327400"/>
                <a:ext cx="905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939000" y="2327400"/>
                <a:ext cx="34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7" name=""/>
            <p:cNvSpPr/>
            <p:nvPr/>
          </p:nvSpPr>
          <p:spPr>
            <a:xfrm>
              <a:off x="3024360" y="1628640"/>
              <a:ext cx="0" cy="524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024360" y="2238480"/>
              <a:ext cx="0" cy="171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024360" y="2486160"/>
              <a:ext cx="0" cy="523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"/>
          <p:cNvSpPr/>
          <p:nvPr/>
        </p:nvSpPr>
        <p:spPr>
          <a:xfrm flipH="1">
            <a:off x="2305080" y="2695680"/>
            <a:ext cx="380880" cy="3808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 flipH="1">
            <a:off x="1971720" y="3071880"/>
            <a:ext cx="330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2" name=""/>
          <p:cNvGrpSpPr/>
          <p:nvPr/>
        </p:nvGrpSpPr>
        <p:grpSpPr>
          <a:xfrm>
            <a:off x="936720" y="2925720"/>
            <a:ext cx="257040" cy="257040"/>
            <a:chOff x="936720" y="2925720"/>
            <a:chExt cx="257040" cy="257040"/>
          </a:xfrm>
        </p:grpSpPr>
        <p:sp>
          <p:nvSpPr>
            <p:cNvPr id="1103" name=""/>
            <p:cNvSpPr/>
            <p:nvPr/>
          </p:nvSpPr>
          <p:spPr>
            <a:xfrm>
              <a:off x="946080" y="2940120"/>
              <a:ext cx="237960" cy="2379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>
              <a:off x="936720" y="2925720"/>
              <a:ext cx="257040" cy="257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5" name=""/>
          <p:cNvSpPr txBox="1"/>
          <p:nvPr/>
        </p:nvSpPr>
        <p:spPr>
          <a:xfrm>
            <a:off x="1187280" y="2736720"/>
            <a:ext cx="677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0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404640" y="1095480"/>
            <a:ext cx="1619280" cy="452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190520" y="1095480"/>
            <a:ext cx="0" cy="452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1336680" y="1154160"/>
            <a:ext cx="536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 flipH="1" flipV="1">
            <a:off x="2352600" y="1339920"/>
            <a:ext cx="390600" cy="5745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2023920" y="1344600"/>
            <a:ext cx="330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717480" y="4035600"/>
            <a:ext cx="279576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olerance zone i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finement of bound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mits under Rule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612720" y="1208160"/>
            <a:ext cx="250920" cy="2509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"/>
          <p:cNvSpPr txBox="1"/>
          <p:nvPr/>
        </p:nvSpPr>
        <p:spPr>
          <a:xfrm>
            <a:off x="285840" y="228600"/>
            <a:ext cx="85248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IRCULARITY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2333520" y="1628640"/>
            <a:ext cx="4948200" cy="1381320"/>
            <a:chOff x="2333520" y="1628640"/>
            <a:chExt cx="4948200" cy="1381320"/>
          </a:xfrm>
        </p:grpSpPr>
        <p:sp>
          <p:nvSpPr>
            <p:cNvPr id="1115" name=""/>
            <p:cNvSpPr/>
            <p:nvPr/>
          </p:nvSpPr>
          <p:spPr>
            <a:xfrm>
              <a:off x="2523960" y="1833480"/>
              <a:ext cx="1000080" cy="10000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572000" y="1833480"/>
              <a:ext cx="2452680" cy="1000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7" name=""/>
            <p:cNvGrpSpPr/>
            <p:nvPr/>
          </p:nvGrpSpPr>
          <p:grpSpPr>
            <a:xfrm>
              <a:off x="2333520" y="2328840"/>
              <a:ext cx="1428840" cy="0"/>
              <a:chOff x="2333520" y="2328840"/>
              <a:chExt cx="1428840" cy="0"/>
            </a:xfrm>
          </p:grpSpPr>
          <p:sp>
            <p:nvSpPr>
              <p:cNvPr id="1118" name=""/>
              <p:cNvSpPr/>
              <p:nvPr/>
            </p:nvSpPr>
            <p:spPr>
              <a:xfrm>
                <a:off x="2333520" y="2328840"/>
                <a:ext cx="505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2943360" y="23288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3238560" y="2328840"/>
                <a:ext cx="523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1" name=""/>
            <p:cNvGrpSpPr/>
            <p:nvPr/>
          </p:nvGrpSpPr>
          <p:grpSpPr>
            <a:xfrm>
              <a:off x="4338720" y="2327400"/>
              <a:ext cx="2943000" cy="0"/>
              <a:chOff x="4338720" y="2327400"/>
              <a:chExt cx="2943000" cy="0"/>
            </a:xfrm>
          </p:grpSpPr>
          <p:sp>
            <p:nvSpPr>
              <p:cNvPr id="1122" name=""/>
              <p:cNvSpPr/>
              <p:nvPr/>
            </p:nvSpPr>
            <p:spPr>
              <a:xfrm>
                <a:off x="4338720" y="2327400"/>
                <a:ext cx="1314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776920" y="2327400"/>
                <a:ext cx="133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033960" y="2327400"/>
                <a:ext cx="905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939000" y="2327400"/>
                <a:ext cx="34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6" name=""/>
            <p:cNvSpPr/>
            <p:nvPr/>
          </p:nvSpPr>
          <p:spPr>
            <a:xfrm>
              <a:off x="3024360" y="1628640"/>
              <a:ext cx="0" cy="524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024360" y="2238480"/>
              <a:ext cx="0" cy="171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024360" y="2486160"/>
              <a:ext cx="0" cy="523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9" name=""/>
          <p:cNvSpPr/>
          <p:nvPr/>
        </p:nvSpPr>
        <p:spPr>
          <a:xfrm>
            <a:off x="5280120" y="3809880"/>
            <a:ext cx="2025720" cy="2025720"/>
          </a:xfrm>
          <a:prstGeom prst="ellipse">
            <a:avLst/>
          </a:prstGeom>
          <a:noFill/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5556240" y="4092480"/>
            <a:ext cx="1474920" cy="1474920"/>
          </a:xfrm>
          <a:prstGeom prst="ellipse">
            <a:avLst/>
          </a:prstGeom>
          <a:noFill/>
          <a:ln w="12600">
            <a:solidFill>
              <a:srgbClr val="fc0128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 flipV="1">
            <a:off x="5695920" y="5062680"/>
            <a:ext cx="222120" cy="2174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 flipH="1">
            <a:off x="4743360" y="5381640"/>
            <a:ext cx="885960" cy="8859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4743360" y="6267600"/>
            <a:ext cx="266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 txBox="1"/>
          <p:nvPr/>
        </p:nvSpPr>
        <p:spPr>
          <a:xfrm>
            <a:off x="5070600" y="6087960"/>
            <a:ext cx="2386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0.2 Radial D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6286680" y="3857760"/>
            <a:ext cx="0" cy="20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6286680" y="3524400"/>
            <a:ext cx="0" cy="16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6286680" y="1380960"/>
            <a:ext cx="0" cy="1928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6286680" y="2155680"/>
            <a:ext cx="171360" cy="171360"/>
          </a:xfrm>
          <a:prstGeom prst="rect">
            <a:avLst/>
          </a:prstGeom>
          <a:solidFill>
            <a:srgbClr val="a2c1f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 flipH="1">
            <a:off x="2305080" y="2695680"/>
            <a:ext cx="380880" cy="3808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 flipH="1">
            <a:off x="1971720" y="3071880"/>
            <a:ext cx="330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"/>
          <p:cNvGrpSpPr/>
          <p:nvPr/>
        </p:nvGrpSpPr>
        <p:grpSpPr>
          <a:xfrm>
            <a:off x="936720" y="2925720"/>
            <a:ext cx="257040" cy="257040"/>
            <a:chOff x="936720" y="2925720"/>
            <a:chExt cx="257040" cy="257040"/>
          </a:xfrm>
        </p:grpSpPr>
        <p:sp>
          <p:nvSpPr>
            <p:cNvPr id="1142" name=""/>
            <p:cNvSpPr/>
            <p:nvPr/>
          </p:nvSpPr>
          <p:spPr>
            <a:xfrm>
              <a:off x="946080" y="2940120"/>
              <a:ext cx="237960" cy="2379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936720" y="2925720"/>
              <a:ext cx="257040" cy="257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4" name=""/>
          <p:cNvSpPr txBox="1"/>
          <p:nvPr/>
        </p:nvSpPr>
        <p:spPr>
          <a:xfrm>
            <a:off x="1187280" y="2736720"/>
            <a:ext cx="677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0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04640" y="1095480"/>
            <a:ext cx="1619280" cy="452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1190520" y="1095480"/>
            <a:ext cx="0" cy="452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1336680" y="1154160"/>
            <a:ext cx="536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 flipH="1" flipV="1">
            <a:off x="2352600" y="1339920"/>
            <a:ext cx="390600" cy="5745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 flipH="1">
            <a:off x="2023920" y="1344600"/>
            <a:ext cx="330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717480" y="4035600"/>
            <a:ext cx="279576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olerance zone i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finement of bound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mits under Rule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5435640" y="3965400"/>
            <a:ext cx="1714680" cy="1714680"/>
          </a:xfrm>
          <a:prstGeom prst="ellipse">
            <a:avLst/>
          </a:prstGeom>
          <a:noFill/>
          <a:ln w="12600">
            <a:solidFill>
              <a:srgbClr val="fc0128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5591160" y="4127400"/>
            <a:ext cx="1405080" cy="1405080"/>
          </a:xfrm>
          <a:prstGeom prst="ellipse">
            <a:avLst/>
          </a:prstGeom>
          <a:noFill/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612720" y="1208160"/>
            <a:ext cx="250920" cy="2509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5070600" y="4819680"/>
            <a:ext cx="2435040" cy="0"/>
            <a:chOff x="5070600" y="4819680"/>
            <a:chExt cx="2435040" cy="0"/>
          </a:xfrm>
        </p:grpSpPr>
        <p:sp>
          <p:nvSpPr>
            <p:cNvPr id="1155" name=""/>
            <p:cNvSpPr/>
            <p:nvPr/>
          </p:nvSpPr>
          <p:spPr>
            <a:xfrm>
              <a:off x="5070600" y="4819680"/>
              <a:ext cx="10587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235560" y="48196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416640" y="4819680"/>
              <a:ext cx="1089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"/>
          <p:cNvSpPr txBox="1"/>
          <p:nvPr/>
        </p:nvSpPr>
        <p:spPr>
          <a:xfrm>
            <a:off x="285840" y="228600"/>
            <a:ext cx="85248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IRCULARITY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2333520" y="1628640"/>
            <a:ext cx="4948200" cy="1381320"/>
            <a:chOff x="2333520" y="1628640"/>
            <a:chExt cx="4948200" cy="1381320"/>
          </a:xfrm>
        </p:grpSpPr>
        <p:sp>
          <p:nvSpPr>
            <p:cNvPr id="1160" name=""/>
            <p:cNvSpPr/>
            <p:nvPr/>
          </p:nvSpPr>
          <p:spPr>
            <a:xfrm>
              <a:off x="2523960" y="1833480"/>
              <a:ext cx="1000080" cy="10000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572000" y="1833480"/>
              <a:ext cx="2452680" cy="1000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2" name=""/>
            <p:cNvGrpSpPr/>
            <p:nvPr/>
          </p:nvGrpSpPr>
          <p:grpSpPr>
            <a:xfrm>
              <a:off x="2333520" y="2328840"/>
              <a:ext cx="1428840" cy="0"/>
              <a:chOff x="2333520" y="2328840"/>
              <a:chExt cx="1428840" cy="0"/>
            </a:xfrm>
          </p:grpSpPr>
          <p:sp>
            <p:nvSpPr>
              <p:cNvPr id="1163" name=""/>
              <p:cNvSpPr/>
              <p:nvPr/>
            </p:nvSpPr>
            <p:spPr>
              <a:xfrm>
                <a:off x="2333520" y="2328840"/>
                <a:ext cx="505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2943360" y="23288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238560" y="2328840"/>
                <a:ext cx="523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4338720" y="2327400"/>
              <a:ext cx="2943000" cy="0"/>
              <a:chOff x="4338720" y="2327400"/>
              <a:chExt cx="2943000" cy="0"/>
            </a:xfrm>
          </p:grpSpPr>
          <p:sp>
            <p:nvSpPr>
              <p:cNvPr id="1167" name=""/>
              <p:cNvSpPr/>
              <p:nvPr/>
            </p:nvSpPr>
            <p:spPr>
              <a:xfrm>
                <a:off x="4338720" y="2327400"/>
                <a:ext cx="1314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776920" y="2327400"/>
                <a:ext cx="133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6033960" y="2327400"/>
                <a:ext cx="905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939000" y="2327400"/>
                <a:ext cx="34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1" name=""/>
            <p:cNvSpPr/>
            <p:nvPr/>
          </p:nvSpPr>
          <p:spPr>
            <a:xfrm>
              <a:off x="3024360" y="1628640"/>
              <a:ext cx="0" cy="524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024360" y="2238480"/>
              <a:ext cx="0" cy="171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024360" y="2486160"/>
              <a:ext cx="0" cy="523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5280120" y="3809880"/>
            <a:ext cx="2025720" cy="2025720"/>
          </a:xfrm>
          <a:prstGeom prst="ellipse">
            <a:avLst/>
          </a:prstGeom>
          <a:noFill/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5556240" y="4092480"/>
            <a:ext cx="1474920" cy="1474920"/>
          </a:xfrm>
          <a:prstGeom prst="ellipse">
            <a:avLst/>
          </a:prstGeom>
          <a:noFill/>
          <a:ln w="12600">
            <a:solidFill>
              <a:srgbClr val="fc0128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4743360" y="5381640"/>
            <a:ext cx="885960" cy="8859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4743360" y="6267600"/>
            <a:ext cx="266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5070600" y="6087960"/>
            <a:ext cx="2386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0.2 Radial D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6286680" y="3857760"/>
            <a:ext cx="0" cy="20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6286680" y="3524400"/>
            <a:ext cx="0" cy="16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6286680" y="1380960"/>
            <a:ext cx="0" cy="1928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6286680" y="2155680"/>
            <a:ext cx="171360" cy="171360"/>
          </a:xfrm>
          <a:prstGeom prst="rect">
            <a:avLst/>
          </a:prstGeom>
          <a:solidFill>
            <a:srgbClr val="a2c1f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2305080" y="2695680"/>
            <a:ext cx="380880" cy="3808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1971720" y="3071880"/>
            <a:ext cx="330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5" name=""/>
          <p:cNvGrpSpPr/>
          <p:nvPr/>
        </p:nvGrpSpPr>
        <p:grpSpPr>
          <a:xfrm>
            <a:off x="936720" y="2925720"/>
            <a:ext cx="257040" cy="257040"/>
            <a:chOff x="936720" y="2925720"/>
            <a:chExt cx="257040" cy="257040"/>
          </a:xfrm>
        </p:grpSpPr>
        <p:sp>
          <p:nvSpPr>
            <p:cNvPr id="1186" name=""/>
            <p:cNvSpPr/>
            <p:nvPr/>
          </p:nvSpPr>
          <p:spPr>
            <a:xfrm>
              <a:off x="946080" y="2940120"/>
              <a:ext cx="237960" cy="2379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H="1">
              <a:off x="936720" y="2925720"/>
              <a:ext cx="257040" cy="257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8" name=""/>
          <p:cNvSpPr txBox="1"/>
          <p:nvPr/>
        </p:nvSpPr>
        <p:spPr>
          <a:xfrm>
            <a:off x="1187280" y="2736720"/>
            <a:ext cx="677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0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404640" y="1095480"/>
            <a:ext cx="1619280" cy="452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1190520" y="1095480"/>
            <a:ext cx="0" cy="452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1336680" y="1154160"/>
            <a:ext cx="536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 flipH="1" flipV="1">
            <a:off x="2352600" y="1339920"/>
            <a:ext cx="390600" cy="5745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 flipH="1">
            <a:off x="2023920" y="1344600"/>
            <a:ext cx="330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717480" y="4035600"/>
            <a:ext cx="279576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olerance zone i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finement of bound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mits under Rule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435640" y="3965400"/>
            <a:ext cx="1714680" cy="1714680"/>
          </a:xfrm>
          <a:prstGeom prst="ellipse">
            <a:avLst/>
          </a:prstGeom>
          <a:noFill/>
          <a:ln w="12600">
            <a:solidFill>
              <a:srgbClr val="fc0128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5591160" y="4127400"/>
            <a:ext cx="1405080" cy="1405080"/>
          </a:xfrm>
          <a:prstGeom prst="ellipse">
            <a:avLst/>
          </a:prstGeom>
          <a:noFill/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612720" y="1208160"/>
            <a:ext cx="250920" cy="2509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5491080" y="4000680"/>
            <a:ext cx="1609920" cy="1653120"/>
          </a:xfrm>
          <a:custGeom>
            <a:avLst/>
            <a:gdLst/>
            <a:ahLst/>
            <a:rect l="0" t="0" r="r" b="b"/>
            <a:pathLst>
              <a:path fill="none" w="4472" h="4592">
                <a:moveTo>
                  <a:pt x="2222" y="13"/>
                </a:moveTo>
                <a:lnTo>
                  <a:pt x="2182" y="26"/>
                </a:lnTo>
                <a:lnTo>
                  <a:pt x="2143" y="39"/>
                </a:lnTo>
                <a:lnTo>
                  <a:pt x="2103" y="52"/>
                </a:lnTo>
                <a:lnTo>
                  <a:pt x="2063" y="52"/>
                </a:lnTo>
                <a:lnTo>
                  <a:pt x="2024" y="52"/>
                </a:lnTo>
                <a:lnTo>
                  <a:pt x="1984" y="52"/>
                </a:lnTo>
                <a:lnTo>
                  <a:pt x="1944" y="52"/>
                </a:lnTo>
                <a:lnTo>
                  <a:pt x="1905" y="52"/>
                </a:lnTo>
                <a:lnTo>
                  <a:pt x="1865" y="66"/>
                </a:lnTo>
                <a:lnTo>
                  <a:pt x="1825" y="79"/>
                </a:lnTo>
                <a:lnTo>
                  <a:pt x="1785" y="92"/>
                </a:lnTo>
                <a:lnTo>
                  <a:pt x="1746" y="105"/>
                </a:lnTo>
                <a:lnTo>
                  <a:pt x="1706" y="119"/>
                </a:lnTo>
                <a:lnTo>
                  <a:pt x="1666" y="132"/>
                </a:lnTo>
                <a:lnTo>
                  <a:pt x="1627" y="132"/>
                </a:lnTo>
                <a:lnTo>
                  <a:pt x="1587" y="132"/>
                </a:lnTo>
                <a:lnTo>
                  <a:pt x="1534" y="145"/>
                </a:lnTo>
                <a:lnTo>
                  <a:pt x="1494" y="158"/>
                </a:lnTo>
                <a:lnTo>
                  <a:pt x="1455" y="158"/>
                </a:lnTo>
                <a:lnTo>
                  <a:pt x="1415" y="171"/>
                </a:lnTo>
                <a:lnTo>
                  <a:pt x="1375" y="185"/>
                </a:lnTo>
                <a:lnTo>
                  <a:pt x="1322" y="224"/>
                </a:lnTo>
                <a:lnTo>
                  <a:pt x="1230" y="264"/>
                </a:lnTo>
                <a:lnTo>
                  <a:pt x="1190" y="291"/>
                </a:lnTo>
                <a:lnTo>
                  <a:pt x="1164" y="330"/>
                </a:lnTo>
                <a:lnTo>
                  <a:pt x="1124" y="343"/>
                </a:lnTo>
                <a:lnTo>
                  <a:pt x="1084" y="396"/>
                </a:lnTo>
                <a:lnTo>
                  <a:pt x="1045" y="436"/>
                </a:lnTo>
                <a:lnTo>
                  <a:pt x="992" y="476"/>
                </a:lnTo>
                <a:lnTo>
                  <a:pt x="939" y="502"/>
                </a:lnTo>
                <a:lnTo>
                  <a:pt x="899" y="529"/>
                </a:lnTo>
                <a:lnTo>
                  <a:pt x="859" y="555"/>
                </a:lnTo>
                <a:lnTo>
                  <a:pt x="820" y="582"/>
                </a:lnTo>
                <a:lnTo>
                  <a:pt x="767" y="608"/>
                </a:lnTo>
                <a:lnTo>
                  <a:pt x="727" y="635"/>
                </a:lnTo>
                <a:lnTo>
                  <a:pt x="687" y="661"/>
                </a:lnTo>
                <a:lnTo>
                  <a:pt x="648" y="701"/>
                </a:lnTo>
                <a:lnTo>
                  <a:pt x="608" y="740"/>
                </a:lnTo>
                <a:lnTo>
                  <a:pt x="595" y="780"/>
                </a:lnTo>
                <a:lnTo>
                  <a:pt x="568" y="820"/>
                </a:lnTo>
                <a:lnTo>
                  <a:pt x="529" y="859"/>
                </a:lnTo>
                <a:lnTo>
                  <a:pt x="449" y="899"/>
                </a:lnTo>
                <a:lnTo>
                  <a:pt x="423" y="939"/>
                </a:lnTo>
                <a:lnTo>
                  <a:pt x="396" y="978"/>
                </a:lnTo>
                <a:lnTo>
                  <a:pt x="383" y="1018"/>
                </a:lnTo>
                <a:lnTo>
                  <a:pt x="357" y="1098"/>
                </a:lnTo>
                <a:lnTo>
                  <a:pt x="343" y="1137"/>
                </a:lnTo>
                <a:lnTo>
                  <a:pt x="330" y="1218"/>
                </a:lnTo>
                <a:lnTo>
                  <a:pt x="317" y="1257"/>
                </a:lnTo>
                <a:lnTo>
                  <a:pt x="291" y="1297"/>
                </a:lnTo>
                <a:lnTo>
                  <a:pt x="264" y="1350"/>
                </a:lnTo>
                <a:lnTo>
                  <a:pt x="251" y="1390"/>
                </a:lnTo>
                <a:lnTo>
                  <a:pt x="224" y="1429"/>
                </a:lnTo>
                <a:lnTo>
                  <a:pt x="185" y="1469"/>
                </a:lnTo>
                <a:lnTo>
                  <a:pt x="171" y="1509"/>
                </a:lnTo>
                <a:lnTo>
                  <a:pt x="132" y="1641"/>
                </a:lnTo>
                <a:lnTo>
                  <a:pt x="105" y="1681"/>
                </a:lnTo>
                <a:lnTo>
                  <a:pt x="92" y="1720"/>
                </a:lnTo>
                <a:lnTo>
                  <a:pt x="79" y="1839"/>
                </a:lnTo>
                <a:lnTo>
                  <a:pt x="52" y="1879"/>
                </a:lnTo>
                <a:lnTo>
                  <a:pt x="39" y="1958"/>
                </a:lnTo>
                <a:lnTo>
                  <a:pt x="26" y="2051"/>
                </a:lnTo>
                <a:lnTo>
                  <a:pt x="13" y="2091"/>
                </a:lnTo>
                <a:lnTo>
                  <a:pt x="0" y="2197"/>
                </a:lnTo>
                <a:lnTo>
                  <a:pt x="0" y="2249"/>
                </a:lnTo>
                <a:lnTo>
                  <a:pt x="0" y="2289"/>
                </a:lnTo>
                <a:lnTo>
                  <a:pt x="0" y="2382"/>
                </a:lnTo>
                <a:lnTo>
                  <a:pt x="0" y="2421"/>
                </a:lnTo>
                <a:lnTo>
                  <a:pt x="0" y="2501"/>
                </a:lnTo>
                <a:lnTo>
                  <a:pt x="13" y="2554"/>
                </a:lnTo>
                <a:lnTo>
                  <a:pt x="13" y="2633"/>
                </a:lnTo>
                <a:lnTo>
                  <a:pt x="26" y="2726"/>
                </a:lnTo>
                <a:lnTo>
                  <a:pt x="39" y="2765"/>
                </a:lnTo>
                <a:lnTo>
                  <a:pt x="66" y="2805"/>
                </a:lnTo>
                <a:lnTo>
                  <a:pt x="79" y="2845"/>
                </a:lnTo>
                <a:lnTo>
                  <a:pt x="79" y="2884"/>
                </a:lnTo>
                <a:lnTo>
                  <a:pt x="105" y="2937"/>
                </a:lnTo>
                <a:lnTo>
                  <a:pt x="119" y="2977"/>
                </a:lnTo>
                <a:lnTo>
                  <a:pt x="132" y="3030"/>
                </a:lnTo>
                <a:lnTo>
                  <a:pt x="158" y="3083"/>
                </a:lnTo>
                <a:lnTo>
                  <a:pt x="198" y="3123"/>
                </a:lnTo>
                <a:lnTo>
                  <a:pt x="238" y="3176"/>
                </a:lnTo>
                <a:lnTo>
                  <a:pt x="277" y="3281"/>
                </a:lnTo>
                <a:lnTo>
                  <a:pt x="317" y="3321"/>
                </a:lnTo>
                <a:lnTo>
                  <a:pt x="343" y="3361"/>
                </a:lnTo>
                <a:lnTo>
                  <a:pt x="383" y="3400"/>
                </a:lnTo>
                <a:lnTo>
                  <a:pt x="396" y="3440"/>
                </a:lnTo>
                <a:lnTo>
                  <a:pt x="436" y="3481"/>
                </a:lnTo>
                <a:lnTo>
                  <a:pt x="515" y="3573"/>
                </a:lnTo>
                <a:lnTo>
                  <a:pt x="542" y="3613"/>
                </a:lnTo>
                <a:lnTo>
                  <a:pt x="568" y="3653"/>
                </a:lnTo>
                <a:lnTo>
                  <a:pt x="595" y="3706"/>
                </a:lnTo>
                <a:lnTo>
                  <a:pt x="635" y="3745"/>
                </a:lnTo>
                <a:lnTo>
                  <a:pt x="727" y="3917"/>
                </a:lnTo>
                <a:lnTo>
                  <a:pt x="754" y="4023"/>
                </a:lnTo>
                <a:lnTo>
                  <a:pt x="780" y="4076"/>
                </a:lnTo>
                <a:lnTo>
                  <a:pt x="820" y="4103"/>
                </a:lnTo>
                <a:lnTo>
                  <a:pt x="873" y="4116"/>
                </a:lnTo>
                <a:lnTo>
                  <a:pt x="899" y="4155"/>
                </a:lnTo>
                <a:lnTo>
                  <a:pt x="952" y="4169"/>
                </a:lnTo>
                <a:lnTo>
                  <a:pt x="1005" y="4208"/>
                </a:lnTo>
                <a:lnTo>
                  <a:pt x="1111" y="4222"/>
                </a:lnTo>
                <a:lnTo>
                  <a:pt x="1150" y="4248"/>
                </a:lnTo>
                <a:lnTo>
                  <a:pt x="1256" y="4275"/>
                </a:lnTo>
                <a:lnTo>
                  <a:pt x="1349" y="4288"/>
                </a:lnTo>
                <a:lnTo>
                  <a:pt x="1428" y="4301"/>
                </a:lnTo>
                <a:lnTo>
                  <a:pt x="1468" y="4314"/>
                </a:lnTo>
                <a:lnTo>
                  <a:pt x="1508" y="4327"/>
                </a:lnTo>
                <a:lnTo>
                  <a:pt x="1561" y="4354"/>
                </a:lnTo>
                <a:lnTo>
                  <a:pt x="1600" y="4367"/>
                </a:lnTo>
                <a:lnTo>
                  <a:pt x="1640" y="4394"/>
                </a:lnTo>
                <a:lnTo>
                  <a:pt x="1733" y="4407"/>
                </a:lnTo>
                <a:lnTo>
                  <a:pt x="1825" y="4433"/>
                </a:lnTo>
                <a:lnTo>
                  <a:pt x="1878" y="4447"/>
                </a:lnTo>
                <a:lnTo>
                  <a:pt x="1931" y="4447"/>
                </a:lnTo>
                <a:lnTo>
                  <a:pt x="1971" y="4473"/>
                </a:lnTo>
                <a:lnTo>
                  <a:pt x="2010" y="4486"/>
                </a:lnTo>
                <a:lnTo>
                  <a:pt x="2050" y="4499"/>
                </a:lnTo>
                <a:lnTo>
                  <a:pt x="2090" y="4526"/>
                </a:lnTo>
                <a:lnTo>
                  <a:pt x="2191" y="4579"/>
                </a:lnTo>
                <a:lnTo>
                  <a:pt x="2209" y="4574"/>
                </a:lnTo>
                <a:lnTo>
                  <a:pt x="2263" y="4588"/>
                </a:lnTo>
                <a:lnTo>
                  <a:pt x="2316" y="4592"/>
                </a:lnTo>
                <a:lnTo>
                  <a:pt x="2355" y="4592"/>
                </a:lnTo>
                <a:lnTo>
                  <a:pt x="2408" y="4566"/>
                </a:lnTo>
                <a:lnTo>
                  <a:pt x="2448" y="4552"/>
                </a:lnTo>
                <a:lnTo>
                  <a:pt x="2488" y="4539"/>
                </a:lnTo>
                <a:lnTo>
                  <a:pt x="2567" y="4539"/>
                </a:lnTo>
                <a:lnTo>
                  <a:pt x="2607" y="4526"/>
                </a:lnTo>
                <a:lnTo>
                  <a:pt x="2752" y="4526"/>
                </a:lnTo>
                <a:lnTo>
                  <a:pt x="2845" y="4499"/>
                </a:lnTo>
                <a:lnTo>
                  <a:pt x="2893" y="4460"/>
                </a:lnTo>
                <a:lnTo>
                  <a:pt x="2937" y="4442"/>
                </a:lnTo>
                <a:lnTo>
                  <a:pt x="3017" y="4433"/>
                </a:lnTo>
                <a:lnTo>
                  <a:pt x="3043" y="4394"/>
                </a:lnTo>
                <a:lnTo>
                  <a:pt x="3070" y="4354"/>
                </a:lnTo>
                <a:lnTo>
                  <a:pt x="3096" y="4314"/>
                </a:lnTo>
                <a:lnTo>
                  <a:pt x="3149" y="4275"/>
                </a:lnTo>
                <a:lnTo>
                  <a:pt x="3255" y="4235"/>
                </a:lnTo>
                <a:lnTo>
                  <a:pt x="3295" y="4195"/>
                </a:lnTo>
                <a:lnTo>
                  <a:pt x="3334" y="4169"/>
                </a:lnTo>
                <a:lnTo>
                  <a:pt x="3374" y="4142"/>
                </a:lnTo>
                <a:lnTo>
                  <a:pt x="3414" y="4116"/>
                </a:lnTo>
                <a:lnTo>
                  <a:pt x="3453" y="4089"/>
                </a:lnTo>
                <a:lnTo>
                  <a:pt x="3493" y="4063"/>
                </a:lnTo>
                <a:lnTo>
                  <a:pt x="3546" y="4050"/>
                </a:lnTo>
                <a:lnTo>
                  <a:pt x="3652" y="4036"/>
                </a:lnTo>
                <a:lnTo>
                  <a:pt x="3705" y="3997"/>
                </a:lnTo>
                <a:lnTo>
                  <a:pt x="3744" y="3957"/>
                </a:lnTo>
                <a:lnTo>
                  <a:pt x="3784" y="3917"/>
                </a:lnTo>
                <a:lnTo>
                  <a:pt x="3824" y="3878"/>
                </a:lnTo>
                <a:lnTo>
                  <a:pt x="3863" y="3851"/>
                </a:lnTo>
                <a:lnTo>
                  <a:pt x="3969" y="3798"/>
                </a:lnTo>
                <a:lnTo>
                  <a:pt x="4009" y="3745"/>
                </a:lnTo>
                <a:lnTo>
                  <a:pt x="4035" y="3706"/>
                </a:lnTo>
                <a:lnTo>
                  <a:pt x="4062" y="3626"/>
                </a:lnTo>
                <a:lnTo>
                  <a:pt x="4075" y="3573"/>
                </a:lnTo>
                <a:lnTo>
                  <a:pt x="4088" y="3520"/>
                </a:lnTo>
                <a:lnTo>
                  <a:pt x="4115" y="3387"/>
                </a:lnTo>
                <a:lnTo>
                  <a:pt x="4115" y="3334"/>
                </a:lnTo>
                <a:lnTo>
                  <a:pt x="4128" y="3255"/>
                </a:lnTo>
                <a:lnTo>
                  <a:pt x="4154" y="3149"/>
                </a:lnTo>
                <a:lnTo>
                  <a:pt x="4194" y="3096"/>
                </a:lnTo>
                <a:lnTo>
                  <a:pt x="4221" y="2990"/>
                </a:lnTo>
                <a:lnTo>
                  <a:pt x="4247" y="2937"/>
                </a:lnTo>
                <a:lnTo>
                  <a:pt x="4287" y="2884"/>
                </a:lnTo>
                <a:lnTo>
                  <a:pt x="4300" y="2845"/>
                </a:lnTo>
                <a:lnTo>
                  <a:pt x="4340" y="2792"/>
                </a:lnTo>
                <a:lnTo>
                  <a:pt x="4353" y="2752"/>
                </a:lnTo>
                <a:lnTo>
                  <a:pt x="4366" y="2712"/>
                </a:lnTo>
                <a:lnTo>
                  <a:pt x="4393" y="2580"/>
                </a:lnTo>
                <a:lnTo>
                  <a:pt x="4406" y="2541"/>
                </a:lnTo>
                <a:lnTo>
                  <a:pt x="4419" y="2408"/>
                </a:lnTo>
                <a:lnTo>
                  <a:pt x="4432" y="2355"/>
                </a:lnTo>
                <a:lnTo>
                  <a:pt x="4446" y="2302"/>
                </a:lnTo>
                <a:lnTo>
                  <a:pt x="4459" y="2263"/>
                </a:lnTo>
                <a:lnTo>
                  <a:pt x="4459" y="2223"/>
                </a:lnTo>
                <a:lnTo>
                  <a:pt x="4472" y="2183"/>
                </a:lnTo>
                <a:lnTo>
                  <a:pt x="4472" y="2104"/>
                </a:lnTo>
                <a:lnTo>
                  <a:pt x="4472" y="2051"/>
                </a:lnTo>
                <a:lnTo>
                  <a:pt x="4472" y="1998"/>
                </a:lnTo>
                <a:lnTo>
                  <a:pt x="4459" y="1906"/>
                </a:lnTo>
                <a:lnTo>
                  <a:pt x="4432" y="1800"/>
                </a:lnTo>
                <a:lnTo>
                  <a:pt x="4432" y="1760"/>
                </a:lnTo>
                <a:lnTo>
                  <a:pt x="4406" y="1720"/>
                </a:lnTo>
                <a:lnTo>
                  <a:pt x="4379" y="1681"/>
                </a:lnTo>
                <a:lnTo>
                  <a:pt x="4366" y="1641"/>
                </a:lnTo>
                <a:lnTo>
                  <a:pt x="4340" y="1601"/>
                </a:lnTo>
                <a:lnTo>
                  <a:pt x="4326" y="1562"/>
                </a:lnTo>
                <a:lnTo>
                  <a:pt x="4300" y="1522"/>
                </a:lnTo>
                <a:lnTo>
                  <a:pt x="4274" y="1482"/>
                </a:lnTo>
                <a:lnTo>
                  <a:pt x="4247" y="1442"/>
                </a:lnTo>
                <a:lnTo>
                  <a:pt x="4207" y="1337"/>
                </a:lnTo>
                <a:lnTo>
                  <a:pt x="4181" y="1297"/>
                </a:lnTo>
                <a:lnTo>
                  <a:pt x="4154" y="1218"/>
                </a:lnTo>
                <a:lnTo>
                  <a:pt x="4115" y="1178"/>
                </a:lnTo>
                <a:lnTo>
                  <a:pt x="4075" y="1165"/>
                </a:lnTo>
                <a:lnTo>
                  <a:pt x="4062" y="1124"/>
                </a:lnTo>
                <a:lnTo>
                  <a:pt x="4022" y="1098"/>
                </a:lnTo>
                <a:lnTo>
                  <a:pt x="3996" y="1005"/>
                </a:lnTo>
                <a:lnTo>
                  <a:pt x="3982" y="965"/>
                </a:lnTo>
                <a:lnTo>
                  <a:pt x="3956" y="886"/>
                </a:lnTo>
                <a:lnTo>
                  <a:pt x="3943" y="846"/>
                </a:lnTo>
                <a:lnTo>
                  <a:pt x="3930" y="793"/>
                </a:lnTo>
                <a:lnTo>
                  <a:pt x="3916" y="754"/>
                </a:lnTo>
                <a:lnTo>
                  <a:pt x="3899" y="687"/>
                </a:lnTo>
                <a:lnTo>
                  <a:pt x="3850" y="648"/>
                </a:lnTo>
                <a:lnTo>
                  <a:pt x="3784" y="577"/>
                </a:lnTo>
                <a:lnTo>
                  <a:pt x="3744" y="537"/>
                </a:lnTo>
                <a:lnTo>
                  <a:pt x="3718" y="502"/>
                </a:lnTo>
                <a:lnTo>
                  <a:pt x="3665" y="489"/>
                </a:lnTo>
                <a:lnTo>
                  <a:pt x="3652" y="449"/>
                </a:lnTo>
                <a:lnTo>
                  <a:pt x="3599" y="423"/>
                </a:lnTo>
                <a:lnTo>
                  <a:pt x="3480" y="396"/>
                </a:lnTo>
                <a:lnTo>
                  <a:pt x="3427" y="370"/>
                </a:lnTo>
                <a:lnTo>
                  <a:pt x="3387" y="357"/>
                </a:lnTo>
                <a:lnTo>
                  <a:pt x="3347" y="330"/>
                </a:lnTo>
                <a:lnTo>
                  <a:pt x="3255" y="317"/>
                </a:lnTo>
                <a:lnTo>
                  <a:pt x="3202" y="304"/>
                </a:lnTo>
                <a:lnTo>
                  <a:pt x="3109" y="277"/>
                </a:lnTo>
                <a:lnTo>
                  <a:pt x="3070" y="251"/>
                </a:lnTo>
                <a:lnTo>
                  <a:pt x="3017" y="224"/>
                </a:lnTo>
                <a:lnTo>
                  <a:pt x="2977" y="211"/>
                </a:lnTo>
                <a:lnTo>
                  <a:pt x="2898" y="198"/>
                </a:lnTo>
                <a:lnTo>
                  <a:pt x="2845" y="171"/>
                </a:lnTo>
                <a:lnTo>
                  <a:pt x="2805" y="132"/>
                </a:lnTo>
                <a:lnTo>
                  <a:pt x="2765" y="105"/>
                </a:lnTo>
                <a:lnTo>
                  <a:pt x="2726" y="92"/>
                </a:lnTo>
                <a:lnTo>
                  <a:pt x="2686" y="66"/>
                </a:lnTo>
                <a:lnTo>
                  <a:pt x="2633" y="52"/>
                </a:lnTo>
                <a:lnTo>
                  <a:pt x="2580" y="52"/>
                </a:lnTo>
                <a:lnTo>
                  <a:pt x="2474" y="39"/>
                </a:lnTo>
                <a:lnTo>
                  <a:pt x="2435" y="39"/>
                </a:lnTo>
                <a:lnTo>
                  <a:pt x="2395" y="26"/>
                </a:lnTo>
                <a:lnTo>
                  <a:pt x="2355" y="13"/>
                </a:lnTo>
                <a:lnTo>
                  <a:pt x="2316" y="0"/>
                </a:lnTo>
                <a:lnTo>
                  <a:pt x="2263" y="0"/>
                </a:lnTo>
                <a:lnTo>
                  <a:pt x="2182" y="13"/>
                </a:lnTo>
                <a:lnTo>
                  <a:pt x="2143" y="39"/>
                </a:lnTo>
                <a:lnTo>
                  <a:pt x="2182" y="39"/>
                </a:lnTo>
              </a:path>
            </a:pathLst>
          </a:custGeom>
          <a:ln w="25560">
            <a:solidFill>
              <a:srgbClr val="fafd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 flipV="1">
            <a:off x="5695920" y="5062680"/>
            <a:ext cx="222120" cy="2174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0" name=""/>
          <p:cNvGrpSpPr/>
          <p:nvPr/>
        </p:nvGrpSpPr>
        <p:grpSpPr>
          <a:xfrm>
            <a:off x="5070600" y="4819680"/>
            <a:ext cx="2435040" cy="0"/>
            <a:chOff x="5070600" y="4819680"/>
            <a:chExt cx="2435040" cy="0"/>
          </a:xfrm>
        </p:grpSpPr>
        <p:sp>
          <p:nvSpPr>
            <p:cNvPr id="1201" name=""/>
            <p:cNvSpPr/>
            <p:nvPr/>
          </p:nvSpPr>
          <p:spPr>
            <a:xfrm>
              <a:off x="5070600" y="4819680"/>
              <a:ext cx="10587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235560" y="48196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416640" y="4819680"/>
              <a:ext cx="1089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"/>
          <p:cNvSpPr txBox="1"/>
          <p:nvPr/>
        </p:nvSpPr>
        <p:spPr>
          <a:xfrm>
            <a:off x="285840" y="228600"/>
            <a:ext cx="85248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IRCULARITY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5" name=""/>
          <p:cNvGrpSpPr/>
          <p:nvPr/>
        </p:nvGrpSpPr>
        <p:grpSpPr>
          <a:xfrm>
            <a:off x="136440" y="895320"/>
            <a:ext cx="5480280" cy="5479920"/>
            <a:chOff x="136440" y="895320"/>
            <a:chExt cx="5480280" cy="5479920"/>
          </a:xfrm>
        </p:grpSpPr>
        <p:sp>
          <p:nvSpPr>
            <p:cNvPr id="1206" name=""/>
            <p:cNvSpPr/>
            <p:nvPr/>
          </p:nvSpPr>
          <p:spPr>
            <a:xfrm>
              <a:off x="608040" y="1363680"/>
              <a:ext cx="4557600" cy="4557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084320" y="1792440"/>
              <a:ext cx="3623040" cy="3719880"/>
            </a:xfrm>
            <a:custGeom>
              <a:avLst/>
              <a:gdLst/>
              <a:ahLst/>
              <a:rect l="0" t="0" r="r" b="b"/>
              <a:pathLst>
                <a:path w="10064" h="10333">
                  <a:moveTo>
                    <a:pt x="5002" y="29"/>
                  </a:moveTo>
                  <a:lnTo>
                    <a:pt x="4913" y="59"/>
                  </a:lnTo>
                  <a:lnTo>
                    <a:pt x="4824" y="89"/>
                  </a:lnTo>
                  <a:lnTo>
                    <a:pt x="4734" y="119"/>
                  </a:lnTo>
                  <a:lnTo>
                    <a:pt x="4645" y="119"/>
                  </a:lnTo>
                  <a:lnTo>
                    <a:pt x="4556" y="119"/>
                  </a:lnTo>
                  <a:lnTo>
                    <a:pt x="4466" y="119"/>
                  </a:lnTo>
                  <a:lnTo>
                    <a:pt x="4377" y="119"/>
                  </a:lnTo>
                  <a:lnTo>
                    <a:pt x="4288" y="119"/>
                  </a:lnTo>
                  <a:lnTo>
                    <a:pt x="4198" y="148"/>
                  </a:lnTo>
                  <a:lnTo>
                    <a:pt x="4109" y="178"/>
                  </a:lnTo>
                  <a:lnTo>
                    <a:pt x="4020" y="208"/>
                  </a:lnTo>
                  <a:lnTo>
                    <a:pt x="3930" y="238"/>
                  </a:lnTo>
                  <a:lnTo>
                    <a:pt x="3841" y="267"/>
                  </a:lnTo>
                  <a:lnTo>
                    <a:pt x="3752" y="297"/>
                  </a:lnTo>
                  <a:lnTo>
                    <a:pt x="3662" y="297"/>
                  </a:lnTo>
                  <a:lnTo>
                    <a:pt x="3573" y="297"/>
                  </a:lnTo>
                  <a:lnTo>
                    <a:pt x="3454" y="327"/>
                  </a:lnTo>
                  <a:lnTo>
                    <a:pt x="3365" y="357"/>
                  </a:lnTo>
                  <a:lnTo>
                    <a:pt x="3275" y="357"/>
                  </a:lnTo>
                  <a:lnTo>
                    <a:pt x="3186" y="387"/>
                  </a:lnTo>
                  <a:lnTo>
                    <a:pt x="3097" y="416"/>
                  </a:lnTo>
                  <a:lnTo>
                    <a:pt x="2978" y="506"/>
                  </a:lnTo>
                  <a:lnTo>
                    <a:pt x="2769" y="595"/>
                  </a:lnTo>
                  <a:lnTo>
                    <a:pt x="2680" y="655"/>
                  </a:lnTo>
                  <a:lnTo>
                    <a:pt x="2620" y="744"/>
                  </a:lnTo>
                  <a:lnTo>
                    <a:pt x="2531" y="774"/>
                  </a:lnTo>
                  <a:lnTo>
                    <a:pt x="2441" y="893"/>
                  </a:lnTo>
                  <a:lnTo>
                    <a:pt x="2351" y="982"/>
                  </a:lnTo>
                  <a:lnTo>
                    <a:pt x="2232" y="1071"/>
                  </a:lnTo>
                  <a:lnTo>
                    <a:pt x="2113" y="1131"/>
                  </a:lnTo>
                  <a:lnTo>
                    <a:pt x="2024" y="1191"/>
                  </a:lnTo>
                  <a:lnTo>
                    <a:pt x="1935" y="1250"/>
                  </a:lnTo>
                  <a:lnTo>
                    <a:pt x="1845" y="1310"/>
                  </a:lnTo>
                  <a:lnTo>
                    <a:pt x="1726" y="1369"/>
                  </a:lnTo>
                  <a:lnTo>
                    <a:pt x="1637" y="1429"/>
                  </a:lnTo>
                  <a:lnTo>
                    <a:pt x="1548" y="1488"/>
                  </a:lnTo>
                  <a:lnTo>
                    <a:pt x="1458" y="1578"/>
                  </a:lnTo>
                  <a:lnTo>
                    <a:pt x="1369" y="1667"/>
                  </a:lnTo>
                  <a:lnTo>
                    <a:pt x="1339" y="1756"/>
                  </a:lnTo>
                  <a:lnTo>
                    <a:pt x="1280" y="1846"/>
                  </a:lnTo>
                  <a:lnTo>
                    <a:pt x="1190" y="1935"/>
                  </a:lnTo>
                  <a:lnTo>
                    <a:pt x="1012" y="2024"/>
                  </a:lnTo>
                  <a:lnTo>
                    <a:pt x="952" y="2114"/>
                  </a:lnTo>
                  <a:lnTo>
                    <a:pt x="893" y="2203"/>
                  </a:lnTo>
                  <a:lnTo>
                    <a:pt x="863" y="2292"/>
                  </a:lnTo>
                  <a:lnTo>
                    <a:pt x="803" y="2471"/>
                  </a:lnTo>
                  <a:lnTo>
                    <a:pt x="774" y="2560"/>
                  </a:lnTo>
                  <a:lnTo>
                    <a:pt x="744" y="2740"/>
                  </a:lnTo>
                  <a:lnTo>
                    <a:pt x="714" y="2829"/>
                  </a:lnTo>
                  <a:lnTo>
                    <a:pt x="654" y="2918"/>
                  </a:lnTo>
                  <a:lnTo>
                    <a:pt x="595" y="3038"/>
                  </a:lnTo>
                  <a:lnTo>
                    <a:pt x="565" y="3127"/>
                  </a:lnTo>
                  <a:lnTo>
                    <a:pt x="506" y="3216"/>
                  </a:lnTo>
                  <a:lnTo>
                    <a:pt x="416" y="3306"/>
                  </a:lnTo>
                  <a:lnTo>
                    <a:pt x="387" y="3395"/>
                  </a:lnTo>
                  <a:lnTo>
                    <a:pt x="297" y="3693"/>
                  </a:lnTo>
                  <a:lnTo>
                    <a:pt x="238" y="3782"/>
                  </a:lnTo>
                  <a:lnTo>
                    <a:pt x="208" y="3871"/>
                  </a:lnTo>
                  <a:lnTo>
                    <a:pt x="178" y="4139"/>
                  </a:lnTo>
                  <a:lnTo>
                    <a:pt x="119" y="4229"/>
                  </a:lnTo>
                  <a:lnTo>
                    <a:pt x="89" y="4407"/>
                  </a:lnTo>
                  <a:lnTo>
                    <a:pt x="59" y="4616"/>
                  </a:lnTo>
                  <a:lnTo>
                    <a:pt x="29" y="4705"/>
                  </a:lnTo>
                  <a:lnTo>
                    <a:pt x="0" y="4943"/>
                  </a:lnTo>
                  <a:lnTo>
                    <a:pt x="0" y="5062"/>
                  </a:lnTo>
                  <a:lnTo>
                    <a:pt x="0" y="5152"/>
                  </a:lnTo>
                  <a:lnTo>
                    <a:pt x="0" y="5360"/>
                  </a:lnTo>
                  <a:lnTo>
                    <a:pt x="0" y="5449"/>
                  </a:lnTo>
                  <a:lnTo>
                    <a:pt x="0" y="5628"/>
                  </a:lnTo>
                  <a:lnTo>
                    <a:pt x="29" y="5747"/>
                  </a:lnTo>
                  <a:lnTo>
                    <a:pt x="29" y="5926"/>
                  </a:lnTo>
                  <a:lnTo>
                    <a:pt x="59" y="6134"/>
                  </a:lnTo>
                  <a:lnTo>
                    <a:pt x="89" y="6224"/>
                  </a:lnTo>
                  <a:lnTo>
                    <a:pt x="148" y="6313"/>
                  </a:lnTo>
                  <a:lnTo>
                    <a:pt x="178" y="6402"/>
                  </a:lnTo>
                  <a:lnTo>
                    <a:pt x="178" y="6491"/>
                  </a:lnTo>
                  <a:lnTo>
                    <a:pt x="238" y="6611"/>
                  </a:lnTo>
                  <a:lnTo>
                    <a:pt x="267" y="6700"/>
                  </a:lnTo>
                  <a:lnTo>
                    <a:pt x="297" y="6819"/>
                  </a:lnTo>
                  <a:lnTo>
                    <a:pt x="357" y="6938"/>
                  </a:lnTo>
                  <a:lnTo>
                    <a:pt x="446" y="7027"/>
                  </a:lnTo>
                  <a:lnTo>
                    <a:pt x="535" y="7147"/>
                  </a:lnTo>
                  <a:lnTo>
                    <a:pt x="625" y="7385"/>
                  </a:lnTo>
                  <a:lnTo>
                    <a:pt x="714" y="7474"/>
                  </a:lnTo>
                  <a:lnTo>
                    <a:pt x="774" y="7563"/>
                  </a:lnTo>
                  <a:lnTo>
                    <a:pt x="863" y="7653"/>
                  </a:lnTo>
                  <a:lnTo>
                    <a:pt x="893" y="7742"/>
                  </a:lnTo>
                  <a:lnTo>
                    <a:pt x="982" y="7832"/>
                  </a:lnTo>
                  <a:lnTo>
                    <a:pt x="1161" y="8041"/>
                  </a:lnTo>
                  <a:lnTo>
                    <a:pt x="1220" y="8130"/>
                  </a:lnTo>
                  <a:lnTo>
                    <a:pt x="1280" y="8219"/>
                  </a:lnTo>
                  <a:lnTo>
                    <a:pt x="1339" y="8339"/>
                  </a:lnTo>
                  <a:lnTo>
                    <a:pt x="1429" y="8428"/>
                  </a:lnTo>
                  <a:lnTo>
                    <a:pt x="1637" y="8815"/>
                  </a:lnTo>
                  <a:lnTo>
                    <a:pt x="1697" y="9053"/>
                  </a:lnTo>
                  <a:lnTo>
                    <a:pt x="1756" y="9172"/>
                  </a:lnTo>
                  <a:lnTo>
                    <a:pt x="1845" y="9232"/>
                  </a:lnTo>
                  <a:lnTo>
                    <a:pt x="1964" y="9262"/>
                  </a:lnTo>
                  <a:lnTo>
                    <a:pt x="2024" y="9351"/>
                  </a:lnTo>
                  <a:lnTo>
                    <a:pt x="2143" y="9381"/>
                  </a:lnTo>
                  <a:lnTo>
                    <a:pt x="2262" y="9470"/>
                  </a:lnTo>
                  <a:lnTo>
                    <a:pt x="2500" y="9500"/>
                  </a:lnTo>
                  <a:lnTo>
                    <a:pt x="2591" y="9559"/>
                  </a:lnTo>
                  <a:lnTo>
                    <a:pt x="2829" y="9619"/>
                  </a:lnTo>
                  <a:lnTo>
                    <a:pt x="3037" y="9649"/>
                  </a:lnTo>
                  <a:lnTo>
                    <a:pt x="3216" y="9678"/>
                  </a:lnTo>
                  <a:lnTo>
                    <a:pt x="3305" y="9708"/>
                  </a:lnTo>
                  <a:lnTo>
                    <a:pt x="3395" y="9738"/>
                  </a:lnTo>
                  <a:lnTo>
                    <a:pt x="3514" y="9798"/>
                  </a:lnTo>
                  <a:lnTo>
                    <a:pt x="3603" y="9827"/>
                  </a:lnTo>
                  <a:lnTo>
                    <a:pt x="3692" y="9887"/>
                  </a:lnTo>
                  <a:lnTo>
                    <a:pt x="3901" y="9917"/>
                  </a:lnTo>
                  <a:lnTo>
                    <a:pt x="4109" y="9976"/>
                  </a:lnTo>
                  <a:lnTo>
                    <a:pt x="4228" y="10006"/>
                  </a:lnTo>
                  <a:lnTo>
                    <a:pt x="4347" y="10006"/>
                  </a:lnTo>
                  <a:lnTo>
                    <a:pt x="4437" y="10066"/>
                  </a:lnTo>
                  <a:lnTo>
                    <a:pt x="4526" y="10095"/>
                  </a:lnTo>
                  <a:lnTo>
                    <a:pt x="4615" y="10125"/>
                  </a:lnTo>
                  <a:lnTo>
                    <a:pt x="4704" y="10185"/>
                  </a:lnTo>
                  <a:lnTo>
                    <a:pt x="4933" y="10304"/>
                  </a:lnTo>
                  <a:lnTo>
                    <a:pt x="4972" y="10294"/>
                  </a:lnTo>
                  <a:lnTo>
                    <a:pt x="5092" y="10324"/>
                  </a:lnTo>
                  <a:lnTo>
                    <a:pt x="5211" y="10333"/>
                  </a:lnTo>
                  <a:lnTo>
                    <a:pt x="5300" y="10333"/>
                  </a:lnTo>
                  <a:lnTo>
                    <a:pt x="5419" y="10274"/>
                  </a:lnTo>
                  <a:lnTo>
                    <a:pt x="5508" y="10244"/>
                  </a:lnTo>
                  <a:lnTo>
                    <a:pt x="5598" y="10214"/>
                  </a:lnTo>
                  <a:lnTo>
                    <a:pt x="5776" y="10214"/>
                  </a:lnTo>
                  <a:lnTo>
                    <a:pt x="5866" y="10185"/>
                  </a:lnTo>
                  <a:lnTo>
                    <a:pt x="6193" y="10185"/>
                  </a:lnTo>
                  <a:lnTo>
                    <a:pt x="6402" y="10125"/>
                  </a:lnTo>
                  <a:lnTo>
                    <a:pt x="6511" y="10036"/>
                  </a:lnTo>
                  <a:lnTo>
                    <a:pt x="6610" y="9996"/>
                  </a:lnTo>
                  <a:lnTo>
                    <a:pt x="6789" y="9976"/>
                  </a:lnTo>
                  <a:lnTo>
                    <a:pt x="6848" y="9887"/>
                  </a:lnTo>
                  <a:lnTo>
                    <a:pt x="6908" y="9798"/>
                  </a:lnTo>
                  <a:lnTo>
                    <a:pt x="6967" y="9708"/>
                  </a:lnTo>
                  <a:lnTo>
                    <a:pt x="7086" y="9619"/>
                  </a:lnTo>
                  <a:lnTo>
                    <a:pt x="7324" y="9530"/>
                  </a:lnTo>
                  <a:lnTo>
                    <a:pt x="7414" y="9440"/>
                  </a:lnTo>
                  <a:lnTo>
                    <a:pt x="7503" y="9381"/>
                  </a:lnTo>
                  <a:lnTo>
                    <a:pt x="7593" y="9321"/>
                  </a:lnTo>
                  <a:lnTo>
                    <a:pt x="7683" y="9262"/>
                  </a:lnTo>
                  <a:lnTo>
                    <a:pt x="7772" y="9202"/>
                  </a:lnTo>
                  <a:lnTo>
                    <a:pt x="7861" y="9142"/>
                  </a:lnTo>
                  <a:lnTo>
                    <a:pt x="7980" y="9113"/>
                  </a:lnTo>
                  <a:lnTo>
                    <a:pt x="8219" y="9083"/>
                  </a:lnTo>
                  <a:lnTo>
                    <a:pt x="8338" y="8994"/>
                  </a:lnTo>
                  <a:lnTo>
                    <a:pt x="8427" y="8904"/>
                  </a:lnTo>
                  <a:lnTo>
                    <a:pt x="8516" y="8815"/>
                  </a:lnTo>
                  <a:lnTo>
                    <a:pt x="8606" y="8726"/>
                  </a:lnTo>
                  <a:lnTo>
                    <a:pt x="8695" y="8666"/>
                  </a:lnTo>
                  <a:lnTo>
                    <a:pt x="8933" y="8547"/>
                  </a:lnTo>
                  <a:lnTo>
                    <a:pt x="9022" y="8428"/>
                  </a:lnTo>
                  <a:lnTo>
                    <a:pt x="9082" y="8339"/>
                  </a:lnTo>
                  <a:lnTo>
                    <a:pt x="9142" y="8160"/>
                  </a:lnTo>
                  <a:lnTo>
                    <a:pt x="9171" y="8041"/>
                  </a:lnTo>
                  <a:lnTo>
                    <a:pt x="9201" y="7922"/>
                  </a:lnTo>
                  <a:lnTo>
                    <a:pt x="9261" y="7623"/>
                  </a:lnTo>
                  <a:lnTo>
                    <a:pt x="9261" y="7504"/>
                  </a:lnTo>
                  <a:lnTo>
                    <a:pt x="9290" y="7325"/>
                  </a:lnTo>
                  <a:lnTo>
                    <a:pt x="9350" y="7087"/>
                  </a:lnTo>
                  <a:lnTo>
                    <a:pt x="9439" y="6968"/>
                  </a:lnTo>
                  <a:lnTo>
                    <a:pt x="9499" y="6730"/>
                  </a:lnTo>
                  <a:lnTo>
                    <a:pt x="9558" y="6611"/>
                  </a:lnTo>
                  <a:lnTo>
                    <a:pt x="9648" y="6491"/>
                  </a:lnTo>
                  <a:lnTo>
                    <a:pt x="9677" y="6402"/>
                  </a:lnTo>
                  <a:lnTo>
                    <a:pt x="9767" y="6283"/>
                  </a:lnTo>
                  <a:lnTo>
                    <a:pt x="9797" y="6194"/>
                  </a:lnTo>
                  <a:lnTo>
                    <a:pt x="9826" y="6104"/>
                  </a:lnTo>
                  <a:lnTo>
                    <a:pt x="9886" y="5807"/>
                  </a:lnTo>
                  <a:lnTo>
                    <a:pt x="9916" y="5717"/>
                  </a:lnTo>
                  <a:lnTo>
                    <a:pt x="9945" y="5420"/>
                  </a:lnTo>
                  <a:lnTo>
                    <a:pt x="9975" y="5300"/>
                  </a:lnTo>
                  <a:lnTo>
                    <a:pt x="10005" y="5181"/>
                  </a:lnTo>
                  <a:lnTo>
                    <a:pt x="10035" y="5092"/>
                  </a:lnTo>
                  <a:lnTo>
                    <a:pt x="10035" y="5003"/>
                  </a:lnTo>
                  <a:lnTo>
                    <a:pt x="10064" y="4913"/>
                  </a:lnTo>
                  <a:lnTo>
                    <a:pt x="10064" y="4735"/>
                  </a:lnTo>
                  <a:lnTo>
                    <a:pt x="10064" y="4616"/>
                  </a:lnTo>
                  <a:lnTo>
                    <a:pt x="10064" y="4497"/>
                  </a:lnTo>
                  <a:lnTo>
                    <a:pt x="10035" y="4288"/>
                  </a:lnTo>
                  <a:lnTo>
                    <a:pt x="9975" y="4050"/>
                  </a:lnTo>
                  <a:lnTo>
                    <a:pt x="9975" y="3961"/>
                  </a:lnTo>
                  <a:lnTo>
                    <a:pt x="9916" y="3871"/>
                  </a:lnTo>
                  <a:lnTo>
                    <a:pt x="9856" y="3782"/>
                  </a:lnTo>
                  <a:lnTo>
                    <a:pt x="9826" y="3693"/>
                  </a:lnTo>
                  <a:lnTo>
                    <a:pt x="9767" y="3603"/>
                  </a:lnTo>
                  <a:lnTo>
                    <a:pt x="9737" y="3514"/>
                  </a:lnTo>
                  <a:lnTo>
                    <a:pt x="9677" y="3425"/>
                  </a:lnTo>
                  <a:lnTo>
                    <a:pt x="9618" y="3335"/>
                  </a:lnTo>
                  <a:lnTo>
                    <a:pt x="9558" y="3246"/>
                  </a:lnTo>
                  <a:lnTo>
                    <a:pt x="9469" y="3008"/>
                  </a:lnTo>
                  <a:lnTo>
                    <a:pt x="9409" y="2918"/>
                  </a:lnTo>
                  <a:lnTo>
                    <a:pt x="9350" y="2740"/>
                  </a:lnTo>
                  <a:lnTo>
                    <a:pt x="9261" y="2650"/>
                  </a:lnTo>
                  <a:lnTo>
                    <a:pt x="9171" y="2621"/>
                  </a:lnTo>
                  <a:lnTo>
                    <a:pt x="9142" y="2530"/>
                  </a:lnTo>
                  <a:lnTo>
                    <a:pt x="9052" y="2471"/>
                  </a:lnTo>
                  <a:lnTo>
                    <a:pt x="8993" y="2262"/>
                  </a:lnTo>
                  <a:lnTo>
                    <a:pt x="8963" y="2173"/>
                  </a:lnTo>
                  <a:lnTo>
                    <a:pt x="8903" y="1994"/>
                  </a:lnTo>
                  <a:lnTo>
                    <a:pt x="8874" y="1905"/>
                  </a:lnTo>
                  <a:lnTo>
                    <a:pt x="8844" y="1786"/>
                  </a:lnTo>
                  <a:lnTo>
                    <a:pt x="8814" y="1697"/>
                  </a:lnTo>
                  <a:lnTo>
                    <a:pt x="8774" y="1548"/>
                  </a:lnTo>
                  <a:lnTo>
                    <a:pt x="8665" y="1458"/>
                  </a:lnTo>
                  <a:lnTo>
                    <a:pt x="8516" y="1300"/>
                  </a:lnTo>
                  <a:lnTo>
                    <a:pt x="8427" y="1210"/>
                  </a:lnTo>
                  <a:lnTo>
                    <a:pt x="8367" y="1131"/>
                  </a:lnTo>
                  <a:lnTo>
                    <a:pt x="8248" y="1101"/>
                  </a:lnTo>
                  <a:lnTo>
                    <a:pt x="8219" y="1012"/>
                  </a:lnTo>
                  <a:lnTo>
                    <a:pt x="8100" y="952"/>
                  </a:lnTo>
                  <a:lnTo>
                    <a:pt x="7832" y="893"/>
                  </a:lnTo>
                  <a:lnTo>
                    <a:pt x="7712" y="833"/>
                  </a:lnTo>
                  <a:lnTo>
                    <a:pt x="7623" y="803"/>
                  </a:lnTo>
                  <a:lnTo>
                    <a:pt x="7533" y="744"/>
                  </a:lnTo>
                  <a:lnTo>
                    <a:pt x="7324" y="714"/>
                  </a:lnTo>
                  <a:lnTo>
                    <a:pt x="7205" y="684"/>
                  </a:lnTo>
                  <a:lnTo>
                    <a:pt x="6997" y="625"/>
                  </a:lnTo>
                  <a:lnTo>
                    <a:pt x="6908" y="565"/>
                  </a:lnTo>
                  <a:lnTo>
                    <a:pt x="6789" y="506"/>
                  </a:lnTo>
                  <a:lnTo>
                    <a:pt x="6699" y="476"/>
                  </a:lnTo>
                  <a:lnTo>
                    <a:pt x="6521" y="446"/>
                  </a:lnTo>
                  <a:lnTo>
                    <a:pt x="6402" y="387"/>
                  </a:lnTo>
                  <a:lnTo>
                    <a:pt x="6312" y="297"/>
                  </a:lnTo>
                  <a:lnTo>
                    <a:pt x="6223" y="238"/>
                  </a:lnTo>
                  <a:lnTo>
                    <a:pt x="6134" y="208"/>
                  </a:lnTo>
                  <a:lnTo>
                    <a:pt x="6044" y="148"/>
                  </a:lnTo>
                  <a:lnTo>
                    <a:pt x="5925" y="119"/>
                  </a:lnTo>
                  <a:lnTo>
                    <a:pt x="5806" y="119"/>
                  </a:lnTo>
                  <a:lnTo>
                    <a:pt x="5568" y="89"/>
                  </a:lnTo>
                  <a:lnTo>
                    <a:pt x="5479" y="89"/>
                  </a:lnTo>
                  <a:lnTo>
                    <a:pt x="5389" y="59"/>
                  </a:lnTo>
                  <a:lnTo>
                    <a:pt x="5300" y="29"/>
                  </a:lnTo>
                  <a:lnTo>
                    <a:pt x="5211" y="0"/>
                  </a:lnTo>
                  <a:lnTo>
                    <a:pt x="5092" y="0"/>
                  </a:lnTo>
                  <a:lnTo>
                    <a:pt x="4913" y="29"/>
                  </a:lnTo>
                  <a:lnTo>
                    <a:pt x="4824" y="89"/>
                  </a:lnTo>
                  <a:lnTo>
                    <a:pt x="4913" y="89"/>
                  </a:lnTo>
                  <a:lnTo>
                    <a:pt x="5002" y="29"/>
                  </a:lnTo>
                  <a:close/>
                </a:path>
              </a:pathLst>
            </a:custGeom>
            <a:blipFill rotWithShape="0">
              <a:blip r:embed="rId1"/>
              <a:tile tx="0" ty="0" sx="133018" sy="133018" algn="ctr"/>
            </a:blipFill>
            <a:ln w="25560">
              <a:solidFill>
                <a:srgbClr val="fafd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230480" y="2000160"/>
              <a:ext cx="3319560" cy="331956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958680" y="1714680"/>
              <a:ext cx="3857760" cy="385776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308240" y="2077920"/>
              <a:ext cx="3162240" cy="3162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1" name=""/>
            <p:cNvGrpSpPr/>
            <p:nvPr/>
          </p:nvGrpSpPr>
          <p:grpSpPr>
            <a:xfrm>
              <a:off x="2876400" y="895320"/>
              <a:ext cx="0" cy="5479920"/>
              <a:chOff x="2876400" y="895320"/>
              <a:chExt cx="0" cy="5479920"/>
            </a:xfrm>
          </p:grpSpPr>
          <p:sp>
            <p:nvSpPr>
              <p:cNvPr id="1212" name=""/>
              <p:cNvSpPr/>
              <p:nvPr/>
            </p:nvSpPr>
            <p:spPr>
              <a:xfrm flipV="1">
                <a:off x="2876400" y="3990960"/>
                <a:ext cx="0" cy="238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flipV="1">
                <a:off x="2876400" y="3517920"/>
                <a:ext cx="0" cy="235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flipV="1">
                <a:off x="2876400" y="895320"/>
                <a:ext cx="0" cy="2451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5" name=""/>
            <p:cNvGrpSpPr/>
            <p:nvPr/>
          </p:nvGrpSpPr>
          <p:grpSpPr>
            <a:xfrm>
              <a:off x="136440" y="3635280"/>
              <a:ext cx="5480280" cy="0"/>
              <a:chOff x="136440" y="3635280"/>
              <a:chExt cx="5480280" cy="0"/>
            </a:xfrm>
          </p:grpSpPr>
          <p:sp>
            <p:nvSpPr>
              <p:cNvPr id="1216" name=""/>
              <p:cNvSpPr/>
              <p:nvPr/>
            </p:nvSpPr>
            <p:spPr>
              <a:xfrm>
                <a:off x="136440" y="3635280"/>
                <a:ext cx="2384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2759040" y="3635280"/>
                <a:ext cx="235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165480" y="3635280"/>
                <a:ext cx="2451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"/>
          <p:cNvGrpSpPr/>
          <p:nvPr/>
        </p:nvGrpSpPr>
        <p:grpSpPr>
          <a:xfrm>
            <a:off x="0" y="0"/>
            <a:ext cx="9131400" cy="6872400"/>
            <a:chOff x="0" y="0"/>
            <a:chExt cx="9131400" cy="6872400"/>
          </a:xfrm>
        </p:grpSpPr>
        <p:sp>
          <p:nvSpPr>
            <p:cNvPr id="311" name=""/>
            <p:cNvSpPr/>
            <p:nvPr/>
          </p:nvSpPr>
          <p:spPr>
            <a:xfrm>
              <a:off x="4965840" y="9360"/>
              <a:ext cx="4165560" cy="5952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0760" y="3456000"/>
              <a:ext cx="103824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498680" y="3456000"/>
              <a:ext cx="13644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774800" y="3456000"/>
              <a:ext cx="831960" cy="14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1982880" y="3456000"/>
              <a:ext cx="6984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67360" y="3540240"/>
              <a:ext cx="20761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83160" y="3540240"/>
              <a:ext cx="13680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59640" y="3540240"/>
              <a:ext cx="207648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450120" y="3470400"/>
              <a:ext cx="0" cy="1364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6450120" y="765000"/>
              <a:ext cx="0" cy="25657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50120" y="3746520"/>
              <a:ext cx="0" cy="18003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33960" y="1436760"/>
              <a:ext cx="4470480" cy="424008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38520" y="1708200"/>
              <a:ext cx="3860640" cy="37051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6880" y="1515960"/>
              <a:ext cx="0" cy="38768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74800" y="1515960"/>
              <a:ext cx="0" cy="7621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74800" y="4675320"/>
              <a:ext cx="0" cy="7174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74800" y="2279520"/>
              <a:ext cx="2887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32040" y="4630680"/>
              <a:ext cx="23148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20760" y="2336760"/>
              <a:ext cx="0" cy="3524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220760" y="4216320"/>
              <a:ext cx="0" cy="3589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273320" y="2749680"/>
              <a:ext cx="23004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78000" y="4156200"/>
              <a:ext cx="22680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1498680" y="2678040"/>
              <a:ext cx="69840" cy="716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 flipV="1">
              <a:off x="1496880" y="4154400"/>
              <a:ext cx="73080" cy="810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66720" y="2679840"/>
              <a:ext cx="4161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566720" y="4233960"/>
              <a:ext cx="4161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982880" y="2679840"/>
              <a:ext cx="69840" cy="698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1982880" y="4157640"/>
              <a:ext cx="69840" cy="698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052720" y="2749680"/>
              <a:ext cx="0" cy="619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052720" y="4087800"/>
              <a:ext cx="0" cy="698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057400" y="2816280"/>
              <a:ext cx="192240" cy="14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52720" y="4087800"/>
              <a:ext cx="195120" cy="14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95440" y="2557440"/>
              <a:ext cx="36180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6880" y="4354560"/>
              <a:ext cx="3571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011240" y="2617920"/>
              <a:ext cx="0" cy="16891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009800" y="2962440"/>
              <a:ext cx="124128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012680" y="3940200"/>
              <a:ext cx="1231920" cy="14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96880" y="1515960"/>
              <a:ext cx="2779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96880" y="5392800"/>
              <a:ext cx="2779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96880" y="1654200"/>
              <a:ext cx="2779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96880" y="1930320"/>
              <a:ext cx="2779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96880" y="4978440"/>
              <a:ext cx="2779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6880" y="5254560"/>
              <a:ext cx="2779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91360" y="1565280"/>
              <a:ext cx="320760" cy="28728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395960" y="3390840"/>
              <a:ext cx="290520" cy="2761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99280" y="5272200"/>
              <a:ext cx="297000" cy="2761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240760" y="3417840"/>
              <a:ext cx="298440" cy="2761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618320" y="2048040"/>
              <a:ext cx="322200" cy="29988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978440" y="2081160"/>
              <a:ext cx="312840" cy="2761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965840" y="4748040"/>
              <a:ext cx="299880" cy="2779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645320" y="4756320"/>
              <a:ext cx="304920" cy="2779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7496280" y="1924200"/>
              <a:ext cx="558720" cy="5587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 flipV="1">
              <a:off x="4435560" y="1514520"/>
              <a:ext cx="1036440" cy="10364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205240" y="2362320"/>
              <a:ext cx="2475000" cy="235260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24480" y="2568600"/>
              <a:ext cx="2039760" cy="194004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572080" y="2708280"/>
              <a:ext cx="1746360" cy="166068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938920" y="3052800"/>
              <a:ext cx="1019160" cy="97164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527120" y="2725560"/>
              <a:ext cx="482760" cy="0"/>
            </a:xfrm>
            <a:prstGeom prst="line">
              <a:avLst/>
            </a:prstGeom>
            <a:ln w="12600">
              <a:solidFill>
                <a:srgbClr val="114ffb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515960" y="4175280"/>
              <a:ext cx="506520" cy="0"/>
            </a:xfrm>
            <a:prstGeom prst="line">
              <a:avLst/>
            </a:prstGeom>
            <a:ln w="12600">
              <a:solidFill>
                <a:srgbClr val="114ffb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472000" y="2614680"/>
              <a:ext cx="1943280" cy="182880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71560" y="4624560"/>
              <a:ext cx="57600" cy="57600"/>
            </a:xfrm>
            <a:custGeom>
              <a:avLst/>
              <a:gdLst/>
              <a:ahLst/>
              <a:rect l="0" t="0" r="r" b="b"/>
              <a:pathLst>
                <a:path fill="none" w="160" h="160">
                  <a:moveTo>
                    <a:pt x="160" y="160"/>
                  </a:moveTo>
                  <a:lnTo>
                    <a:pt x="160" y="160"/>
                  </a:lnTo>
                  <a:lnTo>
                    <a:pt x="160" y="160"/>
                  </a:lnTo>
                  <a:cubicBezTo>
                    <a:pt x="160" y="132"/>
                    <a:pt x="153" y="104"/>
                    <a:pt x="139" y="80"/>
                  </a:cubicBezTo>
                  <a:cubicBezTo>
                    <a:pt x="125" y="56"/>
                    <a:pt x="104" y="35"/>
                    <a:pt x="80" y="21"/>
                  </a:cubicBezTo>
                  <a:cubicBezTo>
                    <a:pt x="56" y="7"/>
                    <a:pt x="28" y="0"/>
                    <a:pt x="0" y="0"/>
                  </a:cubicBezTo>
                </a:path>
              </a:pathLst>
            </a:custGeom>
            <a:ln w="12600">
              <a:solidFill>
                <a:srgbClr val="114ffb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87320" y="1793880"/>
              <a:ext cx="2383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677880" y="1793880"/>
              <a:ext cx="7128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415800" y="1793880"/>
              <a:ext cx="2145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787320" y="5118120"/>
              <a:ext cx="2383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677880" y="5118120"/>
              <a:ext cx="7128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415800" y="5118120"/>
              <a:ext cx="2145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 flipV="1">
              <a:off x="7569360" y="4668840"/>
              <a:ext cx="493560" cy="4730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4857840" y="4676760"/>
              <a:ext cx="469800" cy="4698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86080" y="2967120"/>
              <a:ext cx="40320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97240" y="3940200"/>
              <a:ext cx="39204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65200" y="2817720"/>
              <a:ext cx="10051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370240" y="4092480"/>
              <a:ext cx="100800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87520" y="5506920"/>
              <a:ext cx="0" cy="10875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82720" y="5489640"/>
              <a:ext cx="0" cy="409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222200" y="4702320"/>
              <a:ext cx="3240" cy="6634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048040" y="4278240"/>
              <a:ext cx="0" cy="4683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202280" y="3902040"/>
              <a:ext cx="0" cy="27306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8715240" y="3808440"/>
              <a:ext cx="5040" cy="28749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02360" y="3919680"/>
              <a:ext cx="0" cy="23065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678800" y="3780000"/>
              <a:ext cx="0" cy="24127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5662440" y="1870200"/>
              <a:ext cx="1602000" cy="33782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588080" y="1217520"/>
              <a:ext cx="24300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7264440" y="1224000"/>
              <a:ext cx="328680" cy="6462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831080" y="1068480"/>
              <a:ext cx="592200" cy="29700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6502320" y="219240"/>
              <a:ext cx="308160" cy="13586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816600" y="219240"/>
              <a:ext cx="1969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7902720" y="1098720"/>
              <a:ext cx="204480" cy="193680"/>
              <a:chOff x="7902720" y="1098720"/>
              <a:chExt cx="204480" cy="193680"/>
            </a:xfrm>
          </p:grpSpPr>
          <p:sp>
            <p:nvSpPr>
              <p:cNvPr id="399" name=""/>
              <p:cNvSpPr/>
              <p:nvPr/>
            </p:nvSpPr>
            <p:spPr>
              <a:xfrm>
                <a:off x="7918560" y="1122480"/>
                <a:ext cx="165240" cy="15552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7902720" y="1098720"/>
                <a:ext cx="204480" cy="19368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 txBox="1"/>
            <p:nvPr/>
          </p:nvSpPr>
          <p:spPr>
            <a:xfrm>
              <a:off x="8099280" y="1025640"/>
              <a:ext cx="4096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114ffb"/>
                  </a:solidFill>
                  <a:latin typeface="Arial"/>
                  <a:ea typeface="Arial"/>
                </a:rPr>
                <a:t>8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527720" y="892080"/>
              <a:ext cx="1927440" cy="698400"/>
            </a:xfrm>
            <a:custGeom>
              <a:avLst/>
              <a:gdLst/>
              <a:ahLst/>
              <a:rect l="0" t="0" r="r" b="b"/>
              <a:pathLst>
                <a:path fill="none" w="5354" h="1940">
                  <a:moveTo>
                    <a:pt x="5354" y="0"/>
                  </a:moveTo>
                  <a:lnTo>
                    <a:pt x="5354" y="0"/>
                  </a:lnTo>
                  <a:lnTo>
                    <a:pt x="5353" y="0"/>
                  </a:lnTo>
                  <a:cubicBezTo>
                    <a:pt x="3886" y="0"/>
                    <a:pt x="2444" y="387"/>
                    <a:pt x="1173" y="1121"/>
                  </a:cubicBezTo>
                  <a:cubicBezTo>
                    <a:pt x="759" y="1360"/>
                    <a:pt x="367" y="1634"/>
                    <a:pt x="0" y="1940"/>
                  </a:cubicBezTo>
                </a:path>
              </a:pathLst>
            </a:custGeom>
            <a:ln w="12600">
              <a:solidFill>
                <a:srgbClr val="114ffb"/>
              </a:solidFill>
              <a:round/>
              <a:headEnd len="med" type="triangle" w="med"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 txBox="1"/>
            <p:nvPr/>
          </p:nvSpPr>
          <p:spPr>
            <a:xfrm>
              <a:off x="5032440" y="955800"/>
              <a:ext cx="668160" cy="324000"/>
            </a:xfrm>
            <a:prstGeom prst="rect">
              <a:avLst/>
            </a:prstGeom>
            <a:solidFill>
              <a:srgbClr val="114ffb"/>
            </a:solidFill>
            <a:ln w="12600">
              <a:solidFill>
                <a:srgbClr val="114ffb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8X 4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600520" y="1049400"/>
              <a:ext cx="50760" cy="5076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 txBox="1"/>
            <p:nvPr/>
          </p:nvSpPr>
          <p:spPr>
            <a:xfrm>
              <a:off x="7427880" y="387360"/>
              <a:ext cx="8762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0.14  M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 txBox="1"/>
            <p:nvPr/>
          </p:nvSpPr>
          <p:spPr>
            <a:xfrm>
              <a:off x="6997680" y="101520"/>
              <a:ext cx="13510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8X      7.9 - 8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823080" y="384120"/>
              <a:ext cx="2136600" cy="291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6835680" y="396720"/>
              <a:ext cx="279360" cy="292320"/>
              <a:chOff x="6835680" y="396720"/>
              <a:chExt cx="279360" cy="292320"/>
            </a:xfrm>
          </p:grpSpPr>
          <p:sp>
            <p:nvSpPr>
              <p:cNvPr id="409" name=""/>
              <p:cNvSpPr/>
              <p:nvPr/>
            </p:nvSpPr>
            <p:spPr>
              <a:xfrm>
                <a:off x="6886440" y="447840"/>
                <a:ext cx="177840" cy="17784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975360" y="396720"/>
                <a:ext cx="0" cy="29232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835680" y="536400"/>
                <a:ext cx="279360" cy="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>
              <a:off x="7140600" y="384120"/>
              <a:ext cx="0" cy="2923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474040" y="384120"/>
              <a:ext cx="0" cy="2923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907400" y="409680"/>
              <a:ext cx="241200" cy="24120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220240" y="384120"/>
              <a:ext cx="0" cy="2923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 txBox="1"/>
            <p:nvPr/>
          </p:nvSpPr>
          <p:spPr>
            <a:xfrm>
              <a:off x="8213760" y="384120"/>
              <a:ext cx="7761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A  C 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693280" y="411120"/>
              <a:ext cx="241200" cy="24120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5202360" y="6062760"/>
              <a:ext cx="739800" cy="79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602400" y="6070680"/>
              <a:ext cx="10717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03720" y="6518160"/>
              <a:ext cx="26319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02400" y="6492960"/>
              <a:ext cx="12099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5981760" y="5961240"/>
              <a:ext cx="190440" cy="196560"/>
              <a:chOff x="5981760" y="5961240"/>
              <a:chExt cx="190440" cy="196560"/>
            </a:xfrm>
          </p:grpSpPr>
          <p:sp>
            <p:nvSpPr>
              <p:cNvPr id="423" name=""/>
              <p:cNvSpPr/>
              <p:nvPr/>
            </p:nvSpPr>
            <p:spPr>
              <a:xfrm>
                <a:off x="5997600" y="5985000"/>
                <a:ext cx="152280" cy="15732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5981760" y="5961240"/>
                <a:ext cx="190440" cy="19656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5" name=""/>
            <p:cNvSpPr txBox="1"/>
            <p:nvPr/>
          </p:nvSpPr>
          <p:spPr>
            <a:xfrm>
              <a:off x="6129360" y="5811840"/>
              <a:ext cx="5302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57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56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7058160" y="6288120"/>
              <a:ext cx="48096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9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6891480" y="6418440"/>
              <a:ext cx="190440" cy="196560"/>
              <a:chOff x="6891480" y="6418440"/>
              <a:chExt cx="190440" cy="196560"/>
            </a:xfrm>
          </p:grpSpPr>
          <p:sp>
            <p:nvSpPr>
              <p:cNvPr id="428" name=""/>
              <p:cNvSpPr/>
              <p:nvPr/>
            </p:nvSpPr>
            <p:spPr>
              <a:xfrm>
                <a:off x="6907320" y="6442200"/>
                <a:ext cx="152280" cy="15732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6891480" y="6418440"/>
                <a:ext cx="190440" cy="19656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2708280" y="2962440"/>
              <a:ext cx="0" cy="9651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255840" y="2816280"/>
              <a:ext cx="0" cy="12762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577800" y="6256440"/>
              <a:ext cx="419040" cy="4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68440" y="6256440"/>
              <a:ext cx="795240" cy="4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82720" y="5803920"/>
              <a:ext cx="75240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930320" y="5803920"/>
              <a:ext cx="32400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225440" y="5275440"/>
              <a:ext cx="25740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40040" y="5294160"/>
              <a:ext cx="31428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711440" y="4651200"/>
              <a:ext cx="3333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254320" y="4651200"/>
              <a:ext cx="3333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 txBox="1"/>
            <p:nvPr/>
          </p:nvSpPr>
          <p:spPr>
            <a:xfrm>
              <a:off x="2552760" y="4392720"/>
              <a:ext cx="43164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9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9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 txBox="1"/>
            <p:nvPr/>
          </p:nvSpPr>
          <p:spPr>
            <a:xfrm>
              <a:off x="1452600" y="5040360"/>
              <a:ext cx="5302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25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25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 txBox="1"/>
            <p:nvPr/>
          </p:nvSpPr>
          <p:spPr>
            <a:xfrm>
              <a:off x="1581120" y="5545080"/>
              <a:ext cx="3826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3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3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 txBox="1"/>
            <p:nvPr/>
          </p:nvSpPr>
          <p:spPr>
            <a:xfrm>
              <a:off x="928800" y="6026040"/>
              <a:ext cx="5302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41.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41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163520" y="2274840"/>
              <a:ext cx="61920" cy="619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222200" y="2690640"/>
              <a:ext cx="54000" cy="540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1216080" y="4159080"/>
              <a:ext cx="60120" cy="540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1158840" y="4570560"/>
              <a:ext cx="61920" cy="619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957240" y="4302000"/>
              <a:ext cx="58680" cy="540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2711520" y="1898640"/>
              <a:ext cx="0" cy="1066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01800" y="1898640"/>
              <a:ext cx="18108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7164360" y="422280"/>
              <a:ext cx="204840" cy="193680"/>
              <a:chOff x="7164360" y="422280"/>
              <a:chExt cx="204840" cy="193680"/>
            </a:xfrm>
          </p:grpSpPr>
          <p:sp>
            <p:nvSpPr>
              <p:cNvPr id="452" name=""/>
              <p:cNvSpPr/>
              <p:nvPr/>
            </p:nvSpPr>
            <p:spPr>
              <a:xfrm>
                <a:off x="7180200" y="446040"/>
                <a:ext cx="165240" cy="15552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7164360" y="422280"/>
                <a:ext cx="204840" cy="19368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7413480" y="162000"/>
              <a:ext cx="163800" cy="155520"/>
              <a:chOff x="7413480" y="162000"/>
              <a:chExt cx="163800" cy="155520"/>
            </a:xfrm>
          </p:grpSpPr>
          <p:sp>
            <p:nvSpPr>
              <p:cNvPr id="455" name=""/>
              <p:cNvSpPr/>
              <p:nvPr/>
            </p:nvSpPr>
            <p:spPr>
              <a:xfrm>
                <a:off x="7426440" y="181080"/>
                <a:ext cx="131760" cy="12528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7413480" y="162000"/>
                <a:ext cx="163800" cy="15552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2940120" y="1822320"/>
              <a:ext cx="204840" cy="193680"/>
              <a:chOff x="2940120" y="1822320"/>
              <a:chExt cx="204840" cy="193680"/>
            </a:xfrm>
          </p:grpSpPr>
          <p:sp>
            <p:nvSpPr>
              <p:cNvPr id="458" name=""/>
              <p:cNvSpPr/>
              <p:nvPr/>
            </p:nvSpPr>
            <p:spPr>
              <a:xfrm>
                <a:off x="2955960" y="1846440"/>
                <a:ext cx="165240" cy="15552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2940120" y="1822320"/>
                <a:ext cx="204840" cy="19368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" name=""/>
            <p:cNvSpPr txBox="1"/>
            <p:nvPr/>
          </p:nvSpPr>
          <p:spPr>
            <a:xfrm>
              <a:off x="3124080" y="1768320"/>
              <a:ext cx="12319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20.00 - 20.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859120" y="2103480"/>
              <a:ext cx="1278000" cy="2714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2970360" y="2136600"/>
              <a:ext cx="199800" cy="2001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259080" y="2103480"/>
              <a:ext cx="0" cy="2714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 txBox="1"/>
            <p:nvPr/>
          </p:nvSpPr>
          <p:spPr>
            <a:xfrm>
              <a:off x="3213000" y="2095560"/>
              <a:ext cx="5302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0.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730680" y="2111400"/>
              <a:ext cx="0" cy="2602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 txBox="1"/>
            <p:nvPr/>
          </p:nvSpPr>
          <p:spPr>
            <a:xfrm>
              <a:off x="3683160" y="2089080"/>
              <a:ext cx="3031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933720" y="2111400"/>
              <a:ext cx="0" cy="2602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 txBox="1"/>
            <p:nvPr/>
          </p:nvSpPr>
          <p:spPr>
            <a:xfrm>
              <a:off x="3886200" y="2095560"/>
              <a:ext cx="3128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413160" y="2381400"/>
              <a:ext cx="146520" cy="152640"/>
            </a:xfrm>
            <a:custGeom>
              <a:avLst/>
              <a:gdLst/>
              <a:ahLst/>
              <a:rect l="0" t="0" r="r" b="b"/>
              <a:pathLst>
                <a:path fill="none" w="407" h="424">
                  <a:moveTo>
                    <a:pt x="407" y="0"/>
                  </a:moveTo>
                  <a:lnTo>
                    <a:pt x="0" y="0"/>
                  </a:lnTo>
                  <a:lnTo>
                    <a:pt x="203" y="424"/>
                  </a:lnTo>
                  <a:lnTo>
                    <a:pt x="407" y="0"/>
                  </a:lnTo>
                </a:path>
              </a:pathLst>
            </a:custGeom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497400" y="2516040"/>
              <a:ext cx="0" cy="1969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505320" y="2716200"/>
              <a:ext cx="1713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676680" y="2581200"/>
              <a:ext cx="260280" cy="26028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 txBox="1"/>
            <p:nvPr/>
          </p:nvSpPr>
          <p:spPr>
            <a:xfrm>
              <a:off x="3641760" y="2558880"/>
              <a:ext cx="3031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57240" y="2557440"/>
              <a:ext cx="55440" cy="554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1787400" y="892080"/>
              <a:ext cx="895320" cy="17780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673360" y="892080"/>
              <a:ext cx="2667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 txBox="1"/>
            <p:nvPr/>
          </p:nvSpPr>
          <p:spPr>
            <a:xfrm>
              <a:off x="2898720" y="723960"/>
              <a:ext cx="13510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M42 X 1.5 - 6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965320" y="982800"/>
              <a:ext cx="1625760" cy="29988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2998800" y="985680"/>
              <a:ext cx="279360" cy="292320"/>
              <a:chOff x="2998800" y="985680"/>
              <a:chExt cx="279360" cy="292320"/>
            </a:xfrm>
          </p:grpSpPr>
          <p:sp>
            <p:nvSpPr>
              <p:cNvPr id="480" name=""/>
              <p:cNvSpPr/>
              <p:nvPr/>
            </p:nvSpPr>
            <p:spPr>
              <a:xfrm>
                <a:off x="3049560" y="1036800"/>
                <a:ext cx="177840" cy="17784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138480" y="985680"/>
                <a:ext cx="0" cy="29232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998800" y="1125360"/>
                <a:ext cx="279360" cy="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>
              <a:off x="3321000" y="981000"/>
              <a:ext cx="0" cy="2923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3355920" y="1035000"/>
              <a:ext cx="204840" cy="193680"/>
              <a:chOff x="3355920" y="1035000"/>
              <a:chExt cx="204840" cy="193680"/>
            </a:xfrm>
          </p:grpSpPr>
          <p:sp>
            <p:nvSpPr>
              <p:cNvPr id="485" name=""/>
              <p:cNvSpPr/>
              <p:nvPr/>
            </p:nvSpPr>
            <p:spPr>
              <a:xfrm>
                <a:off x="3371760" y="1058760"/>
                <a:ext cx="165240" cy="15552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>
                <a:off x="3355920" y="1035000"/>
                <a:ext cx="204840" cy="19368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"/>
            <p:cNvSpPr txBox="1"/>
            <p:nvPr/>
          </p:nvSpPr>
          <p:spPr>
            <a:xfrm>
              <a:off x="3540240" y="996840"/>
              <a:ext cx="10936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0.1 M  B 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51320" y="1046160"/>
              <a:ext cx="210960" cy="19224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898800" y="1035000"/>
              <a:ext cx="210960" cy="19044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33880" y="981000"/>
              <a:ext cx="0" cy="2923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1216080" y="565200"/>
              <a:ext cx="0" cy="16858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1501920" y="1289160"/>
              <a:ext cx="0" cy="13618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1006560" y="870120"/>
              <a:ext cx="0" cy="16477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596880" y="879480"/>
              <a:ext cx="0" cy="5810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216080" y="555480"/>
              <a:ext cx="1019160" cy="21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1273320" y="593640"/>
              <a:ext cx="104760" cy="1429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1359000" y="593640"/>
              <a:ext cx="104760" cy="1429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549440" y="555480"/>
              <a:ext cx="0" cy="2192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 txBox="1"/>
            <p:nvPr/>
          </p:nvSpPr>
          <p:spPr>
            <a:xfrm>
              <a:off x="1504800" y="520560"/>
              <a:ext cx="7477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0.06 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06640" y="555480"/>
              <a:ext cx="0" cy="2192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501920" y="1384200"/>
              <a:ext cx="3333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1035000" y="1384200"/>
              <a:ext cx="18108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006560" y="974880"/>
              <a:ext cx="1807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349200" y="974880"/>
              <a:ext cx="24768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 txBox="1"/>
            <p:nvPr/>
          </p:nvSpPr>
          <p:spPr>
            <a:xfrm>
              <a:off x="1800360" y="1158840"/>
              <a:ext cx="43164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6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6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 txBox="1"/>
            <p:nvPr/>
          </p:nvSpPr>
          <p:spPr>
            <a:xfrm>
              <a:off x="581040" y="711360"/>
              <a:ext cx="43164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9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9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101520" y="2556000"/>
              <a:ext cx="4381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92160" y="4356000"/>
              <a:ext cx="4381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87200" y="2556000"/>
              <a:ext cx="0" cy="3618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96920" y="3384720"/>
              <a:ext cx="0" cy="9712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 txBox="1"/>
            <p:nvPr/>
          </p:nvSpPr>
          <p:spPr>
            <a:xfrm>
              <a:off x="0" y="2892600"/>
              <a:ext cx="62856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44.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44.4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187200" y="136440"/>
              <a:ext cx="0" cy="24004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87200" y="127080"/>
              <a:ext cx="1380960" cy="24768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20760" y="165240"/>
              <a:ext cx="0" cy="1616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35080" y="326880"/>
              <a:ext cx="1807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82760" y="127080"/>
              <a:ext cx="0" cy="247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501480" y="146160"/>
              <a:ext cx="204840" cy="193680"/>
              <a:chOff x="501480" y="146160"/>
              <a:chExt cx="204840" cy="193680"/>
            </a:xfrm>
          </p:grpSpPr>
          <p:sp>
            <p:nvSpPr>
              <p:cNvPr id="518" name=""/>
              <p:cNvSpPr/>
              <p:nvPr/>
            </p:nvSpPr>
            <p:spPr>
              <a:xfrm>
                <a:off x="517680" y="169920"/>
                <a:ext cx="165240" cy="15552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>
                <a:off x="501480" y="146160"/>
                <a:ext cx="204840" cy="19368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" name=""/>
            <p:cNvSpPr txBox="1"/>
            <p:nvPr/>
          </p:nvSpPr>
          <p:spPr>
            <a:xfrm>
              <a:off x="657360" y="101520"/>
              <a:ext cx="944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0.08 M 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111320" y="146160"/>
              <a:ext cx="200160" cy="20016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368360" y="127080"/>
              <a:ext cx="0" cy="247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968400" y="374760"/>
              <a:ext cx="133560" cy="152640"/>
            </a:xfrm>
            <a:custGeom>
              <a:avLst/>
              <a:gdLst/>
              <a:ahLst/>
              <a:rect l="0" t="0" r="r" b="b"/>
              <a:pathLst>
                <a:path fill="none" w="371" h="424">
                  <a:moveTo>
                    <a:pt x="371" y="0"/>
                  </a:moveTo>
                  <a:lnTo>
                    <a:pt x="0" y="0"/>
                  </a:lnTo>
                  <a:lnTo>
                    <a:pt x="186" y="424"/>
                  </a:lnTo>
                  <a:lnTo>
                    <a:pt x="371" y="0"/>
                  </a:lnTo>
                </a:path>
              </a:pathLst>
            </a:custGeom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035000" y="527040"/>
              <a:ext cx="0" cy="1144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596880" y="641520"/>
              <a:ext cx="4381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49200" y="507960"/>
              <a:ext cx="247680" cy="24768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 txBox="1"/>
            <p:nvPr/>
          </p:nvSpPr>
          <p:spPr>
            <a:xfrm>
              <a:off x="314280" y="492120"/>
              <a:ext cx="3128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34880" y="5899320"/>
              <a:ext cx="152640" cy="133560"/>
            </a:xfrm>
            <a:custGeom>
              <a:avLst/>
              <a:gdLst/>
              <a:ahLst/>
              <a:rect l="0" t="0" r="r" b="b"/>
              <a:pathLst>
                <a:path fill="none" w="424" h="371">
                  <a:moveTo>
                    <a:pt x="424" y="371"/>
                  </a:moveTo>
                  <a:lnTo>
                    <a:pt x="424" y="0"/>
                  </a:lnTo>
                  <a:lnTo>
                    <a:pt x="0" y="186"/>
                  </a:lnTo>
                  <a:lnTo>
                    <a:pt x="424" y="371"/>
                  </a:lnTo>
                </a:path>
              </a:pathLst>
            </a:custGeom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320760" y="5965920"/>
              <a:ext cx="12384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360" y="5842080"/>
              <a:ext cx="247680" cy="24768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 txBox="1"/>
            <p:nvPr/>
          </p:nvSpPr>
          <p:spPr>
            <a:xfrm>
              <a:off x="38160" y="5807160"/>
              <a:ext cx="322200" cy="32400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87520" y="6566040"/>
              <a:ext cx="1000080" cy="22860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25320" y="6613560"/>
              <a:ext cx="324360" cy="124200"/>
            </a:xfrm>
            <a:custGeom>
              <a:avLst/>
              <a:gdLst/>
              <a:ahLst/>
              <a:rect l="0" t="0" r="r" b="b"/>
              <a:pathLst>
                <a:path fill="none" w="901" h="345">
                  <a:moveTo>
                    <a:pt x="0" y="345"/>
                  </a:moveTo>
                  <a:lnTo>
                    <a:pt x="630" y="345"/>
                  </a:lnTo>
                  <a:lnTo>
                    <a:pt x="901" y="0"/>
                  </a:lnTo>
                  <a:lnTo>
                    <a:pt x="270" y="0"/>
                  </a:lnTo>
                  <a:lnTo>
                    <a:pt x="0" y="345"/>
                  </a:lnTo>
                </a:path>
              </a:pathLst>
            </a:custGeom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025640" y="6566040"/>
              <a:ext cx="0" cy="2286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 txBox="1"/>
            <p:nvPr/>
          </p:nvSpPr>
          <p:spPr>
            <a:xfrm>
              <a:off x="1019160" y="6540480"/>
              <a:ext cx="5302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0.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2251080" y="2819520"/>
              <a:ext cx="1440" cy="12603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600120" y="1514520"/>
              <a:ext cx="139680" cy="139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777960" y="1527120"/>
              <a:ext cx="114120" cy="1144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600120" y="1933560"/>
              <a:ext cx="114120" cy="1144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600120" y="1971720"/>
              <a:ext cx="266760" cy="2667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600120" y="2136600"/>
              <a:ext cx="279360" cy="2797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676440" y="2276640"/>
              <a:ext cx="279360" cy="2793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853920" y="2276640"/>
              <a:ext cx="279720" cy="2793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993600" y="2390760"/>
              <a:ext cx="216000" cy="2160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1006560" y="2568600"/>
              <a:ext cx="203040" cy="2030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1006560" y="2708280"/>
              <a:ext cx="228600" cy="2286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1158840" y="2752560"/>
              <a:ext cx="209520" cy="2098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1336680" y="2682720"/>
              <a:ext cx="279360" cy="2797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1514520" y="2682720"/>
              <a:ext cx="279360" cy="2797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1679400" y="2682720"/>
              <a:ext cx="279720" cy="2797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1857240" y="2771640"/>
              <a:ext cx="190800" cy="1908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2035080" y="2822400"/>
              <a:ext cx="139680" cy="1400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212920" y="2928960"/>
              <a:ext cx="33480" cy="334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600120" y="4359240"/>
              <a:ext cx="114120" cy="1144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600120" y="4359240"/>
              <a:ext cx="304920" cy="3049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1006560" y="3940200"/>
              <a:ext cx="304560" cy="3049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1006560" y="3940200"/>
              <a:ext cx="114120" cy="1141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612720" y="4232160"/>
              <a:ext cx="609480" cy="6098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1298520" y="3940200"/>
              <a:ext cx="203400" cy="2030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3480" y="4765680"/>
              <a:ext cx="216000" cy="2160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1019160" y="4422600"/>
              <a:ext cx="203040" cy="2034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1501920" y="3940200"/>
              <a:ext cx="215640" cy="2160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828720" y="4930920"/>
              <a:ext cx="50760" cy="507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1616040" y="3940200"/>
              <a:ext cx="279360" cy="2793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1806480" y="3940200"/>
              <a:ext cx="292320" cy="2919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2143080" y="3990960"/>
              <a:ext cx="95400" cy="954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38280" y="5261040"/>
              <a:ext cx="126720" cy="1270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816120" y="5324400"/>
              <a:ext cx="63360" cy="637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259080" y="4084560"/>
              <a:ext cx="0" cy="7873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259080" y="4870440"/>
              <a:ext cx="1173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3422520" y="4789440"/>
              <a:ext cx="204840" cy="193680"/>
              <a:chOff x="3422520" y="4789440"/>
              <a:chExt cx="204840" cy="193680"/>
            </a:xfrm>
          </p:grpSpPr>
          <p:sp>
            <p:nvSpPr>
              <p:cNvPr id="572" name=""/>
              <p:cNvSpPr/>
              <p:nvPr/>
            </p:nvSpPr>
            <p:spPr>
              <a:xfrm>
                <a:off x="3438360" y="4813200"/>
                <a:ext cx="165240" cy="15552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3422520" y="4789440"/>
                <a:ext cx="204840" cy="19368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4" name=""/>
            <p:cNvSpPr txBox="1"/>
            <p:nvPr/>
          </p:nvSpPr>
          <p:spPr>
            <a:xfrm>
              <a:off x="3603600" y="4630680"/>
              <a:ext cx="5302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31.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31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00400" y="5129280"/>
              <a:ext cx="939960" cy="291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3276720" y="5167440"/>
              <a:ext cx="215640" cy="2156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543480" y="5129280"/>
              <a:ext cx="0" cy="2919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 txBox="1"/>
            <p:nvPr/>
          </p:nvSpPr>
          <p:spPr>
            <a:xfrm>
              <a:off x="3514680" y="5138640"/>
              <a:ext cx="431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0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 txBox="1"/>
            <p:nvPr/>
          </p:nvSpPr>
          <p:spPr>
            <a:xfrm>
              <a:off x="3895560" y="5126040"/>
              <a:ext cx="3031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898800" y="5129280"/>
              <a:ext cx="0" cy="2919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657440" y="6496200"/>
              <a:ext cx="19447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247840" y="4168800"/>
              <a:ext cx="0" cy="22352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19200" y="1584360"/>
              <a:ext cx="285444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706840" y="376200"/>
              <a:ext cx="5618520" cy="6258240"/>
            </a:xfrm>
            <a:custGeom>
              <a:avLst/>
              <a:gdLst/>
              <a:ahLst/>
              <a:rect l="0" t="0" r="r" b="b"/>
              <a:pathLst>
                <a:path w="15607" h="17384">
                  <a:moveTo>
                    <a:pt x="7804" y="17384"/>
                  </a:moveTo>
                  <a:lnTo>
                    <a:pt x="15607" y="8691"/>
                  </a:lnTo>
                  <a:lnTo>
                    <a:pt x="7804" y="0"/>
                  </a:lnTo>
                  <a:lnTo>
                    <a:pt x="0" y="8691"/>
                  </a:lnTo>
                  <a:lnTo>
                    <a:pt x="7804" y="17384"/>
                  </a:lnTo>
                  <a:close/>
                </a:path>
              </a:pathLst>
            </a:custGeom>
            <a:solidFill>
              <a:srgbClr val="114f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 txBox="1"/>
            <p:nvPr/>
          </p:nvSpPr>
          <p:spPr>
            <a:xfrm>
              <a:off x="3135240" y="0"/>
              <a:ext cx="3562200" cy="6872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42200" spc="-1" strike="noStrike">
                  <a:solidFill>
                    <a:srgbClr val="618ffd"/>
                  </a:solidFill>
                  <a:latin typeface="Times New Roman"/>
                  <a:ea typeface="Times New Roman"/>
                </a:rPr>
                <a:t>6</a:t>
              </a:r>
              <a:endParaRPr b="0" lang="en-US" sz="4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"/>
            <p:cNvGrpSpPr/>
            <p:nvPr/>
          </p:nvGrpSpPr>
          <p:grpSpPr>
            <a:xfrm>
              <a:off x="6924600" y="1039680"/>
              <a:ext cx="2130480" cy="798480"/>
              <a:chOff x="6924600" y="1039680"/>
              <a:chExt cx="2130480" cy="798480"/>
            </a:xfrm>
          </p:grpSpPr>
          <p:sp>
            <p:nvSpPr>
              <p:cNvPr id="587" name=""/>
              <p:cNvSpPr/>
              <p:nvPr/>
            </p:nvSpPr>
            <p:spPr>
              <a:xfrm>
                <a:off x="6924600" y="1039680"/>
                <a:ext cx="2130480" cy="79848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3365fb"/>
                </a:solidFill>
                <a:round/>
              </a:ln>
            </p:spPr>
            <p:txBody>
              <a:bodyPr lIns="115200" rIns="115200" tIns="70200" bIns="70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 txBox="1"/>
              <p:nvPr/>
            </p:nvSpPr>
            <p:spPr>
              <a:xfrm>
                <a:off x="6969240" y="1084320"/>
                <a:ext cx="2054160" cy="668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c0128"/>
                    </a:solidFill>
                    <a:latin typeface="Times New Roman"/>
                    <a:ea typeface="Times New Roman"/>
                  </a:rPr>
                  <a:t>Copyright  1996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c0128"/>
                    </a:solidFill>
                    <a:latin typeface="Times New Roman"/>
                    <a:ea typeface="Times New Roman"/>
                  </a:rPr>
                  <a:t>Brigham Young University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c0128"/>
                    </a:solidFill>
                    <a:latin typeface="Times New Roman"/>
                    <a:ea typeface="Times New Roman"/>
                  </a:rPr>
                  <a:t>All Rights Reserve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9" name=""/>
            <p:cNvSpPr txBox="1"/>
            <p:nvPr/>
          </p:nvSpPr>
          <p:spPr>
            <a:xfrm>
              <a:off x="3290760" y="2143080"/>
              <a:ext cx="4930920" cy="215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UNIT</a:t>
              </a:r>
              <a:endParaRPr b="0" lang="en-US" sz="1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835360" y="3943440"/>
              <a:ext cx="5510160" cy="378000"/>
            </a:xfrm>
            <a:prstGeom prst="rect">
              <a:avLst/>
            </a:prstGeom>
            <a:gradFill rotWithShape="0">
              <a:gsLst>
                <a:gs pos="0">
                  <a:srgbClr val="666666"/>
                </a:gs>
                <a:gs pos="50000">
                  <a:srgbClr val="ffffff"/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 txBox="1"/>
            <p:nvPr/>
          </p:nvSpPr>
          <p:spPr>
            <a:xfrm>
              <a:off x="223920" y="5168880"/>
              <a:ext cx="7772400" cy="155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EOMETRIC</a:t>
              </a:r>
              <a:r>
                <a:rPr b="1" i="1" lang="en-US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4800" spc="-1" strike="noStrike" u="sng">
                  <a:solidFill>
                    <a:srgbClr val="fafd00"/>
                  </a:solidFill>
                  <a:uFillTx/>
                  <a:latin typeface="Times New Roman"/>
                  <a:ea typeface="Times New Roman"/>
                </a:rPr>
                <a:t>FORM</a:t>
              </a:r>
              <a:r>
                <a:rPr b="1" i="1" lang="en-US" sz="4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OLERANCING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 txBox="1"/>
          <p:nvPr/>
        </p:nvSpPr>
        <p:spPr>
          <a:xfrm>
            <a:off x="285840" y="228600"/>
            <a:ext cx="85248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IRCULARITY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0" name=""/>
          <p:cNvGrpSpPr/>
          <p:nvPr/>
        </p:nvGrpSpPr>
        <p:grpSpPr>
          <a:xfrm>
            <a:off x="136440" y="895320"/>
            <a:ext cx="5480280" cy="5479920"/>
            <a:chOff x="136440" y="895320"/>
            <a:chExt cx="5480280" cy="5479920"/>
          </a:xfrm>
        </p:grpSpPr>
        <p:sp>
          <p:nvSpPr>
            <p:cNvPr id="1221" name=""/>
            <p:cNvSpPr/>
            <p:nvPr/>
          </p:nvSpPr>
          <p:spPr>
            <a:xfrm>
              <a:off x="608040" y="1363680"/>
              <a:ext cx="4557600" cy="4557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084320" y="1792440"/>
              <a:ext cx="3623040" cy="3719880"/>
            </a:xfrm>
            <a:custGeom>
              <a:avLst/>
              <a:gdLst/>
              <a:ahLst/>
              <a:rect l="0" t="0" r="r" b="b"/>
              <a:pathLst>
                <a:path w="10064" h="10333">
                  <a:moveTo>
                    <a:pt x="5002" y="29"/>
                  </a:moveTo>
                  <a:lnTo>
                    <a:pt x="4913" y="59"/>
                  </a:lnTo>
                  <a:lnTo>
                    <a:pt x="4824" y="89"/>
                  </a:lnTo>
                  <a:lnTo>
                    <a:pt x="4734" y="119"/>
                  </a:lnTo>
                  <a:lnTo>
                    <a:pt x="4645" y="119"/>
                  </a:lnTo>
                  <a:lnTo>
                    <a:pt x="4556" y="119"/>
                  </a:lnTo>
                  <a:lnTo>
                    <a:pt x="4466" y="119"/>
                  </a:lnTo>
                  <a:lnTo>
                    <a:pt x="4377" y="119"/>
                  </a:lnTo>
                  <a:lnTo>
                    <a:pt x="4288" y="119"/>
                  </a:lnTo>
                  <a:lnTo>
                    <a:pt x="4198" y="148"/>
                  </a:lnTo>
                  <a:lnTo>
                    <a:pt x="4109" y="178"/>
                  </a:lnTo>
                  <a:lnTo>
                    <a:pt x="4020" y="208"/>
                  </a:lnTo>
                  <a:lnTo>
                    <a:pt x="3930" y="238"/>
                  </a:lnTo>
                  <a:lnTo>
                    <a:pt x="3841" y="267"/>
                  </a:lnTo>
                  <a:lnTo>
                    <a:pt x="3752" y="297"/>
                  </a:lnTo>
                  <a:lnTo>
                    <a:pt x="3662" y="297"/>
                  </a:lnTo>
                  <a:lnTo>
                    <a:pt x="3573" y="297"/>
                  </a:lnTo>
                  <a:lnTo>
                    <a:pt x="3454" y="327"/>
                  </a:lnTo>
                  <a:lnTo>
                    <a:pt x="3365" y="357"/>
                  </a:lnTo>
                  <a:lnTo>
                    <a:pt x="3275" y="357"/>
                  </a:lnTo>
                  <a:lnTo>
                    <a:pt x="3186" y="387"/>
                  </a:lnTo>
                  <a:lnTo>
                    <a:pt x="3097" y="416"/>
                  </a:lnTo>
                  <a:lnTo>
                    <a:pt x="2978" y="506"/>
                  </a:lnTo>
                  <a:lnTo>
                    <a:pt x="2769" y="595"/>
                  </a:lnTo>
                  <a:lnTo>
                    <a:pt x="2680" y="655"/>
                  </a:lnTo>
                  <a:lnTo>
                    <a:pt x="2620" y="744"/>
                  </a:lnTo>
                  <a:lnTo>
                    <a:pt x="2531" y="774"/>
                  </a:lnTo>
                  <a:lnTo>
                    <a:pt x="2441" y="893"/>
                  </a:lnTo>
                  <a:lnTo>
                    <a:pt x="2351" y="982"/>
                  </a:lnTo>
                  <a:lnTo>
                    <a:pt x="2232" y="1071"/>
                  </a:lnTo>
                  <a:lnTo>
                    <a:pt x="2113" y="1131"/>
                  </a:lnTo>
                  <a:lnTo>
                    <a:pt x="2024" y="1191"/>
                  </a:lnTo>
                  <a:lnTo>
                    <a:pt x="1935" y="1250"/>
                  </a:lnTo>
                  <a:lnTo>
                    <a:pt x="1845" y="1310"/>
                  </a:lnTo>
                  <a:lnTo>
                    <a:pt x="1726" y="1369"/>
                  </a:lnTo>
                  <a:lnTo>
                    <a:pt x="1637" y="1429"/>
                  </a:lnTo>
                  <a:lnTo>
                    <a:pt x="1548" y="1488"/>
                  </a:lnTo>
                  <a:lnTo>
                    <a:pt x="1458" y="1578"/>
                  </a:lnTo>
                  <a:lnTo>
                    <a:pt x="1369" y="1667"/>
                  </a:lnTo>
                  <a:lnTo>
                    <a:pt x="1339" y="1756"/>
                  </a:lnTo>
                  <a:lnTo>
                    <a:pt x="1280" y="1846"/>
                  </a:lnTo>
                  <a:lnTo>
                    <a:pt x="1190" y="1935"/>
                  </a:lnTo>
                  <a:lnTo>
                    <a:pt x="1012" y="2024"/>
                  </a:lnTo>
                  <a:lnTo>
                    <a:pt x="952" y="2114"/>
                  </a:lnTo>
                  <a:lnTo>
                    <a:pt x="893" y="2203"/>
                  </a:lnTo>
                  <a:lnTo>
                    <a:pt x="863" y="2292"/>
                  </a:lnTo>
                  <a:lnTo>
                    <a:pt x="803" y="2471"/>
                  </a:lnTo>
                  <a:lnTo>
                    <a:pt x="774" y="2560"/>
                  </a:lnTo>
                  <a:lnTo>
                    <a:pt x="744" y="2740"/>
                  </a:lnTo>
                  <a:lnTo>
                    <a:pt x="714" y="2829"/>
                  </a:lnTo>
                  <a:lnTo>
                    <a:pt x="654" y="2918"/>
                  </a:lnTo>
                  <a:lnTo>
                    <a:pt x="595" y="3038"/>
                  </a:lnTo>
                  <a:lnTo>
                    <a:pt x="565" y="3127"/>
                  </a:lnTo>
                  <a:lnTo>
                    <a:pt x="506" y="3216"/>
                  </a:lnTo>
                  <a:lnTo>
                    <a:pt x="416" y="3306"/>
                  </a:lnTo>
                  <a:lnTo>
                    <a:pt x="387" y="3395"/>
                  </a:lnTo>
                  <a:lnTo>
                    <a:pt x="297" y="3693"/>
                  </a:lnTo>
                  <a:lnTo>
                    <a:pt x="238" y="3782"/>
                  </a:lnTo>
                  <a:lnTo>
                    <a:pt x="208" y="3871"/>
                  </a:lnTo>
                  <a:lnTo>
                    <a:pt x="178" y="4139"/>
                  </a:lnTo>
                  <a:lnTo>
                    <a:pt x="119" y="4229"/>
                  </a:lnTo>
                  <a:lnTo>
                    <a:pt x="89" y="4407"/>
                  </a:lnTo>
                  <a:lnTo>
                    <a:pt x="59" y="4616"/>
                  </a:lnTo>
                  <a:lnTo>
                    <a:pt x="29" y="4705"/>
                  </a:lnTo>
                  <a:lnTo>
                    <a:pt x="0" y="4943"/>
                  </a:lnTo>
                  <a:lnTo>
                    <a:pt x="0" y="5062"/>
                  </a:lnTo>
                  <a:lnTo>
                    <a:pt x="0" y="5152"/>
                  </a:lnTo>
                  <a:lnTo>
                    <a:pt x="0" y="5360"/>
                  </a:lnTo>
                  <a:lnTo>
                    <a:pt x="0" y="5449"/>
                  </a:lnTo>
                  <a:lnTo>
                    <a:pt x="0" y="5628"/>
                  </a:lnTo>
                  <a:lnTo>
                    <a:pt x="29" y="5747"/>
                  </a:lnTo>
                  <a:lnTo>
                    <a:pt x="29" y="5926"/>
                  </a:lnTo>
                  <a:lnTo>
                    <a:pt x="59" y="6134"/>
                  </a:lnTo>
                  <a:lnTo>
                    <a:pt x="89" y="6224"/>
                  </a:lnTo>
                  <a:lnTo>
                    <a:pt x="148" y="6313"/>
                  </a:lnTo>
                  <a:lnTo>
                    <a:pt x="178" y="6402"/>
                  </a:lnTo>
                  <a:lnTo>
                    <a:pt x="178" y="6491"/>
                  </a:lnTo>
                  <a:lnTo>
                    <a:pt x="238" y="6611"/>
                  </a:lnTo>
                  <a:lnTo>
                    <a:pt x="267" y="6700"/>
                  </a:lnTo>
                  <a:lnTo>
                    <a:pt x="297" y="6819"/>
                  </a:lnTo>
                  <a:lnTo>
                    <a:pt x="357" y="6938"/>
                  </a:lnTo>
                  <a:lnTo>
                    <a:pt x="446" y="7027"/>
                  </a:lnTo>
                  <a:lnTo>
                    <a:pt x="535" y="7147"/>
                  </a:lnTo>
                  <a:lnTo>
                    <a:pt x="625" y="7385"/>
                  </a:lnTo>
                  <a:lnTo>
                    <a:pt x="714" y="7474"/>
                  </a:lnTo>
                  <a:lnTo>
                    <a:pt x="774" y="7563"/>
                  </a:lnTo>
                  <a:lnTo>
                    <a:pt x="863" y="7653"/>
                  </a:lnTo>
                  <a:lnTo>
                    <a:pt x="893" y="7742"/>
                  </a:lnTo>
                  <a:lnTo>
                    <a:pt x="982" y="7832"/>
                  </a:lnTo>
                  <a:lnTo>
                    <a:pt x="1161" y="8041"/>
                  </a:lnTo>
                  <a:lnTo>
                    <a:pt x="1220" y="8130"/>
                  </a:lnTo>
                  <a:lnTo>
                    <a:pt x="1280" y="8219"/>
                  </a:lnTo>
                  <a:lnTo>
                    <a:pt x="1339" y="8339"/>
                  </a:lnTo>
                  <a:lnTo>
                    <a:pt x="1429" y="8428"/>
                  </a:lnTo>
                  <a:lnTo>
                    <a:pt x="1637" y="8815"/>
                  </a:lnTo>
                  <a:lnTo>
                    <a:pt x="1697" y="9053"/>
                  </a:lnTo>
                  <a:lnTo>
                    <a:pt x="1756" y="9172"/>
                  </a:lnTo>
                  <a:lnTo>
                    <a:pt x="1845" y="9232"/>
                  </a:lnTo>
                  <a:lnTo>
                    <a:pt x="1964" y="9262"/>
                  </a:lnTo>
                  <a:lnTo>
                    <a:pt x="2024" y="9351"/>
                  </a:lnTo>
                  <a:lnTo>
                    <a:pt x="2143" y="9381"/>
                  </a:lnTo>
                  <a:lnTo>
                    <a:pt x="2262" y="9470"/>
                  </a:lnTo>
                  <a:lnTo>
                    <a:pt x="2500" y="9500"/>
                  </a:lnTo>
                  <a:lnTo>
                    <a:pt x="2591" y="9559"/>
                  </a:lnTo>
                  <a:lnTo>
                    <a:pt x="2829" y="9619"/>
                  </a:lnTo>
                  <a:lnTo>
                    <a:pt x="3037" y="9649"/>
                  </a:lnTo>
                  <a:lnTo>
                    <a:pt x="3216" y="9678"/>
                  </a:lnTo>
                  <a:lnTo>
                    <a:pt x="3305" y="9708"/>
                  </a:lnTo>
                  <a:lnTo>
                    <a:pt x="3395" y="9738"/>
                  </a:lnTo>
                  <a:lnTo>
                    <a:pt x="3514" y="9798"/>
                  </a:lnTo>
                  <a:lnTo>
                    <a:pt x="3603" y="9827"/>
                  </a:lnTo>
                  <a:lnTo>
                    <a:pt x="3692" y="9887"/>
                  </a:lnTo>
                  <a:lnTo>
                    <a:pt x="3901" y="9917"/>
                  </a:lnTo>
                  <a:lnTo>
                    <a:pt x="4109" y="9976"/>
                  </a:lnTo>
                  <a:lnTo>
                    <a:pt x="4228" y="10006"/>
                  </a:lnTo>
                  <a:lnTo>
                    <a:pt x="4347" y="10006"/>
                  </a:lnTo>
                  <a:lnTo>
                    <a:pt x="4437" y="10066"/>
                  </a:lnTo>
                  <a:lnTo>
                    <a:pt x="4526" y="10095"/>
                  </a:lnTo>
                  <a:lnTo>
                    <a:pt x="4615" y="10125"/>
                  </a:lnTo>
                  <a:lnTo>
                    <a:pt x="4704" y="10185"/>
                  </a:lnTo>
                  <a:lnTo>
                    <a:pt x="4933" y="10304"/>
                  </a:lnTo>
                  <a:lnTo>
                    <a:pt x="4972" y="10294"/>
                  </a:lnTo>
                  <a:lnTo>
                    <a:pt x="5092" y="10324"/>
                  </a:lnTo>
                  <a:lnTo>
                    <a:pt x="5211" y="10333"/>
                  </a:lnTo>
                  <a:lnTo>
                    <a:pt x="5300" y="10333"/>
                  </a:lnTo>
                  <a:lnTo>
                    <a:pt x="5419" y="10274"/>
                  </a:lnTo>
                  <a:lnTo>
                    <a:pt x="5508" y="10244"/>
                  </a:lnTo>
                  <a:lnTo>
                    <a:pt x="5598" y="10214"/>
                  </a:lnTo>
                  <a:lnTo>
                    <a:pt x="5776" y="10214"/>
                  </a:lnTo>
                  <a:lnTo>
                    <a:pt x="5866" y="10185"/>
                  </a:lnTo>
                  <a:lnTo>
                    <a:pt x="6193" y="10185"/>
                  </a:lnTo>
                  <a:lnTo>
                    <a:pt x="6402" y="10125"/>
                  </a:lnTo>
                  <a:lnTo>
                    <a:pt x="6511" y="10036"/>
                  </a:lnTo>
                  <a:lnTo>
                    <a:pt x="6610" y="9996"/>
                  </a:lnTo>
                  <a:lnTo>
                    <a:pt x="6789" y="9976"/>
                  </a:lnTo>
                  <a:lnTo>
                    <a:pt x="6848" y="9887"/>
                  </a:lnTo>
                  <a:lnTo>
                    <a:pt x="6908" y="9798"/>
                  </a:lnTo>
                  <a:lnTo>
                    <a:pt x="6967" y="9708"/>
                  </a:lnTo>
                  <a:lnTo>
                    <a:pt x="7086" y="9619"/>
                  </a:lnTo>
                  <a:lnTo>
                    <a:pt x="7324" y="9530"/>
                  </a:lnTo>
                  <a:lnTo>
                    <a:pt x="7414" y="9440"/>
                  </a:lnTo>
                  <a:lnTo>
                    <a:pt x="7503" y="9381"/>
                  </a:lnTo>
                  <a:lnTo>
                    <a:pt x="7593" y="9321"/>
                  </a:lnTo>
                  <a:lnTo>
                    <a:pt x="7683" y="9262"/>
                  </a:lnTo>
                  <a:lnTo>
                    <a:pt x="7772" y="9202"/>
                  </a:lnTo>
                  <a:lnTo>
                    <a:pt x="7861" y="9142"/>
                  </a:lnTo>
                  <a:lnTo>
                    <a:pt x="7980" y="9113"/>
                  </a:lnTo>
                  <a:lnTo>
                    <a:pt x="8219" y="9083"/>
                  </a:lnTo>
                  <a:lnTo>
                    <a:pt x="8338" y="8994"/>
                  </a:lnTo>
                  <a:lnTo>
                    <a:pt x="8427" y="8904"/>
                  </a:lnTo>
                  <a:lnTo>
                    <a:pt x="8516" y="8815"/>
                  </a:lnTo>
                  <a:lnTo>
                    <a:pt x="8606" y="8726"/>
                  </a:lnTo>
                  <a:lnTo>
                    <a:pt x="8695" y="8666"/>
                  </a:lnTo>
                  <a:lnTo>
                    <a:pt x="8933" y="8547"/>
                  </a:lnTo>
                  <a:lnTo>
                    <a:pt x="9022" y="8428"/>
                  </a:lnTo>
                  <a:lnTo>
                    <a:pt x="9082" y="8339"/>
                  </a:lnTo>
                  <a:lnTo>
                    <a:pt x="9142" y="8160"/>
                  </a:lnTo>
                  <a:lnTo>
                    <a:pt x="9171" y="8041"/>
                  </a:lnTo>
                  <a:lnTo>
                    <a:pt x="9201" y="7922"/>
                  </a:lnTo>
                  <a:lnTo>
                    <a:pt x="9261" y="7623"/>
                  </a:lnTo>
                  <a:lnTo>
                    <a:pt x="9261" y="7504"/>
                  </a:lnTo>
                  <a:lnTo>
                    <a:pt x="9290" y="7325"/>
                  </a:lnTo>
                  <a:lnTo>
                    <a:pt x="9350" y="7087"/>
                  </a:lnTo>
                  <a:lnTo>
                    <a:pt x="9439" y="6968"/>
                  </a:lnTo>
                  <a:lnTo>
                    <a:pt x="9499" y="6730"/>
                  </a:lnTo>
                  <a:lnTo>
                    <a:pt x="9558" y="6611"/>
                  </a:lnTo>
                  <a:lnTo>
                    <a:pt x="9648" y="6491"/>
                  </a:lnTo>
                  <a:lnTo>
                    <a:pt x="9677" y="6402"/>
                  </a:lnTo>
                  <a:lnTo>
                    <a:pt x="9767" y="6283"/>
                  </a:lnTo>
                  <a:lnTo>
                    <a:pt x="9797" y="6194"/>
                  </a:lnTo>
                  <a:lnTo>
                    <a:pt x="9826" y="6104"/>
                  </a:lnTo>
                  <a:lnTo>
                    <a:pt x="9886" y="5807"/>
                  </a:lnTo>
                  <a:lnTo>
                    <a:pt x="9916" y="5717"/>
                  </a:lnTo>
                  <a:lnTo>
                    <a:pt x="9945" y="5420"/>
                  </a:lnTo>
                  <a:lnTo>
                    <a:pt x="9975" y="5300"/>
                  </a:lnTo>
                  <a:lnTo>
                    <a:pt x="10005" y="5181"/>
                  </a:lnTo>
                  <a:lnTo>
                    <a:pt x="10035" y="5092"/>
                  </a:lnTo>
                  <a:lnTo>
                    <a:pt x="10035" y="5003"/>
                  </a:lnTo>
                  <a:lnTo>
                    <a:pt x="10064" y="4913"/>
                  </a:lnTo>
                  <a:lnTo>
                    <a:pt x="10064" y="4735"/>
                  </a:lnTo>
                  <a:lnTo>
                    <a:pt x="10064" y="4616"/>
                  </a:lnTo>
                  <a:lnTo>
                    <a:pt x="10064" y="4497"/>
                  </a:lnTo>
                  <a:lnTo>
                    <a:pt x="10035" y="4288"/>
                  </a:lnTo>
                  <a:lnTo>
                    <a:pt x="9975" y="4050"/>
                  </a:lnTo>
                  <a:lnTo>
                    <a:pt x="9975" y="3961"/>
                  </a:lnTo>
                  <a:lnTo>
                    <a:pt x="9916" y="3871"/>
                  </a:lnTo>
                  <a:lnTo>
                    <a:pt x="9856" y="3782"/>
                  </a:lnTo>
                  <a:lnTo>
                    <a:pt x="9826" y="3693"/>
                  </a:lnTo>
                  <a:lnTo>
                    <a:pt x="9767" y="3603"/>
                  </a:lnTo>
                  <a:lnTo>
                    <a:pt x="9737" y="3514"/>
                  </a:lnTo>
                  <a:lnTo>
                    <a:pt x="9677" y="3425"/>
                  </a:lnTo>
                  <a:lnTo>
                    <a:pt x="9618" y="3335"/>
                  </a:lnTo>
                  <a:lnTo>
                    <a:pt x="9558" y="3246"/>
                  </a:lnTo>
                  <a:lnTo>
                    <a:pt x="9469" y="3008"/>
                  </a:lnTo>
                  <a:lnTo>
                    <a:pt x="9409" y="2918"/>
                  </a:lnTo>
                  <a:lnTo>
                    <a:pt x="9350" y="2740"/>
                  </a:lnTo>
                  <a:lnTo>
                    <a:pt x="9261" y="2650"/>
                  </a:lnTo>
                  <a:lnTo>
                    <a:pt x="9171" y="2621"/>
                  </a:lnTo>
                  <a:lnTo>
                    <a:pt x="9142" y="2530"/>
                  </a:lnTo>
                  <a:lnTo>
                    <a:pt x="9052" y="2471"/>
                  </a:lnTo>
                  <a:lnTo>
                    <a:pt x="8993" y="2262"/>
                  </a:lnTo>
                  <a:lnTo>
                    <a:pt x="8963" y="2173"/>
                  </a:lnTo>
                  <a:lnTo>
                    <a:pt x="8903" y="1994"/>
                  </a:lnTo>
                  <a:lnTo>
                    <a:pt x="8874" y="1905"/>
                  </a:lnTo>
                  <a:lnTo>
                    <a:pt x="8844" y="1786"/>
                  </a:lnTo>
                  <a:lnTo>
                    <a:pt x="8814" y="1697"/>
                  </a:lnTo>
                  <a:lnTo>
                    <a:pt x="8774" y="1548"/>
                  </a:lnTo>
                  <a:lnTo>
                    <a:pt x="8665" y="1458"/>
                  </a:lnTo>
                  <a:lnTo>
                    <a:pt x="8516" y="1300"/>
                  </a:lnTo>
                  <a:lnTo>
                    <a:pt x="8427" y="1210"/>
                  </a:lnTo>
                  <a:lnTo>
                    <a:pt x="8367" y="1131"/>
                  </a:lnTo>
                  <a:lnTo>
                    <a:pt x="8248" y="1101"/>
                  </a:lnTo>
                  <a:lnTo>
                    <a:pt x="8219" y="1012"/>
                  </a:lnTo>
                  <a:lnTo>
                    <a:pt x="8100" y="952"/>
                  </a:lnTo>
                  <a:lnTo>
                    <a:pt x="7832" y="893"/>
                  </a:lnTo>
                  <a:lnTo>
                    <a:pt x="7712" y="833"/>
                  </a:lnTo>
                  <a:lnTo>
                    <a:pt x="7623" y="803"/>
                  </a:lnTo>
                  <a:lnTo>
                    <a:pt x="7533" y="744"/>
                  </a:lnTo>
                  <a:lnTo>
                    <a:pt x="7324" y="714"/>
                  </a:lnTo>
                  <a:lnTo>
                    <a:pt x="7205" y="684"/>
                  </a:lnTo>
                  <a:lnTo>
                    <a:pt x="6997" y="625"/>
                  </a:lnTo>
                  <a:lnTo>
                    <a:pt x="6908" y="565"/>
                  </a:lnTo>
                  <a:lnTo>
                    <a:pt x="6789" y="506"/>
                  </a:lnTo>
                  <a:lnTo>
                    <a:pt x="6699" y="476"/>
                  </a:lnTo>
                  <a:lnTo>
                    <a:pt x="6521" y="446"/>
                  </a:lnTo>
                  <a:lnTo>
                    <a:pt x="6402" y="387"/>
                  </a:lnTo>
                  <a:lnTo>
                    <a:pt x="6312" y="297"/>
                  </a:lnTo>
                  <a:lnTo>
                    <a:pt x="6223" y="238"/>
                  </a:lnTo>
                  <a:lnTo>
                    <a:pt x="6134" y="208"/>
                  </a:lnTo>
                  <a:lnTo>
                    <a:pt x="6044" y="148"/>
                  </a:lnTo>
                  <a:lnTo>
                    <a:pt x="5925" y="119"/>
                  </a:lnTo>
                  <a:lnTo>
                    <a:pt x="5806" y="119"/>
                  </a:lnTo>
                  <a:lnTo>
                    <a:pt x="5568" y="89"/>
                  </a:lnTo>
                  <a:lnTo>
                    <a:pt x="5479" y="89"/>
                  </a:lnTo>
                  <a:lnTo>
                    <a:pt x="5389" y="59"/>
                  </a:lnTo>
                  <a:lnTo>
                    <a:pt x="5300" y="29"/>
                  </a:lnTo>
                  <a:lnTo>
                    <a:pt x="5211" y="0"/>
                  </a:lnTo>
                  <a:lnTo>
                    <a:pt x="5092" y="0"/>
                  </a:lnTo>
                  <a:lnTo>
                    <a:pt x="4913" y="29"/>
                  </a:lnTo>
                  <a:lnTo>
                    <a:pt x="4824" y="89"/>
                  </a:lnTo>
                  <a:lnTo>
                    <a:pt x="4913" y="89"/>
                  </a:lnTo>
                  <a:lnTo>
                    <a:pt x="5002" y="29"/>
                  </a:lnTo>
                  <a:close/>
                </a:path>
              </a:pathLst>
            </a:custGeom>
            <a:blipFill rotWithShape="0">
              <a:blip r:embed="rId1"/>
              <a:tile tx="0" ty="0" sx="133018" sy="133018" algn="ctr"/>
            </a:blipFill>
            <a:ln w="25560">
              <a:solidFill>
                <a:srgbClr val="fafd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230480" y="2000160"/>
              <a:ext cx="3319560" cy="331956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958680" y="1714680"/>
              <a:ext cx="3857760" cy="385776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308240" y="2077920"/>
              <a:ext cx="3162240" cy="3162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"/>
            <p:cNvGrpSpPr/>
            <p:nvPr/>
          </p:nvGrpSpPr>
          <p:grpSpPr>
            <a:xfrm>
              <a:off x="2876400" y="895320"/>
              <a:ext cx="0" cy="5479920"/>
              <a:chOff x="2876400" y="895320"/>
              <a:chExt cx="0" cy="5479920"/>
            </a:xfrm>
          </p:grpSpPr>
          <p:sp>
            <p:nvSpPr>
              <p:cNvPr id="1227" name=""/>
              <p:cNvSpPr/>
              <p:nvPr/>
            </p:nvSpPr>
            <p:spPr>
              <a:xfrm flipV="1">
                <a:off x="2876400" y="3990960"/>
                <a:ext cx="0" cy="238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flipV="1">
                <a:off x="2876400" y="3517920"/>
                <a:ext cx="0" cy="235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 flipV="1">
                <a:off x="2876400" y="895320"/>
                <a:ext cx="0" cy="2451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0" name=""/>
            <p:cNvGrpSpPr/>
            <p:nvPr/>
          </p:nvGrpSpPr>
          <p:grpSpPr>
            <a:xfrm>
              <a:off x="136440" y="3635280"/>
              <a:ext cx="5480280" cy="0"/>
              <a:chOff x="136440" y="3635280"/>
              <a:chExt cx="5480280" cy="0"/>
            </a:xfrm>
          </p:grpSpPr>
          <p:sp>
            <p:nvSpPr>
              <p:cNvPr id="1231" name=""/>
              <p:cNvSpPr/>
              <p:nvPr/>
            </p:nvSpPr>
            <p:spPr>
              <a:xfrm>
                <a:off x="136440" y="3635280"/>
                <a:ext cx="2384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2759040" y="3635280"/>
                <a:ext cx="235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165480" y="3635280"/>
                <a:ext cx="2451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4" name=""/>
          <p:cNvSpPr txBox="1"/>
          <p:nvPr/>
        </p:nvSpPr>
        <p:spPr>
          <a:xfrm>
            <a:off x="5327640" y="1000080"/>
            <a:ext cx="36892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hite: 10.0 - 10.8 Diameter Size Lim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"/>
          <p:cNvSpPr txBox="1"/>
          <p:nvPr/>
        </p:nvSpPr>
        <p:spPr>
          <a:xfrm>
            <a:off x="285840" y="228600"/>
            <a:ext cx="85248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IRCULARITY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136440" y="895320"/>
            <a:ext cx="5480280" cy="5479920"/>
            <a:chOff x="136440" y="895320"/>
            <a:chExt cx="5480280" cy="5479920"/>
          </a:xfrm>
        </p:grpSpPr>
        <p:sp>
          <p:nvSpPr>
            <p:cNvPr id="1237" name=""/>
            <p:cNvSpPr/>
            <p:nvPr/>
          </p:nvSpPr>
          <p:spPr>
            <a:xfrm>
              <a:off x="608040" y="1363680"/>
              <a:ext cx="4557600" cy="4557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084320" y="1792440"/>
              <a:ext cx="3623040" cy="3719880"/>
            </a:xfrm>
            <a:custGeom>
              <a:avLst/>
              <a:gdLst/>
              <a:ahLst/>
              <a:rect l="0" t="0" r="r" b="b"/>
              <a:pathLst>
                <a:path w="10064" h="10333">
                  <a:moveTo>
                    <a:pt x="5002" y="29"/>
                  </a:moveTo>
                  <a:lnTo>
                    <a:pt x="4913" y="59"/>
                  </a:lnTo>
                  <a:lnTo>
                    <a:pt x="4824" y="89"/>
                  </a:lnTo>
                  <a:lnTo>
                    <a:pt x="4734" y="119"/>
                  </a:lnTo>
                  <a:lnTo>
                    <a:pt x="4645" y="119"/>
                  </a:lnTo>
                  <a:lnTo>
                    <a:pt x="4556" y="119"/>
                  </a:lnTo>
                  <a:lnTo>
                    <a:pt x="4466" y="119"/>
                  </a:lnTo>
                  <a:lnTo>
                    <a:pt x="4377" y="119"/>
                  </a:lnTo>
                  <a:lnTo>
                    <a:pt x="4288" y="119"/>
                  </a:lnTo>
                  <a:lnTo>
                    <a:pt x="4198" y="148"/>
                  </a:lnTo>
                  <a:lnTo>
                    <a:pt x="4109" y="178"/>
                  </a:lnTo>
                  <a:lnTo>
                    <a:pt x="4020" y="208"/>
                  </a:lnTo>
                  <a:lnTo>
                    <a:pt x="3930" y="238"/>
                  </a:lnTo>
                  <a:lnTo>
                    <a:pt x="3841" y="267"/>
                  </a:lnTo>
                  <a:lnTo>
                    <a:pt x="3752" y="297"/>
                  </a:lnTo>
                  <a:lnTo>
                    <a:pt x="3662" y="297"/>
                  </a:lnTo>
                  <a:lnTo>
                    <a:pt x="3573" y="297"/>
                  </a:lnTo>
                  <a:lnTo>
                    <a:pt x="3454" y="327"/>
                  </a:lnTo>
                  <a:lnTo>
                    <a:pt x="3365" y="357"/>
                  </a:lnTo>
                  <a:lnTo>
                    <a:pt x="3275" y="357"/>
                  </a:lnTo>
                  <a:lnTo>
                    <a:pt x="3186" y="387"/>
                  </a:lnTo>
                  <a:lnTo>
                    <a:pt x="3097" y="416"/>
                  </a:lnTo>
                  <a:lnTo>
                    <a:pt x="2978" y="506"/>
                  </a:lnTo>
                  <a:lnTo>
                    <a:pt x="2769" y="595"/>
                  </a:lnTo>
                  <a:lnTo>
                    <a:pt x="2680" y="655"/>
                  </a:lnTo>
                  <a:lnTo>
                    <a:pt x="2620" y="744"/>
                  </a:lnTo>
                  <a:lnTo>
                    <a:pt x="2531" y="774"/>
                  </a:lnTo>
                  <a:lnTo>
                    <a:pt x="2441" y="893"/>
                  </a:lnTo>
                  <a:lnTo>
                    <a:pt x="2351" y="982"/>
                  </a:lnTo>
                  <a:lnTo>
                    <a:pt x="2232" y="1071"/>
                  </a:lnTo>
                  <a:lnTo>
                    <a:pt x="2113" y="1131"/>
                  </a:lnTo>
                  <a:lnTo>
                    <a:pt x="2024" y="1191"/>
                  </a:lnTo>
                  <a:lnTo>
                    <a:pt x="1935" y="1250"/>
                  </a:lnTo>
                  <a:lnTo>
                    <a:pt x="1845" y="1310"/>
                  </a:lnTo>
                  <a:lnTo>
                    <a:pt x="1726" y="1369"/>
                  </a:lnTo>
                  <a:lnTo>
                    <a:pt x="1637" y="1429"/>
                  </a:lnTo>
                  <a:lnTo>
                    <a:pt x="1548" y="1488"/>
                  </a:lnTo>
                  <a:lnTo>
                    <a:pt x="1458" y="1578"/>
                  </a:lnTo>
                  <a:lnTo>
                    <a:pt x="1369" y="1667"/>
                  </a:lnTo>
                  <a:lnTo>
                    <a:pt x="1339" y="1756"/>
                  </a:lnTo>
                  <a:lnTo>
                    <a:pt x="1280" y="1846"/>
                  </a:lnTo>
                  <a:lnTo>
                    <a:pt x="1190" y="1935"/>
                  </a:lnTo>
                  <a:lnTo>
                    <a:pt x="1012" y="2024"/>
                  </a:lnTo>
                  <a:lnTo>
                    <a:pt x="952" y="2114"/>
                  </a:lnTo>
                  <a:lnTo>
                    <a:pt x="893" y="2203"/>
                  </a:lnTo>
                  <a:lnTo>
                    <a:pt x="863" y="2292"/>
                  </a:lnTo>
                  <a:lnTo>
                    <a:pt x="803" y="2471"/>
                  </a:lnTo>
                  <a:lnTo>
                    <a:pt x="774" y="2560"/>
                  </a:lnTo>
                  <a:lnTo>
                    <a:pt x="744" y="2740"/>
                  </a:lnTo>
                  <a:lnTo>
                    <a:pt x="714" y="2829"/>
                  </a:lnTo>
                  <a:lnTo>
                    <a:pt x="654" y="2918"/>
                  </a:lnTo>
                  <a:lnTo>
                    <a:pt x="595" y="3038"/>
                  </a:lnTo>
                  <a:lnTo>
                    <a:pt x="565" y="3127"/>
                  </a:lnTo>
                  <a:lnTo>
                    <a:pt x="506" y="3216"/>
                  </a:lnTo>
                  <a:lnTo>
                    <a:pt x="416" y="3306"/>
                  </a:lnTo>
                  <a:lnTo>
                    <a:pt x="387" y="3395"/>
                  </a:lnTo>
                  <a:lnTo>
                    <a:pt x="297" y="3693"/>
                  </a:lnTo>
                  <a:lnTo>
                    <a:pt x="238" y="3782"/>
                  </a:lnTo>
                  <a:lnTo>
                    <a:pt x="208" y="3871"/>
                  </a:lnTo>
                  <a:lnTo>
                    <a:pt x="178" y="4139"/>
                  </a:lnTo>
                  <a:lnTo>
                    <a:pt x="119" y="4229"/>
                  </a:lnTo>
                  <a:lnTo>
                    <a:pt x="89" y="4407"/>
                  </a:lnTo>
                  <a:lnTo>
                    <a:pt x="59" y="4616"/>
                  </a:lnTo>
                  <a:lnTo>
                    <a:pt x="29" y="4705"/>
                  </a:lnTo>
                  <a:lnTo>
                    <a:pt x="0" y="4943"/>
                  </a:lnTo>
                  <a:lnTo>
                    <a:pt x="0" y="5062"/>
                  </a:lnTo>
                  <a:lnTo>
                    <a:pt x="0" y="5152"/>
                  </a:lnTo>
                  <a:lnTo>
                    <a:pt x="0" y="5360"/>
                  </a:lnTo>
                  <a:lnTo>
                    <a:pt x="0" y="5449"/>
                  </a:lnTo>
                  <a:lnTo>
                    <a:pt x="0" y="5628"/>
                  </a:lnTo>
                  <a:lnTo>
                    <a:pt x="29" y="5747"/>
                  </a:lnTo>
                  <a:lnTo>
                    <a:pt x="29" y="5926"/>
                  </a:lnTo>
                  <a:lnTo>
                    <a:pt x="59" y="6134"/>
                  </a:lnTo>
                  <a:lnTo>
                    <a:pt x="89" y="6224"/>
                  </a:lnTo>
                  <a:lnTo>
                    <a:pt x="148" y="6313"/>
                  </a:lnTo>
                  <a:lnTo>
                    <a:pt x="178" y="6402"/>
                  </a:lnTo>
                  <a:lnTo>
                    <a:pt x="178" y="6491"/>
                  </a:lnTo>
                  <a:lnTo>
                    <a:pt x="238" y="6611"/>
                  </a:lnTo>
                  <a:lnTo>
                    <a:pt x="267" y="6700"/>
                  </a:lnTo>
                  <a:lnTo>
                    <a:pt x="297" y="6819"/>
                  </a:lnTo>
                  <a:lnTo>
                    <a:pt x="357" y="6938"/>
                  </a:lnTo>
                  <a:lnTo>
                    <a:pt x="446" y="7027"/>
                  </a:lnTo>
                  <a:lnTo>
                    <a:pt x="535" y="7147"/>
                  </a:lnTo>
                  <a:lnTo>
                    <a:pt x="625" y="7385"/>
                  </a:lnTo>
                  <a:lnTo>
                    <a:pt x="714" y="7474"/>
                  </a:lnTo>
                  <a:lnTo>
                    <a:pt x="774" y="7563"/>
                  </a:lnTo>
                  <a:lnTo>
                    <a:pt x="863" y="7653"/>
                  </a:lnTo>
                  <a:lnTo>
                    <a:pt x="893" y="7742"/>
                  </a:lnTo>
                  <a:lnTo>
                    <a:pt x="982" y="7832"/>
                  </a:lnTo>
                  <a:lnTo>
                    <a:pt x="1161" y="8041"/>
                  </a:lnTo>
                  <a:lnTo>
                    <a:pt x="1220" y="8130"/>
                  </a:lnTo>
                  <a:lnTo>
                    <a:pt x="1280" y="8219"/>
                  </a:lnTo>
                  <a:lnTo>
                    <a:pt x="1339" y="8339"/>
                  </a:lnTo>
                  <a:lnTo>
                    <a:pt x="1429" y="8428"/>
                  </a:lnTo>
                  <a:lnTo>
                    <a:pt x="1637" y="8815"/>
                  </a:lnTo>
                  <a:lnTo>
                    <a:pt x="1697" y="9053"/>
                  </a:lnTo>
                  <a:lnTo>
                    <a:pt x="1756" y="9172"/>
                  </a:lnTo>
                  <a:lnTo>
                    <a:pt x="1845" y="9232"/>
                  </a:lnTo>
                  <a:lnTo>
                    <a:pt x="1964" y="9262"/>
                  </a:lnTo>
                  <a:lnTo>
                    <a:pt x="2024" y="9351"/>
                  </a:lnTo>
                  <a:lnTo>
                    <a:pt x="2143" y="9381"/>
                  </a:lnTo>
                  <a:lnTo>
                    <a:pt x="2262" y="9470"/>
                  </a:lnTo>
                  <a:lnTo>
                    <a:pt x="2500" y="9500"/>
                  </a:lnTo>
                  <a:lnTo>
                    <a:pt x="2591" y="9559"/>
                  </a:lnTo>
                  <a:lnTo>
                    <a:pt x="2829" y="9619"/>
                  </a:lnTo>
                  <a:lnTo>
                    <a:pt x="3037" y="9649"/>
                  </a:lnTo>
                  <a:lnTo>
                    <a:pt x="3216" y="9678"/>
                  </a:lnTo>
                  <a:lnTo>
                    <a:pt x="3305" y="9708"/>
                  </a:lnTo>
                  <a:lnTo>
                    <a:pt x="3395" y="9738"/>
                  </a:lnTo>
                  <a:lnTo>
                    <a:pt x="3514" y="9798"/>
                  </a:lnTo>
                  <a:lnTo>
                    <a:pt x="3603" y="9827"/>
                  </a:lnTo>
                  <a:lnTo>
                    <a:pt x="3692" y="9887"/>
                  </a:lnTo>
                  <a:lnTo>
                    <a:pt x="3901" y="9917"/>
                  </a:lnTo>
                  <a:lnTo>
                    <a:pt x="4109" y="9976"/>
                  </a:lnTo>
                  <a:lnTo>
                    <a:pt x="4228" y="10006"/>
                  </a:lnTo>
                  <a:lnTo>
                    <a:pt x="4347" y="10006"/>
                  </a:lnTo>
                  <a:lnTo>
                    <a:pt x="4437" y="10066"/>
                  </a:lnTo>
                  <a:lnTo>
                    <a:pt x="4526" y="10095"/>
                  </a:lnTo>
                  <a:lnTo>
                    <a:pt x="4615" y="10125"/>
                  </a:lnTo>
                  <a:lnTo>
                    <a:pt x="4704" y="10185"/>
                  </a:lnTo>
                  <a:lnTo>
                    <a:pt x="4933" y="10304"/>
                  </a:lnTo>
                  <a:lnTo>
                    <a:pt x="4972" y="10294"/>
                  </a:lnTo>
                  <a:lnTo>
                    <a:pt x="5092" y="10324"/>
                  </a:lnTo>
                  <a:lnTo>
                    <a:pt x="5211" y="10333"/>
                  </a:lnTo>
                  <a:lnTo>
                    <a:pt x="5300" y="10333"/>
                  </a:lnTo>
                  <a:lnTo>
                    <a:pt x="5419" y="10274"/>
                  </a:lnTo>
                  <a:lnTo>
                    <a:pt x="5508" y="10244"/>
                  </a:lnTo>
                  <a:lnTo>
                    <a:pt x="5598" y="10214"/>
                  </a:lnTo>
                  <a:lnTo>
                    <a:pt x="5776" y="10214"/>
                  </a:lnTo>
                  <a:lnTo>
                    <a:pt x="5866" y="10185"/>
                  </a:lnTo>
                  <a:lnTo>
                    <a:pt x="6193" y="10185"/>
                  </a:lnTo>
                  <a:lnTo>
                    <a:pt x="6402" y="10125"/>
                  </a:lnTo>
                  <a:lnTo>
                    <a:pt x="6511" y="10036"/>
                  </a:lnTo>
                  <a:lnTo>
                    <a:pt x="6610" y="9996"/>
                  </a:lnTo>
                  <a:lnTo>
                    <a:pt x="6789" y="9976"/>
                  </a:lnTo>
                  <a:lnTo>
                    <a:pt x="6848" y="9887"/>
                  </a:lnTo>
                  <a:lnTo>
                    <a:pt x="6908" y="9798"/>
                  </a:lnTo>
                  <a:lnTo>
                    <a:pt x="6967" y="9708"/>
                  </a:lnTo>
                  <a:lnTo>
                    <a:pt x="7086" y="9619"/>
                  </a:lnTo>
                  <a:lnTo>
                    <a:pt x="7324" y="9530"/>
                  </a:lnTo>
                  <a:lnTo>
                    <a:pt x="7414" y="9440"/>
                  </a:lnTo>
                  <a:lnTo>
                    <a:pt x="7503" y="9381"/>
                  </a:lnTo>
                  <a:lnTo>
                    <a:pt x="7593" y="9321"/>
                  </a:lnTo>
                  <a:lnTo>
                    <a:pt x="7683" y="9262"/>
                  </a:lnTo>
                  <a:lnTo>
                    <a:pt x="7772" y="9202"/>
                  </a:lnTo>
                  <a:lnTo>
                    <a:pt x="7861" y="9142"/>
                  </a:lnTo>
                  <a:lnTo>
                    <a:pt x="7980" y="9113"/>
                  </a:lnTo>
                  <a:lnTo>
                    <a:pt x="8219" y="9083"/>
                  </a:lnTo>
                  <a:lnTo>
                    <a:pt x="8338" y="8994"/>
                  </a:lnTo>
                  <a:lnTo>
                    <a:pt x="8427" y="8904"/>
                  </a:lnTo>
                  <a:lnTo>
                    <a:pt x="8516" y="8815"/>
                  </a:lnTo>
                  <a:lnTo>
                    <a:pt x="8606" y="8726"/>
                  </a:lnTo>
                  <a:lnTo>
                    <a:pt x="8695" y="8666"/>
                  </a:lnTo>
                  <a:lnTo>
                    <a:pt x="8933" y="8547"/>
                  </a:lnTo>
                  <a:lnTo>
                    <a:pt x="9022" y="8428"/>
                  </a:lnTo>
                  <a:lnTo>
                    <a:pt x="9082" y="8339"/>
                  </a:lnTo>
                  <a:lnTo>
                    <a:pt x="9142" y="8160"/>
                  </a:lnTo>
                  <a:lnTo>
                    <a:pt x="9171" y="8041"/>
                  </a:lnTo>
                  <a:lnTo>
                    <a:pt x="9201" y="7922"/>
                  </a:lnTo>
                  <a:lnTo>
                    <a:pt x="9261" y="7623"/>
                  </a:lnTo>
                  <a:lnTo>
                    <a:pt x="9261" y="7504"/>
                  </a:lnTo>
                  <a:lnTo>
                    <a:pt x="9290" y="7325"/>
                  </a:lnTo>
                  <a:lnTo>
                    <a:pt x="9350" y="7087"/>
                  </a:lnTo>
                  <a:lnTo>
                    <a:pt x="9439" y="6968"/>
                  </a:lnTo>
                  <a:lnTo>
                    <a:pt x="9499" y="6730"/>
                  </a:lnTo>
                  <a:lnTo>
                    <a:pt x="9558" y="6611"/>
                  </a:lnTo>
                  <a:lnTo>
                    <a:pt x="9648" y="6491"/>
                  </a:lnTo>
                  <a:lnTo>
                    <a:pt x="9677" y="6402"/>
                  </a:lnTo>
                  <a:lnTo>
                    <a:pt x="9767" y="6283"/>
                  </a:lnTo>
                  <a:lnTo>
                    <a:pt x="9797" y="6194"/>
                  </a:lnTo>
                  <a:lnTo>
                    <a:pt x="9826" y="6104"/>
                  </a:lnTo>
                  <a:lnTo>
                    <a:pt x="9886" y="5807"/>
                  </a:lnTo>
                  <a:lnTo>
                    <a:pt x="9916" y="5717"/>
                  </a:lnTo>
                  <a:lnTo>
                    <a:pt x="9945" y="5420"/>
                  </a:lnTo>
                  <a:lnTo>
                    <a:pt x="9975" y="5300"/>
                  </a:lnTo>
                  <a:lnTo>
                    <a:pt x="10005" y="5181"/>
                  </a:lnTo>
                  <a:lnTo>
                    <a:pt x="10035" y="5092"/>
                  </a:lnTo>
                  <a:lnTo>
                    <a:pt x="10035" y="5003"/>
                  </a:lnTo>
                  <a:lnTo>
                    <a:pt x="10064" y="4913"/>
                  </a:lnTo>
                  <a:lnTo>
                    <a:pt x="10064" y="4735"/>
                  </a:lnTo>
                  <a:lnTo>
                    <a:pt x="10064" y="4616"/>
                  </a:lnTo>
                  <a:lnTo>
                    <a:pt x="10064" y="4497"/>
                  </a:lnTo>
                  <a:lnTo>
                    <a:pt x="10035" y="4288"/>
                  </a:lnTo>
                  <a:lnTo>
                    <a:pt x="9975" y="4050"/>
                  </a:lnTo>
                  <a:lnTo>
                    <a:pt x="9975" y="3961"/>
                  </a:lnTo>
                  <a:lnTo>
                    <a:pt x="9916" y="3871"/>
                  </a:lnTo>
                  <a:lnTo>
                    <a:pt x="9856" y="3782"/>
                  </a:lnTo>
                  <a:lnTo>
                    <a:pt x="9826" y="3693"/>
                  </a:lnTo>
                  <a:lnTo>
                    <a:pt x="9767" y="3603"/>
                  </a:lnTo>
                  <a:lnTo>
                    <a:pt x="9737" y="3514"/>
                  </a:lnTo>
                  <a:lnTo>
                    <a:pt x="9677" y="3425"/>
                  </a:lnTo>
                  <a:lnTo>
                    <a:pt x="9618" y="3335"/>
                  </a:lnTo>
                  <a:lnTo>
                    <a:pt x="9558" y="3246"/>
                  </a:lnTo>
                  <a:lnTo>
                    <a:pt x="9469" y="3008"/>
                  </a:lnTo>
                  <a:lnTo>
                    <a:pt x="9409" y="2918"/>
                  </a:lnTo>
                  <a:lnTo>
                    <a:pt x="9350" y="2740"/>
                  </a:lnTo>
                  <a:lnTo>
                    <a:pt x="9261" y="2650"/>
                  </a:lnTo>
                  <a:lnTo>
                    <a:pt x="9171" y="2621"/>
                  </a:lnTo>
                  <a:lnTo>
                    <a:pt x="9142" y="2530"/>
                  </a:lnTo>
                  <a:lnTo>
                    <a:pt x="9052" y="2471"/>
                  </a:lnTo>
                  <a:lnTo>
                    <a:pt x="8993" y="2262"/>
                  </a:lnTo>
                  <a:lnTo>
                    <a:pt x="8963" y="2173"/>
                  </a:lnTo>
                  <a:lnTo>
                    <a:pt x="8903" y="1994"/>
                  </a:lnTo>
                  <a:lnTo>
                    <a:pt x="8874" y="1905"/>
                  </a:lnTo>
                  <a:lnTo>
                    <a:pt x="8844" y="1786"/>
                  </a:lnTo>
                  <a:lnTo>
                    <a:pt x="8814" y="1697"/>
                  </a:lnTo>
                  <a:lnTo>
                    <a:pt x="8774" y="1548"/>
                  </a:lnTo>
                  <a:lnTo>
                    <a:pt x="8665" y="1458"/>
                  </a:lnTo>
                  <a:lnTo>
                    <a:pt x="8516" y="1300"/>
                  </a:lnTo>
                  <a:lnTo>
                    <a:pt x="8427" y="1210"/>
                  </a:lnTo>
                  <a:lnTo>
                    <a:pt x="8367" y="1131"/>
                  </a:lnTo>
                  <a:lnTo>
                    <a:pt x="8248" y="1101"/>
                  </a:lnTo>
                  <a:lnTo>
                    <a:pt x="8219" y="1012"/>
                  </a:lnTo>
                  <a:lnTo>
                    <a:pt x="8100" y="952"/>
                  </a:lnTo>
                  <a:lnTo>
                    <a:pt x="7832" y="893"/>
                  </a:lnTo>
                  <a:lnTo>
                    <a:pt x="7712" y="833"/>
                  </a:lnTo>
                  <a:lnTo>
                    <a:pt x="7623" y="803"/>
                  </a:lnTo>
                  <a:lnTo>
                    <a:pt x="7533" y="744"/>
                  </a:lnTo>
                  <a:lnTo>
                    <a:pt x="7324" y="714"/>
                  </a:lnTo>
                  <a:lnTo>
                    <a:pt x="7205" y="684"/>
                  </a:lnTo>
                  <a:lnTo>
                    <a:pt x="6997" y="625"/>
                  </a:lnTo>
                  <a:lnTo>
                    <a:pt x="6908" y="565"/>
                  </a:lnTo>
                  <a:lnTo>
                    <a:pt x="6789" y="506"/>
                  </a:lnTo>
                  <a:lnTo>
                    <a:pt x="6699" y="476"/>
                  </a:lnTo>
                  <a:lnTo>
                    <a:pt x="6521" y="446"/>
                  </a:lnTo>
                  <a:lnTo>
                    <a:pt x="6402" y="387"/>
                  </a:lnTo>
                  <a:lnTo>
                    <a:pt x="6312" y="297"/>
                  </a:lnTo>
                  <a:lnTo>
                    <a:pt x="6223" y="238"/>
                  </a:lnTo>
                  <a:lnTo>
                    <a:pt x="6134" y="208"/>
                  </a:lnTo>
                  <a:lnTo>
                    <a:pt x="6044" y="148"/>
                  </a:lnTo>
                  <a:lnTo>
                    <a:pt x="5925" y="119"/>
                  </a:lnTo>
                  <a:lnTo>
                    <a:pt x="5806" y="119"/>
                  </a:lnTo>
                  <a:lnTo>
                    <a:pt x="5568" y="89"/>
                  </a:lnTo>
                  <a:lnTo>
                    <a:pt x="5479" y="89"/>
                  </a:lnTo>
                  <a:lnTo>
                    <a:pt x="5389" y="59"/>
                  </a:lnTo>
                  <a:lnTo>
                    <a:pt x="5300" y="29"/>
                  </a:lnTo>
                  <a:lnTo>
                    <a:pt x="5211" y="0"/>
                  </a:lnTo>
                  <a:lnTo>
                    <a:pt x="5092" y="0"/>
                  </a:lnTo>
                  <a:lnTo>
                    <a:pt x="4913" y="29"/>
                  </a:lnTo>
                  <a:lnTo>
                    <a:pt x="4824" y="89"/>
                  </a:lnTo>
                  <a:lnTo>
                    <a:pt x="4913" y="89"/>
                  </a:lnTo>
                  <a:lnTo>
                    <a:pt x="5002" y="29"/>
                  </a:lnTo>
                  <a:close/>
                </a:path>
              </a:pathLst>
            </a:custGeom>
            <a:blipFill rotWithShape="0">
              <a:blip r:embed="rId1"/>
              <a:tile tx="0" ty="0" sx="133018" sy="133018" algn="ctr"/>
            </a:blipFill>
            <a:ln w="25560">
              <a:solidFill>
                <a:srgbClr val="fafd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230480" y="2000160"/>
              <a:ext cx="3319560" cy="331956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958680" y="1714680"/>
              <a:ext cx="3857760" cy="385776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308240" y="2077920"/>
              <a:ext cx="3162240" cy="3162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2" name=""/>
            <p:cNvGrpSpPr/>
            <p:nvPr/>
          </p:nvGrpSpPr>
          <p:grpSpPr>
            <a:xfrm>
              <a:off x="2876400" y="895320"/>
              <a:ext cx="0" cy="5479920"/>
              <a:chOff x="2876400" y="895320"/>
              <a:chExt cx="0" cy="5479920"/>
            </a:xfrm>
          </p:grpSpPr>
          <p:sp>
            <p:nvSpPr>
              <p:cNvPr id="1243" name=""/>
              <p:cNvSpPr/>
              <p:nvPr/>
            </p:nvSpPr>
            <p:spPr>
              <a:xfrm flipV="1">
                <a:off x="2876400" y="3990960"/>
                <a:ext cx="0" cy="238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flipV="1">
                <a:off x="2876400" y="3517920"/>
                <a:ext cx="0" cy="235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flipV="1">
                <a:off x="2876400" y="895320"/>
                <a:ext cx="0" cy="2451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136440" y="3635280"/>
              <a:ext cx="5480280" cy="0"/>
              <a:chOff x="136440" y="3635280"/>
              <a:chExt cx="5480280" cy="0"/>
            </a:xfrm>
          </p:grpSpPr>
          <p:sp>
            <p:nvSpPr>
              <p:cNvPr id="1247" name=""/>
              <p:cNvSpPr/>
              <p:nvPr/>
            </p:nvSpPr>
            <p:spPr>
              <a:xfrm>
                <a:off x="136440" y="3635280"/>
                <a:ext cx="2384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2759040" y="3635280"/>
                <a:ext cx="235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3165480" y="3635280"/>
                <a:ext cx="2451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50" name=""/>
          <p:cNvSpPr txBox="1"/>
          <p:nvPr/>
        </p:nvSpPr>
        <p:spPr>
          <a:xfrm>
            <a:off x="5327640" y="1000080"/>
            <a:ext cx="368928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hite: 10.0 - 10.8 Diameter Size Lim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Red: 0.2 Radial Tolerance (Concentric Circ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"/>
          <p:cNvSpPr txBox="1"/>
          <p:nvPr/>
        </p:nvSpPr>
        <p:spPr>
          <a:xfrm>
            <a:off x="285840" y="228600"/>
            <a:ext cx="85248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IRCULARITY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136440" y="895320"/>
            <a:ext cx="5480280" cy="5479920"/>
            <a:chOff x="136440" y="895320"/>
            <a:chExt cx="5480280" cy="5479920"/>
          </a:xfrm>
        </p:grpSpPr>
        <p:sp>
          <p:nvSpPr>
            <p:cNvPr id="1253" name=""/>
            <p:cNvSpPr/>
            <p:nvPr/>
          </p:nvSpPr>
          <p:spPr>
            <a:xfrm>
              <a:off x="608040" y="1363680"/>
              <a:ext cx="4557600" cy="4557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084320" y="1792440"/>
              <a:ext cx="3623040" cy="3719880"/>
            </a:xfrm>
            <a:custGeom>
              <a:avLst/>
              <a:gdLst/>
              <a:ahLst/>
              <a:rect l="0" t="0" r="r" b="b"/>
              <a:pathLst>
                <a:path w="10064" h="10333">
                  <a:moveTo>
                    <a:pt x="5002" y="29"/>
                  </a:moveTo>
                  <a:lnTo>
                    <a:pt x="4913" y="59"/>
                  </a:lnTo>
                  <a:lnTo>
                    <a:pt x="4824" y="89"/>
                  </a:lnTo>
                  <a:lnTo>
                    <a:pt x="4734" y="119"/>
                  </a:lnTo>
                  <a:lnTo>
                    <a:pt x="4645" y="119"/>
                  </a:lnTo>
                  <a:lnTo>
                    <a:pt x="4556" y="119"/>
                  </a:lnTo>
                  <a:lnTo>
                    <a:pt x="4466" y="119"/>
                  </a:lnTo>
                  <a:lnTo>
                    <a:pt x="4377" y="119"/>
                  </a:lnTo>
                  <a:lnTo>
                    <a:pt x="4288" y="119"/>
                  </a:lnTo>
                  <a:lnTo>
                    <a:pt x="4198" y="148"/>
                  </a:lnTo>
                  <a:lnTo>
                    <a:pt x="4109" y="178"/>
                  </a:lnTo>
                  <a:lnTo>
                    <a:pt x="4020" y="208"/>
                  </a:lnTo>
                  <a:lnTo>
                    <a:pt x="3930" y="238"/>
                  </a:lnTo>
                  <a:lnTo>
                    <a:pt x="3841" y="267"/>
                  </a:lnTo>
                  <a:lnTo>
                    <a:pt x="3752" y="297"/>
                  </a:lnTo>
                  <a:lnTo>
                    <a:pt x="3662" y="297"/>
                  </a:lnTo>
                  <a:lnTo>
                    <a:pt x="3573" y="297"/>
                  </a:lnTo>
                  <a:lnTo>
                    <a:pt x="3454" y="327"/>
                  </a:lnTo>
                  <a:lnTo>
                    <a:pt x="3365" y="357"/>
                  </a:lnTo>
                  <a:lnTo>
                    <a:pt x="3275" y="357"/>
                  </a:lnTo>
                  <a:lnTo>
                    <a:pt x="3186" y="387"/>
                  </a:lnTo>
                  <a:lnTo>
                    <a:pt x="3097" y="416"/>
                  </a:lnTo>
                  <a:lnTo>
                    <a:pt x="2978" y="506"/>
                  </a:lnTo>
                  <a:lnTo>
                    <a:pt x="2769" y="595"/>
                  </a:lnTo>
                  <a:lnTo>
                    <a:pt x="2680" y="655"/>
                  </a:lnTo>
                  <a:lnTo>
                    <a:pt x="2620" y="744"/>
                  </a:lnTo>
                  <a:lnTo>
                    <a:pt x="2531" y="774"/>
                  </a:lnTo>
                  <a:lnTo>
                    <a:pt x="2441" y="893"/>
                  </a:lnTo>
                  <a:lnTo>
                    <a:pt x="2351" y="982"/>
                  </a:lnTo>
                  <a:lnTo>
                    <a:pt x="2232" y="1071"/>
                  </a:lnTo>
                  <a:lnTo>
                    <a:pt x="2113" y="1131"/>
                  </a:lnTo>
                  <a:lnTo>
                    <a:pt x="2024" y="1191"/>
                  </a:lnTo>
                  <a:lnTo>
                    <a:pt x="1935" y="1250"/>
                  </a:lnTo>
                  <a:lnTo>
                    <a:pt x="1845" y="1310"/>
                  </a:lnTo>
                  <a:lnTo>
                    <a:pt x="1726" y="1369"/>
                  </a:lnTo>
                  <a:lnTo>
                    <a:pt x="1637" y="1429"/>
                  </a:lnTo>
                  <a:lnTo>
                    <a:pt x="1548" y="1488"/>
                  </a:lnTo>
                  <a:lnTo>
                    <a:pt x="1458" y="1578"/>
                  </a:lnTo>
                  <a:lnTo>
                    <a:pt x="1369" y="1667"/>
                  </a:lnTo>
                  <a:lnTo>
                    <a:pt x="1339" y="1756"/>
                  </a:lnTo>
                  <a:lnTo>
                    <a:pt x="1280" y="1846"/>
                  </a:lnTo>
                  <a:lnTo>
                    <a:pt x="1190" y="1935"/>
                  </a:lnTo>
                  <a:lnTo>
                    <a:pt x="1012" y="2024"/>
                  </a:lnTo>
                  <a:lnTo>
                    <a:pt x="952" y="2114"/>
                  </a:lnTo>
                  <a:lnTo>
                    <a:pt x="893" y="2203"/>
                  </a:lnTo>
                  <a:lnTo>
                    <a:pt x="863" y="2292"/>
                  </a:lnTo>
                  <a:lnTo>
                    <a:pt x="803" y="2471"/>
                  </a:lnTo>
                  <a:lnTo>
                    <a:pt x="774" y="2560"/>
                  </a:lnTo>
                  <a:lnTo>
                    <a:pt x="744" y="2740"/>
                  </a:lnTo>
                  <a:lnTo>
                    <a:pt x="714" y="2829"/>
                  </a:lnTo>
                  <a:lnTo>
                    <a:pt x="654" y="2918"/>
                  </a:lnTo>
                  <a:lnTo>
                    <a:pt x="595" y="3038"/>
                  </a:lnTo>
                  <a:lnTo>
                    <a:pt x="565" y="3127"/>
                  </a:lnTo>
                  <a:lnTo>
                    <a:pt x="506" y="3216"/>
                  </a:lnTo>
                  <a:lnTo>
                    <a:pt x="416" y="3306"/>
                  </a:lnTo>
                  <a:lnTo>
                    <a:pt x="387" y="3395"/>
                  </a:lnTo>
                  <a:lnTo>
                    <a:pt x="297" y="3693"/>
                  </a:lnTo>
                  <a:lnTo>
                    <a:pt x="238" y="3782"/>
                  </a:lnTo>
                  <a:lnTo>
                    <a:pt x="208" y="3871"/>
                  </a:lnTo>
                  <a:lnTo>
                    <a:pt x="178" y="4139"/>
                  </a:lnTo>
                  <a:lnTo>
                    <a:pt x="119" y="4229"/>
                  </a:lnTo>
                  <a:lnTo>
                    <a:pt x="89" y="4407"/>
                  </a:lnTo>
                  <a:lnTo>
                    <a:pt x="59" y="4616"/>
                  </a:lnTo>
                  <a:lnTo>
                    <a:pt x="29" y="4705"/>
                  </a:lnTo>
                  <a:lnTo>
                    <a:pt x="0" y="4943"/>
                  </a:lnTo>
                  <a:lnTo>
                    <a:pt x="0" y="5062"/>
                  </a:lnTo>
                  <a:lnTo>
                    <a:pt x="0" y="5152"/>
                  </a:lnTo>
                  <a:lnTo>
                    <a:pt x="0" y="5360"/>
                  </a:lnTo>
                  <a:lnTo>
                    <a:pt x="0" y="5449"/>
                  </a:lnTo>
                  <a:lnTo>
                    <a:pt x="0" y="5628"/>
                  </a:lnTo>
                  <a:lnTo>
                    <a:pt x="29" y="5747"/>
                  </a:lnTo>
                  <a:lnTo>
                    <a:pt x="29" y="5926"/>
                  </a:lnTo>
                  <a:lnTo>
                    <a:pt x="59" y="6134"/>
                  </a:lnTo>
                  <a:lnTo>
                    <a:pt x="89" y="6224"/>
                  </a:lnTo>
                  <a:lnTo>
                    <a:pt x="148" y="6313"/>
                  </a:lnTo>
                  <a:lnTo>
                    <a:pt x="178" y="6402"/>
                  </a:lnTo>
                  <a:lnTo>
                    <a:pt x="178" y="6491"/>
                  </a:lnTo>
                  <a:lnTo>
                    <a:pt x="238" y="6611"/>
                  </a:lnTo>
                  <a:lnTo>
                    <a:pt x="267" y="6700"/>
                  </a:lnTo>
                  <a:lnTo>
                    <a:pt x="297" y="6819"/>
                  </a:lnTo>
                  <a:lnTo>
                    <a:pt x="357" y="6938"/>
                  </a:lnTo>
                  <a:lnTo>
                    <a:pt x="446" y="7027"/>
                  </a:lnTo>
                  <a:lnTo>
                    <a:pt x="535" y="7147"/>
                  </a:lnTo>
                  <a:lnTo>
                    <a:pt x="625" y="7385"/>
                  </a:lnTo>
                  <a:lnTo>
                    <a:pt x="714" y="7474"/>
                  </a:lnTo>
                  <a:lnTo>
                    <a:pt x="774" y="7563"/>
                  </a:lnTo>
                  <a:lnTo>
                    <a:pt x="863" y="7653"/>
                  </a:lnTo>
                  <a:lnTo>
                    <a:pt x="893" y="7742"/>
                  </a:lnTo>
                  <a:lnTo>
                    <a:pt x="982" y="7832"/>
                  </a:lnTo>
                  <a:lnTo>
                    <a:pt x="1161" y="8041"/>
                  </a:lnTo>
                  <a:lnTo>
                    <a:pt x="1220" y="8130"/>
                  </a:lnTo>
                  <a:lnTo>
                    <a:pt x="1280" y="8219"/>
                  </a:lnTo>
                  <a:lnTo>
                    <a:pt x="1339" y="8339"/>
                  </a:lnTo>
                  <a:lnTo>
                    <a:pt x="1429" y="8428"/>
                  </a:lnTo>
                  <a:lnTo>
                    <a:pt x="1637" y="8815"/>
                  </a:lnTo>
                  <a:lnTo>
                    <a:pt x="1697" y="9053"/>
                  </a:lnTo>
                  <a:lnTo>
                    <a:pt x="1756" y="9172"/>
                  </a:lnTo>
                  <a:lnTo>
                    <a:pt x="1845" y="9232"/>
                  </a:lnTo>
                  <a:lnTo>
                    <a:pt x="1964" y="9262"/>
                  </a:lnTo>
                  <a:lnTo>
                    <a:pt x="2024" y="9351"/>
                  </a:lnTo>
                  <a:lnTo>
                    <a:pt x="2143" y="9381"/>
                  </a:lnTo>
                  <a:lnTo>
                    <a:pt x="2262" y="9470"/>
                  </a:lnTo>
                  <a:lnTo>
                    <a:pt x="2500" y="9500"/>
                  </a:lnTo>
                  <a:lnTo>
                    <a:pt x="2591" y="9559"/>
                  </a:lnTo>
                  <a:lnTo>
                    <a:pt x="2829" y="9619"/>
                  </a:lnTo>
                  <a:lnTo>
                    <a:pt x="3037" y="9649"/>
                  </a:lnTo>
                  <a:lnTo>
                    <a:pt x="3216" y="9678"/>
                  </a:lnTo>
                  <a:lnTo>
                    <a:pt x="3305" y="9708"/>
                  </a:lnTo>
                  <a:lnTo>
                    <a:pt x="3395" y="9738"/>
                  </a:lnTo>
                  <a:lnTo>
                    <a:pt x="3514" y="9798"/>
                  </a:lnTo>
                  <a:lnTo>
                    <a:pt x="3603" y="9827"/>
                  </a:lnTo>
                  <a:lnTo>
                    <a:pt x="3692" y="9887"/>
                  </a:lnTo>
                  <a:lnTo>
                    <a:pt x="3901" y="9917"/>
                  </a:lnTo>
                  <a:lnTo>
                    <a:pt x="4109" y="9976"/>
                  </a:lnTo>
                  <a:lnTo>
                    <a:pt x="4228" y="10006"/>
                  </a:lnTo>
                  <a:lnTo>
                    <a:pt x="4347" y="10006"/>
                  </a:lnTo>
                  <a:lnTo>
                    <a:pt x="4437" y="10066"/>
                  </a:lnTo>
                  <a:lnTo>
                    <a:pt x="4526" y="10095"/>
                  </a:lnTo>
                  <a:lnTo>
                    <a:pt x="4615" y="10125"/>
                  </a:lnTo>
                  <a:lnTo>
                    <a:pt x="4704" y="10185"/>
                  </a:lnTo>
                  <a:lnTo>
                    <a:pt x="4933" y="10304"/>
                  </a:lnTo>
                  <a:lnTo>
                    <a:pt x="4972" y="10294"/>
                  </a:lnTo>
                  <a:lnTo>
                    <a:pt x="5092" y="10324"/>
                  </a:lnTo>
                  <a:lnTo>
                    <a:pt x="5211" y="10333"/>
                  </a:lnTo>
                  <a:lnTo>
                    <a:pt x="5300" y="10333"/>
                  </a:lnTo>
                  <a:lnTo>
                    <a:pt x="5419" y="10274"/>
                  </a:lnTo>
                  <a:lnTo>
                    <a:pt x="5508" y="10244"/>
                  </a:lnTo>
                  <a:lnTo>
                    <a:pt x="5598" y="10214"/>
                  </a:lnTo>
                  <a:lnTo>
                    <a:pt x="5776" y="10214"/>
                  </a:lnTo>
                  <a:lnTo>
                    <a:pt x="5866" y="10185"/>
                  </a:lnTo>
                  <a:lnTo>
                    <a:pt x="6193" y="10185"/>
                  </a:lnTo>
                  <a:lnTo>
                    <a:pt x="6402" y="10125"/>
                  </a:lnTo>
                  <a:lnTo>
                    <a:pt x="6511" y="10036"/>
                  </a:lnTo>
                  <a:lnTo>
                    <a:pt x="6610" y="9996"/>
                  </a:lnTo>
                  <a:lnTo>
                    <a:pt x="6789" y="9976"/>
                  </a:lnTo>
                  <a:lnTo>
                    <a:pt x="6848" y="9887"/>
                  </a:lnTo>
                  <a:lnTo>
                    <a:pt x="6908" y="9798"/>
                  </a:lnTo>
                  <a:lnTo>
                    <a:pt x="6967" y="9708"/>
                  </a:lnTo>
                  <a:lnTo>
                    <a:pt x="7086" y="9619"/>
                  </a:lnTo>
                  <a:lnTo>
                    <a:pt x="7324" y="9530"/>
                  </a:lnTo>
                  <a:lnTo>
                    <a:pt x="7414" y="9440"/>
                  </a:lnTo>
                  <a:lnTo>
                    <a:pt x="7503" y="9381"/>
                  </a:lnTo>
                  <a:lnTo>
                    <a:pt x="7593" y="9321"/>
                  </a:lnTo>
                  <a:lnTo>
                    <a:pt x="7683" y="9262"/>
                  </a:lnTo>
                  <a:lnTo>
                    <a:pt x="7772" y="9202"/>
                  </a:lnTo>
                  <a:lnTo>
                    <a:pt x="7861" y="9142"/>
                  </a:lnTo>
                  <a:lnTo>
                    <a:pt x="7980" y="9113"/>
                  </a:lnTo>
                  <a:lnTo>
                    <a:pt x="8219" y="9083"/>
                  </a:lnTo>
                  <a:lnTo>
                    <a:pt x="8338" y="8994"/>
                  </a:lnTo>
                  <a:lnTo>
                    <a:pt x="8427" y="8904"/>
                  </a:lnTo>
                  <a:lnTo>
                    <a:pt x="8516" y="8815"/>
                  </a:lnTo>
                  <a:lnTo>
                    <a:pt x="8606" y="8726"/>
                  </a:lnTo>
                  <a:lnTo>
                    <a:pt x="8695" y="8666"/>
                  </a:lnTo>
                  <a:lnTo>
                    <a:pt x="8933" y="8547"/>
                  </a:lnTo>
                  <a:lnTo>
                    <a:pt x="9022" y="8428"/>
                  </a:lnTo>
                  <a:lnTo>
                    <a:pt x="9082" y="8339"/>
                  </a:lnTo>
                  <a:lnTo>
                    <a:pt x="9142" y="8160"/>
                  </a:lnTo>
                  <a:lnTo>
                    <a:pt x="9171" y="8041"/>
                  </a:lnTo>
                  <a:lnTo>
                    <a:pt x="9201" y="7922"/>
                  </a:lnTo>
                  <a:lnTo>
                    <a:pt x="9261" y="7623"/>
                  </a:lnTo>
                  <a:lnTo>
                    <a:pt x="9261" y="7504"/>
                  </a:lnTo>
                  <a:lnTo>
                    <a:pt x="9290" y="7325"/>
                  </a:lnTo>
                  <a:lnTo>
                    <a:pt x="9350" y="7087"/>
                  </a:lnTo>
                  <a:lnTo>
                    <a:pt x="9439" y="6968"/>
                  </a:lnTo>
                  <a:lnTo>
                    <a:pt x="9499" y="6730"/>
                  </a:lnTo>
                  <a:lnTo>
                    <a:pt x="9558" y="6611"/>
                  </a:lnTo>
                  <a:lnTo>
                    <a:pt x="9648" y="6491"/>
                  </a:lnTo>
                  <a:lnTo>
                    <a:pt x="9677" y="6402"/>
                  </a:lnTo>
                  <a:lnTo>
                    <a:pt x="9767" y="6283"/>
                  </a:lnTo>
                  <a:lnTo>
                    <a:pt x="9797" y="6194"/>
                  </a:lnTo>
                  <a:lnTo>
                    <a:pt x="9826" y="6104"/>
                  </a:lnTo>
                  <a:lnTo>
                    <a:pt x="9886" y="5807"/>
                  </a:lnTo>
                  <a:lnTo>
                    <a:pt x="9916" y="5717"/>
                  </a:lnTo>
                  <a:lnTo>
                    <a:pt x="9945" y="5420"/>
                  </a:lnTo>
                  <a:lnTo>
                    <a:pt x="9975" y="5300"/>
                  </a:lnTo>
                  <a:lnTo>
                    <a:pt x="10005" y="5181"/>
                  </a:lnTo>
                  <a:lnTo>
                    <a:pt x="10035" y="5092"/>
                  </a:lnTo>
                  <a:lnTo>
                    <a:pt x="10035" y="5003"/>
                  </a:lnTo>
                  <a:lnTo>
                    <a:pt x="10064" y="4913"/>
                  </a:lnTo>
                  <a:lnTo>
                    <a:pt x="10064" y="4735"/>
                  </a:lnTo>
                  <a:lnTo>
                    <a:pt x="10064" y="4616"/>
                  </a:lnTo>
                  <a:lnTo>
                    <a:pt x="10064" y="4497"/>
                  </a:lnTo>
                  <a:lnTo>
                    <a:pt x="10035" y="4288"/>
                  </a:lnTo>
                  <a:lnTo>
                    <a:pt x="9975" y="4050"/>
                  </a:lnTo>
                  <a:lnTo>
                    <a:pt x="9975" y="3961"/>
                  </a:lnTo>
                  <a:lnTo>
                    <a:pt x="9916" y="3871"/>
                  </a:lnTo>
                  <a:lnTo>
                    <a:pt x="9856" y="3782"/>
                  </a:lnTo>
                  <a:lnTo>
                    <a:pt x="9826" y="3693"/>
                  </a:lnTo>
                  <a:lnTo>
                    <a:pt x="9767" y="3603"/>
                  </a:lnTo>
                  <a:lnTo>
                    <a:pt x="9737" y="3514"/>
                  </a:lnTo>
                  <a:lnTo>
                    <a:pt x="9677" y="3425"/>
                  </a:lnTo>
                  <a:lnTo>
                    <a:pt x="9618" y="3335"/>
                  </a:lnTo>
                  <a:lnTo>
                    <a:pt x="9558" y="3246"/>
                  </a:lnTo>
                  <a:lnTo>
                    <a:pt x="9469" y="3008"/>
                  </a:lnTo>
                  <a:lnTo>
                    <a:pt x="9409" y="2918"/>
                  </a:lnTo>
                  <a:lnTo>
                    <a:pt x="9350" y="2740"/>
                  </a:lnTo>
                  <a:lnTo>
                    <a:pt x="9261" y="2650"/>
                  </a:lnTo>
                  <a:lnTo>
                    <a:pt x="9171" y="2621"/>
                  </a:lnTo>
                  <a:lnTo>
                    <a:pt x="9142" y="2530"/>
                  </a:lnTo>
                  <a:lnTo>
                    <a:pt x="9052" y="2471"/>
                  </a:lnTo>
                  <a:lnTo>
                    <a:pt x="8993" y="2262"/>
                  </a:lnTo>
                  <a:lnTo>
                    <a:pt x="8963" y="2173"/>
                  </a:lnTo>
                  <a:lnTo>
                    <a:pt x="8903" y="1994"/>
                  </a:lnTo>
                  <a:lnTo>
                    <a:pt x="8874" y="1905"/>
                  </a:lnTo>
                  <a:lnTo>
                    <a:pt x="8844" y="1786"/>
                  </a:lnTo>
                  <a:lnTo>
                    <a:pt x="8814" y="1697"/>
                  </a:lnTo>
                  <a:lnTo>
                    <a:pt x="8774" y="1548"/>
                  </a:lnTo>
                  <a:lnTo>
                    <a:pt x="8665" y="1458"/>
                  </a:lnTo>
                  <a:lnTo>
                    <a:pt x="8516" y="1300"/>
                  </a:lnTo>
                  <a:lnTo>
                    <a:pt x="8427" y="1210"/>
                  </a:lnTo>
                  <a:lnTo>
                    <a:pt x="8367" y="1131"/>
                  </a:lnTo>
                  <a:lnTo>
                    <a:pt x="8248" y="1101"/>
                  </a:lnTo>
                  <a:lnTo>
                    <a:pt x="8219" y="1012"/>
                  </a:lnTo>
                  <a:lnTo>
                    <a:pt x="8100" y="952"/>
                  </a:lnTo>
                  <a:lnTo>
                    <a:pt x="7832" y="893"/>
                  </a:lnTo>
                  <a:lnTo>
                    <a:pt x="7712" y="833"/>
                  </a:lnTo>
                  <a:lnTo>
                    <a:pt x="7623" y="803"/>
                  </a:lnTo>
                  <a:lnTo>
                    <a:pt x="7533" y="744"/>
                  </a:lnTo>
                  <a:lnTo>
                    <a:pt x="7324" y="714"/>
                  </a:lnTo>
                  <a:lnTo>
                    <a:pt x="7205" y="684"/>
                  </a:lnTo>
                  <a:lnTo>
                    <a:pt x="6997" y="625"/>
                  </a:lnTo>
                  <a:lnTo>
                    <a:pt x="6908" y="565"/>
                  </a:lnTo>
                  <a:lnTo>
                    <a:pt x="6789" y="506"/>
                  </a:lnTo>
                  <a:lnTo>
                    <a:pt x="6699" y="476"/>
                  </a:lnTo>
                  <a:lnTo>
                    <a:pt x="6521" y="446"/>
                  </a:lnTo>
                  <a:lnTo>
                    <a:pt x="6402" y="387"/>
                  </a:lnTo>
                  <a:lnTo>
                    <a:pt x="6312" y="297"/>
                  </a:lnTo>
                  <a:lnTo>
                    <a:pt x="6223" y="238"/>
                  </a:lnTo>
                  <a:lnTo>
                    <a:pt x="6134" y="208"/>
                  </a:lnTo>
                  <a:lnTo>
                    <a:pt x="6044" y="148"/>
                  </a:lnTo>
                  <a:lnTo>
                    <a:pt x="5925" y="119"/>
                  </a:lnTo>
                  <a:lnTo>
                    <a:pt x="5806" y="119"/>
                  </a:lnTo>
                  <a:lnTo>
                    <a:pt x="5568" y="89"/>
                  </a:lnTo>
                  <a:lnTo>
                    <a:pt x="5479" y="89"/>
                  </a:lnTo>
                  <a:lnTo>
                    <a:pt x="5389" y="59"/>
                  </a:lnTo>
                  <a:lnTo>
                    <a:pt x="5300" y="29"/>
                  </a:lnTo>
                  <a:lnTo>
                    <a:pt x="5211" y="0"/>
                  </a:lnTo>
                  <a:lnTo>
                    <a:pt x="5092" y="0"/>
                  </a:lnTo>
                  <a:lnTo>
                    <a:pt x="4913" y="29"/>
                  </a:lnTo>
                  <a:lnTo>
                    <a:pt x="4824" y="89"/>
                  </a:lnTo>
                  <a:lnTo>
                    <a:pt x="4913" y="89"/>
                  </a:lnTo>
                  <a:lnTo>
                    <a:pt x="5002" y="29"/>
                  </a:lnTo>
                  <a:close/>
                </a:path>
              </a:pathLst>
            </a:custGeom>
            <a:blipFill rotWithShape="0">
              <a:blip r:embed="rId1"/>
              <a:tile tx="0" ty="0" sx="133018" sy="133018" algn="ctr"/>
            </a:blipFill>
            <a:ln w="25560">
              <a:solidFill>
                <a:srgbClr val="fafd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230480" y="2000160"/>
              <a:ext cx="3319560" cy="331956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958680" y="1714680"/>
              <a:ext cx="3857760" cy="385776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308240" y="2077920"/>
              <a:ext cx="3162240" cy="3162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8" name=""/>
            <p:cNvGrpSpPr/>
            <p:nvPr/>
          </p:nvGrpSpPr>
          <p:grpSpPr>
            <a:xfrm>
              <a:off x="2876400" y="895320"/>
              <a:ext cx="0" cy="5479920"/>
              <a:chOff x="2876400" y="895320"/>
              <a:chExt cx="0" cy="5479920"/>
            </a:xfrm>
          </p:grpSpPr>
          <p:sp>
            <p:nvSpPr>
              <p:cNvPr id="1259" name=""/>
              <p:cNvSpPr/>
              <p:nvPr/>
            </p:nvSpPr>
            <p:spPr>
              <a:xfrm flipV="1">
                <a:off x="2876400" y="3990960"/>
                <a:ext cx="0" cy="238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V="1">
                <a:off x="2876400" y="3517920"/>
                <a:ext cx="0" cy="235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V="1">
                <a:off x="2876400" y="895320"/>
                <a:ext cx="0" cy="2451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2" name=""/>
            <p:cNvGrpSpPr/>
            <p:nvPr/>
          </p:nvGrpSpPr>
          <p:grpSpPr>
            <a:xfrm>
              <a:off x="136440" y="3635280"/>
              <a:ext cx="5480280" cy="0"/>
              <a:chOff x="136440" y="3635280"/>
              <a:chExt cx="5480280" cy="0"/>
            </a:xfrm>
          </p:grpSpPr>
          <p:sp>
            <p:nvSpPr>
              <p:cNvPr id="1263" name=""/>
              <p:cNvSpPr/>
              <p:nvPr/>
            </p:nvSpPr>
            <p:spPr>
              <a:xfrm>
                <a:off x="136440" y="3635280"/>
                <a:ext cx="2384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759040" y="3635280"/>
                <a:ext cx="235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3165480" y="3635280"/>
                <a:ext cx="2451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6" name=""/>
          <p:cNvSpPr txBox="1"/>
          <p:nvPr/>
        </p:nvSpPr>
        <p:spPr>
          <a:xfrm>
            <a:off x="5327640" y="1000080"/>
            <a:ext cx="368928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hite: 10.0 - 10.8 Diameter Size Lim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Red: 0.2 Radial Tolerance (Concentric Circ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Yellow: Possible form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 txBox="1"/>
          <p:nvPr/>
        </p:nvSpPr>
        <p:spPr>
          <a:xfrm>
            <a:off x="285840" y="228600"/>
            <a:ext cx="85248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IRCULARITY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136440" y="895320"/>
            <a:ext cx="5480280" cy="5479920"/>
            <a:chOff x="136440" y="895320"/>
            <a:chExt cx="5480280" cy="5479920"/>
          </a:xfrm>
        </p:grpSpPr>
        <p:sp>
          <p:nvSpPr>
            <p:cNvPr id="1269" name=""/>
            <p:cNvSpPr/>
            <p:nvPr/>
          </p:nvSpPr>
          <p:spPr>
            <a:xfrm>
              <a:off x="608040" y="1363680"/>
              <a:ext cx="4557600" cy="4557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084320" y="1792440"/>
              <a:ext cx="3623040" cy="3719880"/>
            </a:xfrm>
            <a:custGeom>
              <a:avLst/>
              <a:gdLst/>
              <a:ahLst/>
              <a:rect l="0" t="0" r="r" b="b"/>
              <a:pathLst>
                <a:path w="10064" h="10333">
                  <a:moveTo>
                    <a:pt x="5002" y="29"/>
                  </a:moveTo>
                  <a:lnTo>
                    <a:pt x="4913" y="59"/>
                  </a:lnTo>
                  <a:lnTo>
                    <a:pt x="4824" y="89"/>
                  </a:lnTo>
                  <a:lnTo>
                    <a:pt x="4734" y="119"/>
                  </a:lnTo>
                  <a:lnTo>
                    <a:pt x="4645" y="119"/>
                  </a:lnTo>
                  <a:lnTo>
                    <a:pt x="4556" y="119"/>
                  </a:lnTo>
                  <a:lnTo>
                    <a:pt x="4466" y="119"/>
                  </a:lnTo>
                  <a:lnTo>
                    <a:pt x="4377" y="119"/>
                  </a:lnTo>
                  <a:lnTo>
                    <a:pt x="4288" y="119"/>
                  </a:lnTo>
                  <a:lnTo>
                    <a:pt x="4198" y="148"/>
                  </a:lnTo>
                  <a:lnTo>
                    <a:pt x="4109" y="178"/>
                  </a:lnTo>
                  <a:lnTo>
                    <a:pt x="4020" y="208"/>
                  </a:lnTo>
                  <a:lnTo>
                    <a:pt x="3930" y="238"/>
                  </a:lnTo>
                  <a:lnTo>
                    <a:pt x="3841" y="267"/>
                  </a:lnTo>
                  <a:lnTo>
                    <a:pt x="3752" y="297"/>
                  </a:lnTo>
                  <a:lnTo>
                    <a:pt x="3662" y="297"/>
                  </a:lnTo>
                  <a:lnTo>
                    <a:pt x="3573" y="297"/>
                  </a:lnTo>
                  <a:lnTo>
                    <a:pt x="3454" y="327"/>
                  </a:lnTo>
                  <a:lnTo>
                    <a:pt x="3365" y="357"/>
                  </a:lnTo>
                  <a:lnTo>
                    <a:pt x="3275" y="357"/>
                  </a:lnTo>
                  <a:lnTo>
                    <a:pt x="3186" y="387"/>
                  </a:lnTo>
                  <a:lnTo>
                    <a:pt x="3097" y="416"/>
                  </a:lnTo>
                  <a:lnTo>
                    <a:pt x="2978" y="506"/>
                  </a:lnTo>
                  <a:lnTo>
                    <a:pt x="2769" y="595"/>
                  </a:lnTo>
                  <a:lnTo>
                    <a:pt x="2680" y="655"/>
                  </a:lnTo>
                  <a:lnTo>
                    <a:pt x="2620" y="744"/>
                  </a:lnTo>
                  <a:lnTo>
                    <a:pt x="2531" y="774"/>
                  </a:lnTo>
                  <a:lnTo>
                    <a:pt x="2441" y="893"/>
                  </a:lnTo>
                  <a:lnTo>
                    <a:pt x="2351" y="982"/>
                  </a:lnTo>
                  <a:lnTo>
                    <a:pt x="2232" y="1071"/>
                  </a:lnTo>
                  <a:lnTo>
                    <a:pt x="2113" y="1131"/>
                  </a:lnTo>
                  <a:lnTo>
                    <a:pt x="2024" y="1191"/>
                  </a:lnTo>
                  <a:lnTo>
                    <a:pt x="1935" y="1250"/>
                  </a:lnTo>
                  <a:lnTo>
                    <a:pt x="1845" y="1310"/>
                  </a:lnTo>
                  <a:lnTo>
                    <a:pt x="1726" y="1369"/>
                  </a:lnTo>
                  <a:lnTo>
                    <a:pt x="1637" y="1429"/>
                  </a:lnTo>
                  <a:lnTo>
                    <a:pt x="1548" y="1488"/>
                  </a:lnTo>
                  <a:lnTo>
                    <a:pt x="1458" y="1578"/>
                  </a:lnTo>
                  <a:lnTo>
                    <a:pt x="1369" y="1667"/>
                  </a:lnTo>
                  <a:lnTo>
                    <a:pt x="1339" y="1756"/>
                  </a:lnTo>
                  <a:lnTo>
                    <a:pt x="1280" y="1846"/>
                  </a:lnTo>
                  <a:lnTo>
                    <a:pt x="1190" y="1935"/>
                  </a:lnTo>
                  <a:lnTo>
                    <a:pt x="1012" y="2024"/>
                  </a:lnTo>
                  <a:lnTo>
                    <a:pt x="952" y="2114"/>
                  </a:lnTo>
                  <a:lnTo>
                    <a:pt x="893" y="2203"/>
                  </a:lnTo>
                  <a:lnTo>
                    <a:pt x="863" y="2292"/>
                  </a:lnTo>
                  <a:lnTo>
                    <a:pt x="803" y="2471"/>
                  </a:lnTo>
                  <a:lnTo>
                    <a:pt x="774" y="2560"/>
                  </a:lnTo>
                  <a:lnTo>
                    <a:pt x="744" y="2740"/>
                  </a:lnTo>
                  <a:lnTo>
                    <a:pt x="714" y="2829"/>
                  </a:lnTo>
                  <a:lnTo>
                    <a:pt x="654" y="2918"/>
                  </a:lnTo>
                  <a:lnTo>
                    <a:pt x="595" y="3038"/>
                  </a:lnTo>
                  <a:lnTo>
                    <a:pt x="565" y="3127"/>
                  </a:lnTo>
                  <a:lnTo>
                    <a:pt x="506" y="3216"/>
                  </a:lnTo>
                  <a:lnTo>
                    <a:pt x="416" y="3306"/>
                  </a:lnTo>
                  <a:lnTo>
                    <a:pt x="387" y="3395"/>
                  </a:lnTo>
                  <a:lnTo>
                    <a:pt x="297" y="3693"/>
                  </a:lnTo>
                  <a:lnTo>
                    <a:pt x="238" y="3782"/>
                  </a:lnTo>
                  <a:lnTo>
                    <a:pt x="208" y="3871"/>
                  </a:lnTo>
                  <a:lnTo>
                    <a:pt x="178" y="4139"/>
                  </a:lnTo>
                  <a:lnTo>
                    <a:pt x="119" y="4229"/>
                  </a:lnTo>
                  <a:lnTo>
                    <a:pt x="89" y="4407"/>
                  </a:lnTo>
                  <a:lnTo>
                    <a:pt x="59" y="4616"/>
                  </a:lnTo>
                  <a:lnTo>
                    <a:pt x="29" y="4705"/>
                  </a:lnTo>
                  <a:lnTo>
                    <a:pt x="0" y="4943"/>
                  </a:lnTo>
                  <a:lnTo>
                    <a:pt x="0" y="5062"/>
                  </a:lnTo>
                  <a:lnTo>
                    <a:pt x="0" y="5152"/>
                  </a:lnTo>
                  <a:lnTo>
                    <a:pt x="0" y="5360"/>
                  </a:lnTo>
                  <a:lnTo>
                    <a:pt x="0" y="5449"/>
                  </a:lnTo>
                  <a:lnTo>
                    <a:pt x="0" y="5628"/>
                  </a:lnTo>
                  <a:lnTo>
                    <a:pt x="29" y="5747"/>
                  </a:lnTo>
                  <a:lnTo>
                    <a:pt x="29" y="5926"/>
                  </a:lnTo>
                  <a:lnTo>
                    <a:pt x="59" y="6134"/>
                  </a:lnTo>
                  <a:lnTo>
                    <a:pt x="89" y="6224"/>
                  </a:lnTo>
                  <a:lnTo>
                    <a:pt x="148" y="6313"/>
                  </a:lnTo>
                  <a:lnTo>
                    <a:pt x="178" y="6402"/>
                  </a:lnTo>
                  <a:lnTo>
                    <a:pt x="178" y="6491"/>
                  </a:lnTo>
                  <a:lnTo>
                    <a:pt x="238" y="6611"/>
                  </a:lnTo>
                  <a:lnTo>
                    <a:pt x="267" y="6700"/>
                  </a:lnTo>
                  <a:lnTo>
                    <a:pt x="297" y="6819"/>
                  </a:lnTo>
                  <a:lnTo>
                    <a:pt x="357" y="6938"/>
                  </a:lnTo>
                  <a:lnTo>
                    <a:pt x="446" y="7027"/>
                  </a:lnTo>
                  <a:lnTo>
                    <a:pt x="535" y="7147"/>
                  </a:lnTo>
                  <a:lnTo>
                    <a:pt x="625" y="7385"/>
                  </a:lnTo>
                  <a:lnTo>
                    <a:pt x="714" y="7474"/>
                  </a:lnTo>
                  <a:lnTo>
                    <a:pt x="774" y="7563"/>
                  </a:lnTo>
                  <a:lnTo>
                    <a:pt x="863" y="7653"/>
                  </a:lnTo>
                  <a:lnTo>
                    <a:pt x="893" y="7742"/>
                  </a:lnTo>
                  <a:lnTo>
                    <a:pt x="982" y="7832"/>
                  </a:lnTo>
                  <a:lnTo>
                    <a:pt x="1161" y="8041"/>
                  </a:lnTo>
                  <a:lnTo>
                    <a:pt x="1220" y="8130"/>
                  </a:lnTo>
                  <a:lnTo>
                    <a:pt x="1280" y="8219"/>
                  </a:lnTo>
                  <a:lnTo>
                    <a:pt x="1339" y="8339"/>
                  </a:lnTo>
                  <a:lnTo>
                    <a:pt x="1429" y="8428"/>
                  </a:lnTo>
                  <a:lnTo>
                    <a:pt x="1637" y="8815"/>
                  </a:lnTo>
                  <a:lnTo>
                    <a:pt x="1697" y="9053"/>
                  </a:lnTo>
                  <a:lnTo>
                    <a:pt x="1756" y="9172"/>
                  </a:lnTo>
                  <a:lnTo>
                    <a:pt x="1845" y="9232"/>
                  </a:lnTo>
                  <a:lnTo>
                    <a:pt x="1964" y="9262"/>
                  </a:lnTo>
                  <a:lnTo>
                    <a:pt x="2024" y="9351"/>
                  </a:lnTo>
                  <a:lnTo>
                    <a:pt x="2143" y="9381"/>
                  </a:lnTo>
                  <a:lnTo>
                    <a:pt x="2262" y="9470"/>
                  </a:lnTo>
                  <a:lnTo>
                    <a:pt x="2500" y="9500"/>
                  </a:lnTo>
                  <a:lnTo>
                    <a:pt x="2591" y="9559"/>
                  </a:lnTo>
                  <a:lnTo>
                    <a:pt x="2829" y="9619"/>
                  </a:lnTo>
                  <a:lnTo>
                    <a:pt x="3037" y="9649"/>
                  </a:lnTo>
                  <a:lnTo>
                    <a:pt x="3216" y="9678"/>
                  </a:lnTo>
                  <a:lnTo>
                    <a:pt x="3305" y="9708"/>
                  </a:lnTo>
                  <a:lnTo>
                    <a:pt x="3395" y="9738"/>
                  </a:lnTo>
                  <a:lnTo>
                    <a:pt x="3514" y="9798"/>
                  </a:lnTo>
                  <a:lnTo>
                    <a:pt x="3603" y="9827"/>
                  </a:lnTo>
                  <a:lnTo>
                    <a:pt x="3692" y="9887"/>
                  </a:lnTo>
                  <a:lnTo>
                    <a:pt x="3901" y="9917"/>
                  </a:lnTo>
                  <a:lnTo>
                    <a:pt x="4109" y="9976"/>
                  </a:lnTo>
                  <a:lnTo>
                    <a:pt x="4228" y="10006"/>
                  </a:lnTo>
                  <a:lnTo>
                    <a:pt x="4347" y="10006"/>
                  </a:lnTo>
                  <a:lnTo>
                    <a:pt x="4437" y="10066"/>
                  </a:lnTo>
                  <a:lnTo>
                    <a:pt x="4526" y="10095"/>
                  </a:lnTo>
                  <a:lnTo>
                    <a:pt x="4615" y="10125"/>
                  </a:lnTo>
                  <a:lnTo>
                    <a:pt x="4704" y="10185"/>
                  </a:lnTo>
                  <a:lnTo>
                    <a:pt x="4933" y="10304"/>
                  </a:lnTo>
                  <a:lnTo>
                    <a:pt x="4972" y="10294"/>
                  </a:lnTo>
                  <a:lnTo>
                    <a:pt x="5092" y="10324"/>
                  </a:lnTo>
                  <a:lnTo>
                    <a:pt x="5211" y="10333"/>
                  </a:lnTo>
                  <a:lnTo>
                    <a:pt x="5300" y="10333"/>
                  </a:lnTo>
                  <a:lnTo>
                    <a:pt x="5419" y="10274"/>
                  </a:lnTo>
                  <a:lnTo>
                    <a:pt x="5508" y="10244"/>
                  </a:lnTo>
                  <a:lnTo>
                    <a:pt x="5598" y="10214"/>
                  </a:lnTo>
                  <a:lnTo>
                    <a:pt x="5776" y="10214"/>
                  </a:lnTo>
                  <a:lnTo>
                    <a:pt x="5866" y="10185"/>
                  </a:lnTo>
                  <a:lnTo>
                    <a:pt x="6193" y="10185"/>
                  </a:lnTo>
                  <a:lnTo>
                    <a:pt x="6402" y="10125"/>
                  </a:lnTo>
                  <a:lnTo>
                    <a:pt x="6511" y="10036"/>
                  </a:lnTo>
                  <a:lnTo>
                    <a:pt x="6610" y="9996"/>
                  </a:lnTo>
                  <a:lnTo>
                    <a:pt x="6789" y="9976"/>
                  </a:lnTo>
                  <a:lnTo>
                    <a:pt x="6848" y="9887"/>
                  </a:lnTo>
                  <a:lnTo>
                    <a:pt x="6908" y="9798"/>
                  </a:lnTo>
                  <a:lnTo>
                    <a:pt x="6967" y="9708"/>
                  </a:lnTo>
                  <a:lnTo>
                    <a:pt x="7086" y="9619"/>
                  </a:lnTo>
                  <a:lnTo>
                    <a:pt x="7324" y="9530"/>
                  </a:lnTo>
                  <a:lnTo>
                    <a:pt x="7414" y="9440"/>
                  </a:lnTo>
                  <a:lnTo>
                    <a:pt x="7503" y="9381"/>
                  </a:lnTo>
                  <a:lnTo>
                    <a:pt x="7593" y="9321"/>
                  </a:lnTo>
                  <a:lnTo>
                    <a:pt x="7683" y="9262"/>
                  </a:lnTo>
                  <a:lnTo>
                    <a:pt x="7772" y="9202"/>
                  </a:lnTo>
                  <a:lnTo>
                    <a:pt x="7861" y="9142"/>
                  </a:lnTo>
                  <a:lnTo>
                    <a:pt x="7980" y="9113"/>
                  </a:lnTo>
                  <a:lnTo>
                    <a:pt x="8219" y="9083"/>
                  </a:lnTo>
                  <a:lnTo>
                    <a:pt x="8338" y="8994"/>
                  </a:lnTo>
                  <a:lnTo>
                    <a:pt x="8427" y="8904"/>
                  </a:lnTo>
                  <a:lnTo>
                    <a:pt x="8516" y="8815"/>
                  </a:lnTo>
                  <a:lnTo>
                    <a:pt x="8606" y="8726"/>
                  </a:lnTo>
                  <a:lnTo>
                    <a:pt x="8695" y="8666"/>
                  </a:lnTo>
                  <a:lnTo>
                    <a:pt x="8933" y="8547"/>
                  </a:lnTo>
                  <a:lnTo>
                    <a:pt x="9022" y="8428"/>
                  </a:lnTo>
                  <a:lnTo>
                    <a:pt x="9082" y="8339"/>
                  </a:lnTo>
                  <a:lnTo>
                    <a:pt x="9142" y="8160"/>
                  </a:lnTo>
                  <a:lnTo>
                    <a:pt x="9171" y="8041"/>
                  </a:lnTo>
                  <a:lnTo>
                    <a:pt x="9201" y="7922"/>
                  </a:lnTo>
                  <a:lnTo>
                    <a:pt x="9261" y="7623"/>
                  </a:lnTo>
                  <a:lnTo>
                    <a:pt x="9261" y="7504"/>
                  </a:lnTo>
                  <a:lnTo>
                    <a:pt x="9290" y="7325"/>
                  </a:lnTo>
                  <a:lnTo>
                    <a:pt x="9350" y="7087"/>
                  </a:lnTo>
                  <a:lnTo>
                    <a:pt x="9439" y="6968"/>
                  </a:lnTo>
                  <a:lnTo>
                    <a:pt x="9499" y="6730"/>
                  </a:lnTo>
                  <a:lnTo>
                    <a:pt x="9558" y="6611"/>
                  </a:lnTo>
                  <a:lnTo>
                    <a:pt x="9648" y="6491"/>
                  </a:lnTo>
                  <a:lnTo>
                    <a:pt x="9677" y="6402"/>
                  </a:lnTo>
                  <a:lnTo>
                    <a:pt x="9767" y="6283"/>
                  </a:lnTo>
                  <a:lnTo>
                    <a:pt x="9797" y="6194"/>
                  </a:lnTo>
                  <a:lnTo>
                    <a:pt x="9826" y="6104"/>
                  </a:lnTo>
                  <a:lnTo>
                    <a:pt x="9886" y="5807"/>
                  </a:lnTo>
                  <a:lnTo>
                    <a:pt x="9916" y="5717"/>
                  </a:lnTo>
                  <a:lnTo>
                    <a:pt x="9945" y="5420"/>
                  </a:lnTo>
                  <a:lnTo>
                    <a:pt x="9975" y="5300"/>
                  </a:lnTo>
                  <a:lnTo>
                    <a:pt x="10005" y="5181"/>
                  </a:lnTo>
                  <a:lnTo>
                    <a:pt x="10035" y="5092"/>
                  </a:lnTo>
                  <a:lnTo>
                    <a:pt x="10035" y="5003"/>
                  </a:lnTo>
                  <a:lnTo>
                    <a:pt x="10064" y="4913"/>
                  </a:lnTo>
                  <a:lnTo>
                    <a:pt x="10064" y="4735"/>
                  </a:lnTo>
                  <a:lnTo>
                    <a:pt x="10064" y="4616"/>
                  </a:lnTo>
                  <a:lnTo>
                    <a:pt x="10064" y="4497"/>
                  </a:lnTo>
                  <a:lnTo>
                    <a:pt x="10035" y="4288"/>
                  </a:lnTo>
                  <a:lnTo>
                    <a:pt x="9975" y="4050"/>
                  </a:lnTo>
                  <a:lnTo>
                    <a:pt x="9975" y="3961"/>
                  </a:lnTo>
                  <a:lnTo>
                    <a:pt x="9916" y="3871"/>
                  </a:lnTo>
                  <a:lnTo>
                    <a:pt x="9856" y="3782"/>
                  </a:lnTo>
                  <a:lnTo>
                    <a:pt x="9826" y="3693"/>
                  </a:lnTo>
                  <a:lnTo>
                    <a:pt x="9767" y="3603"/>
                  </a:lnTo>
                  <a:lnTo>
                    <a:pt x="9737" y="3514"/>
                  </a:lnTo>
                  <a:lnTo>
                    <a:pt x="9677" y="3425"/>
                  </a:lnTo>
                  <a:lnTo>
                    <a:pt x="9618" y="3335"/>
                  </a:lnTo>
                  <a:lnTo>
                    <a:pt x="9558" y="3246"/>
                  </a:lnTo>
                  <a:lnTo>
                    <a:pt x="9469" y="3008"/>
                  </a:lnTo>
                  <a:lnTo>
                    <a:pt x="9409" y="2918"/>
                  </a:lnTo>
                  <a:lnTo>
                    <a:pt x="9350" y="2740"/>
                  </a:lnTo>
                  <a:lnTo>
                    <a:pt x="9261" y="2650"/>
                  </a:lnTo>
                  <a:lnTo>
                    <a:pt x="9171" y="2621"/>
                  </a:lnTo>
                  <a:lnTo>
                    <a:pt x="9142" y="2530"/>
                  </a:lnTo>
                  <a:lnTo>
                    <a:pt x="9052" y="2471"/>
                  </a:lnTo>
                  <a:lnTo>
                    <a:pt x="8993" y="2262"/>
                  </a:lnTo>
                  <a:lnTo>
                    <a:pt x="8963" y="2173"/>
                  </a:lnTo>
                  <a:lnTo>
                    <a:pt x="8903" y="1994"/>
                  </a:lnTo>
                  <a:lnTo>
                    <a:pt x="8874" y="1905"/>
                  </a:lnTo>
                  <a:lnTo>
                    <a:pt x="8844" y="1786"/>
                  </a:lnTo>
                  <a:lnTo>
                    <a:pt x="8814" y="1697"/>
                  </a:lnTo>
                  <a:lnTo>
                    <a:pt x="8774" y="1548"/>
                  </a:lnTo>
                  <a:lnTo>
                    <a:pt x="8665" y="1458"/>
                  </a:lnTo>
                  <a:lnTo>
                    <a:pt x="8516" y="1300"/>
                  </a:lnTo>
                  <a:lnTo>
                    <a:pt x="8427" y="1210"/>
                  </a:lnTo>
                  <a:lnTo>
                    <a:pt x="8367" y="1131"/>
                  </a:lnTo>
                  <a:lnTo>
                    <a:pt x="8248" y="1101"/>
                  </a:lnTo>
                  <a:lnTo>
                    <a:pt x="8219" y="1012"/>
                  </a:lnTo>
                  <a:lnTo>
                    <a:pt x="8100" y="952"/>
                  </a:lnTo>
                  <a:lnTo>
                    <a:pt x="7832" y="893"/>
                  </a:lnTo>
                  <a:lnTo>
                    <a:pt x="7712" y="833"/>
                  </a:lnTo>
                  <a:lnTo>
                    <a:pt x="7623" y="803"/>
                  </a:lnTo>
                  <a:lnTo>
                    <a:pt x="7533" y="744"/>
                  </a:lnTo>
                  <a:lnTo>
                    <a:pt x="7324" y="714"/>
                  </a:lnTo>
                  <a:lnTo>
                    <a:pt x="7205" y="684"/>
                  </a:lnTo>
                  <a:lnTo>
                    <a:pt x="6997" y="625"/>
                  </a:lnTo>
                  <a:lnTo>
                    <a:pt x="6908" y="565"/>
                  </a:lnTo>
                  <a:lnTo>
                    <a:pt x="6789" y="506"/>
                  </a:lnTo>
                  <a:lnTo>
                    <a:pt x="6699" y="476"/>
                  </a:lnTo>
                  <a:lnTo>
                    <a:pt x="6521" y="446"/>
                  </a:lnTo>
                  <a:lnTo>
                    <a:pt x="6402" y="387"/>
                  </a:lnTo>
                  <a:lnTo>
                    <a:pt x="6312" y="297"/>
                  </a:lnTo>
                  <a:lnTo>
                    <a:pt x="6223" y="238"/>
                  </a:lnTo>
                  <a:lnTo>
                    <a:pt x="6134" y="208"/>
                  </a:lnTo>
                  <a:lnTo>
                    <a:pt x="6044" y="148"/>
                  </a:lnTo>
                  <a:lnTo>
                    <a:pt x="5925" y="119"/>
                  </a:lnTo>
                  <a:lnTo>
                    <a:pt x="5806" y="119"/>
                  </a:lnTo>
                  <a:lnTo>
                    <a:pt x="5568" y="89"/>
                  </a:lnTo>
                  <a:lnTo>
                    <a:pt x="5479" y="89"/>
                  </a:lnTo>
                  <a:lnTo>
                    <a:pt x="5389" y="59"/>
                  </a:lnTo>
                  <a:lnTo>
                    <a:pt x="5300" y="29"/>
                  </a:lnTo>
                  <a:lnTo>
                    <a:pt x="5211" y="0"/>
                  </a:lnTo>
                  <a:lnTo>
                    <a:pt x="5092" y="0"/>
                  </a:lnTo>
                  <a:lnTo>
                    <a:pt x="4913" y="29"/>
                  </a:lnTo>
                  <a:lnTo>
                    <a:pt x="4824" y="89"/>
                  </a:lnTo>
                  <a:lnTo>
                    <a:pt x="4913" y="89"/>
                  </a:lnTo>
                  <a:lnTo>
                    <a:pt x="5002" y="29"/>
                  </a:lnTo>
                  <a:close/>
                </a:path>
              </a:pathLst>
            </a:custGeom>
            <a:blipFill rotWithShape="0">
              <a:blip r:embed="rId1"/>
              <a:tile tx="0" ty="0" sx="133018" sy="133018" algn="ctr"/>
            </a:blipFill>
            <a:ln w="25560">
              <a:solidFill>
                <a:srgbClr val="fafd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230480" y="2000160"/>
              <a:ext cx="3319560" cy="331956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958680" y="1714680"/>
              <a:ext cx="3857760" cy="385776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308240" y="2077920"/>
              <a:ext cx="3162240" cy="3162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"/>
            <p:cNvGrpSpPr/>
            <p:nvPr/>
          </p:nvGrpSpPr>
          <p:grpSpPr>
            <a:xfrm>
              <a:off x="2876400" y="895320"/>
              <a:ext cx="0" cy="5479920"/>
              <a:chOff x="2876400" y="895320"/>
              <a:chExt cx="0" cy="5479920"/>
            </a:xfrm>
          </p:grpSpPr>
          <p:sp>
            <p:nvSpPr>
              <p:cNvPr id="1275" name=""/>
              <p:cNvSpPr/>
              <p:nvPr/>
            </p:nvSpPr>
            <p:spPr>
              <a:xfrm flipV="1">
                <a:off x="2876400" y="3990960"/>
                <a:ext cx="0" cy="238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flipV="1">
                <a:off x="2876400" y="3517920"/>
                <a:ext cx="0" cy="235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flipV="1">
                <a:off x="2876400" y="895320"/>
                <a:ext cx="0" cy="2451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"/>
            <p:cNvGrpSpPr/>
            <p:nvPr/>
          </p:nvGrpSpPr>
          <p:grpSpPr>
            <a:xfrm>
              <a:off x="136440" y="3635280"/>
              <a:ext cx="5480280" cy="0"/>
              <a:chOff x="136440" y="3635280"/>
              <a:chExt cx="5480280" cy="0"/>
            </a:xfrm>
          </p:grpSpPr>
          <p:sp>
            <p:nvSpPr>
              <p:cNvPr id="1279" name=""/>
              <p:cNvSpPr/>
              <p:nvPr/>
            </p:nvSpPr>
            <p:spPr>
              <a:xfrm>
                <a:off x="136440" y="3635280"/>
                <a:ext cx="2384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2759040" y="3635280"/>
                <a:ext cx="235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3165480" y="3635280"/>
                <a:ext cx="2451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82" name=""/>
          <p:cNvGrpSpPr/>
          <p:nvPr/>
        </p:nvGrpSpPr>
        <p:grpSpPr>
          <a:xfrm>
            <a:off x="6692760" y="4253040"/>
            <a:ext cx="1311120" cy="396720"/>
            <a:chOff x="6692760" y="4253040"/>
            <a:chExt cx="1311120" cy="396720"/>
          </a:xfrm>
        </p:grpSpPr>
        <p:sp>
          <p:nvSpPr>
            <p:cNvPr id="1283" name=""/>
            <p:cNvSpPr/>
            <p:nvPr/>
          </p:nvSpPr>
          <p:spPr>
            <a:xfrm>
              <a:off x="6692760" y="4259160"/>
              <a:ext cx="1311120" cy="38736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829560" y="4314960"/>
              <a:ext cx="266760" cy="266760"/>
            </a:xfrm>
            <a:prstGeom prst="ellipse">
              <a:avLst/>
            </a:prstGeom>
            <a:noFill/>
            <a:ln w="12600">
              <a:solidFill>
                <a:srgbClr val="00dfc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240680" y="4275000"/>
              <a:ext cx="0" cy="371520"/>
            </a:xfrm>
            <a:prstGeom prst="line">
              <a:avLst/>
            </a:prstGeom>
            <a:ln w="12600">
              <a:solidFill>
                <a:srgbClr val="00df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 txBox="1"/>
            <p:nvPr/>
          </p:nvSpPr>
          <p:spPr>
            <a:xfrm>
              <a:off x="7418520" y="4253040"/>
              <a:ext cx="5364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dfca"/>
                  </a:solidFill>
                  <a:latin typeface="Arial"/>
                  <a:ea typeface="Arial"/>
                </a:rPr>
                <a:t>0.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7" name=""/>
          <p:cNvSpPr txBox="1"/>
          <p:nvPr/>
        </p:nvSpPr>
        <p:spPr>
          <a:xfrm>
            <a:off x="5327640" y="1000080"/>
            <a:ext cx="368928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hite: 10.0 - 10.8 Diameter Size Lim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Red: 0.2 Radial Tolerance (Concentric Circ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Yellow: Possible form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5970600" y="4878360"/>
            <a:ext cx="306396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circularity tole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rols the feature for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ut the form control mu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e within the overall siz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m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 txBox="1"/>
          <p:nvPr/>
        </p:nvSpPr>
        <p:spPr>
          <a:xfrm>
            <a:off x="285840" y="228600"/>
            <a:ext cx="85248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IRCULARITY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08040" y="1363680"/>
            <a:ext cx="4557600" cy="4557600"/>
          </a:xfrm>
          <a:prstGeom prst="ellipse">
            <a:avLst/>
          </a:prstGeom>
          <a:noFill/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1" name=""/>
          <p:cNvGrpSpPr/>
          <p:nvPr/>
        </p:nvGrpSpPr>
        <p:grpSpPr>
          <a:xfrm>
            <a:off x="574560" y="1330200"/>
            <a:ext cx="4627440" cy="4627440"/>
            <a:chOff x="574560" y="1330200"/>
            <a:chExt cx="4627440" cy="4627440"/>
          </a:xfrm>
        </p:grpSpPr>
        <p:sp>
          <p:nvSpPr>
            <p:cNvPr id="1292" name=""/>
            <p:cNvSpPr/>
            <p:nvPr/>
          </p:nvSpPr>
          <p:spPr>
            <a:xfrm>
              <a:off x="725400" y="1424160"/>
              <a:ext cx="4345200" cy="4462920"/>
            </a:xfrm>
            <a:custGeom>
              <a:avLst/>
              <a:gdLst/>
              <a:ahLst/>
              <a:rect l="0" t="0" r="r" b="b"/>
              <a:pathLst>
                <a:path w="12070" h="12397">
                  <a:moveTo>
                    <a:pt x="5998" y="35"/>
                  </a:moveTo>
                  <a:lnTo>
                    <a:pt x="5891" y="71"/>
                  </a:lnTo>
                  <a:lnTo>
                    <a:pt x="5784" y="107"/>
                  </a:lnTo>
                  <a:lnTo>
                    <a:pt x="5677" y="142"/>
                  </a:lnTo>
                  <a:lnTo>
                    <a:pt x="5570" y="142"/>
                  </a:lnTo>
                  <a:lnTo>
                    <a:pt x="5463" y="142"/>
                  </a:lnTo>
                  <a:lnTo>
                    <a:pt x="5356" y="142"/>
                  </a:lnTo>
                  <a:lnTo>
                    <a:pt x="5249" y="142"/>
                  </a:lnTo>
                  <a:lnTo>
                    <a:pt x="5141" y="142"/>
                  </a:lnTo>
                  <a:lnTo>
                    <a:pt x="5034" y="178"/>
                  </a:lnTo>
                  <a:lnTo>
                    <a:pt x="4927" y="214"/>
                  </a:lnTo>
                  <a:lnTo>
                    <a:pt x="4820" y="250"/>
                  </a:lnTo>
                  <a:lnTo>
                    <a:pt x="4713" y="285"/>
                  </a:lnTo>
                  <a:lnTo>
                    <a:pt x="4606" y="321"/>
                  </a:lnTo>
                  <a:lnTo>
                    <a:pt x="4499" y="357"/>
                  </a:lnTo>
                  <a:lnTo>
                    <a:pt x="4392" y="357"/>
                  </a:lnTo>
                  <a:lnTo>
                    <a:pt x="4284" y="357"/>
                  </a:lnTo>
                  <a:lnTo>
                    <a:pt x="4142" y="392"/>
                  </a:lnTo>
                  <a:lnTo>
                    <a:pt x="4035" y="428"/>
                  </a:lnTo>
                  <a:lnTo>
                    <a:pt x="3927" y="428"/>
                  </a:lnTo>
                  <a:lnTo>
                    <a:pt x="3820" y="464"/>
                  </a:lnTo>
                  <a:lnTo>
                    <a:pt x="3713" y="500"/>
                  </a:lnTo>
                  <a:lnTo>
                    <a:pt x="3570" y="607"/>
                  </a:lnTo>
                  <a:lnTo>
                    <a:pt x="3320" y="714"/>
                  </a:lnTo>
                  <a:lnTo>
                    <a:pt x="3213" y="785"/>
                  </a:lnTo>
                  <a:lnTo>
                    <a:pt x="3142" y="893"/>
                  </a:lnTo>
                  <a:lnTo>
                    <a:pt x="3035" y="928"/>
                  </a:lnTo>
                  <a:lnTo>
                    <a:pt x="2928" y="1071"/>
                  </a:lnTo>
                  <a:lnTo>
                    <a:pt x="2820" y="1178"/>
                  </a:lnTo>
                  <a:lnTo>
                    <a:pt x="2678" y="1286"/>
                  </a:lnTo>
                  <a:lnTo>
                    <a:pt x="2535" y="1357"/>
                  </a:lnTo>
                  <a:lnTo>
                    <a:pt x="2428" y="1428"/>
                  </a:lnTo>
                  <a:lnTo>
                    <a:pt x="2321" y="1500"/>
                  </a:lnTo>
                  <a:lnTo>
                    <a:pt x="2213" y="1571"/>
                  </a:lnTo>
                  <a:lnTo>
                    <a:pt x="2071" y="1643"/>
                  </a:lnTo>
                  <a:lnTo>
                    <a:pt x="1963" y="1714"/>
                  </a:lnTo>
                  <a:lnTo>
                    <a:pt x="1856" y="1786"/>
                  </a:lnTo>
                  <a:lnTo>
                    <a:pt x="1749" y="1893"/>
                  </a:lnTo>
                  <a:lnTo>
                    <a:pt x="1642" y="2000"/>
                  </a:lnTo>
                  <a:lnTo>
                    <a:pt x="1606" y="2107"/>
                  </a:lnTo>
                  <a:lnTo>
                    <a:pt x="1535" y="2214"/>
                  </a:lnTo>
                  <a:lnTo>
                    <a:pt x="1428" y="2321"/>
                  </a:lnTo>
                  <a:lnTo>
                    <a:pt x="1214" y="2429"/>
                  </a:lnTo>
                  <a:lnTo>
                    <a:pt x="1142" y="2536"/>
                  </a:lnTo>
                  <a:lnTo>
                    <a:pt x="1071" y="2643"/>
                  </a:lnTo>
                  <a:lnTo>
                    <a:pt x="1035" y="2750"/>
                  </a:lnTo>
                  <a:lnTo>
                    <a:pt x="964" y="2964"/>
                  </a:lnTo>
                  <a:lnTo>
                    <a:pt x="928" y="3072"/>
                  </a:lnTo>
                  <a:lnTo>
                    <a:pt x="892" y="3287"/>
                  </a:lnTo>
                  <a:lnTo>
                    <a:pt x="856" y="3394"/>
                  </a:lnTo>
                  <a:lnTo>
                    <a:pt x="785" y="3501"/>
                  </a:lnTo>
                  <a:lnTo>
                    <a:pt x="714" y="3644"/>
                  </a:lnTo>
                  <a:lnTo>
                    <a:pt x="678" y="3751"/>
                  </a:lnTo>
                  <a:lnTo>
                    <a:pt x="607" y="3859"/>
                  </a:lnTo>
                  <a:lnTo>
                    <a:pt x="499" y="3966"/>
                  </a:lnTo>
                  <a:lnTo>
                    <a:pt x="464" y="4073"/>
                  </a:lnTo>
                  <a:lnTo>
                    <a:pt x="357" y="4430"/>
                  </a:lnTo>
                  <a:lnTo>
                    <a:pt x="285" y="4537"/>
                  </a:lnTo>
                  <a:lnTo>
                    <a:pt x="249" y="4644"/>
                  </a:lnTo>
                  <a:lnTo>
                    <a:pt x="214" y="4966"/>
                  </a:lnTo>
                  <a:lnTo>
                    <a:pt x="142" y="5073"/>
                  </a:lnTo>
                  <a:lnTo>
                    <a:pt x="107" y="5287"/>
                  </a:lnTo>
                  <a:lnTo>
                    <a:pt x="71" y="5537"/>
                  </a:lnTo>
                  <a:lnTo>
                    <a:pt x="35" y="5645"/>
                  </a:lnTo>
                  <a:lnTo>
                    <a:pt x="0" y="5930"/>
                  </a:lnTo>
                  <a:lnTo>
                    <a:pt x="0" y="6073"/>
                  </a:lnTo>
                  <a:lnTo>
                    <a:pt x="0" y="6181"/>
                  </a:lnTo>
                  <a:lnTo>
                    <a:pt x="0" y="6431"/>
                  </a:lnTo>
                  <a:lnTo>
                    <a:pt x="0" y="6538"/>
                  </a:lnTo>
                  <a:lnTo>
                    <a:pt x="0" y="6752"/>
                  </a:lnTo>
                  <a:lnTo>
                    <a:pt x="35" y="6895"/>
                  </a:lnTo>
                  <a:lnTo>
                    <a:pt x="35" y="7109"/>
                  </a:lnTo>
                  <a:lnTo>
                    <a:pt x="71" y="7359"/>
                  </a:lnTo>
                  <a:lnTo>
                    <a:pt x="107" y="7467"/>
                  </a:lnTo>
                  <a:lnTo>
                    <a:pt x="178" y="7574"/>
                  </a:lnTo>
                  <a:lnTo>
                    <a:pt x="214" y="7681"/>
                  </a:lnTo>
                  <a:lnTo>
                    <a:pt x="214" y="7788"/>
                  </a:lnTo>
                  <a:lnTo>
                    <a:pt x="285" y="7931"/>
                  </a:lnTo>
                  <a:lnTo>
                    <a:pt x="321" y="8038"/>
                  </a:lnTo>
                  <a:lnTo>
                    <a:pt x="357" y="8181"/>
                  </a:lnTo>
                  <a:lnTo>
                    <a:pt x="428" y="8324"/>
                  </a:lnTo>
                  <a:lnTo>
                    <a:pt x="535" y="8431"/>
                  </a:lnTo>
                  <a:lnTo>
                    <a:pt x="642" y="8574"/>
                  </a:lnTo>
                  <a:lnTo>
                    <a:pt x="749" y="8860"/>
                  </a:lnTo>
                  <a:lnTo>
                    <a:pt x="856" y="8967"/>
                  </a:lnTo>
                  <a:lnTo>
                    <a:pt x="928" y="9074"/>
                  </a:lnTo>
                  <a:lnTo>
                    <a:pt x="1035" y="9181"/>
                  </a:lnTo>
                  <a:lnTo>
                    <a:pt x="1071" y="9288"/>
                  </a:lnTo>
                  <a:lnTo>
                    <a:pt x="1178" y="9397"/>
                  </a:lnTo>
                  <a:lnTo>
                    <a:pt x="1392" y="9647"/>
                  </a:lnTo>
                  <a:lnTo>
                    <a:pt x="1464" y="9754"/>
                  </a:lnTo>
                  <a:lnTo>
                    <a:pt x="1535" y="9861"/>
                  </a:lnTo>
                  <a:lnTo>
                    <a:pt x="1606" y="10004"/>
                  </a:lnTo>
                  <a:lnTo>
                    <a:pt x="1713" y="10111"/>
                  </a:lnTo>
                  <a:lnTo>
                    <a:pt x="1963" y="10575"/>
                  </a:lnTo>
                  <a:lnTo>
                    <a:pt x="2035" y="10861"/>
                  </a:lnTo>
                  <a:lnTo>
                    <a:pt x="2106" y="11004"/>
                  </a:lnTo>
                  <a:lnTo>
                    <a:pt x="2213" y="11075"/>
                  </a:lnTo>
                  <a:lnTo>
                    <a:pt x="2356" y="11111"/>
                  </a:lnTo>
                  <a:lnTo>
                    <a:pt x="2428" y="11218"/>
                  </a:lnTo>
                  <a:lnTo>
                    <a:pt x="2570" y="11254"/>
                  </a:lnTo>
                  <a:lnTo>
                    <a:pt x="2713" y="11361"/>
                  </a:lnTo>
                  <a:lnTo>
                    <a:pt x="2999" y="11397"/>
                  </a:lnTo>
                  <a:lnTo>
                    <a:pt x="3106" y="11468"/>
                  </a:lnTo>
                  <a:lnTo>
                    <a:pt x="3392" y="11540"/>
                  </a:lnTo>
                  <a:lnTo>
                    <a:pt x="3642" y="11576"/>
                  </a:lnTo>
                  <a:lnTo>
                    <a:pt x="3856" y="11611"/>
                  </a:lnTo>
                  <a:lnTo>
                    <a:pt x="3963" y="11647"/>
                  </a:lnTo>
                  <a:lnTo>
                    <a:pt x="4070" y="11683"/>
                  </a:lnTo>
                  <a:lnTo>
                    <a:pt x="4213" y="11754"/>
                  </a:lnTo>
                  <a:lnTo>
                    <a:pt x="4320" y="11790"/>
                  </a:lnTo>
                  <a:lnTo>
                    <a:pt x="4427" y="11861"/>
                  </a:lnTo>
                  <a:lnTo>
                    <a:pt x="4677" y="11897"/>
                  </a:lnTo>
                  <a:lnTo>
                    <a:pt x="4927" y="11969"/>
                  </a:lnTo>
                  <a:lnTo>
                    <a:pt x="5070" y="12004"/>
                  </a:lnTo>
                  <a:lnTo>
                    <a:pt x="5213" y="12004"/>
                  </a:lnTo>
                  <a:lnTo>
                    <a:pt x="5320" y="12076"/>
                  </a:lnTo>
                  <a:lnTo>
                    <a:pt x="5427" y="12111"/>
                  </a:lnTo>
                  <a:lnTo>
                    <a:pt x="5534" y="12147"/>
                  </a:lnTo>
                  <a:lnTo>
                    <a:pt x="5641" y="12219"/>
                  </a:lnTo>
                  <a:lnTo>
                    <a:pt x="5915" y="12362"/>
                  </a:lnTo>
                  <a:lnTo>
                    <a:pt x="5963" y="12350"/>
                  </a:lnTo>
                  <a:lnTo>
                    <a:pt x="6107" y="12385"/>
                  </a:lnTo>
                  <a:lnTo>
                    <a:pt x="6249" y="12397"/>
                  </a:lnTo>
                  <a:lnTo>
                    <a:pt x="6357" y="12397"/>
                  </a:lnTo>
                  <a:lnTo>
                    <a:pt x="6499" y="12326"/>
                  </a:lnTo>
                  <a:lnTo>
                    <a:pt x="6607" y="12290"/>
                  </a:lnTo>
                  <a:lnTo>
                    <a:pt x="6714" y="12254"/>
                  </a:lnTo>
                  <a:lnTo>
                    <a:pt x="6928" y="12254"/>
                  </a:lnTo>
                  <a:lnTo>
                    <a:pt x="7035" y="12219"/>
                  </a:lnTo>
                  <a:lnTo>
                    <a:pt x="7428" y="12219"/>
                  </a:lnTo>
                  <a:lnTo>
                    <a:pt x="7678" y="12147"/>
                  </a:lnTo>
                  <a:lnTo>
                    <a:pt x="7809" y="12040"/>
                  </a:lnTo>
                  <a:lnTo>
                    <a:pt x="7928" y="11992"/>
                  </a:lnTo>
                  <a:lnTo>
                    <a:pt x="8142" y="11969"/>
                  </a:lnTo>
                  <a:lnTo>
                    <a:pt x="8213" y="11861"/>
                  </a:lnTo>
                  <a:lnTo>
                    <a:pt x="8285" y="11754"/>
                  </a:lnTo>
                  <a:lnTo>
                    <a:pt x="8356" y="11647"/>
                  </a:lnTo>
                  <a:lnTo>
                    <a:pt x="8499" y="11540"/>
                  </a:lnTo>
                  <a:lnTo>
                    <a:pt x="8785" y="11433"/>
                  </a:lnTo>
                  <a:lnTo>
                    <a:pt x="8892" y="11326"/>
                  </a:lnTo>
                  <a:lnTo>
                    <a:pt x="8999" y="11254"/>
                  </a:lnTo>
                  <a:lnTo>
                    <a:pt x="9106" y="11183"/>
                  </a:lnTo>
                  <a:lnTo>
                    <a:pt x="9213" y="11111"/>
                  </a:lnTo>
                  <a:lnTo>
                    <a:pt x="9320" y="11040"/>
                  </a:lnTo>
                  <a:lnTo>
                    <a:pt x="9427" y="10968"/>
                  </a:lnTo>
                  <a:lnTo>
                    <a:pt x="9570" y="10933"/>
                  </a:lnTo>
                  <a:lnTo>
                    <a:pt x="9856" y="10897"/>
                  </a:lnTo>
                  <a:lnTo>
                    <a:pt x="9999" y="10790"/>
                  </a:lnTo>
                  <a:lnTo>
                    <a:pt x="10106" y="10683"/>
                  </a:lnTo>
                  <a:lnTo>
                    <a:pt x="10213" y="10575"/>
                  </a:lnTo>
                  <a:lnTo>
                    <a:pt x="10320" y="10468"/>
                  </a:lnTo>
                  <a:lnTo>
                    <a:pt x="10427" y="10397"/>
                  </a:lnTo>
                  <a:lnTo>
                    <a:pt x="10713" y="10254"/>
                  </a:lnTo>
                  <a:lnTo>
                    <a:pt x="10820" y="10111"/>
                  </a:lnTo>
                  <a:lnTo>
                    <a:pt x="10892" y="10004"/>
                  </a:lnTo>
                  <a:lnTo>
                    <a:pt x="10963" y="9789"/>
                  </a:lnTo>
                  <a:lnTo>
                    <a:pt x="10999" y="9647"/>
                  </a:lnTo>
                  <a:lnTo>
                    <a:pt x="11034" y="9504"/>
                  </a:lnTo>
                  <a:lnTo>
                    <a:pt x="11106" y="9145"/>
                  </a:lnTo>
                  <a:lnTo>
                    <a:pt x="11106" y="9003"/>
                  </a:lnTo>
                  <a:lnTo>
                    <a:pt x="11141" y="8788"/>
                  </a:lnTo>
                  <a:lnTo>
                    <a:pt x="11213" y="8502"/>
                  </a:lnTo>
                  <a:lnTo>
                    <a:pt x="11320" y="8360"/>
                  </a:lnTo>
                  <a:lnTo>
                    <a:pt x="11391" y="8074"/>
                  </a:lnTo>
                  <a:lnTo>
                    <a:pt x="11463" y="7931"/>
                  </a:lnTo>
                  <a:lnTo>
                    <a:pt x="11570" y="7788"/>
                  </a:lnTo>
                  <a:lnTo>
                    <a:pt x="11606" y="7681"/>
                  </a:lnTo>
                  <a:lnTo>
                    <a:pt x="11713" y="7538"/>
                  </a:lnTo>
                  <a:lnTo>
                    <a:pt x="11749" y="7431"/>
                  </a:lnTo>
                  <a:lnTo>
                    <a:pt x="11784" y="7324"/>
                  </a:lnTo>
                  <a:lnTo>
                    <a:pt x="11856" y="6966"/>
                  </a:lnTo>
                  <a:lnTo>
                    <a:pt x="11891" y="6859"/>
                  </a:lnTo>
                  <a:lnTo>
                    <a:pt x="11927" y="6502"/>
                  </a:lnTo>
                  <a:lnTo>
                    <a:pt x="11963" y="6359"/>
                  </a:lnTo>
                  <a:lnTo>
                    <a:pt x="11998" y="6216"/>
                  </a:lnTo>
                  <a:lnTo>
                    <a:pt x="12034" y="6109"/>
                  </a:lnTo>
                  <a:lnTo>
                    <a:pt x="12034" y="6002"/>
                  </a:lnTo>
                  <a:lnTo>
                    <a:pt x="12070" y="5895"/>
                  </a:lnTo>
                  <a:lnTo>
                    <a:pt x="12070" y="5680"/>
                  </a:lnTo>
                  <a:lnTo>
                    <a:pt x="12070" y="5537"/>
                  </a:lnTo>
                  <a:lnTo>
                    <a:pt x="12070" y="5395"/>
                  </a:lnTo>
                  <a:lnTo>
                    <a:pt x="12034" y="5145"/>
                  </a:lnTo>
                  <a:lnTo>
                    <a:pt x="11963" y="4859"/>
                  </a:lnTo>
                  <a:lnTo>
                    <a:pt x="11963" y="4752"/>
                  </a:lnTo>
                  <a:lnTo>
                    <a:pt x="11891" y="4644"/>
                  </a:lnTo>
                  <a:lnTo>
                    <a:pt x="11820" y="4537"/>
                  </a:lnTo>
                  <a:lnTo>
                    <a:pt x="11784" y="4430"/>
                  </a:lnTo>
                  <a:lnTo>
                    <a:pt x="11713" y="4323"/>
                  </a:lnTo>
                  <a:lnTo>
                    <a:pt x="11677" y="4216"/>
                  </a:lnTo>
                  <a:lnTo>
                    <a:pt x="11606" y="4109"/>
                  </a:lnTo>
                  <a:lnTo>
                    <a:pt x="11534" y="4001"/>
                  </a:lnTo>
                  <a:lnTo>
                    <a:pt x="11463" y="3894"/>
                  </a:lnTo>
                  <a:lnTo>
                    <a:pt x="11356" y="3608"/>
                  </a:lnTo>
                  <a:lnTo>
                    <a:pt x="11284" y="3501"/>
                  </a:lnTo>
                  <a:lnTo>
                    <a:pt x="11213" y="3287"/>
                  </a:lnTo>
                  <a:lnTo>
                    <a:pt x="11106" y="3180"/>
                  </a:lnTo>
                  <a:lnTo>
                    <a:pt x="10999" y="3144"/>
                  </a:lnTo>
                  <a:lnTo>
                    <a:pt x="10963" y="3036"/>
                  </a:lnTo>
                  <a:lnTo>
                    <a:pt x="10856" y="2964"/>
                  </a:lnTo>
                  <a:lnTo>
                    <a:pt x="10784" y="2714"/>
                  </a:lnTo>
                  <a:lnTo>
                    <a:pt x="10749" y="2607"/>
                  </a:lnTo>
                  <a:lnTo>
                    <a:pt x="10677" y="2393"/>
                  </a:lnTo>
                  <a:lnTo>
                    <a:pt x="10642" y="2286"/>
                  </a:lnTo>
                  <a:lnTo>
                    <a:pt x="10606" y="2143"/>
                  </a:lnTo>
                  <a:lnTo>
                    <a:pt x="10570" y="2036"/>
                  </a:lnTo>
                  <a:lnTo>
                    <a:pt x="10523" y="1857"/>
                  </a:lnTo>
                  <a:lnTo>
                    <a:pt x="10392" y="1750"/>
                  </a:lnTo>
                  <a:lnTo>
                    <a:pt x="10213" y="1559"/>
                  </a:lnTo>
                  <a:lnTo>
                    <a:pt x="10106" y="1452"/>
                  </a:lnTo>
                  <a:lnTo>
                    <a:pt x="10035" y="1357"/>
                  </a:lnTo>
                  <a:lnTo>
                    <a:pt x="9892" y="1321"/>
                  </a:lnTo>
                  <a:lnTo>
                    <a:pt x="9856" y="1214"/>
                  </a:lnTo>
                  <a:lnTo>
                    <a:pt x="9713" y="1143"/>
                  </a:lnTo>
                  <a:lnTo>
                    <a:pt x="9392" y="1071"/>
                  </a:lnTo>
                  <a:lnTo>
                    <a:pt x="9249" y="1000"/>
                  </a:lnTo>
                  <a:lnTo>
                    <a:pt x="9142" y="964"/>
                  </a:lnTo>
                  <a:lnTo>
                    <a:pt x="9035" y="893"/>
                  </a:lnTo>
                  <a:lnTo>
                    <a:pt x="8785" y="857"/>
                  </a:lnTo>
                  <a:lnTo>
                    <a:pt x="8642" y="821"/>
                  </a:lnTo>
                  <a:lnTo>
                    <a:pt x="8392" y="750"/>
                  </a:lnTo>
                  <a:lnTo>
                    <a:pt x="8285" y="678"/>
                  </a:lnTo>
                  <a:lnTo>
                    <a:pt x="8142" y="607"/>
                  </a:lnTo>
                  <a:lnTo>
                    <a:pt x="8035" y="571"/>
                  </a:lnTo>
                  <a:lnTo>
                    <a:pt x="7821" y="535"/>
                  </a:lnTo>
                  <a:lnTo>
                    <a:pt x="7678" y="464"/>
                  </a:lnTo>
                  <a:lnTo>
                    <a:pt x="7571" y="357"/>
                  </a:lnTo>
                  <a:lnTo>
                    <a:pt x="7464" y="285"/>
                  </a:lnTo>
                  <a:lnTo>
                    <a:pt x="7356" y="250"/>
                  </a:lnTo>
                  <a:lnTo>
                    <a:pt x="7249" y="178"/>
                  </a:lnTo>
                  <a:lnTo>
                    <a:pt x="7106" y="142"/>
                  </a:lnTo>
                  <a:lnTo>
                    <a:pt x="6964" y="142"/>
                  </a:lnTo>
                  <a:lnTo>
                    <a:pt x="6678" y="107"/>
                  </a:lnTo>
                  <a:lnTo>
                    <a:pt x="6571" y="107"/>
                  </a:lnTo>
                  <a:lnTo>
                    <a:pt x="6464" y="71"/>
                  </a:lnTo>
                  <a:lnTo>
                    <a:pt x="6357" y="35"/>
                  </a:lnTo>
                  <a:lnTo>
                    <a:pt x="6249" y="0"/>
                  </a:lnTo>
                  <a:lnTo>
                    <a:pt x="6107" y="0"/>
                  </a:lnTo>
                  <a:lnTo>
                    <a:pt x="5891" y="35"/>
                  </a:lnTo>
                  <a:lnTo>
                    <a:pt x="5784" y="107"/>
                  </a:lnTo>
                  <a:lnTo>
                    <a:pt x="5891" y="107"/>
                  </a:lnTo>
                  <a:lnTo>
                    <a:pt x="5998" y="35"/>
                  </a:lnTo>
                  <a:close/>
                </a:path>
              </a:pathLst>
            </a:custGeom>
            <a:blipFill rotWithShape="0">
              <a:blip r:embed="rId1"/>
              <a:tile tx="0" ty="0" sx="133018" sy="133018" algn="ctr"/>
            </a:blipFill>
            <a:ln w="25560">
              <a:solidFill>
                <a:srgbClr val="fafd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900000" y="1673280"/>
              <a:ext cx="3981600" cy="398160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74560" y="1330200"/>
              <a:ext cx="4627440" cy="462744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5" name=""/>
          <p:cNvSpPr/>
          <p:nvPr/>
        </p:nvSpPr>
        <p:spPr>
          <a:xfrm>
            <a:off x="1308240" y="2077920"/>
            <a:ext cx="3162240" cy="3162240"/>
          </a:xfrm>
          <a:prstGeom prst="ellipse">
            <a:avLst/>
          </a:prstGeom>
          <a:noFill/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6" name=""/>
          <p:cNvGrpSpPr/>
          <p:nvPr/>
        </p:nvGrpSpPr>
        <p:grpSpPr>
          <a:xfrm>
            <a:off x="2876400" y="895320"/>
            <a:ext cx="0" cy="5479920"/>
            <a:chOff x="2876400" y="895320"/>
            <a:chExt cx="0" cy="5479920"/>
          </a:xfrm>
        </p:grpSpPr>
        <p:sp>
          <p:nvSpPr>
            <p:cNvPr id="1297" name=""/>
            <p:cNvSpPr/>
            <p:nvPr/>
          </p:nvSpPr>
          <p:spPr>
            <a:xfrm flipV="1">
              <a:off x="2876400" y="3990960"/>
              <a:ext cx="0" cy="2384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2876400" y="3517920"/>
              <a:ext cx="0" cy="235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V="1">
              <a:off x="2876400" y="895320"/>
              <a:ext cx="0" cy="2451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0" name=""/>
          <p:cNvGrpSpPr/>
          <p:nvPr/>
        </p:nvGrpSpPr>
        <p:grpSpPr>
          <a:xfrm>
            <a:off x="136440" y="3635280"/>
            <a:ext cx="5480280" cy="0"/>
            <a:chOff x="136440" y="3635280"/>
            <a:chExt cx="5480280" cy="0"/>
          </a:xfrm>
        </p:grpSpPr>
        <p:sp>
          <p:nvSpPr>
            <p:cNvPr id="1301" name=""/>
            <p:cNvSpPr/>
            <p:nvPr/>
          </p:nvSpPr>
          <p:spPr>
            <a:xfrm>
              <a:off x="136440" y="3635280"/>
              <a:ext cx="2384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759040" y="3635280"/>
              <a:ext cx="235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165480" y="3635280"/>
              <a:ext cx="2451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4" name=""/>
          <p:cNvGrpSpPr/>
          <p:nvPr/>
        </p:nvGrpSpPr>
        <p:grpSpPr>
          <a:xfrm>
            <a:off x="6692760" y="4253040"/>
            <a:ext cx="1311120" cy="396720"/>
            <a:chOff x="6692760" y="4253040"/>
            <a:chExt cx="1311120" cy="396720"/>
          </a:xfrm>
        </p:grpSpPr>
        <p:sp>
          <p:nvSpPr>
            <p:cNvPr id="1305" name=""/>
            <p:cNvSpPr/>
            <p:nvPr/>
          </p:nvSpPr>
          <p:spPr>
            <a:xfrm>
              <a:off x="6692760" y="4259160"/>
              <a:ext cx="1311120" cy="38736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829560" y="4314960"/>
              <a:ext cx="266760" cy="266760"/>
            </a:xfrm>
            <a:prstGeom prst="ellipse">
              <a:avLst/>
            </a:prstGeom>
            <a:noFill/>
            <a:ln w="12600">
              <a:solidFill>
                <a:srgbClr val="00dfc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240680" y="4275000"/>
              <a:ext cx="0" cy="371520"/>
            </a:xfrm>
            <a:prstGeom prst="line">
              <a:avLst/>
            </a:prstGeom>
            <a:ln w="12600">
              <a:solidFill>
                <a:srgbClr val="00df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 txBox="1"/>
            <p:nvPr/>
          </p:nvSpPr>
          <p:spPr>
            <a:xfrm>
              <a:off x="7418520" y="4253040"/>
              <a:ext cx="5364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dfca"/>
                  </a:solidFill>
                  <a:latin typeface="Arial"/>
                  <a:ea typeface="Arial"/>
                </a:rPr>
                <a:t>0.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9" name=""/>
          <p:cNvSpPr txBox="1"/>
          <p:nvPr/>
        </p:nvSpPr>
        <p:spPr>
          <a:xfrm>
            <a:off x="5327640" y="1000080"/>
            <a:ext cx="368928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hite: 10.0 - 10.8 Diameter Size Lim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Red: 0.2 Radial Tolerance (Concentric Circ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Yellow: Possible form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 txBox="1"/>
          <p:nvPr/>
        </p:nvSpPr>
        <p:spPr>
          <a:xfrm>
            <a:off x="5970600" y="4878360"/>
            <a:ext cx="306396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circularity tole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rols the feature for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ut the form control mu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e within the overall siz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m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"/>
          <p:cNvSpPr txBox="1"/>
          <p:nvPr/>
        </p:nvSpPr>
        <p:spPr>
          <a:xfrm>
            <a:off x="285840" y="228600"/>
            <a:ext cx="85248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IRCULARITY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608040" y="1363680"/>
            <a:ext cx="4557600" cy="4557600"/>
          </a:xfrm>
          <a:prstGeom prst="ellipse">
            <a:avLst/>
          </a:prstGeom>
          <a:noFill/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185840" y="1897200"/>
            <a:ext cx="3420000" cy="3510360"/>
          </a:xfrm>
          <a:custGeom>
            <a:avLst/>
            <a:gdLst/>
            <a:ahLst/>
            <a:rect l="0" t="0" r="r" b="b"/>
            <a:pathLst>
              <a:path w="9500" h="9751">
                <a:moveTo>
                  <a:pt x="4722" y="28"/>
                </a:moveTo>
                <a:lnTo>
                  <a:pt x="4637" y="56"/>
                </a:lnTo>
                <a:lnTo>
                  <a:pt x="4553" y="84"/>
                </a:lnTo>
                <a:lnTo>
                  <a:pt x="4469" y="112"/>
                </a:lnTo>
                <a:lnTo>
                  <a:pt x="4384" y="112"/>
                </a:lnTo>
                <a:lnTo>
                  <a:pt x="4300" y="112"/>
                </a:lnTo>
                <a:lnTo>
                  <a:pt x="4216" y="112"/>
                </a:lnTo>
                <a:lnTo>
                  <a:pt x="4132" y="112"/>
                </a:lnTo>
                <a:lnTo>
                  <a:pt x="4047" y="112"/>
                </a:lnTo>
                <a:lnTo>
                  <a:pt x="3963" y="140"/>
                </a:lnTo>
                <a:lnTo>
                  <a:pt x="3879" y="168"/>
                </a:lnTo>
                <a:lnTo>
                  <a:pt x="3794" y="196"/>
                </a:lnTo>
                <a:lnTo>
                  <a:pt x="3710" y="224"/>
                </a:lnTo>
                <a:lnTo>
                  <a:pt x="3626" y="252"/>
                </a:lnTo>
                <a:lnTo>
                  <a:pt x="3541" y="280"/>
                </a:lnTo>
                <a:lnTo>
                  <a:pt x="3457" y="280"/>
                </a:lnTo>
                <a:lnTo>
                  <a:pt x="3373" y="280"/>
                </a:lnTo>
                <a:lnTo>
                  <a:pt x="3260" y="309"/>
                </a:lnTo>
                <a:lnTo>
                  <a:pt x="3176" y="337"/>
                </a:lnTo>
                <a:lnTo>
                  <a:pt x="3092" y="337"/>
                </a:lnTo>
                <a:lnTo>
                  <a:pt x="3007" y="365"/>
                </a:lnTo>
                <a:lnTo>
                  <a:pt x="2923" y="393"/>
                </a:lnTo>
                <a:lnTo>
                  <a:pt x="2811" y="477"/>
                </a:lnTo>
                <a:lnTo>
                  <a:pt x="2614" y="561"/>
                </a:lnTo>
                <a:lnTo>
                  <a:pt x="2530" y="618"/>
                </a:lnTo>
                <a:lnTo>
                  <a:pt x="2473" y="702"/>
                </a:lnTo>
                <a:lnTo>
                  <a:pt x="2389" y="730"/>
                </a:lnTo>
                <a:lnTo>
                  <a:pt x="2304" y="842"/>
                </a:lnTo>
                <a:lnTo>
                  <a:pt x="2220" y="927"/>
                </a:lnTo>
                <a:lnTo>
                  <a:pt x="2107" y="1011"/>
                </a:lnTo>
                <a:lnTo>
                  <a:pt x="1995" y="1067"/>
                </a:lnTo>
                <a:lnTo>
                  <a:pt x="1910" y="1123"/>
                </a:lnTo>
                <a:lnTo>
                  <a:pt x="1826" y="1180"/>
                </a:lnTo>
                <a:lnTo>
                  <a:pt x="1742" y="1236"/>
                </a:lnTo>
                <a:lnTo>
                  <a:pt x="1629" y="1292"/>
                </a:lnTo>
                <a:lnTo>
                  <a:pt x="1545" y="1348"/>
                </a:lnTo>
                <a:lnTo>
                  <a:pt x="1461" y="1404"/>
                </a:lnTo>
                <a:lnTo>
                  <a:pt x="1377" y="1489"/>
                </a:lnTo>
                <a:lnTo>
                  <a:pt x="1292" y="1573"/>
                </a:lnTo>
                <a:lnTo>
                  <a:pt x="1264" y="1657"/>
                </a:lnTo>
                <a:lnTo>
                  <a:pt x="1208" y="1742"/>
                </a:lnTo>
                <a:lnTo>
                  <a:pt x="1124" y="1826"/>
                </a:lnTo>
                <a:lnTo>
                  <a:pt x="955" y="1910"/>
                </a:lnTo>
                <a:lnTo>
                  <a:pt x="899" y="1994"/>
                </a:lnTo>
                <a:lnTo>
                  <a:pt x="843" y="2079"/>
                </a:lnTo>
                <a:lnTo>
                  <a:pt x="814" y="2163"/>
                </a:lnTo>
                <a:lnTo>
                  <a:pt x="758" y="2332"/>
                </a:lnTo>
                <a:lnTo>
                  <a:pt x="730" y="2416"/>
                </a:lnTo>
                <a:lnTo>
                  <a:pt x="702" y="2585"/>
                </a:lnTo>
                <a:lnTo>
                  <a:pt x="674" y="2670"/>
                </a:lnTo>
                <a:lnTo>
                  <a:pt x="618" y="2754"/>
                </a:lnTo>
                <a:lnTo>
                  <a:pt x="562" y="2866"/>
                </a:lnTo>
                <a:lnTo>
                  <a:pt x="533" y="2951"/>
                </a:lnTo>
                <a:lnTo>
                  <a:pt x="477" y="3035"/>
                </a:lnTo>
                <a:lnTo>
                  <a:pt x="393" y="3119"/>
                </a:lnTo>
                <a:lnTo>
                  <a:pt x="365" y="3204"/>
                </a:lnTo>
                <a:lnTo>
                  <a:pt x="281" y="3485"/>
                </a:lnTo>
                <a:lnTo>
                  <a:pt x="224" y="3569"/>
                </a:lnTo>
                <a:lnTo>
                  <a:pt x="196" y="3653"/>
                </a:lnTo>
                <a:lnTo>
                  <a:pt x="168" y="3906"/>
                </a:lnTo>
                <a:lnTo>
                  <a:pt x="112" y="3990"/>
                </a:lnTo>
                <a:lnTo>
                  <a:pt x="84" y="4159"/>
                </a:lnTo>
                <a:lnTo>
                  <a:pt x="56" y="4356"/>
                </a:lnTo>
                <a:lnTo>
                  <a:pt x="28" y="4440"/>
                </a:lnTo>
                <a:lnTo>
                  <a:pt x="0" y="4665"/>
                </a:lnTo>
                <a:lnTo>
                  <a:pt x="0" y="4777"/>
                </a:lnTo>
                <a:lnTo>
                  <a:pt x="0" y="4861"/>
                </a:lnTo>
                <a:lnTo>
                  <a:pt x="0" y="5058"/>
                </a:lnTo>
                <a:lnTo>
                  <a:pt x="0" y="5142"/>
                </a:lnTo>
                <a:lnTo>
                  <a:pt x="0" y="5311"/>
                </a:lnTo>
                <a:lnTo>
                  <a:pt x="28" y="5423"/>
                </a:lnTo>
                <a:lnTo>
                  <a:pt x="28" y="5592"/>
                </a:lnTo>
                <a:lnTo>
                  <a:pt x="56" y="5789"/>
                </a:lnTo>
                <a:lnTo>
                  <a:pt x="84" y="5873"/>
                </a:lnTo>
                <a:lnTo>
                  <a:pt x="140" y="5957"/>
                </a:lnTo>
                <a:lnTo>
                  <a:pt x="168" y="6042"/>
                </a:lnTo>
                <a:lnTo>
                  <a:pt x="168" y="6126"/>
                </a:lnTo>
                <a:lnTo>
                  <a:pt x="224" y="6238"/>
                </a:lnTo>
                <a:lnTo>
                  <a:pt x="252" y="6322"/>
                </a:lnTo>
                <a:lnTo>
                  <a:pt x="281" y="6435"/>
                </a:lnTo>
                <a:lnTo>
                  <a:pt x="337" y="6547"/>
                </a:lnTo>
                <a:lnTo>
                  <a:pt x="421" y="6632"/>
                </a:lnTo>
                <a:lnTo>
                  <a:pt x="505" y="6744"/>
                </a:lnTo>
                <a:lnTo>
                  <a:pt x="590" y="6969"/>
                </a:lnTo>
                <a:lnTo>
                  <a:pt x="674" y="7053"/>
                </a:lnTo>
                <a:lnTo>
                  <a:pt x="730" y="7137"/>
                </a:lnTo>
                <a:lnTo>
                  <a:pt x="814" y="7222"/>
                </a:lnTo>
                <a:lnTo>
                  <a:pt x="843" y="7306"/>
                </a:lnTo>
                <a:lnTo>
                  <a:pt x="927" y="7391"/>
                </a:lnTo>
                <a:lnTo>
                  <a:pt x="1095" y="7588"/>
                </a:lnTo>
                <a:lnTo>
                  <a:pt x="1152" y="7672"/>
                </a:lnTo>
                <a:lnTo>
                  <a:pt x="1208" y="7756"/>
                </a:lnTo>
                <a:lnTo>
                  <a:pt x="1264" y="7869"/>
                </a:lnTo>
                <a:lnTo>
                  <a:pt x="1348" y="7953"/>
                </a:lnTo>
                <a:lnTo>
                  <a:pt x="1545" y="8318"/>
                </a:lnTo>
                <a:lnTo>
                  <a:pt x="1601" y="8543"/>
                </a:lnTo>
                <a:lnTo>
                  <a:pt x="1658" y="8656"/>
                </a:lnTo>
                <a:lnTo>
                  <a:pt x="1742" y="8712"/>
                </a:lnTo>
                <a:lnTo>
                  <a:pt x="1854" y="8740"/>
                </a:lnTo>
                <a:lnTo>
                  <a:pt x="1910" y="8824"/>
                </a:lnTo>
                <a:lnTo>
                  <a:pt x="2023" y="8852"/>
                </a:lnTo>
                <a:lnTo>
                  <a:pt x="2135" y="8937"/>
                </a:lnTo>
                <a:lnTo>
                  <a:pt x="2360" y="8965"/>
                </a:lnTo>
                <a:lnTo>
                  <a:pt x="2445" y="9021"/>
                </a:lnTo>
                <a:lnTo>
                  <a:pt x="2670" y="9077"/>
                </a:lnTo>
                <a:lnTo>
                  <a:pt x="2867" y="9105"/>
                </a:lnTo>
                <a:lnTo>
                  <a:pt x="3036" y="9133"/>
                </a:lnTo>
                <a:lnTo>
                  <a:pt x="3120" y="9161"/>
                </a:lnTo>
                <a:lnTo>
                  <a:pt x="3204" y="9189"/>
                </a:lnTo>
                <a:lnTo>
                  <a:pt x="3317" y="9246"/>
                </a:lnTo>
                <a:lnTo>
                  <a:pt x="3401" y="9274"/>
                </a:lnTo>
                <a:lnTo>
                  <a:pt x="3485" y="9330"/>
                </a:lnTo>
                <a:lnTo>
                  <a:pt x="3682" y="9358"/>
                </a:lnTo>
                <a:lnTo>
                  <a:pt x="3879" y="9414"/>
                </a:lnTo>
                <a:lnTo>
                  <a:pt x="3991" y="9442"/>
                </a:lnTo>
                <a:lnTo>
                  <a:pt x="4103" y="9442"/>
                </a:lnTo>
                <a:lnTo>
                  <a:pt x="4188" y="9499"/>
                </a:lnTo>
                <a:lnTo>
                  <a:pt x="4272" y="9527"/>
                </a:lnTo>
                <a:lnTo>
                  <a:pt x="4356" y="9555"/>
                </a:lnTo>
                <a:lnTo>
                  <a:pt x="4441" y="9611"/>
                </a:lnTo>
                <a:lnTo>
                  <a:pt x="4656" y="9723"/>
                </a:lnTo>
                <a:lnTo>
                  <a:pt x="4694" y="9714"/>
                </a:lnTo>
                <a:lnTo>
                  <a:pt x="4806" y="9742"/>
                </a:lnTo>
                <a:lnTo>
                  <a:pt x="4918" y="9751"/>
                </a:lnTo>
                <a:lnTo>
                  <a:pt x="5003" y="9751"/>
                </a:lnTo>
                <a:lnTo>
                  <a:pt x="5115" y="9695"/>
                </a:lnTo>
                <a:lnTo>
                  <a:pt x="5199" y="9667"/>
                </a:lnTo>
                <a:lnTo>
                  <a:pt x="5284" y="9639"/>
                </a:lnTo>
                <a:lnTo>
                  <a:pt x="5452" y="9639"/>
                </a:lnTo>
                <a:lnTo>
                  <a:pt x="5537" y="9611"/>
                </a:lnTo>
                <a:lnTo>
                  <a:pt x="5846" y="9611"/>
                </a:lnTo>
                <a:lnTo>
                  <a:pt x="6042" y="9555"/>
                </a:lnTo>
                <a:lnTo>
                  <a:pt x="6146" y="9470"/>
                </a:lnTo>
                <a:lnTo>
                  <a:pt x="6239" y="9433"/>
                </a:lnTo>
                <a:lnTo>
                  <a:pt x="6408" y="9414"/>
                </a:lnTo>
                <a:lnTo>
                  <a:pt x="6464" y="9330"/>
                </a:lnTo>
                <a:lnTo>
                  <a:pt x="6520" y="9246"/>
                </a:lnTo>
                <a:lnTo>
                  <a:pt x="6576" y="9161"/>
                </a:lnTo>
                <a:lnTo>
                  <a:pt x="6689" y="9077"/>
                </a:lnTo>
                <a:lnTo>
                  <a:pt x="6914" y="8993"/>
                </a:lnTo>
                <a:lnTo>
                  <a:pt x="6998" y="8908"/>
                </a:lnTo>
                <a:lnTo>
                  <a:pt x="7082" y="8852"/>
                </a:lnTo>
                <a:lnTo>
                  <a:pt x="7168" y="8796"/>
                </a:lnTo>
                <a:lnTo>
                  <a:pt x="7252" y="8740"/>
                </a:lnTo>
                <a:lnTo>
                  <a:pt x="7336" y="8684"/>
                </a:lnTo>
                <a:lnTo>
                  <a:pt x="7420" y="8627"/>
                </a:lnTo>
                <a:lnTo>
                  <a:pt x="7533" y="8599"/>
                </a:lnTo>
                <a:lnTo>
                  <a:pt x="7758" y="8571"/>
                </a:lnTo>
                <a:lnTo>
                  <a:pt x="7870" y="8487"/>
                </a:lnTo>
                <a:lnTo>
                  <a:pt x="7954" y="8403"/>
                </a:lnTo>
                <a:lnTo>
                  <a:pt x="8039" y="8318"/>
                </a:lnTo>
                <a:lnTo>
                  <a:pt x="8123" y="8234"/>
                </a:lnTo>
                <a:lnTo>
                  <a:pt x="8207" y="8178"/>
                </a:lnTo>
                <a:lnTo>
                  <a:pt x="8432" y="8066"/>
                </a:lnTo>
                <a:lnTo>
                  <a:pt x="8516" y="7953"/>
                </a:lnTo>
                <a:lnTo>
                  <a:pt x="8573" y="7869"/>
                </a:lnTo>
                <a:lnTo>
                  <a:pt x="8629" y="7700"/>
                </a:lnTo>
                <a:lnTo>
                  <a:pt x="8657" y="7588"/>
                </a:lnTo>
                <a:lnTo>
                  <a:pt x="8685" y="7475"/>
                </a:lnTo>
                <a:lnTo>
                  <a:pt x="8741" y="7194"/>
                </a:lnTo>
                <a:lnTo>
                  <a:pt x="8741" y="7081"/>
                </a:lnTo>
                <a:lnTo>
                  <a:pt x="8769" y="6913"/>
                </a:lnTo>
                <a:lnTo>
                  <a:pt x="8826" y="6688"/>
                </a:lnTo>
                <a:lnTo>
                  <a:pt x="8910" y="6575"/>
                </a:lnTo>
                <a:lnTo>
                  <a:pt x="8966" y="6351"/>
                </a:lnTo>
                <a:lnTo>
                  <a:pt x="9022" y="6238"/>
                </a:lnTo>
                <a:lnTo>
                  <a:pt x="9107" y="6126"/>
                </a:lnTo>
                <a:lnTo>
                  <a:pt x="9135" y="6042"/>
                </a:lnTo>
                <a:lnTo>
                  <a:pt x="9219" y="5929"/>
                </a:lnTo>
                <a:lnTo>
                  <a:pt x="9247" y="5845"/>
                </a:lnTo>
                <a:lnTo>
                  <a:pt x="9275" y="5761"/>
                </a:lnTo>
                <a:lnTo>
                  <a:pt x="9331" y="5480"/>
                </a:lnTo>
                <a:lnTo>
                  <a:pt x="9360" y="5395"/>
                </a:lnTo>
                <a:lnTo>
                  <a:pt x="9388" y="5114"/>
                </a:lnTo>
                <a:lnTo>
                  <a:pt x="9416" y="5002"/>
                </a:lnTo>
                <a:lnTo>
                  <a:pt x="9444" y="4889"/>
                </a:lnTo>
                <a:lnTo>
                  <a:pt x="9472" y="4805"/>
                </a:lnTo>
                <a:lnTo>
                  <a:pt x="9472" y="4721"/>
                </a:lnTo>
                <a:lnTo>
                  <a:pt x="9500" y="4637"/>
                </a:lnTo>
                <a:lnTo>
                  <a:pt x="9500" y="4468"/>
                </a:lnTo>
                <a:lnTo>
                  <a:pt x="9500" y="4356"/>
                </a:lnTo>
                <a:lnTo>
                  <a:pt x="9500" y="4243"/>
                </a:lnTo>
                <a:lnTo>
                  <a:pt x="9472" y="4047"/>
                </a:lnTo>
                <a:lnTo>
                  <a:pt x="9416" y="3822"/>
                </a:lnTo>
                <a:lnTo>
                  <a:pt x="9416" y="3737"/>
                </a:lnTo>
                <a:lnTo>
                  <a:pt x="9360" y="3653"/>
                </a:lnTo>
                <a:lnTo>
                  <a:pt x="9303" y="3569"/>
                </a:lnTo>
                <a:lnTo>
                  <a:pt x="9275" y="3485"/>
                </a:lnTo>
                <a:lnTo>
                  <a:pt x="9219" y="3400"/>
                </a:lnTo>
                <a:lnTo>
                  <a:pt x="9191" y="3316"/>
                </a:lnTo>
                <a:lnTo>
                  <a:pt x="9135" y="3232"/>
                </a:lnTo>
                <a:lnTo>
                  <a:pt x="9079" y="3147"/>
                </a:lnTo>
                <a:lnTo>
                  <a:pt x="9022" y="3063"/>
                </a:lnTo>
                <a:lnTo>
                  <a:pt x="8938" y="2838"/>
                </a:lnTo>
                <a:lnTo>
                  <a:pt x="8882" y="2754"/>
                </a:lnTo>
                <a:lnTo>
                  <a:pt x="8826" y="2585"/>
                </a:lnTo>
                <a:lnTo>
                  <a:pt x="8741" y="2501"/>
                </a:lnTo>
                <a:lnTo>
                  <a:pt x="8657" y="2473"/>
                </a:lnTo>
                <a:lnTo>
                  <a:pt x="8629" y="2388"/>
                </a:lnTo>
                <a:lnTo>
                  <a:pt x="8545" y="2332"/>
                </a:lnTo>
                <a:lnTo>
                  <a:pt x="8488" y="2135"/>
                </a:lnTo>
                <a:lnTo>
                  <a:pt x="8460" y="2051"/>
                </a:lnTo>
                <a:lnTo>
                  <a:pt x="8404" y="1882"/>
                </a:lnTo>
                <a:lnTo>
                  <a:pt x="8376" y="1798"/>
                </a:lnTo>
                <a:lnTo>
                  <a:pt x="8348" y="1685"/>
                </a:lnTo>
                <a:lnTo>
                  <a:pt x="8320" y="1601"/>
                </a:lnTo>
                <a:lnTo>
                  <a:pt x="8282" y="1461"/>
                </a:lnTo>
                <a:lnTo>
                  <a:pt x="8179" y="1376"/>
                </a:lnTo>
                <a:lnTo>
                  <a:pt x="8039" y="1226"/>
                </a:lnTo>
                <a:lnTo>
                  <a:pt x="7954" y="1142"/>
                </a:lnTo>
                <a:lnTo>
                  <a:pt x="7898" y="1067"/>
                </a:lnTo>
                <a:lnTo>
                  <a:pt x="7786" y="1039"/>
                </a:lnTo>
                <a:lnTo>
                  <a:pt x="7758" y="955"/>
                </a:lnTo>
                <a:lnTo>
                  <a:pt x="7645" y="899"/>
                </a:lnTo>
                <a:lnTo>
                  <a:pt x="7392" y="842"/>
                </a:lnTo>
                <a:lnTo>
                  <a:pt x="7280" y="786"/>
                </a:lnTo>
                <a:lnTo>
                  <a:pt x="7196" y="758"/>
                </a:lnTo>
                <a:lnTo>
                  <a:pt x="7110" y="702"/>
                </a:lnTo>
                <a:lnTo>
                  <a:pt x="6914" y="674"/>
                </a:lnTo>
                <a:lnTo>
                  <a:pt x="6801" y="646"/>
                </a:lnTo>
                <a:lnTo>
                  <a:pt x="6605" y="590"/>
                </a:lnTo>
                <a:lnTo>
                  <a:pt x="6520" y="533"/>
                </a:lnTo>
                <a:lnTo>
                  <a:pt x="6408" y="477"/>
                </a:lnTo>
                <a:lnTo>
                  <a:pt x="6323" y="449"/>
                </a:lnTo>
                <a:lnTo>
                  <a:pt x="6155" y="421"/>
                </a:lnTo>
                <a:lnTo>
                  <a:pt x="6042" y="365"/>
                </a:lnTo>
                <a:lnTo>
                  <a:pt x="5958" y="280"/>
                </a:lnTo>
                <a:lnTo>
                  <a:pt x="5874" y="224"/>
                </a:lnTo>
                <a:lnTo>
                  <a:pt x="5790" y="196"/>
                </a:lnTo>
                <a:lnTo>
                  <a:pt x="5705" y="140"/>
                </a:lnTo>
                <a:lnTo>
                  <a:pt x="5593" y="112"/>
                </a:lnTo>
                <a:lnTo>
                  <a:pt x="5480" y="112"/>
                </a:lnTo>
                <a:lnTo>
                  <a:pt x="5256" y="84"/>
                </a:lnTo>
                <a:lnTo>
                  <a:pt x="5171" y="84"/>
                </a:lnTo>
                <a:lnTo>
                  <a:pt x="5087" y="56"/>
                </a:lnTo>
                <a:lnTo>
                  <a:pt x="5003" y="28"/>
                </a:lnTo>
                <a:lnTo>
                  <a:pt x="4918" y="0"/>
                </a:lnTo>
                <a:lnTo>
                  <a:pt x="4806" y="0"/>
                </a:lnTo>
                <a:lnTo>
                  <a:pt x="4637" y="28"/>
                </a:lnTo>
                <a:lnTo>
                  <a:pt x="4553" y="84"/>
                </a:lnTo>
                <a:lnTo>
                  <a:pt x="4637" y="84"/>
                </a:lnTo>
                <a:lnTo>
                  <a:pt x="4722" y="28"/>
                </a:lnTo>
                <a:close/>
              </a:path>
            </a:pathLst>
          </a:custGeom>
          <a:blipFill rotWithShape="0">
            <a:blip r:embed="rId1"/>
            <a:tile tx="0" ty="0" sx="133018" sy="133018" algn="ctr"/>
          </a:blipFill>
          <a:ln w="25560">
            <a:solidFill>
              <a:srgbClr val="fafd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1322280" y="2092320"/>
            <a:ext cx="3133800" cy="3133800"/>
          </a:xfrm>
          <a:prstGeom prst="ellipse">
            <a:avLst/>
          </a:prstGeom>
          <a:noFill/>
          <a:ln w="12600">
            <a:solidFill>
              <a:srgbClr val="fc0128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066680" y="1822320"/>
            <a:ext cx="3639960" cy="3639960"/>
          </a:xfrm>
          <a:prstGeom prst="ellipse">
            <a:avLst/>
          </a:prstGeom>
          <a:noFill/>
          <a:ln w="12600">
            <a:solidFill>
              <a:srgbClr val="fc0128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308240" y="2077920"/>
            <a:ext cx="3162240" cy="3162240"/>
          </a:xfrm>
          <a:prstGeom prst="ellipse">
            <a:avLst/>
          </a:prstGeom>
          <a:noFill/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7" name=""/>
          <p:cNvGrpSpPr/>
          <p:nvPr/>
        </p:nvGrpSpPr>
        <p:grpSpPr>
          <a:xfrm>
            <a:off x="2876400" y="895320"/>
            <a:ext cx="0" cy="5479920"/>
            <a:chOff x="2876400" y="895320"/>
            <a:chExt cx="0" cy="5479920"/>
          </a:xfrm>
        </p:grpSpPr>
        <p:sp>
          <p:nvSpPr>
            <p:cNvPr id="1318" name=""/>
            <p:cNvSpPr/>
            <p:nvPr/>
          </p:nvSpPr>
          <p:spPr>
            <a:xfrm flipV="1">
              <a:off x="2876400" y="3990960"/>
              <a:ext cx="0" cy="2384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V="1">
              <a:off x="2876400" y="3517920"/>
              <a:ext cx="0" cy="235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V="1">
              <a:off x="2876400" y="895320"/>
              <a:ext cx="0" cy="2451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1" name=""/>
          <p:cNvGrpSpPr/>
          <p:nvPr/>
        </p:nvGrpSpPr>
        <p:grpSpPr>
          <a:xfrm>
            <a:off x="136440" y="3635280"/>
            <a:ext cx="5480280" cy="0"/>
            <a:chOff x="136440" y="3635280"/>
            <a:chExt cx="5480280" cy="0"/>
          </a:xfrm>
        </p:grpSpPr>
        <p:sp>
          <p:nvSpPr>
            <p:cNvPr id="1322" name=""/>
            <p:cNvSpPr/>
            <p:nvPr/>
          </p:nvSpPr>
          <p:spPr>
            <a:xfrm>
              <a:off x="136440" y="3635280"/>
              <a:ext cx="2384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759040" y="3635280"/>
              <a:ext cx="235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165480" y="3635280"/>
              <a:ext cx="2451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"/>
          <p:cNvGrpSpPr/>
          <p:nvPr/>
        </p:nvGrpSpPr>
        <p:grpSpPr>
          <a:xfrm>
            <a:off x="6692760" y="4253040"/>
            <a:ext cx="1311120" cy="396720"/>
            <a:chOff x="6692760" y="4253040"/>
            <a:chExt cx="1311120" cy="396720"/>
          </a:xfrm>
        </p:grpSpPr>
        <p:sp>
          <p:nvSpPr>
            <p:cNvPr id="1326" name=""/>
            <p:cNvSpPr/>
            <p:nvPr/>
          </p:nvSpPr>
          <p:spPr>
            <a:xfrm>
              <a:off x="6692760" y="4259160"/>
              <a:ext cx="1311120" cy="38736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829560" y="4314960"/>
              <a:ext cx="266760" cy="266760"/>
            </a:xfrm>
            <a:prstGeom prst="ellipse">
              <a:avLst/>
            </a:prstGeom>
            <a:noFill/>
            <a:ln w="12600">
              <a:solidFill>
                <a:srgbClr val="00dfc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240680" y="4275000"/>
              <a:ext cx="0" cy="371520"/>
            </a:xfrm>
            <a:prstGeom prst="line">
              <a:avLst/>
            </a:prstGeom>
            <a:ln w="12600">
              <a:solidFill>
                <a:srgbClr val="00df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 txBox="1"/>
            <p:nvPr/>
          </p:nvSpPr>
          <p:spPr>
            <a:xfrm>
              <a:off x="7418520" y="4253040"/>
              <a:ext cx="5364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dfca"/>
                  </a:solidFill>
                  <a:latin typeface="Arial"/>
                  <a:ea typeface="Arial"/>
                </a:rPr>
                <a:t>0.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0" name=""/>
          <p:cNvSpPr txBox="1"/>
          <p:nvPr/>
        </p:nvSpPr>
        <p:spPr>
          <a:xfrm>
            <a:off x="5327640" y="1000080"/>
            <a:ext cx="368928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hite: 10.0 - 10.8 Diameter Size Lim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Red: 0.2 Radial Tolerance (Concentric Circ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Yellow: Possible form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 txBox="1"/>
          <p:nvPr/>
        </p:nvSpPr>
        <p:spPr>
          <a:xfrm>
            <a:off x="5970600" y="4878360"/>
            <a:ext cx="306396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circularity tole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rols the feature for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ut the form control mu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e within the overall siz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m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DIRECT CIRCULARITY CONTR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 txBox="1"/>
          <p:nvPr/>
        </p:nvSpPr>
        <p:spPr>
          <a:xfrm>
            <a:off x="1357200" y="3500280"/>
            <a:ext cx="6696000" cy="17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ylind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 txBox="1"/>
          <p:nvPr/>
        </p:nvSpPr>
        <p:spPr>
          <a:xfrm>
            <a:off x="789120" y="2109960"/>
            <a:ext cx="5664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ometric controls that can indirect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fect circularit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"/>
          <p:cNvSpPr txBox="1"/>
          <p:nvPr/>
        </p:nvSpPr>
        <p:spPr>
          <a:xfrm>
            <a:off x="669960" y="26575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ULARITY OF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374760" y="2320920"/>
            <a:ext cx="8427960" cy="2136600"/>
          </a:xfrm>
          <a:prstGeom prst="roundRect">
            <a:avLst/>
          </a:prstGeom>
          <a:noFill/>
          <a:ln w="38160">
            <a:solidFill>
              <a:srgbClr val="fffff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"/>
          <p:cNvSpPr txBox="1"/>
          <p:nvPr/>
        </p:nvSpPr>
        <p:spPr>
          <a:xfrm>
            <a:off x="679320" y="6192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279360" y="1606680"/>
            <a:ext cx="83692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 For circularity control, the geometric tolerance may b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ed to either a feature or feature of size.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e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8572680" y="2084400"/>
            <a:ext cx="150840" cy="1508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7316640" y="2082960"/>
            <a:ext cx="150840" cy="1508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1" name=""/>
          <p:cNvGrpSpPr/>
          <p:nvPr/>
        </p:nvGrpSpPr>
        <p:grpSpPr>
          <a:xfrm>
            <a:off x="2708280" y="743040"/>
            <a:ext cx="3684600" cy="517680"/>
            <a:chOff x="2708280" y="743040"/>
            <a:chExt cx="3684600" cy="517680"/>
          </a:xfrm>
        </p:grpSpPr>
        <p:sp>
          <p:nvSpPr>
            <p:cNvPr id="1342" name=""/>
            <p:cNvSpPr/>
            <p:nvPr/>
          </p:nvSpPr>
          <p:spPr>
            <a:xfrm>
              <a:off x="2708280" y="762120"/>
              <a:ext cx="3684600" cy="4986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 txBox="1"/>
            <p:nvPr/>
          </p:nvSpPr>
          <p:spPr>
            <a:xfrm>
              <a:off x="3776760" y="743040"/>
              <a:ext cx="1504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Times New Roman"/>
                </a:rPr>
                <a:t>Circular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"/>
          <p:cNvSpPr txBox="1"/>
          <p:nvPr/>
        </p:nvSpPr>
        <p:spPr>
          <a:xfrm>
            <a:off x="679320" y="6192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 txBox="1"/>
          <p:nvPr/>
        </p:nvSpPr>
        <p:spPr>
          <a:xfrm>
            <a:off x="279360" y="1606680"/>
            <a:ext cx="8369280" cy="24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1.  For circularity control, the geometric tolerance may b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applied to either a feature or feature of size.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True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Circularity control refers to its own perfect geometr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unterpart; always applied to a diametral feature.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e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7316640" y="3076560"/>
            <a:ext cx="150840" cy="1508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8572680" y="3075120"/>
            <a:ext cx="150840" cy="1508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8572680" y="2084400"/>
            <a:ext cx="150840" cy="15084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7316640" y="2082960"/>
            <a:ext cx="150840" cy="15084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2708280" y="743040"/>
            <a:ext cx="3684600" cy="517680"/>
            <a:chOff x="2708280" y="743040"/>
            <a:chExt cx="3684600" cy="517680"/>
          </a:xfrm>
        </p:grpSpPr>
        <p:sp>
          <p:nvSpPr>
            <p:cNvPr id="1351" name=""/>
            <p:cNvSpPr/>
            <p:nvPr/>
          </p:nvSpPr>
          <p:spPr>
            <a:xfrm>
              <a:off x="2708280" y="762120"/>
              <a:ext cx="3684600" cy="4986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 txBox="1"/>
            <p:nvPr/>
          </p:nvSpPr>
          <p:spPr>
            <a:xfrm>
              <a:off x="3776760" y="743040"/>
              <a:ext cx="1504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Times New Roman"/>
                </a:rPr>
                <a:t>Circular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662040" y="35712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OMETRIC TOLER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1371600" y="5362560"/>
            <a:ext cx="640080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ULAR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3816360" y="2728800"/>
            <a:ext cx="1641960" cy="1045080"/>
            <a:chOff x="3816360" y="2728800"/>
            <a:chExt cx="1641960" cy="1045080"/>
          </a:xfrm>
        </p:grpSpPr>
        <p:grpSp>
          <p:nvGrpSpPr>
            <p:cNvPr id="595" name=""/>
            <p:cNvGrpSpPr/>
            <p:nvPr/>
          </p:nvGrpSpPr>
          <p:grpSpPr>
            <a:xfrm>
              <a:off x="3816360" y="2728800"/>
              <a:ext cx="1641960" cy="1045080"/>
              <a:chOff x="3816360" y="2728800"/>
              <a:chExt cx="1641960" cy="1045080"/>
            </a:xfrm>
          </p:grpSpPr>
          <p:sp>
            <p:nvSpPr>
              <p:cNvPr id="596" name=""/>
              <p:cNvSpPr/>
              <p:nvPr/>
            </p:nvSpPr>
            <p:spPr>
              <a:xfrm>
                <a:off x="3816360" y="2728800"/>
                <a:ext cx="1641960" cy="1045080"/>
              </a:xfrm>
              <a:custGeom>
                <a:avLst/>
                <a:gdLst/>
                <a:ahLst/>
                <a:rect l="0" t="0" r="r" b="b"/>
                <a:pathLst>
                  <a:path w="4561" h="2903">
                    <a:moveTo>
                      <a:pt x="789" y="141"/>
                    </a:moveTo>
                    <a:lnTo>
                      <a:pt x="476" y="295"/>
                    </a:lnTo>
                    <a:lnTo>
                      <a:pt x="348" y="445"/>
                    </a:lnTo>
                    <a:lnTo>
                      <a:pt x="220" y="674"/>
                    </a:lnTo>
                    <a:lnTo>
                      <a:pt x="114" y="940"/>
                    </a:lnTo>
                    <a:lnTo>
                      <a:pt x="79" y="1169"/>
                    </a:lnTo>
                    <a:lnTo>
                      <a:pt x="0" y="1500"/>
                    </a:lnTo>
                    <a:lnTo>
                      <a:pt x="22" y="1764"/>
                    </a:lnTo>
                    <a:lnTo>
                      <a:pt x="79" y="2069"/>
                    </a:lnTo>
                    <a:lnTo>
                      <a:pt x="154" y="2268"/>
                    </a:lnTo>
                    <a:lnTo>
                      <a:pt x="229" y="2370"/>
                    </a:lnTo>
                    <a:lnTo>
                      <a:pt x="361" y="2484"/>
                    </a:lnTo>
                    <a:lnTo>
                      <a:pt x="476" y="2515"/>
                    </a:lnTo>
                    <a:lnTo>
                      <a:pt x="577" y="2515"/>
                    </a:lnTo>
                    <a:lnTo>
                      <a:pt x="727" y="2484"/>
                    </a:lnTo>
                    <a:lnTo>
                      <a:pt x="776" y="2400"/>
                    </a:lnTo>
                    <a:lnTo>
                      <a:pt x="881" y="2321"/>
                    </a:lnTo>
                    <a:lnTo>
                      <a:pt x="939" y="2144"/>
                    </a:lnTo>
                    <a:lnTo>
                      <a:pt x="956" y="2277"/>
                    </a:lnTo>
                    <a:lnTo>
                      <a:pt x="1098" y="2418"/>
                    </a:lnTo>
                    <a:lnTo>
                      <a:pt x="1306" y="2647"/>
                    </a:lnTo>
                    <a:lnTo>
                      <a:pt x="1495" y="2819"/>
                    </a:lnTo>
                    <a:lnTo>
                      <a:pt x="2016" y="2903"/>
                    </a:lnTo>
                    <a:lnTo>
                      <a:pt x="2951" y="2802"/>
                    </a:lnTo>
                    <a:lnTo>
                      <a:pt x="3087" y="2727"/>
                    </a:lnTo>
                    <a:lnTo>
                      <a:pt x="3273" y="2612"/>
                    </a:lnTo>
                    <a:lnTo>
                      <a:pt x="3387" y="2497"/>
                    </a:lnTo>
                    <a:lnTo>
                      <a:pt x="3463" y="2347"/>
                    </a:lnTo>
                    <a:lnTo>
                      <a:pt x="3578" y="2100"/>
                    </a:lnTo>
                    <a:lnTo>
                      <a:pt x="3591" y="1800"/>
                    </a:lnTo>
                    <a:lnTo>
                      <a:pt x="3512" y="1434"/>
                    </a:lnTo>
                    <a:lnTo>
                      <a:pt x="3692" y="1980"/>
                    </a:lnTo>
                    <a:lnTo>
                      <a:pt x="3807" y="2220"/>
                    </a:lnTo>
                    <a:lnTo>
                      <a:pt x="4041" y="2361"/>
                    </a:lnTo>
                    <a:lnTo>
                      <a:pt x="4230" y="2361"/>
                    </a:lnTo>
                    <a:lnTo>
                      <a:pt x="4345" y="2321"/>
                    </a:lnTo>
                    <a:lnTo>
                      <a:pt x="4495" y="2303"/>
                    </a:lnTo>
                    <a:lnTo>
                      <a:pt x="4561" y="2126"/>
                    </a:lnTo>
                    <a:lnTo>
                      <a:pt x="4513" y="1659"/>
                    </a:lnTo>
                    <a:lnTo>
                      <a:pt x="4323" y="1451"/>
                    </a:lnTo>
                    <a:lnTo>
                      <a:pt x="4050" y="1301"/>
                    </a:lnTo>
                    <a:lnTo>
                      <a:pt x="3878" y="1112"/>
                    </a:lnTo>
                    <a:lnTo>
                      <a:pt x="3692" y="790"/>
                    </a:lnTo>
                    <a:lnTo>
                      <a:pt x="3503" y="449"/>
                    </a:lnTo>
                    <a:lnTo>
                      <a:pt x="3352" y="295"/>
                    </a:lnTo>
                    <a:lnTo>
                      <a:pt x="3273" y="238"/>
                    </a:lnTo>
                    <a:lnTo>
                      <a:pt x="3140" y="180"/>
                    </a:lnTo>
                    <a:lnTo>
                      <a:pt x="2973" y="123"/>
                    </a:lnTo>
                    <a:lnTo>
                      <a:pt x="2757" y="48"/>
                    </a:lnTo>
                    <a:lnTo>
                      <a:pt x="2294" y="0"/>
                    </a:lnTo>
                    <a:lnTo>
                      <a:pt x="1751" y="8"/>
                    </a:lnTo>
                    <a:lnTo>
                      <a:pt x="1128" y="17"/>
                    </a:lnTo>
                    <a:lnTo>
                      <a:pt x="789" y="141"/>
                    </a:lnTo>
                    <a:close/>
                  </a:path>
                </a:pathLst>
              </a:custGeom>
              <a:solidFill>
                <a:srgbClr val="ffe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7" name=""/>
              <p:cNvGrpSpPr/>
              <p:nvPr/>
            </p:nvGrpSpPr>
            <p:grpSpPr>
              <a:xfrm>
                <a:off x="3868560" y="3340080"/>
                <a:ext cx="194040" cy="27000"/>
                <a:chOff x="3868560" y="3340080"/>
                <a:chExt cx="194040" cy="2700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3868560" y="3340080"/>
                  <a:ext cx="194040" cy="12960"/>
                </a:xfrm>
                <a:custGeom>
                  <a:avLst/>
                  <a:gdLst/>
                  <a:ahLst/>
                  <a:rect l="0" t="0" r="r" b="b"/>
                  <a:pathLst>
                    <a:path fill="none" w="539" h="36">
                      <a:moveTo>
                        <a:pt x="0" y="4"/>
                      </a:moveTo>
                      <a:lnTo>
                        <a:pt x="132" y="0"/>
                      </a:lnTo>
                      <a:lnTo>
                        <a:pt x="296" y="4"/>
                      </a:lnTo>
                      <a:lnTo>
                        <a:pt x="465" y="17"/>
                      </a:lnTo>
                      <a:lnTo>
                        <a:pt x="539" y="36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flipV="1">
                  <a:off x="3900600" y="3341520"/>
                  <a:ext cx="73080" cy="25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0" name=""/>
              <p:cNvSpPr/>
              <p:nvPr/>
            </p:nvSpPr>
            <p:spPr>
              <a:xfrm>
                <a:off x="4749840" y="3544920"/>
                <a:ext cx="35280" cy="41760"/>
              </a:xfrm>
              <a:custGeom>
                <a:avLst/>
                <a:gdLst/>
                <a:ahLst/>
                <a:rect l="0" t="0" r="r" b="b"/>
                <a:pathLst>
                  <a:path w="98" h="116">
                    <a:moveTo>
                      <a:pt x="89" y="40"/>
                    </a:moveTo>
                    <a:lnTo>
                      <a:pt x="71" y="4"/>
                    </a:lnTo>
                    <a:lnTo>
                      <a:pt x="44" y="0"/>
                    </a:lnTo>
                    <a:lnTo>
                      <a:pt x="13" y="4"/>
                    </a:lnTo>
                    <a:lnTo>
                      <a:pt x="0" y="40"/>
                    </a:lnTo>
                    <a:lnTo>
                      <a:pt x="8" y="80"/>
                    </a:lnTo>
                    <a:lnTo>
                      <a:pt x="30" y="107"/>
                    </a:lnTo>
                    <a:lnTo>
                      <a:pt x="53" y="116"/>
                    </a:lnTo>
                    <a:lnTo>
                      <a:pt x="75" y="112"/>
                    </a:lnTo>
                    <a:lnTo>
                      <a:pt x="98" y="84"/>
                    </a:lnTo>
                    <a:lnTo>
                      <a:pt x="89" y="40"/>
                    </a:lnTo>
                    <a:close/>
                  </a:path>
                </a:pathLst>
              </a:custGeom>
              <a:solidFill>
                <a:srgbClr val="ffc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1" name=""/>
            <p:cNvSpPr/>
            <p:nvPr/>
          </p:nvSpPr>
          <p:spPr>
            <a:xfrm>
              <a:off x="4148280" y="3121200"/>
              <a:ext cx="9720" cy="144720"/>
            </a:xfrm>
            <a:custGeom>
              <a:avLst/>
              <a:gdLst/>
              <a:ahLst/>
              <a:rect l="0" t="0" r="r" b="b"/>
              <a:pathLst>
                <a:path fill="none" w="27" h="402">
                  <a:moveTo>
                    <a:pt x="0" y="0"/>
                  </a:moveTo>
                  <a:lnTo>
                    <a:pt x="27" y="185"/>
                  </a:lnTo>
                  <a:lnTo>
                    <a:pt x="27" y="322"/>
                  </a:lnTo>
                  <a:lnTo>
                    <a:pt x="0" y="40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3811680" y="2077920"/>
            <a:ext cx="1241640" cy="1060920"/>
            <a:chOff x="3811680" y="2077920"/>
            <a:chExt cx="1241640" cy="1060920"/>
          </a:xfrm>
        </p:grpSpPr>
        <p:sp>
          <p:nvSpPr>
            <p:cNvPr id="603" name=""/>
            <p:cNvSpPr/>
            <p:nvPr/>
          </p:nvSpPr>
          <p:spPr>
            <a:xfrm>
              <a:off x="3811680" y="2077920"/>
              <a:ext cx="1241640" cy="1060920"/>
            </a:xfrm>
            <a:custGeom>
              <a:avLst/>
              <a:gdLst/>
              <a:ahLst/>
              <a:rect l="0" t="0" r="r" b="b"/>
              <a:pathLst>
                <a:path w="3449" h="2947">
                  <a:moveTo>
                    <a:pt x="1525" y="361"/>
                  </a:moveTo>
                  <a:lnTo>
                    <a:pt x="1406" y="255"/>
                  </a:lnTo>
                  <a:lnTo>
                    <a:pt x="1300" y="198"/>
                  </a:lnTo>
                  <a:lnTo>
                    <a:pt x="1159" y="163"/>
                  </a:lnTo>
                  <a:lnTo>
                    <a:pt x="1045" y="163"/>
                  </a:lnTo>
                  <a:lnTo>
                    <a:pt x="912" y="171"/>
                  </a:lnTo>
                  <a:lnTo>
                    <a:pt x="846" y="198"/>
                  </a:lnTo>
                  <a:lnTo>
                    <a:pt x="1045" y="229"/>
                  </a:lnTo>
                  <a:lnTo>
                    <a:pt x="1177" y="255"/>
                  </a:lnTo>
                  <a:lnTo>
                    <a:pt x="1318" y="379"/>
                  </a:lnTo>
                  <a:lnTo>
                    <a:pt x="1036" y="264"/>
                  </a:lnTo>
                  <a:lnTo>
                    <a:pt x="855" y="238"/>
                  </a:lnTo>
                  <a:lnTo>
                    <a:pt x="754" y="229"/>
                  </a:lnTo>
                  <a:lnTo>
                    <a:pt x="630" y="229"/>
                  </a:lnTo>
                  <a:lnTo>
                    <a:pt x="515" y="246"/>
                  </a:lnTo>
                  <a:lnTo>
                    <a:pt x="440" y="277"/>
                  </a:lnTo>
                  <a:lnTo>
                    <a:pt x="361" y="330"/>
                  </a:lnTo>
                  <a:lnTo>
                    <a:pt x="299" y="436"/>
                  </a:lnTo>
                  <a:lnTo>
                    <a:pt x="260" y="604"/>
                  </a:lnTo>
                  <a:lnTo>
                    <a:pt x="388" y="485"/>
                  </a:lnTo>
                  <a:lnTo>
                    <a:pt x="471" y="427"/>
                  </a:lnTo>
                  <a:lnTo>
                    <a:pt x="533" y="388"/>
                  </a:lnTo>
                  <a:lnTo>
                    <a:pt x="617" y="370"/>
                  </a:lnTo>
                  <a:lnTo>
                    <a:pt x="687" y="379"/>
                  </a:lnTo>
                  <a:lnTo>
                    <a:pt x="723" y="379"/>
                  </a:lnTo>
                  <a:lnTo>
                    <a:pt x="577" y="480"/>
                  </a:lnTo>
                  <a:lnTo>
                    <a:pt x="445" y="564"/>
                  </a:lnTo>
                  <a:lnTo>
                    <a:pt x="299" y="705"/>
                  </a:lnTo>
                  <a:lnTo>
                    <a:pt x="180" y="852"/>
                  </a:lnTo>
                  <a:lnTo>
                    <a:pt x="101" y="979"/>
                  </a:lnTo>
                  <a:lnTo>
                    <a:pt x="0" y="1178"/>
                  </a:lnTo>
                  <a:lnTo>
                    <a:pt x="149" y="1054"/>
                  </a:lnTo>
                  <a:lnTo>
                    <a:pt x="216" y="1024"/>
                  </a:lnTo>
                  <a:lnTo>
                    <a:pt x="299" y="1006"/>
                  </a:lnTo>
                  <a:lnTo>
                    <a:pt x="352" y="1010"/>
                  </a:lnTo>
                  <a:lnTo>
                    <a:pt x="410" y="1046"/>
                  </a:lnTo>
                  <a:lnTo>
                    <a:pt x="339" y="1099"/>
                  </a:lnTo>
                  <a:lnTo>
                    <a:pt x="277" y="1169"/>
                  </a:lnTo>
                  <a:lnTo>
                    <a:pt x="207" y="1248"/>
                  </a:lnTo>
                  <a:lnTo>
                    <a:pt x="145" y="1328"/>
                  </a:lnTo>
                  <a:lnTo>
                    <a:pt x="83" y="1451"/>
                  </a:lnTo>
                  <a:lnTo>
                    <a:pt x="246" y="1363"/>
                  </a:lnTo>
                  <a:lnTo>
                    <a:pt x="335" y="1328"/>
                  </a:lnTo>
                  <a:lnTo>
                    <a:pt x="427" y="1328"/>
                  </a:lnTo>
                  <a:lnTo>
                    <a:pt x="357" y="1398"/>
                  </a:lnTo>
                  <a:lnTo>
                    <a:pt x="291" y="1517"/>
                  </a:lnTo>
                  <a:lnTo>
                    <a:pt x="224" y="1641"/>
                  </a:lnTo>
                  <a:lnTo>
                    <a:pt x="158" y="1914"/>
                  </a:lnTo>
                  <a:lnTo>
                    <a:pt x="260" y="1773"/>
                  </a:lnTo>
                  <a:lnTo>
                    <a:pt x="361" y="1659"/>
                  </a:lnTo>
                  <a:lnTo>
                    <a:pt x="489" y="1592"/>
                  </a:lnTo>
                  <a:lnTo>
                    <a:pt x="542" y="1592"/>
                  </a:lnTo>
                  <a:lnTo>
                    <a:pt x="489" y="1734"/>
                  </a:lnTo>
                  <a:lnTo>
                    <a:pt x="476" y="1910"/>
                  </a:lnTo>
                  <a:lnTo>
                    <a:pt x="489" y="2020"/>
                  </a:lnTo>
                  <a:lnTo>
                    <a:pt x="555" y="2179"/>
                  </a:lnTo>
                  <a:lnTo>
                    <a:pt x="665" y="2343"/>
                  </a:lnTo>
                  <a:lnTo>
                    <a:pt x="665" y="2144"/>
                  </a:lnTo>
                  <a:lnTo>
                    <a:pt x="723" y="2011"/>
                  </a:lnTo>
                  <a:lnTo>
                    <a:pt x="789" y="1963"/>
                  </a:lnTo>
                  <a:lnTo>
                    <a:pt x="767" y="2170"/>
                  </a:lnTo>
                  <a:lnTo>
                    <a:pt x="767" y="2325"/>
                  </a:lnTo>
                  <a:lnTo>
                    <a:pt x="767" y="2444"/>
                  </a:lnTo>
                  <a:lnTo>
                    <a:pt x="789" y="2572"/>
                  </a:lnTo>
                  <a:lnTo>
                    <a:pt x="903" y="2722"/>
                  </a:lnTo>
                  <a:lnTo>
                    <a:pt x="1036" y="2846"/>
                  </a:lnTo>
                  <a:lnTo>
                    <a:pt x="1058" y="2665"/>
                  </a:lnTo>
                  <a:lnTo>
                    <a:pt x="1058" y="2458"/>
                  </a:lnTo>
                  <a:lnTo>
                    <a:pt x="1168" y="2837"/>
                  </a:lnTo>
                  <a:lnTo>
                    <a:pt x="1243" y="2938"/>
                  </a:lnTo>
                  <a:lnTo>
                    <a:pt x="1318" y="2674"/>
                  </a:lnTo>
                  <a:lnTo>
                    <a:pt x="1433" y="2912"/>
                  </a:lnTo>
                  <a:lnTo>
                    <a:pt x="1658" y="2656"/>
                  </a:lnTo>
                  <a:lnTo>
                    <a:pt x="1861" y="2890"/>
                  </a:lnTo>
                  <a:lnTo>
                    <a:pt x="1954" y="2705"/>
                  </a:lnTo>
                  <a:lnTo>
                    <a:pt x="2201" y="2921"/>
                  </a:lnTo>
                  <a:lnTo>
                    <a:pt x="2285" y="2639"/>
                  </a:lnTo>
                  <a:lnTo>
                    <a:pt x="2532" y="2947"/>
                  </a:lnTo>
                  <a:lnTo>
                    <a:pt x="2704" y="2647"/>
                  </a:lnTo>
                  <a:lnTo>
                    <a:pt x="2973" y="2846"/>
                  </a:lnTo>
                  <a:lnTo>
                    <a:pt x="2946" y="2590"/>
                  </a:lnTo>
                  <a:lnTo>
                    <a:pt x="3250" y="2705"/>
                  </a:lnTo>
                  <a:lnTo>
                    <a:pt x="3118" y="2361"/>
                  </a:lnTo>
                  <a:lnTo>
                    <a:pt x="3317" y="2506"/>
                  </a:lnTo>
                  <a:lnTo>
                    <a:pt x="3136" y="2104"/>
                  </a:lnTo>
                  <a:lnTo>
                    <a:pt x="3409" y="2361"/>
                  </a:lnTo>
                  <a:lnTo>
                    <a:pt x="3021" y="1831"/>
                  </a:lnTo>
                  <a:lnTo>
                    <a:pt x="3343" y="2047"/>
                  </a:lnTo>
                  <a:lnTo>
                    <a:pt x="3021" y="1689"/>
                  </a:lnTo>
                  <a:lnTo>
                    <a:pt x="3211" y="1751"/>
                  </a:lnTo>
                  <a:lnTo>
                    <a:pt x="3343" y="1839"/>
                  </a:lnTo>
                  <a:lnTo>
                    <a:pt x="3259" y="1676"/>
                  </a:lnTo>
                  <a:lnTo>
                    <a:pt x="3118" y="1531"/>
                  </a:lnTo>
                  <a:lnTo>
                    <a:pt x="3026" y="1438"/>
                  </a:lnTo>
                  <a:lnTo>
                    <a:pt x="2964" y="1363"/>
                  </a:lnTo>
                  <a:lnTo>
                    <a:pt x="3078" y="1412"/>
                  </a:lnTo>
                  <a:lnTo>
                    <a:pt x="3193" y="1517"/>
                  </a:lnTo>
                  <a:lnTo>
                    <a:pt x="3334" y="1650"/>
                  </a:lnTo>
                  <a:lnTo>
                    <a:pt x="3409" y="1716"/>
                  </a:lnTo>
                  <a:lnTo>
                    <a:pt x="3268" y="1491"/>
                  </a:lnTo>
                  <a:lnTo>
                    <a:pt x="3193" y="1345"/>
                  </a:lnTo>
                  <a:lnTo>
                    <a:pt x="3070" y="1271"/>
                  </a:lnTo>
                  <a:lnTo>
                    <a:pt x="2937" y="1196"/>
                  </a:lnTo>
                  <a:lnTo>
                    <a:pt x="3087" y="1204"/>
                  </a:lnTo>
                  <a:lnTo>
                    <a:pt x="3184" y="1253"/>
                  </a:lnTo>
                  <a:lnTo>
                    <a:pt x="3286" y="1345"/>
                  </a:lnTo>
                  <a:lnTo>
                    <a:pt x="3383" y="1412"/>
                  </a:lnTo>
                  <a:lnTo>
                    <a:pt x="3233" y="1129"/>
                  </a:lnTo>
                  <a:lnTo>
                    <a:pt x="3105" y="1015"/>
                  </a:lnTo>
                  <a:lnTo>
                    <a:pt x="3021" y="949"/>
                  </a:lnTo>
                  <a:lnTo>
                    <a:pt x="3184" y="984"/>
                  </a:lnTo>
                  <a:lnTo>
                    <a:pt x="3449" y="1112"/>
                  </a:lnTo>
                  <a:lnTo>
                    <a:pt x="3171" y="852"/>
                  </a:lnTo>
                  <a:lnTo>
                    <a:pt x="3061" y="777"/>
                  </a:lnTo>
                  <a:lnTo>
                    <a:pt x="2871" y="736"/>
                  </a:lnTo>
                  <a:lnTo>
                    <a:pt x="2792" y="727"/>
                  </a:lnTo>
                  <a:lnTo>
                    <a:pt x="2898" y="679"/>
                  </a:lnTo>
                  <a:lnTo>
                    <a:pt x="3087" y="718"/>
                  </a:lnTo>
                  <a:lnTo>
                    <a:pt x="3030" y="626"/>
                  </a:lnTo>
                  <a:lnTo>
                    <a:pt x="2880" y="586"/>
                  </a:lnTo>
                  <a:lnTo>
                    <a:pt x="2673" y="564"/>
                  </a:lnTo>
                  <a:lnTo>
                    <a:pt x="2554" y="564"/>
                  </a:lnTo>
                  <a:lnTo>
                    <a:pt x="2686" y="493"/>
                  </a:lnTo>
                  <a:lnTo>
                    <a:pt x="2505" y="463"/>
                  </a:lnTo>
                  <a:lnTo>
                    <a:pt x="2541" y="388"/>
                  </a:lnTo>
                  <a:lnTo>
                    <a:pt x="2792" y="388"/>
                  </a:lnTo>
                  <a:lnTo>
                    <a:pt x="3021" y="445"/>
                  </a:lnTo>
                  <a:lnTo>
                    <a:pt x="2871" y="321"/>
                  </a:lnTo>
                  <a:lnTo>
                    <a:pt x="2457" y="304"/>
                  </a:lnTo>
                  <a:lnTo>
                    <a:pt x="2342" y="343"/>
                  </a:lnTo>
                  <a:lnTo>
                    <a:pt x="2646" y="180"/>
                  </a:lnTo>
                  <a:lnTo>
                    <a:pt x="2792" y="132"/>
                  </a:lnTo>
                  <a:lnTo>
                    <a:pt x="2523" y="83"/>
                  </a:lnTo>
                  <a:lnTo>
                    <a:pt x="2258" y="163"/>
                  </a:lnTo>
                  <a:lnTo>
                    <a:pt x="2161" y="163"/>
                  </a:lnTo>
                  <a:lnTo>
                    <a:pt x="2285" y="0"/>
                  </a:lnTo>
                  <a:lnTo>
                    <a:pt x="2077" y="141"/>
                  </a:lnTo>
                  <a:lnTo>
                    <a:pt x="1972" y="114"/>
                  </a:lnTo>
                  <a:lnTo>
                    <a:pt x="1839" y="114"/>
                  </a:lnTo>
                  <a:lnTo>
                    <a:pt x="1729" y="163"/>
                  </a:lnTo>
                  <a:lnTo>
                    <a:pt x="1587" y="295"/>
                  </a:lnTo>
                  <a:lnTo>
                    <a:pt x="1547" y="48"/>
                  </a:lnTo>
                  <a:lnTo>
                    <a:pt x="1525" y="361"/>
                  </a:lnTo>
                  <a:close/>
                </a:path>
              </a:pathLst>
            </a:custGeom>
            <a:solidFill>
              <a:srgbClr val="804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3925800" y="2131920"/>
              <a:ext cx="1056240" cy="406800"/>
              <a:chOff x="3925800" y="2131920"/>
              <a:chExt cx="1056240" cy="406800"/>
            </a:xfrm>
          </p:grpSpPr>
          <p:sp>
            <p:nvSpPr>
              <p:cNvPr id="605" name=""/>
              <p:cNvSpPr/>
              <p:nvPr/>
            </p:nvSpPr>
            <p:spPr>
              <a:xfrm>
                <a:off x="3925800" y="2220840"/>
                <a:ext cx="433800" cy="187560"/>
              </a:xfrm>
              <a:custGeom>
                <a:avLst/>
                <a:gdLst/>
                <a:ahLst/>
                <a:rect l="0" t="0" r="r" b="b"/>
                <a:pathLst>
                  <a:path fill="none" w="1205" h="521">
                    <a:moveTo>
                      <a:pt x="1205" y="189"/>
                    </a:moveTo>
                    <a:lnTo>
                      <a:pt x="1139" y="92"/>
                    </a:lnTo>
                    <a:lnTo>
                      <a:pt x="1051" y="39"/>
                    </a:lnTo>
                    <a:lnTo>
                      <a:pt x="972" y="22"/>
                    </a:lnTo>
                    <a:lnTo>
                      <a:pt x="860" y="0"/>
                    </a:lnTo>
                    <a:lnTo>
                      <a:pt x="702" y="0"/>
                    </a:lnTo>
                    <a:lnTo>
                      <a:pt x="591" y="22"/>
                    </a:lnTo>
                    <a:lnTo>
                      <a:pt x="464" y="79"/>
                    </a:lnTo>
                    <a:lnTo>
                      <a:pt x="314" y="189"/>
                    </a:lnTo>
                    <a:lnTo>
                      <a:pt x="83" y="380"/>
                    </a:lnTo>
                    <a:lnTo>
                      <a:pt x="0" y="521"/>
                    </a:lnTo>
                  </a:path>
                </a:pathLst>
              </a:custGeom>
              <a:ln w="12600">
                <a:solidFill>
                  <a:srgbClr val="402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481640" y="2131920"/>
                <a:ext cx="279720" cy="130680"/>
              </a:xfrm>
              <a:custGeom>
                <a:avLst/>
                <a:gdLst/>
                <a:ahLst/>
                <a:rect l="0" t="0" r="r" b="b"/>
                <a:pathLst>
                  <a:path fill="none" w="777" h="363">
                    <a:moveTo>
                      <a:pt x="0" y="363"/>
                    </a:moveTo>
                    <a:lnTo>
                      <a:pt x="105" y="199"/>
                    </a:lnTo>
                    <a:lnTo>
                      <a:pt x="180" y="142"/>
                    </a:lnTo>
                    <a:lnTo>
                      <a:pt x="251" y="106"/>
                    </a:lnTo>
                    <a:lnTo>
                      <a:pt x="352" y="70"/>
                    </a:lnTo>
                    <a:lnTo>
                      <a:pt x="446" y="39"/>
                    </a:lnTo>
                    <a:lnTo>
                      <a:pt x="574" y="22"/>
                    </a:lnTo>
                    <a:lnTo>
                      <a:pt x="693" y="0"/>
                    </a:lnTo>
                    <a:lnTo>
                      <a:pt x="777" y="0"/>
                    </a:lnTo>
                  </a:path>
                </a:pathLst>
              </a:custGeom>
              <a:ln w="12600">
                <a:solidFill>
                  <a:srgbClr val="402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672080" y="2360520"/>
                <a:ext cx="309960" cy="62280"/>
              </a:xfrm>
              <a:custGeom>
                <a:avLst/>
                <a:gdLst/>
                <a:ahLst/>
                <a:rect l="0" t="0" r="r" b="b"/>
                <a:pathLst>
                  <a:path fill="none" w="861" h="173">
                    <a:moveTo>
                      <a:pt x="0" y="8"/>
                    </a:moveTo>
                    <a:lnTo>
                      <a:pt x="274" y="0"/>
                    </a:lnTo>
                    <a:lnTo>
                      <a:pt x="499" y="30"/>
                    </a:lnTo>
                    <a:lnTo>
                      <a:pt x="711" y="89"/>
                    </a:lnTo>
                    <a:lnTo>
                      <a:pt x="861" y="173"/>
                    </a:lnTo>
                  </a:path>
                </a:pathLst>
              </a:custGeom>
              <a:ln w="12600">
                <a:solidFill>
                  <a:srgbClr val="402000"/>
                </a:solidFill>
                <a:round/>
              </a:ln>
            </p:spPr>
            <p:txBody>
              <a:bodyPr lIns="96120" rIns="9612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000680" y="2313000"/>
                <a:ext cx="354240" cy="225720"/>
              </a:xfrm>
              <a:custGeom>
                <a:avLst/>
                <a:gdLst/>
                <a:ahLst/>
                <a:rect l="0" t="0" r="r" b="b"/>
                <a:pathLst>
                  <a:path fill="none" w="984" h="627">
                    <a:moveTo>
                      <a:pt x="984" y="17"/>
                    </a:moveTo>
                    <a:lnTo>
                      <a:pt x="750" y="0"/>
                    </a:lnTo>
                    <a:lnTo>
                      <a:pt x="534" y="17"/>
                    </a:lnTo>
                    <a:lnTo>
                      <a:pt x="321" y="123"/>
                    </a:lnTo>
                    <a:lnTo>
                      <a:pt x="123" y="331"/>
                    </a:lnTo>
                    <a:lnTo>
                      <a:pt x="35" y="486"/>
                    </a:lnTo>
                    <a:lnTo>
                      <a:pt x="0" y="627"/>
                    </a:lnTo>
                  </a:path>
                </a:pathLst>
              </a:custGeom>
              <a:ln w="12600">
                <a:solidFill>
                  <a:srgbClr val="402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021200" y="2266920"/>
                <a:ext cx="306720" cy="132120"/>
              </a:xfrm>
              <a:custGeom>
                <a:avLst/>
                <a:gdLst/>
                <a:ahLst/>
                <a:rect l="0" t="0" r="r" b="b"/>
                <a:pathLst>
                  <a:path fill="none" w="852" h="367">
                    <a:moveTo>
                      <a:pt x="852" y="61"/>
                    </a:moveTo>
                    <a:lnTo>
                      <a:pt x="587" y="0"/>
                    </a:lnTo>
                    <a:lnTo>
                      <a:pt x="428" y="4"/>
                    </a:lnTo>
                    <a:lnTo>
                      <a:pt x="220" y="88"/>
                    </a:lnTo>
                    <a:lnTo>
                      <a:pt x="92" y="195"/>
                    </a:lnTo>
                    <a:lnTo>
                      <a:pt x="0" y="367"/>
                    </a:lnTo>
                  </a:path>
                </a:pathLst>
              </a:custGeom>
              <a:ln w="12600">
                <a:solidFill>
                  <a:srgbClr val="402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730760" y="2419200"/>
                <a:ext cx="236880" cy="97200"/>
              </a:xfrm>
              <a:custGeom>
                <a:avLst/>
                <a:gdLst/>
                <a:ahLst/>
                <a:rect l="0" t="0" r="r" b="b"/>
                <a:pathLst>
                  <a:path fill="none" w="658" h="270">
                    <a:moveTo>
                      <a:pt x="0" y="0"/>
                    </a:moveTo>
                    <a:lnTo>
                      <a:pt x="136" y="0"/>
                    </a:lnTo>
                    <a:lnTo>
                      <a:pt x="295" y="30"/>
                    </a:lnTo>
                    <a:lnTo>
                      <a:pt x="380" y="75"/>
                    </a:lnTo>
                    <a:lnTo>
                      <a:pt x="525" y="164"/>
                    </a:lnTo>
                    <a:lnTo>
                      <a:pt x="658" y="270"/>
                    </a:lnTo>
                  </a:path>
                </a:pathLst>
              </a:custGeom>
              <a:ln w="12600">
                <a:solidFill>
                  <a:srgbClr val="402000"/>
                </a:solidFill>
                <a:round/>
              </a:ln>
            </p:spPr>
            <p:txBody>
              <a:bodyPr lIns="96120" rIns="9612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541760" y="2211480"/>
                <a:ext cx="255960" cy="41760"/>
              </a:xfrm>
              <a:custGeom>
                <a:avLst/>
                <a:gdLst/>
                <a:ahLst/>
                <a:rect l="0" t="0" r="r" b="b"/>
                <a:pathLst>
                  <a:path fill="none" w="711" h="116">
                    <a:moveTo>
                      <a:pt x="0" y="116"/>
                    </a:moveTo>
                    <a:lnTo>
                      <a:pt x="123" y="67"/>
                    </a:lnTo>
                    <a:lnTo>
                      <a:pt x="305" y="17"/>
                    </a:lnTo>
                    <a:lnTo>
                      <a:pt x="477" y="0"/>
                    </a:lnTo>
                    <a:lnTo>
                      <a:pt x="711" y="0"/>
                    </a:lnTo>
                  </a:path>
                </a:pathLst>
              </a:custGeom>
              <a:ln w="12600">
                <a:solidFill>
                  <a:srgbClr val="402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651200" y="2306520"/>
                <a:ext cx="213120" cy="24120"/>
              </a:xfrm>
              <a:custGeom>
                <a:avLst/>
                <a:gdLst/>
                <a:ahLst/>
                <a:rect l="0" t="0" r="r" b="b"/>
                <a:pathLst>
                  <a:path fill="none" w="592" h="67">
                    <a:moveTo>
                      <a:pt x="0" y="67"/>
                    </a:moveTo>
                    <a:lnTo>
                      <a:pt x="199" y="26"/>
                    </a:lnTo>
                    <a:lnTo>
                      <a:pt x="353" y="8"/>
                    </a:lnTo>
                    <a:lnTo>
                      <a:pt x="460" y="0"/>
                    </a:lnTo>
                    <a:lnTo>
                      <a:pt x="592" y="0"/>
                    </a:lnTo>
                  </a:path>
                </a:pathLst>
              </a:custGeom>
              <a:ln w="12600">
                <a:solidFill>
                  <a:srgbClr val="402000"/>
                </a:solidFill>
                <a:round/>
              </a:ln>
            </p:spPr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446720" y="2139840"/>
                <a:ext cx="116280" cy="122760"/>
              </a:xfrm>
              <a:custGeom>
                <a:avLst/>
                <a:gdLst/>
                <a:ahLst/>
                <a:rect l="0" t="0" r="r" b="b"/>
                <a:pathLst>
                  <a:path fill="none" w="323" h="341">
                    <a:moveTo>
                      <a:pt x="0" y="341"/>
                    </a:moveTo>
                    <a:lnTo>
                      <a:pt x="52" y="225"/>
                    </a:lnTo>
                    <a:lnTo>
                      <a:pt x="115" y="137"/>
                    </a:lnTo>
                    <a:lnTo>
                      <a:pt x="208" y="44"/>
                    </a:lnTo>
                    <a:lnTo>
                      <a:pt x="284" y="8"/>
                    </a:lnTo>
                    <a:lnTo>
                      <a:pt x="323" y="0"/>
                    </a:lnTo>
                  </a:path>
                </a:pathLst>
              </a:custGeom>
              <a:ln w="12600">
                <a:solidFill>
                  <a:srgbClr val="402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"/>
          <p:cNvGrpSpPr/>
          <p:nvPr/>
        </p:nvGrpSpPr>
        <p:grpSpPr>
          <a:xfrm>
            <a:off x="3780000" y="3559320"/>
            <a:ext cx="1647720" cy="987840"/>
            <a:chOff x="3780000" y="3559320"/>
            <a:chExt cx="1647720" cy="987840"/>
          </a:xfrm>
        </p:grpSpPr>
        <p:grpSp>
          <p:nvGrpSpPr>
            <p:cNvPr id="615" name=""/>
            <p:cNvGrpSpPr/>
            <p:nvPr/>
          </p:nvGrpSpPr>
          <p:grpSpPr>
            <a:xfrm>
              <a:off x="3780000" y="3683160"/>
              <a:ext cx="1647720" cy="864000"/>
              <a:chOff x="3780000" y="3683160"/>
              <a:chExt cx="1647720" cy="864000"/>
            </a:xfrm>
          </p:grpSpPr>
          <p:sp>
            <p:nvSpPr>
              <p:cNvPr id="616" name=""/>
              <p:cNvSpPr/>
              <p:nvPr/>
            </p:nvSpPr>
            <p:spPr>
              <a:xfrm>
                <a:off x="3780000" y="3683160"/>
                <a:ext cx="916200" cy="864000"/>
              </a:xfrm>
              <a:custGeom>
                <a:avLst/>
                <a:gdLst/>
                <a:ahLst/>
                <a:rect l="0" t="0" r="r" b="b"/>
                <a:pathLst>
                  <a:path w="2545" h="2400">
                    <a:moveTo>
                      <a:pt x="2364" y="114"/>
                    </a:moveTo>
                    <a:lnTo>
                      <a:pt x="2355" y="418"/>
                    </a:lnTo>
                    <a:lnTo>
                      <a:pt x="2316" y="768"/>
                    </a:lnTo>
                    <a:lnTo>
                      <a:pt x="2307" y="1046"/>
                    </a:lnTo>
                    <a:lnTo>
                      <a:pt x="2307" y="1187"/>
                    </a:lnTo>
                    <a:lnTo>
                      <a:pt x="2355" y="1500"/>
                    </a:lnTo>
                    <a:lnTo>
                      <a:pt x="2373" y="1681"/>
                    </a:lnTo>
                    <a:lnTo>
                      <a:pt x="2439" y="1827"/>
                    </a:lnTo>
                    <a:lnTo>
                      <a:pt x="2527" y="1973"/>
                    </a:lnTo>
                    <a:lnTo>
                      <a:pt x="2545" y="2096"/>
                    </a:lnTo>
                    <a:lnTo>
                      <a:pt x="2545" y="2162"/>
                    </a:lnTo>
                    <a:lnTo>
                      <a:pt x="2536" y="2228"/>
                    </a:lnTo>
                    <a:lnTo>
                      <a:pt x="2430" y="2286"/>
                    </a:lnTo>
                    <a:lnTo>
                      <a:pt x="2329" y="2352"/>
                    </a:lnTo>
                    <a:lnTo>
                      <a:pt x="2117" y="2334"/>
                    </a:lnTo>
                    <a:lnTo>
                      <a:pt x="1994" y="2325"/>
                    </a:lnTo>
                    <a:lnTo>
                      <a:pt x="1844" y="2286"/>
                    </a:lnTo>
                    <a:lnTo>
                      <a:pt x="1778" y="2268"/>
                    </a:lnTo>
                    <a:lnTo>
                      <a:pt x="1694" y="2277"/>
                    </a:lnTo>
                    <a:lnTo>
                      <a:pt x="1579" y="2343"/>
                    </a:lnTo>
                    <a:lnTo>
                      <a:pt x="1416" y="2374"/>
                    </a:lnTo>
                    <a:lnTo>
                      <a:pt x="1297" y="2400"/>
                    </a:lnTo>
                    <a:lnTo>
                      <a:pt x="1124" y="2400"/>
                    </a:lnTo>
                    <a:lnTo>
                      <a:pt x="956" y="2383"/>
                    </a:lnTo>
                    <a:lnTo>
                      <a:pt x="793" y="2334"/>
                    </a:lnTo>
                    <a:lnTo>
                      <a:pt x="709" y="2334"/>
                    </a:lnTo>
                    <a:lnTo>
                      <a:pt x="498" y="2334"/>
                    </a:lnTo>
                    <a:lnTo>
                      <a:pt x="388" y="2343"/>
                    </a:lnTo>
                    <a:lnTo>
                      <a:pt x="370" y="2343"/>
                    </a:lnTo>
                    <a:lnTo>
                      <a:pt x="282" y="2343"/>
                    </a:lnTo>
                    <a:lnTo>
                      <a:pt x="198" y="2334"/>
                    </a:lnTo>
                    <a:lnTo>
                      <a:pt x="57" y="2277"/>
                    </a:lnTo>
                    <a:lnTo>
                      <a:pt x="30" y="2220"/>
                    </a:lnTo>
                    <a:lnTo>
                      <a:pt x="8" y="2136"/>
                    </a:lnTo>
                    <a:lnTo>
                      <a:pt x="0" y="2061"/>
                    </a:lnTo>
                    <a:lnTo>
                      <a:pt x="35" y="1999"/>
                    </a:lnTo>
                    <a:lnTo>
                      <a:pt x="101" y="1981"/>
                    </a:lnTo>
                    <a:lnTo>
                      <a:pt x="207" y="1981"/>
                    </a:lnTo>
                    <a:lnTo>
                      <a:pt x="343" y="1995"/>
                    </a:lnTo>
                    <a:lnTo>
                      <a:pt x="582" y="2021"/>
                    </a:lnTo>
                    <a:lnTo>
                      <a:pt x="679" y="2012"/>
                    </a:lnTo>
                    <a:lnTo>
                      <a:pt x="754" y="1973"/>
                    </a:lnTo>
                    <a:lnTo>
                      <a:pt x="868" y="1880"/>
                    </a:lnTo>
                    <a:lnTo>
                      <a:pt x="1049" y="1764"/>
                    </a:lnTo>
                    <a:lnTo>
                      <a:pt x="1199" y="1672"/>
                    </a:lnTo>
                    <a:lnTo>
                      <a:pt x="1341" y="1606"/>
                    </a:lnTo>
                    <a:lnTo>
                      <a:pt x="1438" y="1579"/>
                    </a:lnTo>
                    <a:lnTo>
                      <a:pt x="1473" y="1531"/>
                    </a:lnTo>
                    <a:lnTo>
                      <a:pt x="1548" y="1226"/>
                    </a:lnTo>
                    <a:lnTo>
                      <a:pt x="1637" y="940"/>
                    </a:lnTo>
                    <a:lnTo>
                      <a:pt x="1676" y="759"/>
                    </a:lnTo>
                    <a:lnTo>
                      <a:pt x="1681" y="564"/>
                    </a:lnTo>
                    <a:lnTo>
                      <a:pt x="1614" y="427"/>
                    </a:lnTo>
                    <a:lnTo>
                      <a:pt x="1513" y="246"/>
                    </a:lnTo>
                    <a:lnTo>
                      <a:pt x="1429" y="0"/>
                    </a:lnTo>
                    <a:lnTo>
                      <a:pt x="2364" y="114"/>
                    </a:lnTo>
                    <a:close/>
                  </a:path>
                </a:pathLst>
              </a:custGeom>
              <a:solidFill>
                <a:srgbClr val="ffe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511520" y="3693960"/>
                <a:ext cx="916200" cy="852840"/>
              </a:xfrm>
              <a:custGeom>
                <a:avLst/>
                <a:gdLst/>
                <a:ahLst/>
                <a:rect l="0" t="0" r="r" b="b"/>
                <a:pathLst>
                  <a:path w="2545" h="2369">
                    <a:moveTo>
                      <a:pt x="180" y="83"/>
                    </a:moveTo>
                    <a:lnTo>
                      <a:pt x="189" y="388"/>
                    </a:lnTo>
                    <a:lnTo>
                      <a:pt x="229" y="736"/>
                    </a:lnTo>
                    <a:lnTo>
                      <a:pt x="233" y="1014"/>
                    </a:lnTo>
                    <a:lnTo>
                      <a:pt x="233" y="1155"/>
                    </a:lnTo>
                    <a:lnTo>
                      <a:pt x="189" y="1469"/>
                    </a:lnTo>
                    <a:lnTo>
                      <a:pt x="167" y="1650"/>
                    </a:lnTo>
                    <a:lnTo>
                      <a:pt x="101" y="1795"/>
                    </a:lnTo>
                    <a:lnTo>
                      <a:pt x="17" y="1941"/>
                    </a:lnTo>
                    <a:lnTo>
                      <a:pt x="0" y="2064"/>
                    </a:lnTo>
                    <a:lnTo>
                      <a:pt x="0" y="2130"/>
                    </a:lnTo>
                    <a:lnTo>
                      <a:pt x="8" y="2197"/>
                    </a:lnTo>
                    <a:lnTo>
                      <a:pt x="114" y="2254"/>
                    </a:lnTo>
                    <a:lnTo>
                      <a:pt x="216" y="2320"/>
                    </a:lnTo>
                    <a:lnTo>
                      <a:pt x="427" y="2302"/>
                    </a:lnTo>
                    <a:lnTo>
                      <a:pt x="546" y="2294"/>
                    </a:lnTo>
                    <a:lnTo>
                      <a:pt x="701" y="2254"/>
                    </a:lnTo>
                    <a:lnTo>
                      <a:pt x="767" y="2236"/>
                    </a:lnTo>
                    <a:lnTo>
                      <a:pt x="846" y="2245"/>
                    </a:lnTo>
                    <a:lnTo>
                      <a:pt x="961" y="2311"/>
                    </a:lnTo>
                    <a:lnTo>
                      <a:pt x="1124" y="2342"/>
                    </a:lnTo>
                    <a:lnTo>
                      <a:pt x="1247" y="2369"/>
                    </a:lnTo>
                    <a:lnTo>
                      <a:pt x="1420" y="2369"/>
                    </a:lnTo>
                    <a:lnTo>
                      <a:pt x="1592" y="2351"/>
                    </a:lnTo>
                    <a:lnTo>
                      <a:pt x="1747" y="2302"/>
                    </a:lnTo>
                    <a:lnTo>
                      <a:pt x="1835" y="2302"/>
                    </a:lnTo>
                    <a:lnTo>
                      <a:pt x="2042" y="2302"/>
                    </a:lnTo>
                    <a:lnTo>
                      <a:pt x="2157" y="2311"/>
                    </a:lnTo>
                    <a:lnTo>
                      <a:pt x="2174" y="2311"/>
                    </a:lnTo>
                    <a:lnTo>
                      <a:pt x="2258" y="2311"/>
                    </a:lnTo>
                    <a:lnTo>
                      <a:pt x="2346" y="2302"/>
                    </a:lnTo>
                    <a:lnTo>
                      <a:pt x="2488" y="2245"/>
                    </a:lnTo>
                    <a:lnTo>
                      <a:pt x="2514" y="2188"/>
                    </a:lnTo>
                    <a:lnTo>
                      <a:pt x="2532" y="2104"/>
                    </a:lnTo>
                    <a:lnTo>
                      <a:pt x="2545" y="2029"/>
                    </a:lnTo>
                    <a:lnTo>
                      <a:pt x="2505" y="1967"/>
                    </a:lnTo>
                    <a:lnTo>
                      <a:pt x="2439" y="1950"/>
                    </a:lnTo>
                    <a:lnTo>
                      <a:pt x="2338" y="1950"/>
                    </a:lnTo>
                    <a:lnTo>
                      <a:pt x="2205" y="1963"/>
                    </a:lnTo>
                    <a:lnTo>
                      <a:pt x="1958" y="1989"/>
                    </a:lnTo>
                    <a:lnTo>
                      <a:pt x="1861" y="1980"/>
                    </a:lnTo>
                    <a:lnTo>
                      <a:pt x="1786" y="1941"/>
                    </a:lnTo>
                    <a:lnTo>
                      <a:pt x="1672" y="1848"/>
                    </a:lnTo>
                    <a:lnTo>
                      <a:pt x="1495" y="1734"/>
                    </a:lnTo>
                    <a:lnTo>
                      <a:pt x="1341" y="1667"/>
                    </a:lnTo>
                    <a:lnTo>
                      <a:pt x="1190" y="1601"/>
                    </a:lnTo>
                    <a:lnTo>
                      <a:pt x="1106" y="1548"/>
                    </a:lnTo>
                    <a:lnTo>
                      <a:pt x="1067" y="1500"/>
                    </a:lnTo>
                    <a:lnTo>
                      <a:pt x="992" y="1196"/>
                    </a:lnTo>
                    <a:lnTo>
                      <a:pt x="908" y="908"/>
                    </a:lnTo>
                    <a:lnTo>
                      <a:pt x="868" y="727"/>
                    </a:lnTo>
                    <a:lnTo>
                      <a:pt x="859" y="533"/>
                    </a:lnTo>
                    <a:lnTo>
                      <a:pt x="895" y="379"/>
                    </a:lnTo>
                    <a:lnTo>
                      <a:pt x="952" y="207"/>
                    </a:lnTo>
                    <a:lnTo>
                      <a:pt x="992" y="0"/>
                    </a:lnTo>
                    <a:lnTo>
                      <a:pt x="180" y="83"/>
                    </a:lnTo>
                    <a:close/>
                  </a:path>
                </a:pathLst>
              </a:custGeom>
              <a:solidFill>
                <a:srgbClr val="ffe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>
              <a:off x="4103640" y="3559320"/>
              <a:ext cx="1054440" cy="587880"/>
            </a:xfrm>
            <a:custGeom>
              <a:avLst/>
              <a:gdLst/>
              <a:ahLst/>
              <a:rect l="0" t="0" r="r" b="b"/>
              <a:pathLst>
                <a:path w="2929" h="1633">
                  <a:moveTo>
                    <a:pt x="317" y="92"/>
                  </a:moveTo>
                  <a:lnTo>
                    <a:pt x="604" y="264"/>
                  </a:lnTo>
                  <a:lnTo>
                    <a:pt x="886" y="357"/>
                  </a:lnTo>
                  <a:lnTo>
                    <a:pt x="1150" y="396"/>
                  </a:lnTo>
                  <a:lnTo>
                    <a:pt x="1397" y="419"/>
                  </a:lnTo>
                  <a:lnTo>
                    <a:pt x="1628" y="396"/>
                  </a:lnTo>
                  <a:lnTo>
                    <a:pt x="1813" y="357"/>
                  </a:lnTo>
                  <a:lnTo>
                    <a:pt x="2113" y="304"/>
                  </a:lnTo>
                  <a:lnTo>
                    <a:pt x="2307" y="224"/>
                  </a:lnTo>
                  <a:lnTo>
                    <a:pt x="2474" y="132"/>
                  </a:lnTo>
                  <a:lnTo>
                    <a:pt x="2704" y="0"/>
                  </a:lnTo>
                  <a:lnTo>
                    <a:pt x="2814" y="379"/>
                  </a:lnTo>
                  <a:lnTo>
                    <a:pt x="2893" y="777"/>
                  </a:lnTo>
                  <a:lnTo>
                    <a:pt x="2929" y="1307"/>
                  </a:lnTo>
                  <a:lnTo>
                    <a:pt x="2664" y="644"/>
                  </a:lnTo>
                  <a:lnTo>
                    <a:pt x="2664" y="1307"/>
                  </a:lnTo>
                  <a:lnTo>
                    <a:pt x="2421" y="834"/>
                  </a:lnTo>
                  <a:lnTo>
                    <a:pt x="2421" y="1518"/>
                  </a:lnTo>
                  <a:lnTo>
                    <a:pt x="2210" y="834"/>
                  </a:lnTo>
                  <a:lnTo>
                    <a:pt x="2135" y="1501"/>
                  </a:lnTo>
                  <a:lnTo>
                    <a:pt x="1963" y="874"/>
                  </a:lnTo>
                  <a:lnTo>
                    <a:pt x="1892" y="1576"/>
                  </a:lnTo>
                  <a:lnTo>
                    <a:pt x="1663" y="852"/>
                  </a:lnTo>
                  <a:lnTo>
                    <a:pt x="1588" y="1479"/>
                  </a:lnTo>
                  <a:lnTo>
                    <a:pt x="1495" y="891"/>
                  </a:lnTo>
                  <a:lnTo>
                    <a:pt x="1300" y="1633"/>
                  </a:lnTo>
                  <a:lnTo>
                    <a:pt x="1190" y="891"/>
                  </a:lnTo>
                  <a:lnTo>
                    <a:pt x="1075" y="1633"/>
                  </a:lnTo>
                  <a:lnTo>
                    <a:pt x="1075" y="852"/>
                  </a:lnTo>
                  <a:lnTo>
                    <a:pt x="776" y="1611"/>
                  </a:lnTo>
                  <a:lnTo>
                    <a:pt x="776" y="984"/>
                  </a:lnTo>
                  <a:lnTo>
                    <a:pt x="489" y="1611"/>
                  </a:lnTo>
                  <a:lnTo>
                    <a:pt x="661" y="777"/>
                  </a:lnTo>
                  <a:lnTo>
                    <a:pt x="264" y="1501"/>
                  </a:lnTo>
                  <a:lnTo>
                    <a:pt x="432" y="702"/>
                  </a:lnTo>
                  <a:lnTo>
                    <a:pt x="0" y="1346"/>
                  </a:lnTo>
                  <a:lnTo>
                    <a:pt x="35" y="1024"/>
                  </a:lnTo>
                  <a:lnTo>
                    <a:pt x="57" y="816"/>
                  </a:lnTo>
                  <a:lnTo>
                    <a:pt x="132" y="530"/>
                  </a:lnTo>
                  <a:lnTo>
                    <a:pt x="224" y="304"/>
                  </a:lnTo>
                  <a:lnTo>
                    <a:pt x="317" y="92"/>
                  </a:lnTo>
                  <a:close/>
                </a:path>
              </a:pathLst>
            </a:custGeom>
            <a:solidFill>
              <a:srgbClr val="c0c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4183200" y="2278080"/>
            <a:ext cx="609840" cy="711720"/>
          </a:xfrm>
          <a:custGeom>
            <a:avLst/>
            <a:gdLst/>
            <a:ahLst/>
            <a:rect l="0" t="0" r="r" b="b"/>
            <a:pathLst>
              <a:path w="1694" h="1977">
                <a:moveTo>
                  <a:pt x="852" y="0"/>
                </a:moveTo>
                <a:lnTo>
                  <a:pt x="740" y="13"/>
                </a:lnTo>
                <a:lnTo>
                  <a:pt x="626" y="57"/>
                </a:lnTo>
                <a:lnTo>
                  <a:pt x="493" y="154"/>
                </a:lnTo>
                <a:lnTo>
                  <a:pt x="357" y="299"/>
                </a:lnTo>
                <a:lnTo>
                  <a:pt x="229" y="480"/>
                </a:lnTo>
                <a:lnTo>
                  <a:pt x="123" y="680"/>
                </a:lnTo>
                <a:lnTo>
                  <a:pt x="48" y="874"/>
                </a:lnTo>
                <a:lnTo>
                  <a:pt x="13" y="1015"/>
                </a:lnTo>
                <a:lnTo>
                  <a:pt x="0" y="1134"/>
                </a:lnTo>
                <a:lnTo>
                  <a:pt x="0" y="1284"/>
                </a:lnTo>
                <a:lnTo>
                  <a:pt x="30" y="1363"/>
                </a:lnTo>
                <a:lnTo>
                  <a:pt x="74" y="1438"/>
                </a:lnTo>
                <a:lnTo>
                  <a:pt x="141" y="1545"/>
                </a:lnTo>
                <a:lnTo>
                  <a:pt x="198" y="1660"/>
                </a:lnTo>
                <a:lnTo>
                  <a:pt x="260" y="1726"/>
                </a:lnTo>
                <a:lnTo>
                  <a:pt x="348" y="1805"/>
                </a:lnTo>
                <a:lnTo>
                  <a:pt x="445" y="1876"/>
                </a:lnTo>
                <a:lnTo>
                  <a:pt x="586" y="1933"/>
                </a:lnTo>
                <a:lnTo>
                  <a:pt x="740" y="1973"/>
                </a:lnTo>
                <a:lnTo>
                  <a:pt x="882" y="1977"/>
                </a:lnTo>
                <a:lnTo>
                  <a:pt x="1081" y="1959"/>
                </a:lnTo>
                <a:lnTo>
                  <a:pt x="1248" y="1924"/>
                </a:lnTo>
                <a:lnTo>
                  <a:pt x="1337" y="1884"/>
                </a:lnTo>
                <a:lnTo>
                  <a:pt x="1425" y="1832"/>
                </a:lnTo>
                <a:lnTo>
                  <a:pt x="1544" y="1739"/>
                </a:lnTo>
                <a:lnTo>
                  <a:pt x="1619" y="1602"/>
                </a:lnTo>
                <a:lnTo>
                  <a:pt x="1689" y="1425"/>
                </a:lnTo>
                <a:lnTo>
                  <a:pt x="1694" y="1284"/>
                </a:lnTo>
                <a:lnTo>
                  <a:pt x="1689" y="1143"/>
                </a:lnTo>
                <a:lnTo>
                  <a:pt x="1663" y="997"/>
                </a:lnTo>
                <a:lnTo>
                  <a:pt x="1641" y="896"/>
                </a:lnTo>
                <a:lnTo>
                  <a:pt x="1575" y="737"/>
                </a:lnTo>
                <a:lnTo>
                  <a:pt x="1531" y="636"/>
                </a:lnTo>
                <a:lnTo>
                  <a:pt x="1447" y="503"/>
                </a:lnTo>
                <a:lnTo>
                  <a:pt x="1372" y="370"/>
                </a:lnTo>
                <a:lnTo>
                  <a:pt x="1315" y="286"/>
                </a:lnTo>
                <a:lnTo>
                  <a:pt x="1253" y="194"/>
                </a:lnTo>
                <a:lnTo>
                  <a:pt x="1169" y="123"/>
                </a:lnTo>
                <a:lnTo>
                  <a:pt x="1090" y="57"/>
                </a:lnTo>
                <a:lnTo>
                  <a:pt x="1006" y="22"/>
                </a:lnTo>
                <a:lnTo>
                  <a:pt x="852" y="0"/>
                </a:lnTo>
                <a:close/>
              </a:path>
            </a:pathLst>
          </a:custGeom>
          <a:solidFill>
            <a:srgbClr val="ffe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4233960" y="2367000"/>
            <a:ext cx="658800" cy="517680"/>
            <a:chOff x="4233960" y="2367000"/>
            <a:chExt cx="658800" cy="517680"/>
          </a:xfrm>
        </p:grpSpPr>
        <p:grpSp>
          <p:nvGrpSpPr>
            <p:cNvPr id="621" name=""/>
            <p:cNvGrpSpPr/>
            <p:nvPr/>
          </p:nvGrpSpPr>
          <p:grpSpPr>
            <a:xfrm>
              <a:off x="4471920" y="2503440"/>
              <a:ext cx="341640" cy="209880"/>
              <a:chOff x="4471920" y="2503440"/>
              <a:chExt cx="341640" cy="209880"/>
            </a:xfrm>
          </p:grpSpPr>
          <p:sp>
            <p:nvSpPr>
              <p:cNvPr id="622" name=""/>
              <p:cNvSpPr/>
              <p:nvPr/>
            </p:nvSpPr>
            <p:spPr>
              <a:xfrm>
                <a:off x="4471920" y="2503440"/>
                <a:ext cx="325800" cy="195480"/>
              </a:xfrm>
              <a:custGeom>
                <a:avLst/>
                <a:gdLst/>
                <a:ahLst/>
                <a:rect l="0" t="0" r="r" b="b"/>
                <a:pathLst>
                  <a:path w="905" h="543">
                    <a:moveTo>
                      <a:pt x="302" y="8"/>
                    </a:moveTo>
                    <a:lnTo>
                      <a:pt x="429" y="8"/>
                    </a:lnTo>
                    <a:lnTo>
                      <a:pt x="569" y="0"/>
                    </a:lnTo>
                    <a:lnTo>
                      <a:pt x="646" y="8"/>
                    </a:lnTo>
                    <a:lnTo>
                      <a:pt x="681" y="16"/>
                    </a:lnTo>
                    <a:lnTo>
                      <a:pt x="719" y="24"/>
                    </a:lnTo>
                    <a:lnTo>
                      <a:pt x="757" y="37"/>
                    </a:lnTo>
                    <a:lnTo>
                      <a:pt x="795" y="57"/>
                    </a:lnTo>
                    <a:lnTo>
                      <a:pt x="829" y="78"/>
                    </a:lnTo>
                    <a:lnTo>
                      <a:pt x="859" y="120"/>
                    </a:lnTo>
                    <a:lnTo>
                      <a:pt x="880" y="149"/>
                    </a:lnTo>
                    <a:lnTo>
                      <a:pt x="897" y="178"/>
                    </a:lnTo>
                    <a:lnTo>
                      <a:pt x="901" y="211"/>
                    </a:lnTo>
                    <a:lnTo>
                      <a:pt x="905" y="244"/>
                    </a:lnTo>
                    <a:lnTo>
                      <a:pt x="905" y="278"/>
                    </a:lnTo>
                    <a:lnTo>
                      <a:pt x="901" y="315"/>
                    </a:lnTo>
                    <a:lnTo>
                      <a:pt x="897" y="348"/>
                    </a:lnTo>
                    <a:lnTo>
                      <a:pt x="884" y="373"/>
                    </a:lnTo>
                    <a:lnTo>
                      <a:pt x="863" y="410"/>
                    </a:lnTo>
                    <a:lnTo>
                      <a:pt x="838" y="435"/>
                    </a:lnTo>
                    <a:lnTo>
                      <a:pt x="774" y="481"/>
                    </a:lnTo>
                    <a:lnTo>
                      <a:pt x="736" y="493"/>
                    </a:lnTo>
                    <a:lnTo>
                      <a:pt x="685" y="506"/>
                    </a:lnTo>
                    <a:lnTo>
                      <a:pt x="620" y="526"/>
                    </a:lnTo>
                    <a:lnTo>
                      <a:pt x="556" y="535"/>
                    </a:lnTo>
                    <a:lnTo>
                      <a:pt x="472" y="543"/>
                    </a:lnTo>
                    <a:lnTo>
                      <a:pt x="387" y="543"/>
                    </a:lnTo>
                    <a:lnTo>
                      <a:pt x="315" y="543"/>
                    </a:lnTo>
                    <a:lnTo>
                      <a:pt x="234" y="530"/>
                    </a:lnTo>
                    <a:lnTo>
                      <a:pt x="161" y="510"/>
                    </a:lnTo>
                    <a:lnTo>
                      <a:pt x="97" y="501"/>
                    </a:lnTo>
                    <a:lnTo>
                      <a:pt x="0" y="481"/>
                    </a:lnTo>
                    <a:lnTo>
                      <a:pt x="302" y="8"/>
                    </a:lnTo>
                    <a:close/>
                  </a:path>
                </a:pathLst>
              </a:custGeom>
              <a:solidFill>
                <a:srgbClr val="ffe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471920" y="2503440"/>
                <a:ext cx="341640" cy="209880"/>
              </a:xfrm>
              <a:custGeom>
                <a:avLst/>
                <a:gdLst/>
                <a:ahLst/>
                <a:rect l="0" t="0" r="r" b="b"/>
                <a:pathLst>
                  <a:path fill="none" w="949" h="583">
                    <a:moveTo>
                      <a:pt x="313" y="8"/>
                    </a:moveTo>
                    <a:lnTo>
                      <a:pt x="449" y="8"/>
                    </a:lnTo>
                    <a:lnTo>
                      <a:pt x="596" y="0"/>
                    </a:lnTo>
                    <a:lnTo>
                      <a:pt x="671" y="8"/>
                    </a:lnTo>
                    <a:lnTo>
                      <a:pt x="710" y="17"/>
                    </a:lnTo>
                    <a:lnTo>
                      <a:pt x="750" y="26"/>
                    </a:lnTo>
                    <a:lnTo>
                      <a:pt x="790" y="39"/>
                    </a:lnTo>
                    <a:lnTo>
                      <a:pt x="830" y="61"/>
                    </a:lnTo>
                    <a:lnTo>
                      <a:pt x="865" y="83"/>
                    </a:lnTo>
                    <a:lnTo>
                      <a:pt x="900" y="127"/>
                    </a:lnTo>
                    <a:lnTo>
                      <a:pt x="918" y="158"/>
                    </a:lnTo>
                    <a:lnTo>
                      <a:pt x="935" y="189"/>
                    </a:lnTo>
                    <a:lnTo>
                      <a:pt x="940" y="224"/>
                    </a:lnTo>
                    <a:lnTo>
                      <a:pt x="949" y="260"/>
                    </a:lnTo>
                    <a:lnTo>
                      <a:pt x="949" y="296"/>
                    </a:lnTo>
                    <a:lnTo>
                      <a:pt x="940" y="340"/>
                    </a:lnTo>
                    <a:lnTo>
                      <a:pt x="935" y="375"/>
                    </a:lnTo>
                    <a:lnTo>
                      <a:pt x="922" y="402"/>
                    </a:lnTo>
                    <a:lnTo>
                      <a:pt x="900" y="437"/>
                    </a:lnTo>
                    <a:lnTo>
                      <a:pt x="874" y="472"/>
                    </a:lnTo>
                    <a:lnTo>
                      <a:pt x="807" y="516"/>
                    </a:lnTo>
                    <a:lnTo>
                      <a:pt x="768" y="530"/>
                    </a:lnTo>
                    <a:lnTo>
                      <a:pt x="715" y="543"/>
                    </a:lnTo>
                    <a:lnTo>
                      <a:pt x="649" y="565"/>
                    </a:lnTo>
                    <a:lnTo>
                      <a:pt x="583" y="574"/>
                    </a:lnTo>
                    <a:lnTo>
                      <a:pt x="494" y="583"/>
                    </a:lnTo>
                    <a:lnTo>
                      <a:pt x="405" y="583"/>
                    </a:lnTo>
                    <a:lnTo>
                      <a:pt x="326" y="583"/>
                    </a:lnTo>
                    <a:lnTo>
                      <a:pt x="246" y="569"/>
                    </a:lnTo>
                    <a:lnTo>
                      <a:pt x="167" y="552"/>
                    </a:lnTo>
                    <a:lnTo>
                      <a:pt x="101" y="538"/>
                    </a:lnTo>
                    <a:lnTo>
                      <a:pt x="0" y="516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4349880" y="2367000"/>
              <a:ext cx="284400" cy="225360"/>
              <a:chOff x="4349880" y="2367000"/>
              <a:chExt cx="284400" cy="225360"/>
            </a:xfrm>
          </p:grpSpPr>
          <p:grpSp>
            <p:nvGrpSpPr>
              <p:cNvPr id="625" name=""/>
              <p:cNvGrpSpPr/>
              <p:nvPr/>
            </p:nvGrpSpPr>
            <p:grpSpPr>
              <a:xfrm>
                <a:off x="4349880" y="2367000"/>
                <a:ext cx="241560" cy="225360"/>
                <a:chOff x="4349880" y="2367000"/>
                <a:chExt cx="241560" cy="22536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4387680" y="2378160"/>
                  <a:ext cx="74880" cy="41760"/>
                </a:xfrm>
                <a:custGeom>
                  <a:avLst/>
                  <a:gdLst/>
                  <a:ahLst/>
                  <a:rect l="0" t="0" r="r" b="b"/>
                  <a:pathLst>
                    <a:path fill="none" w="208" h="116">
                      <a:moveTo>
                        <a:pt x="0" y="116"/>
                      </a:moveTo>
                      <a:lnTo>
                        <a:pt x="35" y="75"/>
                      </a:lnTo>
                      <a:lnTo>
                        <a:pt x="70" y="40"/>
                      </a:lnTo>
                      <a:lnTo>
                        <a:pt x="101" y="17"/>
                      </a:lnTo>
                      <a:lnTo>
                        <a:pt x="120" y="8"/>
                      </a:lnTo>
                      <a:lnTo>
                        <a:pt x="168" y="0"/>
                      </a:lnTo>
                      <a:lnTo>
                        <a:pt x="208" y="0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4538520" y="2367000"/>
                  <a:ext cx="52920" cy="25920"/>
                </a:xfrm>
                <a:custGeom>
                  <a:avLst/>
                  <a:gdLst/>
                  <a:ahLst/>
                  <a:rect l="0" t="0" r="r" b="b"/>
                  <a:pathLst>
                    <a:path fill="none" w="147" h="72">
                      <a:moveTo>
                        <a:pt x="0" y="0"/>
                      </a:moveTo>
                      <a:lnTo>
                        <a:pt x="26" y="0"/>
                      </a:lnTo>
                      <a:lnTo>
                        <a:pt x="49" y="4"/>
                      </a:lnTo>
                      <a:lnTo>
                        <a:pt x="84" y="17"/>
                      </a:lnTo>
                      <a:lnTo>
                        <a:pt x="121" y="40"/>
                      </a:lnTo>
                      <a:lnTo>
                        <a:pt x="147" y="72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 flipV="1">
                  <a:off x="4349880" y="2533680"/>
                  <a:ext cx="6192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 flipV="1">
                  <a:off x="4356000" y="2550960"/>
                  <a:ext cx="54000" cy="41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4429080" y="2446200"/>
                <a:ext cx="205200" cy="62640"/>
                <a:chOff x="4429080" y="2446200"/>
                <a:chExt cx="205200" cy="6264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4429080" y="2455920"/>
                  <a:ext cx="79560" cy="36720"/>
                </a:xfrm>
                <a:custGeom>
                  <a:avLst/>
                  <a:gdLst/>
                  <a:ahLst/>
                  <a:rect l="0" t="0" r="r" b="b"/>
                  <a:pathLst>
                    <a:path fill="none" w="221" h="102">
                      <a:moveTo>
                        <a:pt x="221" y="0"/>
                      </a:moveTo>
                      <a:lnTo>
                        <a:pt x="181" y="22"/>
                      </a:lnTo>
                      <a:lnTo>
                        <a:pt x="120" y="53"/>
                      </a:lnTo>
                      <a:lnTo>
                        <a:pt x="88" y="71"/>
                      </a:lnTo>
                      <a:lnTo>
                        <a:pt x="30" y="89"/>
                      </a:lnTo>
                      <a:lnTo>
                        <a:pt x="0" y="102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562640" y="2446200"/>
                  <a:ext cx="71640" cy="25920"/>
                </a:xfrm>
                <a:custGeom>
                  <a:avLst/>
                  <a:gdLst/>
                  <a:ahLst/>
                  <a:rect l="0" t="0" r="r" b="b"/>
                  <a:pathLst>
                    <a:path fill="none" w="199" h="72">
                      <a:moveTo>
                        <a:pt x="0" y="0"/>
                      </a:moveTo>
                      <a:lnTo>
                        <a:pt x="26" y="13"/>
                      </a:lnTo>
                      <a:lnTo>
                        <a:pt x="57" y="27"/>
                      </a:lnTo>
                      <a:lnTo>
                        <a:pt x="97" y="45"/>
                      </a:lnTo>
                      <a:lnTo>
                        <a:pt x="124" y="59"/>
                      </a:lnTo>
                      <a:lnTo>
                        <a:pt x="155" y="63"/>
                      </a:lnTo>
                      <a:lnTo>
                        <a:pt x="181" y="72"/>
                      </a:lnTo>
                      <a:lnTo>
                        <a:pt x="199" y="72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3" name=""/>
                <p:cNvGrpSpPr/>
                <p:nvPr/>
              </p:nvGrpSpPr>
              <p:grpSpPr>
                <a:xfrm>
                  <a:off x="4456080" y="2446200"/>
                  <a:ext cx="154440" cy="62640"/>
                  <a:chOff x="4456080" y="2446200"/>
                  <a:chExt cx="154440" cy="62640"/>
                </a:xfrm>
              </p:grpSpPr>
              <p:sp>
                <p:nvSpPr>
                  <p:cNvPr id="634" name=""/>
                  <p:cNvSpPr/>
                  <p:nvPr/>
                </p:nvSpPr>
                <p:spPr>
                  <a:xfrm>
                    <a:off x="4456080" y="2455920"/>
                    <a:ext cx="52920" cy="52920"/>
                  </a:xfrm>
                  <a:custGeom>
                    <a:avLst/>
                    <a:gdLst/>
                    <a:ahLst/>
                    <a:rect l="0" t="0" r="r" b="b"/>
                    <a:pathLst>
                      <a:path w="147" h="147">
                        <a:moveTo>
                          <a:pt x="147" y="0"/>
                        </a:moveTo>
                        <a:lnTo>
                          <a:pt x="147" y="26"/>
                        </a:lnTo>
                        <a:lnTo>
                          <a:pt x="147" y="62"/>
                        </a:lnTo>
                        <a:lnTo>
                          <a:pt x="147" y="98"/>
                        </a:lnTo>
                        <a:lnTo>
                          <a:pt x="147" y="116"/>
                        </a:lnTo>
                        <a:lnTo>
                          <a:pt x="134" y="134"/>
                        </a:lnTo>
                        <a:lnTo>
                          <a:pt x="106" y="147"/>
                        </a:lnTo>
                        <a:lnTo>
                          <a:pt x="84" y="147"/>
                        </a:lnTo>
                        <a:lnTo>
                          <a:pt x="45" y="147"/>
                        </a:lnTo>
                        <a:lnTo>
                          <a:pt x="13" y="138"/>
                        </a:lnTo>
                        <a:lnTo>
                          <a:pt x="4" y="125"/>
                        </a:lnTo>
                        <a:lnTo>
                          <a:pt x="0" y="102"/>
                        </a:lnTo>
                        <a:lnTo>
                          <a:pt x="0" y="89"/>
                        </a:lnTo>
                        <a:lnTo>
                          <a:pt x="4" y="80"/>
                        </a:lnTo>
                        <a:lnTo>
                          <a:pt x="45" y="58"/>
                        </a:lnTo>
                        <a:lnTo>
                          <a:pt x="80" y="40"/>
                        </a:lnTo>
                        <a:lnTo>
                          <a:pt x="116" y="17"/>
                        </a:lnTo>
                        <a:lnTo>
                          <a:pt x="147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1800" bIns="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4559400" y="2446200"/>
                    <a:ext cx="51120" cy="49680"/>
                  </a:xfrm>
                  <a:custGeom>
                    <a:avLst/>
                    <a:gdLst/>
                    <a:ahLst/>
                    <a:rect l="0" t="0" r="r" b="b"/>
                    <a:pathLst>
                      <a:path w="142" h="138">
                        <a:moveTo>
                          <a:pt x="8" y="0"/>
                        </a:moveTo>
                        <a:lnTo>
                          <a:pt x="4" y="8"/>
                        </a:lnTo>
                        <a:lnTo>
                          <a:pt x="4" y="30"/>
                        </a:lnTo>
                        <a:lnTo>
                          <a:pt x="0" y="58"/>
                        </a:lnTo>
                        <a:lnTo>
                          <a:pt x="0" y="84"/>
                        </a:lnTo>
                        <a:lnTo>
                          <a:pt x="4" y="107"/>
                        </a:lnTo>
                        <a:lnTo>
                          <a:pt x="8" y="112"/>
                        </a:lnTo>
                        <a:lnTo>
                          <a:pt x="26" y="129"/>
                        </a:lnTo>
                        <a:lnTo>
                          <a:pt x="57" y="138"/>
                        </a:lnTo>
                        <a:lnTo>
                          <a:pt x="98" y="134"/>
                        </a:lnTo>
                        <a:lnTo>
                          <a:pt x="124" y="121"/>
                        </a:lnTo>
                        <a:lnTo>
                          <a:pt x="133" y="107"/>
                        </a:lnTo>
                        <a:lnTo>
                          <a:pt x="137" y="93"/>
                        </a:lnTo>
                        <a:lnTo>
                          <a:pt x="142" y="75"/>
                        </a:lnTo>
                        <a:lnTo>
                          <a:pt x="137" y="62"/>
                        </a:lnTo>
                        <a:lnTo>
                          <a:pt x="133" y="58"/>
                        </a:lnTo>
                        <a:lnTo>
                          <a:pt x="102" y="45"/>
                        </a:lnTo>
                        <a:lnTo>
                          <a:pt x="70" y="30"/>
                        </a:lnTo>
                        <a:lnTo>
                          <a:pt x="44" y="17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440" bIns="-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36" name=""/>
                  <p:cNvGrpSpPr/>
                  <p:nvPr/>
                </p:nvGrpSpPr>
                <p:grpSpPr>
                  <a:xfrm>
                    <a:off x="4473720" y="2468520"/>
                    <a:ext cx="17640" cy="28440"/>
                    <a:chOff x="4473720" y="2468520"/>
                    <a:chExt cx="17640" cy="28440"/>
                  </a:xfrm>
                </p:grpSpPr>
                <p:sp>
                  <p:nvSpPr>
                    <p:cNvPr id="637" name=""/>
                    <p:cNvSpPr/>
                    <p:nvPr/>
                  </p:nvSpPr>
                  <p:spPr>
                    <a:xfrm>
                      <a:off x="4473720" y="2468520"/>
                      <a:ext cx="17640" cy="28440"/>
                    </a:xfrm>
                    <a:prstGeom prst="ellipse">
                      <a:avLst/>
                    </a:prstGeom>
                    <a:solidFill>
                      <a:srgbClr val="8080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22680" bIns="-22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8" name=""/>
                    <p:cNvSpPr/>
                    <p:nvPr/>
                  </p:nvSpPr>
                  <p:spPr>
                    <a:xfrm rot="10800000">
                      <a:off x="4476600" y="2476800"/>
                      <a:ext cx="6480" cy="1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9" name=""/>
                  <p:cNvGrpSpPr/>
                  <p:nvPr/>
                </p:nvGrpSpPr>
                <p:grpSpPr>
                  <a:xfrm>
                    <a:off x="4572000" y="2455920"/>
                    <a:ext cx="17640" cy="28440"/>
                    <a:chOff x="4572000" y="2455920"/>
                    <a:chExt cx="17640" cy="28440"/>
                  </a:xfrm>
                </p:grpSpPr>
                <p:sp>
                  <p:nvSpPr>
                    <p:cNvPr id="640" name=""/>
                    <p:cNvSpPr/>
                    <p:nvPr/>
                  </p:nvSpPr>
                  <p:spPr>
                    <a:xfrm>
                      <a:off x="4572000" y="2455920"/>
                      <a:ext cx="17640" cy="28440"/>
                    </a:xfrm>
                    <a:prstGeom prst="ellipse">
                      <a:avLst/>
                    </a:prstGeom>
                    <a:solidFill>
                      <a:srgbClr val="8080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22680" bIns="-22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" name=""/>
                    <p:cNvSpPr/>
                    <p:nvPr/>
                  </p:nvSpPr>
                  <p:spPr>
                    <a:xfrm rot="10800000">
                      <a:off x="4575240" y="2465640"/>
                      <a:ext cx="4680" cy="1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642" name=""/>
            <p:cNvGrpSpPr/>
            <p:nvPr/>
          </p:nvGrpSpPr>
          <p:grpSpPr>
            <a:xfrm>
              <a:off x="4370400" y="2712960"/>
              <a:ext cx="316440" cy="171720"/>
              <a:chOff x="4370400" y="2712960"/>
              <a:chExt cx="316440" cy="171720"/>
            </a:xfrm>
          </p:grpSpPr>
          <p:sp>
            <p:nvSpPr>
              <p:cNvPr id="643" name=""/>
              <p:cNvSpPr/>
              <p:nvPr/>
            </p:nvSpPr>
            <p:spPr>
              <a:xfrm>
                <a:off x="4417920" y="2801880"/>
                <a:ext cx="60840" cy="59040"/>
              </a:xfrm>
              <a:custGeom>
                <a:avLst/>
                <a:gdLst/>
                <a:ahLst/>
                <a:rect l="0" t="0" r="r" b="b"/>
                <a:pathLst>
                  <a:path w="169" h="164">
                    <a:moveTo>
                      <a:pt x="30" y="0"/>
                    </a:moveTo>
                    <a:lnTo>
                      <a:pt x="8" y="22"/>
                    </a:lnTo>
                    <a:lnTo>
                      <a:pt x="0" y="57"/>
                    </a:lnTo>
                    <a:lnTo>
                      <a:pt x="0" y="84"/>
                    </a:lnTo>
                    <a:lnTo>
                      <a:pt x="0" y="111"/>
                    </a:lnTo>
                    <a:lnTo>
                      <a:pt x="8" y="128"/>
                    </a:lnTo>
                    <a:lnTo>
                      <a:pt x="17" y="142"/>
                    </a:lnTo>
                    <a:lnTo>
                      <a:pt x="30" y="150"/>
                    </a:lnTo>
                    <a:lnTo>
                      <a:pt x="39" y="159"/>
                    </a:lnTo>
                    <a:lnTo>
                      <a:pt x="62" y="164"/>
                    </a:lnTo>
                    <a:lnTo>
                      <a:pt x="80" y="164"/>
                    </a:lnTo>
                    <a:lnTo>
                      <a:pt x="98" y="159"/>
                    </a:lnTo>
                    <a:lnTo>
                      <a:pt x="129" y="150"/>
                    </a:lnTo>
                    <a:lnTo>
                      <a:pt x="156" y="124"/>
                    </a:lnTo>
                    <a:lnTo>
                      <a:pt x="169" y="106"/>
                    </a:lnTo>
                    <a:lnTo>
                      <a:pt x="169" y="98"/>
                    </a:lnTo>
                    <a:lnTo>
                      <a:pt x="143" y="74"/>
                    </a:lnTo>
                    <a:lnTo>
                      <a:pt x="98" y="48"/>
                    </a:lnTo>
                    <a:lnTo>
                      <a:pt x="53" y="17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4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370400" y="2712960"/>
                <a:ext cx="316440" cy="171720"/>
              </a:xfrm>
              <a:custGeom>
                <a:avLst/>
                <a:gdLst/>
                <a:ahLst/>
                <a:rect l="0" t="0" r="r" b="b"/>
                <a:pathLst>
                  <a:path fill="none" w="879" h="477">
                    <a:moveTo>
                      <a:pt x="0" y="74"/>
                    </a:moveTo>
                    <a:lnTo>
                      <a:pt x="35" y="136"/>
                    </a:lnTo>
                    <a:lnTo>
                      <a:pt x="79" y="185"/>
                    </a:lnTo>
                    <a:lnTo>
                      <a:pt x="180" y="261"/>
                    </a:lnTo>
                    <a:lnTo>
                      <a:pt x="296" y="336"/>
                    </a:lnTo>
                    <a:lnTo>
                      <a:pt x="371" y="380"/>
                    </a:lnTo>
                    <a:lnTo>
                      <a:pt x="437" y="419"/>
                    </a:lnTo>
                    <a:lnTo>
                      <a:pt x="499" y="450"/>
                    </a:lnTo>
                    <a:lnTo>
                      <a:pt x="583" y="477"/>
                    </a:lnTo>
                    <a:lnTo>
                      <a:pt x="631" y="477"/>
                    </a:lnTo>
                    <a:lnTo>
                      <a:pt x="694" y="446"/>
                    </a:lnTo>
                    <a:lnTo>
                      <a:pt x="747" y="393"/>
                    </a:lnTo>
                    <a:lnTo>
                      <a:pt x="813" y="314"/>
                    </a:lnTo>
                    <a:lnTo>
                      <a:pt x="848" y="229"/>
                    </a:lnTo>
                    <a:lnTo>
                      <a:pt x="870" y="171"/>
                    </a:lnTo>
                    <a:lnTo>
                      <a:pt x="879" y="97"/>
                    </a:lnTo>
                    <a:lnTo>
                      <a:pt x="879" y="39"/>
                    </a:lnTo>
                    <a:lnTo>
                      <a:pt x="879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4233960" y="2684520"/>
              <a:ext cx="658800" cy="179640"/>
              <a:chOff x="4233960" y="2684520"/>
              <a:chExt cx="658800" cy="179640"/>
            </a:xfrm>
          </p:grpSpPr>
          <p:sp>
            <p:nvSpPr>
              <p:cNvPr id="646" name=""/>
              <p:cNvSpPr/>
              <p:nvPr/>
            </p:nvSpPr>
            <p:spPr>
              <a:xfrm>
                <a:off x="4233960" y="2684520"/>
                <a:ext cx="249480" cy="41760"/>
              </a:xfrm>
              <a:custGeom>
                <a:avLst/>
                <a:gdLst/>
                <a:ahLst/>
                <a:rect l="0" t="0" r="r" b="b"/>
                <a:pathLst>
                  <a:path fill="none" w="693" h="116">
                    <a:moveTo>
                      <a:pt x="0" y="116"/>
                    </a:moveTo>
                    <a:lnTo>
                      <a:pt x="211" y="53"/>
                    </a:lnTo>
                    <a:lnTo>
                      <a:pt x="389" y="36"/>
                    </a:lnTo>
                    <a:lnTo>
                      <a:pt x="618" y="0"/>
                    </a:lnTo>
                    <a:lnTo>
                      <a:pt x="693" y="4"/>
                    </a:lnTo>
                  </a:path>
                </a:pathLst>
              </a:custGeom>
              <a:ln w="12600">
                <a:solidFill>
                  <a:srgbClr val="804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294080" y="2692440"/>
                <a:ext cx="203400" cy="95760"/>
              </a:xfrm>
              <a:custGeom>
                <a:avLst/>
                <a:gdLst/>
                <a:ahLst/>
                <a:rect l="0" t="0" r="r" b="b"/>
                <a:pathLst>
                  <a:path fill="none" w="565" h="266">
                    <a:moveTo>
                      <a:pt x="0" y="266"/>
                    </a:moveTo>
                    <a:lnTo>
                      <a:pt x="211" y="172"/>
                    </a:lnTo>
                    <a:lnTo>
                      <a:pt x="411" y="80"/>
                    </a:lnTo>
                    <a:lnTo>
                      <a:pt x="565" y="0"/>
                    </a:lnTo>
                  </a:path>
                </a:pathLst>
              </a:custGeom>
              <a:ln w="12600">
                <a:solidFill>
                  <a:srgbClr val="804000"/>
                </a:solidFill>
                <a:round/>
              </a:ln>
            </p:spPr>
            <p:txBody>
              <a:bodyPr lIns="96120" rIns="9612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361040" y="2701800"/>
                <a:ext cx="163800" cy="162360"/>
              </a:xfrm>
              <a:custGeom>
                <a:avLst/>
                <a:gdLst/>
                <a:ahLst/>
                <a:rect l="0" t="0" r="r" b="b"/>
                <a:pathLst>
                  <a:path fill="none" w="455" h="451">
                    <a:moveTo>
                      <a:pt x="0" y="451"/>
                    </a:moveTo>
                    <a:lnTo>
                      <a:pt x="189" y="261"/>
                    </a:lnTo>
                    <a:lnTo>
                      <a:pt x="358" y="88"/>
                    </a:lnTo>
                    <a:lnTo>
                      <a:pt x="455" y="0"/>
                    </a:lnTo>
                  </a:path>
                </a:pathLst>
              </a:custGeom>
              <a:ln w="12600">
                <a:solidFill>
                  <a:srgbClr val="804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672080" y="2716200"/>
                <a:ext cx="173520" cy="93960"/>
              </a:xfrm>
              <a:custGeom>
                <a:avLst/>
                <a:gdLst/>
                <a:ahLst/>
                <a:rect l="0" t="0" r="r" b="b"/>
                <a:pathLst>
                  <a:path fill="none" w="482" h="261">
                    <a:moveTo>
                      <a:pt x="0" y="0"/>
                    </a:moveTo>
                    <a:lnTo>
                      <a:pt x="150" y="17"/>
                    </a:lnTo>
                    <a:lnTo>
                      <a:pt x="269" y="44"/>
                    </a:lnTo>
                    <a:lnTo>
                      <a:pt x="368" y="123"/>
                    </a:lnTo>
                    <a:lnTo>
                      <a:pt x="451" y="221"/>
                    </a:lnTo>
                    <a:lnTo>
                      <a:pt x="482" y="261"/>
                    </a:lnTo>
                  </a:path>
                </a:pathLst>
              </a:custGeom>
              <a:ln w="12600">
                <a:solidFill>
                  <a:srgbClr val="804000"/>
                </a:solidFill>
                <a:round/>
              </a:ln>
            </p:spPr>
            <p:txBody>
              <a:bodyPr lIns="96120" rIns="9612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716360" y="2703600"/>
                <a:ext cx="176400" cy="46440"/>
              </a:xfrm>
              <a:custGeom>
                <a:avLst/>
                <a:gdLst/>
                <a:ahLst/>
                <a:rect l="0" t="0" r="r" b="b"/>
                <a:pathLst>
                  <a:path fill="none" w="490" h="129">
                    <a:moveTo>
                      <a:pt x="0" y="0"/>
                    </a:moveTo>
                    <a:lnTo>
                      <a:pt x="176" y="0"/>
                    </a:lnTo>
                    <a:lnTo>
                      <a:pt x="305" y="8"/>
                    </a:lnTo>
                    <a:lnTo>
                      <a:pt x="424" y="67"/>
                    </a:lnTo>
                    <a:lnTo>
                      <a:pt x="490" y="129"/>
                    </a:lnTo>
                  </a:path>
                </a:pathLst>
              </a:custGeom>
              <a:ln w="12600">
                <a:solidFill>
                  <a:srgbClr val="804000"/>
                </a:solidFill>
                <a:round/>
              </a:ln>
            </p:spPr>
            <p:txBody>
              <a:bodyPr lIns="96120" rIns="9612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1" name=""/>
          <p:cNvSpPr/>
          <p:nvPr/>
        </p:nvSpPr>
        <p:spPr>
          <a:xfrm>
            <a:off x="4133880" y="2959200"/>
            <a:ext cx="1238400" cy="1238400"/>
          </a:xfrm>
          <a:prstGeom prst="ellipse">
            <a:avLst/>
          </a:prstGeom>
          <a:gradFill rotWithShape="0">
            <a:gsLst>
              <a:gs pos="0">
                <a:srgbClr val="fc0128"/>
              </a:gs>
              <a:gs pos="100000">
                <a:srgbClr val="32000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5265720" y="3252960"/>
            <a:ext cx="279720" cy="332280"/>
            <a:chOff x="5265720" y="3252960"/>
            <a:chExt cx="279720" cy="332280"/>
          </a:xfrm>
        </p:grpSpPr>
        <p:sp>
          <p:nvSpPr>
            <p:cNvPr id="653" name=""/>
            <p:cNvSpPr/>
            <p:nvPr/>
          </p:nvSpPr>
          <p:spPr>
            <a:xfrm>
              <a:off x="5268960" y="3341520"/>
              <a:ext cx="262440" cy="117720"/>
            </a:xfrm>
            <a:custGeom>
              <a:avLst/>
              <a:gdLst/>
              <a:ahLst/>
              <a:rect l="0" t="0" r="r" b="b"/>
              <a:pathLst>
                <a:path w="729" h="327">
                  <a:moveTo>
                    <a:pt x="632" y="8"/>
                  </a:moveTo>
                  <a:lnTo>
                    <a:pt x="562" y="0"/>
                  </a:lnTo>
                  <a:lnTo>
                    <a:pt x="450" y="8"/>
                  </a:lnTo>
                  <a:lnTo>
                    <a:pt x="318" y="30"/>
                  </a:lnTo>
                  <a:lnTo>
                    <a:pt x="186" y="61"/>
                  </a:lnTo>
                  <a:lnTo>
                    <a:pt x="97" y="92"/>
                  </a:lnTo>
                  <a:lnTo>
                    <a:pt x="35" y="114"/>
                  </a:lnTo>
                  <a:lnTo>
                    <a:pt x="4" y="158"/>
                  </a:lnTo>
                  <a:lnTo>
                    <a:pt x="0" y="199"/>
                  </a:lnTo>
                  <a:lnTo>
                    <a:pt x="4" y="239"/>
                  </a:lnTo>
                  <a:lnTo>
                    <a:pt x="39" y="292"/>
                  </a:lnTo>
                  <a:lnTo>
                    <a:pt x="79" y="309"/>
                  </a:lnTo>
                  <a:lnTo>
                    <a:pt x="149" y="327"/>
                  </a:lnTo>
                  <a:lnTo>
                    <a:pt x="225" y="322"/>
                  </a:lnTo>
                  <a:lnTo>
                    <a:pt x="353" y="292"/>
                  </a:lnTo>
                  <a:lnTo>
                    <a:pt x="508" y="269"/>
                  </a:lnTo>
                  <a:lnTo>
                    <a:pt x="614" y="239"/>
                  </a:lnTo>
                  <a:lnTo>
                    <a:pt x="676" y="208"/>
                  </a:lnTo>
                  <a:lnTo>
                    <a:pt x="707" y="190"/>
                  </a:lnTo>
                  <a:lnTo>
                    <a:pt x="729" y="149"/>
                  </a:lnTo>
                  <a:lnTo>
                    <a:pt x="729" y="110"/>
                  </a:lnTo>
                  <a:lnTo>
                    <a:pt x="725" y="61"/>
                  </a:lnTo>
                  <a:lnTo>
                    <a:pt x="694" y="22"/>
                  </a:lnTo>
                  <a:lnTo>
                    <a:pt x="632" y="8"/>
                  </a:lnTo>
                  <a:close/>
                </a:path>
              </a:pathLst>
            </a:custGeom>
            <a:solidFill>
              <a:srgbClr val="ffe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265720" y="3252960"/>
              <a:ext cx="244800" cy="124200"/>
            </a:xfrm>
            <a:custGeom>
              <a:avLst/>
              <a:gdLst/>
              <a:ahLst/>
              <a:rect l="0" t="0" r="r" b="b"/>
              <a:pathLst>
                <a:path w="680" h="345">
                  <a:moveTo>
                    <a:pt x="508" y="0"/>
                  </a:moveTo>
                  <a:lnTo>
                    <a:pt x="411" y="0"/>
                  </a:lnTo>
                  <a:lnTo>
                    <a:pt x="321" y="17"/>
                  </a:lnTo>
                  <a:lnTo>
                    <a:pt x="255" y="26"/>
                  </a:lnTo>
                  <a:lnTo>
                    <a:pt x="167" y="48"/>
                  </a:lnTo>
                  <a:lnTo>
                    <a:pt x="88" y="83"/>
                  </a:lnTo>
                  <a:lnTo>
                    <a:pt x="30" y="124"/>
                  </a:lnTo>
                  <a:lnTo>
                    <a:pt x="8" y="159"/>
                  </a:lnTo>
                  <a:lnTo>
                    <a:pt x="0" y="199"/>
                  </a:lnTo>
                  <a:lnTo>
                    <a:pt x="8" y="239"/>
                  </a:lnTo>
                  <a:lnTo>
                    <a:pt x="30" y="275"/>
                  </a:lnTo>
                  <a:lnTo>
                    <a:pt x="48" y="310"/>
                  </a:lnTo>
                  <a:lnTo>
                    <a:pt x="92" y="345"/>
                  </a:lnTo>
                  <a:lnTo>
                    <a:pt x="163" y="345"/>
                  </a:lnTo>
                  <a:lnTo>
                    <a:pt x="273" y="328"/>
                  </a:lnTo>
                  <a:lnTo>
                    <a:pt x="375" y="306"/>
                  </a:lnTo>
                  <a:lnTo>
                    <a:pt x="508" y="270"/>
                  </a:lnTo>
                  <a:lnTo>
                    <a:pt x="609" y="239"/>
                  </a:lnTo>
                  <a:lnTo>
                    <a:pt x="658" y="195"/>
                  </a:lnTo>
                  <a:lnTo>
                    <a:pt x="680" y="142"/>
                  </a:lnTo>
                  <a:lnTo>
                    <a:pt x="680" y="102"/>
                  </a:lnTo>
                  <a:lnTo>
                    <a:pt x="658" y="61"/>
                  </a:lnTo>
                  <a:lnTo>
                    <a:pt x="622" y="35"/>
                  </a:lnTo>
                  <a:lnTo>
                    <a:pt x="574" y="13"/>
                  </a:lnTo>
                  <a:lnTo>
                    <a:pt x="508" y="0"/>
                  </a:lnTo>
                  <a:close/>
                </a:path>
              </a:pathLst>
            </a:custGeom>
            <a:solidFill>
              <a:srgbClr val="ffe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286240" y="3427560"/>
              <a:ext cx="259200" cy="157680"/>
            </a:xfrm>
            <a:custGeom>
              <a:avLst/>
              <a:gdLst/>
              <a:ahLst/>
              <a:rect l="0" t="0" r="r" b="b"/>
              <a:pathLst>
                <a:path w="720" h="438">
                  <a:moveTo>
                    <a:pt x="17" y="133"/>
                  </a:moveTo>
                  <a:lnTo>
                    <a:pt x="57" y="97"/>
                  </a:lnTo>
                  <a:lnTo>
                    <a:pt x="123" y="70"/>
                  </a:lnTo>
                  <a:lnTo>
                    <a:pt x="252" y="39"/>
                  </a:lnTo>
                  <a:lnTo>
                    <a:pt x="371" y="17"/>
                  </a:lnTo>
                  <a:lnTo>
                    <a:pt x="508" y="0"/>
                  </a:lnTo>
                  <a:lnTo>
                    <a:pt x="575" y="4"/>
                  </a:lnTo>
                  <a:lnTo>
                    <a:pt x="659" y="35"/>
                  </a:lnTo>
                  <a:lnTo>
                    <a:pt x="711" y="83"/>
                  </a:lnTo>
                  <a:lnTo>
                    <a:pt x="720" y="137"/>
                  </a:lnTo>
                  <a:lnTo>
                    <a:pt x="694" y="217"/>
                  </a:lnTo>
                  <a:lnTo>
                    <a:pt x="614" y="305"/>
                  </a:lnTo>
                  <a:lnTo>
                    <a:pt x="548" y="363"/>
                  </a:lnTo>
                  <a:lnTo>
                    <a:pt x="468" y="394"/>
                  </a:lnTo>
                  <a:lnTo>
                    <a:pt x="367" y="429"/>
                  </a:lnTo>
                  <a:lnTo>
                    <a:pt x="239" y="438"/>
                  </a:lnTo>
                  <a:lnTo>
                    <a:pt x="176" y="438"/>
                  </a:lnTo>
                  <a:lnTo>
                    <a:pt x="234" y="345"/>
                  </a:lnTo>
                  <a:lnTo>
                    <a:pt x="123" y="322"/>
                  </a:lnTo>
                  <a:lnTo>
                    <a:pt x="61" y="305"/>
                  </a:lnTo>
                  <a:lnTo>
                    <a:pt x="17" y="278"/>
                  </a:lnTo>
                  <a:lnTo>
                    <a:pt x="0" y="243"/>
                  </a:lnTo>
                  <a:lnTo>
                    <a:pt x="0" y="181"/>
                  </a:lnTo>
                  <a:lnTo>
                    <a:pt x="17" y="133"/>
                  </a:lnTo>
                  <a:close/>
                </a:path>
              </a:pathLst>
            </a:custGeom>
            <a:solidFill>
              <a:srgbClr val="ffe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4024440" y="3263760"/>
            <a:ext cx="268560" cy="319320"/>
            <a:chOff x="4024440" y="3263760"/>
            <a:chExt cx="268560" cy="319320"/>
          </a:xfrm>
        </p:grpSpPr>
        <p:sp>
          <p:nvSpPr>
            <p:cNvPr id="657" name=""/>
            <p:cNvSpPr/>
            <p:nvPr/>
          </p:nvSpPr>
          <p:spPr>
            <a:xfrm>
              <a:off x="4035600" y="3351240"/>
              <a:ext cx="257400" cy="117720"/>
            </a:xfrm>
            <a:custGeom>
              <a:avLst/>
              <a:gdLst/>
              <a:ahLst/>
              <a:rect l="0" t="0" r="r" b="b"/>
              <a:pathLst>
                <a:path w="715" h="327">
                  <a:moveTo>
                    <a:pt x="653" y="97"/>
                  </a:moveTo>
                  <a:lnTo>
                    <a:pt x="596" y="79"/>
                  </a:lnTo>
                  <a:lnTo>
                    <a:pt x="494" y="48"/>
                  </a:lnTo>
                  <a:lnTo>
                    <a:pt x="415" y="30"/>
                  </a:lnTo>
                  <a:lnTo>
                    <a:pt x="330" y="8"/>
                  </a:lnTo>
                  <a:lnTo>
                    <a:pt x="233" y="0"/>
                  </a:lnTo>
                  <a:lnTo>
                    <a:pt x="132" y="4"/>
                  </a:lnTo>
                  <a:lnTo>
                    <a:pt x="83" y="8"/>
                  </a:lnTo>
                  <a:lnTo>
                    <a:pt x="44" y="22"/>
                  </a:lnTo>
                  <a:lnTo>
                    <a:pt x="13" y="52"/>
                  </a:lnTo>
                  <a:lnTo>
                    <a:pt x="0" y="83"/>
                  </a:lnTo>
                  <a:lnTo>
                    <a:pt x="0" y="132"/>
                  </a:lnTo>
                  <a:lnTo>
                    <a:pt x="17" y="186"/>
                  </a:lnTo>
                  <a:lnTo>
                    <a:pt x="35" y="208"/>
                  </a:lnTo>
                  <a:lnTo>
                    <a:pt x="66" y="234"/>
                  </a:lnTo>
                  <a:lnTo>
                    <a:pt x="145" y="247"/>
                  </a:lnTo>
                  <a:lnTo>
                    <a:pt x="229" y="269"/>
                  </a:lnTo>
                  <a:lnTo>
                    <a:pt x="358" y="292"/>
                  </a:lnTo>
                  <a:lnTo>
                    <a:pt x="508" y="327"/>
                  </a:lnTo>
                  <a:lnTo>
                    <a:pt x="596" y="327"/>
                  </a:lnTo>
                  <a:lnTo>
                    <a:pt x="671" y="292"/>
                  </a:lnTo>
                  <a:lnTo>
                    <a:pt x="706" y="243"/>
                  </a:lnTo>
                  <a:lnTo>
                    <a:pt x="715" y="199"/>
                  </a:lnTo>
                  <a:lnTo>
                    <a:pt x="715" y="164"/>
                  </a:lnTo>
                  <a:lnTo>
                    <a:pt x="702" y="132"/>
                  </a:lnTo>
                  <a:lnTo>
                    <a:pt x="653" y="97"/>
                  </a:lnTo>
                  <a:close/>
                </a:path>
              </a:pathLst>
            </a:custGeom>
            <a:solidFill>
              <a:srgbClr val="ffe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057560" y="3263760"/>
              <a:ext cx="233640" cy="116280"/>
            </a:xfrm>
            <a:custGeom>
              <a:avLst/>
              <a:gdLst/>
              <a:ahLst/>
              <a:rect l="0" t="0" r="r" b="b"/>
              <a:pathLst>
                <a:path w="649" h="323">
                  <a:moveTo>
                    <a:pt x="556" y="315"/>
                  </a:moveTo>
                  <a:lnTo>
                    <a:pt x="609" y="284"/>
                  </a:lnTo>
                  <a:lnTo>
                    <a:pt x="649" y="225"/>
                  </a:lnTo>
                  <a:lnTo>
                    <a:pt x="649" y="186"/>
                  </a:lnTo>
                  <a:lnTo>
                    <a:pt x="649" y="137"/>
                  </a:lnTo>
                  <a:lnTo>
                    <a:pt x="631" y="111"/>
                  </a:lnTo>
                  <a:lnTo>
                    <a:pt x="583" y="70"/>
                  </a:lnTo>
                  <a:lnTo>
                    <a:pt x="534" y="48"/>
                  </a:lnTo>
                  <a:lnTo>
                    <a:pt x="446" y="30"/>
                  </a:lnTo>
                  <a:lnTo>
                    <a:pt x="375" y="17"/>
                  </a:lnTo>
                  <a:lnTo>
                    <a:pt x="260" y="4"/>
                  </a:lnTo>
                  <a:lnTo>
                    <a:pt x="171" y="0"/>
                  </a:lnTo>
                  <a:lnTo>
                    <a:pt x="101" y="8"/>
                  </a:lnTo>
                  <a:lnTo>
                    <a:pt x="35" y="44"/>
                  </a:lnTo>
                  <a:lnTo>
                    <a:pt x="13" y="84"/>
                  </a:lnTo>
                  <a:lnTo>
                    <a:pt x="0" y="128"/>
                  </a:lnTo>
                  <a:lnTo>
                    <a:pt x="0" y="164"/>
                  </a:lnTo>
                  <a:lnTo>
                    <a:pt x="26" y="203"/>
                  </a:lnTo>
                  <a:lnTo>
                    <a:pt x="79" y="239"/>
                  </a:lnTo>
                  <a:lnTo>
                    <a:pt x="149" y="266"/>
                  </a:lnTo>
                  <a:lnTo>
                    <a:pt x="260" y="284"/>
                  </a:lnTo>
                  <a:lnTo>
                    <a:pt x="367" y="306"/>
                  </a:lnTo>
                  <a:lnTo>
                    <a:pt x="477" y="323"/>
                  </a:lnTo>
                  <a:lnTo>
                    <a:pt x="556" y="315"/>
                  </a:lnTo>
                  <a:close/>
                </a:path>
              </a:pathLst>
            </a:custGeom>
            <a:solidFill>
              <a:srgbClr val="ffe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024440" y="3438360"/>
              <a:ext cx="259200" cy="144720"/>
            </a:xfrm>
            <a:custGeom>
              <a:avLst/>
              <a:gdLst/>
              <a:ahLst/>
              <a:rect l="0" t="0" r="r" b="b"/>
              <a:pathLst>
                <a:path w="720" h="402">
                  <a:moveTo>
                    <a:pt x="689" y="114"/>
                  </a:moveTo>
                  <a:lnTo>
                    <a:pt x="623" y="88"/>
                  </a:lnTo>
                  <a:lnTo>
                    <a:pt x="553" y="70"/>
                  </a:lnTo>
                  <a:lnTo>
                    <a:pt x="428" y="35"/>
                  </a:lnTo>
                  <a:lnTo>
                    <a:pt x="318" y="17"/>
                  </a:lnTo>
                  <a:lnTo>
                    <a:pt x="203" y="0"/>
                  </a:lnTo>
                  <a:lnTo>
                    <a:pt x="132" y="0"/>
                  </a:lnTo>
                  <a:lnTo>
                    <a:pt x="48" y="30"/>
                  </a:lnTo>
                  <a:lnTo>
                    <a:pt x="8" y="70"/>
                  </a:lnTo>
                  <a:lnTo>
                    <a:pt x="0" y="105"/>
                  </a:lnTo>
                  <a:lnTo>
                    <a:pt x="4" y="163"/>
                  </a:lnTo>
                  <a:lnTo>
                    <a:pt x="44" y="225"/>
                  </a:lnTo>
                  <a:lnTo>
                    <a:pt x="105" y="292"/>
                  </a:lnTo>
                  <a:lnTo>
                    <a:pt x="176" y="353"/>
                  </a:lnTo>
                  <a:lnTo>
                    <a:pt x="230" y="384"/>
                  </a:lnTo>
                  <a:lnTo>
                    <a:pt x="292" y="402"/>
                  </a:lnTo>
                  <a:lnTo>
                    <a:pt x="353" y="353"/>
                  </a:lnTo>
                  <a:lnTo>
                    <a:pt x="486" y="331"/>
                  </a:lnTo>
                  <a:lnTo>
                    <a:pt x="584" y="314"/>
                  </a:lnTo>
                  <a:lnTo>
                    <a:pt x="654" y="292"/>
                  </a:lnTo>
                  <a:lnTo>
                    <a:pt x="703" y="256"/>
                  </a:lnTo>
                  <a:lnTo>
                    <a:pt x="716" y="198"/>
                  </a:lnTo>
                  <a:lnTo>
                    <a:pt x="720" y="154"/>
                  </a:lnTo>
                  <a:lnTo>
                    <a:pt x="689" y="114"/>
                  </a:lnTo>
                  <a:close/>
                </a:path>
              </a:pathLst>
            </a:custGeom>
            <a:solidFill>
              <a:srgbClr val="ffe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"/>
          <p:cNvSpPr txBox="1"/>
          <p:nvPr/>
        </p:nvSpPr>
        <p:spPr>
          <a:xfrm>
            <a:off x="679320" y="6192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279360" y="1606680"/>
            <a:ext cx="8369280" cy="34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1.  For circularity control, the geometric tolerance may b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applied to either a feature or feature of size.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True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2.  Circularity control refers to its own perfect geometr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counterpart; always applied to a diametral feature.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True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No modifiers may be used in the feature control fr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controlling circularity.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e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8572680" y="4071960"/>
            <a:ext cx="150840" cy="1508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7316640" y="4071960"/>
            <a:ext cx="150840" cy="1508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7316640" y="3076560"/>
            <a:ext cx="150840" cy="15084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8572680" y="3075120"/>
            <a:ext cx="150840" cy="15084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8572680" y="2084400"/>
            <a:ext cx="150840" cy="15084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7316640" y="2082960"/>
            <a:ext cx="150840" cy="15084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1" name=""/>
          <p:cNvGrpSpPr/>
          <p:nvPr/>
        </p:nvGrpSpPr>
        <p:grpSpPr>
          <a:xfrm>
            <a:off x="2708280" y="743040"/>
            <a:ext cx="3684600" cy="517680"/>
            <a:chOff x="2708280" y="743040"/>
            <a:chExt cx="3684600" cy="517680"/>
          </a:xfrm>
        </p:grpSpPr>
        <p:sp>
          <p:nvSpPr>
            <p:cNvPr id="1362" name=""/>
            <p:cNvSpPr/>
            <p:nvPr/>
          </p:nvSpPr>
          <p:spPr>
            <a:xfrm>
              <a:off x="2708280" y="762120"/>
              <a:ext cx="3684600" cy="4986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 txBox="1"/>
            <p:nvPr/>
          </p:nvSpPr>
          <p:spPr>
            <a:xfrm>
              <a:off x="3776760" y="743040"/>
              <a:ext cx="1504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Times New Roman"/>
                </a:rPr>
                <a:t>Circular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 txBox="1"/>
          <p:nvPr/>
        </p:nvSpPr>
        <p:spPr>
          <a:xfrm>
            <a:off x="679320" y="6192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279360" y="1606680"/>
            <a:ext cx="836928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1.  For circularity control, the geometric tolerance may b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applied to either a feature or feature of size.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True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2.  Circularity control refers to its own perfect geometr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counterpart; always applied to a diametral feature.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True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3.  No modifiers may be used in the feature control fr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when controlling circularity.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True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 The circularity control must be a refinement of 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ometric tolerances which indirectly affect t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ularity characteristics of the feature.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e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8572680" y="5411880"/>
            <a:ext cx="150840" cy="1508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7316640" y="5425920"/>
            <a:ext cx="150840" cy="1508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8572680" y="4071960"/>
            <a:ext cx="150840" cy="15084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7316640" y="4071960"/>
            <a:ext cx="150840" cy="15084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7316640" y="3076560"/>
            <a:ext cx="150840" cy="15084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8572680" y="3075120"/>
            <a:ext cx="150840" cy="15084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8572680" y="2084400"/>
            <a:ext cx="150840" cy="15084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7316640" y="2082960"/>
            <a:ext cx="150840" cy="15084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4" name=""/>
          <p:cNvGrpSpPr/>
          <p:nvPr/>
        </p:nvGrpSpPr>
        <p:grpSpPr>
          <a:xfrm>
            <a:off x="2708280" y="743040"/>
            <a:ext cx="3684600" cy="517680"/>
            <a:chOff x="2708280" y="743040"/>
            <a:chExt cx="3684600" cy="517680"/>
          </a:xfrm>
        </p:grpSpPr>
        <p:sp>
          <p:nvSpPr>
            <p:cNvPr id="1375" name=""/>
            <p:cNvSpPr/>
            <p:nvPr/>
          </p:nvSpPr>
          <p:spPr>
            <a:xfrm>
              <a:off x="2708280" y="762120"/>
              <a:ext cx="3684600" cy="4986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 txBox="1"/>
            <p:nvPr/>
          </p:nvSpPr>
          <p:spPr>
            <a:xfrm>
              <a:off x="3776760" y="743040"/>
              <a:ext cx="1504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Times New Roman"/>
                </a:rPr>
                <a:t>Circular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"/>
          <p:cNvSpPr txBox="1"/>
          <p:nvPr/>
        </p:nvSpPr>
        <p:spPr>
          <a:xfrm>
            <a:off x="679320" y="6192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 txBox="1"/>
          <p:nvPr/>
        </p:nvSpPr>
        <p:spPr>
          <a:xfrm>
            <a:off x="279360" y="1606680"/>
            <a:ext cx="843912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1.  For circularity control, the geometric tolerance may b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applied to either a feature or feature of size.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True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2.  Circularity control refers to its own perfect geometr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counterpart; always applied to a diametral feature.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True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3.  No modifiers may be used in the feature control fr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when controlling circularity.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True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4.  The circularity control must be a refinement of 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geometric tolerances which indirectly affect t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circularity characteristics of the feature.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True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 No datum reference may be used with circularity.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e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Fal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8572680" y="5411880"/>
            <a:ext cx="150840" cy="15084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7316640" y="5425920"/>
            <a:ext cx="150840" cy="15084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8572680" y="4071960"/>
            <a:ext cx="150840" cy="15084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7316640" y="4071960"/>
            <a:ext cx="150840" cy="15084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7316640" y="3076560"/>
            <a:ext cx="150840" cy="15084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8572680" y="3075120"/>
            <a:ext cx="150840" cy="15084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7316640" y="6084720"/>
            <a:ext cx="150840" cy="1508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8572680" y="6084720"/>
            <a:ext cx="150840" cy="1508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8572680" y="2084400"/>
            <a:ext cx="150840" cy="15084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7316640" y="2082960"/>
            <a:ext cx="150840" cy="15084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9" name=""/>
          <p:cNvGrpSpPr/>
          <p:nvPr/>
        </p:nvGrpSpPr>
        <p:grpSpPr>
          <a:xfrm>
            <a:off x="2708280" y="743040"/>
            <a:ext cx="3684600" cy="517680"/>
            <a:chOff x="2708280" y="743040"/>
            <a:chExt cx="3684600" cy="517680"/>
          </a:xfrm>
        </p:grpSpPr>
        <p:sp>
          <p:nvSpPr>
            <p:cNvPr id="1390" name=""/>
            <p:cNvSpPr/>
            <p:nvPr/>
          </p:nvSpPr>
          <p:spPr>
            <a:xfrm>
              <a:off x="2708280" y="762120"/>
              <a:ext cx="3684600" cy="4986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 txBox="1"/>
            <p:nvPr/>
          </p:nvSpPr>
          <p:spPr>
            <a:xfrm>
              <a:off x="3776760" y="743040"/>
              <a:ext cx="1504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Times New Roman"/>
                </a:rPr>
                <a:t>Circular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 txBox="1"/>
          <p:nvPr/>
        </p:nvSpPr>
        <p:spPr>
          <a:xfrm>
            <a:off x="679320" y="6192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279360" y="1606680"/>
            <a:ext cx="84391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 txBox="1"/>
          <p:nvPr/>
        </p:nvSpPr>
        <p:spPr>
          <a:xfrm>
            <a:off x="2184480" y="2705040"/>
            <a:ext cx="4660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SWER KE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5" name=""/>
          <p:cNvGrpSpPr/>
          <p:nvPr/>
        </p:nvGrpSpPr>
        <p:grpSpPr>
          <a:xfrm>
            <a:off x="2708280" y="743040"/>
            <a:ext cx="3684600" cy="517680"/>
            <a:chOff x="2708280" y="743040"/>
            <a:chExt cx="3684600" cy="517680"/>
          </a:xfrm>
        </p:grpSpPr>
        <p:sp>
          <p:nvSpPr>
            <p:cNvPr id="1396" name=""/>
            <p:cNvSpPr/>
            <p:nvPr/>
          </p:nvSpPr>
          <p:spPr>
            <a:xfrm>
              <a:off x="2708280" y="762120"/>
              <a:ext cx="3684600" cy="4986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 txBox="1"/>
            <p:nvPr/>
          </p:nvSpPr>
          <p:spPr>
            <a:xfrm>
              <a:off x="3776760" y="743040"/>
              <a:ext cx="1504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Times New Roman"/>
                </a:rPr>
                <a:t>Circular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"/>
          <p:cNvSpPr txBox="1"/>
          <p:nvPr/>
        </p:nvSpPr>
        <p:spPr>
          <a:xfrm>
            <a:off x="679320" y="6192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 txBox="1"/>
          <p:nvPr/>
        </p:nvSpPr>
        <p:spPr>
          <a:xfrm>
            <a:off x="279360" y="1606680"/>
            <a:ext cx="83692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 For circularity control, the geometric tolerance may b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ed to either a feature or feature of size.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e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8572680" y="2084400"/>
            <a:ext cx="150840" cy="1508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7316640" y="2082960"/>
            <a:ext cx="150840" cy="1508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2" name=""/>
          <p:cNvGrpSpPr/>
          <p:nvPr/>
        </p:nvGrpSpPr>
        <p:grpSpPr>
          <a:xfrm>
            <a:off x="2708280" y="743040"/>
            <a:ext cx="3684600" cy="517680"/>
            <a:chOff x="2708280" y="743040"/>
            <a:chExt cx="3684600" cy="517680"/>
          </a:xfrm>
        </p:grpSpPr>
        <p:sp>
          <p:nvSpPr>
            <p:cNvPr id="1403" name=""/>
            <p:cNvSpPr/>
            <p:nvPr/>
          </p:nvSpPr>
          <p:spPr>
            <a:xfrm>
              <a:off x="2708280" y="762120"/>
              <a:ext cx="3684600" cy="4986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 txBox="1"/>
            <p:nvPr/>
          </p:nvSpPr>
          <p:spPr>
            <a:xfrm>
              <a:off x="3776760" y="743040"/>
              <a:ext cx="1504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Times New Roman"/>
                </a:rPr>
                <a:t>Circular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"/>
          <p:cNvSpPr txBox="1"/>
          <p:nvPr/>
        </p:nvSpPr>
        <p:spPr>
          <a:xfrm>
            <a:off x="679320" y="6192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 txBox="1"/>
          <p:nvPr/>
        </p:nvSpPr>
        <p:spPr>
          <a:xfrm>
            <a:off x="279360" y="1606680"/>
            <a:ext cx="83692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 For circularity control, the geometric tolerance may b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ed to either a feature or feature of size.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e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8572680" y="2084400"/>
            <a:ext cx="150840" cy="15084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7316640" y="2082960"/>
            <a:ext cx="150840" cy="1508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9" name=""/>
          <p:cNvGrpSpPr/>
          <p:nvPr/>
        </p:nvGrpSpPr>
        <p:grpSpPr>
          <a:xfrm>
            <a:off x="2708280" y="743040"/>
            <a:ext cx="3684600" cy="517680"/>
            <a:chOff x="2708280" y="743040"/>
            <a:chExt cx="3684600" cy="517680"/>
          </a:xfrm>
        </p:grpSpPr>
        <p:sp>
          <p:nvSpPr>
            <p:cNvPr id="1410" name=""/>
            <p:cNvSpPr/>
            <p:nvPr/>
          </p:nvSpPr>
          <p:spPr>
            <a:xfrm>
              <a:off x="2708280" y="762120"/>
              <a:ext cx="3684600" cy="4986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 txBox="1"/>
            <p:nvPr/>
          </p:nvSpPr>
          <p:spPr>
            <a:xfrm>
              <a:off x="3776760" y="743040"/>
              <a:ext cx="1504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Times New Roman"/>
                </a:rPr>
                <a:t>Circular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"/>
          <p:cNvSpPr txBox="1"/>
          <p:nvPr/>
        </p:nvSpPr>
        <p:spPr>
          <a:xfrm>
            <a:off x="679320" y="6192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 txBox="1"/>
          <p:nvPr/>
        </p:nvSpPr>
        <p:spPr>
          <a:xfrm>
            <a:off x="279360" y="1606680"/>
            <a:ext cx="8369280" cy="24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1.  For circularity control, the geometric tolerance may b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applied to either a feature or feature of size.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True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Circularity control refers to its own perfect geometr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unterpart; always applied to a diametral feature.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e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7316640" y="3076560"/>
            <a:ext cx="150840" cy="1508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8572680" y="3075120"/>
            <a:ext cx="150840" cy="1508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8572680" y="2084400"/>
            <a:ext cx="150840" cy="150840"/>
          </a:xfrm>
          <a:prstGeom prst="rect">
            <a:avLst/>
          </a:prstGeom>
          <a:solidFill>
            <a:srgbClr val="114ffb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7316640" y="2082960"/>
            <a:ext cx="150840" cy="15084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8" name=""/>
          <p:cNvGrpSpPr/>
          <p:nvPr/>
        </p:nvGrpSpPr>
        <p:grpSpPr>
          <a:xfrm>
            <a:off x="2708280" y="743040"/>
            <a:ext cx="3684600" cy="517680"/>
            <a:chOff x="2708280" y="743040"/>
            <a:chExt cx="3684600" cy="517680"/>
          </a:xfrm>
        </p:grpSpPr>
        <p:sp>
          <p:nvSpPr>
            <p:cNvPr id="1419" name=""/>
            <p:cNvSpPr/>
            <p:nvPr/>
          </p:nvSpPr>
          <p:spPr>
            <a:xfrm>
              <a:off x="2708280" y="762120"/>
              <a:ext cx="3684600" cy="4986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 txBox="1"/>
            <p:nvPr/>
          </p:nvSpPr>
          <p:spPr>
            <a:xfrm>
              <a:off x="3776760" y="743040"/>
              <a:ext cx="1504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Times New Roman"/>
                </a:rPr>
                <a:t>Circular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"/>
          <p:cNvSpPr txBox="1"/>
          <p:nvPr/>
        </p:nvSpPr>
        <p:spPr>
          <a:xfrm>
            <a:off x="679320" y="6192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 txBox="1"/>
          <p:nvPr/>
        </p:nvSpPr>
        <p:spPr>
          <a:xfrm>
            <a:off x="279360" y="1606680"/>
            <a:ext cx="8369280" cy="24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1.  For circularity control, the geometric tolerance may b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applied to either a feature or feature of size.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True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Circularity control refers to its own perfect geometr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unterpart; always applied to a diametral feature.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e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7316640" y="3076560"/>
            <a:ext cx="150840" cy="15084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8572680" y="3075120"/>
            <a:ext cx="150840" cy="1508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8572680" y="2084400"/>
            <a:ext cx="150840" cy="150840"/>
          </a:xfrm>
          <a:prstGeom prst="rect">
            <a:avLst/>
          </a:prstGeom>
          <a:solidFill>
            <a:srgbClr val="114ffb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7316640" y="2082960"/>
            <a:ext cx="150840" cy="15084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7" name=""/>
          <p:cNvGrpSpPr/>
          <p:nvPr/>
        </p:nvGrpSpPr>
        <p:grpSpPr>
          <a:xfrm>
            <a:off x="2708280" y="743040"/>
            <a:ext cx="3684600" cy="517680"/>
            <a:chOff x="2708280" y="743040"/>
            <a:chExt cx="3684600" cy="517680"/>
          </a:xfrm>
        </p:grpSpPr>
        <p:sp>
          <p:nvSpPr>
            <p:cNvPr id="1428" name=""/>
            <p:cNvSpPr/>
            <p:nvPr/>
          </p:nvSpPr>
          <p:spPr>
            <a:xfrm>
              <a:off x="2708280" y="762120"/>
              <a:ext cx="3684600" cy="4986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 txBox="1"/>
            <p:nvPr/>
          </p:nvSpPr>
          <p:spPr>
            <a:xfrm>
              <a:off x="3776760" y="743040"/>
              <a:ext cx="1504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Times New Roman"/>
                </a:rPr>
                <a:t>Circular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"/>
          <p:cNvSpPr txBox="1"/>
          <p:nvPr/>
        </p:nvSpPr>
        <p:spPr>
          <a:xfrm>
            <a:off x="679320" y="6192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 txBox="1"/>
          <p:nvPr/>
        </p:nvSpPr>
        <p:spPr>
          <a:xfrm>
            <a:off x="279360" y="1606680"/>
            <a:ext cx="8369280" cy="34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1.  For circularity control, the geometric tolerance may b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applied to either a feature or feature of size.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True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2.  Circularity control refers to its own perfect geometr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counterpart; always applied to a diametral feature.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True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No modifiers may be used in the feature control fr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controlling circularity.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e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8572680" y="4071960"/>
            <a:ext cx="150840" cy="1508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7316640" y="4071960"/>
            <a:ext cx="150840" cy="1508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7316640" y="3076560"/>
            <a:ext cx="150840" cy="150840"/>
          </a:xfrm>
          <a:prstGeom prst="rect">
            <a:avLst/>
          </a:prstGeom>
          <a:solidFill>
            <a:srgbClr val="114ffb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8572680" y="3075120"/>
            <a:ext cx="150840" cy="15084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8572680" y="2084400"/>
            <a:ext cx="150840" cy="150840"/>
          </a:xfrm>
          <a:prstGeom prst="rect">
            <a:avLst/>
          </a:prstGeom>
          <a:solidFill>
            <a:srgbClr val="114ffb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7316640" y="2082960"/>
            <a:ext cx="150840" cy="15084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2708280" y="743040"/>
            <a:ext cx="3684600" cy="517680"/>
            <a:chOff x="2708280" y="743040"/>
            <a:chExt cx="3684600" cy="517680"/>
          </a:xfrm>
        </p:grpSpPr>
        <p:sp>
          <p:nvSpPr>
            <p:cNvPr id="1439" name=""/>
            <p:cNvSpPr/>
            <p:nvPr/>
          </p:nvSpPr>
          <p:spPr>
            <a:xfrm>
              <a:off x="2708280" y="762120"/>
              <a:ext cx="3684600" cy="4986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 txBox="1"/>
            <p:nvPr/>
          </p:nvSpPr>
          <p:spPr>
            <a:xfrm>
              <a:off x="3776760" y="743040"/>
              <a:ext cx="1504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Times New Roman"/>
                </a:rPr>
                <a:t>Circular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"/>
          <p:cNvSpPr txBox="1"/>
          <p:nvPr/>
        </p:nvSpPr>
        <p:spPr>
          <a:xfrm>
            <a:off x="679320" y="6192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 txBox="1"/>
          <p:nvPr/>
        </p:nvSpPr>
        <p:spPr>
          <a:xfrm>
            <a:off x="279360" y="1606680"/>
            <a:ext cx="8369280" cy="34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1.  For circularity control, the geometric tolerance may b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applied to either a feature or feature of size.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True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2.  Circularity control refers to its own perfect geometr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counterpart; always applied to a diametral feature.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True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No modifiers may be used in the feature control fr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controlling circularity.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e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8572680" y="4071960"/>
            <a:ext cx="150840" cy="1508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7316640" y="4071960"/>
            <a:ext cx="150840" cy="15084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7316640" y="3076560"/>
            <a:ext cx="150840" cy="150840"/>
          </a:xfrm>
          <a:prstGeom prst="rect">
            <a:avLst/>
          </a:prstGeom>
          <a:solidFill>
            <a:srgbClr val="114ffb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8572680" y="3075120"/>
            <a:ext cx="150840" cy="15084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8572680" y="2084400"/>
            <a:ext cx="150840" cy="150840"/>
          </a:xfrm>
          <a:prstGeom prst="rect">
            <a:avLst/>
          </a:prstGeom>
          <a:solidFill>
            <a:srgbClr val="114ffb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7316640" y="2082960"/>
            <a:ext cx="150840" cy="15084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9" name=""/>
          <p:cNvGrpSpPr/>
          <p:nvPr/>
        </p:nvGrpSpPr>
        <p:grpSpPr>
          <a:xfrm>
            <a:off x="2708280" y="743040"/>
            <a:ext cx="3684600" cy="517680"/>
            <a:chOff x="2708280" y="743040"/>
            <a:chExt cx="3684600" cy="517680"/>
          </a:xfrm>
        </p:grpSpPr>
        <p:sp>
          <p:nvSpPr>
            <p:cNvPr id="1450" name=""/>
            <p:cNvSpPr/>
            <p:nvPr/>
          </p:nvSpPr>
          <p:spPr>
            <a:xfrm>
              <a:off x="2708280" y="762120"/>
              <a:ext cx="3684600" cy="4986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 txBox="1"/>
            <p:nvPr/>
          </p:nvSpPr>
          <p:spPr>
            <a:xfrm>
              <a:off x="3776760" y="743040"/>
              <a:ext cx="1504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Times New Roman"/>
                </a:rPr>
                <a:t>Circular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662040" y="35712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OMETRIC TOLER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1371600" y="5362560"/>
            <a:ext cx="640080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ULAR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1"/>
          <a:stretch/>
        </p:blipFill>
        <p:spPr>
          <a:xfrm>
            <a:off x="1854360" y="1197000"/>
            <a:ext cx="545616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"/>
          <p:cNvSpPr txBox="1"/>
          <p:nvPr/>
        </p:nvSpPr>
        <p:spPr>
          <a:xfrm>
            <a:off x="679320" y="6192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 txBox="1"/>
          <p:nvPr/>
        </p:nvSpPr>
        <p:spPr>
          <a:xfrm>
            <a:off x="279360" y="1606680"/>
            <a:ext cx="836928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1.  For circularity control, the geometric tolerance may b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applied to either a feature or feature of size.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True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2.  Circularity control refers to its own perfect geometr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counterpart; always applied to a diametral feature.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True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3.  No modifiers may be used in the feature control fr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when controlling circularity.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True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 The circularity control must be a refinement of 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ometric tolerances which indirectly affect t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ularity characteristics of the feature.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e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8572680" y="5411880"/>
            <a:ext cx="150840" cy="1508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7316640" y="5425920"/>
            <a:ext cx="150840" cy="1508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8572680" y="4071960"/>
            <a:ext cx="150840" cy="15084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7316640" y="4071960"/>
            <a:ext cx="150840" cy="150840"/>
          </a:xfrm>
          <a:prstGeom prst="rect">
            <a:avLst/>
          </a:prstGeom>
          <a:solidFill>
            <a:srgbClr val="114ffb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7316640" y="3076560"/>
            <a:ext cx="150840" cy="150840"/>
          </a:xfrm>
          <a:prstGeom prst="rect">
            <a:avLst/>
          </a:prstGeom>
          <a:solidFill>
            <a:srgbClr val="114ffb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8572680" y="3075120"/>
            <a:ext cx="150840" cy="15084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8572680" y="2084400"/>
            <a:ext cx="150840" cy="150840"/>
          </a:xfrm>
          <a:prstGeom prst="rect">
            <a:avLst/>
          </a:prstGeom>
          <a:solidFill>
            <a:srgbClr val="114ffb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7316640" y="2082960"/>
            <a:ext cx="150840" cy="15084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2" name=""/>
          <p:cNvGrpSpPr/>
          <p:nvPr/>
        </p:nvGrpSpPr>
        <p:grpSpPr>
          <a:xfrm>
            <a:off x="2708280" y="743040"/>
            <a:ext cx="3684600" cy="517680"/>
            <a:chOff x="2708280" y="743040"/>
            <a:chExt cx="3684600" cy="517680"/>
          </a:xfrm>
        </p:grpSpPr>
        <p:sp>
          <p:nvSpPr>
            <p:cNvPr id="1463" name=""/>
            <p:cNvSpPr/>
            <p:nvPr/>
          </p:nvSpPr>
          <p:spPr>
            <a:xfrm>
              <a:off x="2708280" y="762120"/>
              <a:ext cx="3684600" cy="4986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 txBox="1"/>
            <p:nvPr/>
          </p:nvSpPr>
          <p:spPr>
            <a:xfrm>
              <a:off x="3776760" y="743040"/>
              <a:ext cx="1504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Times New Roman"/>
                </a:rPr>
                <a:t>Circular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"/>
          <p:cNvSpPr txBox="1"/>
          <p:nvPr/>
        </p:nvSpPr>
        <p:spPr>
          <a:xfrm>
            <a:off x="679320" y="6192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279360" y="1606680"/>
            <a:ext cx="836928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1.  For circularity control, the geometric tolerance may b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applied to either a feature or feature of size.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True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2.  Circularity control refers to its own perfect geometr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counterpart; always applied to a diametral feature.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True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3.  No modifiers may be used in the feature control fr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when controlling circularity.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True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 The circularity control must be a refinement of 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ometric tolerances which indirectly affect t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ularity characteristics of the feature.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e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8572680" y="5411880"/>
            <a:ext cx="150840" cy="1508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7316640" y="5425920"/>
            <a:ext cx="150840" cy="15084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8572680" y="4071960"/>
            <a:ext cx="150840" cy="15084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7316640" y="4071960"/>
            <a:ext cx="150840" cy="150840"/>
          </a:xfrm>
          <a:prstGeom prst="rect">
            <a:avLst/>
          </a:prstGeom>
          <a:solidFill>
            <a:srgbClr val="114ffb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7316640" y="3076560"/>
            <a:ext cx="150840" cy="150840"/>
          </a:xfrm>
          <a:prstGeom prst="rect">
            <a:avLst/>
          </a:prstGeom>
          <a:solidFill>
            <a:srgbClr val="114ffb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8572680" y="3075120"/>
            <a:ext cx="150840" cy="15084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8572680" y="2084400"/>
            <a:ext cx="150840" cy="150840"/>
          </a:xfrm>
          <a:prstGeom prst="rect">
            <a:avLst/>
          </a:prstGeom>
          <a:solidFill>
            <a:srgbClr val="114ffb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7316640" y="2082960"/>
            <a:ext cx="150840" cy="15084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5" name=""/>
          <p:cNvGrpSpPr/>
          <p:nvPr/>
        </p:nvGrpSpPr>
        <p:grpSpPr>
          <a:xfrm>
            <a:off x="2708280" y="743040"/>
            <a:ext cx="3684600" cy="517680"/>
            <a:chOff x="2708280" y="743040"/>
            <a:chExt cx="3684600" cy="517680"/>
          </a:xfrm>
        </p:grpSpPr>
        <p:sp>
          <p:nvSpPr>
            <p:cNvPr id="1476" name=""/>
            <p:cNvSpPr/>
            <p:nvPr/>
          </p:nvSpPr>
          <p:spPr>
            <a:xfrm>
              <a:off x="2708280" y="762120"/>
              <a:ext cx="3684600" cy="4986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 txBox="1"/>
            <p:nvPr/>
          </p:nvSpPr>
          <p:spPr>
            <a:xfrm>
              <a:off x="3776760" y="743040"/>
              <a:ext cx="1504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Times New Roman"/>
                </a:rPr>
                <a:t>Circular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"/>
          <p:cNvSpPr txBox="1"/>
          <p:nvPr/>
        </p:nvSpPr>
        <p:spPr>
          <a:xfrm>
            <a:off x="679320" y="6192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279360" y="1606680"/>
            <a:ext cx="843912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1.  For circularity control, the geometric tolerance may b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applied to either a feature or feature of size.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True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2.  Circularity control refers to its own perfect geometr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counterpart; always applied to a diametral feature.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True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3.  No modifiers may be used in the feature control fr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when controlling circularity.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True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4.  The circularity control must be a refinement of 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geometric tolerances which indirectly affect t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circularity characteristics of the feature.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True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 No datum reference may be used with circularity.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e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Fal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8572680" y="5411880"/>
            <a:ext cx="150840" cy="15084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7316640" y="5425920"/>
            <a:ext cx="150840" cy="150840"/>
          </a:xfrm>
          <a:prstGeom prst="rect">
            <a:avLst/>
          </a:prstGeom>
          <a:solidFill>
            <a:srgbClr val="114ffb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8572680" y="4071960"/>
            <a:ext cx="150840" cy="15084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7316640" y="4071960"/>
            <a:ext cx="150840" cy="150840"/>
          </a:xfrm>
          <a:prstGeom prst="rect">
            <a:avLst/>
          </a:prstGeom>
          <a:solidFill>
            <a:srgbClr val="114ffb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7316640" y="3076560"/>
            <a:ext cx="150840" cy="150840"/>
          </a:xfrm>
          <a:prstGeom prst="rect">
            <a:avLst/>
          </a:prstGeom>
          <a:solidFill>
            <a:srgbClr val="114ffb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8572680" y="3075120"/>
            <a:ext cx="150840" cy="15084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7316640" y="6084720"/>
            <a:ext cx="150840" cy="1508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8572680" y="6084720"/>
            <a:ext cx="150840" cy="1508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8572680" y="2084400"/>
            <a:ext cx="150840" cy="150840"/>
          </a:xfrm>
          <a:prstGeom prst="rect">
            <a:avLst/>
          </a:prstGeom>
          <a:solidFill>
            <a:srgbClr val="114ffb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7316640" y="2082960"/>
            <a:ext cx="150840" cy="15084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0" name=""/>
          <p:cNvGrpSpPr/>
          <p:nvPr/>
        </p:nvGrpSpPr>
        <p:grpSpPr>
          <a:xfrm>
            <a:off x="2708280" y="743040"/>
            <a:ext cx="3684600" cy="517680"/>
            <a:chOff x="2708280" y="743040"/>
            <a:chExt cx="3684600" cy="517680"/>
          </a:xfrm>
        </p:grpSpPr>
        <p:sp>
          <p:nvSpPr>
            <p:cNvPr id="1491" name=""/>
            <p:cNvSpPr/>
            <p:nvPr/>
          </p:nvSpPr>
          <p:spPr>
            <a:xfrm>
              <a:off x="2708280" y="762120"/>
              <a:ext cx="3684600" cy="4986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 txBox="1"/>
            <p:nvPr/>
          </p:nvSpPr>
          <p:spPr>
            <a:xfrm>
              <a:off x="3776760" y="743040"/>
              <a:ext cx="1504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Times New Roman"/>
                </a:rPr>
                <a:t>Circular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"/>
          <p:cNvSpPr txBox="1"/>
          <p:nvPr/>
        </p:nvSpPr>
        <p:spPr>
          <a:xfrm>
            <a:off x="679320" y="6192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 txBox="1"/>
          <p:nvPr/>
        </p:nvSpPr>
        <p:spPr>
          <a:xfrm>
            <a:off x="279360" y="1606680"/>
            <a:ext cx="843912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1.  For circularity control, the geometric tolerance may b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applied to either a feature or feature of size.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True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2.  Circularity control refers to its own perfect geometr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counterpart; always applied to a diametral feature.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True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3.  No modifiers may be used in the feature control fr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when controlling circularity.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True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4.  The circularity control must be a refinement of 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geometric tolerances which indirectly affect t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circularity characteristics of the feature.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True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   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 No datum reference may be used with circularity.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e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Fal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8572680" y="5411880"/>
            <a:ext cx="150840" cy="15084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7316640" y="5425920"/>
            <a:ext cx="150840" cy="150840"/>
          </a:xfrm>
          <a:prstGeom prst="rect">
            <a:avLst/>
          </a:prstGeom>
          <a:solidFill>
            <a:srgbClr val="114ffb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8572680" y="4071960"/>
            <a:ext cx="150840" cy="15084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7316640" y="4071960"/>
            <a:ext cx="150840" cy="150840"/>
          </a:xfrm>
          <a:prstGeom prst="rect">
            <a:avLst/>
          </a:prstGeom>
          <a:solidFill>
            <a:srgbClr val="114ffb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7316640" y="3076560"/>
            <a:ext cx="150840" cy="150840"/>
          </a:xfrm>
          <a:prstGeom prst="rect">
            <a:avLst/>
          </a:prstGeom>
          <a:solidFill>
            <a:srgbClr val="114ffb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8572680" y="3075120"/>
            <a:ext cx="150840" cy="15084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7316640" y="6084720"/>
            <a:ext cx="150840" cy="15084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8572680" y="6084720"/>
            <a:ext cx="150840" cy="1508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8572680" y="2084400"/>
            <a:ext cx="150840" cy="150840"/>
          </a:xfrm>
          <a:prstGeom prst="rect">
            <a:avLst/>
          </a:prstGeom>
          <a:solidFill>
            <a:srgbClr val="114ffb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7316640" y="2082960"/>
            <a:ext cx="150840" cy="150840"/>
          </a:xfrm>
          <a:prstGeom prst="rect">
            <a:avLst/>
          </a:prstGeom>
          <a:noFill/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5" name=""/>
          <p:cNvGrpSpPr/>
          <p:nvPr/>
        </p:nvGrpSpPr>
        <p:grpSpPr>
          <a:xfrm>
            <a:off x="2708280" y="743040"/>
            <a:ext cx="3684600" cy="517680"/>
            <a:chOff x="2708280" y="743040"/>
            <a:chExt cx="3684600" cy="517680"/>
          </a:xfrm>
        </p:grpSpPr>
        <p:sp>
          <p:nvSpPr>
            <p:cNvPr id="1506" name=""/>
            <p:cNvSpPr/>
            <p:nvPr/>
          </p:nvSpPr>
          <p:spPr>
            <a:xfrm>
              <a:off x="2708280" y="762120"/>
              <a:ext cx="3684600" cy="4986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 txBox="1"/>
            <p:nvPr/>
          </p:nvSpPr>
          <p:spPr>
            <a:xfrm>
              <a:off x="3776760" y="743040"/>
              <a:ext cx="1504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Times New Roman"/>
                </a:rPr>
                <a:t>Circular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"/>
          <p:cNvSpPr txBox="1"/>
          <p:nvPr/>
        </p:nvSpPr>
        <p:spPr>
          <a:xfrm>
            <a:off x="638280" y="21420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IRCULARITY SPECIFICATION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836640" y="917640"/>
            <a:ext cx="2511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referenc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809640" y="928800"/>
            <a:ext cx="2809800" cy="476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"/>
          <p:cNvSpPr txBox="1"/>
          <p:nvPr/>
        </p:nvSpPr>
        <p:spPr>
          <a:xfrm>
            <a:off x="638280" y="21420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IRCULARITY SPECIFICATION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836640" y="917640"/>
            <a:ext cx="2511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referenc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809640" y="928800"/>
            <a:ext cx="2809800" cy="476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5238720" y="1666800"/>
            <a:ext cx="2976480" cy="28098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3610080" y="1166760"/>
            <a:ext cx="2843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6453360" y="1166760"/>
            <a:ext cx="0" cy="500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 txBox="1"/>
          <p:nvPr/>
        </p:nvSpPr>
        <p:spPr>
          <a:xfrm>
            <a:off x="4384800" y="746280"/>
            <a:ext cx="658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 txBox="1"/>
          <p:nvPr/>
        </p:nvSpPr>
        <p:spPr>
          <a:xfrm>
            <a:off x="5313240" y="2227320"/>
            <a:ext cx="2749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an </a:t>
            </a:r>
            <a:r>
              <a:rPr b="1" i="1" lang="en-US" sz="24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IL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"/>
          <p:cNvSpPr txBox="1"/>
          <p:nvPr/>
        </p:nvSpPr>
        <p:spPr>
          <a:xfrm>
            <a:off x="638280" y="21420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IRCULARITY SPECIFICATION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 txBox="1"/>
          <p:nvPr/>
        </p:nvSpPr>
        <p:spPr>
          <a:xfrm>
            <a:off x="836640" y="917640"/>
            <a:ext cx="2511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referenc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 txBox="1"/>
          <p:nvPr/>
        </p:nvSpPr>
        <p:spPr>
          <a:xfrm>
            <a:off x="907920" y="1727280"/>
            <a:ext cx="2155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ifiers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809640" y="928800"/>
            <a:ext cx="2809800" cy="476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809640" y="1762200"/>
            <a:ext cx="2619360" cy="476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5238720" y="1666800"/>
            <a:ext cx="2976480" cy="28098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3610080" y="1166760"/>
            <a:ext cx="2843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6453360" y="1166760"/>
            <a:ext cx="0" cy="500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2085840" y="1400040"/>
            <a:ext cx="0" cy="36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 txBox="1"/>
          <p:nvPr/>
        </p:nvSpPr>
        <p:spPr>
          <a:xfrm>
            <a:off x="1479600" y="136512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 txBox="1"/>
          <p:nvPr/>
        </p:nvSpPr>
        <p:spPr>
          <a:xfrm>
            <a:off x="4384800" y="746280"/>
            <a:ext cx="658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 txBox="1"/>
          <p:nvPr/>
        </p:nvSpPr>
        <p:spPr>
          <a:xfrm>
            <a:off x="5313240" y="2227320"/>
            <a:ext cx="2749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an </a:t>
            </a:r>
            <a:r>
              <a:rPr b="1" i="1" lang="en-US" sz="24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IL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"/>
          <p:cNvSpPr txBox="1"/>
          <p:nvPr/>
        </p:nvSpPr>
        <p:spPr>
          <a:xfrm>
            <a:off x="638280" y="21420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IRCULARITY SPECIFICATION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 txBox="1"/>
          <p:nvPr/>
        </p:nvSpPr>
        <p:spPr>
          <a:xfrm>
            <a:off x="836640" y="917640"/>
            <a:ext cx="2511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referenc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907920" y="1727280"/>
            <a:ext cx="2155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ifiers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809640" y="928800"/>
            <a:ext cx="2809800" cy="476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809640" y="1762200"/>
            <a:ext cx="2619360" cy="476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5238720" y="1666800"/>
            <a:ext cx="2976480" cy="28098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3610080" y="1166760"/>
            <a:ext cx="2843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6453360" y="1166760"/>
            <a:ext cx="0" cy="500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3429000" y="1952640"/>
            <a:ext cx="180972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2085840" y="1400040"/>
            <a:ext cx="0" cy="36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 txBox="1"/>
          <p:nvPr/>
        </p:nvSpPr>
        <p:spPr>
          <a:xfrm>
            <a:off x="1479600" y="136512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 txBox="1"/>
          <p:nvPr/>
        </p:nvSpPr>
        <p:spPr>
          <a:xfrm>
            <a:off x="4384800" y="746280"/>
            <a:ext cx="658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4384800" y="1527120"/>
            <a:ext cx="658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 txBox="1"/>
          <p:nvPr/>
        </p:nvSpPr>
        <p:spPr>
          <a:xfrm>
            <a:off x="5313240" y="2227320"/>
            <a:ext cx="2749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an </a:t>
            </a:r>
            <a:r>
              <a:rPr b="1" i="1" lang="en-US" sz="24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IL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"/>
          <p:cNvSpPr txBox="1"/>
          <p:nvPr/>
        </p:nvSpPr>
        <p:spPr>
          <a:xfrm>
            <a:off x="638280" y="21420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IRCULARITY SPECIFICATION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 txBox="1"/>
          <p:nvPr/>
        </p:nvSpPr>
        <p:spPr>
          <a:xfrm>
            <a:off x="836640" y="917640"/>
            <a:ext cx="2511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referenc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 txBox="1"/>
          <p:nvPr/>
        </p:nvSpPr>
        <p:spPr>
          <a:xfrm>
            <a:off x="907920" y="1727280"/>
            <a:ext cx="2155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ifiers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 txBox="1"/>
          <p:nvPr/>
        </p:nvSpPr>
        <p:spPr>
          <a:xfrm>
            <a:off x="932040" y="2584440"/>
            <a:ext cx="2757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ed to diame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809640" y="928800"/>
            <a:ext cx="2809800" cy="476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809640" y="1762200"/>
            <a:ext cx="2619360" cy="476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809640" y="2595600"/>
            <a:ext cx="3191040" cy="476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5238720" y="1666800"/>
            <a:ext cx="2976480" cy="28098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3610080" y="1166760"/>
            <a:ext cx="2843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6453360" y="1166760"/>
            <a:ext cx="0" cy="500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3429000" y="1952640"/>
            <a:ext cx="180972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2085840" y="1400040"/>
            <a:ext cx="0" cy="36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2085840" y="2238480"/>
            <a:ext cx="0" cy="352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 txBox="1"/>
          <p:nvPr/>
        </p:nvSpPr>
        <p:spPr>
          <a:xfrm>
            <a:off x="1479600" y="136512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 txBox="1"/>
          <p:nvPr/>
        </p:nvSpPr>
        <p:spPr>
          <a:xfrm>
            <a:off x="1498680" y="219384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 txBox="1"/>
          <p:nvPr/>
        </p:nvSpPr>
        <p:spPr>
          <a:xfrm>
            <a:off x="4384800" y="746280"/>
            <a:ext cx="658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 txBox="1"/>
          <p:nvPr/>
        </p:nvSpPr>
        <p:spPr>
          <a:xfrm>
            <a:off x="4384800" y="1527120"/>
            <a:ext cx="658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 txBox="1"/>
          <p:nvPr/>
        </p:nvSpPr>
        <p:spPr>
          <a:xfrm>
            <a:off x="5313240" y="2227320"/>
            <a:ext cx="2749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an </a:t>
            </a:r>
            <a:r>
              <a:rPr b="1" i="1" lang="en-US" sz="24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IL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 txBox="1"/>
          <p:nvPr/>
        </p:nvSpPr>
        <p:spPr>
          <a:xfrm>
            <a:off x="638280" y="21420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IRCULARITY SPECIFICATION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 txBox="1"/>
          <p:nvPr/>
        </p:nvSpPr>
        <p:spPr>
          <a:xfrm>
            <a:off x="836640" y="917640"/>
            <a:ext cx="2511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referenc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907920" y="1727280"/>
            <a:ext cx="2155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ifiers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 txBox="1"/>
          <p:nvPr/>
        </p:nvSpPr>
        <p:spPr>
          <a:xfrm>
            <a:off x="932040" y="2584440"/>
            <a:ext cx="2757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ed to diame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809640" y="928800"/>
            <a:ext cx="2809800" cy="476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809640" y="1762200"/>
            <a:ext cx="2619360" cy="476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809640" y="2595600"/>
            <a:ext cx="3191040" cy="476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5238720" y="1666800"/>
            <a:ext cx="2976480" cy="28098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3610080" y="1166760"/>
            <a:ext cx="2843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6453360" y="1166760"/>
            <a:ext cx="0" cy="500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3429000" y="1952640"/>
            <a:ext cx="180972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4000680" y="2824200"/>
            <a:ext cx="123804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2085840" y="1400040"/>
            <a:ext cx="0" cy="36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2085840" y="2238480"/>
            <a:ext cx="0" cy="352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 txBox="1"/>
          <p:nvPr/>
        </p:nvSpPr>
        <p:spPr>
          <a:xfrm>
            <a:off x="1479600" y="136512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1498680" y="219384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4384800" y="746280"/>
            <a:ext cx="658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 txBox="1"/>
          <p:nvPr/>
        </p:nvSpPr>
        <p:spPr>
          <a:xfrm>
            <a:off x="4384800" y="1527120"/>
            <a:ext cx="658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 txBox="1"/>
          <p:nvPr/>
        </p:nvSpPr>
        <p:spPr>
          <a:xfrm>
            <a:off x="4451400" y="240336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 txBox="1"/>
          <p:nvPr/>
        </p:nvSpPr>
        <p:spPr>
          <a:xfrm>
            <a:off x="5313240" y="2227320"/>
            <a:ext cx="2749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an </a:t>
            </a:r>
            <a:r>
              <a:rPr b="1" i="1" lang="en-US" sz="24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IL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M CONTROLS (Circularity) </a:t>
            </a:r>
            <a:r>
              <a:rPr b="0" lang="en-US" sz="3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828720" y="2195640"/>
            <a:ext cx="777240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1880" indent="-4618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Circular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 a feature </a:t>
            </a:r>
            <a:r>
              <a:rPr b="0" i="1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other than a sphe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a condition where all points of the surface intersected by any plane perpendicular to an axis are equidistant from that ax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Circular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 a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phe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a condition where all points of the surface intersected by any plane passing through a common center are equidistant from that cen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"/>
          <p:cNvSpPr txBox="1"/>
          <p:nvPr/>
        </p:nvSpPr>
        <p:spPr>
          <a:xfrm>
            <a:off x="638280" y="21420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IRCULARITY SPECIFICATION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 txBox="1"/>
          <p:nvPr/>
        </p:nvSpPr>
        <p:spPr>
          <a:xfrm>
            <a:off x="836640" y="917640"/>
            <a:ext cx="2511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referenc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907920" y="1727280"/>
            <a:ext cx="2155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ifiers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 txBox="1"/>
          <p:nvPr/>
        </p:nvSpPr>
        <p:spPr>
          <a:xfrm>
            <a:off x="932040" y="2584440"/>
            <a:ext cx="2757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ed to diame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 txBox="1"/>
          <p:nvPr/>
        </p:nvSpPr>
        <p:spPr>
          <a:xfrm>
            <a:off x="1003320" y="3465360"/>
            <a:ext cx="32734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lerance value less t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f the diameter tol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809640" y="928800"/>
            <a:ext cx="2809800" cy="476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809640" y="1762200"/>
            <a:ext cx="2619360" cy="476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809640" y="2595600"/>
            <a:ext cx="3191040" cy="476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809640" y="3452760"/>
            <a:ext cx="3691080" cy="8334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5238720" y="1666800"/>
            <a:ext cx="2976480" cy="28098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3610080" y="1166760"/>
            <a:ext cx="2843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6453360" y="1166760"/>
            <a:ext cx="0" cy="500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3429000" y="1952640"/>
            <a:ext cx="180972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4000680" y="2824200"/>
            <a:ext cx="123804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2085840" y="1400040"/>
            <a:ext cx="0" cy="36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2085840" y="2238480"/>
            <a:ext cx="0" cy="352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2076480" y="3067200"/>
            <a:ext cx="0" cy="390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 txBox="1"/>
          <p:nvPr/>
        </p:nvSpPr>
        <p:spPr>
          <a:xfrm>
            <a:off x="1327320" y="3022560"/>
            <a:ext cx="658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 txBox="1"/>
          <p:nvPr/>
        </p:nvSpPr>
        <p:spPr>
          <a:xfrm>
            <a:off x="1479600" y="136512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1498680" y="219384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4384800" y="746280"/>
            <a:ext cx="658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 txBox="1"/>
          <p:nvPr/>
        </p:nvSpPr>
        <p:spPr>
          <a:xfrm>
            <a:off x="4384800" y="1527120"/>
            <a:ext cx="658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 txBox="1"/>
          <p:nvPr/>
        </p:nvSpPr>
        <p:spPr>
          <a:xfrm>
            <a:off x="4451400" y="240336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 txBox="1"/>
          <p:nvPr/>
        </p:nvSpPr>
        <p:spPr>
          <a:xfrm>
            <a:off x="5313240" y="2227320"/>
            <a:ext cx="2749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an </a:t>
            </a:r>
            <a:r>
              <a:rPr b="1" i="1" lang="en-US" sz="24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IL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"/>
          <p:cNvSpPr txBox="1"/>
          <p:nvPr/>
        </p:nvSpPr>
        <p:spPr>
          <a:xfrm>
            <a:off x="638280" y="21420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IRCULARITY SPECIFICATION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836640" y="917640"/>
            <a:ext cx="2511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referenc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907920" y="1727280"/>
            <a:ext cx="2155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ifiers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 txBox="1"/>
          <p:nvPr/>
        </p:nvSpPr>
        <p:spPr>
          <a:xfrm>
            <a:off x="932040" y="2584440"/>
            <a:ext cx="2757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ed to diame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 txBox="1"/>
          <p:nvPr/>
        </p:nvSpPr>
        <p:spPr>
          <a:xfrm>
            <a:off x="1003320" y="3465360"/>
            <a:ext cx="32734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lerance value less t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f the diameter tol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809640" y="928800"/>
            <a:ext cx="2809800" cy="476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809640" y="1762200"/>
            <a:ext cx="2619360" cy="476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809640" y="2595600"/>
            <a:ext cx="3191040" cy="476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809640" y="3452760"/>
            <a:ext cx="3691080" cy="8334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5238720" y="1666800"/>
            <a:ext cx="2976480" cy="28098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3610080" y="1166760"/>
            <a:ext cx="2843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6453360" y="1166760"/>
            <a:ext cx="0" cy="500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3429000" y="1952640"/>
            <a:ext cx="180972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4000680" y="2824200"/>
            <a:ext cx="123804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4486320" y="3881520"/>
            <a:ext cx="7524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2085840" y="1400040"/>
            <a:ext cx="0" cy="36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2085840" y="2238480"/>
            <a:ext cx="0" cy="352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2076480" y="3067200"/>
            <a:ext cx="0" cy="390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1327320" y="3022560"/>
            <a:ext cx="658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 txBox="1"/>
          <p:nvPr/>
        </p:nvSpPr>
        <p:spPr>
          <a:xfrm>
            <a:off x="1479600" y="136512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1498680" y="219384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 txBox="1"/>
          <p:nvPr/>
        </p:nvSpPr>
        <p:spPr>
          <a:xfrm>
            <a:off x="4384800" y="746280"/>
            <a:ext cx="658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 txBox="1"/>
          <p:nvPr/>
        </p:nvSpPr>
        <p:spPr>
          <a:xfrm>
            <a:off x="4384800" y="1527120"/>
            <a:ext cx="658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 txBox="1"/>
          <p:nvPr/>
        </p:nvSpPr>
        <p:spPr>
          <a:xfrm>
            <a:off x="4451400" y="240336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 txBox="1"/>
          <p:nvPr/>
        </p:nvSpPr>
        <p:spPr>
          <a:xfrm>
            <a:off x="4508640" y="348948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5313240" y="2227320"/>
            <a:ext cx="2749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an </a:t>
            </a:r>
            <a:r>
              <a:rPr b="1" i="1" lang="en-US" sz="24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IL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"/>
          <p:cNvSpPr txBox="1"/>
          <p:nvPr/>
        </p:nvSpPr>
        <p:spPr>
          <a:xfrm>
            <a:off x="638280" y="21420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IRCULARITY SPECIFICATION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 txBox="1"/>
          <p:nvPr/>
        </p:nvSpPr>
        <p:spPr>
          <a:xfrm>
            <a:off x="836640" y="917640"/>
            <a:ext cx="2511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referenc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 txBox="1"/>
          <p:nvPr/>
        </p:nvSpPr>
        <p:spPr>
          <a:xfrm>
            <a:off x="907920" y="1727280"/>
            <a:ext cx="2155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ifiers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932040" y="2584440"/>
            <a:ext cx="2757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ed to diame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 txBox="1"/>
          <p:nvPr/>
        </p:nvSpPr>
        <p:spPr>
          <a:xfrm>
            <a:off x="1003320" y="3465360"/>
            <a:ext cx="32734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lerance value less t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f the diameter tol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 txBox="1"/>
          <p:nvPr/>
        </p:nvSpPr>
        <p:spPr>
          <a:xfrm>
            <a:off x="1074600" y="4608360"/>
            <a:ext cx="28494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refinement of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ometric toleran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809640" y="928800"/>
            <a:ext cx="2809800" cy="476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809640" y="1762200"/>
            <a:ext cx="2619360" cy="476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809640" y="2595600"/>
            <a:ext cx="3191040" cy="476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809640" y="3452760"/>
            <a:ext cx="3691080" cy="8334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809640" y="4643280"/>
            <a:ext cx="3405240" cy="76212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5238720" y="1666800"/>
            <a:ext cx="2976480" cy="28098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3610080" y="1166760"/>
            <a:ext cx="2843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6453360" y="1166760"/>
            <a:ext cx="0" cy="500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3429000" y="1952640"/>
            <a:ext cx="180972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4000680" y="2824200"/>
            <a:ext cx="123804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4486320" y="3881520"/>
            <a:ext cx="7524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2085840" y="1400040"/>
            <a:ext cx="0" cy="36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2085840" y="2238480"/>
            <a:ext cx="0" cy="352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2076480" y="3067200"/>
            <a:ext cx="0" cy="390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2076480" y="4286160"/>
            <a:ext cx="0" cy="36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 txBox="1"/>
          <p:nvPr/>
        </p:nvSpPr>
        <p:spPr>
          <a:xfrm>
            <a:off x="1298520" y="4251240"/>
            <a:ext cx="658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1327320" y="3022560"/>
            <a:ext cx="658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 txBox="1"/>
          <p:nvPr/>
        </p:nvSpPr>
        <p:spPr>
          <a:xfrm>
            <a:off x="1479600" y="136512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1498680" y="219384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 txBox="1"/>
          <p:nvPr/>
        </p:nvSpPr>
        <p:spPr>
          <a:xfrm>
            <a:off x="4384800" y="746280"/>
            <a:ext cx="658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 txBox="1"/>
          <p:nvPr/>
        </p:nvSpPr>
        <p:spPr>
          <a:xfrm>
            <a:off x="4384800" y="1527120"/>
            <a:ext cx="658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 txBox="1"/>
          <p:nvPr/>
        </p:nvSpPr>
        <p:spPr>
          <a:xfrm>
            <a:off x="4451400" y="240336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4508640" y="348948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 txBox="1"/>
          <p:nvPr/>
        </p:nvSpPr>
        <p:spPr>
          <a:xfrm>
            <a:off x="5313240" y="2227320"/>
            <a:ext cx="2749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an </a:t>
            </a:r>
            <a:r>
              <a:rPr b="1" i="1" lang="en-US" sz="24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IL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"/>
          <p:cNvSpPr txBox="1"/>
          <p:nvPr/>
        </p:nvSpPr>
        <p:spPr>
          <a:xfrm>
            <a:off x="638280" y="21420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IRCULARITY SPECIFICATION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 txBox="1"/>
          <p:nvPr/>
        </p:nvSpPr>
        <p:spPr>
          <a:xfrm>
            <a:off x="836640" y="917640"/>
            <a:ext cx="2511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referenc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 txBox="1"/>
          <p:nvPr/>
        </p:nvSpPr>
        <p:spPr>
          <a:xfrm>
            <a:off x="907920" y="1727280"/>
            <a:ext cx="2155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ifiers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 txBox="1"/>
          <p:nvPr/>
        </p:nvSpPr>
        <p:spPr>
          <a:xfrm>
            <a:off x="932040" y="2584440"/>
            <a:ext cx="2757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ed to diame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003320" y="3465360"/>
            <a:ext cx="32734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lerance value less t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f the diameter tol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1074600" y="4608360"/>
            <a:ext cx="28494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refinement of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ometric toleran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809640" y="928800"/>
            <a:ext cx="2809800" cy="476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809640" y="1762200"/>
            <a:ext cx="2619360" cy="476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809640" y="2595600"/>
            <a:ext cx="3191040" cy="476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809640" y="3452760"/>
            <a:ext cx="3691080" cy="8334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809640" y="4643280"/>
            <a:ext cx="3405240" cy="76212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5238720" y="1666800"/>
            <a:ext cx="2976480" cy="28098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3610080" y="1166760"/>
            <a:ext cx="2843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6453360" y="1166760"/>
            <a:ext cx="0" cy="500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3429000" y="1952640"/>
            <a:ext cx="180972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4000680" y="2824200"/>
            <a:ext cx="123804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4486320" y="3881520"/>
            <a:ext cx="7524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4200480" y="5048280"/>
            <a:ext cx="2300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 flipV="1">
            <a:off x="6500880" y="4476600"/>
            <a:ext cx="0" cy="547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2085840" y="1400040"/>
            <a:ext cx="0" cy="36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2085840" y="2238480"/>
            <a:ext cx="0" cy="352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2076480" y="3067200"/>
            <a:ext cx="0" cy="390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2076480" y="4286160"/>
            <a:ext cx="0" cy="36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 txBox="1"/>
          <p:nvPr/>
        </p:nvSpPr>
        <p:spPr>
          <a:xfrm>
            <a:off x="1298520" y="4251240"/>
            <a:ext cx="658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 txBox="1"/>
          <p:nvPr/>
        </p:nvSpPr>
        <p:spPr>
          <a:xfrm>
            <a:off x="1327320" y="3022560"/>
            <a:ext cx="658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 txBox="1"/>
          <p:nvPr/>
        </p:nvSpPr>
        <p:spPr>
          <a:xfrm>
            <a:off x="1479600" y="136512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 txBox="1"/>
          <p:nvPr/>
        </p:nvSpPr>
        <p:spPr>
          <a:xfrm>
            <a:off x="1498680" y="219384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4384800" y="746280"/>
            <a:ext cx="658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 txBox="1"/>
          <p:nvPr/>
        </p:nvSpPr>
        <p:spPr>
          <a:xfrm>
            <a:off x="4384800" y="1527120"/>
            <a:ext cx="658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 txBox="1"/>
          <p:nvPr/>
        </p:nvSpPr>
        <p:spPr>
          <a:xfrm>
            <a:off x="4451400" y="240336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 txBox="1"/>
          <p:nvPr/>
        </p:nvSpPr>
        <p:spPr>
          <a:xfrm>
            <a:off x="4508640" y="348948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 txBox="1"/>
          <p:nvPr/>
        </p:nvSpPr>
        <p:spPr>
          <a:xfrm>
            <a:off x="4537080" y="463248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5313240" y="2227320"/>
            <a:ext cx="2749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an </a:t>
            </a:r>
            <a:r>
              <a:rPr b="1" i="1" lang="en-US" sz="24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IL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"/>
          <p:cNvSpPr txBox="1"/>
          <p:nvPr/>
        </p:nvSpPr>
        <p:spPr>
          <a:xfrm>
            <a:off x="638280" y="21420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IRCULARITY SPECIFICATION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 txBox="1"/>
          <p:nvPr/>
        </p:nvSpPr>
        <p:spPr>
          <a:xfrm>
            <a:off x="836640" y="917640"/>
            <a:ext cx="2511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referenc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 txBox="1"/>
          <p:nvPr/>
        </p:nvSpPr>
        <p:spPr>
          <a:xfrm>
            <a:off x="907920" y="1727280"/>
            <a:ext cx="2155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ifiers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 txBox="1"/>
          <p:nvPr/>
        </p:nvSpPr>
        <p:spPr>
          <a:xfrm>
            <a:off x="932040" y="2584440"/>
            <a:ext cx="2757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ed to diame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1003320" y="3465360"/>
            <a:ext cx="32734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lerance value less t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f the diameter tol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 txBox="1"/>
          <p:nvPr/>
        </p:nvSpPr>
        <p:spPr>
          <a:xfrm>
            <a:off x="1074600" y="4608360"/>
            <a:ext cx="28494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refinement of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ometric toleran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 txBox="1"/>
          <p:nvPr/>
        </p:nvSpPr>
        <p:spPr>
          <a:xfrm>
            <a:off x="1122480" y="5799240"/>
            <a:ext cx="5686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a </a:t>
            </a:r>
            <a:r>
              <a:rPr b="1" i="1" lang="en-US" sz="24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LEGA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for circ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809640" y="928800"/>
            <a:ext cx="2809800" cy="476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809640" y="1762200"/>
            <a:ext cx="2619360" cy="476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809640" y="2595600"/>
            <a:ext cx="3191040" cy="476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809640" y="3452760"/>
            <a:ext cx="3691080" cy="8334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809640" y="4643280"/>
            <a:ext cx="3405240" cy="76212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809640" y="5786280"/>
            <a:ext cx="6334200" cy="476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5238720" y="1666800"/>
            <a:ext cx="2976480" cy="28098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3610080" y="1166760"/>
            <a:ext cx="2843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6453360" y="1166760"/>
            <a:ext cx="0" cy="500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3429000" y="1952640"/>
            <a:ext cx="180972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4000680" y="2824200"/>
            <a:ext cx="123804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4486320" y="3881520"/>
            <a:ext cx="7524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4200480" y="5048280"/>
            <a:ext cx="2300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 flipV="1">
            <a:off x="6500880" y="4476600"/>
            <a:ext cx="0" cy="547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2085840" y="1400040"/>
            <a:ext cx="0" cy="36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2085840" y="2238480"/>
            <a:ext cx="0" cy="352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2076480" y="3067200"/>
            <a:ext cx="0" cy="390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2076480" y="4286160"/>
            <a:ext cx="0" cy="36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2076480" y="54100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 txBox="1"/>
          <p:nvPr/>
        </p:nvSpPr>
        <p:spPr>
          <a:xfrm>
            <a:off x="1303200" y="5365800"/>
            <a:ext cx="658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 txBox="1"/>
          <p:nvPr/>
        </p:nvSpPr>
        <p:spPr>
          <a:xfrm>
            <a:off x="1298520" y="4251240"/>
            <a:ext cx="658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 txBox="1"/>
          <p:nvPr/>
        </p:nvSpPr>
        <p:spPr>
          <a:xfrm>
            <a:off x="1327320" y="3022560"/>
            <a:ext cx="658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 txBox="1"/>
          <p:nvPr/>
        </p:nvSpPr>
        <p:spPr>
          <a:xfrm>
            <a:off x="1479600" y="136512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 txBox="1"/>
          <p:nvPr/>
        </p:nvSpPr>
        <p:spPr>
          <a:xfrm>
            <a:off x="1498680" y="219384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 txBox="1"/>
          <p:nvPr/>
        </p:nvSpPr>
        <p:spPr>
          <a:xfrm>
            <a:off x="4384800" y="746280"/>
            <a:ext cx="658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 txBox="1"/>
          <p:nvPr/>
        </p:nvSpPr>
        <p:spPr>
          <a:xfrm>
            <a:off x="4384800" y="1527120"/>
            <a:ext cx="658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 txBox="1"/>
          <p:nvPr/>
        </p:nvSpPr>
        <p:spPr>
          <a:xfrm>
            <a:off x="4451400" y="240336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 txBox="1"/>
          <p:nvPr/>
        </p:nvSpPr>
        <p:spPr>
          <a:xfrm>
            <a:off x="4508640" y="348948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 txBox="1"/>
          <p:nvPr/>
        </p:nvSpPr>
        <p:spPr>
          <a:xfrm>
            <a:off x="4537080" y="463248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 txBox="1"/>
          <p:nvPr/>
        </p:nvSpPr>
        <p:spPr>
          <a:xfrm>
            <a:off x="5313240" y="2227320"/>
            <a:ext cx="2749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an </a:t>
            </a:r>
            <a:r>
              <a:rPr b="1" i="1" lang="en-US" sz="24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IL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"/>
          <p:cNvSpPr/>
          <p:nvPr/>
        </p:nvSpPr>
        <p:spPr>
          <a:xfrm>
            <a:off x="7381800" y="4691160"/>
            <a:ext cx="1309680" cy="1047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M CONTROLS (Circularity) </a:t>
            </a:r>
            <a:r>
              <a:rPr b="0" lang="en-US" sz="3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828720" y="2195640"/>
            <a:ext cx="7772400" cy="35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1880" indent="-4618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Circular tolerance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mount which surface elements of a controlled diameter may vary from a theoretically perfect cir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Circularity tolerance zone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: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concentric circles separated by an annular distance equal to the tolerance value, and within which, at any cross section, each circular element of the surface must l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IRCULA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685800" y="1981080"/>
            <a:ext cx="7772400" cy="37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  <a:spcAft>
                <a:spcPts val="961"/>
              </a:spcAft>
            </a:pPr>
            <a:r>
              <a:rPr b="1" lang="en-US" sz="3200" spc="-1" strike="noStrike" u="sng">
                <a:solidFill>
                  <a:srgbClr val="fc0128"/>
                </a:solidFill>
                <a:uFillTx/>
                <a:latin typeface="Times New Roman"/>
                <a:ea typeface="Times New Roman"/>
              </a:rPr>
              <a:t>CONCEPTS TO CLING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spcAft>
                <a:spcPts val="961"/>
              </a:spcAf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rcularity tolerance zone is two concentric circles which are perpendicular to the diametral axis, and separated by a </a:t>
            </a:r>
            <a:r>
              <a:rPr b="0" i="1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radial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ance equal to the circularity tolerance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47560" y="3368520"/>
            <a:ext cx="7970760" cy="2131920"/>
          </a:xfrm>
          <a:prstGeom prst="roundRect">
            <a:avLst/>
          </a:prstGeom>
          <a:noFill/>
          <a:ln w="38160">
            <a:solidFill>
              <a:srgbClr val="fafd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IRCULA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762120" y="2031840"/>
            <a:ext cx="7772400" cy="37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spcAft>
                <a:spcPts val="961"/>
              </a:spcAf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circularity control is applied to an external feature, the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ut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oundary (larger circle) is established by circumscribing the high points of the surface.  The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n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oundary is concentrically smaller by the amount of  the specified tolerance.  The feature, at any point of measurement, must be within the limits of siz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. Max Raisor</dc:creator>
  <dc:description/>
  <dc:language>en-US</dc:language>
  <cp:lastModifiedBy>E. Max Raisor</cp:lastModifiedBy>
  <cp:revision>0</cp:revision>
  <dc:subject>Geometric Dimensioning and Tolerancing</dc:subject>
  <dc:title>Form Tolerances - Circularity</dc:title>
</cp:coreProperties>
</file>