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4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8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839D135-FAF7-4F19-9FD9-F30C3F1BB1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1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1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1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1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1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2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2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2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2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3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3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3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3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3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4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4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4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4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7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4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5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5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5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5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5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6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9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9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9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9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9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91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91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91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91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91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92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9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92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92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92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93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93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93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93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93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94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94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94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94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94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95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95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1280" y="23760"/>
            <a:ext cx="8977320" cy="6821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96800" y="1763640"/>
            <a:ext cx="82789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ums represent “perfect” geometry (or the </a:t>
            </a:r>
            <a:r>
              <a:rPr b="0" i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rue geometric counter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i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controlling features in the design, production, and verification of parts.  They are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oretica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ntities, and therefore do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xist on actual parts.  However, in the varification of precision mechanical components, we work from the theoretical assumption that datums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xist.  We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imulat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ough the use of special tools, precision gages, and other inspection equip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533600" y="868320"/>
            <a:ext cx="58374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 u="sng">
                <a:solidFill>
                  <a:srgbClr val="fc0128"/>
                </a:solidFill>
                <a:uFillTx/>
                <a:latin typeface="Times New Roman"/>
                <a:ea typeface="Times New Roman"/>
              </a:rPr>
              <a:t>CONCEPTS TO CLING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50880" y="1676520"/>
            <a:ext cx="8013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heoretical datum--or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“</a:t>
            </a:r>
            <a:r>
              <a:rPr b="0" i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true geometric counterpart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”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a datum feature (which will be simulated by special gages and processing equipment)--may be defined as a plane, a boundary at maximum material condition or least material condition, a mathematical definition of a feature’s contour, a virtual condition boundary, or a mating envelope bounda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oretical and Simulated Datu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06600" y="2155680"/>
            <a:ext cx="7999560" cy="32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spcAft>
                <a:spcPts val="1440"/>
              </a:spcAf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ification of part measurements cannot be established from theoretical entities.  Therefore, tools and gages such as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chine tables, surface plates,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ndrels,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other processing and inspection equipment, are used to represent 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imulate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um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658880" y="1201680"/>
            <a:ext cx="58374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 u="sng">
                <a:solidFill>
                  <a:srgbClr val="fd0000"/>
                </a:solidFill>
                <a:uFillTx/>
                <a:latin typeface="Times New Roman"/>
                <a:ea typeface="Times New Roman"/>
              </a:rPr>
              <a:t>CONCEPTS TO CLING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8640" y="2220840"/>
            <a:ext cx="841068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datum feature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an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ctual feature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a part, such as a surface, that is brought into contact with a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ulated datum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urface plate, machine table, or special gage). 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he contact between the datum feature and the simulated datum establishes the </a:t>
            </a:r>
            <a:r>
              <a:rPr b="0" i="1" lang="en-US" sz="28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theoretical datum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, </a:t>
            </a:r>
            <a:r>
              <a:rPr b="0" i="1" lang="en-US" sz="2800" spc="-1" strike="noStrike" u="sng">
                <a:solidFill>
                  <a:srgbClr val="f2fefd"/>
                </a:solidFill>
                <a:uFillTx/>
                <a:latin typeface="Times New Roman"/>
                <a:ea typeface="Times New Roman"/>
              </a:rPr>
              <a:t>which is assumed to be geometrically perfect</a:t>
            </a:r>
            <a:r>
              <a:rPr b="0" i="1" lang="en-US" sz="28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658880" y="1201680"/>
            <a:ext cx="58374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 u="sng">
                <a:solidFill>
                  <a:srgbClr val="fd0000"/>
                </a:solidFill>
                <a:uFillTx/>
                <a:latin typeface="Times New Roman"/>
                <a:ea typeface="Times New Roman"/>
              </a:rPr>
              <a:t>CONCEPTS TO CLING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762120" y="15228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lanar Datum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212920" y="4653000"/>
            <a:ext cx="4935600" cy="533520"/>
          </a:xfrm>
          <a:prstGeom prst="rect">
            <a:avLst/>
          </a:prstGeom>
          <a:gradFill rotWithShape="0">
            <a:gsLst>
              <a:gs pos="0">
                <a:srgbClr val="f2fefd"/>
              </a:gs>
              <a:gs pos="100000">
                <a:srgbClr val="797f7e"/>
              </a:gs>
            </a:gsLst>
            <a:lin ang="81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205760" y="5186520"/>
            <a:ext cx="6429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537320" y="5033880"/>
            <a:ext cx="174960" cy="152640"/>
          </a:xfrm>
          <a:custGeom>
            <a:avLst/>
            <a:gdLst/>
            <a:ahLst/>
            <a:rect l="0" t="0" r="r" b="b"/>
            <a:pathLst>
              <a:path w="486" h="424">
                <a:moveTo>
                  <a:pt x="0" y="424"/>
                </a:moveTo>
                <a:lnTo>
                  <a:pt x="486" y="424"/>
                </a:lnTo>
                <a:lnTo>
                  <a:pt x="242" y="0"/>
                </a:lnTo>
                <a:lnTo>
                  <a:pt x="0" y="42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467480" y="4533840"/>
            <a:ext cx="304920" cy="28404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628040" y="48182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995640" y="5651640"/>
            <a:ext cx="1930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00dfca"/>
                </a:solidFill>
                <a:uFillTx/>
                <a:latin typeface="Times New Roman"/>
                <a:ea typeface="Times New Roman"/>
              </a:rPr>
              <a:t>PART DRA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7458120" y="4514760"/>
            <a:ext cx="330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2197080" y="1587600"/>
            <a:ext cx="4938840" cy="2028960"/>
            <a:chOff x="2197080" y="1587600"/>
            <a:chExt cx="4938840" cy="2028960"/>
          </a:xfrm>
        </p:grpSpPr>
        <p:sp>
          <p:nvSpPr>
            <p:cNvPr id="378" name=""/>
            <p:cNvSpPr/>
            <p:nvPr/>
          </p:nvSpPr>
          <p:spPr>
            <a:xfrm>
              <a:off x="2197080" y="1587600"/>
              <a:ext cx="4938840" cy="2028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9999"/>
                </a:gs>
              </a:gsLst>
              <a:lin ang="8100000"/>
            </a:gra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562120" y="1873080"/>
              <a:ext cx="407880" cy="407880"/>
            </a:xfrm>
            <a:prstGeom prst="ellipse">
              <a:avLst/>
            </a:prstGeom>
            <a:solidFill>
              <a:srgbClr val="114ffb"/>
            </a:solidFill>
            <a:ln w="12600">
              <a:solidFill>
                <a:srgbClr val="007e72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554200" y="2932200"/>
              <a:ext cx="407880" cy="407880"/>
            </a:xfrm>
            <a:prstGeom prst="ellipse">
              <a:avLst/>
            </a:prstGeom>
            <a:solidFill>
              <a:srgbClr val="114ffb"/>
            </a:solidFill>
            <a:ln w="12600">
              <a:solidFill>
                <a:srgbClr val="007e72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386400" y="2933640"/>
              <a:ext cx="407880" cy="407880"/>
            </a:xfrm>
            <a:prstGeom prst="ellipse">
              <a:avLst/>
            </a:prstGeom>
            <a:solidFill>
              <a:srgbClr val="114ffb"/>
            </a:solidFill>
            <a:ln w="12600">
              <a:solidFill>
                <a:srgbClr val="007e72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375240" y="1876320"/>
              <a:ext cx="407880" cy="407880"/>
            </a:xfrm>
            <a:prstGeom prst="ellipse">
              <a:avLst/>
            </a:prstGeom>
            <a:solidFill>
              <a:srgbClr val="114ffb"/>
            </a:solidFill>
            <a:ln w="12600">
              <a:solidFill>
                <a:srgbClr val="007e72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2757600" y="1795320"/>
              <a:ext cx="0" cy="1694160"/>
              <a:chOff x="2757600" y="1795320"/>
              <a:chExt cx="0" cy="1694160"/>
            </a:xfrm>
          </p:grpSpPr>
          <p:sp>
            <p:nvSpPr>
              <p:cNvPr id="384" name=""/>
              <p:cNvSpPr/>
              <p:nvPr/>
            </p:nvSpPr>
            <p:spPr>
              <a:xfrm>
                <a:off x="2757600" y="1795320"/>
                <a:ext cx="0" cy="711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757600" y="2581200"/>
                <a:ext cx="0" cy="90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757600" y="2747880"/>
                <a:ext cx="0" cy="741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6583320" y="1778040"/>
              <a:ext cx="0" cy="1693800"/>
              <a:chOff x="6583320" y="1778040"/>
              <a:chExt cx="0" cy="1693800"/>
            </a:xfrm>
          </p:grpSpPr>
          <p:sp>
            <p:nvSpPr>
              <p:cNvPr id="388" name=""/>
              <p:cNvSpPr/>
              <p:nvPr/>
            </p:nvSpPr>
            <p:spPr>
              <a:xfrm>
                <a:off x="6583320" y="1778040"/>
                <a:ext cx="0" cy="71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583320" y="2563920"/>
                <a:ext cx="0" cy="90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583320" y="2730600"/>
                <a:ext cx="0" cy="741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2459160" y="2068560"/>
              <a:ext cx="2112840" cy="0"/>
              <a:chOff x="2459160" y="2068560"/>
              <a:chExt cx="2112840" cy="0"/>
            </a:xfrm>
          </p:grpSpPr>
          <p:sp>
            <p:nvSpPr>
              <p:cNvPr id="392" name=""/>
              <p:cNvSpPr/>
              <p:nvPr/>
            </p:nvSpPr>
            <p:spPr>
              <a:xfrm>
                <a:off x="2459160" y="2068560"/>
                <a:ext cx="7110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244680" y="2068560"/>
                <a:ext cx="90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411360" y="2068560"/>
                <a:ext cx="963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481640" y="2068560"/>
                <a:ext cx="90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4683240" y="2068560"/>
              <a:ext cx="2112840" cy="0"/>
              <a:chOff x="4683240" y="2068560"/>
              <a:chExt cx="2112840" cy="0"/>
            </a:xfrm>
          </p:grpSpPr>
          <p:sp>
            <p:nvSpPr>
              <p:cNvPr id="397" name=""/>
              <p:cNvSpPr/>
              <p:nvPr/>
            </p:nvSpPr>
            <p:spPr>
              <a:xfrm>
                <a:off x="4683240" y="2068560"/>
                <a:ext cx="7110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468760" y="2068560"/>
                <a:ext cx="90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635800" y="2068560"/>
                <a:ext cx="963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705720" y="2068560"/>
                <a:ext cx="90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2441520" y="3147840"/>
              <a:ext cx="4443480" cy="1800"/>
              <a:chOff x="2441520" y="3147840"/>
              <a:chExt cx="4443480" cy="1800"/>
            </a:xfrm>
          </p:grpSpPr>
          <p:grpSp>
            <p:nvGrpSpPr>
              <p:cNvPr id="402" name=""/>
              <p:cNvGrpSpPr/>
              <p:nvPr/>
            </p:nvGrpSpPr>
            <p:grpSpPr>
              <a:xfrm>
                <a:off x="2441520" y="3147840"/>
                <a:ext cx="1693800" cy="0"/>
                <a:chOff x="2441520" y="3147840"/>
                <a:chExt cx="1693800" cy="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2441520" y="3147840"/>
                  <a:ext cx="7113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3227400" y="3147840"/>
                  <a:ext cx="903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3394080" y="3147840"/>
                  <a:ext cx="741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6" name=""/>
              <p:cNvSpPr/>
              <p:nvPr/>
            </p:nvSpPr>
            <p:spPr>
              <a:xfrm flipH="1">
                <a:off x="5646600" y="3149640"/>
                <a:ext cx="1238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H="1">
                <a:off x="5481720" y="3149640"/>
                <a:ext cx="90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>
                <a:off x="4441680" y="3149640"/>
                <a:ext cx="963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>
                <a:off x="4245120" y="3149640"/>
                <a:ext cx="90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0" name=""/>
          <p:cNvSpPr txBox="1"/>
          <p:nvPr/>
        </p:nvSpPr>
        <p:spPr>
          <a:xfrm>
            <a:off x="762120" y="15228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lanar Datum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21160" y="1401840"/>
            <a:ext cx="176832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c4c4c"/>
              </a:gs>
            </a:gsLst>
            <a:lin ang="81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335560" y="1630440"/>
            <a:ext cx="5032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610240" y="1538280"/>
            <a:ext cx="92520" cy="92520"/>
          </a:xfrm>
          <a:custGeom>
            <a:avLst/>
            <a:gdLst/>
            <a:ahLst/>
            <a:rect l="0" t="0" r="r" b="b"/>
            <a:pathLst>
              <a:path w="257" h="257">
                <a:moveTo>
                  <a:pt x="0" y="257"/>
                </a:moveTo>
                <a:lnTo>
                  <a:pt x="257" y="257"/>
                </a:lnTo>
                <a:lnTo>
                  <a:pt x="128" y="0"/>
                </a:lnTo>
                <a:lnTo>
                  <a:pt x="0" y="257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554800" y="1219320"/>
            <a:ext cx="182520" cy="182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656320" y="1401840"/>
            <a:ext cx="0" cy="136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3598920" y="5651640"/>
            <a:ext cx="2127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00dfca"/>
                </a:solidFill>
                <a:uFillTx/>
                <a:latin typeface="Times New Roman"/>
                <a:ea typeface="Times New Roman"/>
              </a:rPr>
              <a:t>INTERP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685800" y="1282680"/>
            <a:ext cx="12891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00dfca"/>
                </a:solidFill>
                <a:uFillTx/>
                <a:latin typeface="Times New Roman"/>
                <a:ea typeface="Times New Roman"/>
              </a:rPr>
              <a:t>DRA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403280" y="1978200"/>
            <a:ext cx="6588360" cy="0"/>
          </a:xfrm>
          <a:prstGeom prst="line">
            <a:avLst/>
          </a:prstGeom>
          <a:ln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-70200" bIns="-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508720" y="117648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762120" y="15228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lanar Datum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335560" y="1630440"/>
            <a:ext cx="5032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610240" y="1538280"/>
            <a:ext cx="92520" cy="92520"/>
          </a:xfrm>
          <a:custGeom>
            <a:avLst/>
            <a:gdLst/>
            <a:ahLst/>
            <a:rect l="0" t="0" r="r" b="b"/>
            <a:pathLst>
              <a:path w="257" h="257">
                <a:moveTo>
                  <a:pt x="0" y="257"/>
                </a:moveTo>
                <a:lnTo>
                  <a:pt x="257" y="257"/>
                </a:lnTo>
                <a:lnTo>
                  <a:pt x="128" y="0"/>
                </a:lnTo>
                <a:lnTo>
                  <a:pt x="0" y="257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554800" y="1219320"/>
            <a:ext cx="182520" cy="182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656320" y="1401840"/>
            <a:ext cx="0" cy="136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598920" y="5651640"/>
            <a:ext cx="2127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00dfca"/>
                </a:solidFill>
                <a:uFillTx/>
                <a:latin typeface="Times New Roman"/>
                <a:ea typeface="Times New Roman"/>
              </a:rPr>
              <a:t>INTERP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685800" y="1282680"/>
            <a:ext cx="12891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00dfca"/>
                </a:solidFill>
                <a:uFillTx/>
                <a:latin typeface="Times New Roman"/>
                <a:ea typeface="Times New Roman"/>
              </a:rPr>
              <a:t>DRA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403280" y="1978200"/>
            <a:ext cx="6588360" cy="0"/>
          </a:xfrm>
          <a:prstGeom prst="line">
            <a:avLst/>
          </a:prstGeom>
          <a:ln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-70200" bIns="-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521160" y="1401840"/>
            <a:ext cx="176832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c4c4c"/>
              </a:gs>
            </a:gsLst>
            <a:lin ang="81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5508720" y="117648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255680" y="2927520"/>
            <a:ext cx="6617160" cy="727560"/>
          </a:xfrm>
          <a:custGeom>
            <a:avLst/>
            <a:gdLst/>
            <a:ahLst/>
            <a:rect l="0" t="0" r="r" b="b"/>
            <a:pathLst>
              <a:path w="18381" h="2021">
                <a:moveTo>
                  <a:pt x="8" y="1929"/>
                </a:moveTo>
                <a:lnTo>
                  <a:pt x="4" y="0"/>
                </a:lnTo>
                <a:lnTo>
                  <a:pt x="18377" y="0"/>
                </a:lnTo>
                <a:lnTo>
                  <a:pt x="18381" y="1743"/>
                </a:lnTo>
                <a:lnTo>
                  <a:pt x="18222" y="1752"/>
                </a:lnTo>
                <a:lnTo>
                  <a:pt x="18055" y="1787"/>
                </a:lnTo>
                <a:lnTo>
                  <a:pt x="17826" y="1735"/>
                </a:lnTo>
                <a:lnTo>
                  <a:pt x="17526" y="1823"/>
                </a:lnTo>
                <a:lnTo>
                  <a:pt x="17270" y="1770"/>
                </a:lnTo>
                <a:lnTo>
                  <a:pt x="17111" y="1832"/>
                </a:lnTo>
                <a:lnTo>
                  <a:pt x="16807" y="1898"/>
                </a:lnTo>
                <a:lnTo>
                  <a:pt x="16609" y="1990"/>
                </a:lnTo>
                <a:lnTo>
                  <a:pt x="16238" y="1951"/>
                </a:lnTo>
                <a:lnTo>
                  <a:pt x="15947" y="1977"/>
                </a:lnTo>
                <a:lnTo>
                  <a:pt x="15682" y="2021"/>
                </a:lnTo>
                <a:lnTo>
                  <a:pt x="15590" y="1964"/>
                </a:lnTo>
                <a:lnTo>
                  <a:pt x="14990" y="2021"/>
                </a:lnTo>
                <a:lnTo>
                  <a:pt x="14584" y="1951"/>
                </a:lnTo>
                <a:lnTo>
                  <a:pt x="14320" y="1951"/>
                </a:lnTo>
                <a:lnTo>
                  <a:pt x="14346" y="1951"/>
                </a:lnTo>
                <a:lnTo>
                  <a:pt x="14161" y="1924"/>
                </a:lnTo>
                <a:lnTo>
                  <a:pt x="13910" y="1862"/>
                </a:lnTo>
                <a:lnTo>
                  <a:pt x="13741" y="1849"/>
                </a:lnTo>
                <a:lnTo>
                  <a:pt x="13600" y="1823"/>
                </a:lnTo>
                <a:lnTo>
                  <a:pt x="13433" y="1792"/>
                </a:lnTo>
                <a:lnTo>
                  <a:pt x="13203" y="1832"/>
                </a:lnTo>
                <a:lnTo>
                  <a:pt x="13062" y="1792"/>
                </a:lnTo>
                <a:lnTo>
                  <a:pt x="12956" y="1832"/>
                </a:lnTo>
                <a:lnTo>
                  <a:pt x="12780" y="1867"/>
                </a:lnTo>
                <a:lnTo>
                  <a:pt x="12573" y="1832"/>
                </a:lnTo>
                <a:lnTo>
                  <a:pt x="12308" y="1752"/>
                </a:lnTo>
                <a:lnTo>
                  <a:pt x="12145" y="1832"/>
                </a:lnTo>
                <a:lnTo>
                  <a:pt x="11898" y="1752"/>
                </a:lnTo>
                <a:lnTo>
                  <a:pt x="11695" y="1823"/>
                </a:lnTo>
                <a:lnTo>
                  <a:pt x="11528" y="1796"/>
                </a:lnTo>
                <a:lnTo>
                  <a:pt x="11386" y="1823"/>
                </a:lnTo>
                <a:lnTo>
                  <a:pt x="11166" y="1840"/>
                </a:lnTo>
                <a:lnTo>
                  <a:pt x="10945" y="1765"/>
                </a:lnTo>
                <a:lnTo>
                  <a:pt x="10716" y="1796"/>
                </a:lnTo>
                <a:lnTo>
                  <a:pt x="10571" y="1695"/>
                </a:lnTo>
                <a:lnTo>
                  <a:pt x="10407" y="1787"/>
                </a:lnTo>
                <a:lnTo>
                  <a:pt x="10099" y="1796"/>
                </a:lnTo>
                <a:lnTo>
                  <a:pt x="9649" y="1858"/>
                </a:lnTo>
                <a:lnTo>
                  <a:pt x="9349" y="1814"/>
                </a:lnTo>
                <a:lnTo>
                  <a:pt x="9093" y="1867"/>
                </a:lnTo>
                <a:lnTo>
                  <a:pt x="8921" y="1871"/>
                </a:lnTo>
                <a:lnTo>
                  <a:pt x="8767" y="1920"/>
                </a:lnTo>
                <a:lnTo>
                  <a:pt x="8617" y="1858"/>
                </a:lnTo>
                <a:lnTo>
                  <a:pt x="8502" y="1964"/>
                </a:lnTo>
                <a:lnTo>
                  <a:pt x="8300" y="1946"/>
                </a:lnTo>
                <a:lnTo>
                  <a:pt x="8106" y="1920"/>
                </a:lnTo>
                <a:lnTo>
                  <a:pt x="7964" y="1902"/>
                </a:lnTo>
                <a:lnTo>
                  <a:pt x="7753" y="1814"/>
                </a:lnTo>
                <a:lnTo>
                  <a:pt x="7559" y="1876"/>
                </a:lnTo>
                <a:lnTo>
                  <a:pt x="7272" y="1862"/>
                </a:lnTo>
                <a:lnTo>
                  <a:pt x="6950" y="1792"/>
                </a:lnTo>
                <a:lnTo>
                  <a:pt x="6580" y="1862"/>
                </a:lnTo>
                <a:lnTo>
                  <a:pt x="6368" y="1964"/>
                </a:lnTo>
                <a:lnTo>
                  <a:pt x="5971" y="1929"/>
                </a:lnTo>
                <a:lnTo>
                  <a:pt x="5592" y="1929"/>
                </a:lnTo>
                <a:lnTo>
                  <a:pt x="5389" y="1937"/>
                </a:lnTo>
                <a:lnTo>
                  <a:pt x="5204" y="1937"/>
                </a:lnTo>
                <a:lnTo>
                  <a:pt x="4957" y="1964"/>
                </a:lnTo>
                <a:lnTo>
                  <a:pt x="4772" y="1973"/>
                </a:lnTo>
                <a:lnTo>
                  <a:pt x="4414" y="2021"/>
                </a:lnTo>
                <a:lnTo>
                  <a:pt x="4198" y="1981"/>
                </a:lnTo>
                <a:lnTo>
                  <a:pt x="4012" y="1929"/>
                </a:lnTo>
                <a:lnTo>
                  <a:pt x="3845" y="1911"/>
                </a:lnTo>
                <a:lnTo>
                  <a:pt x="3642" y="1990"/>
                </a:lnTo>
                <a:lnTo>
                  <a:pt x="3430" y="1999"/>
                </a:lnTo>
                <a:lnTo>
                  <a:pt x="3210" y="1955"/>
                </a:lnTo>
                <a:lnTo>
                  <a:pt x="3069" y="1920"/>
                </a:lnTo>
                <a:lnTo>
                  <a:pt x="2963" y="1937"/>
                </a:lnTo>
                <a:lnTo>
                  <a:pt x="2769" y="1920"/>
                </a:lnTo>
                <a:lnTo>
                  <a:pt x="2584" y="1902"/>
                </a:lnTo>
                <a:lnTo>
                  <a:pt x="2372" y="1902"/>
                </a:lnTo>
                <a:lnTo>
                  <a:pt x="2213" y="1955"/>
                </a:lnTo>
                <a:lnTo>
                  <a:pt x="2160" y="1981"/>
                </a:lnTo>
                <a:lnTo>
                  <a:pt x="2107" y="1955"/>
                </a:lnTo>
                <a:lnTo>
                  <a:pt x="2054" y="1981"/>
                </a:lnTo>
                <a:lnTo>
                  <a:pt x="1843" y="2008"/>
                </a:lnTo>
                <a:lnTo>
                  <a:pt x="1631" y="2008"/>
                </a:lnTo>
                <a:lnTo>
                  <a:pt x="1411" y="1920"/>
                </a:lnTo>
                <a:lnTo>
                  <a:pt x="1234" y="1964"/>
                </a:lnTo>
                <a:lnTo>
                  <a:pt x="1049" y="1911"/>
                </a:lnTo>
                <a:lnTo>
                  <a:pt x="899" y="1937"/>
                </a:lnTo>
                <a:lnTo>
                  <a:pt x="732" y="1946"/>
                </a:lnTo>
                <a:lnTo>
                  <a:pt x="520" y="1973"/>
                </a:lnTo>
                <a:lnTo>
                  <a:pt x="229" y="1981"/>
                </a:lnTo>
                <a:lnTo>
                  <a:pt x="0" y="1929"/>
                </a:lnTo>
                <a:lnTo>
                  <a:pt x="8" y="1929"/>
                </a:lnTo>
                <a:close/>
              </a:path>
            </a:pathLst>
          </a:custGeom>
          <a:gradFill rotWithShape="0">
            <a:gsLst>
              <a:gs pos="0">
                <a:srgbClr val="f2fefd"/>
              </a:gs>
              <a:gs pos="100000">
                <a:srgbClr val="000000"/>
              </a:gs>
            </a:gsLst>
            <a:lin ang="81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2246400" y="3083040"/>
            <a:ext cx="593640" cy="396720"/>
          </a:xfrm>
          <a:prstGeom prst="rect">
            <a:avLst/>
          </a:prstGeom>
          <a:solidFill>
            <a:srgbClr val="919191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762120" y="15228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lanar Datum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335560" y="1630440"/>
            <a:ext cx="5032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610240" y="1538280"/>
            <a:ext cx="92520" cy="92520"/>
          </a:xfrm>
          <a:custGeom>
            <a:avLst/>
            <a:gdLst/>
            <a:ahLst/>
            <a:rect l="0" t="0" r="r" b="b"/>
            <a:pathLst>
              <a:path w="257" h="257">
                <a:moveTo>
                  <a:pt x="0" y="257"/>
                </a:moveTo>
                <a:lnTo>
                  <a:pt x="257" y="257"/>
                </a:lnTo>
                <a:lnTo>
                  <a:pt x="128" y="0"/>
                </a:lnTo>
                <a:lnTo>
                  <a:pt x="0" y="257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554800" y="1219320"/>
            <a:ext cx="182520" cy="182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656320" y="1401840"/>
            <a:ext cx="0" cy="136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598920" y="5651640"/>
            <a:ext cx="2127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00dfca"/>
                </a:solidFill>
                <a:uFillTx/>
                <a:latin typeface="Times New Roman"/>
                <a:ea typeface="Times New Roman"/>
              </a:rPr>
              <a:t>INTERP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685800" y="1282680"/>
            <a:ext cx="12891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00dfca"/>
                </a:solidFill>
                <a:uFillTx/>
                <a:latin typeface="Times New Roman"/>
                <a:ea typeface="Times New Roman"/>
              </a:rPr>
              <a:t>DRA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403280" y="1978200"/>
            <a:ext cx="6588360" cy="0"/>
          </a:xfrm>
          <a:prstGeom prst="line">
            <a:avLst/>
          </a:prstGeom>
          <a:ln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-70200" bIns="-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664080" y="2171520"/>
            <a:ext cx="1700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um Fe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375160" y="2370240"/>
            <a:ext cx="1810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521160" y="1401840"/>
            <a:ext cx="176832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c4c4c"/>
              </a:gs>
            </a:gsLst>
            <a:lin ang="81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5508720" y="117648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255680" y="2927520"/>
            <a:ext cx="6617160" cy="727560"/>
          </a:xfrm>
          <a:custGeom>
            <a:avLst/>
            <a:gdLst/>
            <a:ahLst/>
            <a:rect l="0" t="0" r="r" b="b"/>
            <a:pathLst>
              <a:path w="18381" h="2021">
                <a:moveTo>
                  <a:pt x="8" y="1929"/>
                </a:moveTo>
                <a:lnTo>
                  <a:pt x="4" y="0"/>
                </a:lnTo>
                <a:lnTo>
                  <a:pt x="18377" y="0"/>
                </a:lnTo>
                <a:lnTo>
                  <a:pt x="18381" y="1743"/>
                </a:lnTo>
                <a:lnTo>
                  <a:pt x="18222" y="1752"/>
                </a:lnTo>
                <a:lnTo>
                  <a:pt x="18055" y="1787"/>
                </a:lnTo>
                <a:lnTo>
                  <a:pt x="17826" y="1735"/>
                </a:lnTo>
                <a:lnTo>
                  <a:pt x="17526" y="1823"/>
                </a:lnTo>
                <a:lnTo>
                  <a:pt x="17270" y="1770"/>
                </a:lnTo>
                <a:lnTo>
                  <a:pt x="17111" y="1832"/>
                </a:lnTo>
                <a:lnTo>
                  <a:pt x="16807" y="1898"/>
                </a:lnTo>
                <a:lnTo>
                  <a:pt x="16609" y="1990"/>
                </a:lnTo>
                <a:lnTo>
                  <a:pt x="16238" y="1951"/>
                </a:lnTo>
                <a:lnTo>
                  <a:pt x="15947" y="1977"/>
                </a:lnTo>
                <a:lnTo>
                  <a:pt x="15682" y="2021"/>
                </a:lnTo>
                <a:lnTo>
                  <a:pt x="15590" y="1964"/>
                </a:lnTo>
                <a:lnTo>
                  <a:pt x="14990" y="2021"/>
                </a:lnTo>
                <a:lnTo>
                  <a:pt x="14584" y="1951"/>
                </a:lnTo>
                <a:lnTo>
                  <a:pt x="14320" y="1951"/>
                </a:lnTo>
                <a:lnTo>
                  <a:pt x="14346" y="1951"/>
                </a:lnTo>
                <a:lnTo>
                  <a:pt x="14161" y="1924"/>
                </a:lnTo>
                <a:lnTo>
                  <a:pt x="13910" y="1862"/>
                </a:lnTo>
                <a:lnTo>
                  <a:pt x="13741" y="1849"/>
                </a:lnTo>
                <a:lnTo>
                  <a:pt x="13600" y="1823"/>
                </a:lnTo>
                <a:lnTo>
                  <a:pt x="13433" y="1792"/>
                </a:lnTo>
                <a:lnTo>
                  <a:pt x="13203" y="1832"/>
                </a:lnTo>
                <a:lnTo>
                  <a:pt x="13062" y="1792"/>
                </a:lnTo>
                <a:lnTo>
                  <a:pt x="12956" y="1832"/>
                </a:lnTo>
                <a:lnTo>
                  <a:pt x="12780" y="1867"/>
                </a:lnTo>
                <a:lnTo>
                  <a:pt x="12573" y="1832"/>
                </a:lnTo>
                <a:lnTo>
                  <a:pt x="12308" y="1752"/>
                </a:lnTo>
                <a:lnTo>
                  <a:pt x="12145" y="1832"/>
                </a:lnTo>
                <a:lnTo>
                  <a:pt x="11898" y="1752"/>
                </a:lnTo>
                <a:lnTo>
                  <a:pt x="11695" y="1823"/>
                </a:lnTo>
                <a:lnTo>
                  <a:pt x="11528" y="1796"/>
                </a:lnTo>
                <a:lnTo>
                  <a:pt x="11386" y="1823"/>
                </a:lnTo>
                <a:lnTo>
                  <a:pt x="11166" y="1840"/>
                </a:lnTo>
                <a:lnTo>
                  <a:pt x="10945" y="1765"/>
                </a:lnTo>
                <a:lnTo>
                  <a:pt x="10716" y="1796"/>
                </a:lnTo>
                <a:lnTo>
                  <a:pt x="10571" y="1695"/>
                </a:lnTo>
                <a:lnTo>
                  <a:pt x="10407" y="1787"/>
                </a:lnTo>
                <a:lnTo>
                  <a:pt x="10099" y="1796"/>
                </a:lnTo>
                <a:lnTo>
                  <a:pt x="9649" y="1858"/>
                </a:lnTo>
                <a:lnTo>
                  <a:pt x="9349" y="1814"/>
                </a:lnTo>
                <a:lnTo>
                  <a:pt x="9093" y="1867"/>
                </a:lnTo>
                <a:lnTo>
                  <a:pt x="8921" y="1871"/>
                </a:lnTo>
                <a:lnTo>
                  <a:pt x="8767" y="1920"/>
                </a:lnTo>
                <a:lnTo>
                  <a:pt x="8617" y="1858"/>
                </a:lnTo>
                <a:lnTo>
                  <a:pt x="8502" y="1964"/>
                </a:lnTo>
                <a:lnTo>
                  <a:pt x="8300" y="1946"/>
                </a:lnTo>
                <a:lnTo>
                  <a:pt x="8106" y="1920"/>
                </a:lnTo>
                <a:lnTo>
                  <a:pt x="7964" y="1902"/>
                </a:lnTo>
                <a:lnTo>
                  <a:pt x="7753" y="1814"/>
                </a:lnTo>
                <a:lnTo>
                  <a:pt x="7559" y="1876"/>
                </a:lnTo>
                <a:lnTo>
                  <a:pt x="7272" y="1862"/>
                </a:lnTo>
                <a:lnTo>
                  <a:pt x="6950" y="1792"/>
                </a:lnTo>
                <a:lnTo>
                  <a:pt x="6580" y="1862"/>
                </a:lnTo>
                <a:lnTo>
                  <a:pt x="6368" y="1964"/>
                </a:lnTo>
                <a:lnTo>
                  <a:pt x="5971" y="1929"/>
                </a:lnTo>
                <a:lnTo>
                  <a:pt x="5592" y="1929"/>
                </a:lnTo>
                <a:lnTo>
                  <a:pt x="5389" y="1937"/>
                </a:lnTo>
                <a:lnTo>
                  <a:pt x="5204" y="1937"/>
                </a:lnTo>
                <a:lnTo>
                  <a:pt x="4957" y="1964"/>
                </a:lnTo>
                <a:lnTo>
                  <a:pt x="4772" y="1973"/>
                </a:lnTo>
                <a:lnTo>
                  <a:pt x="4414" y="2021"/>
                </a:lnTo>
                <a:lnTo>
                  <a:pt x="4198" y="1981"/>
                </a:lnTo>
                <a:lnTo>
                  <a:pt x="4012" y="1929"/>
                </a:lnTo>
                <a:lnTo>
                  <a:pt x="3845" y="1911"/>
                </a:lnTo>
                <a:lnTo>
                  <a:pt x="3642" y="1990"/>
                </a:lnTo>
                <a:lnTo>
                  <a:pt x="3430" y="1999"/>
                </a:lnTo>
                <a:lnTo>
                  <a:pt x="3210" y="1955"/>
                </a:lnTo>
                <a:lnTo>
                  <a:pt x="3069" y="1920"/>
                </a:lnTo>
                <a:lnTo>
                  <a:pt x="2963" y="1937"/>
                </a:lnTo>
                <a:lnTo>
                  <a:pt x="2769" y="1920"/>
                </a:lnTo>
                <a:lnTo>
                  <a:pt x="2584" y="1902"/>
                </a:lnTo>
                <a:lnTo>
                  <a:pt x="2372" y="1902"/>
                </a:lnTo>
                <a:lnTo>
                  <a:pt x="2213" y="1955"/>
                </a:lnTo>
                <a:lnTo>
                  <a:pt x="2160" y="1981"/>
                </a:lnTo>
                <a:lnTo>
                  <a:pt x="2107" y="1955"/>
                </a:lnTo>
                <a:lnTo>
                  <a:pt x="2054" y="1981"/>
                </a:lnTo>
                <a:lnTo>
                  <a:pt x="1843" y="2008"/>
                </a:lnTo>
                <a:lnTo>
                  <a:pt x="1631" y="2008"/>
                </a:lnTo>
                <a:lnTo>
                  <a:pt x="1411" y="1920"/>
                </a:lnTo>
                <a:lnTo>
                  <a:pt x="1234" y="1964"/>
                </a:lnTo>
                <a:lnTo>
                  <a:pt x="1049" y="1911"/>
                </a:lnTo>
                <a:lnTo>
                  <a:pt x="899" y="1937"/>
                </a:lnTo>
                <a:lnTo>
                  <a:pt x="732" y="1946"/>
                </a:lnTo>
                <a:lnTo>
                  <a:pt x="520" y="1973"/>
                </a:lnTo>
                <a:lnTo>
                  <a:pt x="229" y="1981"/>
                </a:lnTo>
                <a:lnTo>
                  <a:pt x="0" y="1929"/>
                </a:lnTo>
                <a:lnTo>
                  <a:pt x="8" y="1929"/>
                </a:lnTo>
                <a:close/>
              </a:path>
            </a:pathLst>
          </a:custGeom>
          <a:gradFill rotWithShape="0">
            <a:gsLst>
              <a:gs pos="0">
                <a:srgbClr val="f2fefd"/>
              </a:gs>
              <a:gs pos="100000">
                <a:srgbClr val="000000"/>
              </a:gs>
            </a:gsLst>
            <a:lin ang="81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2246400" y="3083040"/>
            <a:ext cx="593640" cy="396720"/>
          </a:xfrm>
          <a:prstGeom prst="rect">
            <a:avLst/>
          </a:prstGeom>
          <a:solidFill>
            <a:srgbClr val="919191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5037120" y="2368440"/>
            <a:ext cx="533520" cy="1170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762120" y="15228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lanar Datum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335560" y="1630440"/>
            <a:ext cx="5032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610240" y="1538280"/>
            <a:ext cx="92520" cy="92520"/>
          </a:xfrm>
          <a:custGeom>
            <a:avLst/>
            <a:gdLst/>
            <a:ahLst/>
            <a:rect l="0" t="0" r="r" b="b"/>
            <a:pathLst>
              <a:path w="257" h="257">
                <a:moveTo>
                  <a:pt x="0" y="257"/>
                </a:moveTo>
                <a:lnTo>
                  <a:pt x="257" y="257"/>
                </a:lnTo>
                <a:lnTo>
                  <a:pt x="128" y="0"/>
                </a:lnTo>
                <a:lnTo>
                  <a:pt x="0" y="257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554800" y="1219320"/>
            <a:ext cx="182520" cy="182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656320" y="1401840"/>
            <a:ext cx="0" cy="136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3598920" y="5651640"/>
            <a:ext cx="2127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00dfca"/>
                </a:solidFill>
                <a:uFillTx/>
                <a:latin typeface="Times New Roman"/>
                <a:ea typeface="Times New Roman"/>
              </a:rPr>
              <a:t>INTERP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685800" y="1282680"/>
            <a:ext cx="12891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00dfca"/>
                </a:solidFill>
                <a:uFillTx/>
                <a:latin typeface="Times New Roman"/>
                <a:ea typeface="Times New Roman"/>
              </a:rPr>
              <a:t>DRA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03280" y="1978200"/>
            <a:ext cx="6588360" cy="0"/>
          </a:xfrm>
          <a:prstGeom prst="line">
            <a:avLst/>
          </a:prstGeom>
          <a:ln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-70200" bIns="-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3664080" y="2171520"/>
            <a:ext cx="1700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um Fe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375160" y="2370240"/>
            <a:ext cx="1810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5629320" y="2428920"/>
            <a:ext cx="27939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ulated Datum Fe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8381880" y="2641680"/>
            <a:ext cx="257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521160" y="1401840"/>
            <a:ext cx="176832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c4c4c"/>
              </a:gs>
            </a:gsLst>
            <a:lin ang="81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5508720" y="117648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255680" y="2927520"/>
            <a:ext cx="6617160" cy="727560"/>
          </a:xfrm>
          <a:custGeom>
            <a:avLst/>
            <a:gdLst/>
            <a:ahLst/>
            <a:rect l="0" t="0" r="r" b="b"/>
            <a:pathLst>
              <a:path w="18381" h="2021">
                <a:moveTo>
                  <a:pt x="8" y="1929"/>
                </a:moveTo>
                <a:lnTo>
                  <a:pt x="4" y="0"/>
                </a:lnTo>
                <a:lnTo>
                  <a:pt x="18377" y="0"/>
                </a:lnTo>
                <a:lnTo>
                  <a:pt x="18381" y="1743"/>
                </a:lnTo>
                <a:lnTo>
                  <a:pt x="18222" y="1752"/>
                </a:lnTo>
                <a:lnTo>
                  <a:pt x="18055" y="1787"/>
                </a:lnTo>
                <a:lnTo>
                  <a:pt x="17826" y="1735"/>
                </a:lnTo>
                <a:lnTo>
                  <a:pt x="17526" y="1823"/>
                </a:lnTo>
                <a:lnTo>
                  <a:pt x="17270" y="1770"/>
                </a:lnTo>
                <a:lnTo>
                  <a:pt x="17111" y="1832"/>
                </a:lnTo>
                <a:lnTo>
                  <a:pt x="16807" y="1898"/>
                </a:lnTo>
                <a:lnTo>
                  <a:pt x="16609" y="1990"/>
                </a:lnTo>
                <a:lnTo>
                  <a:pt x="16238" y="1951"/>
                </a:lnTo>
                <a:lnTo>
                  <a:pt x="15947" y="1977"/>
                </a:lnTo>
                <a:lnTo>
                  <a:pt x="15682" y="2021"/>
                </a:lnTo>
                <a:lnTo>
                  <a:pt x="15590" y="1964"/>
                </a:lnTo>
                <a:lnTo>
                  <a:pt x="14990" y="2021"/>
                </a:lnTo>
                <a:lnTo>
                  <a:pt x="14584" y="1951"/>
                </a:lnTo>
                <a:lnTo>
                  <a:pt x="14320" y="1951"/>
                </a:lnTo>
                <a:lnTo>
                  <a:pt x="14346" y="1951"/>
                </a:lnTo>
                <a:lnTo>
                  <a:pt x="14161" y="1924"/>
                </a:lnTo>
                <a:lnTo>
                  <a:pt x="13910" y="1862"/>
                </a:lnTo>
                <a:lnTo>
                  <a:pt x="13741" y="1849"/>
                </a:lnTo>
                <a:lnTo>
                  <a:pt x="13600" y="1823"/>
                </a:lnTo>
                <a:lnTo>
                  <a:pt x="13433" y="1792"/>
                </a:lnTo>
                <a:lnTo>
                  <a:pt x="13203" y="1832"/>
                </a:lnTo>
                <a:lnTo>
                  <a:pt x="13062" y="1792"/>
                </a:lnTo>
                <a:lnTo>
                  <a:pt x="12956" y="1832"/>
                </a:lnTo>
                <a:lnTo>
                  <a:pt x="12780" y="1867"/>
                </a:lnTo>
                <a:lnTo>
                  <a:pt x="12573" y="1832"/>
                </a:lnTo>
                <a:lnTo>
                  <a:pt x="12308" y="1752"/>
                </a:lnTo>
                <a:lnTo>
                  <a:pt x="12145" y="1832"/>
                </a:lnTo>
                <a:lnTo>
                  <a:pt x="11898" y="1752"/>
                </a:lnTo>
                <a:lnTo>
                  <a:pt x="11695" y="1823"/>
                </a:lnTo>
                <a:lnTo>
                  <a:pt x="11528" y="1796"/>
                </a:lnTo>
                <a:lnTo>
                  <a:pt x="11386" y="1823"/>
                </a:lnTo>
                <a:lnTo>
                  <a:pt x="11166" y="1840"/>
                </a:lnTo>
                <a:lnTo>
                  <a:pt x="10945" y="1765"/>
                </a:lnTo>
                <a:lnTo>
                  <a:pt x="10716" y="1796"/>
                </a:lnTo>
                <a:lnTo>
                  <a:pt x="10571" y="1695"/>
                </a:lnTo>
                <a:lnTo>
                  <a:pt x="10407" y="1787"/>
                </a:lnTo>
                <a:lnTo>
                  <a:pt x="10099" y="1796"/>
                </a:lnTo>
                <a:lnTo>
                  <a:pt x="9649" y="1858"/>
                </a:lnTo>
                <a:lnTo>
                  <a:pt x="9349" y="1814"/>
                </a:lnTo>
                <a:lnTo>
                  <a:pt x="9093" y="1867"/>
                </a:lnTo>
                <a:lnTo>
                  <a:pt x="8921" y="1871"/>
                </a:lnTo>
                <a:lnTo>
                  <a:pt x="8767" y="1920"/>
                </a:lnTo>
                <a:lnTo>
                  <a:pt x="8617" y="1858"/>
                </a:lnTo>
                <a:lnTo>
                  <a:pt x="8502" y="1964"/>
                </a:lnTo>
                <a:lnTo>
                  <a:pt x="8300" y="1946"/>
                </a:lnTo>
                <a:lnTo>
                  <a:pt x="8106" y="1920"/>
                </a:lnTo>
                <a:lnTo>
                  <a:pt x="7964" y="1902"/>
                </a:lnTo>
                <a:lnTo>
                  <a:pt x="7753" y="1814"/>
                </a:lnTo>
                <a:lnTo>
                  <a:pt x="7559" y="1876"/>
                </a:lnTo>
                <a:lnTo>
                  <a:pt x="7272" y="1862"/>
                </a:lnTo>
                <a:lnTo>
                  <a:pt x="6950" y="1792"/>
                </a:lnTo>
                <a:lnTo>
                  <a:pt x="6580" y="1862"/>
                </a:lnTo>
                <a:lnTo>
                  <a:pt x="6368" y="1964"/>
                </a:lnTo>
                <a:lnTo>
                  <a:pt x="5971" y="1929"/>
                </a:lnTo>
                <a:lnTo>
                  <a:pt x="5592" y="1929"/>
                </a:lnTo>
                <a:lnTo>
                  <a:pt x="5389" y="1937"/>
                </a:lnTo>
                <a:lnTo>
                  <a:pt x="5204" y="1937"/>
                </a:lnTo>
                <a:lnTo>
                  <a:pt x="4957" y="1964"/>
                </a:lnTo>
                <a:lnTo>
                  <a:pt x="4772" y="1973"/>
                </a:lnTo>
                <a:lnTo>
                  <a:pt x="4414" y="2021"/>
                </a:lnTo>
                <a:lnTo>
                  <a:pt x="4198" y="1981"/>
                </a:lnTo>
                <a:lnTo>
                  <a:pt x="4012" y="1929"/>
                </a:lnTo>
                <a:lnTo>
                  <a:pt x="3845" y="1911"/>
                </a:lnTo>
                <a:lnTo>
                  <a:pt x="3642" y="1990"/>
                </a:lnTo>
                <a:lnTo>
                  <a:pt x="3430" y="1999"/>
                </a:lnTo>
                <a:lnTo>
                  <a:pt x="3210" y="1955"/>
                </a:lnTo>
                <a:lnTo>
                  <a:pt x="3069" y="1920"/>
                </a:lnTo>
                <a:lnTo>
                  <a:pt x="2963" y="1937"/>
                </a:lnTo>
                <a:lnTo>
                  <a:pt x="2769" y="1920"/>
                </a:lnTo>
                <a:lnTo>
                  <a:pt x="2584" y="1902"/>
                </a:lnTo>
                <a:lnTo>
                  <a:pt x="2372" y="1902"/>
                </a:lnTo>
                <a:lnTo>
                  <a:pt x="2213" y="1955"/>
                </a:lnTo>
                <a:lnTo>
                  <a:pt x="2160" y="1981"/>
                </a:lnTo>
                <a:lnTo>
                  <a:pt x="2107" y="1955"/>
                </a:lnTo>
                <a:lnTo>
                  <a:pt x="2054" y="1981"/>
                </a:lnTo>
                <a:lnTo>
                  <a:pt x="1843" y="2008"/>
                </a:lnTo>
                <a:lnTo>
                  <a:pt x="1631" y="2008"/>
                </a:lnTo>
                <a:lnTo>
                  <a:pt x="1411" y="1920"/>
                </a:lnTo>
                <a:lnTo>
                  <a:pt x="1234" y="1964"/>
                </a:lnTo>
                <a:lnTo>
                  <a:pt x="1049" y="1911"/>
                </a:lnTo>
                <a:lnTo>
                  <a:pt x="899" y="1937"/>
                </a:lnTo>
                <a:lnTo>
                  <a:pt x="732" y="1946"/>
                </a:lnTo>
                <a:lnTo>
                  <a:pt x="520" y="1973"/>
                </a:lnTo>
                <a:lnTo>
                  <a:pt x="229" y="1981"/>
                </a:lnTo>
                <a:lnTo>
                  <a:pt x="0" y="1929"/>
                </a:lnTo>
                <a:lnTo>
                  <a:pt x="8" y="1929"/>
                </a:lnTo>
                <a:close/>
              </a:path>
            </a:pathLst>
          </a:custGeom>
          <a:gradFill rotWithShape="0">
            <a:gsLst>
              <a:gs pos="0">
                <a:srgbClr val="f2fefd"/>
              </a:gs>
              <a:gs pos="100000">
                <a:srgbClr val="000000"/>
              </a:gs>
            </a:gsLst>
            <a:lin ang="81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2246400" y="3083040"/>
            <a:ext cx="593640" cy="396720"/>
          </a:xfrm>
          <a:prstGeom prst="rect">
            <a:avLst/>
          </a:prstGeom>
          <a:solidFill>
            <a:srgbClr val="919191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863640" y="3832200"/>
            <a:ext cx="7531560" cy="1607040"/>
          </a:xfrm>
          <a:custGeom>
            <a:avLst/>
            <a:gdLst/>
            <a:ahLst/>
            <a:rect l="0" t="0" r="r" b="b"/>
            <a:pathLst>
              <a:path w="20921" h="4464">
                <a:moveTo>
                  <a:pt x="48" y="123"/>
                </a:moveTo>
                <a:lnTo>
                  <a:pt x="339" y="149"/>
                </a:lnTo>
                <a:lnTo>
                  <a:pt x="740" y="176"/>
                </a:lnTo>
                <a:lnTo>
                  <a:pt x="1146" y="202"/>
                </a:lnTo>
                <a:lnTo>
                  <a:pt x="1556" y="216"/>
                </a:lnTo>
                <a:lnTo>
                  <a:pt x="1688" y="202"/>
                </a:lnTo>
                <a:lnTo>
                  <a:pt x="1878" y="185"/>
                </a:lnTo>
                <a:lnTo>
                  <a:pt x="2019" y="202"/>
                </a:lnTo>
                <a:lnTo>
                  <a:pt x="2143" y="167"/>
                </a:lnTo>
                <a:lnTo>
                  <a:pt x="2275" y="158"/>
                </a:lnTo>
                <a:lnTo>
                  <a:pt x="2363" y="194"/>
                </a:lnTo>
                <a:lnTo>
                  <a:pt x="2495" y="229"/>
                </a:lnTo>
                <a:lnTo>
                  <a:pt x="2601" y="229"/>
                </a:lnTo>
                <a:lnTo>
                  <a:pt x="2760" y="202"/>
                </a:lnTo>
                <a:lnTo>
                  <a:pt x="2892" y="255"/>
                </a:lnTo>
                <a:lnTo>
                  <a:pt x="3104" y="176"/>
                </a:lnTo>
                <a:lnTo>
                  <a:pt x="3210" y="229"/>
                </a:lnTo>
                <a:lnTo>
                  <a:pt x="3369" y="229"/>
                </a:lnTo>
                <a:lnTo>
                  <a:pt x="3536" y="299"/>
                </a:lnTo>
                <a:lnTo>
                  <a:pt x="3660" y="255"/>
                </a:lnTo>
                <a:lnTo>
                  <a:pt x="3739" y="176"/>
                </a:lnTo>
                <a:lnTo>
                  <a:pt x="3871" y="202"/>
                </a:lnTo>
                <a:lnTo>
                  <a:pt x="4030" y="176"/>
                </a:lnTo>
                <a:lnTo>
                  <a:pt x="4145" y="141"/>
                </a:lnTo>
                <a:lnTo>
                  <a:pt x="4303" y="176"/>
                </a:lnTo>
                <a:lnTo>
                  <a:pt x="4471" y="167"/>
                </a:lnTo>
                <a:lnTo>
                  <a:pt x="4586" y="158"/>
                </a:lnTo>
                <a:lnTo>
                  <a:pt x="4727" y="132"/>
                </a:lnTo>
                <a:lnTo>
                  <a:pt x="4780" y="158"/>
                </a:lnTo>
                <a:lnTo>
                  <a:pt x="4912" y="105"/>
                </a:lnTo>
                <a:lnTo>
                  <a:pt x="5062" y="123"/>
                </a:lnTo>
                <a:lnTo>
                  <a:pt x="5266" y="167"/>
                </a:lnTo>
                <a:lnTo>
                  <a:pt x="5424" y="158"/>
                </a:lnTo>
                <a:lnTo>
                  <a:pt x="5618" y="149"/>
                </a:lnTo>
                <a:lnTo>
                  <a:pt x="5830" y="167"/>
                </a:lnTo>
                <a:lnTo>
                  <a:pt x="5892" y="185"/>
                </a:lnTo>
                <a:lnTo>
                  <a:pt x="5980" y="97"/>
                </a:lnTo>
                <a:lnTo>
                  <a:pt x="6174" y="70"/>
                </a:lnTo>
                <a:lnTo>
                  <a:pt x="6298" y="158"/>
                </a:lnTo>
                <a:lnTo>
                  <a:pt x="6430" y="123"/>
                </a:lnTo>
                <a:lnTo>
                  <a:pt x="6571" y="194"/>
                </a:lnTo>
                <a:lnTo>
                  <a:pt x="6690" y="189"/>
                </a:lnTo>
                <a:lnTo>
                  <a:pt x="6809" y="202"/>
                </a:lnTo>
                <a:lnTo>
                  <a:pt x="6941" y="202"/>
                </a:lnTo>
                <a:lnTo>
                  <a:pt x="7100" y="176"/>
                </a:lnTo>
                <a:lnTo>
                  <a:pt x="7188" y="185"/>
                </a:lnTo>
                <a:lnTo>
                  <a:pt x="7312" y="114"/>
                </a:lnTo>
                <a:lnTo>
                  <a:pt x="7431" y="141"/>
                </a:lnTo>
                <a:lnTo>
                  <a:pt x="7559" y="194"/>
                </a:lnTo>
                <a:lnTo>
                  <a:pt x="7735" y="185"/>
                </a:lnTo>
                <a:lnTo>
                  <a:pt x="7810" y="141"/>
                </a:lnTo>
                <a:lnTo>
                  <a:pt x="7947" y="83"/>
                </a:lnTo>
                <a:lnTo>
                  <a:pt x="8066" y="97"/>
                </a:lnTo>
                <a:lnTo>
                  <a:pt x="8238" y="110"/>
                </a:lnTo>
                <a:lnTo>
                  <a:pt x="8357" y="110"/>
                </a:lnTo>
                <a:lnTo>
                  <a:pt x="8489" y="163"/>
                </a:lnTo>
                <a:lnTo>
                  <a:pt x="8688" y="176"/>
                </a:lnTo>
                <a:lnTo>
                  <a:pt x="8908" y="185"/>
                </a:lnTo>
                <a:lnTo>
                  <a:pt x="9076" y="132"/>
                </a:lnTo>
                <a:lnTo>
                  <a:pt x="9199" y="123"/>
                </a:lnTo>
                <a:lnTo>
                  <a:pt x="9340" y="202"/>
                </a:lnTo>
                <a:lnTo>
                  <a:pt x="9464" y="141"/>
                </a:lnTo>
                <a:lnTo>
                  <a:pt x="9605" y="171"/>
                </a:lnTo>
                <a:lnTo>
                  <a:pt x="9680" y="163"/>
                </a:lnTo>
                <a:lnTo>
                  <a:pt x="9772" y="202"/>
                </a:lnTo>
                <a:lnTo>
                  <a:pt x="9971" y="171"/>
                </a:lnTo>
                <a:lnTo>
                  <a:pt x="10077" y="141"/>
                </a:lnTo>
                <a:lnTo>
                  <a:pt x="10205" y="141"/>
                </a:lnTo>
                <a:lnTo>
                  <a:pt x="10328" y="176"/>
                </a:lnTo>
                <a:lnTo>
                  <a:pt x="10743" y="185"/>
                </a:lnTo>
                <a:lnTo>
                  <a:pt x="10945" y="149"/>
                </a:lnTo>
                <a:lnTo>
                  <a:pt x="11104" y="123"/>
                </a:lnTo>
                <a:lnTo>
                  <a:pt x="11210" y="158"/>
                </a:lnTo>
                <a:lnTo>
                  <a:pt x="11325" y="132"/>
                </a:lnTo>
                <a:lnTo>
                  <a:pt x="11448" y="185"/>
                </a:lnTo>
                <a:lnTo>
                  <a:pt x="11589" y="141"/>
                </a:lnTo>
                <a:lnTo>
                  <a:pt x="11774" y="202"/>
                </a:lnTo>
                <a:lnTo>
                  <a:pt x="11968" y="220"/>
                </a:lnTo>
                <a:lnTo>
                  <a:pt x="12145" y="141"/>
                </a:lnTo>
                <a:lnTo>
                  <a:pt x="12277" y="167"/>
                </a:lnTo>
                <a:lnTo>
                  <a:pt x="12383" y="149"/>
                </a:lnTo>
                <a:lnTo>
                  <a:pt x="12506" y="211"/>
                </a:lnTo>
                <a:lnTo>
                  <a:pt x="12648" y="185"/>
                </a:lnTo>
                <a:lnTo>
                  <a:pt x="12789" y="149"/>
                </a:lnTo>
                <a:lnTo>
                  <a:pt x="12881" y="83"/>
                </a:lnTo>
                <a:lnTo>
                  <a:pt x="13014" y="70"/>
                </a:lnTo>
                <a:lnTo>
                  <a:pt x="13172" y="70"/>
                </a:lnTo>
                <a:lnTo>
                  <a:pt x="13265" y="57"/>
                </a:lnTo>
                <a:lnTo>
                  <a:pt x="13543" y="83"/>
                </a:lnTo>
                <a:lnTo>
                  <a:pt x="13688" y="110"/>
                </a:lnTo>
                <a:lnTo>
                  <a:pt x="13816" y="141"/>
                </a:lnTo>
                <a:lnTo>
                  <a:pt x="13944" y="211"/>
                </a:lnTo>
                <a:lnTo>
                  <a:pt x="14085" y="163"/>
                </a:lnTo>
                <a:lnTo>
                  <a:pt x="14231" y="163"/>
                </a:lnTo>
                <a:lnTo>
                  <a:pt x="14429" y="123"/>
                </a:lnTo>
                <a:lnTo>
                  <a:pt x="14531" y="141"/>
                </a:lnTo>
                <a:lnTo>
                  <a:pt x="14654" y="141"/>
                </a:lnTo>
                <a:lnTo>
                  <a:pt x="14782" y="180"/>
                </a:lnTo>
                <a:lnTo>
                  <a:pt x="14910" y="180"/>
                </a:lnTo>
                <a:lnTo>
                  <a:pt x="15161" y="180"/>
                </a:lnTo>
                <a:lnTo>
                  <a:pt x="15285" y="180"/>
                </a:lnTo>
                <a:lnTo>
                  <a:pt x="15452" y="180"/>
                </a:lnTo>
                <a:lnTo>
                  <a:pt x="15580" y="180"/>
                </a:lnTo>
                <a:lnTo>
                  <a:pt x="15735" y="202"/>
                </a:lnTo>
                <a:lnTo>
                  <a:pt x="15859" y="136"/>
                </a:lnTo>
                <a:lnTo>
                  <a:pt x="16004" y="110"/>
                </a:lnTo>
                <a:lnTo>
                  <a:pt x="16137" y="123"/>
                </a:lnTo>
                <a:lnTo>
                  <a:pt x="16269" y="149"/>
                </a:lnTo>
                <a:lnTo>
                  <a:pt x="16878" y="97"/>
                </a:lnTo>
                <a:lnTo>
                  <a:pt x="17208" y="110"/>
                </a:lnTo>
                <a:lnTo>
                  <a:pt x="17327" y="149"/>
                </a:lnTo>
                <a:lnTo>
                  <a:pt x="17473" y="189"/>
                </a:lnTo>
                <a:lnTo>
                  <a:pt x="17632" y="163"/>
                </a:lnTo>
                <a:lnTo>
                  <a:pt x="17751" y="136"/>
                </a:lnTo>
                <a:lnTo>
                  <a:pt x="17892" y="180"/>
                </a:lnTo>
                <a:lnTo>
                  <a:pt x="18015" y="141"/>
                </a:lnTo>
                <a:lnTo>
                  <a:pt x="18187" y="132"/>
                </a:lnTo>
                <a:lnTo>
                  <a:pt x="18364" y="176"/>
                </a:lnTo>
                <a:lnTo>
                  <a:pt x="18540" y="158"/>
                </a:lnTo>
                <a:lnTo>
                  <a:pt x="18628" y="114"/>
                </a:lnTo>
                <a:lnTo>
                  <a:pt x="18831" y="97"/>
                </a:lnTo>
                <a:lnTo>
                  <a:pt x="19016" y="88"/>
                </a:lnTo>
                <a:lnTo>
                  <a:pt x="19069" y="79"/>
                </a:lnTo>
                <a:lnTo>
                  <a:pt x="19210" y="70"/>
                </a:lnTo>
                <a:lnTo>
                  <a:pt x="19343" y="70"/>
                </a:lnTo>
                <a:lnTo>
                  <a:pt x="19497" y="136"/>
                </a:lnTo>
                <a:lnTo>
                  <a:pt x="19642" y="176"/>
                </a:lnTo>
                <a:lnTo>
                  <a:pt x="19894" y="163"/>
                </a:lnTo>
                <a:lnTo>
                  <a:pt x="20039" y="97"/>
                </a:lnTo>
                <a:lnTo>
                  <a:pt x="20286" y="0"/>
                </a:lnTo>
                <a:lnTo>
                  <a:pt x="20533" y="17"/>
                </a:lnTo>
                <a:lnTo>
                  <a:pt x="20718" y="35"/>
                </a:lnTo>
                <a:lnTo>
                  <a:pt x="20921" y="70"/>
                </a:lnTo>
                <a:lnTo>
                  <a:pt x="20917" y="4464"/>
                </a:lnTo>
                <a:lnTo>
                  <a:pt x="0" y="4455"/>
                </a:lnTo>
                <a:lnTo>
                  <a:pt x="0" y="114"/>
                </a:lnTo>
                <a:lnTo>
                  <a:pt x="48" y="123"/>
                </a:lnTo>
                <a:close/>
              </a:path>
            </a:pathLst>
          </a:custGeom>
          <a:gradFill rotWithShape="0">
            <a:gsLst>
              <a:gs pos="0">
                <a:srgbClr val="919191"/>
              </a:gs>
              <a:gs pos="100000">
                <a:srgbClr val="2b2b2b"/>
              </a:gs>
            </a:gsLst>
            <a:lin ang="81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5037120" y="2368440"/>
            <a:ext cx="533520" cy="1170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827600" y="4713120"/>
            <a:ext cx="2765520" cy="396720"/>
          </a:xfrm>
          <a:prstGeom prst="rect">
            <a:avLst/>
          </a:prstGeom>
          <a:solidFill>
            <a:srgbClr val="919191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atum Feature Simu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762120" y="15228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lanar Datum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7967520" y="2643120"/>
            <a:ext cx="671760" cy="12477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31400" cy="6872400"/>
            <a:chOff x="0" y="0"/>
            <a:chExt cx="9131400" cy="6872400"/>
          </a:xfrm>
        </p:grpSpPr>
        <p:sp>
          <p:nvSpPr>
            <p:cNvPr id="46" name=""/>
            <p:cNvSpPr/>
            <p:nvPr/>
          </p:nvSpPr>
          <p:spPr>
            <a:xfrm>
              <a:off x="4965840" y="9360"/>
              <a:ext cx="4165560" cy="5952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760" y="3456000"/>
              <a:ext cx="103824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498680" y="3456000"/>
              <a:ext cx="13644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774800" y="3456000"/>
              <a:ext cx="831960" cy="14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1982880" y="3456000"/>
              <a:ext cx="6984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167360" y="3540240"/>
              <a:ext cx="207612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383160" y="3540240"/>
              <a:ext cx="13680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659640" y="3540240"/>
              <a:ext cx="207648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450120" y="3470400"/>
              <a:ext cx="0" cy="1364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6450120" y="765000"/>
              <a:ext cx="0" cy="25657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450120" y="3746520"/>
              <a:ext cx="0" cy="180036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233960" y="1436760"/>
              <a:ext cx="4470480" cy="424008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538520" y="1708200"/>
              <a:ext cx="3860640" cy="370512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96880" y="1515960"/>
              <a:ext cx="0" cy="38768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74800" y="1515960"/>
              <a:ext cx="0" cy="7621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74800" y="4675320"/>
              <a:ext cx="0" cy="7174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74800" y="2279520"/>
              <a:ext cx="28872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932040" y="4630680"/>
              <a:ext cx="23148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20760" y="2336760"/>
              <a:ext cx="0" cy="3524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220760" y="4216320"/>
              <a:ext cx="0" cy="3589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273320" y="2749680"/>
              <a:ext cx="23004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278000" y="4156200"/>
              <a:ext cx="22680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1498680" y="2678040"/>
              <a:ext cx="69840" cy="716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flipV="1">
              <a:off x="1496880" y="4154400"/>
              <a:ext cx="73080" cy="8100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566720" y="2679840"/>
              <a:ext cx="41616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566720" y="4233960"/>
              <a:ext cx="41616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982880" y="2679840"/>
              <a:ext cx="69840" cy="698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1982880" y="4157640"/>
              <a:ext cx="69840" cy="698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52720" y="2749680"/>
              <a:ext cx="0" cy="619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052720" y="4087800"/>
              <a:ext cx="0" cy="698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057400" y="2816280"/>
              <a:ext cx="192240" cy="14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052720" y="4087800"/>
              <a:ext cx="195120" cy="14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95440" y="2557440"/>
              <a:ext cx="36180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96880" y="4354560"/>
              <a:ext cx="35712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011240" y="2617920"/>
              <a:ext cx="0" cy="16891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009800" y="2962440"/>
              <a:ext cx="124128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012680" y="3940200"/>
              <a:ext cx="1231920" cy="14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6880" y="1515960"/>
              <a:ext cx="27792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6880" y="5392800"/>
              <a:ext cx="27792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6880" y="1654200"/>
              <a:ext cx="27792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6880" y="1930320"/>
              <a:ext cx="27792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6880" y="4978440"/>
              <a:ext cx="27792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6880" y="5254560"/>
              <a:ext cx="27792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291360" y="1565280"/>
              <a:ext cx="320760" cy="28728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395960" y="3390840"/>
              <a:ext cx="290520" cy="27612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299280" y="5272200"/>
              <a:ext cx="297000" cy="27612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240760" y="3417840"/>
              <a:ext cx="298440" cy="27612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618320" y="2048040"/>
              <a:ext cx="322200" cy="29988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78440" y="2081160"/>
              <a:ext cx="312840" cy="27612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965840" y="4748040"/>
              <a:ext cx="299880" cy="27792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645320" y="4756320"/>
              <a:ext cx="304920" cy="27792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7496280" y="1924200"/>
              <a:ext cx="558720" cy="5587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flipV="1">
              <a:off x="4435560" y="1514520"/>
              <a:ext cx="1036440" cy="10364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205240" y="2362320"/>
              <a:ext cx="2475000" cy="235260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24480" y="2568600"/>
              <a:ext cx="2039760" cy="194004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72080" y="2708280"/>
              <a:ext cx="1746360" cy="166068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38920" y="3052800"/>
              <a:ext cx="1019160" cy="97164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27120" y="2725560"/>
              <a:ext cx="482760" cy="0"/>
            </a:xfrm>
            <a:prstGeom prst="line">
              <a:avLst/>
            </a:prstGeom>
            <a:ln w="12600">
              <a:solidFill>
                <a:srgbClr val="114ffb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515960" y="4175280"/>
              <a:ext cx="506520" cy="0"/>
            </a:xfrm>
            <a:prstGeom prst="line">
              <a:avLst/>
            </a:prstGeom>
            <a:ln w="12600">
              <a:solidFill>
                <a:srgbClr val="114ffb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472000" y="2614680"/>
              <a:ext cx="1943280" cy="182880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71560" y="4624560"/>
              <a:ext cx="57600" cy="57600"/>
            </a:xfrm>
            <a:custGeom>
              <a:avLst/>
              <a:gdLst/>
              <a:ahLst/>
              <a:rect l="0" t="0" r="r" b="b"/>
              <a:pathLst>
                <a:path fill="none" w="160" h="160">
                  <a:moveTo>
                    <a:pt x="160" y="160"/>
                  </a:moveTo>
                  <a:lnTo>
                    <a:pt x="160" y="160"/>
                  </a:lnTo>
                  <a:lnTo>
                    <a:pt x="160" y="160"/>
                  </a:lnTo>
                  <a:cubicBezTo>
                    <a:pt x="160" y="132"/>
                    <a:pt x="153" y="104"/>
                    <a:pt x="139" y="80"/>
                  </a:cubicBezTo>
                  <a:cubicBezTo>
                    <a:pt x="125" y="56"/>
                    <a:pt x="104" y="35"/>
                    <a:pt x="80" y="21"/>
                  </a:cubicBezTo>
                  <a:cubicBezTo>
                    <a:pt x="56" y="7"/>
                    <a:pt x="28" y="0"/>
                    <a:pt x="0" y="0"/>
                  </a:cubicBezTo>
                </a:path>
              </a:pathLst>
            </a:custGeom>
            <a:ln w="12600">
              <a:solidFill>
                <a:srgbClr val="114ffb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787320" y="1793880"/>
              <a:ext cx="23832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677880" y="1793880"/>
              <a:ext cx="7128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415800" y="1793880"/>
              <a:ext cx="21456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787320" y="5118120"/>
              <a:ext cx="23832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677880" y="5118120"/>
              <a:ext cx="7128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415800" y="5118120"/>
              <a:ext cx="21456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7569360" y="4668840"/>
              <a:ext cx="493560" cy="4730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4857840" y="4676760"/>
              <a:ext cx="469800" cy="46980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386080" y="2967120"/>
              <a:ext cx="40320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397240" y="3940200"/>
              <a:ext cx="39204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365200" y="2817720"/>
              <a:ext cx="100512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370240" y="4092480"/>
              <a:ext cx="100800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87520" y="5506920"/>
              <a:ext cx="0" cy="108756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82720" y="5489640"/>
              <a:ext cx="0" cy="4096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222200" y="4702320"/>
              <a:ext cx="3240" cy="6634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048040" y="4278240"/>
              <a:ext cx="0" cy="46836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202280" y="3902040"/>
              <a:ext cx="0" cy="273060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8715240" y="3808440"/>
              <a:ext cx="5040" cy="287496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202360" y="3919680"/>
              <a:ext cx="0" cy="23065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78800" y="3780000"/>
              <a:ext cx="0" cy="24127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5662440" y="1870200"/>
              <a:ext cx="1602000" cy="33782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588080" y="1217520"/>
              <a:ext cx="24300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7264440" y="1224000"/>
              <a:ext cx="328680" cy="64620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831080" y="1068480"/>
              <a:ext cx="592200" cy="29700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6502320" y="219240"/>
              <a:ext cx="308160" cy="13586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816600" y="219240"/>
              <a:ext cx="19692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7902720" y="1098720"/>
              <a:ext cx="204480" cy="193680"/>
              <a:chOff x="7902720" y="1098720"/>
              <a:chExt cx="204480" cy="193680"/>
            </a:xfrm>
          </p:grpSpPr>
          <p:sp>
            <p:nvSpPr>
              <p:cNvPr id="134" name=""/>
              <p:cNvSpPr/>
              <p:nvPr/>
            </p:nvSpPr>
            <p:spPr>
              <a:xfrm>
                <a:off x="7918560" y="1122480"/>
                <a:ext cx="165240" cy="155520"/>
              </a:xfrm>
              <a:prstGeom prst="ellipse">
                <a:avLst/>
              </a:prstGeom>
              <a:noFill/>
              <a:ln w="12600">
                <a:solidFill>
                  <a:srgbClr val="114ffb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>
                <a:off x="7902720" y="1098720"/>
                <a:ext cx="204480" cy="193680"/>
              </a:xfrm>
              <a:prstGeom prst="line">
                <a:avLst/>
              </a:prstGeom>
              <a:ln w="12600">
                <a:solidFill>
                  <a:srgbClr val="114f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"/>
            <p:cNvSpPr txBox="1"/>
            <p:nvPr/>
          </p:nvSpPr>
          <p:spPr>
            <a:xfrm>
              <a:off x="8099280" y="1025640"/>
              <a:ext cx="4096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114ffb"/>
                  </a:solidFill>
                  <a:latin typeface="Arial"/>
                  <a:ea typeface="Arial"/>
                </a:rPr>
                <a:t>8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27720" y="892080"/>
              <a:ext cx="1927440" cy="698400"/>
            </a:xfrm>
            <a:custGeom>
              <a:avLst/>
              <a:gdLst/>
              <a:ahLst/>
              <a:rect l="0" t="0" r="r" b="b"/>
              <a:pathLst>
                <a:path fill="none" w="5354" h="1940">
                  <a:moveTo>
                    <a:pt x="5354" y="0"/>
                  </a:moveTo>
                  <a:lnTo>
                    <a:pt x="5354" y="0"/>
                  </a:lnTo>
                  <a:lnTo>
                    <a:pt x="5353" y="0"/>
                  </a:lnTo>
                  <a:cubicBezTo>
                    <a:pt x="3886" y="0"/>
                    <a:pt x="2444" y="387"/>
                    <a:pt x="1173" y="1121"/>
                  </a:cubicBezTo>
                  <a:cubicBezTo>
                    <a:pt x="759" y="1360"/>
                    <a:pt x="367" y="1634"/>
                    <a:pt x="0" y="1940"/>
                  </a:cubicBezTo>
                </a:path>
              </a:pathLst>
            </a:custGeom>
            <a:ln w="12600">
              <a:solidFill>
                <a:srgbClr val="114ffb"/>
              </a:solidFill>
              <a:round/>
              <a:headEnd len="med" type="triangle" w="med"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 txBox="1"/>
            <p:nvPr/>
          </p:nvSpPr>
          <p:spPr>
            <a:xfrm>
              <a:off x="5032440" y="955800"/>
              <a:ext cx="668160" cy="324000"/>
            </a:xfrm>
            <a:prstGeom prst="rect">
              <a:avLst/>
            </a:prstGeom>
            <a:solidFill>
              <a:srgbClr val="114ffb"/>
            </a:solidFill>
            <a:ln w="12600">
              <a:solidFill>
                <a:srgbClr val="114ffb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8X 4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600520" y="1049400"/>
              <a:ext cx="50760" cy="5076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 txBox="1"/>
            <p:nvPr/>
          </p:nvSpPr>
          <p:spPr>
            <a:xfrm>
              <a:off x="7427880" y="387360"/>
              <a:ext cx="8762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0.14  M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 txBox="1"/>
            <p:nvPr/>
          </p:nvSpPr>
          <p:spPr>
            <a:xfrm>
              <a:off x="6997680" y="101520"/>
              <a:ext cx="13510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8X      7.9 - 8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823080" y="384120"/>
              <a:ext cx="2136600" cy="2919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6835680" y="396720"/>
              <a:ext cx="279360" cy="292320"/>
              <a:chOff x="6835680" y="396720"/>
              <a:chExt cx="279360" cy="292320"/>
            </a:xfrm>
          </p:grpSpPr>
          <p:sp>
            <p:nvSpPr>
              <p:cNvPr id="144" name=""/>
              <p:cNvSpPr/>
              <p:nvPr/>
            </p:nvSpPr>
            <p:spPr>
              <a:xfrm>
                <a:off x="6886440" y="447840"/>
                <a:ext cx="177840" cy="177840"/>
              </a:xfrm>
              <a:prstGeom prst="ellipse">
                <a:avLst/>
              </a:prstGeom>
              <a:noFill/>
              <a:ln w="12600">
                <a:solidFill>
                  <a:srgbClr val="114ffb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975360" y="396720"/>
                <a:ext cx="0" cy="292320"/>
              </a:xfrm>
              <a:prstGeom prst="line">
                <a:avLst/>
              </a:prstGeom>
              <a:ln w="12600">
                <a:solidFill>
                  <a:srgbClr val="114f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835680" y="536400"/>
                <a:ext cx="279360" cy="0"/>
              </a:xfrm>
              <a:prstGeom prst="line">
                <a:avLst/>
              </a:prstGeom>
              <a:ln w="12600">
                <a:solidFill>
                  <a:srgbClr val="114f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7140600" y="384120"/>
              <a:ext cx="0" cy="2923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474040" y="384120"/>
              <a:ext cx="0" cy="2923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07400" y="409680"/>
              <a:ext cx="241200" cy="24120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220240" y="384120"/>
              <a:ext cx="0" cy="2923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 txBox="1"/>
            <p:nvPr/>
          </p:nvSpPr>
          <p:spPr>
            <a:xfrm>
              <a:off x="8213760" y="384120"/>
              <a:ext cx="7761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A  C  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693280" y="411120"/>
              <a:ext cx="241200" cy="24120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5202360" y="6062760"/>
              <a:ext cx="739800" cy="79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02400" y="6070680"/>
              <a:ext cx="107172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203720" y="6518160"/>
              <a:ext cx="263196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02400" y="6492960"/>
              <a:ext cx="120996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981760" y="5961240"/>
              <a:ext cx="190440" cy="196560"/>
              <a:chOff x="5981760" y="5961240"/>
              <a:chExt cx="190440" cy="196560"/>
            </a:xfrm>
          </p:grpSpPr>
          <p:sp>
            <p:nvSpPr>
              <p:cNvPr id="158" name=""/>
              <p:cNvSpPr/>
              <p:nvPr/>
            </p:nvSpPr>
            <p:spPr>
              <a:xfrm>
                <a:off x="5997600" y="5985000"/>
                <a:ext cx="152280" cy="157320"/>
              </a:xfrm>
              <a:prstGeom prst="ellipse">
                <a:avLst/>
              </a:prstGeom>
              <a:noFill/>
              <a:ln w="12600">
                <a:solidFill>
                  <a:srgbClr val="114ffb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981760" y="5961240"/>
                <a:ext cx="190440" cy="196560"/>
              </a:xfrm>
              <a:prstGeom prst="line">
                <a:avLst/>
              </a:prstGeom>
              <a:ln w="12600">
                <a:solidFill>
                  <a:srgbClr val="114f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"/>
            <p:cNvSpPr txBox="1"/>
            <p:nvPr/>
          </p:nvSpPr>
          <p:spPr>
            <a:xfrm>
              <a:off x="6129360" y="5811840"/>
              <a:ext cx="5302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57.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56.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 txBox="1"/>
            <p:nvPr/>
          </p:nvSpPr>
          <p:spPr>
            <a:xfrm>
              <a:off x="7058160" y="6288120"/>
              <a:ext cx="48096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9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6891480" y="6418440"/>
              <a:ext cx="190440" cy="196560"/>
              <a:chOff x="6891480" y="6418440"/>
              <a:chExt cx="190440" cy="196560"/>
            </a:xfrm>
          </p:grpSpPr>
          <p:sp>
            <p:nvSpPr>
              <p:cNvPr id="163" name=""/>
              <p:cNvSpPr/>
              <p:nvPr/>
            </p:nvSpPr>
            <p:spPr>
              <a:xfrm>
                <a:off x="6907320" y="6442200"/>
                <a:ext cx="152280" cy="157320"/>
              </a:xfrm>
              <a:prstGeom prst="ellipse">
                <a:avLst/>
              </a:prstGeom>
              <a:noFill/>
              <a:ln w="12600">
                <a:solidFill>
                  <a:srgbClr val="114ffb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>
                <a:off x="6891480" y="6418440"/>
                <a:ext cx="190440" cy="196560"/>
              </a:xfrm>
              <a:prstGeom prst="line">
                <a:avLst/>
              </a:prstGeom>
              <a:ln w="12600">
                <a:solidFill>
                  <a:srgbClr val="114f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2708280" y="2962440"/>
              <a:ext cx="0" cy="96516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255840" y="2816280"/>
              <a:ext cx="0" cy="127620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577800" y="6256440"/>
              <a:ext cx="419040" cy="46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468440" y="6256440"/>
              <a:ext cx="795240" cy="46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82720" y="5803920"/>
              <a:ext cx="75240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930320" y="5803920"/>
              <a:ext cx="32400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225440" y="5275440"/>
              <a:ext cx="25740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940040" y="5294160"/>
              <a:ext cx="31428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711440" y="4651200"/>
              <a:ext cx="33336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54320" y="4651200"/>
              <a:ext cx="33336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 txBox="1"/>
            <p:nvPr/>
          </p:nvSpPr>
          <p:spPr>
            <a:xfrm>
              <a:off x="2552760" y="4392720"/>
              <a:ext cx="43164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9.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9.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 txBox="1"/>
            <p:nvPr/>
          </p:nvSpPr>
          <p:spPr>
            <a:xfrm>
              <a:off x="1452600" y="5040360"/>
              <a:ext cx="5302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25.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25.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 txBox="1"/>
            <p:nvPr/>
          </p:nvSpPr>
          <p:spPr>
            <a:xfrm>
              <a:off x="1581120" y="5545080"/>
              <a:ext cx="3826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3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3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928800" y="6026040"/>
              <a:ext cx="5302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41.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41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63520" y="2274840"/>
              <a:ext cx="61920" cy="619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22200" y="2690640"/>
              <a:ext cx="54000" cy="5400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1216080" y="4159080"/>
              <a:ext cx="60120" cy="5400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1158840" y="4570560"/>
              <a:ext cx="61920" cy="619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957240" y="4302000"/>
              <a:ext cx="58680" cy="5400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2711520" y="1898640"/>
              <a:ext cx="0" cy="10666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701800" y="1898640"/>
              <a:ext cx="18108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7164360" y="422280"/>
              <a:ext cx="204840" cy="193680"/>
              <a:chOff x="7164360" y="422280"/>
              <a:chExt cx="204840" cy="193680"/>
            </a:xfrm>
          </p:grpSpPr>
          <p:sp>
            <p:nvSpPr>
              <p:cNvPr id="187" name=""/>
              <p:cNvSpPr/>
              <p:nvPr/>
            </p:nvSpPr>
            <p:spPr>
              <a:xfrm>
                <a:off x="7180200" y="446040"/>
                <a:ext cx="165240" cy="155520"/>
              </a:xfrm>
              <a:prstGeom prst="ellipse">
                <a:avLst/>
              </a:prstGeom>
              <a:noFill/>
              <a:ln w="12600">
                <a:solidFill>
                  <a:srgbClr val="114ffb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7164360" y="422280"/>
                <a:ext cx="204840" cy="193680"/>
              </a:xfrm>
              <a:prstGeom prst="line">
                <a:avLst/>
              </a:prstGeom>
              <a:ln w="12600">
                <a:solidFill>
                  <a:srgbClr val="114f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7413480" y="162000"/>
              <a:ext cx="163800" cy="155520"/>
              <a:chOff x="7413480" y="162000"/>
              <a:chExt cx="163800" cy="155520"/>
            </a:xfrm>
          </p:grpSpPr>
          <p:sp>
            <p:nvSpPr>
              <p:cNvPr id="190" name=""/>
              <p:cNvSpPr/>
              <p:nvPr/>
            </p:nvSpPr>
            <p:spPr>
              <a:xfrm>
                <a:off x="7426440" y="181080"/>
                <a:ext cx="131760" cy="125280"/>
              </a:xfrm>
              <a:prstGeom prst="ellipse">
                <a:avLst/>
              </a:prstGeom>
              <a:noFill/>
              <a:ln w="12600">
                <a:solidFill>
                  <a:srgbClr val="114ffb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>
                <a:off x="7413480" y="162000"/>
                <a:ext cx="163800" cy="155520"/>
              </a:xfrm>
              <a:prstGeom prst="line">
                <a:avLst/>
              </a:prstGeom>
              <a:ln w="12600">
                <a:solidFill>
                  <a:srgbClr val="114f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2940120" y="1822320"/>
              <a:ext cx="204840" cy="193680"/>
              <a:chOff x="2940120" y="1822320"/>
              <a:chExt cx="204840" cy="193680"/>
            </a:xfrm>
          </p:grpSpPr>
          <p:sp>
            <p:nvSpPr>
              <p:cNvPr id="193" name=""/>
              <p:cNvSpPr/>
              <p:nvPr/>
            </p:nvSpPr>
            <p:spPr>
              <a:xfrm>
                <a:off x="2955960" y="1846440"/>
                <a:ext cx="165240" cy="155520"/>
              </a:xfrm>
              <a:prstGeom prst="ellipse">
                <a:avLst/>
              </a:prstGeom>
              <a:noFill/>
              <a:ln w="12600">
                <a:solidFill>
                  <a:srgbClr val="114ffb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>
                <a:off x="2940120" y="1822320"/>
                <a:ext cx="204840" cy="193680"/>
              </a:xfrm>
              <a:prstGeom prst="line">
                <a:avLst/>
              </a:prstGeom>
              <a:ln w="12600">
                <a:solidFill>
                  <a:srgbClr val="114f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"/>
            <p:cNvSpPr txBox="1"/>
            <p:nvPr/>
          </p:nvSpPr>
          <p:spPr>
            <a:xfrm>
              <a:off x="3124080" y="1768320"/>
              <a:ext cx="12319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20.00 - 20.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859120" y="2103480"/>
              <a:ext cx="1278000" cy="2714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2970360" y="2136600"/>
              <a:ext cx="199800" cy="20016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259080" y="2103480"/>
              <a:ext cx="0" cy="2714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 txBox="1"/>
            <p:nvPr/>
          </p:nvSpPr>
          <p:spPr>
            <a:xfrm>
              <a:off x="3213000" y="2095560"/>
              <a:ext cx="5302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0.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730680" y="2111400"/>
              <a:ext cx="0" cy="2602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 txBox="1"/>
            <p:nvPr/>
          </p:nvSpPr>
          <p:spPr>
            <a:xfrm>
              <a:off x="3683160" y="2089080"/>
              <a:ext cx="3031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933720" y="2111400"/>
              <a:ext cx="0" cy="2602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 txBox="1"/>
            <p:nvPr/>
          </p:nvSpPr>
          <p:spPr>
            <a:xfrm>
              <a:off x="3886200" y="2095560"/>
              <a:ext cx="3128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413160" y="2381400"/>
              <a:ext cx="146520" cy="152640"/>
            </a:xfrm>
            <a:custGeom>
              <a:avLst/>
              <a:gdLst/>
              <a:ahLst/>
              <a:rect l="0" t="0" r="r" b="b"/>
              <a:pathLst>
                <a:path fill="none" w="407" h="424">
                  <a:moveTo>
                    <a:pt x="407" y="0"/>
                  </a:moveTo>
                  <a:lnTo>
                    <a:pt x="0" y="0"/>
                  </a:lnTo>
                  <a:lnTo>
                    <a:pt x="203" y="424"/>
                  </a:lnTo>
                  <a:lnTo>
                    <a:pt x="407" y="0"/>
                  </a:lnTo>
                </a:path>
              </a:pathLst>
            </a:custGeom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497400" y="2516040"/>
              <a:ext cx="0" cy="1969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505320" y="2716200"/>
              <a:ext cx="17136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676680" y="2581200"/>
              <a:ext cx="260280" cy="26028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 txBox="1"/>
            <p:nvPr/>
          </p:nvSpPr>
          <p:spPr>
            <a:xfrm>
              <a:off x="3641760" y="2558880"/>
              <a:ext cx="3031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957240" y="2557440"/>
              <a:ext cx="55440" cy="554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1787400" y="892080"/>
              <a:ext cx="895320" cy="17780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673360" y="892080"/>
              <a:ext cx="26676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 txBox="1"/>
            <p:nvPr/>
          </p:nvSpPr>
          <p:spPr>
            <a:xfrm>
              <a:off x="2898720" y="723960"/>
              <a:ext cx="13510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M42 X 1.5 - 6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65320" y="982800"/>
              <a:ext cx="1625760" cy="29988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2998800" y="985680"/>
              <a:ext cx="279360" cy="292320"/>
              <a:chOff x="2998800" y="985680"/>
              <a:chExt cx="279360" cy="292320"/>
            </a:xfrm>
          </p:grpSpPr>
          <p:sp>
            <p:nvSpPr>
              <p:cNvPr id="215" name=""/>
              <p:cNvSpPr/>
              <p:nvPr/>
            </p:nvSpPr>
            <p:spPr>
              <a:xfrm>
                <a:off x="3049560" y="1036800"/>
                <a:ext cx="177840" cy="177840"/>
              </a:xfrm>
              <a:prstGeom prst="ellipse">
                <a:avLst/>
              </a:prstGeom>
              <a:noFill/>
              <a:ln w="12600">
                <a:solidFill>
                  <a:srgbClr val="114ffb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138480" y="985680"/>
                <a:ext cx="0" cy="292320"/>
              </a:xfrm>
              <a:prstGeom prst="line">
                <a:avLst/>
              </a:prstGeom>
              <a:ln w="12600">
                <a:solidFill>
                  <a:srgbClr val="114f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998800" y="1125360"/>
                <a:ext cx="279360" cy="0"/>
              </a:xfrm>
              <a:prstGeom prst="line">
                <a:avLst/>
              </a:prstGeom>
              <a:ln w="12600">
                <a:solidFill>
                  <a:srgbClr val="114f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3321000" y="981000"/>
              <a:ext cx="0" cy="2923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9" name=""/>
            <p:cNvGrpSpPr/>
            <p:nvPr/>
          </p:nvGrpSpPr>
          <p:grpSpPr>
            <a:xfrm>
              <a:off x="3355920" y="1035000"/>
              <a:ext cx="204840" cy="193680"/>
              <a:chOff x="3355920" y="1035000"/>
              <a:chExt cx="204840" cy="193680"/>
            </a:xfrm>
          </p:grpSpPr>
          <p:sp>
            <p:nvSpPr>
              <p:cNvPr id="220" name=""/>
              <p:cNvSpPr/>
              <p:nvPr/>
            </p:nvSpPr>
            <p:spPr>
              <a:xfrm>
                <a:off x="3371760" y="1058760"/>
                <a:ext cx="165240" cy="155520"/>
              </a:xfrm>
              <a:prstGeom prst="ellipse">
                <a:avLst/>
              </a:prstGeom>
              <a:noFill/>
              <a:ln w="12600">
                <a:solidFill>
                  <a:srgbClr val="114ffb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3355920" y="1035000"/>
                <a:ext cx="204840" cy="193680"/>
              </a:xfrm>
              <a:prstGeom prst="line">
                <a:avLst/>
              </a:prstGeom>
              <a:ln w="12600">
                <a:solidFill>
                  <a:srgbClr val="114f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2" name=""/>
            <p:cNvSpPr txBox="1"/>
            <p:nvPr/>
          </p:nvSpPr>
          <p:spPr>
            <a:xfrm>
              <a:off x="3540240" y="996840"/>
              <a:ext cx="10936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0.1 M  B  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351320" y="1046160"/>
              <a:ext cx="210960" cy="19224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898800" y="1035000"/>
              <a:ext cx="210960" cy="19044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133880" y="981000"/>
              <a:ext cx="0" cy="2923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1216080" y="565200"/>
              <a:ext cx="0" cy="16858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1501920" y="1289160"/>
              <a:ext cx="0" cy="13618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1006560" y="870120"/>
              <a:ext cx="0" cy="16477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596880" y="879480"/>
              <a:ext cx="0" cy="5810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216080" y="555480"/>
              <a:ext cx="1019160" cy="2192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1273320" y="593640"/>
              <a:ext cx="104760" cy="1429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1359000" y="593640"/>
              <a:ext cx="104760" cy="1429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549440" y="555480"/>
              <a:ext cx="0" cy="2192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 txBox="1"/>
            <p:nvPr/>
          </p:nvSpPr>
          <p:spPr>
            <a:xfrm>
              <a:off x="1504800" y="520560"/>
              <a:ext cx="7477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0.06 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006640" y="555480"/>
              <a:ext cx="0" cy="2192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501920" y="1384200"/>
              <a:ext cx="33336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1035000" y="1384200"/>
              <a:ext cx="18108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06560" y="974880"/>
              <a:ext cx="18072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349200" y="974880"/>
              <a:ext cx="24768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 txBox="1"/>
            <p:nvPr/>
          </p:nvSpPr>
          <p:spPr>
            <a:xfrm>
              <a:off x="1800360" y="1158840"/>
              <a:ext cx="43164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6.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6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 txBox="1"/>
            <p:nvPr/>
          </p:nvSpPr>
          <p:spPr>
            <a:xfrm>
              <a:off x="581040" y="711360"/>
              <a:ext cx="43164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9.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9.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101520" y="2556000"/>
              <a:ext cx="43812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92160" y="4356000"/>
              <a:ext cx="43812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87200" y="2556000"/>
              <a:ext cx="0" cy="36180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6920" y="3384720"/>
              <a:ext cx="0" cy="9712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 txBox="1"/>
            <p:nvPr/>
          </p:nvSpPr>
          <p:spPr>
            <a:xfrm>
              <a:off x="0" y="2892600"/>
              <a:ext cx="62856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44.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44.4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187200" y="136440"/>
              <a:ext cx="0" cy="24004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87200" y="127080"/>
              <a:ext cx="1380960" cy="24768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20760" y="165240"/>
              <a:ext cx="0" cy="1616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5080" y="326880"/>
              <a:ext cx="18072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82760" y="127080"/>
              <a:ext cx="0" cy="2476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501480" y="146160"/>
              <a:ext cx="204840" cy="193680"/>
              <a:chOff x="501480" y="146160"/>
              <a:chExt cx="204840" cy="193680"/>
            </a:xfrm>
          </p:grpSpPr>
          <p:sp>
            <p:nvSpPr>
              <p:cNvPr id="253" name=""/>
              <p:cNvSpPr/>
              <p:nvPr/>
            </p:nvSpPr>
            <p:spPr>
              <a:xfrm>
                <a:off x="517680" y="169920"/>
                <a:ext cx="165240" cy="155520"/>
              </a:xfrm>
              <a:prstGeom prst="ellipse">
                <a:avLst/>
              </a:prstGeom>
              <a:noFill/>
              <a:ln w="12600">
                <a:solidFill>
                  <a:srgbClr val="114ffb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501480" y="146160"/>
                <a:ext cx="204840" cy="193680"/>
              </a:xfrm>
              <a:prstGeom prst="line">
                <a:avLst/>
              </a:prstGeom>
              <a:ln w="12600">
                <a:solidFill>
                  <a:srgbClr val="114f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"/>
            <p:cNvSpPr txBox="1"/>
            <p:nvPr/>
          </p:nvSpPr>
          <p:spPr>
            <a:xfrm>
              <a:off x="657360" y="101520"/>
              <a:ext cx="9446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0.08 M 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111320" y="146160"/>
              <a:ext cx="200160" cy="20016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68360" y="127080"/>
              <a:ext cx="0" cy="2476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968400" y="374760"/>
              <a:ext cx="133560" cy="152640"/>
            </a:xfrm>
            <a:custGeom>
              <a:avLst/>
              <a:gdLst/>
              <a:ahLst/>
              <a:rect l="0" t="0" r="r" b="b"/>
              <a:pathLst>
                <a:path fill="none" w="371" h="424">
                  <a:moveTo>
                    <a:pt x="371" y="0"/>
                  </a:moveTo>
                  <a:lnTo>
                    <a:pt x="0" y="0"/>
                  </a:lnTo>
                  <a:lnTo>
                    <a:pt x="186" y="424"/>
                  </a:lnTo>
                  <a:lnTo>
                    <a:pt x="371" y="0"/>
                  </a:lnTo>
                </a:path>
              </a:pathLst>
            </a:custGeom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035000" y="527040"/>
              <a:ext cx="0" cy="1144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596880" y="641520"/>
              <a:ext cx="43812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49200" y="507960"/>
              <a:ext cx="247680" cy="24768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 txBox="1"/>
            <p:nvPr/>
          </p:nvSpPr>
          <p:spPr>
            <a:xfrm>
              <a:off x="314280" y="492120"/>
              <a:ext cx="3128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34880" y="5899320"/>
              <a:ext cx="152640" cy="133560"/>
            </a:xfrm>
            <a:custGeom>
              <a:avLst/>
              <a:gdLst/>
              <a:ahLst/>
              <a:rect l="0" t="0" r="r" b="b"/>
              <a:pathLst>
                <a:path fill="none" w="424" h="371">
                  <a:moveTo>
                    <a:pt x="424" y="371"/>
                  </a:moveTo>
                  <a:lnTo>
                    <a:pt x="424" y="0"/>
                  </a:lnTo>
                  <a:lnTo>
                    <a:pt x="0" y="186"/>
                  </a:lnTo>
                  <a:lnTo>
                    <a:pt x="424" y="371"/>
                  </a:lnTo>
                </a:path>
              </a:pathLst>
            </a:custGeom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320760" y="5965920"/>
              <a:ext cx="12384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3360" y="5842080"/>
              <a:ext cx="247680" cy="24768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 txBox="1"/>
            <p:nvPr/>
          </p:nvSpPr>
          <p:spPr>
            <a:xfrm>
              <a:off x="38160" y="5807160"/>
              <a:ext cx="322200" cy="32400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87520" y="6566040"/>
              <a:ext cx="1000080" cy="22860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25320" y="6613560"/>
              <a:ext cx="324360" cy="124200"/>
            </a:xfrm>
            <a:custGeom>
              <a:avLst/>
              <a:gdLst/>
              <a:ahLst/>
              <a:rect l="0" t="0" r="r" b="b"/>
              <a:pathLst>
                <a:path fill="none" w="901" h="345">
                  <a:moveTo>
                    <a:pt x="0" y="345"/>
                  </a:moveTo>
                  <a:lnTo>
                    <a:pt x="630" y="345"/>
                  </a:lnTo>
                  <a:lnTo>
                    <a:pt x="901" y="0"/>
                  </a:lnTo>
                  <a:lnTo>
                    <a:pt x="270" y="0"/>
                  </a:lnTo>
                  <a:lnTo>
                    <a:pt x="0" y="345"/>
                  </a:lnTo>
                </a:path>
              </a:pathLst>
            </a:custGeom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025640" y="6566040"/>
              <a:ext cx="0" cy="22860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 txBox="1"/>
            <p:nvPr/>
          </p:nvSpPr>
          <p:spPr>
            <a:xfrm>
              <a:off x="1019160" y="6540480"/>
              <a:ext cx="5302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0.0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2251080" y="2819520"/>
              <a:ext cx="1440" cy="126036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600120" y="1514520"/>
              <a:ext cx="139680" cy="1396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777960" y="1527120"/>
              <a:ext cx="114120" cy="1144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600120" y="1933560"/>
              <a:ext cx="114120" cy="1144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0120" y="1971720"/>
              <a:ext cx="266760" cy="26676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600120" y="2136600"/>
              <a:ext cx="279360" cy="2797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676440" y="2276640"/>
              <a:ext cx="279360" cy="27936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853920" y="2276640"/>
              <a:ext cx="279720" cy="27936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993600" y="2390760"/>
              <a:ext cx="216000" cy="21600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1006560" y="2568600"/>
              <a:ext cx="203040" cy="2030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1006560" y="2708280"/>
              <a:ext cx="228600" cy="22860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1158840" y="2752560"/>
              <a:ext cx="209520" cy="2098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1336680" y="2682720"/>
              <a:ext cx="279360" cy="2797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1514520" y="2682720"/>
              <a:ext cx="279360" cy="2797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1679400" y="2682720"/>
              <a:ext cx="279720" cy="2797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1857240" y="2771640"/>
              <a:ext cx="190800" cy="19080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2035080" y="2822400"/>
              <a:ext cx="139680" cy="1400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2212920" y="2928960"/>
              <a:ext cx="33480" cy="334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600120" y="4359240"/>
              <a:ext cx="114120" cy="1144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600120" y="4359240"/>
              <a:ext cx="304920" cy="3049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006560" y="3940200"/>
              <a:ext cx="304560" cy="3049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1006560" y="3940200"/>
              <a:ext cx="114120" cy="1141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612720" y="4232160"/>
              <a:ext cx="609480" cy="6098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1298520" y="3940200"/>
              <a:ext cx="203400" cy="2030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663480" y="4765680"/>
              <a:ext cx="216000" cy="21600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1019160" y="4422600"/>
              <a:ext cx="203040" cy="20340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1501920" y="3940200"/>
              <a:ext cx="215640" cy="21600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828720" y="4930920"/>
              <a:ext cx="50760" cy="5076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1616040" y="3940200"/>
              <a:ext cx="279360" cy="27936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1806480" y="3940200"/>
              <a:ext cx="292320" cy="29196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2143080" y="3990960"/>
              <a:ext cx="95400" cy="9540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638280" y="5261040"/>
              <a:ext cx="126720" cy="1270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816120" y="5324400"/>
              <a:ext cx="63360" cy="637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259080" y="4084560"/>
              <a:ext cx="0" cy="7873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59080" y="4870440"/>
              <a:ext cx="11736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3422520" y="4789440"/>
              <a:ext cx="204840" cy="193680"/>
              <a:chOff x="3422520" y="4789440"/>
              <a:chExt cx="204840" cy="193680"/>
            </a:xfrm>
          </p:grpSpPr>
          <p:sp>
            <p:nvSpPr>
              <p:cNvPr id="307" name=""/>
              <p:cNvSpPr/>
              <p:nvPr/>
            </p:nvSpPr>
            <p:spPr>
              <a:xfrm>
                <a:off x="3438360" y="4813200"/>
                <a:ext cx="165240" cy="155520"/>
              </a:xfrm>
              <a:prstGeom prst="ellipse">
                <a:avLst/>
              </a:prstGeom>
              <a:noFill/>
              <a:ln w="12600">
                <a:solidFill>
                  <a:srgbClr val="114ffb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>
                <a:off x="3422520" y="4789440"/>
                <a:ext cx="204840" cy="193680"/>
              </a:xfrm>
              <a:prstGeom prst="line">
                <a:avLst/>
              </a:prstGeom>
              <a:ln w="12600">
                <a:solidFill>
                  <a:srgbClr val="114f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"/>
            <p:cNvSpPr txBox="1"/>
            <p:nvPr/>
          </p:nvSpPr>
          <p:spPr>
            <a:xfrm>
              <a:off x="3603600" y="4630680"/>
              <a:ext cx="5302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31.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31.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00400" y="5129280"/>
              <a:ext cx="939960" cy="2919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3276720" y="5167440"/>
              <a:ext cx="215640" cy="2156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543480" y="5129280"/>
              <a:ext cx="0" cy="29196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 txBox="1"/>
            <p:nvPr/>
          </p:nvSpPr>
          <p:spPr>
            <a:xfrm>
              <a:off x="3514680" y="5138640"/>
              <a:ext cx="4316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0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 txBox="1"/>
            <p:nvPr/>
          </p:nvSpPr>
          <p:spPr>
            <a:xfrm>
              <a:off x="3895560" y="5126040"/>
              <a:ext cx="3031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898800" y="5129280"/>
              <a:ext cx="0" cy="29196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657440" y="6496200"/>
              <a:ext cx="19447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247840" y="4168800"/>
              <a:ext cx="0" cy="22352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19200" y="1584360"/>
              <a:ext cx="2854440" cy="76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706840" y="376200"/>
              <a:ext cx="5618520" cy="6258240"/>
            </a:xfrm>
            <a:custGeom>
              <a:avLst/>
              <a:gdLst/>
              <a:ahLst/>
              <a:rect l="0" t="0" r="r" b="b"/>
              <a:pathLst>
                <a:path w="15607" h="17384">
                  <a:moveTo>
                    <a:pt x="7804" y="17384"/>
                  </a:moveTo>
                  <a:lnTo>
                    <a:pt x="15607" y="8691"/>
                  </a:lnTo>
                  <a:lnTo>
                    <a:pt x="7804" y="0"/>
                  </a:lnTo>
                  <a:lnTo>
                    <a:pt x="0" y="8691"/>
                  </a:lnTo>
                  <a:lnTo>
                    <a:pt x="7804" y="17384"/>
                  </a:lnTo>
                  <a:close/>
                </a:path>
              </a:pathLst>
            </a:custGeom>
            <a:solidFill>
              <a:srgbClr val="114f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 txBox="1"/>
            <p:nvPr/>
          </p:nvSpPr>
          <p:spPr>
            <a:xfrm>
              <a:off x="0" y="5168880"/>
              <a:ext cx="7772400" cy="155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4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ATUMS AND </a:t>
              </a:r>
              <a:r>
                <a:rPr b="1" lang="en-US" sz="48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DATUM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4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EFERENCING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 txBox="1"/>
            <p:nvPr/>
          </p:nvSpPr>
          <p:spPr>
            <a:xfrm>
              <a:off x="3433680" y="0"/>
              <a:ext cx="3562200" cy="6872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42200" spc="-1" strike="noStrike">
                  <a:solidFill>
                    <a:srgbClr val="618ffd"/>
                  </a:solidFill>
                  <a:latin typeface="Times New Roman"/>
                  <a:ea typeface="Times New Roman"/>
                </a:rPr>
                <a:t>8</a:t>
              </a:r>
              <a:endParaRPr b="0" lang="en-US" sz="4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6924600" y="1039680"/>
              <a:ext cx="2130480" cy="798480"/>
              <a:chOff x="6924600" y="1039680"/>
              <a:chExt cx="2130480" cy="798480"/>
            </a:xfrm>
          </p:grpSpPr>
          <p:sp>
            <p:nvSpPr>
              <p:cNvPr id="323" name=""/>
              <p:cNvSpPr/>
              <p:nvPr/>
            </p:nvSpPr>
            <p:spPr>
              <a:xfrm>
                <a:off x="6924600" y="1039680"/>
                <a:ext cx="2130480" cy="79848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3365fb"/>
                </a:solidFill>
                <a:round/>
              </a:ln>
            </p:spPr>
            <p:txBody>
              <a:bodyPr lIns="115200" rIns="115200" tIns="70200" bIns="70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 txBox="1"/>
              <p:nvPr/>
            </p:nvSpPr>
            <p:spPr>
              <a:xfrm>
                <a:off x="6969240" y="1084320"/>
                <a:ext cx="2054160" cy="668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fc0128"/>
                    </a:solidFill>
                    <a:latin typeface="Times New Roman"/>
                    <a:ea typeface="Times New Roman"/>
                  </a:rPr>
                  <a:t>Copyright  1996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fc0128"/>
                    </a:solidFill>
                    <a:latin typeface="Times New Roman"/>
                    <a:ea typeface="Times New Roman"/>
                  </a:rPr>
                  <a:t>Brigham Young University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fc0128"/>
                    </a:solidFill>
                    <a:latin typeface="Times New Roman"/>
                    <a:ea typeface="Times New Roman"/>
                  </a:rPr>
                  <a:t>All Rights Reserve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" name=""/>
            <p:cNvSpPr txBox="1"/>
            <p:nvPr/>
          </p:nvSpPr>
          <p:spPr>
            <a:xfrm>
              <a:off x="3290760" y="2143080"/>
              <a:ext cx="4930920" cy="2151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UNIT</a:t>
              </a:r>
              <a:endParaRPr b="0" lang="en-US" sz="1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835360" y="3943440"/>
              <a:ext cx="5510160" cy="378000"/>
            </a:xfrm>
            <a:prstGeom prst="rect">
              <a:avLst/>
            </a:prstGeom>
            <a:gradFill rotWithShape="0">
              <a:gsLst>
                <a:gs pos="0">
                  <a:srgbClr val="4c4c4c"/>
                </a:gs>
                <a:gs pos="50000">
                  <a:srgbClr val="ffffff"/>
                </a:gs>
                <a:gs pos="100000">
                  <a:srgbClr val="4c4c4c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718320" y="6149880"/>
              <a:ext cx="2117880" cy="42372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 txBox="1"/>
            <p:nvPr/>
          </p:nvSpPr>
          <p:spPr>
            <a:xfrm>
              <a:off x="6762600" y="6230880"/>
              <a:ext cx="20908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Part 1 of a 3-Part Ser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335560" y="1630440"/>
            <a:ext cx="5032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610240" y="1538280"/>
            <a:ext cx="92520" cy="92520"/>
          </a:xfrm>
          <a:custGeom>
            <a:avLst/>
            <a:gdLst/>
            <a:ahLst/>
            <a:rect l="0" t="0" r="r" b="b"/>
            <a:pathLst>
              <a:path w="257" h="257">
                <a:moveTo>
                  <a:pt x="0" y="257"/>
                </a:moveTo>
                <a:lnTo>
                  <a:pt x="257" y="257"/>
                </a:lnTo>
                <a:lnTo>
                  <a:pt x="128" y="0"/>
                </a:lnTo>
                <a:lnTo>
                  <a:pt x="0" y="257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554800" y="1219320"/>
            <a:ext cx="182520" cy="182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656320" y="1401840"/>
            <a:ext cx="0" cy="136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598920" y="5651640"/>
            <a:ext cx="2127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00dfca"/>
                </a:solidFill>
                <a:uFillTx/>
                <a:latin typeface="Times New Roman"/>
                <a:ea typeface="Times New Roman"/>
              </a:rPr>
              <a:t>INTERP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685800" y="1282680"/>
            <a:ext cx="12891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00dfca"/>
                </a:solidFill>
                <a:uFillTx/>
                <a:latin typeface="Times New Roman"/>
                <a:ea typeface="Times New Roman"/>
              </a:rPr>
              <a:t>DRA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403280" y="1978200"/>
            <a:ext cx="6588360" cy="0"/>
          </a:xfrm>
          <a:prstGeom prst="line">
            <a:avLst/>
          </a:prstGeom>
          <a:ln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-70200" bIns="-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3664080" y="2171520"/>
            <a:ext cx="1700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um Fe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375160" y="2370240"/>
            <a:ext cx="1810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5629320" y="2428920"/>
            <a:ext cx="27939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ulated Datum Fe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608040" y="5603760"/>
            <a:ext cx="1749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ula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um Plane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398520" y="5786280"/>
            <a:ext cx="2109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398520" y="3876840"/>
            <a:ext cx="277920" cy="1909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521160" y="1401840"/>
            <a:ext cx="176832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c4c4c"/>
              </a:gs>
            </a:gsLst>
            <a:lin ang="81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5508720" y="117648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63640" y="3832200"/>
            <a:ext cx="7531560" cy="1607040"/>
          </a:xfrm>
          <a:custGeom>
            <a:avLst/>
            <a:gdLst/>
            <a:ahLst/>
            <a:rect l="0" t="0" r="r" b="b"/>
            <a:pathLst>
              <a:path w="20921" h="4464">
                <a:moveTo>
                  <a:pt x="48" y="123"/>
                </a:moveTo>
                <a:lnTo>
                  <a:pt x="339" y="149"/>
                </a:lnTo>
                <a:lnTo>
                  <a:pt x="740" y="176"/>
                </a:lnTo>
                <a:lnTo>
                  <a:pt x="1146" y="202"/>
                </a:lnTo>
                <a:lnTo>
                  <a:pt x="1556" y="216"/>
                </a:lnTo>
                <a:lnTo>
                  <a:pt x="1688" y="202"/>
                </a:lnTo>
                <a:lnTo>
                  <a:pt x="1878" y="185"/>
                </a:lnTo>
                <a:lnTo>
                  <a:pt x="2019" y="202"/>
                </a:lnTo>
                <a:lnTo>
                  <a:pt x="2143" y="167"/>
                </a:lnTo>
                <a:lnTo>
                  <a:pt x="2275" y="158"/>
                </a:lnTo>
                <a:lnTo>
                  <a:pt x="2363" y="194"/>
                </a:lnTo>
                <a:lnTo>
                  <a:pt x="2495" y="229"/>
                </a:lnTo>
                <a:lnTo>
                  <a:pt x="2601" y="229"/>
                </a:lnTo>
                <a:lnTo>
                  <a:pt x="2760" y="202"/>
                </a:lnTo>
                <a:lnTo>
                  <a:pt x="2892" y="255"/>
                </a:lnTo>
                <a:lnTo>
                  <a:pt x="3104" y="176"/>
                </a:lnTo>
                <a:lnTo>
                  <a:pt x="3210" y="229"/>
                </a:lnTo>
                <a:lnTo>
                  <a:pt x="3369" y="229"/>
                </a:lnTo>
                <a:lnTo>
                  <a:pt x="3536" y="299"/>
                </a:lnTo>
                <a:lnTo>
                  <a:pt x="3660" y="255"/>
                </a:lnTo>
                <a:lnTo>
                  <a:pt x="3739" y="176"/>
                </a:lnTo>
                <a:lnTo>
                  <a:pt x="3871" y="202"/>
                </a:lnTo>
                <a:lnTo>
                  <a:pt x="4030" y="176"/>
                </a:lnTo>
                <a:lnTo>
                  <a:pt x="4145" y="141"/>
                </a:lnTo>
                <a:lnTo>
                  <a:pt x="4303" y="176"/>
                </a:lnTo>
                <a:lnTo>
                  <a:pt x="4471" y="167"/>
                </a:lnTo>
                <a:lnTo>
                  <a:pt x="4586" y="158"/>
                </a:lnTo>
                <a:lnTo>
                  <a:pt x="4727" y="132"/>
                </a:lnTo>
                <a:lnTo>
                  <a:pt x="4780" y="158"/>
                </a:lnTo>
                <a:lnTo>
                  <a:pt x="4912" y="105"/>
                </a:lnTo>
                <a:lnTo>
                  <a:pt x="5062" y="123"/>
                </a:lnTo>
                <a:lnTo>
                  <a:pt x="5266" y="167"/>
                </a:lnTo>
                <a:lnTo>
                  <a:pt x="5424" y="158"/>
                </a:lnTo>
                <a:lnTo>
                  <a:pt x="5618" y="149"/>
                </a:lnTo>
                <a:lnTo>
                  <a:pt x="5830" y="167"/>
                </a:lnTo>
                <a:lnTo>
                  <a:pt x="5892" y="185"/>
                </a:lnTo>
                <a:lnTo>
                  <a:pt x="5980" y="97"/>
                </a:lnTo>
                <a:lnTo>
                  <a:pt x="6174" y="70"/>
                </a:lnTo>
                <a:lnTo>
                  <a:pt x="6298" y="158"/>
                </a:lnTo>
                <a:lnTo>
                  <a:pt x="6430" y="123"/>
                </a:lnTo>
                <a:lnTo>
                  <a:pt x="6571" y="194"/>
                </a:lnTo>
                <a:lnTo>
                  <a:pt x="6690" y="189"/>
                </a:lnTo>
                <a:lnTo>
                  <a:pt x="6809" y="202"/>
                </a:lnTo>
                <a:lnTo>
                  <a:pt x="6941" y="202"/>
                </a:lnTo>
                <a:lnTo>
                  <a:pt x="7100" y="176"/>
                </a:lnTo>
                <a:lnTo>
                  <a:pt x="7188" y="185"/>
                </a:lnTo>
                <a:lnTo>
                  <a:pt x="7312" y="114"/>
                </a:lnTo>
                <a:lnTo>
                  <a:pt x="7431" y="141"/>
                </a:lnTo>
                <a:lnTo>
                  <a:pt x="7559" y="194"/>
                </a:lnTo>
                <a:lnTo>
                  <a:pt x="7735" y="185"/>
                </a:lnTo>
                <a:lnTo>
                  <a:pt x="7810" y="141"/>
                </a:lnTo>
                <a:lnTo>
                  <a:pt x="7947" y="83"/>
                </a:lnTo>
                <a:lnTo>
                  <a:pt x="8066" y="97"/>
                </a:lnTo>
                <a:lnTo>
                  <a:pt x="8238" y="110"/>
                </a:lnTo>
                <a:lnTo>
                  <a:pt x="8357" y="110"/>
                </a:lnTo>
                <a:lnTo>
                  <a:pt x="8489" y="163"/>
                </a:lnTo>
                <a:lnTo>
                  <a:pt x="8688" y="176"/>
                </a:lnTo>
                <a:lnTo>
                  <a:pt x="8908" y="185"/>
                </a:lnTo>
                <a:lnTo>
                  <a:pt x="9076" y="132"/>
                </a:lnTo>
                <a:lnTo>
                  <a:pt x="9199" y="123"/>
                </a:lnTo>
                <a:lnTo>
                  <a:pt x="9340" y="202"/>
                </a:lnTo>
                <a:lnTo>
                  <a:pt x="9464" y="141"/>
                </a:lnTo>
                <a:lnTo>
                  <a:pt x="9605" y="171"/>
                </a:lnTo>
                <a:lnTo>
                  <a:pt x="9680" y="163"/>
                </a:lnTo>
                <a:lnTo>
                  <a:pt x="9772" y="202"/>
                </a:lnTo>
                <a:lnTo>
                  <a:pt x="9971" y="171"/>
                </a:lnTo>
                <a:lnTo>
                  <a:pt x="10077" y="141"/>
                </a:lnTo>
                <a:lnTo>
                  <a:pt x="10205" y="141"/>
                </a:lnTo>
                <a:lnTo>
                  <a:pt x="10328" y="176"/>
                </a:lnTo>
                <a:lnTo>
                  <a:pt x="10743" y="185"/>
                </a:lnTo>
                <a:lnTo>
                  <a:pt x="10945" y="149"/>
                </a:lnTo>
                <a:lnTo>
                  <a:pt x="11104" y="123"/>
                </a:lnTo>
                <a:lnTo>
                  <a:pt x="11210" y="158"/>
                </a:lnTo>
                <a:lnTo>
                  <a:pt x="11325" y="132"/>
                </a:lnTo>
                <a:lnTo>
                  <a:pt x="11448" y="185"/>
                </a:lnTo>
                <a:lnTo>
                  <a:pt x="11589" y="141"/>
                </a:lnTo>
                <a:lnTo>
                  <a:pt x="11774" y="202"/>
                </a:lnTo>
                <a:lnTo>
                  <a:pt x="11968" y="220"/>
                </a:lnTo>
                <a:lnTo>
                  <a:pt x="12145" y="141"/>
                </a:lnTo>
                <a:lnTo>
                  <a:pt x="12277" y="167"/>
                </a:lnTo>
                <a:lnTo>
                  <a:pt x="12383" y="149"/>
                </a:lnTo>
                <a:lnTo>
                  <a:pt x="12506" y="211"/>
                </a:lnTo>
                <a:lnTo>
                  <a:pt x="12648" y="185"/>
                </a:lnTo>
                <a:lnTo>
                  <a:pt x="12789" y="149"/>
                </a:lnTo>
                <a:lnTo>
                  <a:pt x="12881" y="83"/>
                </a:lnTo>
                <a:lnTo>
                  <a:pt x="13014" y="70"/>
                </a:lnTo>
                <a:lnTo>
                  <a:pt x="13172" y="70"/>
                </a:lnTo>
                <a:lnTo>
                  <a:pt x="13265" y="57"/>
                </a:lnTo>
                <a:lnTo>
                  <a:pt x="13543" y="83"/>
                </a:lnTo>
                <a:lnTo>
                  <a:pt x="13688" y="110"/>
                </a:lnTo>
                <a:lnTo>
                  <a:pt x="13816" y="141"/>
                </a:lnTo>
                <a:lnTo>
                  <a:pt x="13944" y="211"/>
                </a:lnTo>
                <a:lnTo>
                  <a:pt x="14085" y="163"/>
                </a:lnTo>
                <a:lnTo>
                  <a:pt x="14231" y="163"/>
                </a:lnTo>
                <a:lnTo>
                  <a:pt x="14429" y="123"/>
                </a:lnTo>
                <a:lnTo>
                  <a:pt x="14531" y="141"/>
                </a:lnTo>
                <a:lnTo>
                  <a:pt x="14654" y="141"/>
                </a:lnTo>
                <a:lnTo>
                  <a:pt x="14782" y="180"/>
                </a:lnTo>
                <a:lnTo>
                  <a:pt x="14910" y="180"/>
                </a:lnTo>
                <a:lnTo>
                  <a:pt x="15161" y="180"/>
                </a:lnTo>
                <a:lnTo>
                  <a:pt x="15285" y="180"/>
                </a:lnTo>
                <a:lnTo>
                  <a:pt x="15452" y="180"/>
                </a:lnTo>
                <a:lnTo>
                  <a:pt x="15580" y="180"/>
                </a:lnTo>
                <a:lnTo>
                  <a:pt x="15735" y="202"/>
                </a:lnTo>
                <a:lnTo>
                  <a:pt x="15859" y="136"/>
                </a:lnTo>
                <a:lnTo>
                  <a:pt x="16004" y="110"/>
                </a:lnTo>
                <a:lnTo>
                  <a:pt x="16137" y="123"/>
                </a:lnTo>
                <a:lnTo>
                  <a:pt x="16269" y="149"/>
                </a:lnTo>
                <a:lnTo>
                  <a:pt x="16878" y="97"/>
                </a:lnTo>
                <a:lnTo>
                  <a:pt x="17208" y="110"/>
                </a:lnTo>
                <a:lnTo>
                  <a:pt x="17327" y="149"/>
                </a:lnTo>
                <a:lnTo>
                  <a:pt x="17473" y="189"/>
                </a:lnTo>
                <a:lnTo>
                  <a:pt x="17632" y="163"/>
                </a:lnTo>
                <a:lnTo>
                  <a:pt x="17751" y="136"/>
                </a:lnTo>
                <a:lnTo>
                  <a:pt x="17892" y="180"/>
                </a:lnTo>
                <a:lnTo>
                  <a:pt x="18015" y="141"/>
                </a:lnTo>
                <a:lnTo>
                  <a:pt x="18187" y="132"/>
                </a:lnTo>
                <a:lnTo>
                  <a:pt x="18364" y="176"/>
                </a:lnTo>
                <a:lnTo>
                  <a:pt x="18540" y="158"/>
                </a:lnTo>
                <a:lnTo>
                  <a:pt x="18628" y="114"/>
                </a:lnTo>
                <a:lnTo>
                  <a:pt x="18831" y="97"/>
                </a:lnTo>
                <a:lnTo>
                  <a:pt x="19016" y="88"/>
                </a:lnTo>
                <a:lnTo>
                  <a:pt x="19069" y="79"/>
                </a:lnTo>
                <a:lnTo>
                  <a:pt x="19210" y="70"/>
                </a:lnTo>
                <a:lnTo>
                  <a:pt x="19343" y="70"/>
                </a:lnTo>
                <a:lnTo>
                  <a:pt x="19497" y="136"/>
                </a:lnTo>
                <a:lnTo>
                  <a:pt x="19642" y="176"/>
                </a:lnTo>
                <a:lnTo>
                  <a:pt x="19894" y="163"/>
                </a:lnTo>
                <a:lnTo>
                  <a:pt x="20039" y="97"/>
                </a:lnTo>
                <a:lnTo>
                  <a:pt x="20286" y="0"/>
                </a:lnTo>
                <a:lnTo>
                  <a:pt x="20533" y="17"/>
                </a:lnTo>
                <a:lnTo>
                  <a:pt x="20718" y="35"/>
                </a:lnTo>
                <a:lnTo>
                  <a:pt x="20921" y="70"/>
                </a:lnTo>
                <a:lnTo>
                  <a:pt x="20917" y="4464"/>
                </a:lnTo>
                <a:lnTo>
                  <a:pt x="0" y="4455"/>
                </a:lnTo>
                <a:lnTo>
                  <a:pt x="0" y="114"/>
                </a:lnTo>
                <a:lnTo>
                  <a:pt x="48" y="123"/>
                </a:lnTo>
                <a:close/>
              </a:path>
            </a:pathLst>
          </a:custGeom>
          <a:gradFill rotWithShape="0">
            <a:gsLst>
              <a:gs pos="0">
                <a:srgbClr val="919191"/>
              </a:gs>
              <a:gs pos="100000">
                <a:srgbClr val="2b2b2b"/>
              </a:gs>
            </a:gsLst>
            <a:lin ang="81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285840" y="3821040"/>
            <a:ext cx="8629560" cy="50760"/>
            <a:chOff x="285840" y="3821040"/>
            <a:chExt cx="8629560" cy="50760"/>
          </a:xfrm>
        </p:grpSpPr>
        <p:sp>
          <p:nvSpPr>
            <p:cNvPr id="490" name=""/>
            <p:cNvSpPr/>
            <p:nvPr/>
          </p:nvSpPr>
          <p:spPr>
            <a:xfrm flipV="1">
              <a:off x="285840" y="3860640"/>
              <a:ext cx="2041560" cy="11160"/>
            </a:xfrm>
            <a:prstGeom prst="line">
              <a:avLst/>
            </a:prstGeom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432160" y="3859200"/>
              <a:ext cx="90360" cy="0"/>
            </a:xfrm>
            <a:prstGeom prst="line">
              <a:avLst/>
            </a:prstGeom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614680" y="3857760"/>
              <a:ext cx="90360" cy="0"/>
            </a:xfrm>
            <a:prstGeom prst="line">
              <a:avLst/>
            </a:prstGeom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2854440" y="3849840"/>
              <a:ext cx="1163520" cy="6120"/>
            </a:xfrm>
            <a:prstGeom prst="line">
              <a:avLst/>
            </a:prstGeom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4108320" y="3848040"/>
              <a:ext cx="90720" cy="1800"/>
            </a:xfrm>
            <a:prstGeom prst="line">
              <a:avLst/>
            </a:prstGeom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303800" y="3848040"/>
              <a:ext cx="120600" cy="0"/>
            </a:xfrm>
            <a:prstGeom prst="line">
              <a:avLst/>
            </a:prstGeom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4529160" y="3838680"/>
              <a:ext cx="1463760" cy="7920"/>
            </a:xfrm>
            <a:prstGeom prst="line">
              <a:avLst/>
            </a:prstGeom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6084720" y="3836880"/>
              <a:ext cx="90720" cy="1800"/>
            </a:xfrm>
            <a:prstGeom prst="line">
              <a:avLst/>
            </a:prstGeom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265800" y="3836880"/>
              <a:ext cx="106560" cy="0"/>
            </a:xfrm>
            <a:prstGeom prst="line">
              <a:avLst/>
            </a:prstGeom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flipV="1">
              <a:off x="6475320" y="3821040"/>
              <a:ext cx="2440080" cy="14400"/>
            </a:xfrm>
            <a:prstGeom prst="line">
              <a:avLst/>
            </a:prstGeom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1255680" y="2927520"/>
            <a:ext cx="6617160" cy="727560"/>
          </a:xfrm>
          <a:custGeom>
            <a:avLst/>
            <a:gdLst/>
            <a:ahLst/>
            <a:rect l="0" t="0" r="r" b="b"/>
            <a:pathLst>
              <a:path w="18381" h="2021">
                <a:moveTo>
                  <a:pt x="8" y="1929"/>
                </a:moveTo>
                <a:lnTo>
                  <a:pt x="4" y="0"/>
                </a:lnTo>
                <a:lnTo>
                  <a:pt x="18377" y="0"/>
                </a:lnTo>
                <a:lnTo>
                  <a:pt x="18381" y="1743"/>
                </a:lnTo>
                <a:lnTo>
                  <a:pt x="18222" y="1752"/>
                </a:lnTo>
                <a:lnTo>
                  <a:pt x="18055" y="1787"/>
                </a:lnTo>
                <a:lnTo>
                  <a:pt x="17826" y="1735"/>
                </a:lnTo>
                <a:lnTo>
                  <a:pt x="17526" y="1823"/>
                </a:lnTo>
                <a:lnTo>
                  <a:pt x="17270" y="1770"/>
                </a:lnTo>
                <a:lnTo>
                  <a:pt x="17111" y="1832"/>
                </a:lnTo>
                <a:lnTo>
                  <a:pt x="16807" y="1898"/>
                </a:lnTo>
                <a:lnTo>
                  <a:pt x="16609" y="1990"/>
                </a:lnTo>
                <a:lnTo>
                  <a:pt x="16238" y="1951"/>
                </a:lnTo>
                <a:lnTo>
                  <a:pt x="15947" y="1977"/>
                </a:lnTo>
                <a:lnTo>
                  <a:pt x="15682" y="2021"/>
                </a:lnTo>
                <a:lnTo>
                  <a:pt x="15590" y="1964"/>
                </a:lnTo>
                <a:lnTo>
                  <a:pt x="14990" y="2021"/>
                </a:lnTo>
                <a:lnTo>
                  <a:pt x="14584" y="1951"/>
                </a:lnTo>
                <a:lnTo>
                  <a:pt x="14320" y="1951"/>
                </a:lnTo>
                <a:lnTo>
                  <a:pt x="14346" y="1951"/>
                </a:lnTo>
                <a:lnTo>
                  <a:pt x="14161" y="1924"/>
                </a:lnTo>
                <a:lnTo>
                  <a:pt x="13910" y="1862"/>
                </a:lnTo>
                <a:lnTo>
                  <a:pt x="13741" y="1849"/>
                </a:lnTo>
                <a:lnTo>
                  <a:pt x="13600" y="1823"/>
                </a:lnTo>
                <a:lnTo>
                  <a:pt x="13433" y="1792"/>
                </a:lnTo>
                <a:lnTo>
                  <a:pt x="13203" y="1832"/>
                </a:lnTo>
                <a:lnTo>
                  <a:pt x="13062" y="1792"/>
                </a:lnTo>
                <a:lnTo>
                  <a:pt x="12956" y="1832"/>
                </a:lnTo>
                <a:lnTo>
                  <a:pt x="12780" y="1867"/>
                </a:lnTo>
                <a:lnTo>
                  <a:pt x="12573" y="1832"/>
                </a:lnTo>
                <a:lnTo>
                  <a:pt x="12308" y="1752"/>
                </a:lnTo>
                <a:lnTo>
                  <a:pt x="12145" y="1832"/>
                </a:lnTo>
                <a:lnTo>
                  <a:pt x="11898" y="1752"/>
                </a:lnTo>
                <a:lnTo>
                  <a:pt x="11695" y="1823"/>
                </a:lnTo>
                <a:lnTo>
                  <a:pt x="11528" y="1796"/>
                </a:lnTo>
                <a:lnTo>
                  <a:pt x="11386" y="1823"/>
                </a:lnTo>
                <a:lnTo>
                  <a:pt x="11166" y="1840"/>
                </a:lnTo>
                <a:lnTo>
                  <a:pt x="10945" y="1765"/>
                </a:lnTo>
                <a:lnTo>
                  <a:pt x="10716" y="1796"/>
                </a:lnTo>
                <a:lnTo>
                  <a:pt x="10571" y="1695"/>
                </a:lnTo>
                <a:lnTo>
                  <a:pt x="10407" y="1787"/>
                </a:lnTo>
                <a:lnTo>
                  <a:pt x="10099" y="1796"/>
                </a:lnTo>
                <a:lnTo>
                  <a:pt x="9649" y="1858"/>
                </a:lnTo>
                <a:lnTo>
                  <a:pt x="9349" y="1814"/>
                </a:lnTo>
                <a:lnTo>
                  <a:pt x="9093" y="1867"/>
                </a:lnTo>
                <a:lnTo>
                  <a:pt x="8921" y="1871"/>
                </a:lnTo>
                <a:lnTo>
                  <a:pt x="8767" y="1920"/>
                </a:lnTo>
                <a:lnTo>
                  <a:pt x="8617" y="1858"/>
                </a:lnTo>
                <a:lnTo>
                  <a:pt x="8502" y="1964"/>
                </a:lnTo>
                <a:lnTo>
                  <a:pt x="8300" y="1946"/>
                </a:lnTo>
                <a:lnTo>
                  <a:pt x="8106" y="1920"/>
                </a:lnTo>
                <a:lnTo>
                  <a:pt x="7964" y="1902"/>
                </a:lnTo>
                <a:lnTo>
                  <a:pt x="7753" y="1814"/>
                </a:lnTo>
                <a:lnTo>
                  <a:pt x="7559" y="1876"/>
                </a:lnTo>
                <a:lnTo>
                  <a:pt x="7272" y="1862"/>
                </a:lnTo>
                <a:lnTo>
                  <a:pt x="6950" y="1792"/>
                </a:lnTo>
                <a:lnTo>
                  <a:pt x="6580" y="1862"/>
                </a:lnTo>
                <a:lnTo>
                  <a:pt x="6368" y="1964"/>
                </a:lnTo>
                <a:lnTo>
                  <a:pt x="5971" y="1929"/>
                </a:lnTo>
                <a:lnTo>
                  <a:pt x="5592" y="1929"/>
                </a:lnTo>
                <a:lnTo>
                  <a:pt x="5389" y="1937"/>
                </a:lnTo>
                <a:lnTo>
                  <a:pt x="5204" y="1937"/>
                </a:lnTo>
                <a:lnTo>
                  <a:pt x="4957" y="1964"/>
                </a:lnTo>
                <a:lnTo>
                  <a:pt x="4772" y="1973"/>
                </a:lnTo>
                <a:lnTo>
                  <a:pt x="4414" y="2021"/>
                </a:lnTo>
                <a:lnTo>
                  <a:pt x="4198" y="1981"/>
                </a:lnTo>
                <a:lnTo>
                  <a:pt x="4012" y="1929"/>
                </a:lnTo>
                <a:lnTo>
                  <a:pt x="3845" y="1911"/>
                </a:lnTo>
                <a:lnTo>
                  <a:pt x="3642" y="1990"/>
                </a:lnTo>
                <a:lnTo>
                  <a:pt x="3430" y="1999"/>
                </a:lnTo>
                <a:lnTo>
                  <a:pt x="3210" y="1955"/>
                </a:lnTo>
                <a:lnTo>
                  <a:pt x="3069" y="1920"/>
                </a:lnTo>
                <a:lnTo>
                  <a:pt x="2963" y="1937"/>
                </a:lnTo>
                <a:lnTo>
                  <a:pt x="2769" y="1920"/>
                </a:lnTo>
                <a:lnTo>
                  <a:pt x="2584" y="1902"/>
                </a:lnTo>
                <a:lnTo>
                  <a:pt x="2372" y="1902"/>
                </a:lnTo>
                <a:lnTo>
                  <a:pt x="2213" y="1955"/>
                </a:lnTo>
                <a:lnTo>
                  <a:pt x="2160" y="1981"/>
                </a:lnTo>
                <a:lnTo>
                  <a:pt x="2107" y="1955"/>
                </a:lnTo>
                <a:lnTo>
                  <a:pt x="2054" y="1981"/>
                </a:lnTo>
                <a:lnTo>
                  <a:pt x="1843" y="2008"/>
                </a:lnTo>
                <a:lnTo>
                  <a:pt x="1631" y="2008"/>
                </a:lnTo>
                <a:lnTo>
                  <a:pt x="1411" y="1920"/>
                </a:lnTo>
                <a:lnTo>
                  <a:pt x="1234" y="1964"/>
                </a:lnTo>
                <a:lnTo>
                  <a:pt x="1049" y="1911"/>
                </a:lnTo>
                <a:lnTo>
                  <a:pt x="899" y="1937"/>
                </a:lnTo>
                <a:lnTo>
                  <a:pt x="732" y="1946"/>
                </a:lnTo>
                <a:lnTo>
                  <a:pt x="520" y="1973"/>
                </a:lnTo>
                <a:lnTo>
                  <a:pt x="229" y="1981"/>
                </a:lnTo>
                <a:lnTo>
                  <a:pt x="0" y="1929"/>
                </a:lnTo>
                <a:lnTo>
                  <a:pt x="8" y="1929"/>
                </a:lnTo>
                <a:close/>
              </a:path>
            </a:pathLst>
          </a:custGeom>
          <a:gradFill rotWithShape="0">
            <a:gsLst>
              <a:gs pos="0">
                <a:srgbClr val="f2fefd"/>
              </a:gs>
              <a:gs pos="100000">
                <a:srgbClr val="000000"/>
              </a:gs>
            </a:gsLst>
            <a:lin ang="81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2246400" y="3083040"/>
            <a:ext cx="593640" cy="396720"/>
          </a:xfrm>
          <a:prstGeom prst="rect">
            <a:avLst/>
          </a:prstGeom>
          <a:solidFill>
            <a:srgbClr val="919191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5037120" y="2368440"/>
            <a:ext cx="533520" cy="1170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4827600" y="4713120"/>
            <a:ext cx="2765520" cy="396720"/>
          </a:xfrm>
          <a:prstGeom prst="rect">
            <a:avLst/>
          </a:prstGeom>
          <a:solidFill>
            <a:srgbClr val="919191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atum Feature Simu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8381880" y="2641680"/>
            <a:ext cx="257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7967520" y="2643120"/>
            <a:ext cx="671760" cy="12477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762120" y="15228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lanar Datum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335560" y="1630440"/>
            <a:ext cx="5032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610240" y="1538280"/>
            <a:ext cx="92520" cy="92520"/>
          </a:xfrm>
          <a:custGeom>
            <a:avLst/>
            <a:gdLst/>
            <a:ahLst/>
            <a:rect l="0" t="0" r="r" b="b"/>
            <a:pathLst>
              <a:path w="257" h="257">
                <a:moveTo>
                  <a:pt x="0" y="257"/>
                </a:moveTo>
                <a:lnTo>
                  <a:pt x="257" y="257"/>
                </a:lnTo>
                <a:lnTo>
                  <a:pt x="128" y="0"/>
                </a:lnTo>
                <a:lnTo>
                  <a:pt x="0" y="257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554800" y="1219320"/>
            <a:ext cx="182520" cy="182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656320" y="1401840"/>
            <a:ext cx="0" cy="136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3598920" y="5651640"/>
            <a:ext cx="2127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00dfca"/>
                </a:solidFill>
                <a:uFillTx/>
                <a:latin typeface="Times New Roman"/>
                <a:ea typeface="Times New Roman"/>
              </a:rPr>
              <a:t>INTERP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685800" y="1282680"/>
            <a:ext cx="12891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00dfca"/>
                </a:solidFill>
                <a:uFillTx/>
                <a:latin typeface="Times New Roman"/>
                <a:ea typeface="Times New Roman"/>
              </a:rPr>
              <a:t>DRA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403280" y="1978200"/>
            <a:ext cx="6588360" cy="0"/>
          </a:xfrm>
          <a:prstGeom prst="line">
            <a:avLst/>
          </a:prstGeom>
          <a:ln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-70200" bIns="-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21160" y="1401840"/>
            <a:ext cx="176832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c4c4c"/>
              </a:gs>
            </a:gsLst>
            <a:lin ang="81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5508720" y="117648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5629320" y="2428920"/>
            <a:ext cx="27939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ulated Datum Fe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360360" y="2400480"/>
            <a:ext cx="1244520" cy="14968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617840" y="2392200"/>
            <a:ext cx="166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397480" y="2390760"/>
            <a:ext cx="1810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255680" y="3171960"/>
            <a:ext cx="6617160" cy="727560"/>
          </a:xfrm>
          <a:custGeom>
            <a:avLst/>
            <a:gdLst/>
            <a:ahLst/>
            <a:rect l="0" t="0" r="r" b="b"/>
            <a:pathLst>
              <a:path w="18381" h="2021">
                <a:moveTo>
                  <a:pt x="8" y="1929"/>
                </a:moveTo>
                <a:lnTo>
                  <a:pt x="4" y="0"/>
                </a:lnTo>
                <a:lnTo>
                  <a:pt x="18377" y="0"/>
                </a:lnTo>
                <a:lnTo>
                  <a:pt x="18381" y="1743"/>
                </a:lnTo>
                <a:lnTo>
                  <a:pt x="18222" y="1752"/>
                </a:lnTo>
                <a:lnTo>
                  <a:pt x="18055" y="1787"/>
                </a:lnTo>
                <a:lnTo>
                  <a:pt x="17826" y="1735"/>
                </a:lnTo>
                <a:lnTo>
                  <a:pt x="17526" y="1823"/>
                </a:lnTo>
                <a:lnTo>
                  <a:pt x="17270" y="1770"/>
                </a:lnTo>
                <a:lnTo>
                  <a:pt x="17111" y="1832"/>
                </a:lnTo>
                <a:lnTo>
                  <a:pt x="16807" y="1898"/>
                </a:lnTo>
                <a:lnTo>
                  <a:pt x="16609" y="1990"/>
                </a:lnTo>
                <a:lnTo>
                  <a:pt x="16238" y="1951"/>
                </a:lnTo>
                <a:lnTo>
                  <a:pt x="15947" y="1977"/>
                </a:lnTo>
                <a:lnTo>
                  <a:pt x="15682" y="2021"/>
                </a:lnTo>
                <a:lnTo>
                  <a:pt x="15590" y="1964"/>
                </a:lnTo>
                <a:lnTo>
                  <a:pt x="14990" y="2021"/>
                </a:lnTo>
                <a:lnTo>
                  <a:pt x="14584" y="1951"/>
                </a:lnTo>
                <a:lnTo>
                  <a:pt x="14320" y="1951"/>
                </a:lnTo>
                <a:lnTo>
                  <a:pt x="14346" y="1951"/>
                </a:lnTo>
                <a:lnTo>
                  <a:pt x="14161" y="1924"/>
                </a:lnTo>
                <a:lnTo>
                  <a:pt x="13910" y="1862"/>
                </a:lnTo>
                <a:lnTo>
                  <a:pt x="13741" y="1849"/>
                </a:lnTo>
                <a:lnTo>
                  <a:pt x="13600" y="1823"/>
                </a:lnTo>
                <a:lnTo>
                  <a:pt x="13433" y="1792"/>
                </a:lnTo>
                <a:lnTo>
                  <a:pt x="13203" y="1832"/>
                </a:lnTo>
                <a:lnTo>
                  <a:pt x="13062" y="1792"/>
                </a:lnTo>
                <a:lnTo>
                  <a:pt x="12956" y="1832"/>
                </a:lnTo>
                <a:lnTo>
                  <a:pt x="12780" y="1867"/>
                </a:lnTo>
                <a:lnTo>
                  <a:pt x="12573" y="1832"/>
                </a:lnTo>
                <a:lnTo>
                  <a:pt x="12308" y="1752"/>
                </a:lnTo>
                <a:lnTo>
                  <a:pt x="12145" y="1832"/>
                </a:lnTo>
                <a:lnTo>
                  <a:pt x="11898" y="1752"/>
                </a:lnTo>
                <a:lnTo>
                  <a:pt x="11695" y="1823"/>
                </a:lnTo>
                <a:lnTo>
                  <a:pt x="11528" y="1796"/>
                </a:lnTo>
                <a:lnTo>
                  <a:pt x="11386" y="1823"/>
                </a:lnTo>
                <a:lnTo>
                  <a:pt x="11166" y="1840"/>
                </a:lnTo>
                <a:lnTo>
                  <a:pt x="10945" y="1765"/>
                </a:lnTo>
                <a:lnTo>
                  <a:pt x="10716" y="1796"/>
                </a:lnTo>
                <a:lnTo>
                  <a:pt x="10571" y="1695"/>
                </a:lnTo>
                <a:lnTo>
                  <a:pt x="10407" y="1787"/>
                </a:lnTo>
                <a:lnTo>
                  <a:pt x="10099" y="1796"/>
                </a:lnTo>
                <a:lnTo>
                  <a:pt x="9649" y="1858"/>
                </a:lnTo>
                <a:lnTo>
                  <a:pt x="9349" y="1814"/>
                </a:lnTo>
                <a:lnTo>
                  <a:pt x="9093" y="1867"/>
                </a:lnTo>
                <a:lnTo>
                  <a:pt x="8921" y="1871"/>
                </a:lnTo>
                <a:lnTo>
                  <a:pt x="8767" y="1920"/>
                </a:lnTo>
                <a:lnTo>
                  <a:pt x="8617" y="1858"/>
                </a:lnTo>
                <a:lnTo>
                  <a:pt x="8502" y="1964"/>
                </a:lnTo>
                <a:lnTo>
                  <a:pt x="8300" y="1946"/>
                </a:lnTo>
                <a:lnTo>
                  <a:pt x="8106" y="1920"/>
                </a:lnTo>
                <a:lnTo>
                  <a:pt x="7964" y="1902"/>
                </a:lnTo>
                <a:lnTo>
                  <a:pt x="7753" y="1814"/>
                </a:lnTo>
                <a:lnTo>
                  <a:pt x="7559" y="1876"/>
                </a:lnTo>
                <a:lnTo>
                  <a:pt x="7272" y="1862"/>
                </a:lnTo>
                <a:lnTo>
                  <a:pt x="6950" y="1792"/>
                </a:lnTo>
                <a:lnTo>
                  <a:pt x="6580" y="1862"/>
                </a:lnTo>
                <a:lnTo>
                  <a:pt x="6368" y="1964"/>
                </a:lnTo>
                <a:lnTo>
                  <a:pt x="5971" y="1929"/>
                </a:lnTo>
                <a:lnTo>
                  <a:pt x="5592" y="1929"/>
                </a:lnTo>
                <a:lnTo>
                  <a:pt x="5389" y="1937"/>
                </a:lnTo>
                <a:lnTo>
                  <a:pt x="5204" y="1937"/>
                </a:lnTo>
                <a:lnTo>
                  <a:pt x="4957" y="1964"/>
                </a:lnTo>
                <a:lnTo>
                  <a:pt x="4772" y="1973"/>
                </a:lnTo>
                <a:lnTo>
                  <a:pt x="4414" y="2021"/>
                </a:lnTo>
                <a:lnTo>
                  <a:pt x="4198" y="1981"/>
                </a:lnTo>
                <a:lnTo>
                  <a:pt x="4012" y="1929"/>
                </a:lnTo>
                <a:lnTo>
                  <a:pt x="3845" y="1911"/>
                </a:lnTo>
                <a:lnTo>
                  <a:pt x="3642" y="1990"/>
                </a:lnTo>
                <a:lnTo>
                  <a:pt x="3430" y="1999"/>
                </a:lnTo>
                <a:lnTo>
                  <a:pt x="3210" y="1955"/>
                </a:lnTo>
                <a:lnTo>
                  <a:pt x="3069" y="1920"/>
                </a:lnTo>
                <a:lnTo>
                  <a:pt x="2963" y="1937"/>
                </a:lnTo>
                <a:lnTo>
                  <a:pt x="2769" y="1920"/>
                </a:lnTo>
                <a:lnTo>
                  <a:pt x="2584" y="1902"/>
                </a:lnTo>
                <a:lnTo>
                  <a:pt x="2372" y="1902"/>
                </a:lnTo>
                <a:lnTo>
                  <a:pt x="2213" y="1955"/>
                </a:lnTo>
                <a:lnTo>
                  <a:pt x="2160" y="1981"/>
                </a:lnTo>
                <a:lnTo>
                  <a:pt x="2107" y="1955"/>
                </a:lnTo>
                <a:lnTo>
                  <a:pt x="2054" y="1981"/>
                </a:lnTo>
                <a:lnTo>
                  <a:pt x="1843" y="2008"/>
                </a:lnTo>
                <a:lnTo>
                  <a:pt x="1631" y="2008"/>
                </a:lnTo>
                <a:lnTo>
                  <a:pt x="1411" y="1920"/>
                </a:lnTo>
                <a:lnTo>
                  <a:pt x="1234" y="1964"/>
                </a:lnTo>
                <a:lnTo>
                  <a:pt x="1049" y="1911"/>
                </a:lnTo>
                <a:lnTo>
                  <a:pt x="899" y="1937"/>
                </a:lnTo>
                <a:lnTo>
                  <a:pt x="732" y="1946"/>
                </a:lnTo>
                <a:lnTo>
                  <a:pt x="520" y="1973"/>
                </a:lnTo>
                <a:lnTo>
                  <a:pt x="229" y="1981"/>
                </a:lnTo>
                <a:lnTo>
                  <a:pt x="0" y="1929"/>
                </a:lnTo>
                <a:lnTo>
                  <a:pt x="8" y="1929"/>
                </a:lnTo>
                <a:close/>
              </a:path>
            </a:pathLst>
          </a:custGeom>
          <a:gradFill rotWithShape="0">
            <a:gsLst>
              <a:gs pos="0">
                <a:srgbClr val="f2fefd"/>
              </a:gs>
              <a:gs pos="100000">
                <a:srgbClr val="000000"/>
              </a:gs>
            </a:gsLst>
            <a:lin ang="81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5029200" y="2389320"/>
            <a:ext cx="549360" cy="1400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2246400" y="3327480"/>
            <a:ext cx="593640" cy="396720"/>
          </a:xfrm>
          <a:prstGeom prst="rect">
            <a:avLst/>
          </a:prstGeom>
          <a:solidFill>
            <a:srgbClr val="919191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3664080" y="2171520"/>
            <a:ext cx="1700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um Fe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5629320" y="2428920"/>
            <a:ext cx="27939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ulated Datum Fe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1825560" y="2198520"/>
            <a:ext cx="1749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um Plane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8381880" y="2641680"/>
            <a:ext cx="257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8207280" y="2643120"/>
            <a:ext cx="432000" cy="1190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762120" y="15228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lanar Datum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863640" y="3832200"/>
            <a:ext cx="7531560" cy="1607040"/>
          </a:xfrm>
          <a:custGeom>
            <a:avLst/>
            <a:gdLst/>
            <a:ahLst/>
            <a:rect l="0" t="0" r="r" b="b"/>
            <a:pathLst>
              <a:path w="20921" h="4464">
                <a:moveTo>
                  <a:pt x="48" y="123"/>
                </a:moveTo>
                <a:lnTo>
                  <a:pt x="339" y="149"/>
                </a:lnTo>
                <a:lnTo>
                  <a:pt x="740" y="176"/>
                </a:lnTo>
                <a:lnTo>
                  <a:pt x="1146" y="202"/>
                </a:lnTo>
                <a:lnTo>
                  <a:pt x="1556" y="216"/>
                </a:lnTo>
                <a:lnTo>
                  <a:pt x="1688" y="202"/>
                </a:lnTo>
                <a:lnTo>
                  <a:pt x="1878" y="185"/>
                </a:lnTo>
                <a:lnTo>
                  <a:pt x="2019" y="202"/>
                </a:lnTo>
                <a:lnTo>
                  <a:pt x="2143" y="167"/>
                </a:lnTo>
                <a:lnTo>
                  <a:pt x="2275" y="158"/>
                </a:lnTo>
                <a:lnTo>
                  <a:pt x="2363" y="194"/>
                </a:lnTo>
                <a:lnTo>
                  <a:pt x="2495" y="229"/>
                </a:lnTo>
                <a:lnTo>
                  <a:pt x="2601" y="229"/>
                </a:lnTo>
                <a:lnTo>
                  <a:pt x="2760" y="202"/>
                </a:lnTo>
                <a:lnTo>
                  <a:pt x="2892" y="255"/>
                </a:lnTo>
                <a:lnTo>
                  <a:pt x="3104" y="176"/>
                </a:lnTo>
                <a:lnTo>
                  <a:pt x="3210" y="229"/>
                </a:lnTo>
                <a:lnTo>
                  <a:pt x="3369" y="229"/>
                </a:lnTo>
                <a:lnTo>
                  <a:pt x="3536" y="299"/>
                </a:lnTo>
                <a:lnTo>
                  <a:pt x="3660" y="255"/>
                </a:lnTo>
                <a:lnTo>
                  <a:pt x="3739" y="176"/>
                </a:lnTo>
                <a:lnTo>
                  <a:pt x="3871" y="202"/>
                </a:lnTo>
                <a:lnTo>
                  <a:pt x="4030" y="176"/>
                </a:lnTo>
                <a:lnTo>
                  <a:pt x="4145" y="141"/>
                </a:lnTo>
                <a:lnTo>
                  <a:pt x="4303" y="176"/>
                </a:lnTo>
                <a:lnTo>
                  <a:pt x="4471" y="167"/>
                </a:lnTo>
                <a:lnTo>
                  <a:pt x="4586" y="158"/>
                </a:lnTo>
                <a:lnTo>
                  <a:pt x="4727" y="132"/>
                </a:lnTo>
                <a:lnTo>
                  <a:pt x="4780" y="158"/>
                </a:lnTo>
                <a:lnTo>
                  <a:pt x="4912" y="105"/>
                </a:lnTo>
                <a:lnTo>
                  <a:pt x="5062" y="123"/>
                </a:lnTo>
                <a:lnTo>
                  <a:pt x="5266" y="167"/>
                </a:lnTo>
                <a:lnTo>
                  <a:pt x="5424" y="158"/>
                </a:lnTo>
                <a:lnTo>
                  <a:pt x="5618" y="149"/>
                </a:lnTo>
                <a:lnTo>
                  <a:pt x="5830" y="167"/>
                </a:lnTo>
                <a:lnTo>
                  <a:pt x="5892" y="185"/>
                </a:lnTo>
                <a:lnTo>
                  <a:pt x="5980" y="97"/>
                </a:lnTo>
                <a:lnTo>
                  <a:pt x="6174" y="70"/>
                </a:lnTo>
                <a:lnTo>
                  <a:pt x="6298" y="158"/>
                </a:lnTo>
                <a:lnTo>
                  <a:pt x="6430" y="123"/>
                </a:lnTo>
                <a:lnTo>
                  <a:pt x="6571" y="194"/>
                </a:lnTo>
                <a:lnTo>
                  <a:pt x="6690" y="189"/>
                </a:lnTo>
                <a:lnTo>
                  <a:pt x="6809" y="202"/>
                </a:lnTo>
                <a:lnTo>
                  <a:pt x="6941" y="202"/>
                </a:lnTo>
                <a:lnTo>
                  <a:pt x="7100" y="176"/>
                </a:lnTo>
                <a:lnTo>
                  <a:pt x="7188" y="185"/>
                </a:lnTo>
                <a:lnTo>
                  <a:pt x="7312" y="114"/>
                </a:lnTo>
                <a:lnTo>
                  <a:pt x="7431" y="141"/>
                </a:lnTo>
                <a:lnTo>
                  <a:pt x="7559" y="194"/>
                </a:lnTo>
                <a:lnTo>
                  <a:pt x="7735" y="185"/>
                </a:lnTo>
                <a:lnTo>
                  <a:pt x="7810" y="141"/>
                </a:lnTo>
                <a:lnTo>
                  <a:pt x="7947" y="83"/>
                </a:lnTo>
                <a:lnTo>
                  <a:pt x="8066" y="97"/>
                </a:lnTo>
                <a:lnTo>
                  <a:pt x="8238" y="110"/>
                </a:lnTo>
                <a:lnTo>
                  <a:pt x="8357" y="110"/>
                </a:lnTo>
                <a:lnTo>
                  <a:pt x="8489" y="163"/>
                </a:lnTo>
                <a:lnTo>
                  <a:pt x="8688" y="176"/>
                </a:lnTo>
                <a:lnTo>
                  <a:pt x="8908" y="185"/>
                </a:lnTo>
                <a:lnTo>
                  <a:pt x="9076" y="132"/>
                </a:lnTo>
                <a:lnTo>
                  <a:pt x="9199" y="123"/>
                </a:lnTo>
                <a:lnTo>
                  <a:pt x="9340" y="202"/>
                </a:lnTo>
                <a:lnTo>
                  <a:pt x="9464" y="141"/>
                </a:lnTo>
                <a:lnTo>
                  <a:pt x="9605" y="171"/>
                </a:lnTo>
                <a:lnTo>
                  <a:pt x="9680" y="163"/>
                </a:lnTo>
                <a:lnTo>
                  <a:pt x="9772" y="202"/>
                </a:lnTo>
                <a:lnTo>
                  <a:pt x="9971" y="171"/>
                </a:lnTo>
                <a:lnTo>
                  <a:pt x="10077" y="141"/>
                </a:lnTo>
                <a:lnTo>
                  <a:pt x="10205" y="141"/>
                </a:lnTo>
                <a:lnTo>
                  <a:pt x="10328" y="176"/>
                </a:lnTo>
                <a:lnTo>
                  <a:pt x="10743" y="185"/>
                </a:lnTo>
                <a:lnTo>
                  <a:pt x="10945" y="149"/>
                </a:lnTo>
                <a:lnTo>
                  <a:pt x="11104" y="123"/>
                </a:lnTo>
                <a:lnTo>
                  <a:pt x="11210" y="158"/>
                </a:lnTo>
                <a:lnTo>
                  <a:pt x="11325" y="132"/>
                </a:lnTo>
                <a:lnTo>
                  <a:pt x="11448" y="185"/>
                </a:lnTo>
                <a:lnTo>
                  <a:pt x="11589" y="141"/>
                </a:lnTo>
                <a:lnTo>
                  <a:pt x="11774" y="202"/>
                </a:lnTo>
                <a:lnTo>
                  <a:pt x="11968" y="220"/>
                </a:lnTo>
                <a:lnTo>
                  <a:pt x="12145" y="141"/>
                </a:lnTo>
                <a:lnTo>
                  <a:pt x="12277" y="167"/>
                </a:lnTo>
                <a:lnTo>
                  <a:pt x="12383" y="149"/>
                </a:lnTo>
                <a:lnTo>
                  <a:pt x="12506" y="211"/>
                </a:lnTo>
                <a:lnTo>
                  <a:pt x="12648" y="185"/>
                </a:lnTo>
                <a:lnTo>
                  <a:pt x="12789" y="149"/>
                </a:lnTo>
                <a:lnTo>
                  <a:pt x="12881" y="83"/>
                </a:lnTo>
                <a:lnTo>
                  <a:pt x="13014" y="70"/>
                </a:lnTo>
                <a:lnTo>
                  <a:pt x="13172" y="70"/>
                </a:lnTo>
                <a:lnTo>
                  <a:pt x="13265" y="57"/>
                </a:lnTo>
                <a:lnTo>
                  <a:pt x="13543" y="83"/>
                </a:lnTo>
                <a:lnTo>
                  <a:pt x="13688" y="110"/>
                </a:lnTo>
                <a:lnTo>
                  <a:pt x="13816" y="141"/>
                </a:lnTo>
                <a:lnTo>
                  <a:pt x="13944" y="211"/>
                </a:lnTo>
                <a:lnTo>
                  <a:pt x="14085" y="163"/>
                </a:lnTo>
                <a:lnTo>
                  <a:pt x="14231" y="163"/>
                </a:lnTo>
                <a:lnTo>
                  <a:pt x="14429" y="123"/>
                </a:lnTo>
                <a:lnTo>
                  <a:pt x="14531" y="141"/>
                </a:lnTo>
                <a:lnTo>
                  <a:pt x="14654" y="141"/>
                </a:lnTo>
                <a:lnTo>
                  <a:pt x="14782" y="180"/>
                </a:lnTo>
                <a:lnTo>
                  <a:pt x="14910" y="180"/>
                </a:lnTo>
                <a:lnTo>
                  <a:pt x="15161" y="180"/>
                </a:lnTo>
                <a:lnTo>
                  <a:pt x="15285" y="180"/>
                </a:lnTo>
                <a:lnTo>
                  <a:pt x="15452" y="180"/>
                </a:lnTo>
                <a:lnTo>
                  <a:pt x="15580" y="180"/>
                </a:lnTo>
                <a:lnTo>
                  <a:pt x="15735" y="202"/>
                </a:lnTo>
                <a:lnTo>
                  <a:pt x="15859" y="136"/>
                </a:lnTo>
                <a:lnTo>
                  <a:pt x="16004" y="110"/>
                </a:lnTo>
                <a:lnTo>
                  <a:pt x="16137" y="123"/>
                </a:lnTo>
                <a:lnTo>
                  <a:pt x="16269" y="149"/>
                </a:lnTo>
                <a:lnTo>
                  <a:pt x="16878" y="97"/>
                </a:lnTo>
                <a:lnTo>
                  <a:pt x="17208" y="110"/>
                </a:lnTo>
                <a:lnTo>
                  <a:pt x="17327" y="149"/>
                </a:lnTo>
                <a:lnTo>
                  <a:pt x="17473" y="189"/>
                </a:lnTo>
                <a:lnTo>
                  <a:pt x="17632" y="163"/>
                </a:lnTo>
                <a:lnTo>
                  <a:pt x="17751" y="136"/>
                </a:lnTo>
                <a:lnTo>
                  <a:pt x="17892" y="180"/>
                </a:lnTo>
                <a:lnTo>
                  <a:pt x="18015" y="141"/>
                </a:lnTo>
                <a:lnTo>
                  <a:pt x="18187" y="132"/>
                </a:lnTo>
                <a:lnTo>
                  <a:pt x="18364" y="176"/>
                </a:lnTo>
                <a:lnTo>
                  <a:pt x="18540" y="158"/>
                </a:lnTo>
                <a:lnTo>
                  <a:pt x="18628" y="114"/>
                </a:lnTo>
                <a:lnTo>
                  <a:pt x="18831" y="97"/>
                </a:lnTo>
                <a:lnTo>
                  <a:pt x="19016" y="88"/>
                </a:lnTo>
                <a:lnTo>
                  <a:pt x="19069" y="79"/>
                </a:lnTo>
                <a:lnTo>
                  <a:pt x="19210" y="70"/>
                </a:lnTo>
                <a:lnTo>
                  <a:pt x="19343" y="70"/>
                </a:lnTo>
                <a:lnTo>
                  <a:pt x="19497" y="136"/>
                </a:lnTo>
                <a:lnTo>
                  <a:pt x="19642" y="176"/>
                </a:lnTo>
                <a:lnTo>
                  <a:pt x="19894" y="163"/>
                </a:lnTo>
                <a:lnTo>
                  <a:pt x="20039" y="97"/>
                </a:lnTo>
                <a:lnTo>
                  <a:pt x="20286" y="0"/>
                </a:lnTo>
                <a:lnTo>
                  <a:pt x="20533" y="17"/>
                </a:lnTo>
                <a:lnTo>
                  <a:pt x="20718" y="35"/>
                </a:lnTo>
                <a:lnTo>
                  <a:pt x="20921" y="70"/>
                </a:lnTo>
                <a:lnTo>
                  <a:pt x="20917" y="4464"/>
                </a:lnTo>
                <a:lnTo>
                  <a:pt x="0" y="4455"/>
                </a:lnTo>
                <a:lnTo>
                  <a:pt x="0" y="114"/>
                </a:lnTo>
                <a:lnTo>
                  <a:pt x="48" y="123"/>
                </a:lnTo>
                <a:close/>
              </a:path>
            </a:pathLst>
          </a:custGeom>
          <a:gradFill rotWithShape="0">
            <a:gsLst>
              <a:gs pos="0">
                <a:srgbClr val="919191"/>
              </a:gs>
              <a:gs pos="100000">
                <a:srgbClr val="2b2b2b"/>
              </a:gs>
            </a:gsLst>
            <a:lin ang="81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4827600" y="4713120"/>
            <a:ext cx="2765520" cy="396720"/>
          </a:xfrm>
          <a:prstGeom prst="rect">
            <a:avLst/>
          </a:prstGeom>
          <a:solidFill>
            <a:srgbClr val="919191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atum Feature Simu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608040" y="5603760"/>
            <a:ext cx="1749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ula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um Plane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398520" y="5786280"/>
            <a:ext cx="2109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266760" y="3903840"/>
            <a:ext cx="8623080" cy="0"/>
            <a:chOff x="266760" y="3903840"/>
            <a:chExt cx="8623080" cy="0"/>
          </a:xfrm>
        </p:grpSpPr>
        <p:sp>
          <p:nvSpPr>
            <p:cNvPr id="535" name=""/>
            <p:cNvSpPr/>
            <p:nvPr/>
          </p:nvSpPr>
          <p:spPr>
            <a:xfrm>
              <a:off x="266760" y="3903840"/>
              <a:ext cx="203832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409840" y="3903840"/>
              <a:ext cx="9036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590920" y="3903840"/>
              <a:ext cx="9036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832120" y="3903840"/>
              <a:ext cx="116028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092480" y="3903840"/>
              <a:ext cx="9072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280040" y="3903840"/>
              <a:ext cx="12060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505400" y="3903840"/>
              <a:ext cx="146196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059520" y="3903840"/>
              <a:ext cx="9036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238800" y="3903840"/>
              <a:ext cx="10656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450120" y="3903840"/>
              <a:ext cx="243972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593640" y="3817800"/>
            <a:ext cx="8321760" cy="50760"/>
            <a:chOff x="593640" y="3817800"/>
            <a:chExt cx="8321760" cy="50760"/>
          </a:xfrm>
        </p:grpSpPr>
        <p:sp>
          <p:nvSpPr>
            <p:cNvPr id="546" name=""/>
            <p:cNvSpPr/>
            <p:nvPr/>
          </p:nvSpPr>
          <p:spPr>
            <a:xfrm flipV="1">
              <a:off x="593640" y="3857760"/>
              <a:ext cx="1968480" cy="10800"/>
            </a:xfrm>
            <a:prstGeom prst="line">
              <a:avLst/>
            </a:prstGeom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64000" y="3855960"/>
              <a:ext cx="87120" cy="0"/>
            </a:xfrm>
            <a:prstGeom prst="line">
              <a:avLst/>
            </a:prstGeom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840040" y="3854520"/>
              <a:ext cx="87480" cy="0"/>
            </a:xfrm>
            <a:prstGeom prst="line">
              <a:avLst/>
            </a:prstGeom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flipV="1">
              <a:off x="3070080" y="3846600"/>
              <a:ext cx="1122480" cy="6120"/>
            </a:xfrm>
            <a:prstGeom prst="line">
              <a:avLst/>
            </a:prstGeom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4280040" y="3844800"/>
              <a:ext cx="87120" cy="1800"/>
            </a:xfrm>
            <a:prstGeom prst="line">
              <a:avLst/>
            </a:prstGeom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468680" y="3844800"/>
              <a:ext cx="115920" cy="0"/>
            </a:xfrm>
            <a:prstGeom prst="line">
              <a:avLst/>
            </a:prstGeom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4686480" y="3835440"/>
              <a:ext cx="1411200" cy="7920"/>
            </a:xfrm>
            <a:prstGeom prst="line">
              <a:avLst/>
            </a:prstGeom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6186600" y="3833640"/>
              <a:ext cx="87120" cy="1800"/>
            </a:xfrm>
            <a:prstGeom prst="line">
              <a:avLst/>
            </a:prstGeom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361200" y="3833640"/>
              <a:ext cx="101520" cy="0"/>
            </a:xfrm>
            <a:prstGeom prst="line">
              <a:avLst/>
            </a:prstGeom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6562800" y="3817800"/>
              <a:ext cx="2352600" cy="14400"/>
            </a:xfrm>
            <a:prstGeom prst="line">
              <a:avLst/>
            </a:prstGeom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"/>
          <p:cNvSpPr/>
          <p:nvPr/>
        </p:nvSpPr>
        <p:spPr>
          <a:xfrm flipV="1">
            <a:off x="398520" y="3876840"/>
            <a:ext cx="277920" cy="1909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335560" y="1630440"/>
            <a:ext cx="5032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610240" y="1538280"/>
            <a:ext cx="92520" cy="92520"/>
          </a:xfrm>
          <a:custGeom>
            <a:avLst/>
            <a:gdLst/>
            <a:ahLst/>
            <a:rect l="0" t="0" r="r" b="b"/>
            <a:pathLst>
              <a:path w="257" h="257">
                <a:moveTo>
                  <a:pt x="0" y="257"/>
                </a:moveTo>
                <a:lnTo>
                  <a:pt x="257" y="257"/>
                </a:lnTo>
                <a:lnTo>
                  <a:pt x="128" y="0"/>
                </a:lnTo>
                <a:lnTo>
                  <a:pt x="0" y="257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5554800" y="1219320"/>
            <a:ext cx="182520" cy="182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656320" y="1401840"/>
            <a:ext cx="0" cy="136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598920" y="5651640"/>
            <a:ext cx="2127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00dfca"/>
                </a:solidFill>
                <a:uFillTx/>
                <a:latin typeface="Times New Roman"/>
                <a:ea typeface="Times New Roman"/>
              </a:rPr>
              <a:t>INTERP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685800" y="1282680"/>
            <a:ext cx="12891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00dfca"/>
                </a:solidFill>
                <a:uFillTx/>
                <a:latin typeface="Times New Roman"/>
                <a:ea typeface="Times New Roman"/>
              </a:rPr>
              <a:t>DRA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209600" y="3182760"/>
            <a:ext cx="6620400" cy="727560"/>
          </a:xfrm>
          <a:custGeom>
            <a:avLst/>
            <a:gdLst/>
            <a:ahLst/>
            <a:rect l="0" t="0" r="r" b="b"/>
            <a:pathLst>
              <a:path w="18390" h="2021">
                <a:moveTo>
                  <a:pt x="13" y="1787"/>
                </a:moveTo>
                <a:lnTo>
                  <a:pt x="13" y="0"/>
                </a:lnTo>
                <a:lnTo>
                  <a:pt x="18386" y="0"/>
                </a:lnTo>
                <a:lnTo>
                  <a:pt x="18390" y="1743"/>
                </a:lnTo>
                <a:lnTo>
                  <a:pt x="18231" y="1752"/>
                </a:lnTo>
                <a:lnTo>
                  <a:pt x="18064" y="1787"/>
                </a:lnTo>
                <a:lnTo>
                  <a:pt x="17834" y="1735"/>
                </a:lnTo>
                <a:lnTo>
                  <a:pt x="17535" y="1823"/>
                </a:lnTo>
                <a:lnTo>
                  <a:pt x="17279" y="1770"/>
                </a:lnTo>
                <a:lnTo>
                  <a:pt x="17120" y="1832"/>
                </a:lnTo>
                <a:lnTo>
                  <a:pt x="16816" y="1898"/>
                </a:lnTo>
                <a:lnTo>
                  <a:pt x="16617" y="1990"/>
                </a:lnTo>
                <a:lnTo>
                  <a:pt x="16247" y="1951"/>
                </a:lnTo>
                <a:lnTo>
                  <a:pt x="15956" y="1977"/>
                </a:lnTo>
                <a:lnTo>
                  <a:pt x="15691" y="2021"/>
                </a:lnTo>
                <a:lnTo>
                  <a:pt x="15599" y="1964"/>
                </a:lnTo>
                <a:lnTo>
                  <a:pt x="14999" y="2021"/>
                </a:lnTo>
                <a:lnTo>
                  <a:pt x="14593" y="1951"/>
                </a:lnTo>
                <a:lnTo>
                  <a:pt x="14329" y="1951"/>
                </a:lnTo>
                <a:lnTo>
                  <a:pt x="14355" y="1951"/>
                </a:lnTo>
                <a:lnTo>
                  <a:pt x="14170" y="1924"/>
                </a:lnTo>
                <a:lnTo>
                  <a:pt x="13919" y="1862"/>
                </a:lnTo>
                <a:lnTo>
                  <a:pt x="13750" y="1849"/>
                </a:lnTo>
                <a:lnTo>
                  <a:pt x="13609" y="1823"/>
                </a:lnTo>
                <a:lnTo>
                  <a:pt x="13441" y="1792"/>
                </a:lnTo>
                <a:lnTo>
                  <a:pt x="13212" y="1832"/>
                </a:lnTo>
                <a:lnTo>
                  <a:pt x="13071" y="1792"/>
                </a:lnTo>
                <a:lnTo>
                  <a:pt x="12965" y="1832"/>
                </a:lnTo>
                <a:lnTo>
                  <a:pt x="12789" y="1867"/>
                </a:lnTo>
                <a:lnTo>
                  <a:pt x="12581" y="1832"/>
                </a:lnTo>
                <a:lnTo>
                  <a:pt x="12317" y="1752"/>
                </a:lnTo>
                <a:lnTo>
                  <a:pt x="12154" y="1832"/>
                </a:lnTo>
                <a:lnTo>
                  <a:pt x="11907" y="1752"/>
                </a:lnTo>
                <a:lnTo>
                  <a:pt x="11704" y="1823"/>
                </a:lnTo>
                <a:lnTo>
                  <a:pt x="11536" y="1796"/>
                </a:lnTo>
                <a:lnTo>
                  <a:pt x="11395" y="1823"/>
                </a:lnTo>
                <a:lnTo>
                  <a:pt x="11175" y="1840"/>
                </a:lnTo>
                <a:lnTo>
                  <a:pt x="10954" y="1765"/>
                </a:lnTo>
                <a:lnTo>
                  <a:pt x="10725" y="1796"/>
                </a:lnTo>
                <a:lnTo>
                  <a:pt x="10579" y="1695"/>
                </a:lnTo>
                <a:lnTo>
                  <a:pt x="10416" y="1787"/>
                </a:lnTo>
                <a:lnTo>
                  <a:pt x="10108" y="1796"/>
                </a:lnTo>
                <a:lnTo>
                  <a:pt x="9658" y="1858"/>
                </a:lnTo>
                <a:lnTo>
                  <a:pt x="9358" y="1814"/>
                </a:lnTo>
                <a:lnTo>
                  <a:pt x="9102" y="1867"/>
                </a:lnTo>
                <a:lnTo>
                  <a:pt x="8930" y="1871"/>
                </a:lnTo>
                <a:lnTo>
                  <a:pt x="8776" y="1920"/>
                </a:lnTo>
                <a:lnTo>
                  <a:pt x="8626" y="1858"/>
                </a:lnTo>
                <a:lnTo>
                  <a:pt x="8511" y="1964"/>
                </a:lnTo>
                <a:lnTo>
                  <a:pt x="8308" y="1946"/>
                </a:lnTo>
                <a:lnTo>
                  <a:pt x="8114" y="1920"/>
                </a:lnTo>
                <a:lnTo>
                  <a:pt x="7973" y="1902"/>
                </a:lnTo>
                <a:lnTo>
                  <a:pt x="7762" y="1814"/>
                </a:lnTo>
                <a:lnTo>
                  <a:pt x="7568" y="1876"/>
                </a:lnTo>
                <a:lnTo>
                  <a:pt x="7281" y="1862"/>
                </a:lnTo>
                <a:lnTo>
                  <a:pt x="6959" y="1792"/>
                </a:lnTo>
                <a:lnTo>
                  <a:pt x="6589" y="1862"/>
                </a:lnTo>
                <a:lnTo>
                  <a:pt x="6403" y="1726"/>
                </a:lnTo>
                <a:lnTo>
                  <a:pt x="5993" y="1779"/>
                </a:lnTo>
                <a:lnTo>
                  <a:pt x="5566" y="1796"/>
                </a:lnTo>
                <a:lnTo>
                  <a:pt x="5380" y="1735"/>
                </a:lnTo>
                <a:lnTo>
                  <a:pt x="5204" y="1796"/>
                </a:lnTo>
                <a:lnTo>
                  <a:pt x="4983" y="1717"/>
                </a:lnTo>
                <a:lnTo>
                  <a:pt x="4798" y="1787"/>
                </a:lnTo>
                <a:lnTo>
                  <a:pt x="4497" y="1823"/>
                </a:lnTo>
                <a:lnTo>
                  <a:pt x="4171" y="1743"/>
                </a:lnTo>
                <a:lnTo>
                  <a:pt x="4039" y="1743"/>
                </a:lnTo>
                <a:lnTo>
                  <a:pt x="3880" y="1787"/>
                </a:lnTo>
                <a:lnTo>
                  <a:pt x="3695" y="1814"/>
                </a:lnTo>
                <a:lnTo>
                  <a:pt x="3413" y="1823"/>
                </a:lnTo>
                <a:lnTo>
                  <a:pt x="3219" y="1832"/>
                </a:lnTo>
                <a:lnTo>
                  <a:pt x="3077" y="1840"/>
                </a:lnTo>
                <a:lnTo>
                  <a:pt x="2963" y="1814"/>
                </a:lnTo>
                <a:lnTo>
                  <a:pt x="2760" y="1814"/>
                </a:lnTo>
                <a:lnTo>
                  <a:pt x="2592" y="1902"/>
                </a:lnTo>
                <a:lnTo>
                  <a:pt x="2381" y="1902"/>
                </a:lnTo>
                <a:lnTo>
                  <a:pt x="2213" y="1929"/>
                </a:lnTo>
                <a:lnTo>
                  <a:pt x="2169" y="1929"/>
                </a:lnTo>
                <a:lnTo>
                  <a:pt x="2116" y="1920"/>
                </a:lnTo>
                <a:lnTo>
                  <a:pt x="2019" y="1981"/>
                </a:lnTo>
                <a:lnTo>
                  <a:pt x="1852" y="2008"/>
                </a:lnTo>
                <a:lnTo>
                  <a:pt x="1640" y="2008"/>
                </a:lnTo>
                <a:lnTo>
                  <a:pt x="1428" y="1849"/>
                </a:lnTo>
                <a:lnTo>
                  <a:pt x="1270" y="1796"/>
                </a:lnTo>
                <a:lnTo>
                  <a:pt x="1093" y="1867"/>
                </a:lnTo>
                <a:lnTo>
                  <a:pt x="934" y="1823"/>
                </a:lnTo>
                <a:lnTo>
                  <a:pt x="696" y="1849"/>
                </a:lnTo>
                <a:lnTo>
                  <a:pt x="529" y="1876"/>
                </a:lnTo>
                <a:lnTo>
                  <a:pt x="370" y="1796"/>
                </a:lnTo>
                <a:lnTo>
                  <a:pt x="0" y="1796"/>
                </a:lnTo>
                <a:lnTo>
                  <a:pt x="13" y="1787"/>
                </a:lnTo>
                <a:close/>
              </a:path>
            </a:pathLst>
          </a:custGeom>
          <a:gradFill rotWithShape="0">
            <a:gsLst>
              <a:gs pos="0">
                <a:srgbClr val="f2fefd"/>
              </a:gs>
              <a:gs pos="100000">
                <a:srgbClr val="000000"/>
              </a:gs>
            </a:gsLst>
            <a:lin ang="81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863640" y="3832200"/>
            <a:ext cx="7531560" cy="1607040"/>
          </a:xfrm>
          <a:custGeom>
            <a:avLst/>
            <a:gdLst/>
            <a:ahLst/>
            <a:rect l="0" t="0" r="r" b="b"/>
            <a:pathLst>
              <a:path w="20921" h="4464">
                <a:moveTo>
                  <a:pt x="52" y="141"/>
                </a:moveTo>
                <a:lnTo>
                  <a:pt x="352" y="185"/>
                </a:lnTo>
                <a:lnTo>
                  <a:pt x="740" y="176"/>
                </a:lnTo>
                <a:lnTo>
                  <a:pt x="1146" y="202"/>
                </a:lnTo>
                <a:lnTo>
                  <a:pt x="1569" y="273"/>
                </a:lnTo>
                <a:lnTo>
                  <a:pt x="1719" y="282"/>
                </a:lnTo>
                <a:lnTo>
                  <a:pt x="1878" y="185"/>
                </a:lnTo>
                <a:lnTo>
                  <a:pt x="2019" y="202"/>
                </a:lnTo>
                <a:lnTo>
                  <a:pt x="2143" y="167"/>
                </a:lnTo>
                <a:lnTo>
                  <a:pt x="2275" y="158"/>
                </a:lnTo>
                <a:lnTo>
                  <a:pt x="2363" y="194"/>
                </a:lnTo>
                <a:lnTo>
                  <a:pt x="2495" y="229"/>
                </a:lnTo>
                <a:lnTo>
                  <a:pt x="2601" y="229"/>
                </a:lnTo>
                <a:lnTo>
                  <a:pt x="2760" y="202"/>
                </a:lnTo>
                <a:lnTo>
                  <a:pt x="2892" y="255"/>
                </a:lnTo>
                <a:lnTo>
                  <a:pt x="3104" y="176"/>
                </a:lnTo>
                <a:lnTo>
                  <a:pt x="3210" y="229"/>
                </a:lnTo>
                <a:lnTo>
                  <a:pt x="3369" y="229"/>
                </a:lnTo>
                <a:lnTo>
                  <a:pt x="3536" y="299"/>
                </a:lnTo>
                <a:lnTo>
                  <a:pt x="3660" y="255"/>
                </a:lnTo>
                <a:lnTo>
                  <a:pt x="3739" y="176"/>
                </a:lnTo>
                <a:lnTo>
                  <a:pt x="3871" y="202"/>
                </a:lnTo>
                <a:lnTo>
                  <a:pt x="4030" y="176"/>
                </a:lnTo>
                <a:lnTo>
                  <a:pt x="4145" y="141"/>
                </a:lnTo>
                <a:lnTo>
                  <a:pt x="4303" y="176"/>
                </a:lnTo>
                <a:lnTo>
                  <a:pt x="4471" y="167"/>
                </a:lnTo>
                <a:lnTo>
                  <a:pt x="4586" y="158"/>
                </a:lnTo>
                <a:lnTo>
                  <a:pt x="4727" y="132"/>
                </a:lnTo>
                <a:lnTo>
                  <a:pt x="4780" y="158"/>
                </a:lnTo>
                <a:lnTo>
                  <a:pt x="4912" y="105"/>
                </a:lnTo>
                <a:lnTo>
                  <a:pt x="5062" y="123"/>
                </a:lnTo>
                <a:lnTo>
                  <a:pt x="5266" y="167"/>
                </a:lnTo>
                <a:lnTo>
                  <a:pt x="5424" y="158"/>
                </a:lnTo>
                <a:lnTo>
                  <a:pt x="5618" y="149"/>
                </a:lnTo>
                <a:lnTo>
                  <a:pt x="5830" y="167"/>
                </a:lnTo>
                <a:lnTo>
                  <a:pt x="5892" y="185"/>
                </a:lnTo>
                <a:lnTo>
                  <a:pt x="5980" y="97"/>
                </a:lnTo>
                <a:lnTo>
                  <a:pt x="6156" y="167"/>
                </a:lnTo>
                <a:lnTo>
                  <a:pt x="6298" y="158"/>
                </a:lnTo>
                <a:lnTo>
                  <a:pt x="6430" y="123"/>
                </a:lnTo>
                <a:lnTo>
                  <a:pt x="6571" y="194"/>
                </a:lnTo>
                <a:lnTo>
                  <a:pt x="6703" y="264"/>
                </a:lnTo>
                <a:lnTo>
                  <a:pt x="6818" y="264"/>
                </a:lnTo>
                <a:lnTo>
                  <a:pt x="6941" y="202"/>
                </a:lnTo>
                <a:lnTo>
                  <a:pt x="7100" y="176"/>
                </a:lnTo>
                <a:lnTo>
                  <a:pt x="7188" y="185"/>
                </a:lnTo>
                <a:lnTo>
                  <a:pt x="7312" y="114"/>
                </a:lnTo>
                <a:lnTo>
                  <a:pt x="7431" y="141"/>
                </a:lnTo>
                <a:lnTo>
                  <a:pt x="7559" y="194"/>
                </a:lnTo>
                <a:lnTo>
                  <a:pt x="7735" y="185"/>
                </a:lnTo>
                <a:lnTo>
                  <a:pt x="7810" y="141"/>
                </a:lnTo>
                <a:lnTo>
                  <a:pt x="7934" y="141"/>
                </a:lnTo>
                <a:lnTo>
                  <a:pt x="8061" y="141"/>
                </a:lnTo>
                <a:lnTo>
                  <a:pt x="8194" y="158"/>
                </a:lnTo>
                <a:lnTo>
                  <a:pt x="8344" y="202"/>
                </a:lnTo>
                <a:lnTo>
                  <a:pt x="8502" y="273"/>
                </a:lnTo>
                <a:lnTo>
                  <a:pt x="8688" y="176"/>
                </a:lnTo>
                <a:lnTo>
                  <a:pt x="8908" y="185"/>
                </a:lnTo>
                <a:lnTo>
                  <a:pt x="9076" y="132"/>
                </a:lnTo>
                <a:lnTo>
                  <a:pt x="9199" y="123"/>
                </a:lnTo>
                <a:lnTo>
                  <a:pt x="9340" y="202"/>
                </a:lnTo>
                <a:lnTo>
                  <a:pt x="9464" y="141"/>
                </a:lnTo>
                <a:lnTo>
                  <a:pt x="9605" y="171"/>
                </a:lnTo>
                <a:lnTo>
                  <a:pt x="9706" y="268"/>
                </a:lnTo>
                <a:lnTo>
                  <a:pt x="9772" y="202"/>
                </a:lnTo>
                <a:lnTo>
                  <a:pt x="9971" y="171"/>
                </a:lnTo>
                <a:lnTo>
                  <a:pt x="10077" y="141"/>
                </a:lnTo>
                <a:lnTo>
                  <a:pt x="10205" y="141"/>
                </a:lnTo>
                <a:lnTo>
                  <a:pt x="10328" y="176"/>
                </a:lnTo>
                <a:lnTo>
                  <a:pt x="10743" y="185"/>
                </a:lnTo>
                <a:lnTo>
                  <a:pt x="10945" y="149"/>
                </a:lnTo>
                <a:lnTo>
                  <a:pt x="11104" y="123"/>
                </a:lnTo>
                <a:lnTo>
                  <a:pt x="11210" y="158"/>
                </a:lnTo>
                <a:lnTo>
                  <a:pt x="11325" y="132"/>
                </a:lnTo>
                <a:lnTo>
                  <a:pt x="11448" y="185"/>
                </a:lnTo>
                <a:lnTo>
                  <a:pt x="11589" y="141"/>
                </a:lnTo>
                <a:lnTo>
                  <a:pt x="11774" y="202"/>
                </a:lnTo>
                <a:lnTo>
                  <a:pt x="11968" y="220"/>
                </a:lnTo>
                <a:lnTo>
                  <a:pt x="12145" y="141"/>
                </a:lnTo>
                <a:lnTo>
                  <a:pt x="12277" y="167"/>
                </a:lnTo>
                <a:lnTo>
                  <a:pt x="12383" y="149"/>
                </a:lnTo>
                <a:lnTo>
                  <a:pt x="12506" y="211"/>
                </a:lnTo>
                <a:lnTo>
                  <a:pt x="12648" y="185"/>
                </a:lnTo>
                <a:lnTo>
                  <a:pt x="12789" y="149"/>
                </a:lnTo>
                <a:lnTo>
                  <a:pt x="12895" y="114"/>
                </a:lnTo>
                <a:lnTo>
                  <a:pt x="13018" y="97"/>
                </a:lnTo>
                <a:lnTo>
                  <a:pt x="13141" y="141"/>
                </a:lnTo>
                <a:lnTo>
                  <a:pt x="13230" y="141"/>
                </a:lnTo>
                <a:lnTo>
                  <a:pt x="13565" y="185"/>
                </a:lnTo>
                <a:lnTo>
                  <a:pt x="13688" y="141"/>
                </a:lnTo>
                <a:lnTo>
                  <a:pt x="13816" y="141"/>
                </a:lnTo>
                <a:lnTo>
                  <a:pt x="13944" y="211"/>
                </a:lnTo>
                <a:lnTo>
                  <a:pt x="14068" y="238"/>
                </a:lnTo>
                <a:lnTo>
                  <a:pt x="14191" y="246"/>
                </a:lnTo>
                <a:lnTo>
                  <a:pt x="14323" y="255"/>
                </a:lnTo>
                <a:lnTo>
                  <a:pt x="14531" y="141"/>
                </a:lnTo>
                <a:lnTo>
                  <a:pt x="14654" y="141"/>
                </a:lnTo>
                <a:lnTo>
                  <a:pt x="14782" y="180"/>
                </a:lnTo>
                <a:lnTo>
                  <a:pt x="14910" y="180"/>
                </a:lnTo>
                <a:lnTo>
                  <a:pt x="15161" y="180"/>
                </a:lnTo>
                <a:lnTo>
                  <a:pt x="15285" y="180"/>
                </a:lnTo>
                <a:lnTo>
                  <a:pt x="15452" y="180"/>
                </a:lnTo>
                <a:lnTo>
                  <a:pt x="15580" y="180"/>
                </a:lnTo>
                <a:lnTo>
                  <a:pt x="15735" y="202"/>
                </a:lnTo>
                <a:lnTo>
                  <a:pt x="15903" y="246"/>
                </a:lnTo>
                <a:lnTo>
                  <a:pt x="15991" y="246"/>
                </a:lnTo>
                <a:lnTo>
                  <a:pt x="16106" y="220"/>
                </a:lnTo>
                <a:lnTo>
                  <a:pt x="16251" y="224"/>
                </a:lnTo>
                <a:lnTo>
                  <a:pt x="16882" y="264"/>
                </a:lnTo>
                <a:lnTo>
                  <a:pt x="17221" y="264"/>
                </a:lnTo>
                <a:lnTo>
                  <a:pt x="17345" y="264"/>
                </a:lnTo>
                <a:lnTo>
                  <a:pt x="17473" y="264"/>
                </a:lnTo>
                <a:lnTo>
                  <a:pt x="17596" y="264"/>
                </a:lnTo>
                <a:lnTo>
                  <a:pt x="17764" y="224"/>
                </a:lnTo>
                <a:lnTo>
                  <a:pt x="17892" y="180"/>
                </a:lnTo>
                <a:lnTo>
                  <a:pt x="18015" y="141"/>
                </a:lnTo>
                <a:lnTo>
                  <a:pt x="18187" y="132"/>
                </a:lnTo>
                <a:lnTo>
                  <a:pt x="18364" y="176"/>
                </a:lnTo>
                <a:lnTo>
                  <a:pt x="18540" y="158"/>
                </a:lnTo>
                <a:lnTo>
                  <a:pt x="18628" y="114"/>
                </a:lnTo>
                <a:lnTo>
                  <a:pt x="18831" y="97"/>
                </a:lnTo>
                <a:lnTo>
                  <a:pt x="19016" y="88"/>
                </a:lnTo>
                <a:lnTo>
                  <a:pt x="19069" y="79"/>
                </a:lnTo>
                <a:lnTo>
                  <a:pt x="19210" y="70"/>
                </a:lnTo>
                <a:lnTo>
                  <a:pt x="19343" y="70"/>
                </a:lnTo>
                <a:lnTo>
                  <a:pt x="19475" y="52"/>
                </a:lnTo>
                <a:lnTo>
                  <a:pt x="19598" y="79"/>
                </a:lnTo>
                <a:lnTo>
                  <a:pt x="19757" y="105"/>
                </a:lnTo>
                <a:lnTo>
                  <a:pt x="19978" y="52"/>
                </a:lnTo>
                <a:lnTo>
                  <a:pt x="20286" y="0"/>
                </a:lnTo>
                <a:lnTo>
                  <a:pt x="20533" y="17"/>
                </a:lnTo>
                <a:lnTo>
                  <a:pt x="20718" y="35"/>
                </a:lnTo>
                <a:lnTo>
                  <a:pt x="20921" y="70"/>
                </a:lnTo>
                <a:lnTo>
                  <a:pt x="20917" y="4464"/>
                </a:lnTo>
                <a:lnTo>
                  <a:pt x="0" y="4455"/>
                </a:lnTo>
                <a:lnTo>
                  <a:pt x="0" y="114"/>
                </a:lnTo>
                <a:lnTo>
                  <a:pt x="52" y="141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521160" y="1401840"/>
            <a:ext cx="176832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c4c4c"/>
              </a:gs>
            </a:gsLst>
            <a:lin ang="81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5508720" y="117648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827600" y="4713120"/>
            <a:ext cx="2765520" cy="396720"/>
          </a:xfrm>
          <a:prstGeom prst="rect">
            <a:avLst/>
          </a:prstGeom>
          <a:solidFill>
            <a:srgbClr val="919191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atum Feature Simu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2192400" y="3271680"/>
            <a:ext cx="593640" cy="396720"/>
          </a:xfrm>
          <a:prstGeom prst="rect">
            <a:avLst/>
          </a:prstGeom>
          <a:solidFill>
            <a:srgbClr val="919191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266760" y="3903840"/>
            <a:ext cx="8623080" cy="0"/>
            <a:chOff x="266760" y="3903840"/>
            <a:chExt cx="8623080" cy="0"/>
          </a:xfrm>
        </p:grpSpPr>
        <p:sp>
          <p:nvSpPr>
            <p:cNvPr id="571" name=""/>
            <p:cNvSpPr/>
            <p:nvPr/>
          </p:nvSpPr>
          <p:spPr>
            <a:xfrm>
              <a:off x="266760" y="3903840"/>
              <a:ext cx="203832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409840" y="3903840"/>
              <a:ext cx="9036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590920" y="3903840"/>
              <a:ext cx="9036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832120" y="3903840"/>
              <a:ext cx="116028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092480" y="3903840"/>
              <a:ext cx="9072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280040" y="3903840"/>
              <a:ext cx="12060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505400" y="3903840"/>
              <a:ext cx="146196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059520" y="3903840"/>
              <a:ext cx="9036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238800" y="3903840"/>
              <a:ext cx="10656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450120" y="3903840"/>
              <a:ext cx="243972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1" name=""/>
          <p:cNvSpPr/>
          <p:nvPr/>
        </p:nvSpPr>
        <p:spPr>
          <a:xfrm flipV="1">
            <a:off x="360360" y="2400480"/>
            <a:ext cx="1244520" cy="14968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617840" y="2392200"/>
            <a:ext cx="166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397480" y="2390760"/>
            <a:ext cx="1810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5029200" y="2389320"/>
            <a:ext cx="549360" cy="1400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3664080" y="2171520"/>
            <a:ext cx="1700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um Fe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1825560" y="2198520"/>
            <a:ext cx="1749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um Plane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8381880" y="2641680"/>
            <a:ext cx="257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8207280" y="2643120"/>
            <a:ext cx="432000" cy="1190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5629320" y="2428920"/>
            <a:ext cx="27939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ulated Datum Fe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762120" y="15228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lanar Datum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681120" y="2243160"/>
            <a:ext cx="8001000" cy="27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asurements from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oretica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atums cannot be verified.  Theoretical datums are </a:t>
            </a:r>
            <a:r>
              <a:rPr b="0" i="1" lang="en-US" sz="28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assum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exist.  They are established by bringing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tual part feature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o contact with </a:t>
            </a:r>
            <a:r>
              <a:rPr b="0" i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simulat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oling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gage surface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rocess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nspec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quip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1878120" y="1209600"/>
            <a:ext cx="58374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 u="sng">
                <a:solidFill>
                  <a:srgbClr val="fc0128"/>
                </a:solidFill>
                <a:uFillTx/>
                <a:latin typeface="Times New Roman"/>
                <a:ea typeface="Times New Roman"/>
              </a:rPr>
              <a:t>CONCEPTS TO CLING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698400" y="2243160"/>
            <a:ext cx="779004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ufacturing equipment used in the production of parts is not geometrically perfect.  Tools used in the inspection process (including precision gages) are likewise imperfect.  However, they </a:t>
            </a:r>
            <a:r>
              <a:rPr b="0" lang="en-US" sz="28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ar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ufficently accurate to ensure that planes and data derived from them can adequately simulate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ums and verify that dimensional data is within specified lim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1878120" y="1209600"/>
            <a:ext cx="58374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 u="sng">
                <a:solidFill>
                  <a:srgbClr val="fc0128"/>
                </a:solidFill>
                <a:uFillTx/>
                <a:latin typeface="Times New Roman"/>
                <a:ea typeface="Times New Roman"/>
              </a:rPr>
              <a:t>CONCEPTS TO CLING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685800" y="2263680"/>
            <a:ext cx="7772400" cy="290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ilarly, chucks, collets, ring and plug gages, and internal mandrels are not perfect cylinders, but their precision is such that thei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x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ca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present or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imulate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datum axes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can therefore be used to verify dimensional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1878120" y="1209600"/>
            <a:ext cx="58374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 u="sng">
                <a:solidFill>
                  <a:srgbClr val="fc0128"/>
                </a:solidFill>
                <a:uFillTx/>
                <a:latin typeface="Times New Roman"/>
                <a:ea typeface="Times New Roman"/>
              </a:rPr>
              <a:t>CONCEPTS TO CLING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700200" y="1859040"/>
            <a:ext cx="803592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ums are used primarily to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osi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 part for checking geometric tolerances related to the datum feature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 features that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ien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ocat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art at assembly are in most cases identified as primary datum fea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verification process must be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peatabl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1844640" y="361800"/>
            <a:ext cx="550548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UM FUNCTION 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LECTION CRITE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671400" y="1805040"/>
            <a:ext cx="8012160" cy="46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ums identify the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igi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f specified dimensional relationships between designated (datum) features on the part, and geometrically toleranced featur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riteria for datum selection is usually determined by design requirements coupled with functional relationships between datum features and geometrically toleranced featur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ature size and accessibility are significant factors contributing to datum feature selec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1844640" y="361800"/>
            <a:ext cx="550548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UM FUNCTION 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LECTION CRITE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1609560" y="1130400"/>
            <a:ext cx="58374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 u="sng">
                <a:solidFill>
                  <a:srgbClr val="fd0000"/>
                </a:solidFill>
                <a:uFillTx/>
                <a:latin typeface="Times New Roman"/>
                <a:ea typeface="Times New Roman"/>
              </a:rPr>
              <a:t>CONCEPTS TO CLING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625320" y="2324160"/>
            <a:ext cx="7832880" cy="34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Datum features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 actual part features and are therefore imperfect, whereas  </a:t>
            </a:r>
            <a:r>
              <a:rPr b="0" lang="en-US" sz="28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datum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er-se, are theoretically perfect reference planes or ax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ums are </a:t>
            </a:r>
            <a:r>
              <a:rPr b="0" i="1" lang="en-US" sz="28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simulat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y processing equipment and special g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1609560" y="1130400"/>
            <a:ext cx="58374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 u="sng">
                <a:solidFill>
                  <a:srgbClr val="fd0000"/>
                </a:solidFill>
                <a:uFillTx/>
                <a:latin typeface="Times New Roman"/>
                <a:ea typeface="Times New Roman"/>
              </a:rPr>
              <a:t>CONCEPTS TO CLING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625320" y="2324160"/>
            <a:ext cx="7832880" cy="34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Datum features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 actual part features and are therefore imperfect, whereas  </a:t>
            </a:r>
            <a:r>
              <a:rPr b="0" lang="en-US" sz="28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datum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er-se, are theoretically perfect reference planes or ax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ums are </a:t>
            </a:r>
            <a:r>
              <a:rPr b="0" i="1" lang="en-US" sz="28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simulat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y processing equipment and special g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74840" y="2052720"/>
            <a:ext cx="7937640" cy="2994120"/>
          </a:xfrm>
          <a:prstGeom prst="roundRect">
            <a:avLst/>
          </a:prstGeom>
          <a:noFill/>
          <a:ln w="38160">
            <a:solidFill>
              <a:srgbClr val="ffffff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716040" y="1085760"/>
            <a:ext cx="7772400" cy="22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OMETRIC DIMENSIONING AND TOLERANC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16040" y="3886200"/>
            <a:ext cx="7711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Instructional Multimedia Supplement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613480" y="6408720"/>
            <a:ext cx="2657520" cy="43668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639720" y="2168640"/>
            <a:ext cx="7772400" cy="27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UM  REFERENCE FRA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685800" y="1981080"/>
            <a:ext cx="7983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atum reference fram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used when more than one datum plane is necessary to insure that the process of varifying measurements is repeatable.  A datum reference frame is constructed of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three mutually perpendicular plane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ch provides an origin and direction for verification of dimensional relationshi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1287360" y="657360"/>
            <a:ext cx="6280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UM REFERENCE FR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669960" y="1319040"/>
            <a:ext cx="785016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datum reference frame  is simulated by bringing the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um feature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features critical to the design) into contact with appropriate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um simulator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gages) in a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escribed orde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in such a way a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1287360" y="657360"/>
            <a:ext cx="6280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UM REFERENCE FR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669960" y="1319040"/>
            <a:ext cx="785016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datum reference frame  is simulated by bringing the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um feature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features critical to the design) into contact with appropriate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um simulator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gages) in a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escribed orde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in such a way a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) specifically relate the part to the datum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reference fram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1287360" y="657360"/>
            <a:ext cx="6280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UM REFERENCE FR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669960" y="1319040"/>
            <a:ext cx="785016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datum reference frame  is simulated by bringing the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um feature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features critical to the design) into contact with appropriate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um simulator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gages) in a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escribed orde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in such a way a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) specifically relate the part to the datum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reference fram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) restrict motion of the part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1287360" y="657360"/>
            <a:ext cx="6280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UM REFERENCE FR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669960" y="1319040"/>
            <a:ext cx="785016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datum reference frame  is simulated by bringing the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um feature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features critical to the design) into contact with appropriate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um simulator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gages) in a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escribed orde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in such a way a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) specifically relate the part to the datum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reference fram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) restrict motion of the part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1598760" y="5148360"/>
            <a:ext cx="26622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3) be repea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1287360" y="657360"/>
            <a:ext cx="6280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UM REFERENCE FR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446040" y="3382920"/>
            <a:ext cx="8381880" cy="26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rimary datum feature is first brought into contact with the datum reference fram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503280" y="1566720"/>
            <a:ext cx="823284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making part measurements that are related to a da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ence frame, the part must be brought into contact with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resentative or “simulated” datum reference frame by foll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pecific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1287360" y="657360"/>
            <a:ext cx="6280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UM REFERENCE FR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1523880" y="3254400"/>
            <a:ext cx="4918320" cy="2317680"/>
            <a:chOff x="1523880" y="3254400"/>
            <a:chExt cx="4918320" cy="2317680"/>
          </a:xfrm>
        </p:grpSpPr>
        <p:sp>
          <p:nvSpPr>
            <p:cNvPr id="637" name=""/>
            <p:cNvSpPr/>
            <p:nvPr/>
          </p:nvSpPr>
          <p:spPr>
            <a:xfrm>
              <a:off x="1523880" y="4826160"/>
              <a:ext cx="1619280" cy="745920"/>
            </a:xfrm>
            <a:prstGeom prst="line">
              <a:avLst/>
            </a:prstGeom>
            <a:ln w="25560">
              <a:solidFill>
                <a:srgbClr val="8cf4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3146400" y="4016520"/>
              <a:ext cx="3295800" cy="1542960"/>
            </a:xfrm>
            <a:prstGeom prst="line">
              <a:avLst/>
            </a:prstGeom>
            <a:ln w="25560">
              <a:solidFill>
                <a:srgbClr val="8cf4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V="1">
              <a:off x="1527120" y="3254400"/>
              <a:ext cx="3321000" cy="1558800"/>
            </a:xfrm>
            <a:prstGeom prst="line">
              <a:avLst/>
            </a:prstGeom>
            <a:ln w="25560">
              <a:solidFill>
                <a:srgbClr val="8cf4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842000" y="3268800"/>
              <a:ext cx="1590480" cy="734760"/>
            </a:xfrm>
            <a:prstGeom prst="line">
              <a:avLst/>
            </a:prstGeom>
            <a:ln w="25560">
              <a:solidFill>
                <a:srgbClr val="8cf4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"/>
          <p:cNvSpPr/>
          <p:nvPr/>
        </p:nvSpPr>
        <p:spPr>
          <a:xfrm flipH="1" flipV="1">
            <a:off x="3112920" y="4950000"/>
            <a:ext cx="706680" cy="614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4141800" y="5367240"/>
            <a:ext cx="2597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imary Datum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3819600" y="5564160"/>
            <a:ext cx="338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3036960" y="4873680"/>
            <a:ext cx="77760" cy="777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1287360" y="657360"/>
            <a:ext cx="6280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UM REFERENCE FR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523880" y="4826160"/>
            <a:ext cx="1619280" cy="745920"/>
          </a:xfrm>
          <a:prstGeom prst="line">
            <a:avLst/>
          </a:prstGeom>
          <a:ln w="25560">
            <a:solidFill>
              <a:srgbClr val="8cf4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3146400" y="4016520"/>
            <a:ext cx="3295800" cy="1542960"/>
          </a:xfrm>
          <a:prstGeom prst="line">
            <a:avLst/>
          </a:prstGeom>
          <a:ln w="25560">
            <a:solidFill>
              <a:srgbClr val="8cf4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V="1">
            <a:off x="1527120" y="3254400"/>
            <a:ext cx="3321000" cy="1558800"/>
          </a:xfrm>
          <a:prstGeom prst="line">
            <a:avLst/>
          </a:prstGeom>
          <a:ln w="25560">
            <a:solidFill>
              <a:srgbClr val="8cf4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4842000" y="3268800"/>
            <a:ext cx="1590480" cy="734760"/>
          </a:xfrm>
          <a:prstGeom prst="line">
            <a:avLst/>
          </a:prstGeom>
          <a:ln w="25560">
            <a:solidFill>
              <a:srgbClr val="8cf4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H="1" flipV="1">
            <a:off x="3112920" y="4950000"/>
            <a:ext cx="706680" cy="614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4141800" y="5367240"/>
            <a:ext cx="2597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imary Datum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3819600" y="5564160"/>
            <a:ext cx="338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036960" y="4873680"/>
            <a:ext cx="77760" cy="777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3086280" y="3398760"/>
            <a:ext cx="2622240" cy="1397160"/>
            <a:chOff x="3086280" y="3398760"/>
            <a:chExt cx="2622240" cy="1397160"/>
          </a:xfrm>
        </p:grpSpPr>
        <p:sp>
          <p:nvSpPr>
            <p:cNvPr id="656" name=""/>
            <p:cNvSpPr/>
            <p:nvPr/>
          </p:nvSpPr>
          <p:spPr>
            <a:xfrm>
              <a:off x="4818240" y="3398760"/>
              <a:ext cx="890280" cy="384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>
              <a:off x="3097080" y="3400560"/>
              <a:ext cx="1721160" cy="782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708520" y="3797280"/>
              <a:ext cx="0" cy="200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4049640" y="4657680"/>
              <a:ext cx="276120" cy="1382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 flipV="1">
              <a:off x="3086280" y="4390920"/>
              <a:ext cx="963360" cy="405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3094200" y="4183200"/>
              <a:ext cx="0" cy="2206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097080" y="4189320"/>
              <a:ext cx="936720" cy="392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033800" y="4565520"/>
              <a:ext cx="0" cy="230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4032360" y="4411800"/>
              <a:ext cx="309600" cy="160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340160" y="4425840"/>
              <a:ext cx="0" cy="230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5384880" y="4010040"/>
              <a:ext cx="307800" cy="1540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369040" y="3933720"/>
              <a:ext cx="0" cy="230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>
              <a:off x="5367240" y="3780000"/>
              <a:ext cx="309600" cy="160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>
              <a:off x="4341960" y="3935520"/>
              <a:ext cx="1028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341960" y="3935520"/>
              <a:ext cx="0" cy="507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4341960" y="4167360"/>
              <a:ext cx="10443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"/>
          <p:cNvSpPr txBox="1"/>
          <p:nvPr/>
        </p:nvSpPr>
        <p:spPr>
          <a:xfrm>
            <a:off x="5595840" y="4838760"/>
            <a:ext cx="649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flipH="1" flipV="1">
            <a:off x="4925880" y="4181400"/>
            <a:ext cx="700200" cy="854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1287360" y="657360"/>
            <a:ext cx="6280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UM REFERENCE FR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446040" y="3382920"/>
            <a:ext cx="8381880" cy="26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The primary datum feature is first brought into contact with the datum reference fram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econdary datum feature is next positioned with reference to the datum reference fram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503280" y="1566720"/>
            <a:ext cx="823284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When making part measurements that are related to a da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reference frame, the part must be brought into contact with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representative or “simulated” datum reference frame by foll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a specific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1287360" y="657360"/>
            <a:ext cx="6280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UM REFERENCE FR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85800" y="1023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UMS AND DATUM REFERENCIN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613480" y="6408720"/>
            <a:ext cx="2657520" cy="43668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523880" y="5016600"/>
            <a:ext cx="1619280" cy="745920"/>
          </a:xfrm>
          <a:prstGeom prst="line">
            <a:avLst/>
          </a:prstGeom>
          <a:ln w="25560">
            <a:solidFill>
              <a:srgbClr val="8cf4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 flipV="1">
            <a:off x="3146400" y="4206960"/>
            <a:ext cx="3295800" cy="1542960"/>
          </a:xfrm>
          <a:prstGeom prst="line">
            <a:avLst/>
          </a:prstGeom>
          <a:ln w="25560">
            <a:solidFill>
              <a:srgbClr val="8cf4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1527120" y="3619440"/>
            <a:ext cx="2951280" cy="1384200"/>
          </a:xfrm>
          <a:prstGeom prst="line">
            <a:avLst/>
          </a:prstGeom>
          <a:ln w="25560">
            <a:solidFill>
              <a:srgbClr val="8cf4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454640" y="2252520"/>
            <a:ext cx="1619280" cy="757440"/>
          </a:xfrm>
          <a:prstGeom prst="line">
            <a:avLst/>
          </a:prstGeom>
          <a:ln w="2556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089760" y="3009960"/>
            <a:ext cx="0" cy="1689120"/>
          </a:xfrm>
          <a:prstGeom prst="line">
            <a:avLst/>
          </a:prstGeom>
          <a:ln w="2556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4454640" y="2263680"/>
            <a:ext cx="0" cy="1371600"/>
          </a:xfrm>
          <a:prstGeom prst="line">
            <a:avLst/>
          </a:prstGeom>
          <a:ln w="2556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095880" y="4038480"/>
            <a:ext cx="336600" cy="155520"/>
          </a:xfrm>
          <a:prstGeom prst="line">
            <a:avLst/>
          </a:prstGeom>
          <a:ln w="25560">
            <a:solidFill>
              <a:srgbClr val="8cf4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6524640" y="3778200"/>
            <a:ext cx="76212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071760" y="2494800"/>
            <a:ext cx="1119960" cy="1299600"/>
          </a:xfrm>
          <a:custGeom>
            <a:avLst/>
            <a:gdLst/>
            <a:ahLst/>
            <a:rect l="0" t="0" r="r" b="b"/>
            <a:pathLst>
              <a:path fill="none" w="3111" h="3610">
                <a:moveTo>
                  <a:pt x="3111" y="3610"/>
                </a:moveTo>
                <a:lnTo>
                  <a:pt x="3111" y="3610"/>
                </a:lnTo>
                <a:cubicBezTo>
                  <a:pt x="3111" y="2960"/>
                  <a:pt x="2926" y="2321"/>
                  <a:pt x="2573" y="1758"/>
                </a:cubicBezTo>
                <a:cubicBezTo>
                  <a:pt x="2221" y="1194"/>
                  <a:pt x="1714" y="727"/>
                  <a:pt x="1104" y="402"/>
                </a:cubicBezTo>
                <a:cubicBezTo>
                  <a:pt x="760" y="218"/>
                  <a:pt x="388" y="83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6095880" y="2406600"/>
            <a:ext cx="0" cy="514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429240" y="2805120"/>
            <a:ext cx="666720" cy="322200"/>
          </a:xfrm>
          <a:prstGeom prst="rect">
            <a:avLst/>
          </a:prstGeom>
          <a:solidFill>
            <a:srgbClr val="114ff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6505560" y="2809800"/>
            <a:ext cx="387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6835680" y="2874960"/>
            <a:ext cx="63360" cy="61920"/>
          </a:xfrm>
          <a:prstGeom prst="ellipse">
            <a:avLst/>
          </a:prstGeom>
          <a:solidFill>
            <a:srgbClr val="114ff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5075280" y="4448160"/>
            <a:ext cx="1560960" cy="752760"/>
          </a:xfrm>
          <a:custGeom>
            <a:avLst/>
            <a:gdLst/>
            <a:ahLst/>
            <a:rect l="0" t="0" r="r" b="b"/>
            <a:pathLst>
              <a:path w="4336" h="2091">
                <a:moveTo>
                  <a:pt x="0" y="1773"/>
                </a:moveTo>
                <a:lnTo>
                  <a:pt x="224" y="1663"/>
                </a:lnTo>
                <a:lnTo>
                  <a:pt x="3269" y="1200"/>
                </a:lnTo>
                <a:lnTo>
                  <a:pt x="3269" y="304"/>
                </a:lnTo>
                <a:lnTo>
                  <a:pt x="3565" y="101"/>
                </a:lnTo>
                <a:lnTo>
                  <a:pt x="3759" y="0"/>
                </a:lnTo>
                <a:lnTo>
                  <a:pt x="4336" y="418"/>
                </a:lnTo>
                <a:lnTo>
                  <a:pt x="4129" y="1703"/>
                </a:lnTo>
                <a:lnTo>
                  <a:pt x="1323" y="2091"/>
                </a:lnTo>
                <a:lnTo>
                  <a:pt x="0" y="1773"/>
                </a:lnTo>
                <a:close/>
              </a:path>
            </a:pathLst>
          </a:custGeom>
          <a:solidFill>
            <a:srgbClr val="114ff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5715000" y="4179960"/>
            <a:ext cx="358920" cy="16344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4449600" y="3619440"/>
            <a:ext cx="168480" cy="7632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4818240" y="3589200"/>
            <a:ext cx="890280" cy="384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3097080" y="3591000"/>
            <a:ext cx="1721160" cy="782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708520" y="3987720"/>
            <a:ext cx="0" cy="200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 flipH="1">
            <a:off x="4049640" y="4848120"/>
            <a:ext cx="276120" cy="138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flipH="1" flipV="1">
            <a:off x="3086280" y="4581360"/>
            <a:ext cx="963360" cy="405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3094200" y="4373640"/>
            <a:ext cx="0" cy="220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097080" y="4379760"/>
            <a:ext cx="936720" cy="392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4033800" y="4756320"/>
            <a:ext cx="0" cy="230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4032360" y="4602240"/>
            <a:ext cx="309600" cy="160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340160" y="4616280"/>
            <a:ext cx="0" cy="230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5384880" y="4200480"/>
            <a:ext cx="307800" cy="154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5369040" y="4124160"/>
            <a:ext cx="0" cy="230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flipH="1">
            <a:off x="5367240" y="3970440"/>
            <a:ext cx="309600" cy="160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 flipH="1">
            <a:off x="4341960" y="4125960"/>
            <a:ext cx="1028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4341960" y="4125960"/>
            <a:ext cx="0" cy="507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4341960" y="4357800"/>
            <a:ext cx="1044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H="1" flipV="1">
            <a:off x="3112920" y="5140440"/>
            <a:ext cx="706680" cy="614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4141800" y="5557680"/>
            <a:ext cx="2597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imary Datum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H="1">
            <a:off x="3819600" y="5754600"/>
            <a:ext cx="338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036960" y="5046840"/>
            <a:ext cx="77760" cy="777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6168960" y="1855800"/>
            <a:ext cx="28083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econdary Datum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5892840" y="2036880"/>
            <a:ext cx="2458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5365800" y="2031840"/>
            <a:ext cx="527040" cy="1141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5326200" y="3138480"/>
            <a:ext cx="77760" cy="7920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5595840" y="5029200"/>
            <a:ext cx="649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H="1" flipV="1">
            <a:off x="4925880" y="4371840"/>
            <a:ext cx="700200" cy="854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 flipH="1" flipV="1">
            <a:off x="5800680" y="4541760"/>
            <a:ext cx="292320" cy="152640"/>
          </a:xfrm>
          <a:prstGeom prst="line">
            <a:avLst/>
          </a:prstGeom>
          <a:ln w="2556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1287360" y="657360"/>
            <a:ext cx="6280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UM REFERENCE FR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446040" y="3382920"/>
            <a:ext cx="8381880" cy="26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The primary datum feature is first brought into contact with the datum reference fram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The secondary datum feature is next positioned with reference to the datum reference fram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ally, the</a:t>
            </a:r>
            <a:r>
              <a:rPr b="0" lang="en-US" sz="2400" spc="-1" strike="noStrike">
                <a:solidFill>
                  <a:srgbClr val="fd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ertiar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atum</a:t>
            </a:r>
            <a:r>
              <a:rPr b="0" lang="en-US" sz="2400" spc="-1" strike="noStrike">
                <a:solidFill>
                  <a:srgbClr val="fd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ature</a:t>
            </a:r>
            <a:r>
              <a:rPr b="0" lang="en-US" sz="2400" spc="-1" strike="noStrike">
                <a:solidFill>
                  <a:srgbClr val="fd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brought into contact with the datum reference fr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503280" y="1566720"/>
            <a:ext cx="823284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When making part measurements that are related to a da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reference frame, the part must be brought into contact with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representative or “simulated” datum reference frame by foll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a specific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1287360" y="657360"/>
            <a:ext cx="6280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UM REFERENCE FR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1841400" y="3841920"/>
            <a:ext cx="0" cy="16984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1841400" y="2270160"/>
            <a:ext cx="3359160" cy="15717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826160" y="2444760"/>
            <a:ext cx="0" cy="1114560"/>
          </a:xfrm>
          <a:prstGeom prst="line">
            <a:avLst/>
          </a:prstGeom>
          <a:ln w="12600">
            <a:solidFill>
              <a:srgbClr val="00df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1835280" y="4587840"/>
            <a:ext cx="1241280" cy="581040"/>
          </a:xfrm>
          <a:prstGeom prst="line">
            <a:avLst/>
          </a:prstGeom>
          <a:ln w="12600">
            <a:solidFill>
              <a:srgbClr val="00df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1844640" y="5365800"/>
            <a:ext cx="384120" cy="17784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454640" y="2263680"/>
            <a:ext cx="1619280" cy="746280"/>
          </a:xfrm>
          <a:prstGeom prst="line">
            <a:avLst/>
          </a:prstGeom>
          <a:ln w="2556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454640" y="2260440"/>
            <a:ext cx="0" cy="339840"/>
          </a:xfrm>
          <a:prstGeom prst="line">
            <a:avLst/>
          </a:prstGeom>
          <a:ln w="2556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200560" y="2263680"/>
            <a:ext cx="0" cy="3207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740560" y="4556160"/>
            <a:ext cx="358560" cy="162000"/>
          </a:xfrm>
          <a:prstGeom prst="line">
            <a:avLst/>
          </a:prstGeom>
          <a:ln w="2556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6524640" y="3794040"/>
            <a:ext cx="76212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5280120" y="1835280"/>
            <a:ext cx="76176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 flipH="1" flipV="1">
            <a:off x="3492360" y="1809720"/>
            <a:ext cx="889200" cy="412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1841400" y="2936880"/>
            <a:ext cx="0" cy="809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H="1" flipV="1">
            <a:off x="431640" y="4492800"/>
            <a:ext cx="1013040" cy="475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6071760" y="2510640"/>
            <a:ext cx="1119960" cy="1299600"/>
          </a:xfrm>
          <a:custGeom>
            <a:avLst/>
            <a:gdLst/>
            <a:ahLst/>
            <a:rect l="0" t="0" r="r" b="b"/>
            <a:pathLst>
              <a:path fill="none" w="3111" h="3610">
                <a:moveTo>
                  <a:pt x="3111" y="3610"/>
                </a:moveTo>
                <a:lnTo>
                  <a:pt x="3111" y="3610"/>
                </a:lnTo>
                <a:cubicBezTo>
                  <a:pt x="3111" y="2960"/>
                  <a:pt x="2926" y="2321"/>
                  <a:pt x="2573" y="1758"/>
                </a:cubicBezTo>
                <a:cubicBezTo>
                  <a:pt x="2221" y="1194"/>
                  <a:pt x="1714" y="727"/>
                  <a:pt x="1104" y="402"/>
                </a:cubicBezTo>
                <a:cubicBezTo>
                  <a:pt x="760" y="218"/>
                  <a:pt x="388" y="83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6095880" y="2413080"/>
            <a:ext cx="0" cy="507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4746600" y="1762200"/>
            <a:ext cx="972360" cy="239040"/>
          </a:xfrm>
          <a:custGeom>
            <a:avLst/>
            <a:gdLst/>
            <a:ahLst/>
            <a:rect l="0" t="0" r="r" b="b"/>
            <a:pathLst>
              <a:path fill="none" w="2701" h="664">
                <a:moveTo>
                  <a:pt x="2701" y="664"/>
                </a:moveTo>
                <a:lnTo>
                  <a:pt x="2701" y="664"/>
                </a:lnTo>
                <a:cubicBezTo>
                  <a:pt x="2424" y="471"/>
                  <a:pt x="2051" y="311"/>
                  <a:pt x="1611" y="196"/>
                </a:cubicBezTo>
                <a:cubicBezTo>
                  <a:pt x="1121" y="67"/>
                  <a:pt x="566" y="0"/>
                  <a:pt x="0" y="0"/>
                </a:cubicBez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827160" y="1755720"/>
            <a:ext cx="913680" cy="201600"/>
          </a:xfrm>
          <a:custGeom>
            <a:avLst/>
            <a:gdLst/>
            <a:ahLst/>
            <a:rect l="0" t="0" r="r" b="b"/>
            <a:pathLst>
              <a:path fill="none" w="2538" h="560">
                <a:moveTo>
                  <a:pt x="2538" y="0"/>
                </a:moveTo>
                <a:lnTo>
                  <a:pt x="2538" y="0"/>
                </a:lnTo>
                <a:cubicBezTo>
                  <a:pt x="1973" y="0"/>
                  <a:pt x="1417" y="67"/>
                  <a:pt x="927" y="195"/>
                </a:cubicBezTo>
                <a:cubicBezTo>
                  <a:pt x="569" y="289"/>
                  <a:pt x="255" y="413"/>
                  <a:pt x="0" y="560"/>
                </a:cubicBez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555480" y="3063960"/>
            <a:ext cx="1270440" cy="1476720"/>
          </a:xfrm>
          <a:custGeom>
            <a:avLst/>
            <a:gdLst/>
            <a:ahLst/>
            <a:rect l="0" t="0" r="r" b="b"/>
            <a:pathLst>
              <a:path fill="none" w="3529" h="4102">
                <a:moveTo>
                  <a:pt x="3529" y="0"/>
                </a:moveTo>
                <a:lnTo>
                  <a:pt x="3529" y="0"/>
                </a:lnTo>
                <a:cubicBezTo>
                  <a:pt x="2910" y="0"/>
                  <a:pt x="2301" y="190"/>
                  <a:pt x="1764" y="550"/>
                </a:cubicBezTo>
                <a:cubicBezTo>
                  <a:pt x="1228" y="910"/>
                  <a:pt x="783" y="1427"/>
                  <a:pt x="473" y="2051"/>
                </a:cubicBezTo>
                <a:cubicBezTo>
                  <a:pt x="163" y="2675"/>
                  <a:pt x="0" y="3382"/>
                  <a:pt x="0" y="4102"/>
                </a:cubicBezTo>
              </a:path>
            </a:pathLst>
          </a:cu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6429240" y="2809800"/>
            <a:ext cx="666720" cy="317520"/>
          </a:xfrm>
          <a:prstGeom prst="rect">
            <a:avLst/>
          </a:prstGeom>
          <a:solidFill>
            <a:srgbClr val="114ff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429080" y="1619280"/>
            <a:ext cx="682560" cy="317520"/>
          </a:xfrm>
          <a:prstGeom prst="rect">
            <a:avLst/>
          </a:prstGeom>
          <a:solidFill>
            <a:srgbClr val="114ff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555480" y="3365640"/>
            <a:ext cx="587520" cy="317520"/>
          </a:xfrm>
          <a:prstGeom prst="rect">
            <a:avLst/>
          </a:prstGeom>
          <a:solidFill>
            <a:srgbClr val="114ff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6505560" y="2819520"/>
            <a:ext cx="387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835680" y="2882880"/>
            <a:ext cx="63360" cy="63360"/>
          </a:xfrm>
          <a:prstGeom prst="ellipse">
            <a:avLst/>
          </a:prstGeom>
          <a:solidFill>
            <a:srgbClr val="114ff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655560" y="3359160"/>
            <a:ext cx="387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1000080" y="3429000"/>
            <a:ext cx="63360" cy="63360"/>
          </a:xfrm>
          <a:prstGeom prst="ellipse">
            <a:avLst/>
          </a:prstGeom>
          <a:solidFill>
            <a:srgbClr val="114ff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4505400" y="1628640"/>
            <a:ext cx="387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813200" y="1670040"/>
            <a:ext cx="63360" cy="63360"/>
          </a:xfrm>
          <a:prstGeom prst="ellipse">
            <a:avLst/>
          </a:prstGeom>
          <a:solidFill>
            <a:srgbClr val="114ff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2162160" y="2209680"/>
            <a:ext cx="18637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rtiary Dat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928960" y="2698920"/>
            <a:ext cx="2142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3159000" y="2698920"/>
            <a:ext cx="541440" cy="541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3678120" y="3224160"/>
            <a:ext cx="77760" cy="777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5295960" y="4359240"/>
            <a:ext cx="703800" cy="122760"/>
          </a:xfrm>
          <a:custGeom>
            <a:avLst/>
            <a:gdLst/>
            <a:ahLst/>
            <a:rect l="0" t="0" r="r" b="b"/>
            <a:pathLst>
              <a:path w="1955" h="341">
                <a:moveTo>
                  <a:pt x="379" y="0"/>
                </a:moveTo>
                <a:lnTo>
                  <a:pt x="0" y="181"/>
                </a:lnTo>
                <a:lnTo>
                  <a:pt x="1549" y="341"/>
                </a:lnTo>
                <a:lnTo>
                  <a:pt x="1955" y="146"/>
                </a:lnTo>
                <a:lnTo>
                  <a:pt x="379" y="0"/>
                </a:lnTo>
                <a:close/>
              </a:path>
            </a:pathLst>
          </a:custGeom>
          <a:solidFill>
            <a:srgbClr val="114ff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5718240" y="4154400"/>
            <a:ext cx="354240" cy="132120"/>
          </a:xfrm>
          <a:custGeom>
            <a:avLst/>
            <a:gdLst/>
            <a:ahLst/>
            <a:rect l="0" t="0" r="r" b="b"/>
            <a:pathLst>
              <a:path w="984" h="367">
                <a:moveTo>
                  <a:pt x="0" y="0"/>
                </a:moveTo>
                <a:lnTo>
                  <a:pt x="4" y="105"/>
                </a:lnTo>
                <a:lnTo>
                  <a:pt x="984" y="367"/>
                </a:lnTo>
                <a:lnTo>
                  <a:pt x="984" y="132"/>
                </a:lnTo>
                <a:lnTo>
                  <a:pt x="0" y="0"/>
                </a:lnTo>
                <a:close/>
              </a:path>
            </a:pathLst>
          </a:custGeom>
          <a:solidFill>
            <a:srgbClr val="114ff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4923000" y="4311720"/>
            <a:ext cx="1560960" cy="752760"/>
          </a:xfrm>
          <a:custGeom>
            <a:avLst/>
            <a:gdLst/>
            <a:ahLst/>
            <a:rect l="0" t="0" r="r" b="b"/>
            <a:pathLst>
              <a:path w="4336" h="2091">
                <a:moveTo>
                  <a:pt x="0" y="1773"/>
                </a:moveTo>
                <a:lnTo>
                  <a:pt x="224" y="1663"/>
                </a:lnTo>
                <a:lnTo>
                  <a:pt x="3269" y="1200"/>
                </a:lnTo>
                <a:lnTo>
                  <a:pt x="3269" y="304"/>
                </a:lnTo>
                <a:lnTo>
                  <a:pt x="3565" y="101"/>
                </a:lnTo>
                <a:lnTo>
                  <a:pt x="3759" y="0"/>
                </a:lnTo>
                <a:lnTo>
                  <a:pt x="4336" y="418"/>
                </a:lnTo>
                <a:lnTo>
                  <a:pt x="4129" y="1703"/>
                </a:lnTo>
                <a:lnTo>
                  <a:pt x="1323" y="2091"/>
                </a:lnTo>
                <a:lnTo>
                  <a:pt x="0" y="1773"/>
                </a:lnTo>
                <a:close/>
              </a:path>
            </a:pathLst>
          </a:custGeom>
          <a:solidFill>
            <a:srgbClr val="114ff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376960" y="4629240"/>
            <a:ext cx="622800" cy="190800"/>
          </a:xfrm>
          <a:custGeom>
            <a:avLst/>
            <a:gdLst/>
            <a:ahLst/>
            <a:rect l="0" t="0" r="r" b="b"/>
            <a:pathLst>
              <a:path w="1730" h="530">
                <a:moveTo>
                  <a:pt x="0" y="296"/>
                </a:moveTo>
                <a:lnTo>
                  <a:pt x="370" y="119"/>
                </a:lnTo>
                <a:lnTo>
                  <a:pt x="1377" y="0"/>
                </a:lnTo>
                <a:lnTo>
                  <a:pt x="1730" y="158"/>
                </a:lnTo>
                <a:lnTo>
                  <a:pt x="490" y="530"/>
                </a:lnTo>
                <a:lnTo>
                  <a:pt x="0" y="296"/>
                </a:lnTo>
                <a:close/>
              </a:path>
            </a:pathLst>
          </a:custGeom>
          <a:solidFill>
            <a:srgbClr val="114ff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6100920" y="4233960"/>
            <a:ext cx="176400" cy="90720"/>
          </a:xfrm>
          <a:custGeom>
            <a:avLst/>
            <a:gdLst/>
            <a:ahLst/>
            <a:rect l="0" t="0" r="r" b="b"/>
            <a:pathLst>
              <a:path w="490" h="252">
                <a:moveTo>
                  <a:pt x="0" y="0"/>
                </a:moveTo>
                <a:lnTo>
                  <a:pt x="8" y="186"/>
                </a:lnTo>
                <a:lnTo>
                  <a:pt x="261" y="252"/>
                </a:lnTo>
                <a:lnTo>
                  <a:pt x="490" y="133"/>
                </a:lnTo>
                <a:lnTo>
                  <a:pt x="0" y="0"/>
                </a:lnTo>
                <a:close/>
              </a:path>
            </a:pathLst>
          </a:custGeom>
          <a:solidFill>
            <a:srgbClr val="114ff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5856120" y="4406760"/>
            <a:ext cx="219600" cy="284400"/>
          </a:xfrm>
          <a:custGeom>
            <a:avLst/>
            <a:gdLst/>
            <a:ahLst/>
            <a:rect l="0" t="0" r="r" b="b"/>
            <a:pathLst>
              <a:path w="610" h="790">
                <a:moveTo>
                  <a:pt x="0" y="291"/>
                </a:moveTo>
                <a:lnTo>
                  <a:pt x="601" y="0"/>
                </a:lnTo>
                <a:lnTo>
                  <a:pt x="610" y="790"/>
                </a:lnTo>
                <a:lnTo>
                  <a:pt x="243" y="622"/>
                </a:lnTo>
                <a:lnTo>
                  <a:pt x="0" y="291"/>
                </a:lnTo>
                <a:close/>
              </a:path>
            </a:pathLst>
          </a:custGeom>
          <a:solidFill>
            <a:srgbClr val="114ff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5927760" y="4635360"/>
            <a:ext cx="71640" cy="47880"/>
          </a:xfrm>
          <a:custGeom>
            <a:avLst/>
            <a:gdLst/>
            <a:ahLst/>
            <a:rect l="0" t="0" r="r" b="b"/>
            <a:pathLst>
              <a:path w="199" h="133">
                <a:moveTo>
                  <a:pt x="0" y="48"/>
                </a:moveTo>
                <a:lnTo>
                  <a:pt x="199" y="133"/>
                </a:lnTo>
                <a:lnTo>
                  <a:pt x="190" y="61"/>
                </a:lnTo>
                <a:lnTo>
                  <a:pt x="57" y="0"/>
                </a:lnTo>
                <a:lnTo>
                  <a:pt x="0" y="48"/>
                </a:lnTo>
                <a:close/>
              </a:path>
            </a:pathLst>
          </a:custGeom>
          <a:solidFill>
            <a:srgbClr val="fd0000"/>
          </a:solidFill>
          <a:ln w="0">
            <a:noFill/>
          </a:ln>
        </p:spPr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715000" y="4195800"/>
            <a:ext cx="358920" cy="163440"/>
          </a:xfrm>
          <a:prstGeom prst="line">
            <a:avLst/>
          </a:prstGeom>
          <a:ln w="12600">
            <a:solidFill>
              <a:srgbClr val="00df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1523880" y="4054320"/>
            <a:ext cx="4918320" cy="1724040"/>
            <a:chOff x="1523880" y="4054320"/>
            <a:chExt cx="4918320" cy="1724040"/>
          </a:xfrm>
        </p:grpSpPr>
        <p:sp>
          <p:nvSpPr>
            <p:cNvPr id="770" name=""/>
            <p:cNvSpPr/>
            <p:nvPr/>
          </p:nvSpPr>
          <p:spPr>
            <a:xfrm>
              <a:off x="1523880" y="5032440"/>
              <a:ext cx="1619280" cy="745920"/>
            </a:xfrm>
            <a:prstGeom prst="line">
              <a:avLst/>
            </a:prstGeom>
            <a:ln w="255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 flipV="1">
              <a:off x="1527120" y="4871880"/>
              <a:ext cx="314280" cy="147960"/>
            </a:xfrm>
            <a:prstGeom prst="line">
              <a:avLst/>
            </a:prstGeom>
            <a:ln w="255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095880" y="4054320"/>
              <a:ext cx="336600" cy="155880"/>
            </a:xfrm>
            <a:prstGeom prst="line">
              <a:avLst/>
            </a:prstGeom>
            <a:ln w="255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>
              <a:off x="3146400" y="4222800"/>
              <a:ext cx="3295800" cy="1542960"/>
            </a:xfrm>
            <a:prstGeom prst="line">
              <a:avLst/>
            </a:prstGeom>
            <a:ln w="255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"/>
          <p:cNvSpPr/>
          <p:nvPr/>
        </p:nvSpPr>
        <p:spPr>
          <a:xfrm>
            <a:off x="6089760" y="3025800"/>
            <a:ext cx="0" cy="1689120"/>
          </a:xfrm>
          <a:prstGeom prst="line">
            <a:avLst/>
          </a:prstGeom>
          <a:ln w="2556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 flipH="1" flipV="1">
            <a:off x="5786280" y="4573440"/>
            <a:ext cx="306720" cy="138240"/>
          </a:xfrm>
          <a:prstGeom prst="line">
            <a:avLst/>
          </a:prstGeom>
          <a:ln w="2556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6" name=""/>
          <p:cNvGrpSpPr/>
          <p:nvPr/>
        </p:nvGrpSpPr>
        <p:grpSpPr>
          <a:xfrm>
            <a:off x="3086280" y="3605040"/>
            <a:ext cx="2622240" cy="1397160"/>
            <a:chOff x="3086280" y="3605040"/>
            <a:chExt cx="2622240" cy="1397160"/>
          </a:xfrm>
        </p:grpSpPr>
        <p:sp>
          <p:nvSpPr>
            <p:cNvPr id="777" name=""/>
            <p:cNvSpPr/>
            <p:nvPr/>
          </p:nvSpPr>
          <p:spPr>
            <a:xfrm>
              <a:off x="4818240" y="3605040"/>
              <a:ext cx="890280" cy="384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3097080" y="3606840"/>
              <a:ext cx="1721160" cy="782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708520" y="4003560"/>
              <a:ext cx="0" cy="200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4049640" y="4863960"/>
              <a:ext cx="276120" cy="1382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 flipV="1">
              <a:off x="3086280" y="4597560"/>
              <a:ext cx="963360" cy="404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>
              <a:off x="3094200" y="4389480"/>
              <a:ext cx="0" cy="2206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097080" y="4395960"/>
              <a:ext cx="936720" cy="392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033800" y="4772160"/>
              <a:ext cx="0" cy="230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4032360" y="4618080"/>
              <a:ext cx="309600" cy="160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340160" y="4632480"/>
              <a:ext cx="0" cy="230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5384880" y="4216320"/>
              <a:ext cx="307800" cy="1540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369040" y="4140360"/>
              <a:ext cx="0" cy="230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>
              <a:off x="5367240" y="3986280"/>
              <a:ext cx="309600" cy="160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 flipH="1">
              <a:off x="4341960" y="4141800"/>
              <a:ext cx="1028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341960" y="4141800"/>
              <a:ext cx="0" cy="507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4341960" y="4373640"/>
              <a:ext cx="10443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3" name=""/>
          <p:cNvSpPr/>
          <p:nvPr/>
        </p:nvSpPr>
        <p:spPr>
          <a:xfrm flipH="1" flipV="1">
            <a:off x="3112920" y="5156280"/>
            <a:ext cx="706680" cy="614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4141800" y="5573880"/>
            <a:ext cx="2597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imary Datum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H="1">
            <a:off x="3819600" y="5770440"/>
            <a:ext cx="338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3036960" y="5062680"/>
            <a:ext cx="77760" cy="777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6168960" y="1871640"/>
            <a:ext cx="28083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econdary Datum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 flipH="1">
            <a:off x="5892840" y="2052720"/>
            <a:ext cx="2458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 flipH="1">
            <a:off x="5365800" y="2048040"/>
            <a:ext cx="527040" cy="1141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5326200" y="3154320"/>
            <a:ext cx="77760" cy="7920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5595840" y="5045040"/>
            <a:ext cx="649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 flipH="1" flipV="1">
            <a:off x="4925880" y="4387680"/>
            <a:ext cx="700200" cy="854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1287360" y="657360"/>
            <a:ext cx="6280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UM REFERENCE FR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5038560" y="5627520"/>
            <a:ext cx="366084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on of measurement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pendicular to the plane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ch the measurement origin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111480" y="5000760"/>
            <a:ext cx="238320" cy="11088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3127320" y="5000760"/>
            <a:ext cx="222480" cy="11088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3222720" y="4079880"/>
            <a:ext cx="0" cy="984240"/>
          </a:xfrm>
          <a:prstGeom prst="line">
            <a:avLst/>
          </a:prstGeom>
          <a:ln w="1260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3222720" y="5746680"/>
            <a:ext cx="0" cy="397080"/>
          </a:xfrm>
          <a:prstGeom prst="line">
            <a:avLst/>
          </a:prstGeom>
          <a:ln w="1260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1287360" y="657360"/>
            <a:ext cx="6280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UM REFERENCE FR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1841400" y="3841920"/>
            <a:ext cx="0" cy="16984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 flipV="1">
            <a:off x="1841400" y="2270160"/>
            <a:ext cx="3359160" cy="15717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826160" y="2444760"/>
            <a:ext cx="0" cy="1114560"/>
          </a:xfrm>
          <a:prstGeom prst="line">
            <a:avLst/>
          </a:prstGeom>
          <a:ln w="12600">
            <a:solidFill>
              <a:srgbClr val="00df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 flipV="1">
            <a:off x="1835280" y="4587840"/>
            <a:ext cx="1241280" cy="581040"/>
          </a:xfrm>
          <a:prstGeom prst="line">
            <a:avLst/>
          </a:prstGeom>
          <a:ln w="12600">
            <a:solidFill>
              <a:srgbClr val="00df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 flipV="1">
            <a:off x="1844640" y="5365800"/>
            <a:ext cx="384120" cy="17784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454640" y="2263680"/>
            <a:ext cx="1619280" cy="746280"/>
          </a:xfrm>
          <a:prstGeom prst="line">
            <a:avLst/>
          </a:prstGeom>
          <a:ln w="2556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454640" y="2260440"/>
            <a:ext cx="0" cy="339840"/>
          </a:xfrm>
          <a:prstGeom prst="line">
            <a:avLst/>
          </a:prstGeom>
          <a:ln w="2556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200560" y="2263680"/>
            <a:ext cx="0" cy="3207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5740560" y="4556160"/>
            <a:ext cx="358560" cy="162000"/>
          </a:xfrm>
          <a:prstGeom prst="line">
            <a:avLst/>
          </a:prstGeom>
          <a:ln w="2556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flipV="1">
            <a:off x="6524640" y="3794040"/>
            <a:ext cx="76212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5280120" y="1835280"/>
            <a:ext cx="76176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 flipH="1" flipV="1">
            <a:off x="3492360" y="1809720"/>
            <a:ext cx="889200" cy="412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1841400" y="2936880"/>
            <a:ext cx="0" cy="809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 flipH="1" flipV="1">
            <a:off x="431640" y="4492800"/>
            <a:ext cx="1013040" cy="475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6071760" y="2510640"/>
            <a:ext cx="1119960" cy="1299600"/>
          </a:xfrm>
          <a:custGeom>
            <a:avLst/>
            <a:gdLst/>
            <a:ahLst/>
            <a:rect l="0" t="0" r="r" b="b"/>
            <a:pathLst>
              <a:path fill="none" w="3111" h="3610">
                <a:moveTo>
                  <a:pt x="3111" y="3610"/>
                </a:moveTo>
                <a:lnTo>
                  <a:pt x="3111" y="3610"/>
                </a:lnTo>
                <a:cubicBezTo>
                  <a:pt x="3111" y="2960"/>
                  <a:pt x="2926" y="2321"/>
                  <a:pt x="2573" y="1758"/>
                </a:cubicBezTo>
                <a:cubicBezTo>
                  <a:pt x="2221" y="1194"/>
                  <a:pt x="1714" y="727"/>
                  <a:pt x="1104" y="402"/>
                </a:cubicBezTo>
                <a:cubicBezTo>
                  <a:pt x="760" y="218"/>
                  <a:pt x="388" y="83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 flipV="1">
            <a:off x="6095880" y="2413080"/>
            <a:ext cx="0" cy="507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4746600" y="1762200"/>
            <a:ext cx="972360" cy="239040"/>
          </a:xfrm>
          <a:custGeom>
            <a:avLst/>
            <a:gdLst/>
            <a:ahLst/>
            <a:rect l="0" t="0" r="r" b="b"/>
            <a:pathLst>
              <a:path fill="none" w="2701" h="664">
                <a:moveTo>
                  <a:pt x="2701" y="664"/>
                </a:moveTo>
                <a:lnTo>
                  <a:pt x="2701" y="664"/>
                </a:lnTo>
                <a:cubicBezTo>
                  <a:pt x="2424" y="471"/>
                  <a:pt x="2051" y="311"/>
                  <a:pt x="1611" y="196"/>
                </a:cubicBezTo>
                <a:cubicBezTo>
                  <a:pt x="1121" y="67"/>
                  <a:pt x="566" y="0"/>
                  <a:pt x="0" y="0"/>
                </a:cubicBez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827160" y="1755720"/>
            <a:ext cx="913680" cy="201600"/>
          </a:xfrm>
          <a:custGeom>
            <a:avLst/>
            <a:gdLst/>
            <a:ahLst/>
            <a:rect l="0" t="0" r="r" b="b"/>
            <a:pathLst>
              <a:path fill="none" w="2538" h="560">
                <a:moveTo>
                  <a:pt x="2538" y="0"/>
                </a:moveTo>
                <a:lnTo>
                  <a:pt x="2538" y="0"/>
                </a:lnTo>
                <a:cubicBezTo>
                  <a:pt x="1973" y="0"/>
                  <a:pt x="1417" y="67"/>
                  <a:pt x="927" y="195"/>
                </a:cubicBezTo>
                <a:cubicBezTo>
                  <a:pt x="569" y="289"/>
                  <a:pt x="255" y="413"/>
                  <a:pt x="0" y="560"/>
                </a:cubicBez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555480" y="3063960"/>
            <a:ext cx="1270440" cy="1476720"/>
          </a:xfrm>
          <a:custGeom>
            <a:avLst/>
            <a:gdLst/>
            <a:ahLst/>
            <a:rect l="0" t="0" r="r" b="b"/>
            <a:pathLst>
              <a:path fill="none" w="3529" h="4102">
                <a:moveTo>
                  <a:pt x="3529" y="0"/>
                </a:moveTo>
                <a:lnTo>
                  <a:pt x="3529" y="0"/>
                </a:lnTo>
                <a:cubicBezTo>
                  <a:pt x="2910" y="0"/>
                  <a:pt x="2301" y="190"/>
                  <a:pt x="1764" y="550"/>
                </a:cubicBezTo>
                <a:cubicBezTo>
                  <a:pt x="1228" y="910"/>
                  <a:pt x="783" y="1427"/>
                  <a:pt x="473" y="2051"/>
                </a:cubicBezTo>
                <a:cubicBezTo>
                  <a:pt x="163" y="2675"/>
                  <a:pt x="0" y="3382"/>
                  <a:pt x="0" y="4102"/>
                </a:cubicBezTo>
              </a:path>
            </a:pathLst>
          </a:cu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429240" y="2809800"/>
            <a:ext cx="666720" cy="317520"/>
          </a:xfrm>
          <a:prstGeom prst="rect">
            <a:avLst/>
          </a:prstGeom>
          <a:solidFill>
            <a:srgbClr val="114ff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4429080" y="1619280"/>
            <a:ext cx="682560" cy="317520"/>
          </a:xfrm>
          <a:prstGeom prst="rect">
            <a:avLst/>
          </a:prstGeom>
          <a:solidFill>
            <a:srgbClr val="114ff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555480" y="3365640"/>
            <a:ext cx="587520" cy="317520"/>
          </a:xfrm>
          <a:prstGeom prst="rect">
            <a:avLst/>
          </a:prstGeom>
          <a:solidFill>
            <a:srgbClr val="114ff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 txBox="1"/>
          <p:nvPr/>
        </p:nvSpPr>
        <p:spPr>
          <a:xfrm>
            <a:off x="6505560" y="2819520"/>
            <a:ext cx="387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835680" y="2882880"/>
            <a:ext cx="63360" cy="63360"/>
          </a:xfrm>
          <a:prstGeom prst="ellipse">
            <a:avLst/>
          </a:prstGeom>
          <a:solidFill>
            <a:srgbClr val="114ff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655560" y="3359160"/>
            <a:ext cx="387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952560" y="3429000"/>
            <a:ext cx="63360" cy="63360"/>
          </a:xfrm>
          <a:prstGeom prst="ellipse">
            <a:avLst/>
          </a:prstGeom>
          <a:solidFill>
            <a:srgbClr val="114ff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 txBox="1"/>
          <p:nvPr/>
        </p:nvSpPr>
        <p:spPr>
          <a:xfrm>
            <a:off x="4505400" y="1628640"/>
            <a:ext cx="387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813200" y="1670040"/>
            <a:ext cx="63360" cy="63360"/>
          </a:xfrm>
          <a:prstGeom prst="ellipse">
            <a:avLst/>
          </a:prstGeom>
          <a:solidFill>
            <a:srgbClr val="114ff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2162160" y="2209680"/>
            <a:ext cx="18637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rtiary Dat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928960" y="2698920"/>
            <a:ext cx="2142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3159000" y="2698920"/>
            <a:ext cx="541440" cy="541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3678120" y="3224160"/>
            <a:ext cx="77760" cy="777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295960" y="4359240"/>
            <a:ext cx="703800" cy="122760"/>
          </a:xfrm>
          <a:custGeom>
            <a:avLst/>
            <a:gdLst/>
            <a:ahLst/>
            <a:rect l="0" t="0" r="r" b="b"/>
            <a:pathLst>
              <a:path w="1955" h="341">
                <a:moveTo>
                  <a:pt x="379" y="0"/>
                </a:moveTo>
                <a:lnTo>
                  <a:pt x="0" y="181"/>
                </a:lnTo>
                <a:lnTo>
                  <a:pt x="1549" y="341"/>
                </a:lnTo>
                <a:lnTo>
                  <a:pt x="1955" y="146"/>
                </a:lnTo>
                <a:lnTo>
                  <a:pt x="379" y="0"/>
                </a:lnTo>
                <a:close/>
              </a:path>
            </a:pathLst>
          </a:custGeom>
          <a:solidFill>
            <a:srgbClr val="114ff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5718240" y="4154400"/>
            <a:ext cx="354240" cy="132120"/>
          </a:xfrm>
          <a:custGeom>
            <a:avLst/>
            <a:gdLst/>
            <a:ahLst/>
            <a:rect l="0" t="0" r="r" b="b"/>
            <a:pathLst>
              <a:path w="984" h="367">
                <a:moveTo>
                  <a:pt x="0" y="0"/>
                </a:moveTo>
                <a:lnTo>
                  <a:pt x="4" y="105"/>
                </a:lnTo>
                <a:lnTo>
                  <a:pt x="984" y="367"/>
                </a:lnTo>
                <a:lnTo>
                  <a:pt x="984" y="132"/>
                </a:lnTo>
                <a:lnTo>
                  <a:pt x="0" y="0"/>
                </a:lnTo>
                <a:close/>
              </a:path>
            </a:pathLst>
          </a:custGeom>
          <a:solidFill>
            <a:srgbClr val="114ff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4923000" y="4311720"/>
            <a:ext cx="1560960" cy="752760"/>
          </a:xfrm>
          <a:custGeom>
            <a:avLst/>
            <a:gdLst/>
            <a:ahLst/>
            <a:rect l="0" t="0" r="r" b="b"/>
            <a:pathLst>
              <a:path w="4336" h="2091">
                <a:moveTo>
                  <a:pt x="0" y="1773"/>
                </a:moveTo>
                <a:lnTo>
                  <a:pt x="224" y="1663"/>
                </a:lnTo>
                <a:lnTo>
                  <a:pt x="3269" y="1200"/>
                </a:lnTo>
                <a:lnTo>
                  <a:pt x="3269" y="304"/>
                </a:lnTo>
                <a:lnTo>
                  <a:pt x="3565" y="101"/>
                </a:lnTo>
                <a:lnTo>
                  <a:pt x="3759" y="0"/>
                </a:lnTo>
                <a:lnTo>
                  <a:pt x="4336" y="418"/>
                </a:lnTo>
                <a:lnTo>
                  <a:pt x="4129" y="1703"/>
                </a:lnTo>
                <a:lnTo>
                  <a:pt x="1323" y="2091"/>
                </a:lnTo>
                <a:lnTo>
                  <a:pt x="0" y="1773"/>
                </a:lnTo>
                <a:close/>
              </a:path>
            </a:pathLst>
          </a:custGeom>
          <a:solidFill>
            <a:srgbClr val="114ff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5376960" y="4629240"/>
            <a:ext cx="622800" cy="190800"/>
          </a:xfrm>
          <a:custGeom>
            <a:avLst/>
            <a:gdLst/>
            <a:ahLst/>
            <a:rect l="0" t="0" r="r" b="b"/>
            <a:pathLst>
              <a:path w="1730" h="530">
                <a:moveTo>
                  <a:pt x="0" y="296"/>
                </a:moveTo>
                <a:lnTo>
                  <a:pt x="370" y="119"/>
                </a:lnTo>
                <a:lnTo>
                  <a:pt x="1377" y="0"/>
                </a:lnTo>
                <a:lnTo>
                  <a:pt x="1730" y="158"/>
                </a:lnTo>
                <a:lnTo>
                  <a:pt x="490" y="530"/>
                </a:lnTo>
                <a:lnTo>
                  <a:pt x="0" y="296"/>
                </a:lnTo>
                <a:close/>
              </a:path>
            </a:pathLst>
          </a:custGeom>
          <a:solidFill>
            <a:srgbClr val="114ff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6100920" y="4233960"/>
            <a:ext cx="176400" cy="90720"/>
          </a:xfrm>
          <a:custGeom>
            <a:avLst/>
            <a:gdLst/>
            <a:ahLst/>
            <a:rect l="0" t="0" r="r" b="b"/>
            <a:pathLst>
              <a:path w="490" h="252">
                <a:moveTo>
                  <a:pt x="0" y="0"/>
                </a:moveTo>
                <a:lnTo>
                  <a:pt x="8" y="186"/>
                </a:lnTo>
                <a:lnTo>
                  <a:pt x="261" y="252"/>
                </a:lnTo>
                <a:lnTo>
                  <a:pt x="490" y="133"/>
                </a:lnTo>
                <a:lnTo>
                  <a:pt x="0" y="0"/>
                </a:lnTo>
                <a:close/>
              </a:path>
            </a:pathLst>
          </a:custGeom>
          <a:solidFill>
            <a:srgbClr val="114ff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5856120" y="4406760"/>
            <a:ext cx="219600" cy="284400"/>
          </a:xfrm>
          <a:custGeom>
            <a:avLst/>
            <a:gdLst/>
            <a:ahLst/>
            <a:rect l="0" t="0" r="r" b="b"/>
            <a:pathLst>
              <a:path w="610" h="790">
                <a:moveTo>
                  <a:pt x="0" y="291"/>
                </a:moveTo>
                <a:lnTo>
                  <a:pt x="601" y="0"/>
                </a:lnTo>
                <a:lnTo>
                  <a:pt x="610" y="790"/>
                </a:lnTo>
                <a:lnTo>
                  <a:pt x="243" y="622"/>
                </a:lnTo>
                <a:lnTo>
                  <a:pt x="0" y="291"/>
                </a:lnTo>
                <a:close/>
              </a:path>
            </a:pathLst>
          </a:custGeom>
          <a:solidFill>
            <a:srgbClr val="114ff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5927760" y="4635360"/>
            <a:ext cx="71640" cy="47880"/>
          </a:xfrm>
          <a:custGeom>
            <a:avLst/>
            <a:gdLst/>
            <a:ahLst/>
            <a:rect l="0" t="0" r="r" b="b"/>
            <a:pathLst>
              <a:path w="199" h="133">
                <a:moveTo>
                  <a:pt x="0" y="48"/>
                </a:moveTo>
                <a:lnTo>
                  <a:pt x="199" y="133"/>
                </a:lnTo>
                <a:lnTo>
                  <a:pt x="190" y="61"/>
                </a:lnTo>
                <a:lnTo>
                  <a:pt x="57" y="0"/>
                </a:lnTo>
                <a:lnTo>
                  <a:pt x="0" y="48"/>
                </a:lnTo>
                <a:close/>
              </a:path>
            </a:pathLst>
          </a:custGeom>
          <a:solidFill>
            <a:srgbClr val="fd0000"/>
          </a:solidFill>
          <a:ln w="0">
            <a:noFill/>
          </a:ln>
        </p:spPr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5715000" y="4195800"/>
            <a:ext cx="358920" cy="163440"/>
          </a:xfrm>
          <a:prstGeom prst="line">
            <a:avLst/>
          </a:prstGeom>
          <a:ln w="12600">
            <a:solidFill>
              <a:srgbClr val="00df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1523880" y="4054320"/>
            <a:ext cx="4918320" cy="1724040"/>
            <a:chOff x="1523880" y="4054320"/>
            <a:chExt cx="4918320" cy="1724040"/>
          </a:xfrm>
        </p:grpSpPr>
        <p:sp>
          <p:nvSpPr>
            <p:cNvPr id="852" name=""/>
            <p:cNvSpPr/>
            <p:nvPr/>
          </p:nvSpPr>
          <p:spPr>
            <a:xfrm>
              <a:off x="1523880" y="5032440"/>
              <a:ext cx="1619280" cy="745920"/>
            </a:xfrm>
            <a:prstGeom prst="line">
              <a:avLst/>
            </a:prstGeom>
            <a:ln w="255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 flipV="1">
              <a:off x="1527120" y="4871880"/>
              <a:ext cx="314280" cy="147960"/>
            </a:xfrm>
            <a:prstGeom prst="line">
              <a:avLst/>
            </a:prstGeom>
            <a:ln w="255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95880" y="4054320"/>
              <a:ext cx="336600" cy="155880"/>
            </a:xfrm>
            <a:prstGeom prst="line">
              <a:avLst/>
            </a:prstGeom>
            <a:ln w="255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 flipV="1">
              <a:off x="3146400" y="4222800"/>
              <a:ext cx="3295800" cy="1542960"/>
            </a:xfrm>
            <a:prstGeom prst="line">
              <a:avLst/>
            </a:prstGeom>
            <a:ln w="255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6" name=""/>
          <p:cNvSpPr/>
          <p:nvPr/>
        </p:nvSpPr>
        <p:spPr>
          <a:xfrm>
            <a:off x="6089760" y="3025800"/>
            <a:ext cx="0" cy="1689120"/>
          </a:xfrm>
          <a:prstGeom prst="line">
            <a:avLst/>
          </a:prstGeom>
          <a:ln w="2556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 flipH="1" flipV="1">
            <a:off x="5786280" y="4573440"/>
            <a:ext cx="306720" cy="138240"/>
          </a:xfrm>
          <a:prstGeom prst="line">
            <a:avLst/>
          </a:prstGeom>
          <a:ln w="2556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8" name=""/>
          <p:cNvGrpSpPr/>
          <p:nvPr/>
        </p:nvGrpSpPr>
        <p:grpSpPr>
          <a:xfrm>
            <a:off x="3086280" y="3605040"/>
            <a:ext cx="2622240" cy="1397160"/>
            <a:chOff x="3086280" y="3605040"/>
            <a:chExt cx="2622240" cy="1397160"/>
          </a:xfrm>
        </p:grpSpPr>
        <p:sp>
          <p:nvSpPr>
            <p:cNvPr id="859" name=""/>
            <p:cNvSpPr/>
            <p:nvPr/>
          </p:nvSpPr>
          <p:spPr>
            <a:xfrm>
              <a:off x="4818240" y="3605040"/>
              <a:ext cx="890280" cy="384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3097080" y="3606840"/>
              <a:ext cx="1721160" cy="782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708520" y="4003560"/>
              <a:ext cx="0" cy="200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4049640" y="4863960"/>
              <a:ext cx="276120" cy="1382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 flipV="1">
              <a:off x="3086280" y="4597560"/>
              <a:ext cx="963360" cy="404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 flipV="1">
              <a:off x="3094200" y="4389480"/>
              <a:ext cx="0" cy="2206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097080" y="4395960"/>
              <a:ext cx="936720" cy="392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033800" y="4772160"/>
              <a:ext cx="0" cy="230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4032360" y="4618080"/>
              <a:ext cx="309600" cy="160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340160" y="4632480"/>
              <a:ext cx="0" cy="230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5384880" y="4216320"/>
              <a:ext cx="307800" cy="1540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369040" y="4140360"/>
              <a:ext cx="0" cy="230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5367240" y="3986280"/>
              <a:ext cx="309600" cy="160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>
              <a:off x="4341960" y="4141800"/>
              <a:ext cx="1028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341960" y="4141800"/>
              <a:ext cx="0" cy="507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4341960" y="4373640"/>
              <a:ext cx="10443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5" name=""/>
          <p:cNvSpPr txBox="1"/>
          <p:nvPr/>
        </p:nvSpPr>
        <p:spPr>
          <a:xfrm>
            <a:off x="6168960" y="1871640"/>
            <a:ext cx="28083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econdary Datum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 flipH="1">
            <a:off x="5892840" y="2052720"/>
            <a:ext cx="2458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 flipH="1">
            <a:off x="5365800" y="2048040"/>
            <a:ext cx="527040" cy="1141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5326200" y="3154320"/>
            <a:ext cx="77760" cy="7920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5595840" y="5045040"/>
            <a:ext cx="649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 flipV="1">
            <a:off x="4925880" y="4387680"/>
            <a:ext cx="700200" cy="854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1936800" y="3889440"/>
            <a:ext cx="0" cy="16984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 flipV="1">
            <a:off x="1936800" y="2317680"/>
            <a:ext cx="3359160" cy="15717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4921200" y="2492280"/>
            <a:ext cx="0" cy="1150920"/>
          </a:xfrm>
          <a:prstGeom prst="line">
            <a:avLst/>
          </a:prstGeom>
          <a:ln w="12600">
            <a:solidFill>
              <a:srgbClr val="00df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 flipV="1">
            <a:off x="1930320" y="4621320"/>
            <a:ext cx="1274760" cy="595080"/>
          </a:xfrm>
          <a:prstGeom prst="line">
            <a:avLst/>
          </a:prstGeom>
          <a:ln w="12600">
            <a:solidFill>
              <a:srgbClr val="00df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5800680" y="4237200"/>
            <a:ext cx="368280" cy="169560"/>
          </a:xfrm>
          <a:prstGeom prst="line">
            <a:avLst/>
          </a:prstGeom>
          <a:ln w="12600">
            <a:solidFill>
              <a:srgbClr val="00df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 flipV="1">
            <a:off x="1940040" y="5413320"/>
            <a:ext cx="384120" cy="17784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4549680" y="2311560"/>
            <a:ext cx="1619280" cy="745920"/>
          </a:xfrm>
          <a:prstGeom prst="line">
            <a:avLst/>
          </a:prstGeom>
          <a:ln w="2556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6184800" y="3073320"/>
            <a:ext cx="0" cy="1689120"/>
          </a:xfrm>
          <a:prstGeom prst="line">
            <a:avLst/>
          </a:prstGeom>
          <a:ln w="2556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4549680" y="2327400"/>
            <a:ext cx="0" cy="339480"/>
          </a:xfrm>
          <a:prstGeom prst="line">
            <a:avLst/>
          </a:prstGeom>
          <a:ln w="2556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5295960" y="2311560"/>
            <a:ext cx="0" cy="3394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"/>
          <p:cNvGrpSpPr/>
          <p:nvPr/>
        </p:nvGrpSpPr>
        <p:grpSpPr>
          <a:xfrm>
            <a:off x="1619280" y="4102200"/>
            <a:ext cx="4917960" cy="1724040"/>
            <a:chOff x="1619280" y="4102200"/>
            <a:chExt cx="4917960" cy="1724040"/>
          </a:xfrm>
        </p:grpSpPr>
        <p:sp>
          <p:nvSpPr>
            <p:cNvPr id="893" name=""/>
            <p:cNvSpPr/>
            <p:nvPr/>
          </p:nvSpPr>
          <p:spPr>
            <a:xfrm>
              <a:off x="1619280" y="5079960"/>
              <a:ext cx="1619280" cy="746280"/>
            </a:xfrm>
            <a:prstGeom prst="line">
              <a:avLst/>
            </a:prstGeom>
            <a:ln w="255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 flipV="1">
              <a:off x="3241800" y="4270320"/>
              <a:ext cx="3295440" cy="1542960"/>
            </a:xfrm>
            <a:prstGeom prst="line">
              <a:avLst/>
            </a:prstGeom>
            <a:ln w="255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1622520" y="4919760"/>
              <a:ext cx="314280" cy="147600"/>
            </a:xfrm>
            <a:prstGeom prst="line">
              <a:avLst/>
            </a:prstGeom>
            <a:ln w="255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191280" y="4102200"/>
              <a:ext cx="336600" cy="155520"/>
            </a:xfrm>
            <a:prstGeom prst="line">
              <a:avLst/>
            </a:prstGeom>
            <a:ln w="255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7" name=""/>
          <p:cNvSpPr/>
          <p:nvPr/>
        </p:nvSpPr>
        <p:spPr>
          <a:xfrm>
            <a:off x="5835600" y="4603680"/>
            <a:ext cx="358920" cy="162000"/>
          </a:xfrm>
          <a:prstGeom prst="line">
            <a:avLst/>
          </a:prstGeom>
          <a:ln w="2556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 flipV="1">
            <a:off x="6620040" y="3841920"/>
            <a:ext cx="76176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 flipV="1">
            <a:off x="5375160" y="1882800"/>
            <a:ext cx="76212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 flipH="1" flipV="1">
            <a:off x="3587760" y="1857240"/>
            <a:ext cx="888840" cy="412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 flipV="1">
            <a:off x="1936800" y="2984400"/>
            <a:ext cx="0" cy="809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H="1" flipV="1">
            <a:off x="527040" y="4540320"/>
            <a:ext cx="1012680" cy="476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6167160" y="2558160"/>
            <a:ext cx="1119960" cy="1299600"/>
          </a:xfrm>
          <a:custGeom>
            <a:avLst/>
            <a:gdLst/>
            <a:ahLst/>
            <a:rect l="0" t="0" r="r" b="b"/>
            <a:pathLst>
              <a:path fill="none" w="3111" h="3610">
                <a:moveTo>
                  <a:pt x="3111" y="3610"/>
                </a:moveTo>
                <a:lnTo>
                  <a:pt x="3111" y="3610"/>
                </a:lnTo>
                <a:cubicBezTo>
                  <a:pt x="3111" y="2960"/>
                  <a:pt x="2926" y="2321"/>
                  <a:pt x="2573" y="1758"/>
                </a:cubicBezTo>
                <a:cubicBezTo>
                  <a:pt x="2221" y="1194"/>
                  <a:pt x="1714" y="727"/>
                  <a:pt x="1104" y="402"/>
                </a:cubicBezTo>
                <a:cubicBezTo>
                  <a:pt x="760" y="218"/>
                  <a:pt x="388" y="83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 flipV="1">
            <a:off x="6191280" y="2460600"/>
            <a:ext cx="0" cy="507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4842000" y="1809720"/>
            <a:ext cx="972360" cy="239040"/>
          </a:xfrm>
          <a:custGeom>
            <a:avLst/>
            <a:gdLst/>
            <a:ahLst/>
            <a:rect l="0" t="0" r="r" b="b"/>
            <a:pathLst>
              <a:path fill="none" w="2701" h="664">
                <a:moveTo>
                  <a:pt x="2701" y="664"/>
                </a:moveTo>
                <a:lnTo>
                  <a:pt x="2701" y="664"/>
                </a:lnTo>
                <a:cubicBezTo>
                  <a:pt x="2424" y="471"/>
                  <a:pt x="2051" y="311"/>
                  <a:pt x="1611" y="196"/>
                </a:cubicBezTo>
                <a:cubicBezTo>
                  <a:pt x="1121" y="67"/>
                  <a:pt x="566" y="0"/>
                  <a:pt x="0" y="0"/>
                </a:cubicBez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3922200" y="1803240"/>
            <a:ext cx="913680" cy="201600"/>
          </a:xfrm>
          <a:custGeom>
            <a:avLst/>
            <a:gdLst/>
            <a:ahLst/>
            <a:rect l="0" t="0" r="r" b="b"/>
            <a:pathLst>
              <a:path fill="none" w="2538" h="560">
                <a:moveTo>
                  <a:pt x="2538" y="0"/>
                </a:moveTo>
                <a:lnTo>
                  <a:pt x="2538" y="0"/>
                </a:lnTo>
                <a:cubicBezTo>
                  <a:pt x="1973" y="0"/>
                  <a:pt x="1417" y="67"/>
                  <a:pt x="927" y="195"/>
                </a:cubicBezTo>
                <a:cubicBezTo>
                  <a:pt x="569" y="289"/>
                  <a:pt x="255" y="413"/>
                  <a:pt x="0" y="560"/>
                </a:cubicBez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650880" y="3111480"/>
            <a:ext cx="1270440" cy="1476720"/>
          </a:xfrm>
          <a:custGeom>
            <a:avLst/>
            <a:gdLst/>
            <a:ahLst/>
            <a:rect l="0" t="0" r="r" b="b"/>
            <a:pathLst>
              <a:path fill="none" w="3529" h="4102">
                <a:moveTo>
                  <a:pt x="3529" y="0"/>
                </a:moveTo>
                <a:lnTo>
                  <a:pt x="3529" y="0"/>
                </a:lnTo>
                <a:cubicBezTo>
                  <a:pt x="2910" y="0"/>
                  <a:pt x="2301" y="190"/>
                  <a:pt x="1764" y="550"/>
                </a:cubicBezTo>
                <a:cubicBezTo>
                  <a:pt x="1228" y="910"/>
                  <a:pt x="783" y="1427"/>
                  <a:pt x="473" y="2051"/>
                </a:cubicBezTo>
                <a:cubicBezTo>
                  <a:pt x="163" y="2675"/>
                  <a:pt x="0" y="3382"/>
                  <a:pt x="0" y="4102"/>
                </a:cubicBezTo>
              </a:path>
            </a:pathLst>
          </a:cu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6524640" y="2857680"/>
            <a:ext cx="666720" cy="317520"/>
          </a:xfrm>
          <a:prstGeom prst="rect">
            <a:avLst/>
          </a:prstGeom>
          <a:solidFill>
            <a:srgbClr val="114ff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4238640" y="1714680"/>
            <a:ext cx="539640" cy="317520"/>
          </a:xfrm>
          <a:prstGeom prst="rect">
            <a:avLst/>
          </a:prstGeom>
          <a:solidFill>
            <a:srgbClr val="114ff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650880" y="3413160"/>
            <a:ext cx="587520" cy="317520"/>
          </a:xfrm>
          <a:prstGeom prst="rect">
            <a:avLst/>
          </a:prstGeom>
          <a:solidFill>
            <a:srgbClr val="114ff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1" name=""/>
          <p:cNvGrpSpPr/>
          <p:nvPr/>
        </p:nvGrpSpPr>
        <p:grpSpPr>
          <a:xfrm>
            <a:off x="750960" y="3405240"/>
            <a:ext cx="387360" cy="336600"/>
            <a:chOff x="750960" y="3405240"/>
            <a:chExt cx="387360" cy="336600"/>
          </a:xfrm>
        </p:grpSpPr>
        <p:sp>
          <p:nvSpPr>
            <p:cNvPr id="912" name=""/>
            <p:cNvSpPr txBox="1"/>
            <p:nvPr/>
          </p:nvSpPr>
          <p:spPr>
            <a:xfrm>
              <a:off x="750960" y="3405240"/>
              <a:ext cx="3873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9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047600" y="3476520"/>
              <a:ext cx="63360" cy="633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"/>
          <p:cNvGrpSpPr/>
          <p:nvPr/>
        </p:nvGrpSpPr>
        <p:grpSpPr>
          <a:xfrm>
            <a:off x="6600960" y="2867040"/>
            <a:ext cx="393480" cy="336600"/>
            <a:chOff x="6600960" y="2867040"/>
            <a:chExt cx="393480" cy="336600"/>
          </a:xfrm>
        </p:grpSpPr>
        <p:sp>
          <p:nvSpPr>
            <p:cNvPr id="915" name=""/>
            <p:cNvSpPr txBox="1"/>
            <p:nvPr/>
          </p:nvSpPr>
          <p:spPr>
            <a:xfrm>
              <a:off x="6600960" y="2867040"/>
              <a:ext cx="3873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9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931080" y="2930400"/>
              <a:ext cx="63360" cy="633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4300560" y="1724040"/>
            <a:ext cx="387360" cy="336600"/>
            <a:chOff x="4300560" y="1724040"/>
            <a:chExt cx="387360" cy="336600"/>
          </a:xfrm>
        </p:grpSpPr>
        <p:sp>
          <p:nvSpPr>
            <p:cNvPr id="918" name=""/>
            <p:cNvSpPr txBox="1"/>
            <p:nvPr/>
          </p:nvSpPr>
          <p:spPr>
            <a:xfrm>
              <a:off x="4300560" y="1724040"/>
              <a:ext cx="3873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9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606920" y="1765440"/>
              <a:ext cx="63360" cy="633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0" name=""/>
          <p:cNvSpPr txBox="1"/>
          <p:nvPr/>
        </p:nvSpPr>
        <p:spPr>
          <a:xfrm>
            <a:off x="358920" y="2168640"/>
            <a:ext cx="3092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irection of meas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 flipV="1">
            <a:off x="3147840" y="5108400"/>
            <a:ext cx="238320" cy="11124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3164040" y="5108400"/>
            <a:ext cx="222120" cy="11124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 flipV="1">
            <a:off x="3259080" y="4187880"/>
            <a:ext cx="0" cy="971640"/>
          </a:xfrm>
          <a:prstGeom prst="line">
            <a:avLst/>
          </a:prstGeom>
          <a:ln w="1260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3259080" y="5854680"/>
            <a:ext cx="0" cy="396720"/>
          </a:xfrm>
          <a:prstGeom prst="line">
            <a:avLst/>
          </a:prstGeom>
          <a:ln w="1260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598320" y="5724360"/>
            <a:ext cx="301680" cy="1746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5460840" y="2889360"/>
            <a:ext cx="0" cy="23796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5381640" y="2968560"/>
            <a:ext cx="174600" cy="9540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3556080" y="3349800"/>
            <a:ext cx="0" cy="22212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3444840" y="3397320"/>
            <a:ext cx="206280" cy="11088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3556080" y="3459240"/>
            <a:ext cx="603000" cy="279360"/>
          </a:xfrm>
          <a:prstGeom prst="line">
            <a:avLst/>
          </a:prstGeom>
          <a:ln w="1260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 flipH="1" flipV="1">
            <a:off x="2857680" y="3111480"/>
            <a:ext cx="365040" cy="158760"/>
          </a:xfrm>
          <a:prstGeom prst="line">
            <a:avLst/>
          </a:prstGeom>
          <a:ln w="1260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 flipH="1">
            <a:off x="4997520" y="3016080"/>
            <a:ext cx="463320" cy="254160"/>
          </a:xfrm>
          <a:prstGeom prst="line">
            <a:avLst/>
          </a:prstGeom>
          <a:ln w="1260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 flipV="1">
            <a:off x="5762520" y="2714760"/>
            <a:ext cx="301680" cy="142920"/>
          </a:xfrm>
          <a:prstGeom prst="line">
            <a:avLst/>
          </a:prstGeom>
          <a:ln w="1260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3349800" y="2365200"/>
            <a:ext cx="2062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3556080" y="2365200"/>
            <a:ext cx="206280" cy="119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5114880" y="5630760"/>
            <a:ext cx="27669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atum Planes -- Ori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f Measu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 flipH="1">
            <a:off x="4921200" y="5842080"/>
            <a:ext cx="158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 flipH="1" flipV="1">
            <a:off x="3681360" y="5211720"/>
            <a:ext cx="1239840" cy="630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 flipH="1" flipV="1">
            <a:off x="4286160" y="3476520"/>
            <a:ext cx="635040" cy="2365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 flipV="1">
            <a:off x="4921200" y="3587760"/>
            <a:ext cx="682560" cy="2254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4235400" y="3409920"/>
            <a:ext cx="69840" cy="69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5578560" y="3530520"/>
            <a:ext cx="69840" cy="69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3597120" y="5162400"/>
            <a:ext cx="69840" cy="69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4" name=""/>
          <p:cNvGrpSpPr/>
          <p:nvPr/>
        </p:nvGrpSpPr>
        <p:grpSpPr>
          <a:xfrm>
            <a:off x="3181320" y="3652920"/>
            <a:ext cx="2622600" cy="1396800"/>
            <a:chOff x="3181320" y="3652920"/>
            <a:chExt cx="2622600" cy="1396800"/>
          </a:xfrm>
        </p:grpSpPr>
        <p:sp>
          <p:nvSpPr>
            <p:cNvPr id="945" name=""/>
            <p:cNvSpPr/>
            <p:nvPr/>
          </p:nvSpPr>
          <p:spPr>
            <a:xfrm>
              <a:off x="4913280" y="3652920"/>
              <a:ext cx="890640" cy="384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 flipV="1">
              <a:off x="3192480" y="3654360"/>
              <a:ext cx="1720800" cy="782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803920" y="4051440"/>
              <a:ext cx="0" cy="199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4145040" y="4911840"/>
              <a:ext cx="276120" cy="137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 flipV="1">
              <a:off x="3181320" y="4645080"/>
              <a:ext cx="963720" cy="404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 flipV="1">
              <a:off x="3189240" y="4437000"/>
              <a:ext cx="0" cy="2206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192480" y="4443480"/>
              <a:ext cx="936720" cy="392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129200" y="4819680"/>
              <a:ext cx="0" cy="230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>
              <a:off x="4127400" y="4665600"/>
              <a:ext cx="309600" cy="1605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435560" y="4680000"/>
              <a:ext cx="0" cy="230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 flipH="1">
              <a:off x="5479920" y="4264200"/>
              <a:ext cx="308160" cy="1537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464080" y="4187880"/>
              <a:ext cx="0" cy="230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 flipH="1">
              <a:off x="5462640" y="4033800"/>
              <a:ext cx="309600" cy="160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 flipH="1">
              <a:off x="4437000" y="4189320"/>
              <a:ext cx="102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437000" y="4189320"/>
              <a:ext cx="0" cy="507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 flipH="1">
              <a:off x="4437000" y="4421160"/>
              <a:ext cx="10447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1" name=""/>
          <p:cNvSpPr txBox="1"/>
          <p:nvPr/>
        </p:nvSpPr>
        <p:spPr>
          <a:xfrm>
            <a:off x="1287360" y="657360"/>
            <a:ext cx="6280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UM REFERENCE FR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1936800" y="3889440"/>
            <a:ext cx="0" cy="1698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 flipV="1">
            <a:off x="1936800" y="2317680"/>
            <a:ext cx="3359160" cy="1571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4921200" y="2492280"/>
            <a:ext cx="0" cy="1349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 flipV="1">
            <a:off x="1930320" y="3819600"/>
            <a:ext cx="2984760" cy="1396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1619280" y="5079960"/>
            <a:ext cx="1619280" cy="746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4905360" y="3825720"/>
            <a:ext cx="1263600" cy="581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 flipV="1">
            <a:off x="3241800" y="4270320"/>
            <a:ext cx="3295440" cy="1542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 flipV="1">
            <a:off x="1622520" y="4919760"/>
            <a:ext cx="314280" cy="147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 flipV="1">
            <a:off x="1940040" y="5413320"/>
            <a:ext cx="384120" cy="177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4549680" y="2311560"/>
            <a:ext cx="1619280" cy="745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6184800" y="3073320"/>
            <a:ext cx="0" cy="1689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4549680" y="2327400"/>
            <a:ext cx="0" cy="33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5295960" y="2311560"/>
            <a:ext cx="0" cy="33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6191280" y="4102200"/>
            <a:ext cx="336600" cy="155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5835600" y="4603680"/>
            <a:ext cx="358920" cy="162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 flipV="1">
            <a:off x="6620040" y="3841920"/>
            <a:ext cx="76176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 flipV="1">
            <a:off x="5375160" y="1882800"/>
            <a:ext cx="76212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 flipH="1" flipV="1">
            <a:off x="3587760" y="1857240"/>
            <a:ext cx="888840" cy="412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 flipV="1">
            <a:off x="1936800" y="2984400"/>
            <a:ext cx="0" cy="809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 flipH="1" flipV="1">
            <a:off x="527040" y="4540320"/>
            <a:ext cx="1012680" cy="476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167160" y="2558160"/>
            <a:ext cx="1119960" cy="1299600"/>
          </a:xfrm>
          <a:custGeom>
            <a:avLst/>
            <a:gdLst/>
            <a:ahLst/>
            <a:rect l="0" t="0" r="r" b="b"/>
            <a:pathLst>
              <a:path fill="none" w="3111" h="3610">
                <a:moveTo>
                  <a:pt x="3111" y="3610"/>
                </a:moveTo>
                <a:lnTo>
                  <a:pt x="3111" y="3610"/>
                </a:lnTo>
                <a:cubicBezTo>
                  <a:pt x="3111" y="2960"/>
                  <a:pt x="2926" y="2321"/>
                  <a:pt x="2573" y="1758"/>
                </a:cubicBezTo>
                <a:cubicBezTo>
                  <a:pt x="2221" y="1194"/>
                  <a:pt x="1714" y="727"/>
                  <a:pt x="1104" y="402"/>
                </a:cubicBezTo>
                <a:cubicBezTo>
                  <a:pt x="760" y="218"/>
                  <a:pt x="388" y="83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 flipV="1">
            <a:off x="6191280" y="2460600"/>
            <a:ext cx="0" cy="507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4842000" y="1809720"/>
            <a:ext cx="972360" cy="239040"/>
          </a:xfrm>
          <a:custGeom>
            <a:avLst/>
            <a:gdLst/>
            <a:ahLst/>
            <a:rect l="0" t="0" r="r" b="b"/>
            <a:pathLst>
              <a:path fill="none" w="2701" h="664">
                <a:moveTo>
                  <a:pt x="2701" y="664"/>
                </a:moveTo>
                <a:lnTo>
                  <a:pt x="2701" y="664"/>
                </a:lnTo>
                <a:cubicBezTo>
                  <a:pt x="2424" y="471"/>
                  <a:pt x="2051" y="311"/>
                  <a:pt x="1611" y="196"/>
                </a:cubicBezTo>
                <a:cubicBezTo>
                  <a:pt x="1121" y="67"/>
                  <a:pt x="566" y="0"/>
                  <a:pt x="0" y="0"/>
                </a:cubicBez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922200" y="1803240"/>
            <a:ext cx="913680" cy="201600"/>
          </a:xfrm>
          <a:custGeom>
            <a:avLst/>
            <a:gdLst/>
            <a:ahLst/>
            <a:rect l="0" t="0" r="r" b="b"/>
            <a:pathLst>
              <a:path fill="none" w="2538" h="560">
                <a:moveTo>
                  <a:pt x="2538" y="0"/>
                </a:moveTo>
                <a:lnTo>
                  <a:pt x="2538" y="0"/>
                </a:lnTo>
                <a:cubicBezTo>
                  <a:pt x="1973" y="0"/>
                  <a:pt x="1417" y="67"/>
                  <a:pt x="927" y="195"/>
                </a:cubicBezTo>
                <a:cubicBezTo>
                  <a:pt x="569" y="289"/>
                  <a:pt x="255" y="413"/>
                  <a:pt x="0" y="560"/>
                </a:cubicBez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650880" y="3111480"/>
            <a:ext cx="1270440" cy="1476720"/>
          </a:xfrm>
          <a:custGeom>
            <a:avLst/>
            <a:gdLst/>
            <a:ahLst/>
            <a:rect l="0" t="0" r="r" b="b"/>
            <a:pathLst>
              <a:path fill="none" w="3529" h="4102">
                <a:moveTo>
                  <a:pt x="3529" y="0"/>
                </a:moveTo>
                <a:lnTo>
                  <a:pt x="3529" y="0"/>
                </a:lnTo>
                <a:cubicBezTo>
                  <a:pt x="2910" y="0"/>
                  <a:pt x="2301" y="190"/>
                  <a:pt x="1764" y="550"/>
                </a:cubicBezTo>
                <a:cubicBezTo>
                  <a:pt x="1228" y="910"/>
                  <a:pt x="783" y="1427"/>
                  <a:pt x="473" y="2051"/>
                </a:cubicBezTo>
                <a:cubicBezTo>
                  <a:pt x="163" y="2675"/>
                  <a:pt x="0" y="3382"/>
                  <a:pt x="0" y="4102"/>
                </a:cubicBezTo>
              </a:path>
            </a:pathLst>
          </a:cu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6524640" y="2857680"/>
            <a:ext cx="666720" cy="31752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4238640" y="1714680"/>
            <a:ext cx="539640" cy="31752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650880" y="3413160"/>
            <a:ext cx="587520" cy="31752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750960" y="3405240"/>
            <a:ext cx="387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1095480" y="3476520"/>
            <a:ext cx="63360" cy="633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3" name=""/>
          <p:cNvGrpSpPr/>
          <p:nvPr/>
        </p:nvGrpSpPr>
        <p:grpSpPr>
          <a:xfrm>
            <a:off x="6600960" y="2867040"/>
            <a:ext cx="393480" cy="336600"/>
            <a:chOff x="6600960" y="2867040"/>
            <a:chExt cx="393480" cy="336600"/>
          </a:xfrm>
        </p:grpSpPr>
        <p:sp>
          <p:nvSpPr>
            <p:cNvPr id="994" name=""/>
            <p:cNvSpPr txBox="1"/>
            <p:nvPr/>
          </p:nvSpPr>
          <p:spPr>
            <a:xfrm>
              <a:off x="6600960" y="2867040"/>
              <a:ext cx="3873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9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931080" y="2930400"/>
              <a:ext cx="63360" cy="633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6" name=""/>
          <p:cNvGrpSpPr/>
          <p:nvPr/>
        </p:nvGrpSpPr>
        <p:grpSpPr>
          <a:xfrm>
            <a:off x="4300560" y="1724040"/>
            <a:ext cx="387360" cy="336600"/>
            <a:chOff x="4300560" y="1724040"/>
            <a:chExt cx="387360" cy="336600"/>
          </a:xfrm>
        </p:grpSpPr>
        <p:sp>
          <p:nvSpPr>
            <p:cNvPr id="997" name=""/>
            <p:cNvSpPr txBox="1"/>
            <p:nvPr/>
          </p:nvSpPr>
          <p:spPr>
            <a:xfrm>
              <a:off x="4300560" y="1724040"/>
              <a:ext cx="3873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9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606920" y="1765440"/>
              <a:ext cx="63360" cy="633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9" name=""/>
          <p:cNvSpPr txBox="1"/>
          <p:nvPr/>
        </p:nvSpPr>
        <p:spPr>
          <a:xfrm>
            <a:off x="358920" y="2168640"/>
            <a:ext cx="3092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irection of meas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 flipV="1">
            <a:off x="3147840" y="5108400"/>
            <a:ext cx="238320" cy="11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3164040" y="5108400"/>
            <a:ext cx="222120" cy="11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 flipV="1">
            <a:off x="3259080" y="4187880"/>
            <a:ext cx="0" cy="9716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3259080" y="5854680"/>
            <a:ext cx="0" cy="396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 flipH="1">
            <a:off x="954000" y="5295960"/>
            <a:ext cx="933480" cy="434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6318360" y="4476600"/>
            <a:ext cx="952560" cy="444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502320" y="2851200"/>
            <a:ext cx="666720" cy="317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4248000" y="1708200"/>
            <a:ext cx="539640" cy="317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76440" y="3422520"/>
            <a:ext cx="587520" cy="317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 flipV="1">
            <a:off x="4921200" y="1270080"/>
            <a:ext cx="0" cy="1111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4862520" y="873000"/>
            <a:ext cx="184320" cy="1746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1" name=""/>
          <p:cNvGrpSpPr/>
          <p:nvPr/>
        </p:nvGrpSpPr>
        <p:grpSpPr>
          <a:xfrm>
            <a:off x="4533840" y="936720"/>
            <a:ext cx="777960" cy="444600"/>
            <a:chOff x="4533840" y="936720"/>
            <a:chExt cx="777960" cy="444600"/>
          </a:xfrm>
        </p:grpSpPr>
        <p:sp>
          <p:nvSpPr>
            <p:cNvPr id="1012" name=""/>
            <p:cNvSpPr/>
            <p:nvPr/>
          </p:nvSpPr>
          <p:spPr>
            <a:xfrm>
              <a:off x="4533840" y="936720"/>
              <a:ext cx="777960" cy="4446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H="1">
              <a:off x="4732200" y="947880"/>
              <a:ext cx="114480" cy="237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045040" y="944640"/>
              <a:ext cx="3816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5" name=""/>
          <p:cNvSpPr/>
          <p:nvPr/>
        </p:nvSpPr>
        <p:spPr>
          <a:xfrm>
            <a:off x="557280" y="5502240"/>
            <a:ext cx="777960" cy="4446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598320" y="5724360"/>
            <a:ext cx="301680" cy="1746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803160" y="5929200"/>
            <a:ext cx="34920" cy="208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0240" bIns="-30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 flipH="1" flipV="1">
            <a:off x="701640" y="5670720"/>
            <a:ext cx="1800" cy="378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6853320" y="4692600"/>
            <a:ext cx="777960" cy="4446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7291440" y="4908600"/>
            <a:ext cx="301680" cy="1746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7478640" y="4849920"/>
            <a:ext cx="4680" cy="3636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 flipH="1">
            <a:off x="7370640" y="5094360"/>
            <a:ext cx="22320" cy="316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5460840" y="2889360"/>
            <a:ext cx="0" cy="237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5381640" y="2968560"/>
            <a:ext cx="174600" cy="95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3556080" y="3349800"/>
            <a:ext cx="0" cy="22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 flipV="1">
            <a:off x="3444840" y="3397320"/>
            <a:ext cx="206280" cy="11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3556080" y="3459240"/>
            <a:ext cx="603000" cy="2793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 flipH="1" flipV="1">
            <a:off x="2857680" y="3111480"/>
            <a:ext cx="365040" cy="1587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 flipH="1">
            <a:off x="4997520" y="3016080"/>
            <a:ext cx="463320" cy="254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 flipV="1">
            <a:off x="5762520" y="2714760"/>
            <a:ext cx="301680" cy="1429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 txBox="1"/>
          <p:nvPr/>
        </p:nvSpPr>
        <p:spPr>
          <a:xfrm>
            <a:off x="1417680" y="5979960"/>
            <a:ext cx="1482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atum 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 txBox="1"/>
          <p:nvPr/>
        </p:nvSpPr>
        <p:spPr>
          <a:xfrm>
            <a:off x="5797440" y="1266840"/>
            <a:ext cx="1482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atum 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 txBox="1"/>
          <p:nvPr/>
        </p:nvSpPr>
        <p:spPr>
          <a:xfrm>
            <a:off x="7448400" y="3979800"/>
            <a:ext cx="1482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atum 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3349800" y="2365200"/>
            <a:ext cx="2062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3556080" y="2365200"/>
            <a:ext cx="206280" cy="119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 flipH="1">
            <a:off x="7286760" y="4159080"/>
            <a:ext cx="174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 flipH="1">
            <a:off x="6556320" y="4159080"/>
            <a:ext cx="730440" cy="428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 flipH="1">
            <a:off x="1270080" y="6175440"/>
            <a:ext cx="1429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 flipV="1">
            <a:off x="1270080" y="5492880"/>
            <a:ext cx="206280" cy="682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 txBox="1"/>
          <p:nvPr/>
        </p:nvSpPr>
        <p:spPr>
          <a:xfrm>
            <a:off x="5114880" y="5630760"/>
            <a:ext cx="27669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atum Planes -- Ori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f Measu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 flipH="1">
            <a:off x="4921200" y="5842080"/>
            <a:ext cx="158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 flipH="1" flipV="1">
            <a:off x="3952800" y="4873680"/>
            <a:ext cx="968400" cy="968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 flipH="1" flipV="1">
            <a:off x="4286160" y="3476520"/>
            <a:ext cx="635040" cy="2365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 flipV="1">
            <a:off x="4921200" y="3587760"/>
            <a:ext cx="682560" cy="2254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4235400" y="3409920"/>
            <a:ext cx="69840" cy="69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5578560" y="3530520"/>
            <a:ext cx="69840" cy="69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3889440" y="4809960"/>
            <a:ext cx="69840" cy="69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 flipH="1">
            <a:off x="5635800" y="1428840"/>
            <a:ext cx="190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 flipH="1">
            <a:off x="4921200" y="1428840"/>
            <a:ext cx="714600" cy="269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4846680" y="901800"/>
            <a:ext cx="210960" cy="11736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 txBox="1"/>
          <p:nvPr/>
        </p:nvSpPr>
        <p:spPr>
          <a:xfrm>
            <a:off x="571680" y="2114640"/>
            <a:ext cx="8286840" cy="31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lanes in a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atum reference fram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re a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ect 90 degree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each other by definition. Actual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rt surfac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however, must have an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gular tolerance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ed in a note or in the tolerance section of the title block on the dra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 txBox="1"/>
          <p:nvPr/>
        </p:nvSpPr>
        <p:spPr>
          <a:xfrm>
            <a:off x="685800" y="37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um Reference Frame</a:t>
            </a:r>
            <a:br>
              <a:rPr sz="3600"/>
            </a:b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--Angular Orientations-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5" name=""/>
          <p:cNvGrpSpPr/>
          <p:nvPr/>
        </p:nvGrpSpPr>
        <p:grpSpPr>
          <a:xfrm>
            <a:off x="603360" y="746280"/>
            <a:ext cx="2619360" cy="2587320"/>
            <a:chOff x="603360" y="746280"/>
            <a:chExt cx="2619360" cy="2587320"/>
          </a:xfrm>
        </p:grpSpPr>
        <p:grpSp>
          <p:nvGrpSpPr>
            <p:cNvPr id="1056" name=""/>
            <p:cNvGrpSpPr/>
            <p:nvPr/>
          </p:nvGrpSpPr>
          <p:grpSpPr>
            <a:xfrm>
              <a:off x="603360" y="1936800"/>
              <a:ext cx="1333440" cy="1396800"/>
              <a:chOff x="603360" y="1936800"/>
              <a:chExt cx="1333440" cy="1396800"/>
            </a:xfrm>
          </p:grpSpPr>
          <p:sp>
            <p:nvSpPr>
              <p:cNvPr id="1057" name=""/>
              <p:cNvSpPr/>
              <p:nvPr/>
            </p:nvSpPr>
            <p:spPr>
              <a:xfrm>
                <a:off x="603360" y="1936800"/>
                <a:ext cx="0" cy="1396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619200" y="3333600"/>
                <a:ext cx="1317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 flipV="1">
                <a:off x="1936800" y="2523960"/>
                <a:ext cx="0" cy="809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flipH="1" flipV="1">
                <a:off x="1349280" y="1936800"/>
                <a:ext cx="587520" cy="587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 flipH="1">
                <a:off x="603360" y="1936800"/>
                <a:ext cx="745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2" name=""/>
            <p:cNvSpPr/>
            <p:nvPr/>
          </p:nvSpPr>
          <p:spPr>
            <a:xfrm flipV="1">
              <a:off x="603360" y="746280"/>
              <a:ext cx="0" cy="1110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063880" y="3333600"/>
              <a:ext cx="11588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"/>
          <p:cNvSpPr/>
          <p:nvPr/>
        </p:nvSpPr>
        <p:spPr>
          <a:xfrm>
            <a:off x="4651200" y="3444840"/>
            <a:ext cx="0" cy="1905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3809880" y="5349960"/>
            <a:ext cx="3191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4000680" y="3286080"/>
            <a:ext cx="667080" cy="2064240"/>
          </a:xfrm>
          <a:custGeom>
            <a:avLst/>
            <a:gdLst/>
            <a:ahLst/>
            <a:rect l="0" t="0" r="r" b="b"/>
            <a:pathLst>
              <a:path w="1853" h="5734">
                <a:moveTo>
                  <a:pt x="1853" y="5734"/>
                </a:moveTo>
                <a:lnTo>
                  <a:pt x="1853" y="0"/>
                </a:lnTo>
                <a:lnTo>
                  <a:pt x="1764" y="0"/>
                </a:lnTo>
                <a:lnTo>
                  <a:pt x="1632" y="0"/>
                </a:lnTo>
                <a:lnTo>
                  <a:pt x="1500" y="88"/>
                </a:lnTo>
                <a:lnTo>
                  <a:pt x="1368" y="132"/>
                </a:lnTo>
                <a:lnTo>
                  <a:pt x="1279" y="264"/>
                </a:lnTo>
                <a:lnTo>
                  <a:pt x="1191" y="396"/>
                </a:lnTo>
                <a:lnTo>
                  <a:pt x="1059" y="529"/>
                </a:lnTo>
                <a:lnTo>
                  <a:pt x="926" y="661"/>
                </a:lnTo>
                <a:lnTo>
                  <a:pt x="793" y="793"/>
                </a:lnTo>
                <a:lnTo>
                  <a:pt x="705" y="926"/>
                </a:lnTo>
                <a:lnTo>
                  <a:pt x="617" y="1058"/>
                </a:lnTo>
                <a:lnTo>
                  <a:pt x="573" y="1234"/>
                </a:lnTo>
                <a:lnTo>
                  <a:pt x="573" y="1411"/>
                </a:lnTo>
                <a:lnTo>
                  <a:pt x="529" y="1544"/>
                </a:lnTo>
                <a:lnTo>
                  <a:pt x="485" y="1720"/>
                </a:lnTo>
                <a:lnTo>
                  <a:pt x="440" y="1853"/>
                </a:lnTo>
                <a:lnTo>
                  <a:pt x="396" y="1985"/>
                </a:lnTo>
                <a:lnTo>
                  <a:pt x="308" y="2117"/>
                </a:lnTo>
                <a:lnTo>
                  <a:pt x="220" y="2249"/>
                </a:lnTo>
                <a:lnTo>
                  <a:pt x="220" y="2382"/>
                </a:lnTo>
                <a:lnTo>
                  <a:pt x="220" y="2514"/>
                </a:lnTo>
                <a:lnTo>
                  <a:pt x="176" y="2690"/>
                </a:lnTo>
                <a:lnTo>
                  <a:pt x="176" y="2867"/>
                </a:lnTo>
                <a:lnTo>
                  <a:pt x="176" y="3043"/>
                </a:lnTo>
                <a:lnTo>
                  <a:pt x="132" y="3176"/>
                </a:lnTo>
                <a:lnTo>
                  <a:pt x="132" y="3308"/>
                </a:lnTo>
                <a:lnTo>
                  <a:pt x="132" y="3484"/>
                </a:lnTo>
                <a:lnTo>
                  <a:pt x="132" y="3616"/>
                </a:lnTo>
                <a:lnTo>
                  <a:pt x="44" y="3749"/>
                </a:lnTo>
                <a:lnTo>
                  <a:pt x="44" y="3881"/>
                </a:lnTo>
                <a:lnTo>
                  <a:pt x="44" y="4013"/>
                </a:lnTo>
                <a:lnTo>
                  <a:pt x="0" y="4146"/>
                </a:lnTo>
                <a:lnTo>
                  <a:pt x="44" y="4278"/>
                </a:lnTo>
                <a:lnTo>
                  <a:pt x="88" y="4411"/>
                </a:lnTo>
                <a:lnTo>
                  <a:pt x="132" y="4544"/>
                </a:lnTo>
                <a:lnTo>
                  <a:pt x="132" y="4676"/>
                </a:lnTo>
                <a:lnTo>
                  <a:pt x="132" y="4808"/>
                </a:lnTo>
                <a:lnTo>
                  <a:pt x="132" y="4984"/>
                </a:lnTo>
                <a:lnTo>
                  <a:pt x="220" y="5117"/>
                </a:lnTo>
                <a:lnTo>
                  <a:pt x="264" y="5249"/>
                </a:lnTo>
                <a:lnTo>
                  <a:pt x="308" y="5381"/>
                </a:lnTo>
                <a:lnTo>
                  <a:pt x="308" y="5514"/>
                </a:lnTo>
                <a:lnTo>
                  <a:pt x="352" y="5690"/>
                </a:lnTo>
                <a:lnTo>
                  <a:pt x="1853" y="5734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3794040" y="5334120"/>
            <a:ext cx="3366000" cy="508320"/>
          </a:xfrm>
          <a:custGeom>
            <a:avLst/>
            <a:gdLst/>
            <a:ahLst/>
            <a:rect l="0" t="0" r="r" b="b"/>
            <a:pathLst>
              <a:path w="9350" h="1412">
                <a:moveTo>
                  <a:pt x="44" y="0"/>
                </a:moveTo>
                <a:lnTo>
                  <a:pt x="9350" y="0"/>
                </a:lnTo>
                <a:lnTo>
                  <a:pt x="9262" y="132"/>
                </a:lnTo>
                <a:lnTo>
                  <a:pt x="9130" y="220"/>
                </a:lnTo>
                <a:lnTo>
                  <a:pt x="9086" y="352"/>
                </a:lnTo>
                <a:lnTo>
                  <a:pt x="8997" y="485"/>
                </a:lnTo>
                <a:lnTo>
                  <a:pt x="8865" y="617"/>
                </a:lnTo>
                <a:lnTo>
                  <a:pt x="8733" y="705"/>
                </a:lnTo>
                <a:lnTo>
                  <a:pt x="8512" y="705"/>
                </a:lnTo>
                <a:lnTo>
                  <a:pt x="8380" y="750"/>
                </a:lnTo>
                <a:lnTo>
                  <a:pt x="8248" y="750"/>
                </a:lnTo>
                <a:lnTo>
                  <a:pt x="8071" y="794"/>
                </a:lnTo>
                <a:lnTo>
                  <a:pt x="7939" y="794"/>
                </a:lnTo>
                <a:lnTo>
                  <a:pt x="7719" y="971"/>
                </a:lnTo>
                <a:lnTo>
                  <a:pt x="7586" y="1059"/>
                </a:lnTo>
                <a:lnTo>
                  <a:pt x="7410" y="1147"/>
                </a:lnTo>
                <a:lnTo>
                  <a:pt x="7278" y="1279"/>
                </a:lnTo>
                <a:lnTo>
                  <a:pt x="7145" y="1323"/>
                </a:lnTo>
                <a:lnTo>
                  <a:pt x="6968" y="1368"/>
                </a:lnTo>
                <a:lnTo>
                  <a:pt x="6836" y="1412"/>
                </a:lnTo>
                <a:lnTo>
                  <a:pt x="6659" y="1412"/>
                </a:lnTo>
                <a:lnTo>
                  <a:pt x="6527" y="1412"/>
                </a:lnTo>
                <a:lnTo>
                  <a:pt x="6351" y="1368"/>
                </a:lnTo>
                <a:lnTo>
                  <a:pt x="6174" y="1279"/>
                </a:lnTo>
                <a:lnTo>
                  <a:pt x="4498" y="1279"/>
                </a:lnTo>
                <a:lnTo>
                  <a:pt x="4366" y="1279"/>
                </a:lnTo>
                <a:lnTo>
                  <a:pt x="4234" y="1279"/>
                </a:lnTo>
                <a:lnTo>
                  <a:pt x="3616" y="1323"/>
                </a:lnTo>
                <a:lnTo>
                  <a:pt x="3484" y="1323"/>
                </a:lnTo>
                <a:lnTo>
                  <a:pt x="3264" y="1323"/>
                </a:lnTo>
                <a:lnTo>
                  <a:pt x="3131" y="1323"/>
                </a:lnTo>
                <a:lnTo>
                  <a:pt x="2955" y="1235"/>
                </a:lnTo>
                <a:lnTo>
                  <a:pt x="2823" y="1191"/>
                </a:lnTo>
                <a:lnTo>
                  <a:pt x="2735" y="1059"/>
                </a:lnTo>
                <a:lnTo>
                  <a:pt x="2602" y="971"/>
                </a:lnTo>
                <a:lnTo>
                  <a:pt x="2426" y="927"/>
                </a:lnTo>
                <a:lnTo>
                  <a:pt x="1984" y="927"/>
                </a:lnTo>
                <a:lnTo>
                  <a:pt x="1852" y="927"/>
                </a:lnTo>
                <a:lnTo>
                  <a:pt x="1719" y="882"/>
                </a:lnTo>
                <a:lnTo>
                  <a:pt x="1587" y="882"/>
                </a:lnTo>
                <a:lnTo>
                  <a:pt x="1455" y="882"/>
                </a:lnTo>
                <a:lnTo>
                  <a:pt x="1322" y="882"/>
                </a:lnTo>
                <a:lnTo>
                  <a:pt x="1190" y="838"/>
                </a:lnTo>
                <a:lnTo>
                  <a:pt x="1014" y="705"/>
                </a:lnTo>
                <a:lnTo>
                  <a:pt x="926" y="573"/>
                </a:lnTo>
                <a:lnTo>
                  <a:pt x="793" y="485"/>
                </a:lnTo>
                <a:lnTo>
                  <a:pt x="661" y="352"/>
                </a:lnTo>
                <a:lnTo>
                  <a:pt x="529" y="264"/>
                </a:lnTo>
                <a:lnTo>
                  <a:pt x="396" y="176"/>
                </a:lnTo>
                <a:lnTo>
                  <a:pt x="264" y="132"/>
                </a:lnTo>
                <a:lnTo>
                  <a:pt x="132" y="44"/>
                </a:lnTo>
                <a:lnTo>
                  <a:pt x="0" y="0"/>
                </a:lnTo>
                <a:lnTo>
                  <a:pt x="44" y="0"/>
                </a:lnTo>
                <a:close/>
              </a:path>
            </a:pathLst>
          </a:custGeom>
          <a:solidFill>
            <a:srgbClr val="8cf4ea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 flipV="1">
            <a:off x="6012000" y="4505400"/>
            <a:ext cx="0" cy="809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 flipH="1" flipV="1">
            <a:off x="5424480" y="3917880"/>
            <a:ext cx="587520" cy="587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 flipH="1">
            <a:off x="4748040" y="3917880"/>
            <a:ext cx="676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4684680" y="3924360"/>
            <a:ext cx="95760" cy="1381320"/>
          </a:xfrm>
          <a:custGeom>
            <a:avLst/>
            <a:gdLst/>
            <a:ahLst/>
            <a:rect l="0" t="0" r="r" b="b"/>
            <a:pathLst>
              <a:path fill="none" w="266" h="3837">
                <a:moveTo>
                  <a:pt x="177" y="0"/>
                </a:moveTo>
                <a:lnTo>
                  <a:pt x="177" y="132"/>
                </a:lnTo>
                <a:lnTo>
                  <a:pt x="177" y="264"/>
                </a:lnTo>
                <a:lnTo>
                  <a:pt x="222" y="396"/>
                </a:lnTo>
                <a:lnTo>
                  <a:pt x="266" y="529"/>
                </a:lnTo>
                <a:lnTo>
                  <a:pt x="266" y="661"/>
                </a:lnTo>
                <a:lnTo>
                  <a:pt x="266" y="793"/>
                </a:lnTo>
                <a:lnTo>
                  <a:pt x="266" y="926"/>
                </a:lnTo>
                <a:lnTo>
                  <a:pt x="222" y="1058"/>
                </a:lnTo>
                <a:lnTo>
                  <a:pt x="177" y="1190"/>
                </a:lnTo>
                <a:lnTo>
                  <a:pt x="177" y="1322"/>
                </a:lnTo>
                <a:lnTo>
                  <a:pt x="133" y="1455"/>
                </a:lnTo>
                <a:lnTo>
                  <a:pt x="89" y="1587"/>
                </a:lnTo>
                <a:lnTo>
                  <a:pt x="89" y="1719"/>
                </a:lnTo>
                <a:lnTo>
                  <a:pt x="89" y="1852"/>
                </a:lnTo>
                <a:lnTo>
                  <a:pt x="133" y="1985"/>
                </a:lnTo>
                <a:lnTo>
                  <a:pt x="133" y="2117"/>
                </a:lnTo>
                <a:lnTo>
                  <a:pt x="133" y="2294"/>
                </a:lnTo>
                <a:lnTo>
                  <a:pt x="133" y="2426"/>
                </a:lnTo>
                <a:lnTo>
                  <a:pt x="133" y="2558"/>
                </a:lnTo>
                <a:lnTo>
                  <a:pt x="133" y="2690"/>
                </a:lnTo>
                <a:lnTo>
                  <a:pt x="133" y="2867"/>
                </a:lnTo>
                <a:lnTo>
                  <a:pt x="89" y="3043"/>
                </a:lnTo>
                <a:lnTo>
                  <a:pt x="44" y="3176"/>
                </a:lnTo>
                <a:lnTo>
                  <a:pt x="44" y="3308"/>
                </a:lnTo>
                <a:lnTo>
                  <a:pt x="89" y="3440"/>
                </a:lnTo>
                <a:lnTo>
                  <a:pt x="89" y="3572"/>
                </a:lnTo>
                <a:lnTo>
                  <a:pt x="44" y="3705"/>
                </a:lnTo>
                <a:lnTo>
                  <a:pt x="0" y="3837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4684680" y="5241960"/>
            <a:ext cx="1325880" cy="79560"/>
          </a:xfrm>
          <a:custGeom>
            <a:avLst/>
            <a:gdLst/>
            <a:ahLst/>
            <a:rect l="0" t="0" r="r" b="b"/>
            <a:pathLst>
              <a:path fill="none" w="3683" h="221">
                <a:moveTo>
                  <a:pt x="0" y="221"/>
                </a:moveTo>
                <a:lnTo>
                  <a:pt x="132" y="133"/>
                </a:lnTo>
                <a:lnTo>
                  <a:pt x="264" y="88"/>
                </a:lnTo>
                <a:lnTo>
                  <a:pt x="396" y="133"/>
                </a:lnTo>
                <a:lnTo>
                  <a:pt x="529" y="133"/>
                </a:lnTo>
                <a:lnTo>
                  <a:pt x="661" y="133"/>
                </a:lnTo>
                <a:lnTo>
                  <a:pt x="793" y="133"/>
                </a:lnTo>
                <a:lnTo>
                  <a:pt x="926" y="133"/>
                </a:lnTo>
                <a:lnTo>
                  <a:pt x="1058" y="177"/>
                </a:lnTo>
                <a:lnTo>
                  <a:pt x="1190" y="221"/>
                </a:lnTo>
                <a:lnTo>
                  <a:pt x="1322" y="221"/>
                </a:lnTo>
                <a:lnTo>
                  <a:pt x="1455" y="133"/>
                </a:lnTo>
                <a:lnTo>
                  <a:pt x="1587" y="88"/>
                </a:lnTo>
                <a:lnTo>
                  <a:pt x="1763" y="88"/>
                </a:lnTo>
                <a:lnTo>
                  <a:pt x="1941" y="88"/>
                </a:lnTo>
                <a:lnTo>
                  <a:pt x="2073" y="133"/>
                </a:lnTo>
                <a:lnTo>
                  <a:pt x="2294" y="133"/>
                </a:lnTo>
                <a:lnTo>
                  <a:pt x="2426" y="88"/>
                </a:lnTo>
                <a:lnTo>
                  <a:pt x="2690" y="0"/>
                </a:lnTo>
                <a:lnTo>
                  <a:pt x="2823" y="44"/>
                </a:lnTo>
                <a:lnTo>
                  <a:pt x="2955" y="88"/>
                </a:lnTo>
                <a:lnTo>
                  <a:pt x="3087" y="133"/>
                </a:lnTo>
                <a:lnTo>
                  <a:pt x="3220" y="133"/>
                </a:lnTo>
                <a:lnTo>
                  <a:pt x="3352" y="133"/>
                </a:lnTo>
                <a:lnTo>
                  <a:pt x="3528" y="221"/>
                </a:lnTo>
                <a:lnTo>
                  <a:pt x="3683" y="217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 flipV="1">
            <a:off x="4667400" y="2000160"/>
            <a:ext cx="0" cy="1206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7270920" y="5334120"/>
            <a:ext cx="825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4667400" y="2174760"/>
            <a:ext cx="3143520" cy="3143520"/>
          </a:xfrm>
          <a:custGeom>
            <a:avLst/>
            <a:gdLst/>
            <a:ahLst/>
            <a:rect l="0" t="0" r="r" b="b"/>
            <a:pathLst>
              <a:path fill="none" w="8732" h="8732">
                <a:moveTo>
                  <a:pt x="8732" y="8732"/>
                </a:moveTo>
                <a:lnTo>
                  <a:pt x="8732" y="8732"/>
                </a:lnTo>
                <a:lnTo>
                  <a:pt x="8732" y="8732"/>
                </a:lnTo>
                <a:cubicBezTo>
                  <a:pt x="8732" y="7199"/>
                  <a:pt x="8329" y="5693"/>
                  <a:pt x="7562" y="4366"/>
                </a:cubicBezTo>
                <a:cubicBezTo>
                  <a:pt x="6796" y="3039"/>
                  <a:pt x="5693" y="1936"/>
                  <a:pt x="4366" y="1170"/>
                </a:cubicBezTo>
                <a:cubicBezTo>
                  <a:pt x="3039" y="403"/>
                  <a:pt x="1533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7143840" y="3651120"/>
            <a:ext cx="523800" cy="301680"/>
          </a:xfrm>
          <a:prstGeom prst="rect">
            <a:avLst/>
          </a:prstGeom>
          <a:solidFill>
            <a:srgbClr val="114ff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 txBox="1"/>
          <p:nvPr/>
        </p:nvSpPr>
        <p:spPr>
          <a:xfrm>
            <a:off x="7169040" y="36669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7493040" y="3714840"/>
            <a:ext cx="63360" cy="633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601560" y="789120"/>
            <a:ext cx="825480" cy="291960"/>
            <a:chOff x="601560" y="789120"/>
            <a:chExt cx="825480" cy="291960"/>
          </a:xfrm>
        </p:grpSpPr>
        <p:sp>
          <p:nvSpPr>
            <p:cNvPr id="1080" name=""/>
            <p:cNvSpPr/>
            <p:nvPr/>
          </p:nvSpPr>
          <p:spPr>
            <a:xfrm>
              <a:off x="1135080" y="789120"/>
              <a:ext cx="291960" cy="291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H="1">
              <a:off x="662040" y="934920"/>
              <a:ext cx="4698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01560" y="844560"/>
              <a:ext cx="165600" cy="165600"/>
            </a:xfrm>
            <a:custGeom>
              <a:avLst/>
              <a:gdLst/>
              <a:ahLst/>
              <a:rect l="0" t="0" r="r" b="b"/>
              <a:pathLst>
                <a:path w="460" h="460">
                  <a:moveTo>
                    <a:pt x="0" y="0"/>
                  </a:moveTo>
                  <a:lnTo>
                    <a:pt x="0" y="460"/>
                  </a:lnTo>
                  <a:lnTo>
                    <a:pt x="460" y="2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c1fe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3" name=""/>
          <p:cNvSpPr txBox="1"/>
          <p:nvPr/>
        </p:nvSpPr>
        <p:spPr>
          <a:xfrm>
            <a:off x="1119240" y="78732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4" name=""/>
          <p:cNvGrpSpPr/>
          <p:nvPr/>
        </p:nvGrpSpPr>
        <p:grpSpPr>
          <a:xfrm>
            <a:off x="2782800" y="2509920"/>
            <a:ext cx="307800" cy="825840"/>
            <a:chOff x="2782800" y="2509920"/>
            <a:chExt cx="307800" cy="825840"/>
          </a:xfrm>
        </p:grpSpPr>
        <p:grpSp>
          <p:nvGrpSpPr>
            <p:cNvPr id="1085" name=""/>
            <p:cNvGrpSpPr/>
            <p:nvPr/>
          </p:nvGrpSpPr>
          <p:grpSpPr>
            <a:xfrm>
              <a:off x="2782800" y="2509920"/>
              <a:ext cx="291960" cy="825840"/>
              <a:chOff x="2782800" y="2509920"/>
              <a:chExt cx="291960" cy="825840"/>
            </a:xfrm>
          </p:grpSpPr>
          <p:sp>
            <p:nvSpPr>
              <p:cNvPr id="1086" name=""/>
              <p:cNvSpPr/>
              <p:nvPr/>
            </p:nvSpPr>
            <p:spPr>
              <a:xfrm>
                <a:off x="2782800" y="2509920"/>
                <a:ext cx="291960" cy="2919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2928960" y="2805120"/>
                <a:ext cx="0" cy="46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2835360" y="3170160"/>
                <a:ext cx="165600" cy="165600"/>
              </a:xfrm>
              <a:custGeom>
                <a:avLst/>
                <a:gdLst/>
                <a:ahLst/>
                <a:rect l="0" t="0" r="r" b="b"/>
                <a:pathLst>
                  <a:path w="460" h="460">
                    <a:moveTo>
                      <a:pt x="0" y="460"/>
                    </a:moveTo>
                    <a:lnTo>
                      <a:pt x="460" y="460"/>
                    </a:lnTo>
                    <a:lnTo>
                      <a:pt x="230" y="0"/>
                    </a:lnTo>
                    <a:lnTo>
                      <a:pt x="0" y="460"/>
                    </a:lnTo>
                    <a:close/>
                  </a:path>
                </a:pathLst>
              </a:custGeom>
              <a:solidFill>
                <a:srgbClr val="a2c1fe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9" name=""/>
            <p:cNvSpPr txBox="1"/>
            <p:nvPr/>
          </p:nvSpPr>
          <p:spPr>
            <a:xfrm>
              <a:off x="2787480" y="2517840"/>
              <a:ext cx="3031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0" name=""/>
          <p:cNvSpPr txBox="1"/>
          <p:nvPr/>
        </p:nvSpPr>
        <p:spPr>
          <a:xfrm>
            <a:off x="2575080" y="447840"/>
            <a:ext cx="45766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ontrolled relationship betw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datum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a perfect 90 degre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 flipH="1">
            <a:off x="2289240" y="662040"/>
            <a:ext cx="257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 flipH="1">
            <a:off x="625320" y="662040"/>
            <a:ext cx="1633680" cy="10429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2273400" y="662040"/>
            <a:ext cx="317520" cy="26607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6446880" y="1039680"/>
            <a:ext cx="5302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6977160" y="1039680"/>
            <a:ext cx="452520" cy="2630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 txBox="1"/>
          <p:nvPr/>
        </p:nvSpPr>
        <p:spPr>
          <a:xfrm>
            <a:off x="880920" y="3841920"/>
            <a:ext cx="12891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00dfca"/>
                </a:solidFill>
                <a:uFillTx/>
                <a:latin typeface="Times New Roman"/>
                <a:ea typeface="Times New Roman"/>
              </a:rPr>
              <a:t>DRA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 txBox="1"/>
          <p:nvPr/>
        </p:nvSpPr>
        <p:spPr>
          <a:xfrm>
            <a:off x="5499000" y="6153120"/>
            <a:ext cx="2127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00dfca"/>
                </a:solidFill>
                <a:uFillTx/>
                <a:latin typeface="Times New Roman"/>
                <a:ea typeface="Times New Roman"/>
              </a:rPr>
              <a:t>INTERP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9" name=""/>
          <p:cNvGrpSpPr/>
          <p:nvPr/>
        </p:nvGrpSpPr>
        <p:grpSpPr>
          <a:xfrm>
            <a:off x="603360" y="746280"/>
            <a:ext cx="2619360" cy="2587320"/>
            <a:chOff x="603360" y="746280"/>
            <a:chExt cx="2619360" cy="2587320"/>
          </a:xfrm>
        </p:grpSpPr>
        <p:grpSp>
          <p:nvGrpSpPr>
            <p:cNvPr id="1100" name=""/>
            <p:cNvGrpSpPr/>
            <p:nvPr/>
          </p:nvGrpSpPr>
          <p:grpSpPr>
            <a:xfrm>
              <a:off x="603360" y="1936800"/>
              <a:ext cx="1333440" cy="1396800"/>
              <a:chOff x="603360" y="1936800"/>
              <a:chExt cx="1333440" cy="1396800"/>
            </a:xfrm>
          </p:grpSpPr>
          <p:sp>
            <p:nvSpPr>
              <p:cNvPr id="1101" name=""/>
              <p:cNvSpPr/>
              <p:nvPr/>
            </p:nvSpPr>
            <p:spPr>
              <a:xfrm>
                <a:off x="603360" y="1936800"/>
                <a:ext cx="0" cy="1396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619200" y="3333600"/>
                <a:ext cx="1317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 flipV="1">
                <a:off x="1936800" y="2523960"/>
                <a:ext cx="0" cy="809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flipH="1" flipV="1">
                <a:off x="1349280" y="1936800"/>
                <a:ext cx="587520" cy="587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 flipH="1">
                <a:off x="603360" y="1936800"/>
                <a:ext cx="745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6" name=""/>
            <p:cNvSpPr/>
            <p:nvPr/>
          </p:nvSpPr>
          <p:spPr>
            <a:xfrm flipV="1">
              <a:off x="603360" y="746280"/>
              <a:ext cx="0" cy="1110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063880" y="3333600"/>
              <a:ext cx="11588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8" name=""/>
          <p:cNvSpPr/>
          <p:nvPr/>
        </p:nvSpPr>
        <p:spPr>
          <a:xfrm>
            <a:off x="4651200" y="3444840"/>
            <a:ext cx="0" cy="1905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3809880" y="5349960"/>
            <a:ext cx="3191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4000680" y="3286080"/>
            <a:ext cx="667080" cy="2064240"/>
          </a:xfrm>
          <a:custGeom>
            <a:avLst/>
            <a:gdLst/>
            <a:ahLst/>
            <a:rect l="0" t="0" r="r" b="b"/>
            <a:pathLst>
              <a:path w="1853" h="5734">
                <a:moveTo>
                  <a:pt x="1853" y="5734"/>
                </a:moveTo>
                <a:lnTo>
                  <a:pt x="1853" y="0"/>
                </a:lnTo>
                <a:lnTo>
                  <a:pt x="1764" y="0"/>
                </a:lnTo>
                <a:lnTo>
                  <a:pt x="1632" y="0"/>
                </a:lnTo>
                <a:lnTo>
                  <a:pt x="1500" y="88"/>
                </a:lnTo>
                <a:lnTo>
                  <a:pt x="1368" y="132"/>
                </a:lnTo>
                <a:lnTo>
                  <a:pt x="1279" y="264"/>
                </a:lnTo>
                <a:lnTo>
                  <a:pt x="1191" y="396"/>
                </a:lnTo>
                <a:lnTo>
                  <a:pt x="1059" y="529"/>
                </a:lnTo>
                <a:lnTo>
                  <a:pt x="926" y="661"/>
                </a:lnTo>
                <a:lnTo>
                  <a:pt x="793" y="793"/>
                </a:lnTo>
                <a:lnTo>
                  <a:pt x="705" y="926"/>
                </a:lnTo>
                <a:lnTo>
                  <a:pt x="617" y="1058"/>
                </a:lnTo>
                <a:lnTo>
                  <a:pt x="573" y="1234"/>
                </a:lnTo>
                <a:lnTo>
                  <a:pt x="573" y="1411"/>
                </a:lnTo>
                <a:lnTo>
                  <a:pt x="529" y="1544"/>
                </a:lnTo>
                <a:lnTo>
                  <a:pt x="485" y="1720"/>
                </a:lnTo>
                <a:lnTo>
                  <a:pt x="440" y="1853"/>
                </a:lnTo>
                <a:lnTo>
                  <a:pt x="396" y="1985"/>
                </a:lnTo>
                <a:lnTo>
                  <a:pt x="308" y="2117"/>
                </a:lnTo>
                <a:lnTo>
                  <a:pt x="220" y="2249"/>
                </a:lnTo>
                <a:lnTo>
                  <a:pt x="220" y="2382"/>
                </a:lnTo>
                <a:lnTo>
                  <a:pt x="220" y="2514"/>
                </a:lnTo>
                <a:lnTo>
                  <a:pt x="176" y="2690"/>
                </a:lnTo>
                <a:lnTo>
                  <a:pt x="176" y="2867"/>
                </a:lnTo>
                <a:lnTo>
                  <a:pt x="176" y="3043"/>
                </a:lnTo>
                <a:lnTo>
                  <a:pt x="132" y="3176"/>
                </a:lnTo>
                <a:lnTo>
                  <a:pt x="132" y="3308"/>
                </a:lnTo>
                <a:lnTo>
                  <a:pt x="132" y="3484"/>
                </a:lnTo>
                <a:lnTo>
                  <a:pt x="132" y="3616"/>
                </a:lnTo>
                <a:lnTo>
                  <a:pt x="44" y="3749"/>
                </a:lnTo>
                <a:lnTo>
                  <a:pt x="44" y="3881"/>
                </a:lnTo>
                <a:lnTo>
                  <a:pt x="44" y="4013"/>
                </a:lnTo>
                <a:lnTo>
                  <a:pt x="0" y="4146"/>
                </a:lnTo>
                <a:lnTo>
                  <a:pt x="44" y="4278"/>
                </a:lnTo>
                <a:lnTo>
                  <a:pt x="88" y="4411"/>
                </a:lnTo>
                <a:lnTo>
                  <a:pt x="132" y="4544"/>
                </a:lnTo>
                <a:lnTo>
                  <a:pt x="132" y="4676"/>
                </a:lnTo>
                <a:lnTo>
                  <a:pt x="132" y="4808"/>
                </a:lnTo>
                <a:lnTo>
                  <a:pt x="132" y="4984"/>
                </a:lnTo>
                <a:lnTo>
                  <a:pt x="220" y="5117"/>
                </a:lnTo>
                <a:lnTo>
                  <a:pt x="264" y="5249"/>
                </a:lnTo>
                <a:lnTo>
                  <a:pt x="308" y="5381"/>
                </a:lnTo>
                <a:lnTo>
                  <a:pt x="308" y="5514"/>
                </a:lnTo>
                <a:lnTo>
                  <a:pt x="352" y="5690"/>
                </a:lnTo>
                <a:lnTo>
                  <a:pt x="1853" y="5734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3794040" y="5334120"/>
            <a:ext cx="3366000" cy="508320"/>
          </a:xfrm>
          <a:custGeom>
            <a:avLst/>
            <a:gdLst/>
            <a:ahLst/>
            <a:rect l="0" t="0" r="r" b="b"/>
            <a:pathLst>
              <a:path w="9350" h="1412">
                <a:moveTo>
                  <a:pt x="44" y="0"/>
                </a:moveTo>
                <a:lnTo>
                  <a:pt x="9350" y="0"/>
                </a:lnTo>
                <a:lnTo>
                  <a:pt x="9262" y="132"/>
                </a:lnTo>
                <a:lnTo>
                  <a:pt x="9130" y="220"/>
                </a:lnTo>
                <a:lnTo>
                  <a:pt x="9086" y="352"/>
                </a:lnTo>
                <a:lnTo>
                  <a:pt x="8997" y="485"/>
                </a:lnTo>
                <a:lnTo>
                  <a:pt x="8865" y="617"/>
                </a:lnTo>
                <a:lnTo>
                  <a:pt x="8733" y="705"/>
                </a:lnTo>
                <a:lnTo>
                  <a:pt x="8512" y="705"/>
                </a:lnTo>
                <a:lnTo>
                  <a:pt x="8380" y="750"/>
                </a:lnTo>
                <a:lnTo>
                  <a:pt x="8248" y="750"/>
                </a:lnTo>
                <a:lnTo>
                  <a:pt x="8071" y="794"/>
                </a:lnTo>
                <a:lnTo>
                  <a:pt x="7939" y="794"/>
                </a:lnTo>
                <a:lnTo>
                  <a:pt x="7719" y="971"/>
                </a:lnTo>
                <a:lnTo>
                  <a:pt x="7586" y="1059"/>
                </a:lnTo>
                <a:lnTo>
                  <a:pt x="7410" y="1147"/>
                </a:lnTo>
                <a:lnTo>
                  <a:pt x="7278" y="1279"/>
                </a:lnTo>
                <a:lnTo>
                  <a:pt x="7145" y="1323"/>
                </a:lnTo>
                <a:lnTo>
                  <a:pt x="6968" y="1368"/>
                </a:lnTo>
                <a:lnTo>
                  <a:pt x="6836" y="1412"/>
                </a:lnTo>
                <a:lnTo>
                  <a:pt x="6659" y="1412"/>
                </a:lnTo>
                <a:lnTo>
                  <a:pt x="6527" y="1412"/>
                </a:lnTo>
                <a:lnTo>
                  <a:pt x="6351" y="1368"/>
                </a:lnTo>
                <a:lnTo>
                  <a:pt x="6174" y="1279"/>
                </a:lnTo>
                <a:lnTo>
                  <a:pt x="4498" y="1279"/>
                </a:lnTo>
                <a:lnTo>
                  <a:pt x="4366" y="1279"/>
                </a:lnTo>
                <a:lnTo>
                  <a:pt x="4234" y="1279"/>
                </a:lnTo>
                <a:lnTo>
                  <a:pt x="3616" y="1323"/>
                </a:lnTo>
                <a:lnTo>
                  <a:pt x="3484" y="1323"/>
                </a:lnTo>
                <a:lnTo>
                  <a:pt x="3264" y="1323"/>
                </a:lnTo>
                <a:lnTo>
                  <a:pt x="3131" y="1323"/>
                </a:lnTo>
                <a:lnTo>
                  <a:pt x="2955" y="1235"/>
                </a:lnTo>
                <a:lnTo>
                  <a:pt x="2823" y="1191"/>
                </a:lnTo>
                <a:lnTo>
                  <a:pt x="2735" y="1059"/>
                </a:lnTo>
                <a:lnTo>
                  <a:pt x="2602" y="971"/>
                </a:lnTo>
                <a:lnTo>
                  <a:pt x="2426" y="927"/>
                </a:lnTo>
                <a:lnTo>
                  <a:pt x="1984" y="927"/>
                </a:lnTo>
                <a:lnTo>
                  <a:pt x="1852" y="927"/>
                </a:lnTo>
                <a:lnTo>
                  <a:pt x="1719" y="882"/>
                </a:lnTo>
                <a:lnTo>
                  <a:pt x="1587" y="882"/>
                </a:lnTo>
                <a:lnTo>
                  <a:pt x="1455" y="882"/>
                </a:lnTo>
                <a:lnTo>
                  <a:pt x="1322" y="882"/>
                </a:lnTo>
                <a:lnTo>
                  <a:pt x="1190" y="838"/>
                </a:lnTo>
                <a:lnTo>
                  <a:pt x="1014" y="705"/>
                </a:lnTo>
                <a:lnTo>
                  <a:pt x="926" y="573"/>
                </a:lnTo>
                <a:lnTo>
                  <a:pt x="793" y="485"/>
                </a:lnTo>
                <a:lnTo>
                  <a:pt x="661" y="352"/>
                </a:lnTo>
                <a:lnTo>
                  <a:pt x="529" y="264"/>
                </a:lnTo>
                <a:lnTo>
                  <a:pt x="396" y="176"/>
                </a:lnTo>
                <a:lnTo>
                  <a:pt x="264" y="132"/>
                </a:lnTo>
                <a:lnTo>
                  <a:pt x="132" y="44"/>
                </a:lnTo>
                <a:lnTo>
                  <a:pt x="0" y="0"/>
                </a:lnTo>
                <a:lnTo>
                  <a:pt x="44" y="0"/>
                </a:lnTo>
                <a:close/>
              </a:path>
            </a:pathLst>
          </a:custGeom>
          <a:solidFill>
            <a:srgbClr val="8cf4ea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 flipV="1">
            <a:off x="6012000" y="4505400"/>
            <a:ext cx="0" cy="809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 flipH="1" flipV="1">
            <a:off x="5424480" y="3917880"/>
            <a:ext cx="587520" cy="587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 flipH="1">
            <a:off x="4748040" y="3917880"/>
            <a:ext cx="676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4684680" y="3924360"/>
            <a:ext cx="95760" cy="1381320"/>
          </a:xfrm>
          <a:custGeom>
            <a:avLst/>
            <a:gdLst/>
            <a:ahLst/>
            <a:rect l="0" t="0" r="r" b="b"/>
            <a:pathLst>
              <a:path fill="none" w="266" h="3837">
                <a:moveTo>
                  <a:pt x="177" y="0"/>
                </a:moveTo>
                <a:lnTo>
                  <a:pt x="177" y="132"/>
                </a:lnTo>
                <a:lnTo>
                  <a:pt x="177" y="264"/>
                </a:lnTo>
                <a:lnTo>
                  <a:pt x="222" y="396"/>
                </a:lnTo>
                <a:lnTo>
                  <a:pt x="266" y="529"/>
                </a:lnTo>
                <a:lnTo>
                  <a:pt x="266" y="661"/>
                </a:lnTo>
                <a:lnTo>
                  <a:pt x="266" y="793"/>
                </a:lnTo>
                <a:lnTo>
                  <a:pt x="266" y="926"/>
                </a:lnTo>
                <a:lnTo>
                  <a:pt x="222" y="1058"/>
                </a:lnTo>
                <a:lnTo>
                  <a:pt x="177" y="1190"/>
                </a:lnTo>
                <a:lnTo>
                  <a:pt x="177" y="1322"/>
                </a:lnTo>
                <a:lnTo>
                  <a:pt x="133" y="1455"/>
                </a:lnTo>
                <a:lnTo>
                  <a:pt x="89" y="1587"/>
                </a:lnTo>
                <a:lnTo>
                  <a:pt x="89" y="1719"/>
                </a:lnTo>
                <a:lnTo>
                  <a:pt x="89" y="1852"/>
                </a:lnTo>
                <a:lnTo>
                  <a:pt x="133" y="1985"/>
                </a:lnTo>
                <a:lnTo>
                  <a:pt x="133" y="2117"/>
                </a:lnTo>
                <a:lnTo>
                  <a:pt x="133" y="2294"/>
                </a:lnTo>
                <a:lnTo>
                  <a:pt x="133" y="2426"/>
                </a:lnTo>
                <a:lnTo>
                  <a:pt x="133" y="2558"/>
                </a:lnTo>
                <a:lnTo>
                  <a:pt x="133" y="2690"/>
                </a:lnTo>
                <a:lnTo>
                  <a:pt x="133" y="2867"/>
                </a:lnTo>
                <a:lnTo>
                  <a:pt x="89" y="3043"/>
                </a:lnTo>
                <a:lnTo>
                  <a:pt x="44" y="3176"/>
                </a:lnTo>
                <a:lnTo>
                  <a:pt x="44" y="3308"/>
                </a:lnTo>
                <a:lnTo>
                  <a:pt x="89" y="3440"/>
                </a:lnTo>
                <a:lnTo>
                  <a:pt x="89" y="3572"/>
                </a:lnTo>
                <a:lnTo>
                  <a:pt x="44" y="3705"/>
                </a:lnTo>
                <a:lnTo>
                  <a:pt x="0" y="3837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4684680" y="5241960"/>
            <a:ext cx="1325880" cy="79560"/>
          </a:xfrm>
          <a:custGeom>
            <a:avLst/>
            <a:gdLst/>
            <a:ahLst/>
            <a:rect l="0" t="0" r="r" b="b"/>
            <a:pathLst>
              <a:path fill="none" w="3683" h="221">
                <a:moveTo>
                  <a:pt x="0" y="221"/>
                </a:moveTo>
                <a:lnTo>
                  <a:pt x="132" y="133"/>
                </a:lnTo>
                <a:lnTo>
                  <a:pt x="264" y="88"/>
                </a:lnTo>
                <a:lnTo>
                  <a:pt x="396" y="133"/>
                </a:lnTo>
                <a:lnTo>
                  <a:pt x="529" y="133"/>
                </a:lnTo>
                <a:lnTo>
                  <a:pt x="661" y="133"/>
                </a:lnTo>
                <a:lnTo>
                  <a:pt x="793" y="133"/>
                </a:lnTo>
                <a:lnTo>
                  <a:pt x="926" y="133"/>
                </a:lnTo>
                <a:lnTo>
                  <a:pt x="1058" y="177"/>
                </a:lnTo>
                <a:lnTo>
                  <a:pt x="1190" y="221"/>
                </a:lnTo>
                <a:lnTo>
                  <a:pt x="1322" y="221"/>
                </a:lnTo>
                <a:lnTo>
                  <a:pt x="1455" y="133"/>
                </a:lnTo>
                <a:lnTo>
                  <a:pt x="1587" y="88"/>
                </a:lnTo>
                <a:lnTo>
                  <a:pt x="1763" y="88"/>
                </a:lnTo>
                <a:lnTo>
                  <a:pt x="1941" y="88"/>
                </a:lnTo>
                <a:lnTo>
                  <a:pt x="2073" y="133"/>
                </a:lnTo>
                <a:lnTo>
                  <a:pt x="2294" y="133"/>
                </a:lnTo>
                <a:lnTo>
                  <a:pt x="2426" y="88"/>
                </a:lnTo>
                <a:lnTo>
                  <a:pt x="2690" y="0"/>
                </a:lnTo>
                <a:lnTo>
                  <a:pt x="2823" y="44"/>
                </a:lnTo>
                <a:lnTo>
                  <a:pt x="2955" y="88"/>
                </a:lnTo>
                <a:lnTo>
                  <a:pt x="3087" y="133"/>
                </a:lnTo>
                <a:lnTo>
                  <a:pt x="3220" y="133"/>
                </a:lnTo>
                <a:lnTo>
                  <a:pt x="3352" y="133"/>
                </a:lnTo>
                <a:lnTo>
                  <a:pt x="3528" y="221"/>
                </a:lnTo>
                <a:lnTo>
                  <a:pt x="3683" y="217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 flipV="1">
            <a:off x="4762440" y="2610000"/>
            <a:ext cx="58680" cy="1231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7270920" y="5334120"/>
            <a:ext cx="2696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 txBox="1"/>
          <p:nvPr/>
        </p:nvSpPr>
        <p:spPr>
          <a:xfrm>
            <a:off x="4103640" y="1050840"/>
            <a:ext cx="49150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Datum featu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lationship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led by a tolerance specif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the dra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6145200" y="2027160"/>
            <a:ext cx="682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 flipH="1">
            <a:off x="6665760" y="2038320"/>
            <a:ext cx="158760" cy="1290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 txBox="1"/>
          <p:nvPr/>
        </p:nvSpPr>
        <p:spPr>
          <a:xfrm>
            <a:off x="1119240" y="78732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3" name=""/>
          <p:cNvGrpSpPr/>
          <p:nvPr/>
        </p:nvGrpSpPr>
        <p:grpSpPr>
          <a:xfrm>
            <a:off x="601560" y="789120"/>
            <a:ext cx="825480" cy="291960"/>
            <a:chOff x="601560" y="789120"/>
            <a:chExt cx="825480" cy="291960"/>
          </a:xfrm>
        </p:grpSpPr>
        <p:sp>
          <p:nvSpPr>
            <p:cNvPr id="1124" name=""/>
            <p:cNvSpPr/>
            <p:nvPr/>
          </p:nvSpPr>
          <p:spPr>
            <a:xfrm>
              <a:off x="1135080" y="789120"/>
              <a:ext cx="291960" cy="291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H="1">
              <a:off x="662040" y="934920"/>
              <a:ext cx="4698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01560" y="844560"/>
              <a:ext cx="165600" cy="165600"/>
            </a:xfrm>
            <a:custGeom>
              <a:avLst/>
              <a:gdLst/>
              <a:ahLst/>
              <a:rect l="0" t="0" r="r" b="b"/>
              <a:pathLst>
                <a:path w="460" h="460">
                  <a:moveTo>
                    <a:pt x="0" y="0"/>
                  </a:moveTo>
                  <a:lnTo>
                    <a:pt x="0" y="460"/>
                  </a:lnTo>
                  <a:lnTo>
                    <a:pt x="460" y="2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c1fe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7" name=""/>
          <p:cNvGrpSpPr/>
          <p:nvPr/>
        </p:nvGrpSpPr>
        <p:grpSpPr>
          <a:xfrm>
            <a:off x="2782800" y="2509920"/>
            <a:ext cx="307800" cy="825840"/>
            <a:chOff x="2782800" y="2509920"/>
            <a:chExt cx="307800" cy="825840"/>
          </a:xfrm>
        </p:grpSpPr>
        <p:grpSp>
          <p:nvGrpSpPr>
            <p:cNvPr id="1128" name=""/>
            <p:cNvGrpSpPr/>
            <p:nvPr/>
          </p:nvGrpSpPr>
          <p:grpSpPr>
            <a:xfrm>
              <a:off x="2782800" y="2509920"/>
              <a:ext cx="291960" cy="825840"/>
              <a:chOff x="2782800" y="2509920"/>
              <a:chExt cx="291960" cy="825840"/>
            </a:xfrm>
          </p:grpSpPr>
          <p:sp>
            <p:nvSpPr>
              <p:cNvPr id="1129" name=""/>
              <p:cNvSpPr/>
              <p:nvPr/>
            </p:nvSpPr>
            <p:spPr>
              <a:xfrm>
                <a:off x="2782800" y="2509920"/>
                <a:ext cx="291960" cy="2919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2928960" y="2805120"/>
                <a:ext cx="0" cy="46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2835360" y="3170160"/>
                <a:ext cx="165600" cy="165600"/>
              </a:xfrm>
              <a:custGeom>
                <a:avLst/>
                <a:gdLst/>
                <a:ahLst/>
                <a:rect l="0" t="0" r="r" b="b"/>
                <a:pathLst>
                  <a:path w="460" h="460">
                    <a:moveTo>
                      <a:pt x="0" y="460"/>
                    </a:moveTo>
                    <a:lnTo>
                      <a:pt x="460" y="460"/>
                    </a:lnTo>
                    <a:lnTo>
                      <a:pt x="230" y="0"/>
                    </a:lnTo>
                    <a:lnTo>
                      <a:pt x="0" y="460"/>
                    </a:lnTo>
                    <a:close/>
                  </a:path>
                </a:pathLst>
              </a:custGeom>
              <a:solidFill>
                <a:srgbClr val="a2c1fe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2" name=""/>
            <p:cNvSpPr txBox="1"/>
            <p:nvPr/>
          </p:nvSpPr>
          <p:spPr>
            <a:xfrm>
              <a:off x="2787480" y="2517840"/>
              <a:ext cx="3031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"/>
          <p:cNvSpPr txBox="1"/>
          <p:nvPr/>
        </p:nvSpPr>
        <p:spPr>
          <a:xfrm>
            <a:off x="880920" y="3841920"/>
            <a:ext cx="12891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00dfca"/>
                </a:solidFill>
                <a:uFillTx/>
                <a:latin typeface="Times New Roman"/>
                <a:ea typeface="Times New Roman"/>
              </a:rPr>
              <a:t>DRA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4815000" y="2774880"/>
            <a:ext cx="2537280" cy="2537280"/>
          </a:xfrm>
          <a:custGeom>
            <a:avLst/>
            <a:gdLst/>
            <a:ahLst/>
            <a:rect l="0" t="0" r="r" b="b"/>
            <a:pathLst>
              <a:path fill="none" w="7048" h="7048">
                <a:moveTo>
                  <a:pt x="7048" y="7048"/>
                </a:moveTo>
                <a:lnTo>
                  <a:pt x="7048" y="7048"/>
                </a:lnTo>
                <a:lnTo>
                  <a:pt x="7048" y="7048"/>
                </a:lnTo>
                <a:cubicBezTo>
                  <a:pt x="7048" y="5811"/>
                  <a:pt x="6722" y="4595"/>
                  <a:pt x="6104" y="3524"/>
                </a:cubicBezTo>
                <a:cubicBezTo>
                  <a:pt x="5485" y="2453"/>
                  <a:pt x="4595" y="1563"/>
                  <a:pt x="3524" y="944"/>
                </a:cubicBezTo>
                <a:cubicBezTo>
                  <a:pt x="2453" y="326"/>
                  <a:pt x="1237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6243480" y="3373560"/>
            <a:ext cx="676440" cy="33192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6318360" y="3398760"/>
            <a:ext cx="8953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   XX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6600960" y="3473280"/>
            <a:ext cx="54000" cy="540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8" name=""/>
          <p:cNvGrpSpPr/>
          <p:nvPr/>
        </p:nvGrpSpPr>
        <p:grpSpPr>
          <a:xfrm>
            <a:off x="6197760" y="3467160"/>
            <a:ext cx="122040" cy="154080"/>
            <a:chOff x="6197760" y="3467160"/>
            <a:chExt cx="122040" cy="154080"/>
          </a:xfrm>
        </p:grpSpPr>
        <p:sp>
          <p:nvSpPr>
            <p:cNvPr id="1139" name=""/>
            <p:cNvSpPr/>
            <p:nvPr/>
          </p:nvSpPr>
          <p:spPr>
            <a:xfrm>
              <a:off x="6259680" y="3467160"/>
              <a:ext cx="0" cy="109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6197760" y="3522600"/>
              <a:ext cx="122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6205680" y="3621240"/>
              <a:ext cx="1094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2" name=""/>
          <p:cNvSpPr txBox="1"/>
          <p:nvPr/>
        </p:nvSpPr>
        <p:spPr>
          <a:xfrm>
            <a:off x="5499000" y="6153120"/>
            <a:ext cx="2127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00dfca"/>
                </a:solidFill>
                <a:uFillTx/>
                <a:latin typeface="Times New Roman"/>
                <a:ea typeface="Times New Roman"/>
              </a:rPr>
              <a:t>INTERP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itle Block Tolera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8321760" y="1811160"/>
            <a:ext cx="0" cy="36133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 flipH="1">
            <a:off x="928800" y="5430960"/>
            <a:ext cx="739296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 flipH="1">
            <a:off x="3271680" y="2552760"/>
            <a:ext cx="5034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3271680" y="2552760"/>
            <a:ext cx="0" cy="28717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 flipH="1">
            <a:off x="1290600" y="3639960"/>
            <a:ext cx="19810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1290600" y="3639960"/>
            <a:ext cx="0" cy="17845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3271680" y="2840040"/>
            <a:ext cx="503424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3271680" y="3639960"/>
            <a:ext cx="503424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3271680" y="4789440"/>
            <a:ext cx="50500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3271680" y="5092560"/>
            <a:ext cx="23292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5614920" y="4789440"/>
            <a:ext cx="0" cy="6350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8775720" y="1938240"/>
            <a:ext cx="0" cy="3961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 flipH="1">
            <a:off x="822240" y="5899320"/>
            <a:ext cx="79376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2583000" y="4948200"/>
            <a:ext cx="44280" cy="44280"/>
          </a:xfrm>
          <a:prstGeom prst="ellipse">
            <a:avLst/>
          </a:prstGeom>
          <a:noFill/>
          <a:ln w="12600">
            <a:solidFill>
              <a:srgbClr val="ffff00"/>
            </a:solidFill>
            <a:round/>
          </a:ln>
        </p:spPr>
        <p:txBody>
          <a:bodyPr lIns="96120" rIns="9612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1517760" y="2824200"/>
            <a:ext cx="272880" cy="272880"/>
          </a:xfrm>
          <a:prstGeom prst="ellipse">
            <a:avLst/>
          </a:prstGeom>
          <a:solidFill>
            <a:srgbClr val="a2c1fe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1517760" y="2824200"/>
            <a:ext cx="272880" cy="272880"/>
          </a:xfrm>
          <a:prstGeom prst="ellipse">
            <a:avLst/>
          </a:prstGeom>
          <a:solidFill>
            <a:srgbClr val="a2c1fe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1592280" y="4289400"/>
            <a:ext cx="1452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.X = + 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.XX = + .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.XXX = + .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1471680" y="2778120"/>
            <a:ext cx="436680" cy="436680"/>
          </a:xfrm>
          <a:prstGeom prst="ellipse">
            <a:avLst/>
          </a:prstGeom>
          <a:solidFill>
            <a:srgbClr val="114ff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1552680" y="2859120"/>
            <a:ext cx="272880" cy="272880"/>
          </a:xfrm>
          <a:prstGeom prst="ellipse">
            <a:avLst/>
          </a:prstGeom>
          <a:solidFill>
            <a:srgbClr val="114ff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 txBox="1"/>
          <p:nvPr/>
        </p:nvSpPr>
        <p:spPr>
          <a:xfrm>
            <a:off x="1595520" y="4903920"/>
            <a:ext cx="14209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Angles = + 0  - 30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1684440" y="296064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5" name=""/>
          <p:cNvGrpSpPr/>
          <p:nvPr/>
        </p:nvGrpSpPr>
        <p:grpSpPr>
          <a:xfrm>
            <a:off x="1406520" y="3003480"/>
            <a:ext cx="560520" cy="1800"/>
            <a:chOff x="1406520" y="3003480"/>
            <a:chExt cx="560520" cy="1800"/>
          </a:xfrm>
        </p:grpSpPr>
        <p:sp>
          <p:nvSpPr>
            <p:cNvPr id="1166" name=""/>
            <p:cNvSpPr/>
            <p:nvPr/>
          </p:nvSpPr>
          <p:spPr>
            <a:xfrm>
              <a:off x="1639800" y="3005280"/>
              <a:ext cx="74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H="1">
              <a:off x="1406520" y="3003480"/>
              <a:ext cx="196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762200" y="3005280"/>
              <a:ext cx="2048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9" name=""/>
          <p:cNvSpPr/>
          <p:nvPr/>
        </p:nvSpPr>
        <p:spPr>
          <a:xfrm flipV="1">
            <a:off x="1684440" y="2716200"/>
            <a:ext cx="0" cy="212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1684440" y="3076560"/>
            <a:ext cx="0" cy="193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2211480" y="2868480"/>
            <a:ext cx="0" cy="262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 flipV="1">
            <a:off x="2211480" y="2782800"/>
            <a:ext cx="531720" cy="85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2744640" y="2787480"/>
            <a:ext cx="0" cy="419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 flipH="1" flipV="1">
            <a:off x="2211480" y="3130560"/>
            <a:ext cx="533160" cy="76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2430360" y="3006720"/>
            <a:ext cx="748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 flipH="1">
            <a:off x="2124000" y="3005280"/>
            <a:ext cx="2700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2552760" y="3006720"/>
            <a:ext cx="2728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 txBox="1"/>
          <p:nvPr/>
        </p:nvSpPr>
        <p:spPr>
          <a:xfrm>
            <a:off x="1744560" y="3703680"/>
            <a:ext cx="9716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OLERAN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 txBox="1"/>
          <p:nvPr/>
        </p:nvSpPr>
        <p:spPr>
          <a:xfrm>
            <a:off x="1251000" y="3941640"/>
            <a:ext cx="2019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UNLESS OTHERWISE SPECIFIED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TOLERANCES WILL BE AS FOLLOW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2000160" y="446400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2108160" y="464508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2200320" y="483228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 txBox="1"/>
          <p:nvPr/>
        </p:nvSpPr>
        <p:spPr>
          <a:xfrm>
            <a:off x="1278000" y="5143320"/>
            <a:ext cx="19620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IMENSIONS ARE IN INCH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 txBox="1"/>
          <p:nvPr/>
        </p:nvSpPr>
        <p:spPr>
          <a:xfrm>
            <a:off x="3225960" y="4908600"/>
            <a:ext cx="6523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Drawn B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 txBox="1"/>
          <p:nvPr/>
        </p:nvSpPr>
        <p:spPr>
          <a:xfrm>
            <a:off x="3270240" y="5226120"/>
            <a:ext cx="7603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Checked B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 txBox="1"/>
          <p:nvPr/>
        </p:nvSpPr>
        <p:spPr>
          <a:xfrm>
            <a:off x="5629320" y="4802040"/>
            <a:ext cx="9460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Drawing Numb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3225960" y="3668760"/>
            <a:ext cx="404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Title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7731000" y="4775040"/>
            <a:ext cx="0" cy="6494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 txBox="1"/>
          <p:nvPr/>
        </p:nvSpPr>
        <p:spPr>
          <a:xfrm>
            <a:off x="7791480" y="4802040"/>
            <a:ext cx="573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Revi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 flipV="1">
            <a:off x="3755880" y="2476440"/>
            <a:ext cx="0" cy="347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 flipV="1">
            <a:off x="4208400" y="2492280"/>
            <a:ext cx="0" cy="347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 flipV="1">
            <a:off x="7413480" y="2492280"/>
            <a:ext cx="0" cy="331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 txBox="1"/>
          <p:nvPr/>
        </p:nvSpPr>
        <p:spPr>
          <a:xfrm>
            <a:off x="3240000" y="2610000"/>
            <a:ext cx="557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Part No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 txBox="1"/>
          <p:nvPr/>
        </p:nvSpPr>
        <p:spPr>
          <a:xfrm>
            <a:off x="3801960" y="2610000"/>
            <a:ext cx="3430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 txBox="1"/>
          <p:nvPr/>
        </p:nvSpPr>
        <p:spPr>
          <a:xfrm>
            <a:off x="5407200" y="2595600"/>
            <a:ext cx="692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Descrip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 txBox="1"/>
          <p:nvPr/>
        </p:nvSpPr>
        <p:spPr>
          <a:xfrm>
            <a:off x="7505640" y="2595600"/>
            <a:ext cx="546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Mater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2349360" y="5076720"/>
            <a:ext cx="76320" cy="0"/>
          </a:xfrm>
          <a:prstGeom prst="line">
            <a:avLst/>
          </a:prstGeom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685800" y="1023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UMS AND DATUM REFERENCIN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613480" y="6408720"/>
            <a:ext cx="2657520" cy="43668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658880" y="4668840"/>
            <a:ext cx="5815080" cy="1041480"/>
          </a:xfrm>
          <a:prstGeom prst="rect">
            <a:avLst/>
          </a:prstGeom>
          <a:solidFill>
            <a:srgbClr val="fc0128"/>
          </a:solidFill>
          <a:ln w="50760">
            <a:solidFill>
              <a:srgbClr val="ffffff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2644920" y="4808520"/>
            <a:ext cx="38368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rt One of Th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"/>
          <p:cNvSpPr txBox="1"/>
          <p:nvPr/>
        </p:nvSpPr>
        <p:spPr>
          <a:xfrm>
            <a:off x="685800" y="237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itle Block Tolera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 txBox="1"/>
          <p:nvPr/>
        </p:nvSpPr>
        <p:spPr>
          <a:xfrm>
            <a:off x="2922480" y="1960560"/>
            <a:ext cx="286560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OLER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 txBox="1"/>
          <p:nvPr/>
        </p:nvSpPr>
        <p:spPr>
          <a:xfrm>
            <a:off x="2370240" y="2597040"/>
            <a:ext cx="41115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NLESS OTHERWISE SPECIFI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OLERANCES WILL B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 txBox="1"/>
          <p:nvPr/>
        </p:nvSpPr>
        <p:spPr>
          <a:xfrm>
            <a:off x="2922480" y="3355920"/>
            <a:ext cx="255096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.X = + .1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.XX = + .01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.XXX = + .00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548080" y="4648320"/>
            <a:ext cx="3903840" cy="6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700" spc="-1" strike="noStrike">
                <a:solidFill>
                  <a:srgbClr val="ffff00"/>
                </a:solidFill>
                <a:latin typeface="Arial"/>
                <a:ea typeface="Arial"/>
              </a:rPr>
              <a:t>Angles  X   = + 0   - 30’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3859200" y="3770280"/>
            <a:ext cx="17136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4087800" y="4178160"/>
            <a:ext cx="17136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4321080" y="4586400"/>
            <a:ext cx="17172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 txBox="1"/>
          <p:nvPr/>
        </p:nvSpPr>
        <p:spPr>
          <a:xfrm>
            <a:off x="2409840" y="5573880"/>
            <a:ext cx="397188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IMENSIONS ARE IN IN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1986120" y="1781280"/>
            <a:ext cx="4778280" cy="4384800"/>
          </a:xfrm>
          <a:prstGeom prst="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6773760" y="1792440"/>
            <a:ext cx="122400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flipV="1">
            <a:off x="6756480" y="1508040"/>
            <a:ext cx="0" cy="2732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1227240" y="6156360"/>
            <a:ext cx="692784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5348160" y="4768920"/>
            <a:ext cx="82440" cy="84240"/>
          </a:xfrm>
          <a:prstGeom prst="ellipse">
            <a:avLst/>
          </a:prstGeom>
          <a:noFill/>
          <a:ln w="25560">
            <a:solidFill>
              <a:srgbClr val="ffff00"/>
            </a:solidFill>
            <a:round/>
          </a:ln>
        </p:spPr>
        <p:txBody>
          <a:bodyPr lIns="102600" rIns="1026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4262400" y="4775040"/>
            <a:ext cx="82440" cy="84240"/>
          </a:xfrm>
          <a:prstGeom prst="ellipse">
            <a:avLst/>
          </a:prstGeom>
          <a:noFill/>
          <a:ln w="25560">
            <a:solidFill>
              <a:srgbClr val="ffff00"/>
            </a:solidFill>
            <a:round/>
          </a:ln>
        </p:spPr>
        <p:txBody>
          <a:bodyPr lIns="102600" rIns="1026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4818240" y="5062680"/>
            <a:ext cx="171360" cy="0"/>
          </a:xfrm>
          <a:prstGeom prst="line">
            <a:avLst/>
          </a:prstGeom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 txBox="1"/>
          <p:nvPr/>
        </p:nvSpPr>
        <p:spPr>
          <a:xfrm>
            <a:off x="6094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  <a:spcAft>
                <a:spcPts val="961"/>
              </a:spcAft>
            </a:pPr>
            <a:r>
              <a:rPr b="0" lang="en-US" sz="40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Specifying Datu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ymbol for specifying a datum feature is a square containing an alpha character, and attached to the datum feature by means of a leader, terminated by a triangle.  The triangle may be filled or left op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um Feature Identification Symb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1720800" y="327672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1587600" y="3952800"/>
            <a:ext cx="254520" cy="254520"/>
          </a:xfrm>
          <a:custGeom>
            <a:avLst/>
            <a:gdLst/>
            <a:ahLst/>
            <a:rect l="0" t="0" r="r" b="b"/>
            <a:pathLst>
              <a:path fill="none" w="707" h="707">
                <a:moveTo>
                  <a:pt x="0" y="707"/>
                </a:moveTo>
                <a:lnTo>
                  <a:pt x="707" y="707"/>
                </a:lnTo>
                <a:lnTo>
                  <a:pt x="353" y="0"/>
                </a:lnTo>
                <a:lnTo>
                  <a:pt x="0" y="707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0" name=""/>
          <p:cNvGrpSpPr/>
          <p:nvPr/>
        </p:nvGrpSpPr>
        <p:grpSpPr>
          <a:xfrm>
            <a:off x="1447920" y="2743200"/>
            <a:ext cx="533520" cy="533520"/>
            <a:chOff x="1447920" y="2743200"/>
            <a:chExt cx="533520" cy="533520"/>
          </a:xfrm>
        </p:grpSpPr>
        <p:sp>
          <p:nvSpPr>
            <p:cNvPr id="1221" name=""/>
            <p:cNvSpPr/>
            <p:nvPr/>
          </p:nvSpPr>
          <p:spPr>
            <a:xfrm>
              <a:off x="1447920" y="2743200"/>
              <a:ext cx="533520" cy="533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 txBox="1"/>
            <p:nvPr/>
          </p:nvSpPr>
          <p:spPr>
            <a:xfrm>
              <a:off x="1530360" y="2776680"/>
              <a:ext cx="4046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"/>
          <p:cNvGrpSpPr/>
          <p:nvPr/>
        </p:nvGrpSpPr>
        <p:grpSpPr>
          <a:xfrm>
            <a:off x="2600280" y="2784600"/>
            <a:ext cx="533520" cy="533520"/>
            <a:chOff x="2600280" y="2784600"/>
            <a:chExt cx="533520" cy="533520"/>
          </a:xfrm>
        </p:grpSpPr>
        <p:sp>
          <p:nvSpPr>
            <p:cNvPr id="1224" name=""/>
            <p:cNvSpPr/>
            <p:nvPr/>
          </p:nvSpPr>
          <p:spPr>
            <a:xfrm>
              <a:off x="2600280" y="2784600"/>
              <a:ext cx="533520" cy="533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 txBox="1"/>
            <p:nvPr/>
          </p:nvSpPr>
          <p:spPr>
            <a:xfrm>
              <a:off x="2682720" y="2817720"/>
              <a:ext cx="4046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"/>
          <p:cNvSpPr/>
          <p:nvPr/>
        </p:nvSpPr>
        <p:spPr>
          <a:xfrm>
            <a:off x="7323120" y="2941560"/>
            <a:ext cx="714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8012160" y="2792520"/>
            <a:ext cx="286200" cy="292320"/>
          </a:xfrm>
          <a:custGeom>
            <a:avLst/>
            <a:gdLst/>
            <a:ahLst/>
            <a:rect l="0" t="0" r="r" b="b"/>
            <a:pathLst>
              <a:path w="795" h="812">
                <a:moveTo>
                  <a:pt x="795" y="812"/>
                </a:moveTo>
                <a:lnTo>
                  <a:pt x="795" y="0"/>
                </a:lnTo>
                <a:lnTo>
                  <a:pt x="0" y="405"/>
                </a:lnTo>
                <a:lnTo>
                  <a:pt x="795" y="812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8" name=""/>
          <p:cNvGrpSpPr/>
          <p:nvPr/>
        </p:nvGrpSpPr>
        <p:grpSpPr>
          <a:xfrm>
            <a:off x="5743440" y="2673360"/>
            <a:ext cx="533520" cy="533520"/>
            <a:chOff x="5743440" y="2673360"/>
            <a:chExt cx="533520" cy="533520"/>
          </a:xfrm>
        </p:grpSpPr>
        <p:sp>
          <p:nvSpPr>
            <p:cNvPr id="1229" name=""/>
            <p:cNvSpPr/>
            <p:nvPr/>
          </p:nvSpPr>
          <p:spPr>
            <a:xfrm>
              <a:off x="5743440" y="2673360"/>
              <a:ext cx="533520" cy="533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 txBox="1"/>
            <p:nvPr/>
          </p:nvSpPr>
          <p:spPr>
            <a:xfrm>
              <a:off x="5824440" y="2705040"/>
              <a:ext cx="4046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1" name=""/>
          <p:cNvSpPr/>
          <p:nvPr/>
        </p:nvSpPr>
        <p:spPr>
          <a:xfrm flipH="1">
            <a:off x="5445000" y="2952720"/>
            <a:ext cx="2858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 flipH="1">
            <a:off x="4916520" y="2952720"/>
            <a:ext cx="523800" cy="523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4686120" y="3422520"/>
            <a:ext cx="292320" cy="286200"/>
          </a:xfrm>
          <a:custGeom>
            <a:avLst/>
            <a:gdLst/>
            <a:ahLst/>
            <a:rect l="0" t="0" r="r" b="b"/>
            <a:pathLst>
              <a:path fill="none" w="812" h="795">
                <a:moveTo>
                  <a:pt x="0" y="795"/>
                </a:moveTo>
                <a:lnTo>
                  <a:pt x="812" y="795"/>
                </a:lnTo>
                <a:lnTo>
                  <a:pt x="405" y="0"/>
                </a:lnTo>
                <a:lnTo>
                  <a:pt x="0" y="795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5842080" y="4127400"/>
            <a:ext cx="2428920" cy="3333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238800" y="412740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7207200" y="412740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7588080" y="412740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7953480" y="412740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6654960" y="4460760"/>
            <a:ext cx="174960" cy="174960"/>
          </a:xfrm>
          <a:custGeom>
            <a:avLst/>
            <a:gdLst/>
            <a:ahLst/>
            <a:rect l="0" t="0" r="r" b="b"/>
            <a:pathLst>
              <a:path w="486" h="486">
                <a:moveTo>
                  <a:pt x="0" y="0"/>
                </a:moveTo>
                <a:lnTo>
                  <a:pt x="486" y="0"/>
                </a:lnTo>
                <a:lnTo>
                  <a:pt x="242" y="48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0" name=""/>
          <p:cNvGrpSpPr/>
          <p:nvPr/>
        </p:nvGrpSpPr>
        <p:grpSpPr>
          <a:xfrm>
            <a:off x="6558120" y="4900680"/>
            <a:ext cx="363600" cy="363600"/>
            <a:chOff x="6558120" y="4900680"/>
            <a:chExt cx="363600" cy="363600"/>
          </a:xfrm>
        </p:grpSpPr>
        <p:sp>
          <p:nvSpPr>
            <p:cNvPr id="1241" name=""/>
            <p:cNvSpPr/>
            <p:nvPr/>
          </p:nvSpPr>
          <p:spPr>
            <a:xfrm>
              <a:off x="6558120" y="4900680"/>
              <a:ext cx="363600" cy="363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 txBox="1"/>
            <p:nvPr/>
          </p:nvSpPr>
          <p:spPr>
            <a:xfrm>
              <a:off x="6616800" y="4924440"/>
              <a:ext cx="270000" cy="307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3" name=""/>
          <p:cNvSpPr/>
          <p:nvPr/>
        </p:nvSpPr>
        <p:spPr>
          <a:xfrm>
            <a:off x="6737400" y="4600440"/>
            <a:ext cx="0" cy="30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4" name=""/>
          <p:cNvGrpSpPr/>
          <p:nvPr/>
        </p:nvGrpSpPr>
        <p:grpSpPr>
          <a:xfrm>
            <a:off x="6791400" y="2673360"/>
            <a:ext cx="533520" cy="533520"/>
            <a:chOff x="6791400" y="2673360"/>
            <a:chExt cx="533520" cy="533520"/>
          </a:xfrm>
        </p:grpSpPr>
        <p:sp>
          <p:nvSpPr>
            <p:cNvPr id="1245" name=""/>
            <p:cNvSpPr/>
            <p:nvPr/>
          </p:nvSpPr>
          <p:spPr>
            <a:xfrm>
              <a:off x="6791400" y="2673360"/>
              <a:ext cx="533520" cy="533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 txBox="1"/>
            <p:nvPr/>
          </p:nvSpPr>
          <p:spPr>
            <a:xfrm>
              <a:off x="6872400" y="2706840"/>
              <a:ext cx="4046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7" name=""/>
          <p:cNvSpPr/>
          <p:nvPr/>
        </p:nvSpPr>
        <p:spPr>
          <a:xfrm>
            <a:off x="3133800" y="3030480"/>
            <a:ext cx="345960" cy="1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8" name=""/>
          <p:cNvGrpSpPr/>
          <p:nvPr/>
        </p:nvGrpSpPr>
        <p:grpSpPr>
          <a:xfrm>
            <a:off x="3330720" y="3029040"/>
            <a:ext cx="292320" cy="949680"/>
            <a:chOff x="3330720" y="3029040"/>
            <a:chExt cx="292320" cy="949680"/>
          </a:xfrm>
        </p:grpSpPr>
        <p:sp>
          <p:nvSpPr>
            <p:cNvPr id="1249" name=""/>
            <p:cNvSpPr/>
            <p:nvPr/>
          </p:nvSpPr>
          <p:spPr>
            <a:xfrm>
              <a:off x="3479760" y="3029040"/>
              <a:ext cx="0" cy="7142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3330720" y="3692520"/>
              <a:ext cx="292320" cy="286200"/>
            </a:xfrm>
            <a:custGeom>
              <a:avLst/>
              <a:gdLst/>
              <a:ahLst/>
              <a:rect l="0" t="0" r="r" b="b"/>
              <a:pathLst>
                <a:path w="812" h="795">
                  <a:moveTo>
                    <a:pt x="0" y="795"/>
                  </a:moveTo>
                  <a:lnTo>
                    <a:pt x="812" y="795"/>
                  </a:lnTo>
                  <a:lnTo>
                    <a:pt x="405" y="0"/>
                  </a:lnTo>
                  <a:lnTo>
                    <a:pt x="0" y="79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1" name=""/>
          <p:cNvSpPr txBox="1"/>
          <p:nvPr/>
        </p:nvSpPr>
        <p:spPr>
          <a:xfrm>
            <a:off x="1449360" y="5060880"/>
            <a:ext cx="36370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xamples -- Datum Fea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ymb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1143000" y="4937040"/>
            <a:ext cx="4270320" cy="1143000"/>
          </a:xfrm>
          <a:prstGeom prst="roundRect">
            <a:avLst/>
          </a:prstGeom>
          <a:noFill/>
          <a:ln w="38160">
            <a:solidFill>
              <a:srgbClr val="fafd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 txBox="1"/>
          <p:nvPr/>
        </p:nvSpPr>
        <p:spPr>
          <a:xfrm>
            <a:off x="500040" y="156672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  <a:spcAft>
                <a:spcPts val="961"/>
              </a:spcAf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ferencing Datu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ums are referenced in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eature control fram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 The compartment next to the tolerance value compartment references a primary datum.  Secondary and tertiary datum references follow in that or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5" name=""/>
          <p:cNvGrpSpPr/>
          <p:nvPr/>
        </p:nvGrpSpPr>
        <p:grpSpPr>
          <a:xfrm>
            <a:off x="576360" y="609480"/>
            <a:ext cx="7881840" cy="6096240"/>
            <a:chOff x="576360" y="609480"/>
            <a:chExt cx="7881840" cy="6096240"/>
          </a:xfrm>
        </p:grpSpPr>
        <p:sp>
          <p:nvSpPr>
            <p:cNvPr id="1256" name=""/>
            <p:cNvSpPr/>
            <p:nvPr/>
          </p:nvSpPr>
          <p:spPr>
            <a:xfrm>
              <a:off x="3124080" y="62485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 txBox="1"/>
            <p:nvPr/>
          </p:nvSpPr>
          <p:spPr>
            <a:xfrm>
              <a:off x="685800" y="609480"/>
              <a:ext cx="7772400" cy="1143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Referencing Datums in Feature Control Frame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1619280" y="3317760"/>
              <a:ext cx="5969160" cy="777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508120" y="3317760"/>
              <a:ext cx="0" cy="777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270400" y="3317760"/>
              <a:ext cx="0" cy="762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048360" y="3317760"/>
              <a:ext cx="0" cy="777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842160" y="3317760"/>
              <a:ext cx="0" cy="777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 txBox="1"/>
            <p:nvPr/>
          </p:nvSpPr>
          <p:spPr>
            <a:xfrm>
              <a:off x="576360" y="2363760"/>
              <a:ext cx="29606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Feature Control Fra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3571920" y="2603520"/>
              <a:ext cx="2379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H="1">
              <a:off x="3365640" y="2603520"/>
              <a:ext cx="460080" cy="7142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V="1">
              <a:off x="5159520" y="2968560"/>
              <a:ext cx="206280" cy="2062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365800" y="2968560"/>
              <a:ext cx="20797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7445520" y="2968560"/>
              <a:ext cx="174600" cy="174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 txBox="1"/>
            <p:nvPr/>
          </p:nvSpPr>
          <p:spPr>
            <a:xfrm>
              <a:off x="3716280" y="2046240"/>
              <a:ext cx="24433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atum Refere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6175440" y="2270160"/>
              <a:ext cx="222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397560" y="2270160"/>
              <a:ext cx="0" cy="6825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 txBox="1"/>
            <p:nvPr/>
          </p:nvSpPr>
          <p:spPr>
            <a:xfrm>
              <a:off x="5429160" y="3430440"/>
              <a:ext cx="47772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 flipH="1">
              <a:off x="3222720" y="4095720"/>
              <a:ext cx="2127240" cy="21272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3222720" y="6238800"/>
              <a:ext cx="3016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 txBox="1"/>
            <p:nvPr/>
          </p:nvSpPr>
          <p:spPr>
            <a:xfrm>
              <a:off x="3575160" y="6013440"/>
              <a:ext cx="20718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imary Datu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6" name=""/>
          <p:cNvGrpSpPr/>
          <p:nvPr/>
        </p:nvGrpSpPr>
        <p:grpSpPr>
          <a:xfrm>
            <a:off x="549360" y="3760920"/>
            <a:ext cx="3357360" cy="1531800"/>
            <a:chOff x="549360" y="3760920"/>
            <a:chExt cx="3357360" cy="1531800"/>
          </a:xfrm>
        </p:grpSpPr>
        <p:sp>
          <p:nvSpPr>
            <p:cNvPr id="1277" name=""/>
            <p:cNvSpPr txBox="1"/>
            <p:nvPr/>
          </p:nvSpPr>
          <p:spPr>
            <a:xfrm>
              <a:off x="549360" y="4470480"/>
              <a:ext cx="220680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Tolerance Val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Compart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2357280" y="5079960"/>
              <a:ext cx="2318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 flipV="1">
              <a:off x="2589120" y="3838680"/>
              <a:ext cx="1241640" cy="12412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797280" y="3760920"/>
              <a:ext cx="109440" cy="109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1" name=""/>
          <p:cNvGrpSpPr/>
          <p:nvPr/>
        </p:nvGrpSpPr>
        <p:grpSpPr>
          <a:xfrm>
            <a:off x="576360" y="609480"/>
            <a:ext cx="7881840" cy="6096240"/>
            <a:chOff x="576360" y="609480"/>
            <a:chExt cx="7881840" cy="6096240"/>
          </a:xfrm>
        </p:grpSpPr>
        <p:sp>
          <p:nvSpPr>
            <p:cNvPr id="1282" name=""/>
            <p:cNvSpPr/>
            <p:nvPr/>
          </p:nvSpPr>
          <p:spPr>
            <a:xfrm>
              <a:off x="3124080" y="62485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 txBox="1"/>
            <p:nvPr/>
          </p:nvSpPr>
          <p:spPr>
            <a:xfrm>
              <a:off x="685800" y="609480"/>
              <a:ext cx="7772400" cy="1143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Referencing Datums in Feature Control Frame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619280" y="3317760"/>
              <a:ext cx="5969160" cy="777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508120" y="3317760"/>
              <a:ext cx="0" cy="777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270400" y="3317760"/>
              <a:ext cx="0" cy="762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6048360" y="3317760"/>
              <a:ext cx="0" cy="777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842160" y="3317760"/>
              <a:ext cx="0" cy="777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 txBox="1"/>
            <p:nvPr/>
          </p:nvSpPr>
          <p:spPr>
            <a:xfrm>
              <a:off x="576360" y="2363760"/>
              <a:ext cx="29606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Feature Control Fra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3571920" y="2603520"/>
              <a:ext cx="2379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 flipH="1">
              <a:off x="3365640" y="2603520"/>
              <a:ext cx="460080" cy="7142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 flipV="1">
              <a:off x="5159520" y="2968560"/>
              <a:ext cx="206280" cy="2062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365800" y="2968560"/>
              <a:ext cx="20797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7445520" y="2968560"/>
              <a:ext cx="174600" cy="174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 txBox="1"/>
            <p:nvPr/>
          </p:nvSpPr>
          <p:spPr>
            <a:xfrm>
              <a:off x="3716280" y="2046240"/>
              <a:ext cx="24433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atum Refere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175440" y="2270160"/>
              <a:ext cx="222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397560" y="2270160"/>
              <a:ext cx="0" cy="6825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 txBox="1"/>
            <p:nvPr/>
          </p:nvSpPr>
          <p:spPr>
            <a:xfrm>
              <a:off x="5429160" y="3430440"/>
              <a:ext cx="47772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 txBox="1"/>
            <p:nvPr/>
          </p:nvSpPr>
          <p:spPr>
            <a:xfrm>
              <a:off x="6219720" y="3414600"/>
              <a:ext cx="45576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H="1">
              <a:off x="3222720" y="4095720"/>
              <a:ext cx="2127240" cy="21272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3222720" y="6238800"/>
              <a:ext cx="3016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 flipH="1">
              <a:off x="4778280" y="4095720"/>
              <a:ext cx="1476360" cy="14763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778280" y="5572080"/>
              <a:ext cx="365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 txBox="1"/>
            <p:nvPr/>
          </p:nvSpPr>
          <p:spPr>
            <a:xfrm>
              <a:off x="3575160" y="6013440"/>
              <a:ext cx="20718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imary Datu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 txBox="1"/>
            <p:nvPr/>
          </p:nvSpPr>
          <p:spPr>
            <a:xfrm>
              <a:off x="5210280" y="5346720"/>
              <a:ext cx="23763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condary Datu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6" name=""/>
          <p:cNvGrpSpPr/>
          <p:nvPr/>
        </p:nvGrpSpPr>
        <p:grpSpPr>
          <a:xfrm>
            <a:off x="549360" y="3760920"/>
            <a:ext cx="3357360" cy="1531800"/>
            <a:chOff x="549360" y="3760920"/>
            <a:chExt cx="3357360" cy="1531800"/>
          </a:xfrm>
        </p:grpSpPr>
        <p:sp>
          <p:nvSpPr>
            <p:cNvPr id="1307" name=""/>
            <p:cNvSpPr txBox="1"/>
            <p:nvPr/>
          </p:nvSpPr>
          <p:spPr>
            <a:xfrm>
              <a:off x="549360" y="4470480"/>
              <a:ext cx="220680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Tolerance Val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Compart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2357280" y="5079960"/>
              <a:ext cx="2318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 flipV="1">
              <a:off x="2589120" y="3838680"/>
              <a:ext cx="1241640" cy="12412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3797280" y="3760920"/>
              <a:ext cx="109440" cy="109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1" name=""/>
          <p:cNvGrpSpPr/>
          <p:nvPr/>
        </p:nvGrpSpPr>
        <p:grpSpPr>
          <a:xfrm>
            <a:off x="576360" y="609480"/>
            <a:ext cx="8070840" cy="6096240"/>
            <a:chOff x="576360" y="609480"/>
            <a:chExt cx="8070840" cy="6096240"/>
          </a:xfrm>
        </p:grpSpPr>
        <p:sp>
          <p:nvSpPr>
            <p:cNvPr id="1312" name=""/>
            <p:cNvSpPr/>
            <p:nvPr/>
          </p:nvSpPr>
          <p:spPr>
            <a:xfrm>
              <a:off x="3124080" y="62485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619280" y="3317760"/>
              <a:ext cx="5969160" cy="777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2508120" y="3317760"/>
              <a:ext cx="0" cy="777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270400" y="3317760"/>
              <a:ext cx="0" cy="762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048360" y="3317760"/>
              <a:ext cx="0" cy="777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842160" y="3317760"/>
              <a:ext cx="0" cy="777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 txBox="1"/>
            <p:nvPr/>
          </p:nvSpPr>
          <p:spPr>
            <a:xfrm>
              <a:off x="576360" y="2363760"/>
              <a:ext cx="29606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Feature Control Fra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3571920" y="2603520"/>
              <a:ext cx="2379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 flipH="1">
              <a:off x="3365640" y="2603520"/>
              <a:ext cx="460080" cy="7142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 flipV="1">
              <a:off x="5159520" y="2968560"/>
              <a:ext cx="206280" cy="2062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365800" y="2968560"/>
              <a:ext cx="20797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445520" y="2968560"/>
              <a:ext cx="174600" cy="174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 txBox="1"/>
            <p:nvPr/>
          </p:nvSpPr>
          <p:spPr>
            <a:xfrm>
              <a:off x="3716280" y="2046240"/>
              <a:ext cx="24433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atum Refere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175440" y="2270160"/>
              <a:ext cx="222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397560" y="2270160"/>
              <a:ext cx="0" cy="6825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 txBox="1"/>
            <p:nvPr/>
          </p:nvSpPr>
          <p:spPr>
            <a:xfrm>
              <a:off x="5429160" y="3430440"/>
              <a:ext cx="47772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 txBox="1"/>
            <p:nvPr/>
          </p:nvSpPr>
          <p:spPr>
            <a:xfrm>
              <a:off x="6219720" y="3414600"/>
              <a:ext cx="45576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 txBox="1"/>
            <p:nvPr/>
          </p:nvSpPr>
          <p:spPr>
            <a:xfrm>
              <a:off x="6950160" y="3414600"/>
              <a:ext cx="45576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H="1">
              <a:off x="3222720" y="4095720"/>
              <a:ext cx="2127240" cy="21272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222720" y="6238800"/>
              <a:ext cx="3016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 flipH="1">
              <a:off x="4778280" y="4095720"/>
              <a:ext cx="1476360" cy="14763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4778280" y="5572080"/>
              <a:ext cx="365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 flipH="1">
              <a:off x="6080040" y="4095720"/>
              <a:ext cx="905040" cy="905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095880" y="500076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 txBox="1"/>
            <p:nvPr/>
          </p:nvSpPr>
          <p:spPr>
            <a:xfrm>
              <a:off x="3575160" y="6013440"/>
              <a:ext cx="20718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imary Datu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 txBox="1"/>
            <p:nvPr/>
          </p:nvSpPr>
          <p:spPr>
            <a:xfrm>
              <a:off x="5210280" y="5346720"/>
              <a:ext cx="23763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condary Datu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 txBox="1"/>
            <p:nvPr/>
          </p:nvSpPr>
          <p:spPr>
            <a:xfrm>
              <a:off x="6575400" y="4775040"/>
              <a:ext cx="20718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ertiary Datu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 txBox="1"/>
            <p:nvPr/>
          </p:nvSpPr>
          <p:spPr>
            <a:xfrm>
              <a:off x="685800" y="609480"/>
              <a:ext cx="7772400" cy="1143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Referencing Datums in Feature Control Frame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0" name=""/>
          <p:cNvGrpSpPr/>
          <p:nvPr/>
        </p:nvGrpSpPr>
        <p:grpSpPr>
          <a:xfrm>
            <a:off x="549360" y="3760920"/>
            <a:ext cx="3357360" cy="1531800"/>
            <a:chOff x="549360" y="3760920"/>
            <a:chExt cx="3357360" cy="1531800"/>
          </a:xfrm>
        </p:grpSpPr>
        <p:sp>
          <p:nvSpPr>
            <p:cNvPr id="1341" name=""/>
            <p:cNvSpPr txBox="1"/>
            <p:nvPr/>
          </p:nvSpPr>
          <p:spPr>
            <a:xfrm>
              <a:off x="549360" y="4470480"/>
              <a:ext cx="220680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Tolerance Val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Compart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357280" y="5079960"/>
              <a:ext cx="2318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 flipV="1">
              <a:off x="2589120" y="3838680"/>
              <a:ext cx="1241640" cy="12412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3797280" y="3760920"/>
              <a:ext cx="109440" cy="109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UM  SEL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 txBox="1"/>
          <p:nvPr/>
        </p:nvSpPr>
        <p:spPr>
          <a:xfrm>
            <a:off x="631800" y="1185840"/>
            <a:ext cx="8062920" cy="51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um features (datums) are selected on the basis of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sign requirements and functional relationship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um features are typically the features which determine orientation, location, and functional relationships of part features with their mating pa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um features must be of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fficient siz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be verifiable.  They must also be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cessibl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uring manufacturing and inspec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rface quality of datum features should be conside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 txBox="1"/>
          <p:nvPr/>
        </p:nvSpPr>
        <p:spPr>
          <a:xfrm>
            <a:off x="2308320" y="380880"/>
            <a:ext cx="4464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DATUM SEL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9" name=""/>
          <p:cNvGrpSpPr/>
          <p:nvPr/>
        </p:nvGrpSpPr>
        <p:grpSpPr>
          <a:xfrm>
            <a:off x="119160" y="343080"/>
            <a:ext cx="5900400" cy="6362640"/>
            <a:chOff x="119160" y="343080"/>
            <a:chExt cx="5900400" cy="6362640"/>
          </a:xfrm>
        </p:grpSpPr>
        <p:sp>
          <p:nvSpPr>
            <p:cNvPr id="1350" name=""/>
            <p:cNvSpPr/>
            <p:nvPr/>
          </p:nvSpPr>
          <p:spPr>
            <a:xfrm>
              <a:off x="3124080" y="62485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1" name=""/>
            <p:cNvGrpSpPr/>
            <p:nvPr/>
          </p:nvGrpSpPr>
          <p:grpSpPr>
            <a:xfrm>
              <a:off x="119160" y="1317600"/>
              <a:ext cx="2873160" cy="2873520"/>
              <a:chOff x="119160" y="1317600"/>
              <a:chExt cx="2873160" cy="2873520"/>
            </a:xfrm>
          </p:grpSpPr>
          <p:sp>
            <p:nvSpPr>
              <p:cNvPr id="1352" name=""/>
              <p:cNvSpPr/>
              <p:nvPr/>
            </p:nvSpPr>
            <p:spPr>
              <a:xfrm>
                <a:off x="1198440" y="2373480"/>
                <a:ext cx="716040" cy="716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317520" y="1523880"/>
                <a:ext cx="2476440" cy="2476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1122480" y="2297160"/>
                <a:ext cx="866880" cy="8668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5" name=""/>
              <p:cNvGrpSpPr/>
              <p:nvPr/>
            </p:nvGrpSpPr>
            <p:grpSpPr>
              <a:xfrm>
                <a:off x="119160" y="2754360"/>
                <a:ext cx="2873160" cy="0"/>
                <a:chOff x="119160" y="2754360"/>
                <a:chExt cx="2873160" cy="0"/>
              </a:xfrm>
            </p:grpSpPr>
            <p:sp>
              <p:nvSpPr>
                <p:cNvPr id="1356" name=""/>
                <p:cNvSpPr/>
                <p:nvPr/>
              </p:nvSpPr>
              <p:spPr>
                <a:xfrm>
                  <a:off x="119160" y="2754360"/>
                  <a:ext cx="1317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1500120" y="2754360"/>
                  <a:ext cx="111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1674720" y="2754360"/>
                  <a:ext cx="1317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9" name=""/>
              <p:cNvGrpSpPr/>
              <p:nvPr/>
            </p:nvGrpSpPr>
            <p:grpSpPr>
              <a:xfrm>
                <a:off x="1555920" y="1317600"/>
                <a:ext cx="0" cy="2873520"/>
                <a:chOff x="1555920" y="1317600"/>
                <a:chExt cx="0" cy="2873520"/>
              </a:xfrm>
            </p:grpSpPr>
            <p:sp>
              <p:nvSpPr>
                <p:cNvPr id="1360" name=""/>
                <p:cNvSpPr/>
                <p:nvPr/>
              </p:nvSpPr>
              <p:spPr>
                <a:xfrm>
                  <a:off x="1555920" y="1317600"/>
                  <a:ext cx="0" cy="1317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>
                  <a:off x="1555920" y="2698920"/>
                  <a:ext cx="0" cy="11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>
                  <a:off x="1555920" y="2873520"/>
                  <a:ext cx="0" cy="1317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63" name=""/>
            <p:cNvGrpSpPr/>
            <p:nvPr/>
          </p:nvGrpSpPr>
          <p:grpSpPr>
            <a:xfrm>
              <a:off x="811080" y="2004840"/>
              <a:ext cx="1495440" cy="1494000"/>
              <a:chOff x="811080" y="2004840"/>
              <a:chExt cx="1495440" cy="1494000"/>
            </a:xfrm>
          </p:grpSpPr>
          <p:sp>
            <p:nvSpPr>
              <p:cNvPr id="1364" name=""/>
              <p:cNvSpPr/>
              <p:nvPr/>
            </p:nvSpPr>
            <p:spPr>
              <a:xfrm>
                <a:off x="2089080" y="2004840"/>
                <a:ext cx="206280" cy="206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2100240" y="3286080"/>
                <a:ext cx="206280" cy="206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822240" y="2011320"/>
                <a:ext cx="206280" cy="206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811080" y="3292560"/>
                <a:ext cx="206280" cy="206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"/>
            <p:cNvGrpSpPr/>
            <p:nvPr/>
          </p:nvGrpSpPr>
          <p:grpSpPr>
            <a:xfrm>
              <a:off x="552600" y="1746360"/>
              <a:ext cx="2012760" cy="2022120"/>
              <a:chOff x="552600" y="1746360"/>
              <a:chExt cx="2012760" cy="2022120"/>
            </a:xfrm>
          </p:grpSpPr>
          <p:sp>
            <p:nvSpPr>
              <p:cNvPr id="1369" name=""/>
              <p:cNvSpPr/>
              <p:nvPr/>
            </p:nvSpPr>
            <p:spPr>
              <a:xfrm>
                <a:off x="1444680" y="1746360"/>
                <a:ext cx="206280" cy="206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2359080" y="2644920"/>
                <a:ext cx="206280" cy="206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552600" y="2647800"/>
                <a:ext cx="206280" cy="206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1450800" y="3562200"/>
                <a:ext cx="206280" cy="206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3" name=""/>
            <p:cNvSpPr/>
            <p:nvPr/>
          </p:nvSpPr>
          <p:spPr>
            <a:xfrm flipH="1">
              <a:off x="936720" y="3746520"/>
              <a:ext cx="571320" cy="1238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936720" y="4984920"/>
              <a:ext cx="1746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 txBox="1"/>
            <p:nvPr/>
          </p:nvSpPr>
          <p:spPr>
            <a:xfrm>
              <a:off x="1084320" y="4875120"/>
              <a:ext cx="15476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8X      10.0 - 10.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1190520" y="5254560"/>
              <a:ext cx="2266920" cy="30168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7" name=""/>
            <p:cNvGrpSpPr/>
            <p:nvPr/>
          </p:nvGrpSpPr>
          <p:grpSpPr>
            <a:xfrm>
              <a:off x="1287360" y="5295960"/>
              <a:ext cx="214560" cy="218880"/>
              <a:chOff x="1287360" y="5295960"/>
              <a:chExt cx="214560" cy="218880"/>
            </a:xfrm>
          </p:grpSpPr>
          <p:sp>
            <p:nvSpPr>
              <p:cNvPr id="1378" name=""/>
              <p:cNvSpPr/>
              <p:nvPr/>
            </p:nvSpPr>
            <p:spPr>
              <a:xfrm>
                <a:off x="1309680" y="5321160"/>
                <a:ext cx="171360" cy="17136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1395360" y="5295960"/>
                <a:ext cx="0" cy="21888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1287360" y="5407200"/>
                <a:ext cx="21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1" name=""/>
            <p:cNvSpPr/>
            <p:nvPr/>
          </p:nvSpPr>
          <p:spPr>
            <a:xfrm>
              <a:off x="1600200" y="5265720"/>
              <a:ext cx="0" cy="27612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2" name=""/>
            <p:cNvGrpSpPr/>
            <p:nvPr/>
          </p:nvGrpSpPr>
          <p:grpSpPr>
            <a:xfrm>
              <a:off x="1519200" y="4935600"/>
              <a:ext cx="147600" cy="146160"/>
              <a:chOff x="1519200" y="4935600"/>
              <a:chExt cx="147600" cy="146160"/>
            </a:xfrm>
          </p:grpSpPr>
          <p:sp>
            <p:nvSpPr>
              <p:cNvPr id="1383" name=""/>
              <p:cNvSpPr/>
              <p:nvPr/>
            </p:nvSpPr>
            <p:spPr>
              <a:xfrm>
                <a:off x="1539720" y="4951440"/>
                <a:ext cx="114480" cy="11448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 flipH="1">
                <a:off x="1519200" y="4935600"/>
                <a:ext cx="147600" cy="14616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5" name=""/>
            <p:cNvGrpSpPr/>
            <p:nvPr/>
          </p:nvGrpSpPr>
          <p:grpSpPr>
            <a:xfrm>
              <a:off x="1657440" y="5322960"/>
              <a:ext cx="171360" cy="171360"/>
              <a:chOff x="1657440" y="5322960"/>
              <a:chExt cx="171360" cy="171360"/>
            </a:xfrm>
          </p:grpSpPr>
          <p:sp>
            <p:nvSpPr>
              <p:cNvPr id="1386" name=""/>
              <p:cNvSpPr/>
              <p:nvPr/>
            </p:nvSpPr>
            <p:spPr>
              <a:xfrm>
                <a:off x="1681200" y="5342040"/>
                <a:ext cx="133200" cy="13320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 flipH="1">
                <a:off x="1657440" y="5322960"/>
                <a:ext cx="171360" cy="17136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8" name=""/>
            <p:cNvSpPr txBox="1"/>
            <p:nvPr/>
          </p:nvSpPr>
          <p:spPr>
            <a:xfrm>
              <a:off x="1857240" y="5265720"/>
              <a:ext cx="4316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0.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9" name=""/>
            <p:cNvGrpSpPr/>
            <p:nvPr/>
          </p:nvGrpSpPr>
          <p:grpSpPr>
            <a:xfrm>
              <a:off x="2268360" y="5268960"/>
              <a:ext cx="331920" cy="304920"/>
              <a:chOff x="2268360" y="5268960"/>
              <a:chExt cx="331920" cy="304920"/>
            </a:xfrm>
          </p:grpSpPr>
          <p:sp>
            <p:nvSpPr>
              <p:cNvPr id="1390" name=""/>
              <p:cNvSpPr/>
              <p:nvPr/>
            </p:nvSpPr>
            <p:spPr>
              <a:xfrm>
                <a:off x="2333520" y="5308560"/>
                <a:ext cx="190440" cy="190440"/>
              </a:xfrm>
              <a:prstGeom prst="ellipse">
                <a:avLst/>
              </a:prstGeom>
              <a:noFill/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 txBox="1"/>
              <p:nvPr/>
            </p:nvSpPr>
            <p:spPr>
              <a:xfrm>
                <a:off x="2268360" y="5268960"/>
                <a:ext cx="33192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M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2" name=""/>
            <p:cNvSpPr/>
            <p:nvPr/>
          </p:nvSpPr>
          <p:spPr>
            <a:xfrm>
              <a:off x="2610000" y="5265720"/>
              <a:ext cx="0" cy="28584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 txBox="1"/>
            <p:nvPr/>
          </p:nvSpPr>
          <p:spPr>
            <a:xfrm>
              <a:off x="2606760" y="5275440"/>
              <a:ext cx="3031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924280" y="5270400"/>
              <a:ext cx="0" cy="28116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 txBox="1"/>
            <p:nvPr/>
          </p:nvSpPr>
          <p:spPr>
            <a:xfrm>
              <a:off x="2898720" y="5275440"/>
              <a:ext cx="3031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6" name=""/>
            <p:cNvGrpSpPr/>
            <p:nvPr/>
          </p:nvGrpSpPr>
          <p:grpSpPr>
            <a:xfrm>
              <a:off x="3116160" y="5268960"/>
              <a:ext cx="331920" cy="304920"/>
              <a:chOff x="3116160" y="5268960"/>
              <a:chExt cx="331920" cy="304920"/>
            </a:xfrm>
          </p:grpSpPr>
          <p:sp>
            <p:nvSpPr>
              <p:cNvPr id="1397" name=""/>
              <p:cNvSpPr/>
              <p:nvPr/>
            </p:nvSpPr>
            <p:spPr>
              <a:xfrm>
                <a:off x="3181320" y="5308560"/>
                <a:ext cx="190440" cy="190440"/>
              </a:xfrm>
              <a:prstGeom prst="ellipse">
                <a:avLst/>
              </a:prstGeom>
              <a:noFill/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 txBox="1"/>
              <p:nvPr/>
            </p:nvSpPr>
            <p:spPr>
              <a:xfrm>
                <a:off x="3116160" y="5268960"/>
                <a:ext cx="33192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M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9" name=""/>
            <p:cNvSpPr/>
            <p:nvPr/>
          </p:nvSpPr>
          <p:spPr>
            <a:xfrm>
              <a:off x="4556160" y="1539720"/>
              <a:ext cx="0" cy="2460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4556160" y="1536840"/>
              <a:ext cx="206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4762440" y="1539720"/>
              <a:ext cx="0" cy="2460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 flipH="1">
              <a:off x="4556160" y="4000680"/>
              <a:ext cx="2001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654360" y="2739960"/>
              <a:ext cx="6033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4311720" y="2743200"/>
              <a:ext cx="792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451400" y="2743200"/>
              <a:ext cx="6192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4191120" y="2286000"/>
              <a:ext cx="365040" cy="8888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4127400" y="2349360"/>
              <a:ext cx="0" cy="755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 flipV="1">
              <a:off x="4127400" y="2286000"/>
              <a:ext cx="63720" cy="633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 flipH="1" flipV="1">
              <a:off x="4127400" y="3105000"/>
              <a:ext cx="69840" cy="69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0" name=""/>
            <p:cNvGrpSpPr/>
            <p:nvPr/>
          </p:nvGrpSpPr>
          <p:grpSpPr>
            <a:xfrm>
              <a:off x="4559400" y="1771560"/>
              <a:ext cx="190440" cy="216000"/>
              <a:chOff x="4559400" y="1771560"/>
              <a:chExt cx="190440" cy="216000"/>
            </a:xfrm>
          </p:grpSpPr>
          <p:sp>
            <p:nvSpPr>
              <p:cNvPr id="1411" name=""/>
              <p:cNvSpPr/>
              <p:nvPr/>
            </p:nvSpPr>
            <p:spPr>
              <a:xfrm>
                <a:off x="4565520" y="1771560"/>
                <a:ext cx="184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custDash>
                  <a:ds d="402857" sp="4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4559400" y="1987560"/>
                <a:ext cx="190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custDash>
                  <a:ds d="402857" sp="4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3" name=""/>
            <p:cNvGrpSpPr/>
            <p:nvPr/>
          </p:nvGrpSpPr>
          <p:grpSpPr>
            <a:xfrm>
              <a:off x="4568760" y="3511440"/>
              <a:ext cx="190440" cy="216000"/>
              <a:chOff x="4568760" y="3511440"/>
              <a:chExt cx="190440" cy="216000"/>
            </a:xfrm>
          </p:grpSpPr>
          <p:sp>
            <p:nvSpPr>
              <p:cNvPr id="1414" name=""/>
              <p:cNvSpPr/>
              <p:nvPr/>
            </p:nvSpPr>
            <p:spPr>
              <a:xfrm>
                <a:off x="4575240" y="3511440"/>
                <a:ext cx="1839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custDash>
                  <a:ds d="402857" sp="4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4568760" y="3727440"/>
                <a:ext cx="190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custDash>
                  <a:ds d="402857" sp="4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6" name=""/>
            <p:cNvGrpSpPr/>
            <p:nvPr/>
          </p:nvGrpSpPr>
          <p:grpSpPr>
            <a:xfrm>
              <a:off x="4317840" y="1889280"/>
              <a:ext cx="714600" cy="0"/>
              <a:chOff x="4317840" y="1889280"/>
              <a:chExt cx="714600" cy="0"/>
            </a:xfrm>
          </p:grpSpPr>
          <p:sp>
            <p:nvSpPr>
              <p:cNvPr id="1417" name=""/>
              <p:cNvSpPr/>
              <p:nvPr/>
            </p:nvSpPr>
            <p:spPr>
              <a:xfrm>
                <a:off x="4317840" y="1889280"/>
                <a:ext cx="238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4651200" y="1889280"/>
                <a:ext cx="63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4809960" y="1889280"/>
                <a:ext cx="222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0" name=""/>
            <p:cNvGrpSpPr/>
            <p:nvPr/>
          </p:nvGrpSpPr>
          <p:grpSpPr>
            <a:xfrm>
              <a:off x="4295880" y="3613320"/>
              <a:ext cx="714240" cy="0"/>
              <a:chOff x="4295880" y="3613320"/>
              <a:chExt cx="714240" cy="0"/>
            </a:xfrm>
          </p:grpSpPr>
          <p:sp>
            <p:nvSpPr>
              <p:cNvPr id="1421" name=""/>
              <p:cNvSpPr/>
              <p:nvPr/>
            </p:nvSpPr>
            <p:spPr>
              <a:xfrm>
                <a:off x="4295880" y="3613320"/>
                <a:ext cx="2379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4629240" y="3613320"/>
                <a:ext cx="63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4788000" y="3613320"/>
                <a:ext cx="222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4" name=""/>
            <p:cNvSpPr/>
            <p:nvPr/>
          </p:nvSpPr>
          <p:spPr>
            <a:xfrm flipV="1">
              <a:off x="4556160" y="587520"/>
              <a:ext cx="0" cy="873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3218040" y="1573200"/>
              <a:ext cx="254160" cy="2541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3344760" y="1830240"/>
              <a:ext cx="0" cy="4082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3274920" y="2147760"/>
              <a:ext cx="143280" cy="143280"/>
            </a:xfrm>
            <a:custGeom>
              <a:avLst/>
              <a:gdLst/>
              <a:ahLst/>
              <a:rect l="0" t="0" r="r" b="b"/>
              <a:pathLst>
                <a:path w="398" h="398">
                  <a:moveTo>
                    <a:pt x="0" y="398"/>
                  </a:moveTo>
                  <a:lnTo>
                    <a:pt x="398" y="398"/>
                  </a:lnTo>
                  <a:lnTo>
                    <a:pt x="199" y="0"/>
                  </a:lnTo>
                  <a:lnTo>
                    <a:pt x="0" y="398"/>
                  </a:lnTo>
                  <a:close/>
                </a:path>
              </a:pathLst>
            </a:custGeom>
            <a:solidFill>
              <a:srgbClr val="a2c1fe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 flipH="1">
              <a:off x="3206880" y="2286000"/>
              <a:ext cx="8413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 flipH="1">
              <a:off x="3216240" y="3168720"/>
              <a:ext cx="8413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 flipV="1">
              <a:off x="3349800" y="2286000"/>
              <a:ext cx="0" cy="873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3838680" y="787320"/>
              <a:ext cx="254160" cy="2541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 txBox="1"/>
            <p:nvPr/>
          </p:nvSpPr>
          <p:spPr>
            <a:xfrm>
              <a:off x="3825720" y="798480"/>
              <a:ext cx="2858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4095720" y="914400"/>
              <a:ext cx="3333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4413240" y="841320"/>
              <a:ext cx="143280" cy="143280"/>
            </a:xfrm>
            <a:custGeom>
              <a:avLst/>
              <a:gdLst/>
              <a:ahLst/>
              <a:rect l="0" t="0" r="r" b="b"/>
              <a:pathLst>
                <a:path w="398" h="398">
                  <a:moveTo>
                    <a:pt x="398" y="398"/>
                  </a:moveTo>
                  <a:lnTo>
                    <a:pt x="398" y="0"/>
                  </a:lnTo>
                  <a:lnTo>
                    <a:pt x="0" y="199"/>
                  </a:lnTo>
                  <a:lnTo>
                    <a:pt x="398" y="398"/>
                  </a:lnTo>
                  <a:close/>
                </a:path>
              </a:pathLst>
            </a:custGeom>
            <a:solidFill>
              <a:srgbClr val="a2c1fe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 txBox="1"/>
            <p:nvPr/>
          </p:nvSpPr>
          <p:spPr>
            <a:xfrm>
              <a:off x="3208320" y="1573200"/>
              <a:ext cx="2858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3149640" y="5286240"/>
              <a:ext cx="231840" cy="23184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2305080" y="5288040"/>
              <a:ext cx="246240" cy="24624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 txBox="1"/>
            <p:nvPr/>
          </p:nvSpPr>
          <p:spPr>
            <a:xfrm>
              <a:off x="666720" y="5726160"/>
              <a:ext cx="303516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 u="sng">
                  <a:solidFill>
                    <a:srgbClr val="00dfca"/>
                  </a:solidFill>
                  <a:uFillTx/>
                  <a:latin typeface="Times New Roman"/>
                  <a:ea typeface="Times New Roman"/>
                </a:rPr>
                <a:t>DRAWING SPECIFI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 txBox="1"/>
            <p:nvPr/>
          </p:nvSpPr>
          <p:spPr>
            <a:xfrm>
              <a:off x="757080" y="343080"/>
              <a:ext cx="102384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800" spc="-1" strike="noStrike" u="sng">
                  <a:solidFill>
                    <a:srgbClr val="fd0000"/>
                  </a:solidFill>
                  <a:uFillTx/>
                  <a:latin typeface="Times New Roman"/>
                  <a:ea typeface="Times New Roman"/>
                </a:rPr>
                <a:t>Part 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5613480" y="6408720"/>
            <a:ext cx="2657520" cy="43668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685800" y="41292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Table of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685800" y="165420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eword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y Concepts (Topics for study in this module)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ums (Theoretical and Simulated Datums)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um Simulators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um Feature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nar Datum Exampl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um Concept Review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um Selection Criteria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um Reference Fram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ying Datums (Datum feature Symbol and Datum Reference)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um Selection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um Feature Material Condition Specification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nar Feature Datum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asurements From Datum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um Precedenc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787320" y="1068480"/>
            <a:ext cx="717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To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470640" y="1084320"/>
            <a:ext cx="2470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Beginning Slid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 txBox="1"/>
          <p:nvPr/>
        </p:nvSpPr>
        <p:spPr>
          <a:xfrm>
            <a:off x="5237280" y="1603440"/>
            <a:ext cx="3773520" cy="37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00dfca"/>
                </a:solidFill>
                <a:uFillTx/>
                <a:latin typeface="Times New Roman"/>
                <a:ea typeface="Times New Roman"/>
              </a:rPr>
              <a:t>INTERPRETATION</a:t>
            </a:r>
            <a:r>
              <a:rPr b="0" lang="en-US" sz="1800" spc="-1" strike="noStrike">
                <a:solidFill>
                  <a:srgbClr val="00dfca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</a:t>
            </a:r>
            <a:r>
              <a:rPr b="0" i="1" lang="en-US" sz="2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ax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f these features (hole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st be located on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rue positon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each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in a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ylindric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ler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one, 0.2 millimeter in diamete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the hole sizes are at the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allest diameter (MMC), wi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ence to planar datum ‘A’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um axis ‘B’ when datum fe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diameter) B is at MM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2" name=""/>
          <p:cNvGrpSpPr/>
          <p:nvPr/>
        </p:nvGrpSpPr>
        <p:grpSpPr>
          <a:xfrm>
            <a:off x="119160" y="587520"/>
            <a:ext cx="4951440" cy="5505480"/>
            <a:chOff x="119160" y="587520"/>
            <a:chExt cx="4951440" cy="5505480"/>
          </a:xfrm>
        </p:grpSpPr>
        <p:grpSp>
          <p:nvGrpSpPr>
            <p:cNvPr id="1443" name=""/>
            <p:cNvGrpSpPr/>
            <p:nvPr/>
          </p:nvGrpSpPr>
          <p:grpSpPr>
            <a:xfrm>
              <a:off x="119160" y="1317600"/>
              <a:ext cx="2873160" cy="2873520"/>
              <a:chOff x="119160" y="1317600"/>
              <a:chExt cx="2873160" cy="2873520"/>
            </a:xfrm>
          </p:grpSpPr>
          <p:sp>
            <p:nvSpPr>
              <p:cNvPr id="1444" name=""/>
              <p:cNvSpPr/>
              <p:nvPr/>
            </p:nvSpPr>
            <p:spPr>
              <a:xfrm>
                <a:off x="1198440" y="2373480"/>
                <a:ext cx="716040" cy="716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317520" y="1523880"/>
                <a:ext cx="2476440" cy="2476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1122480" y="2297160"/>
                <a:ext cx="866880" cy="8668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7" name=""/>
              <p:cNvGrpSpPr/>
              <p:nvPr/>
            </p:nvGrpSpPr>
            <p:grpSpPr>
              <a:xfrm>
                <a:off x="119160" y="2754360"/>
                <a:ext cx="2873160" cy="0"/>
                <a:chOff x="119160" y="2754360"/>
                <a:chExt cx="2873160" cy="0"/>
              </a:xfrm>
            </p:grpSpPr>
            <p:sp>
              <p:nvSpPr>
                <p:cNvPr id="1448" name=""/>
                <p:cNvSpPr/>
                <p:nvPr/>
              </p:nvSpPr>
              <p:spPr>
                <a:xfrm>
                  <a:off x="119160" y="2754360"/>
                  <a:ext cx="1317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9" name=""/>
                <p:cNvSpPr/>
                <p:nvPr/>
              </p:nvSpPr>
              <p:spPr>
                <a:xfrm>
                  <a:off x="1500120" y="2754360"/>
                  <a:ext cx="111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0" name=""/>
                <p:cNvSpPr/>
                <p:nvPr/>
              </p:nvSpPr>
              <p:spPr>
                <a:xfrm>
                  <a:off x="1674720" y="2754360"/>
                  <a:ext cx="1317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1" name=""/>
              <p:cNvGrpSpPr/>
              <p:nvPr/>
            </p:nvGrpSpPr>
            <p:grpSpPr>
              <a:xfrm>
                <a:off x="1555920" y="1317600"/>
                <a:ext cx="0" cy="2873520"/>
                <a:chOff x="1555920" y="1317600"/>
                <a:chExt cx="0" cy="2873520"/>
              </a:xfrm>
            </p:grpSpPr>
            <p:sp>
              <p:nvSpPr>
                <p:cNvPr id="1452" name=""/>
                <p:cNvSpPr/>
                <p:nvPr/>
              </p:nvSpPr>
              <p:spPr>
                <a:xfrm>
                  <a:off x="1555920" y="1317600"/>
                  <a:ext cx="0" cy="1317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3" name=""/>
                <p:cNvSpPr/>
                <p:nvPr/>
              </p:nvSpPr>
              <p:spPr>
                <a:xfrm>
                  <a:off x="1555920" y="2698920"/>
                  <a:ext cx="0" cy="11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4" name=""/>
                <p:cNvSpPr/>
                <p:nvPr/>
              </p:nvSpPr>
              <p:spPr>
                <a:xfrm>
                  <a:off x="1555920" y="2873520"/>
                  <a:ext cx="0" cy="1317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55" name=""/>
            <p:cNvGrpSpPr/>
            <p:nvPr/>
          </p:nvGrpSpPr>
          <p:grpSpPr>
            <a:xfrm>
              <a:off x="811080" y="2004840"/>
              <a:ext cx="1495440" cy="1494000"/>
              <a:chOff x="811080" y="2004840"/>
              <a:chExt cx="1495440" cy="1494000"/>
            </a:xfrm>
          </p:grpSpPr>
          <p:sp>
            <p:nvSpPr>
              <p:cNvPr id="1456" name=""/>
              <p:cNvSpPr/>
              <p:nvPr/>
            </p:nvSpPr>
            <p:spPr>
              <a:xfrm>
                <a:off x="2089080" y="2004840"/>
                <a:ext cx="206280" cy="206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2100240" y="3286080"/>
                <a:ext cx="206280" cy="206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822240" y="2011320"/>
                <a:ext cx="206280" cy="206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811080" y="3292560"/>
                <a:ext cx="206280" cy="206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0" name=""/>
            <p:cNvGrpSpPr/>
            <p:nvPr/>
          </p:nvGrpSpPr>
          <p:grpSpPr>
            <a:xfrm>
              <a:off x="552600" y="1746360"/>
              <a:ext cx="2012760" cy="2022120"/>
              <a:chOff x="552600" y="1746360"/>
              <a:chExt cx="2012760" cy="2022120"/>
            </a:xfrm>
          </p:grpSpPr>
          <p:sp>
            <p:nvSpPr>
              <p:cNvPr id="1461" name=""/>
              <p:cNvSpPr/>
              <p:nvPr/>
            </p:nvSpPr>
            <p:spPr>
              <a:xfrm>
                <a:off x="1444680" y="1746360"/>
                <a:ext cx="206280" cy="206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2359080" y="2644920"/>
                <a:ext cx="206280" cy="206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552600" y="2647800"/>
                <a:ext cx="206280" cy="206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1450800" y="3562200"/>
                <a:ext cx="206280" cy="206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5" name=""/>
            <p:cNvSpPr/>
            <p:nvPr/>
          </p:nvSpPr>
          <p:spPr>
            <a:xfrm flipH="1">
              <a:off x="936720" y="3746520"/>
              <a:ext cx="571320" cy="1238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936720" y="4984920"/>
              <a:ext cx="1746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 txBox="1"/>
            <p:nvPr/>
          </p:nvSpPr>
          <p:spPr>
            <a:xfrm>
              <a:off x="1084320" y="4875120"/>
              <a:ext cx="15476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8X      10.0 - 10.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1190520" y="5254560"/>
              <a:ext cx="2266920" cy="30168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9" name=""/>
            <p:cNvGrpSpPr/>
            <p:nvPr/>
          </p:nvGrpSpPr>
          <p:grpSpPr>
            <a:xfrm>
              <a:off x="1287360" y="5295960"/>
              <a:ext cx="214560" cy="218880"/>
              <a:chOff x="1287360" y="5295960"/>
              <a:chExt cx="214560" cy="218880"/>
            </a:xfrm>
          </p:grpSpPr>
          <p:sp>
            <p:nvSpPr>
              <p:cNvPr id="1470" name=""/>
              <p:cNvSpPr/>
              <p:nvPr/>
            </p:nvSpPr>
            <p:spPr>
              <a:xfrm>
                <a:off x="1309680" y="5321160"/>
                <a:ext cx="171360" cy="17136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1395360" y="5295960"/>
                <a:ext cx="0" cy="21888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1287360" y="5407200"/>
                <a:ext cx="21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3" name=""/>
            <p:cNvSpPr/>
            <p:nvPr/>
          </p:nvSpPr>
          <p:spPr>
            <a:xfrm>
              <a:off x="1600200" y="5265720"/>
              <a:ext cx="0" cy="27612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4" name=""/>
            <p:cNvGrpSpPr/>
            <p:nvPr/>
          </p:nvGrpSpPr>
          <p:grpSpPr>
            <a:xfrm>
              <a:off x="1519200" y="4935600"/>
              <a:ext cx="147600" cy="146160"/>
              <a:chOff x="1519200" y="4935600"/>
              <a:chExt cx="147600" cy="146160"/>
            </a:xfrm>
          </p:grpSpPr>
          <p:sp>
            <p:nvSpPr>
              <p:cNvPr id="1475" name=""/>
              <p:cNvSpPr/>
              <p:nvPr/>
            </p:nvSpPr>
            <p:spPr>
              <a:xfrm>
                <a:off x="1539720" y="4951440"/>
                <a:ext cx="114480" cy="11448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 flipH="1">
                <a:off x="1519200" y="4935600"/>
                <a:ext cx="147600" cy="14616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7" name=""/>
            <p:cNvGrpSpPr/>
            <p:nvPr/>
          </p:nvGrpSpPr>
          <p:grpSpPr>
            <a:xfrm>
              <a:off x="1657440" y="5322960"/>
              <a:ext cx="171360" cy="171360"/>
              <a:chOff x="1657440" y="5322960"/>
              <a:chExt cx="171360" cy="171360"/>
            </a:xfrm>
          </p:grpSpPr>
          <p:sp>
            <p:nvSpPr>
              <p:cNvPr id="1478" name=""/>
              <p:cNvSpPr/>
              <p:nvPr/>
            </p:nvSpPr>
            <p:spPr>
              <a:xfrm>
                <a:off x="1681200" y="5342040"/>
                <a:ext cx="133200" cy="13320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 flipH="1">
                <a:off x="1657440" y="5322960"/>
                <a:ext cx="171360" cy="17136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0" name=""/>
            <p:cNvSpPr txBox="1"/>
            <p:nvPr/>
          </p:nvSpPr>
          <p:spPr>
            <a:xfrm>
              <a:off x="1857240" y="5265720"/>
              <a:ext cx="4316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0.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1" name=""/>
            <p:cNvGrpSpPr/>
            <p:nvPr/>
          </p:nvGrpSpPr>
          <p:grpSpPr>
            <a:xfrm>
              <a:off x="2268360" y="5268960"/>
              <a:ext cx="331920" cy="304920"/>
              <a:chOff x="2268360" y="5268960"/>
              <a:chExt cx="331920" cy="304920"/>
            </a:xfrm>
          </p:grpSpPr>
          <p:sp>
            <p:nvSpPr>
              <p:cNvPr id="1482" name=""/>
              <p:cNvSpPr/>
              <p:nvPr/>
            </p:nvSpPr>
            <p:spPr>
              <a:xfrm>
                <a:off x="2333520" y="5308560"/>
                <a:ext cx="190440" cy="190440"/>
              </a:xfrm>
              <a:prstGeom prst="ellipse">
                <a:avLst/>
              </a:prstGeom>
              <a:noFill/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"/>
              <p:cNvSpPr txBox="1"/>
              <p:nvPr/>
            </p:nvSpPr>
            <p:spPr>
              <a:xfrm>
                <a:off x="2268360" y="5268960"/>
                <a:ext cx="33192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M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4" name=""/>
            <p:cNvSpPr/>
            <p:nvPr/>
          </p:nvSpPr>
          <p:spPr>
            <a:xfrm>
              <a:off x="2610000" y="5265720"/>
              <a:ext cx="0" cy="28584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 txBox="1"/>
            <p:nvPr/>
          </p:nvSpPr>
          <p:spPr>
            <a:xfrm>
              <a:off x="2606760" y="5275440"/>
              <a:ext cx="3031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2924280" y="5270400"/>
              <a:ext cx="0" cy="28116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 txBox="1"/>
            <p:nvPr/>
          </p:nvSpPr>
          <p:spPr>
            <a:xfrm>
              <a:off x="2898720" y="5275440"/>
              <a:ext cx="3031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8" name=""/>
            <p:cNvGrpSpPr/>
            <p:nvPr/>
          </p:nvGrpSpPr>
          <p:grpSpPr>
            <a:xfrm>
              <a:off x="3116160" y="5268960"/>
              <a:ext cx="331920" cy="304920"/>
              <a:chOff x="3116160" y="5268960"/>
              <a:chExt cx="331920" cy="304920"/>
            </a:xfrm>
          </p:grpSpPr>
          <p:sp>
            <p:nvSpPr>
              <p:cNvPr id="1489" name=""/>
              <p:cNvSpPr/>
              <p:nvPr/>
            </p:nvSpPr>
            <p:spPr>
              <a:xfrm>
                <a:off x="3181320" y="5308560"/>
                <a:ext cx="190440" cy="190440"/>
              </a:xfrm>
              <a:prstGeom prst="ellipse">
                <a:avLst/>
              </a:prstGeom>
              <a:noFill/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"/>
              <p:cNvSpPr txBox="1"/>
              <p:nvPr/>
            </p:nvSpPr>
            <p:spPr>
              <a:xfrm>
                <a:off x="3116160" y="5268960"/>
                <a:ext cx="33192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M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1" name=""/>
            <p:cNvSpPr/>
            <p:nvPr/>
          </p:nvSpPr>
          <p:spPr>
            <a:xfrm>
              <a:off x="4556160" y="1539720"/>
              <a:ext cx="0" cy="2460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4556160" y="1536840"/>
              <a:ext cx="206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4762440" y="1539720"/>
              <a:ext cx="0" cy="2460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 flipH="1">
              <a:off x="4556160" y="4000680"/>
              <a:ext cx="2001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3654360" y="2739960"/>
              <a:ext cx="6033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4311720" y="2743200"/>
              <a:ext cx="792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4451400" y="2743200"/>
              <a:ext cx="6192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4191120" y="2286000"/>
              <a:ext cx="365040" cy="8888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127400" y="2349360"/>
              <a:ext cx="0" cy="755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 flipV="1">
              <a:off x="4127400" y="2286000"/>
              <a:ext cx="63720" cy="633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 flipH="1" flipV="1">
              <a:off x="4127400" y="3105000"/>
              <a:ext cx="69840" cy="69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2" name=""/>
            <p:cNvGrpSpPr/>
            <p:nvPr/>
          </p:nvGrpSpPr>
          <p:grpSpPr>
            <a:xfrm>
              <a:off x="4559400" y="1771560"/>
              <a:ext cx="190440" cy="216000"/>
              <a:chOff x="4559400" y="1771560"/>
              <a:chExt cx="190440" cy="216000"/>
            </a:xfrm>
          </p:grpSpPr>
          <p:sp>
            <p:nvSpPr>
              <p:cNvPr id="1503" name=""/>
              <p:cNvSpPr/>
              <p:nvPr/>
            </p:nvSpPr>
            <p:spPr>
              <a:xfrm>
                <a:off x="4565520" y="1771560"/>
                <a:ext cx="184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custDash>
                  <a:ds d="402857" sp="4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4559400" y="1987560"/>
                <a:ext cx="190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custDash>
                  <a:ds d="402857" sp="4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5" name=""/>
            <p:cNvGrpSpPr/>
            <p:nvPr/>
          </p:nvGrpSpPr>
          <p:grpSpPr>
            <a:xfrm>
              <a:off x="4568760" y="3511440"/>
              <a:ext cx="190440" cy="216000"/>
              <a:chOff x="4568760" y="3511440"/>
              <a:chExt cx="190440" cy="216000"/>
            </a:xfrm>
          </p:grpSpPr>
          <p:sp>
            <p:nvSpPr>
              <p:cNvPr id="1506" name=""/>
              <p:cNvSpPr/>
              <p:nvPr/>
            </p:nvSpPr>
            <p:spPr>
              <a:xfrm>
                <a:off x="4575240" y="3511440"/>
                <a:ext cx="1839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custDash>
                  <a:ds d="402857" sp="4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4568760" y="3727440"/>
                <a:ext cx="190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custDash>
                  <a:ds d="402857" sp="4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8" name=""/>
            <p:cNvGrpSpPr/>
            <p:nvPr/>
          </p:nvGrpSpPr>
          <p:grpSpPr>
            <a:xfrm>
              <a:off x="4317840" y="1889280"/>
              <a:ext cx="714600" cy="0"/>
              <a:chOff x="4317840" y="1889280"/>
              <a:chExt cx="714600" cy="0"/>
            </a:xfrm>
          </p:grpSpPr>
          <p:sp>
            <p:nvSpPr>
              <p:cNvPr id="1509" name=""/>
              <p:cNvSpPr/>
              <p:nvPr/>
            </p:nvSpPr>
            <p:spPr>
              <a:xfrm>
                <a:off x="4317840" y="1889280"/>
                <a:ext cx="238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4651200" y="1889280"/>
                <a:ext cx="63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4809960" y="1889280"/>
                <a:ext cx="222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2" name=""/>
            <p:cNvGrpSpPr/>
            <p:nvPr/>
          </p:nvGrpSpPr>
          <p:grpSpPr>
            <a:xfrm>
              <a:off x="4295880" y="3613320"/>
              <a:ext cx="714240" cy="0"/>
              <a:chOff x="4295880" y="3613320"/>
              <a:chExt cx="714240" cy="0"/>
            </a:xfrm>
          </p:grpSpPr>
          <p:sp>
            <p:nvSpPr>
              <p:cNvPr id="1513" name=""/>
              <p:cNvSpPr/>
              <p:nvPr/>
            </p:nvSpPr>
            <p:spPr>
              <a:xfrm>
                <a:off x="4295880" y="3613320"/>
                <a:ext cx="2379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4629240" y="3613320"/>
                <a:ext cx="63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4788000" y="3613320"/>
                <a:ext cx="222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6" name=""/>
            <p:cNvSpPr/>
            <p:nvPr/>
          </p:nvSpPr>
          <p:spPr>
            <a:xfrm flipV="1">
              <a:off x="4556160" y="587520"/>
              <a:ext cx="0" cy="873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3218040" y="1573200"/>
              <a:ext cx="254160" cy="2541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3344760" y="1830240"/>
              <a:ext cx="0" cy="4082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3274920" y="2147760"/>
              <a:ext cx="143280" cy="143280"/>
            </a:xfrm>
            <a:custGeom>
              <a:avLst/>
              <a:gdLst/>
              <a:ahLst/>
              <a:rect l="0" t="0" r="r" b="b"/>
              <a:pathLst>
                <a:path w="398" h="398">
                  <a:moveTo>
                    <a:pt x="0" y="398"/>
                  </a:moveTo>
                  <a:lnTo>
                    <a:pt x="398" y="398"/>
                  </a:lnTo>
                  <a:lnTo>
                    <a:pt x="199" y="0"/>
                  </a:lnTo>
                  <a:lnTo>
                    <a:pt x="0" y="398"/>
                  </a:lnTo>
                  <a:close/>
                </a:path>
              </a:pathLst>
            </a:custGeom>
            <a:solidFill>
              <a:srgbClr val="a2c1fe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H="1">
              <a:off x="3206880" y="2286000"/>
              <a:ext cx="8413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 flipH="1">
              <a:off x="3216240" y="3168720"/>
              <a:ext cx="8413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 flipV="1">
              <a:off x="3349800" y="2286000"/>
              <a:ext cx="0" cy="873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3838680" y="787320"/>
              <a:ext cx="254160" cy="2541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 txBox="1"/>
            <p:nvPr/>
          </p:nvSpPr>
          <p:spPr>
            <a:xfrm>
              <a:off x="3825720" y="798480"/>
              <a:ext cx="2858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4095720" y="914400"/>
              <a:ext cx="3333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4413240" y="841320"/>
              <a:ext cx="143280" cy="143280"/>
            </a:xfrm>
            <a:custGeom>
              <a:avLst/>
              <a:gdLst/>
              <a:ahLst/>
              <a:rect l="0" t="0" r="r" b="b"/>
              <a:pathLst>
                <a:path w="398" h="398">
                  <a:moveTo>
                    <a:pt x="398" y="398"/>
                  </a:moveTo>
                  <a:lnTo>
                    <a:pt x="398" y="0"/>
                  </a:lnTo>
                  <a:lnTo>
                    <a:pt x="0" y="199"/>
                  </a:lnTo>
                  <a:lnTo>
                    <a:pt x="398" y="398"/>
                  </a:lnTo>
                  <a:close/>
                </a:path>
              </a:pathLst>
            </a:custGeom>
            <a:solidFill>
              <a:srgbClr val="a2c1fe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"/>
            <p:cNvSpPr txBox="1"/>
            <p:nvPr/>
          </p:nvSpPr>
          <p:spPr>
            <a:xfrm>
              <a:off x="3208320" y="1573200"/>
              <a:ext cx="2858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3149640" y="5286240"/>
              <a:ext cx="231840" cy="23184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305080" y="5288040"/>
              <a:ext cx="246240" cy="24624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"/>
            <p:cNvSpPr txBox="1"/>
            <p:nvPr/>
          </p:nvSpPr>
          <p:spPr>
            <a:xfrm>
              <a:off x="666720" y="5726160"/>
              <a:ext cx="303516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 u="sng">
                  <a:solidFill>
                    <a:srgbClr val="00dfca"/>
                  </a:solidFill>
                  <a:uFillTx/>
                  <a:latin typeface="Times New Roman"/>
                  <a:ea typeface="Times New Roman"/>
                </a:rPr>
                <a:t>DRAWING SPECIFI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1" name=""/>
          <p:cNvSpPr txBox="1"/>
          <p:nvPr/>
        </p:nvSpPr>
        <p:spPr>
          <a:xfrm>
            <a:off x="757080" y="343080"/>
            <a:ext cx="1023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 u="sng">
                <a:solidFill>
                  <a:srgbClr val="fd0000"/>
                </a:solidFill>
                <a:uFillTx/>
                <a:latin typeface="Times New Roman"/>
                <a:ea typeface="Times New Roman"/>
              </a:rPr>
              <a:t>Part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 txBox="1"/>
          <p:nvPr/>
        </p:nvSpPr>
        <p:spPr>
          <a:xfrm>
            <a:off x="5305320" y="1120680"/>
            <a:ext cx="337176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um features are the su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aces that locate and or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part at assembly.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ientation of this part is det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ed by surface A and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ted by surface B.  The bol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les are held relative to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atures that locate and ori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art.  Therefore, the ho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 dimensioned relative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ums A and B by means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ometric tolera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 txBox="1"/>
          <p:nvPr/>
        </p:nvSpPr>
        <p:spPr>
          <a:xfrm>
            <a:off x="757080" y="343080"/>
            <a:ext cx="1023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 u="sng">
                <a:solidFill>
                  <a:srgbClr val="fd0000"/>
                </a:solidFill>
                <a:uFillTx/>
                <a:latin typeface="Times New Roman"/>
                <a:ea typeface="Times New Roman"/>
              </a:rPr>
              <a:t>Part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5" name=""/>
          <p:cNvGrpSpPr/>
          <p:nvPr/>
        </p:nvGrpSpPr>
        <p:grpSpPr>
          <a:xfrm>
            <a:off x="119160" y="1317600"/>
            <a:ext cx="2873160" cy="2873520"/>
            <a:chOff x="119160" y="1317600"/>
            <a:chExt cx="2873160" cy="2873520"/>
          </a:xfrm>
        </p:grpSpPr>
        <p:sp>
          <p:nvSpPr>
            <p:cNvPr id="1536" name=""/>
            <p:cNvSpPr/>
            <p:nvPr/>
          </p:nvSpPr>
          <p:spPr>
            <a:xfrm>
              <a:off x="1198440" y="2373480"/>
              <a:ext cx="716040" cy="7160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317520" y="1523880"/>
              <a:ext cx="2476440" cy="24764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1122480" y="2297160"/>
              <a:ext cx="866880" cy="866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9" name=""/>
            <p:cNvGrpSpPr/>
            <p:nvPr/>
          </p:nvGrpSpPr>
          <p:grpSpPr>
            <a:xfrm>
              <a:off x="119160" y="2754360"/>
              <a:ext cx="2873160" cy="0"/>
              <a:chOff x="119160" y="2754360"/>
              <a:chExt cx="2873160" cy="0"/>
            </a:xfrm>
          </p:grpSpPr>
          <p:sp>
            <p:nvSpPr>
              <p:cNvPr id="1540" name=""/>
              <p:cNvSpPr/>
              <p:nvPr/>
            </p:nvSpPr>
            <p:spPr>
              <a:xfrm>
                <a:off x="119160" y="2754360"/>
                <a:ext cx="1317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1500120" y="2754360"/>
                <a:ext cx="1112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1674720" y="2754360"/>
                <a:ext cx="1317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3" name=""/>
            <p:cNvGrpSpPr/>
            <p:nvPr/>
          </p:nvGrpSpPr>
          <p:grpSpPr>
            <a:xfrm>
              <a:off x="1555920" y="1317600"/>
              <a:ext cx="0" cy="2873520"/>
              <a:chOff x="1555920" y="1317600"/>
              <a:chExt cx="0" cy="2873520"/>
            </a:xfrm>
          </p:grpSpPr>
          <p:sp>
            <p:nvSpPr>
              <p:cNvPr id="1544" name=""/>
              <p:cNvSpPr/>
              <p:nvPr/>
            </p:nvSpPr>
            <p:spPr>
              <a:xfrm>
                <a:off x="1555920" y="1317600"/>
                <a:ext cx="0" cy="1317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1555920" y="2698920"/>
                <a:ext cx="0" cy="110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1555920" y="2873520"/>
                <a:ext cx="0" cy="1317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7" name=""/>
          <p:cNvGrpSpPr/>
          <p:nvPr/>
        </p:nvGrpSpPr>
        <p:grpSpPr>
          <a:xfrm>
            <a:off x="811080" y="2004840"/>
            <a:ext cx="1495440" cy="1494000"/>
            <a:chOff x="811080" y="2004840"/>
            <a:chExt cx="1495440" cy="1494000"/>
          </a:xfrm>
        </p:grpSpPr>
        <p:sp>
          <p:nvSpPr>
            <p:cNvPr id="1548" name=""/>
            <p:cNvSpPr/>
            <p:nvPr/>
          </p:nvSpPr>
          <p:spPr>
            <a:xfrm>
              <a:off x="2089080" y="2004840"/>
              <a:ext cx="206280" cy="206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2100240" y="3286080"/>
              <a:ext cx="206280" cy="206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822240" y="2011320"/>
              <a:ext cx="206280" cy="206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811080" y="3292560"/>
              <a:ext cx="206280" cy="206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2" name=""/>
          <p:cNvGrpSpPr/>
          <p:nvPr/>
        </p:nvGrpSpPr>
        <p:grpSpPr>
          <a:xfrm>
            <a:off x="552600" y="1746360"/>
            <a:ext cx="2012760" cy="2022120"/>
            <a:chOff x="552600" y="1746360"/>
            <a:chExt cx="2012760" cy="2022120"/>
          </a:xfrm>
        </p:grpSpPr>
        <p:sp>
          <p:nvSpPr>
            <p:cNvPr id="1553" name=""/>
            <p:cNvSpPr/>
            <p:nvPr/>
          </p:nvSpPr>
          <p:spPr>
            <a:xfrm>
              <a:off x="1444680" y="1746360"/>
              <a:ext cx="206280" cy="206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2359080" y="2644920"/>
              <a:ext cx="206280" cy="206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552600" y="2647800"/>
              <a:ext cx="206280" cy="206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1450800" y="3562200"/>
              <a:ext cx="206280" cy="206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7" name=""/>
          <p:cNvSpPr/>
          <p:nvPr/>
        </p:nvSpPr>
        <p:spPr>
          <a:xfrm flipH="1">
            <a:off x="936720" y="3746520"/>
            <a:ext cx="571320" cy="12384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936720" y="4984920"/>
            <a:ext cx="174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 txBox="1"/>
          <p:nvPr/>
        </p:nvSpPr>
        <p:spPr>
          <a:xfrm>
            <a:off x="1084320" y="4875120"/>
            <a:ext cx="1547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  <a:ea typeface="Arial"/>
              </a:rPr>
              <a:t>8X      10.0 - 1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0" name=""/>
          <p:cNvGrpSpPr/>
          <p:nvPr/>
        </p:nvGrpSpPr>
        <p:grpSpPr>
          <a:xfrm>
            <a:off x="1519200" y="4935600"/>
            <a:ext cx="147600" cy="146160"/>
            <a:chOff x="1519200" y="4935600"/>
            <a:chExt cx="147600" cy="146160"/>
          </a:xfrm>
        </p:grpSpPr>
        <p:sp>
          <p:nvSpPr>
            <p:cNvPr id="1561" name=""/>
            <p:cNvSpPr/>
            <p:nvPr/>
          </p:nvSpPr>
          <p:spPr>
            <a:xfrm>
              <a:off x="1539720" y="4951440"/>
              <a:ext cx="114480" cy="11448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 flipH="1">
              <a:off x="1519200" y="4935600"/>
              <a:ext cx="147600" cy="14616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3" name=""/>
          <p:cNvSpPr/>
          <p:nvPr/>
        </p:nvSpPr>
        <p:spPr>
          <a:xfrm>
            <a:off x="4556160" y="1539720"/>
            <a:ext cx="0" cy="2460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4556160" y="1536840"/>
            <a:ext cx="2062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>
            <a:off x="4762440" y="1539720"/>
            <a:ext cx="0" cy="2460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 flipH="1">
            <a:off x="4556160" y="4000680"/>
            <a:ext cx="200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3654360" y="2739960"/>
            <a:ext cx="603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4311720" y="2743200"/>
            <a:ext cx="792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4451400" y="2743200"/>
            <a:ext cx="6192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>
            <a:off x="4191120" y="2286000"/>
            <a:ext cx="365040" cy="88884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4127400" y="2349360"/>
            <a:ext cx="0" cy="755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 flipV="1">
            <a:off x="4127400" y="2286000"/>
            <a:ext cx="63720" cy="63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 flipH="1" flipV="1">
            <a:off x="4127400" y="3105000"/>
            <a:ext cx="69840" cy="69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4" name=""/>
          <p:cNvGrpSpPr/>
          <p:nvPr/>
        </p:nvGrpSpPr>
        <p:grpSpPr>
          <a:xfrm>
            <a:off x="4559400" y="1771560"/>
            <a:ext cx="190440" cy="216000"/>
            <a:chOff x="4559400" y="1771560"/>
            <a:chExt cx="190440" cy="216000"/>
          </a:xfrm>
        </p:grpSpPr>
        <p:sp>
          <p:nvSpPr>
            <p:cNvPr id="1575" name=""/>
            <p:cNvSpPr/>
            <p:nvPr/>
          </p:nvSpPr>
          <p:spPr>
            <a:xfrm>
              <a:off x="4565520" y="1771560"/>
              <a:ext cx="184320" cy="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4559400" y="1987560"/>
              <a:ext cx="190440" cy="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7" name=""/>
          <p:cNvGrpSpPr/>
          <p:nvPr/>
        </p:nvGrpSpPr>
        <p:grpSpPr>
          <a:xfrm>
            <a:off x="4568760" y="3511440"/>
            <a:ext cx="190440" cy="216000"/>
            <a:chOff x="4568760" y="3511440"/>
            <a:chExt cx="190440" cy="216000"/>
          </a:xfrm>
        </p:grpSpPr>
        <p:sp>
          <p:nvSpPr>
            <p:cNvPr id="1578" name=""/>
            <p:cNvSpPr/>
            <p:nvPr/>
          </p:nvSpPr>
          <p:spPr>
            <a:xfrm>
              <a:off x="4575240" y="3511440"/>
              <a:ext cx="183960" cy="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4568760" y="3727440"/>
              <a:ext cx="190440" cy="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0" name=""/>
          <p:cNvGrpSpPr/>
          <p:nvPr/>
        </p:nvGrpSpPr>
        <p:grpSpPr>
          <a:xfrm>
            <a:off x="4317840" y="1889280"/>
            <a:ext cx="714600" cy="0"/>
            <a:chOff x="4317840" y="1889280"/>
            <a:chExt cx="714600" cy="0"/>
          </a:xfrm>
        </p:grpSpPr>
        <p:sp>
          <p:nvSpPr>
            <p:cNvPr id="1581" name=""/>
            <p:cNvSpPr/>
            <p:nvPr/>
          </p:nvSpPr>
          <p:spPr>
            <a:xfrm>
              <a:off x="4317840" y="1889280"/>
              <a:ext cx="2383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4651200" y="1889280"/>
              <a:ext cx="637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4809960" y="1889280"/>
              <a:ext cx="2224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4" name=""/>
          <p:cNvGrpSpPr/>
          <p:nvPr/>
        </p:nvGrpSpPr>
        <p:grpSpPr>
          <a:xfrm>
            <a:off x="4295880" y="3613320"/>
            <a:ext cx="714240" cy="0"/>
            <a:chOff x="4295880" y="3613320"/>
            <a:chExt cx="714240" cy="0"/>
          </a:xfrm>
        </p:grpSpPr>
        <p:sp>
          <p:nvSpPr>
            <p:cNvPr id="1585" name=""/>
            <p:cNvSpPr/>
            <p:nvPr/>
          </p:nvSpPr>
          <p:spPr>
            <a:xfrm>
              <a:off x="4295880" y="3613320"/>
              <a:ext cx="2379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4629240" y="3613320"/>
              <a:ext cx="633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4788000" y="3613320"/>
              <a:ext cx="222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8" name=""/>
          <p:cNvSpPr/>
          <p:nvPr/>
        </p:nvSpPr>
        <p:spPr>
          <a:xfrm flipV="1">
            <a:off x="4556160" y="587520"/>
            <a:ext cx="0" cy="873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3218040" y="1573200"/>
            <a:ext cx="254160" cy="2541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3344760" y="1830240"/>
            <a:ext cx="0" cy="408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>
            <a:off x="3274920" y="2147760"/>
            <a:ext cx="143280" cy="143280"/>
          </a:xfrm>
          <a:custGeom>
            <a:avLst/>
            <a:gdLst/>
            <a:ahLst/>
            <a:rect l="0" t="0" r="r" b="b"/>
            <a:pathLst>
              <a:path w="398" h="398">
                <a:moveTo>
                  <a:pt x="0" y="398"/>
                </a:moveTo>
                <a:lnTo>
                  <a:pt x="398" y="398"/>
                </a:lnTo>
                <a:lnTo>
                  <a:pt x="199" y="0"/>
                </a:lnTo>
                <a:lnTo>
                  <a:pt x="0" y="398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 flipH="1">
            <a:off x="3206880" y="2286000"/>
            <a:ext cx="841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 flipH="1">
            <a:off x="3216240" y="3168720"/>
            <a:ext cx="841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 flipV="1">
            <a:off x="3349800" y="2286000"/>
            <a:ext cx="0" cy="8730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>
            <a:off x="3838680" y="787320"/>
            <a:ext cx="254160" cy="2541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 txBox="1"/>
          <p:nvPr/>
        </p:nvSpPr>
        <p:spPr>
          <a:xfrm>
            <a:off x="3825720" y="79848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4095720" y="914400"/>
            <a:ext cx="333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4413240" y="841320"/>
            <a:ext cx="143280" cy="143280"/>
          </a:xfrm>
          <a:custGeom>
            <a:avLst/>
            <a:gdLst/>
            <a:ahLst/>
            <a:rect l="0" t="0" r="r" b="b"/>
            <a:pathLst>
              <a:path w="398" h="398">
                <a:moveTo>
                  <a:pt x="398" y="398"/>
                </a:moveTo>
                <a:lnTo>
                  <a:pt x="398" y="0"/>
                </a:lnTo>
                <a:lnTo>
                  <a:pt x="0" y="199"/>
                </a:lnTo>
                <a:lnTo>
                  <a:pt x="398" y="398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 txBox="1"/>
          <p:nvPr/>
        </p:nvSpPr>
        <p:spPr>
          <a:xfrm>
            <a:off x="3208320" y="157320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0" name=""/>
          <p:cNvGrpSpPr/>
          <p:nvPr/>
        </p:nvGrpSpPr>
        <p:grpSpPr>
          <a:xfrm>
            <a:off x="1190520" y="5254560"/>
            <a:ext cx="2266920" cy="325800"/>
            <a:chOff x="1190520" y="5254560"/>
            <a:chExt cx="2266920" cy="325800"/>
          </a:xfrm>
        </p:grpSpPr>
        <p:sp>
          <p:nvSpPr>
            <p:cNvPr id="1601" name=""/>
            <p:cNvSpPr/>
            <p:nvPr/>
          </p:nvSpPr>
          <p:spPr>
            <a:xfrm>
              <a:off x="1190520" y="5254560"/>
              <a:ext cx="2266920" cy="30168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2" name=""/>
            <p:cNvGrpSpPr/>
            <p:nvPr/>
          </p:nvGrpSpPr>
          <p:grpSpPr>
            <a:xfrm>
              <a:off x="1287360" y="5295960"/>
              <a:ext cx="214560" cy="218880"/>
              <a:chOff x="1287360" y="5295960"/>
              <a:chExt cx="214560" cy="218880"/>
            </a:xfrm>
          </p:grpSpPr>
          <p:sp>
            <p:nvSpPr>
              <p:cNvPr id="1603" name=""/>
              <p:cNvSpPr/>
              <p:nvPr/>
            </p:nvSpPr>
            <p:spPr>
              <a:xfrm>
                <a:off x="1309680" y="5321160"/>
                <a:ext cx="171360" cy="17136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1395360" y="5295960"/>
                <a:ext cx="0" cy="21888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1287360" y="5407200"/>
                <a:ext cx="21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6" name=""/>
            <p:cNvSpPr/>
            <p:nvPr/>
          </p:nvSpPr>
          <p:spPr>
            <a:xfrm>
              <a:off x="1600200" y="5265720"/>
              <a:ext cx="0" cy="27612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7" name=""/>
            <p:cNvGrpSpPr/>
            <p:nvPr/>
          </p:nvGrpSpPr>
          <p:grpSpPr>
            <a:xfrm>
              <a:off x="1657440" y="5322960"/>
              <a:ext cx="171360" cy="171360"/>
              <a:chOff x="1657440" y="5322960"/>
              <a:chExt cx="171360" cy="171360"/>
            </a:xfrm>
          </p:grpSpPr>
          <p:sp>
            <p:nvSpPr>
              <p:cNvPr id="1608" name=""/>
              <p:cNvSpPr/>
              <p:nvPr/>
            </p:nvSpPr>
            <p:spPr>
              <a:xfrm>
                <a:off x="1681200" y="5342040"/>
                <a:ext cx="133200" cy="13320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 flipH="1">
                <a:off x="1657440" y="5322960"/>
                <a:ext cx="171360" cy="17136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0" name=""/>
            <p:cNvSpPr txBox="1"/>
            <p:nvPr/>
          </p:nvSpPr>
          <p:spPr>
            <a:xfrm>
              <a:off x="1857240" y="5265720"/>
              <a:ext cx="4316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0.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1" name=""/>
            <p:cNvGrpSpPr/>
            <p:nvPr/>
          </p:nvGrpSpPr>
          <p:grpSpPr>
            <a:xfrm>
              <a:off x="2268360" y="5268960"/>
              <a:ext cx="331920" cy="304920"/>
              <a:chOff x="2268360" y="5268960"/>
              <a:chExt cx="331920" cy="304920"/>
            </a:xfrm>
          </p:grpSpPr>
          <p:sp>
            <p:nvSpPr>
              <p:cNvPr id="1612" name=""/>
              <p:cNvSpPr/>
              <p:nvPr/>
            </p:nvSpPr>
            <p:spPr>
              <a:xfrm>
                <a:off x="2333520" y="5308560"/>
                <a:ext cx="190440" cy="190440"/>
              </a:xfrm>
              <a:prstGeom prst="ellipse">
                <a:avLst/>
              </a:prstGeom>
              <a:noFill/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"/>
              <p:cNvSpPr txBox="1"/>
              <p:nvPr/>
            </p:nvSpPr>
            <p:spPr>
              <a:xfrm>
                <a:off x="2268360" y="5268960"/>
                <a:ext cx="33192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M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4" name=""/>
            <p:cNvSpPr/>
            <p:nvPr/>
          </p:nvSpPr>
          <p:spPr>
            <a:xfrm>
              <a:off x="2610000" y="5265720"/>
              <a:ext cx="0" cy="28584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 txBox="1"/>
            <p:nvPr/>
          </p:nvSpPr>
          <p:spPr>
            <a:xfrm>
              <a:off x="2606760" y="5275440"/>
              <a:ext cx="3031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2924280" y="5270400"/>
              <a:ext cx="0" cy="28116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 txBox="1"/>
            <p:nvPr/>
          </p:nvSpPr>
          <p:spPr>
            <a:xfrm>
              <a:off x="2898720" y="5275440"/>
              <a:ext cx="3031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8" name=""/>
            <p:cNvGrpSpPr/>
            <p:nvPr/>
          </p:nvGrpSpPr>
          <p:grpSpPr>
            <a:xfrm>
              <a:off x="3116160" y="5268960"/>
              <a:ext cx="331920" cy="304920"/>
              <a:chOff x="3116160" y="5268960"/>
              <a:chExt cx="331920" cy="304920"/>
            </a:xfrm>
          </p:grpSpPr>
          <p:sp>
            <p:nvSpPr>
              <p:cNvPr id="1619" name=""/>
              <p:cNvSpPr/>
              <p:nvPr/>
            </p:nvSpPr>
            <p:spPr>
              <a:xfrm>
                <a:off x="3181320" y="5308560"/>
                <a:ext cx="190440" cy="190440"/>
              </a:xfrm>
              <a:prstGeom prst="ellipse">
                <a:avLst/>
              </a:prstGeom>
              <a:noFill/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"/>
              <p:cNvSpPr txBox="1"/>
              <p:nvPr/>
            </p:nvSpPr>
            <p:spPr>
              <a:xfrm>
                <a:off x="3116160" y="5268960"/>
                <a:ext cx="33192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M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1" name=""/>
            <p:cNvSpPr/>
            <p:nvPr/>
          </p:nvSpPr>
          <p:spPr>
            <a:xfrm>
              <a:off x="3149640" y="5286240"/>
              <a:ext cx="231840" cy="23184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2305080" y="5288040"/>
              <a:ext cx="246240" cy="24624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3" name=""/>
          <p:cNvSpPr txBox="1"/>
          <p:nvPr/>
        </p:nvSpPr>
        <p:spPr>
          <a:xfrm>
            <a:off x="666720" y="5726160"/>
            <a:ext cx="30351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00dfca"/>
                </a:solidFill>
                <a:uFillTx/>
                <a:latin typeface="Times New Roman"/>
                <a:ea typeface="Times New Roman"/>
              </a:rPr>
              <a:t>DRAWING 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"/>
          <p:cNvSpPr txBox="1"/>
          <p:nvPr/>
        </p:nvSpPr>
        <p:spPr>
          <a:xfrm>
            <a:off x="5295960" y="863640"/>
            <a:ext cx="1860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00dfca"/>
                </a:solidFill>
                <a:uFillTx/>
                <a:latin typeface="Times New Roman"/>
                <a:ea typeface="Times New Roman"/>
              </a:rPr>
              <a:t>EXPLAN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3556080" y="1320840"/>
            <a:ext cx="0" cy="3690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952560" y="3121200"/>
            <a:ext cx="2155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>
            <a:off x="3189240" y="3125880"/>
            <a:ext cx="119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3398760" y="3125880"/>
            <a:ext cx="928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673200" y="987480"/>
            <a:ext cx="28828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 flipH="1">
            <a:off x="2127240" y="2408400"/>
            <a:ext cx="14288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2127240" y="2409840"/>
            <a:ext cx="0" cy="1390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2133720" y="3805200"/>
            <a:ext cx="1417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 flipH="1">
            <a:off x="787320" y="5345280"/>
            <a:ext cx="2768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 flipH="1">
            <a:off x="1601640" y="2773440"/>
            <a:ext cx="525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 flipH="1">
            <a:off x="1603440" y="3511440"/>
            <a:ext cx="523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 flipV="1">
            <a:off x="1603440" y="2773440"/>
            <a:ext cx="0" cy="738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 flipH="1" flipV="1">
            <a:off x="1203480" y="2521080"/>
            <a:ext cx="390240" cy="390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 flipH="1">
            <a:off x="1308240" y="3292560"/>
            <a:ext cx="285480" cy="285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668160" y="990720"/>
            <a:ext cx="649800" cy="4362840"/>
          </a:xfrm>
          <a:custGeom>
            <a:avLst/>
            <a:gdLst/>
            <a:ahLst/>
            <a:rect l="0" t="0" r="r" b="b"/>
            <a:pathLst>
              <a:path fill="none" w="1805" h="12119">
                <a:moveTo>
                  <a:pt x="0" y="0"/>
                </a:moveTo>
                <a:lnTo>
                  <a:pt x="39" y="101"/>
                </a:lnTo>
                <a:lnTo>
                  <a:pt x="39" y="185"/>
                </a:lnTo>
                <a:lnTo>
                  <a:pt x="70" y="304"/>
                </a:lnTo>
                <a:lnTo>
                  <a:pt x="97" y="392"/>
                </a:lnTo>
                <a:lnTo>
                  <a:pt x="132" y="476"/>
                </a:lnTo>
                <a:lnTo>
                  <a:pt x="216" y="568"/>
                </a:lnTo>
                <a:lnTo>
                  <a:pt x="277" y="683"/>
                </a:lnTo>
                <a:lnTo>
                  <a:pt x="335" y="776"/>
                </a:lnTo>
                <a:lnTo>
                  <a:pt x="455" y="895"/>
                </a:lnTo>
                <a:lnTo>
                  <a:pt x="455" y="1005"/>
                </a:lnTo>
                <a:lnTo>
                  <a:pt x="455" y="1124"/>
                </a:lnTo>
                <a:lnTo>
                  <a:pt x="481" y="1243"/>
                </a:lnTo>
                <a:lnTo>
                  <a:pt x="569" y="1362"/>
                </a:lnTo>
                <a:lnTo>
                  <a:pt x="627" y="1450"/>
                </a:lnTo>
                <a:lnTo>
                  <a:pt x="719" y="1534"/>
                </a:lnTo>
                <a:lnTo>
                  <a:pt x="865" y="1715"/>
                </a:lnTo>
                <a:lnTo>
                  <a:pt x="891" y="1799"/>
                </a:lnTo>
                <a:lnTo>
                  <a:pt x="953" y="1918"/>
                </a:lnTo>
                <a:lnTo>
                  <a:pt x="984" y="2006"/>
                </a:lnTo>
                <a:lnTo>
                  <a:pt x="1010" y="2301"/>
                </a:lnTo>
                <a:lnTo>
                  <a:pt x="1037" y="2390"/>
                </a:lnTo>
                <a:lnTo>
                  <a:pt x="1129" y="2747"/>
                </a:lnTo>
                <a:lnTo>
                  <a:pt x="1156" y="2857"/>
                </a:lnTo>
                <a:lnTo>
                  <a:pt x="1191" y="3158"/>
                </a:lnTo>
                <a:lnTo>
                  <a:pt x="1191" y="3303"/>
                </a:lnTo>
                <a:lnTo>
                  <a:pt x="1191" y="3422"/>
                </a:lnTo>
                <a:lnTo>
                  <a:pt x="1218" y="3506"/>
                </a:lnTo>
                <a:lnTo>
                  <a:pt x="1248" y="3859"/>
                </a:lnTo>
                <a:lnTo>
                  <a:pt x="1337" y="3978"/>
                </a:lnTo>
                <a:lnTo>
                  <a:pt x="1395" y="4071"/>
                </a:lnTo>
                <a:lnTo>
                  <a:pt x="1457" y="4154"/>
                </a:lnTo>
                <a:lnTo>
                  <a:pt x="1514" y="4274"/>
                </a:lnTo>
                <a:lnTo>
                  <a:pt x="1567" y="4419"/>
                </a:lnTo>
                <a:lnTo>
                  <a:pt x="1567" y="4710"/>
                </a:lnTo>
                <a:lnTo>
                  <a:pt x="1567" y="4829"/>
                </a:lnTo>
                <a:lnTo>
                  <a:pt x="1567" y="5182"/>
                </a:lnTo>
                <a:lnTo>
                  <a:pt x="1567" y="5275"/>
                </a:lnTo>
                <a:lnTo>
                  <a:pt x="1567" y="5358"/>
                </a:lnTo>
                <a:lnTo>
                  <a:pt x="1567" y="5447"/>
                </a:lnTo>
                <a:lnTo>
                  <a:pt x="1567" y="5566"/>
                </a:lnTo>
                <a:lnTo>
                  <a:pt x="1567" y="5923"/>
                </a:lnTo>
                <a:lnTo>
                  <a:pt x="1567" y="6068"/>
                </a:lnTo>
                <a:lnTo>
                  <a:pt x="1540" y="6417"/>
                </a:lnTo>
                <a:lnTo>
                  <a:pt x="1540" y="6562"/>
                </a:lnTo>
                <a:lnTo>
                  <a:pt x="1567" y="6655"/>
                </a:lnTo>
                <a:lnTo>
                  <a:pt x="1629" y="6827"/>
                </a:lnTo>
                <a:lnTo>
                  <a:pt x="1686" y="6919"/>
                </a:lnTo>
                <a:lnTo>
                  <a:pt x="1721" y="7008"/>
                </a:lnTo>
                <a:lnTo>
                  <a:pt x="1779" y="7091"/>
                </a:lnTo>
                <a:lnTo>
                  <a:pt x="1779" y="7184"/>
                </a:lnTo>
                <a:lnTo>
                  <a:pt x="1805" y="7272"/>
                </a:lnTo>
                <a:lnTo>
                  <a:pt x="1805" y="7391"/>
                </a:lnTo>
                <a:lnTo>
                  <a:pt x="1805" y="7510"/>
                </a:lnTo>
                <a:lnTo>
                  <a:pt x="1805" y="7594"/>
                </a:lnTo>
                <a:lnTo>
                  <a:pt x="1805" y="7713"/>
                </a:lnTo>
                <a:lnTo>
                  <a:pt x="1721" y="7859"/>
                </a:lnTo>
                <a:lnTo>
                  <a:pt x="1686" y="7978"/>
                </a:lnTo>
                <a:lnTo>
                  <a:pt x="1660" y="8092"/>
                </a:lnTo>
                <a:lnTo>
                  <a:pt x="1629" y="8185"/>
                </a:lnTo>
                <a:lnTo>
                  <a:pt x="1567" y="8304"/>
                </a:lnTo>
                <a:lnTo>
                  <a:pt x="1483" y="8414"/>
                </a:lnTo>
                <a:lnTo>
                  <a:pt x="1421" y="8507"/>
                </a:lnTo>
                <a:lnTo>
                  <a:pt x="1337" y="8595"/>
                </a:lnTo>
                <a:lnTo>
                  <a:pt x="984" y="9654"/>
                </a:lnTo>
                <a:lnTo>
                  <a:pt x="688" y="10475"/>
                </a:lnTo>
                <a:lnTo>
                  <a:pt x="569" y="10832"/>
                </a:lnTo>
                <a:lnTo>
                  <a:pt x="277" y="11771"/>
                </a:lnTo>
                <a:lnTo>
                  <a:pt x="304" y="11855"/>
                </a:lnTo>
                <a:lnTo>
                  <a:pt x="304" y="11974"/>
                </a:lnTo>
                <a:lnTo>
                  <a:pt x="335" y="12119"/>
                </a:lnTo>
                <a:lnTo>
                  <a:pt x="277" y="12067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>
            <a:off x="3530520" y="2419200"/>
            <a:ext cx="82440" cy="69696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3516480" y="3138480"/>
            <a:ext cx="104760" cy="6588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3543480" y="4265640"/>
            <a:ext cx="54000" cy="39528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3543480" y="1633680"/>
            <a:ext cx="54000" cy="39528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 flipH="1">
            <a:off x="801720" y="1004760"/>
            <a:ext cx="271440" cy="271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>
            <a:off x="3556080" y="3844800"/>
            <a:ext cx="0" cy="1500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>
            <a:off x="3556080" y="987480"/>
            <a:ext cx="0" cy="1404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 flipH="1">
            <a:off x="954000" y="1000080"/>
            <a:ext cx="604800" cy="604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 flipH="1">
            <a:off x="1073160" y="1000080"/>
            <a:ext cx="995400" cy="995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 flipH="1">
            <a:off x="1149480" y="990720"/>
            <a:ext cx="1419120" cy="1419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 flipH="1">
            <a:off x="1378080" y="995400"/>
            <a:ext cx="1704960" cy="1704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 flipH="1">
            <a:off x="3521160" y="1585800"/>
            <a:ext cx="28440" cy="28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2320" bIns="-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 flipH="1">
            <a:off x="2276640" y="1143000"/>
            <a:ext cx="1263600" cy="1263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 flipH="1">
            <a:off x="1911240" y="2562120"/>
            <a:ext cx="209520" cy="209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 flipH="1">
            <a:off x="2809800" y="2000160"/>
            <a:ext cx="409680" cy="409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 flipH="1">
            <a:off x="3343320" y="2205000"/>
            <a:ext cx="200160" cy="200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 flipH="1">
            <a:off x="1111320" y="3514680"/>
            <a:ext cx="733320" cy="733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 flipH="1">
            <a:off x="797040" y="3807000"/>
            <a:ext cx="1336680" cy="1336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 flipH="1">
            <a:off x="1149480" y="3816360"/>
            <a:ext cx="1517400" cy="1517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 flipH="1">
            <a:off x="2435400" y="3807000"/>
            <a:ext cx="793440" cy="793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 flipH="1">
            <a:off x="1692360" y="4610160"/>
            <a:ext cx="733320" cy="733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 flipH="1">
            <a:off x="3247920" y="4019400"/>
            <a:ext cx="301680" cy="30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 flipH="1">
            <a:off x="2282760" y="4600440"/>
            <a:ext cx="733320" cy="733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 flipH="1">
            <a:off x="2835360" y="4638600"/>
            <a:ext cx="695160" cy="695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 flipH="1">
            <a:off x="3378240" y="5181480"/>
            <a:ext cx="162000" cy="162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2451240" y="4473720"/>
            <a:ext cx="11649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3862440" y="4473720"/>
            <a:ext cx="6206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>
            <a:off x="3230640" y="4645080"/>
            <a:ext cx="32220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3228840" y="4311720"/>
            <a:ext cx="31932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3554280" y="4314960"/>
            <a:ext cx="0" cy="314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3233880" y="4354560"/>
            <a:ext cx="3142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3228840" y="4589640"/>
            <a:ext cx="3240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 flipH="1">
            <a:off x="2886120" y="4359240"/>
            <a:ext cx="81000" cy="11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2886120" y="4470480"/>
            <a:ext cx="77760" cy="117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2968560" y="4354560"/>
            <a:ext cx="0" cy="230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 flipH="1">
            <a:off x="3043080" y="4311720"/>
            <a:ext cx="16380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 flipH="1">
            <a:off x="3043080" y="4643280"/>
            <a:ext cx="16668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3040200" y="4311720"/>
            <a:ext cx="0" cy="31428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 flipH="1">
            <a:off x="2968560" y="4354560"/>
            <a:ext cx="2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 flipH="1">
            <a:off x="2962440" y="4589640"/>
            <a:ext cx="225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3683160" y="4473720"/>
            <a:ext cx="85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2454120" y="1812960"/>
            <a:ext cx="1165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3865680" y="1812960"/>
            <a:ext cx="6206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3233880" y="1968480"/>
            <a:ext cx="30960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3232080" y="1650960"/>
            <a:ext cx="32076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3236760" y="1693800"/>
            <a:ext cx="3160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3232080" y="1928880"/>
            <a:ext cx="311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 flipH="1">
            <a:off x="2889360" y="1698480"/>
            <a:ext cx="81000" cy="11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2889360" y="1809720"/>
            <a:ext cx="77760" cy="117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2971800" y="1693800"/>
            <a:ext cx="0" cy="230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 flipH="1">
            <a:off x="3046320" y="1650960"/>
            <a:ext cx="16344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 flipH="1">
            <a:off x="3046320" y="1967040"/>
            <a:ext cx="16668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3043080" y="1650960"/>
            <a:ext cx="0" cy="31428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 flipH="1">
            <a:off x="2971800" y="1693800"/>
            <a:ext cx="2221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 flipH="1">
            <a:off x="2965320" y="1928880"/>
            <a:ext cx="2257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3686040" y="1812960"/>
            <a:ext cx="86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3552840" y="165276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3552840" y="2409840"/>
            <a:ext cx="0" cy="1409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 txBox="1"/>
          <p:nvPr/>
        </p:nvSpPr>
        <p:spPr>
          <a:xfrm>
            <a:off x="2101680" y="5931000"/>
            <a:ext cx="18730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ting P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755640" y="236520"/>
            <a:ext cx="1023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 u="sng">
                <a:solidFill>
                  <a:srgbClr val="fc0128"/>
                </a:solidFill>
                <a:uFillTx/>
                <a:latin typeface="Times New Roman"/>
                <a:ea typeface="Times New Roman"/>
              </a:rPr>
              <a:t>Part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1" name=""/>
          <p:cNvGrpSpPr/>
          <p:nvPr/>
        </p:nvGrpSpPr>
        <p:grpSpPr>
          <a:xfrm>
            <a:off x="5702400" y="5699160"/>
            <a:ext cx="2266920" cy="325440"/>
            <a:chOff x="5702400" y="5699160"/>
            <a:chExt cx="2266920" cy="325440"/>
          </a:xfrm>
        </p:grpSpPr>
        <p:sp>
          <p:nvSpPr>
            <p:cNvPr id="1702" name=""/>
            <p:cNvSpPr/>
            <p:nvPr/>
          </p:nvSpPr>
          <p:spPr>
            <a:xfrm>
              <a:off x="5702400" y="5699160"/>
              <a:ext cx="2266920" cy="30168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3" name=""/>
            <p:cNvGrpSpPr/>
            <p:nvPr/>
          </p:nvGrpSpPr>
          <p:grpSpPr>
            <a:xfrm>
              <a:off x="5799240" y="5740560"/>
              <a:ext cx="214200" cy="218880"/>
              <a:chOff x="5799240" y="5740560"/>
              <a:chExt cx="214200" cy="218880"/>
            </a:xfrm>
          </p:grpSpPr>
          <p:sp>
            <p:nvSpPr>
              <p:cNvPr id="1704" name=""/>
              <p:cNvSpPr/>
              <p:nvPr/>
            </p:nvSpPr>
            <p:spPr>
              <a:xfrm>
                <a:off x="5821200" y="5765760"/>
                <a:ext cx="171360" cy="17136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5907240" y="5740560"/>
                <a:ext cx="0" cy="21888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5799240" y="5851440"/>
                <a:ext cx="21420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7" name=""/>
            <p:cNvSpPr/>
            <p:nvPr/>
          </p:nvSpPr>
          <p:spPr>
            <a:xfrm>
              <a:off x="6111720" y="5710320"/>
              <a:ext cx="0" cy="27612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8" name=""/>
            <p:cNvGrpSpPr/>
            <p:nvPr/>
          </p:nvGrpSpPr>
          <p:grpSpPr>
            <a:xfrm>
              <a:off x="6168960" y="5767560"/>
              <a:ext cx="171360" cy="171360"/>
              <a:chOff x="6168960" y="5767560"/>
              <a:chExt cx="171360" cy="171360"/>
            </a:xfrm>
          </p:grpSpPr>
          <p:sp>
            <p:nvSpPr>
              <p:cNvPr id="1709" name=""/>
              <p:cNvSpPr/>
              <p:nvPr/>
            </p:nvSpPr>
            <p:spPr>
              <a:xfrm>
                <a:off x="6192720" y="5786280"/>
                <a:ext cx="133200" cy="13320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 flipH="1">
                <a:off x="6168960" y="5767560"/>
                <a:ext cx="171360" cy="17136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1" name=""/>
            <p:cNvSpPr txBox="1"/>
            <p:nvPr/>
          </p:nvSpPr>
          <p:spPr>
            <a:xfrm>
              <a:off x="6369120" y="5710320"/>
              <a:ext cx="4316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0.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2" name=""/>
            <p:cNvGrpSpPr/>
            <p:nvPr/>
          </p:nvGrpSpPr>
          <p:grpSpPr>
            <a:xfrm>
              <a:off x="6780240" y="5713560"/>
              <a:ext cx="331920" cy="304920"/>
              <a:chOff x="6780240" y="5713560"/>
              <a:chExt cx="331920" cy="304920"/>
            </a:xfrm>
          </p:grpSpPr>
          <p:sp>
            <p:nvSpPr>
              <p:cNvPr id="1713" name=""/>
              <p:cNvSpPr/>
              <p:nvPr/>
            </p:nvSpPr>
            <p:spPr>
              <a:xfrm>
                <a:off x="6845400" y="5753160"/>
                <a:ext cx="190440" cy="190440"/>
              </a:xfrm>
              <a:prstGeom prst="ellipse">
                <a:avLst/>
              </a:prstGeom>
              <a:noFill/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 txBox="1"/>
              <p:nvPr/>
            </p:nvSpPr>
            <p:spPr>
              <a:xfrm>
                <a:off x="6780240" y="5713560"/>
                <a:ext cx="33192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M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5" name=""/>
            <p:cNvSpPr/>
            <p:nvPr/>
          </p:nvSpPr>
          <p:spPr>
            <a:xfrm>
              <a:off x="7121520" y="5710320"/>
              <a:ext cx="0" cy="28584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"/>
            <p:cNvSpPr txBox="1"/>
            <p:nvPr/>
          </p:nvSpPr>
          <p:spPr>
            <a:xfrm>
              <a:off x="7118280" y="5719680"/>
              <a:ext cx="3031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7435800" y="5715000"/>
              <a:ext cx="0" cy="28116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"/>
            <p:cNvSpPr txBox="1"/>
            <p:nvPr/>
          </p:nvSpPr>
          <p:spPr>
            <a:xfrm>
              <a:off x="7410600" y="5719680"/>
              <a:ext cx="3031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9" name=""/>
            <p:cNvGrpSpPr/>
            <p:nvPr/>
          </p:nvGrpSpPr>
          <p:grpSpPr>
            <a:xfrm>
              <a:off x="7628040" y="5713560"/>
              <a:ext cx="331920" cy="304920"/>
              <a:chOff x="7628040" y="5713560"/>
              <a:chExt cx="331920" cy="304920"/>
            </a:xfrm>
          </p:grpSpPr>
          <p:sp>
            <p:nvSpPr>
              <p:cNvPr id="1720" name=""/>
              <p:cNvSpPr/>
              <p:nvPr/>
            </p:nvSpPr>
            <p:spPr>
              <a:xfrm>
                <a:off x="7693200" y="5753160"/>
                <a:ext cx="190440" cy="190440"/>
              </a:xfrm>
              <a:prstGeom prst="ellipse">
                <a:avLst/>
              </a:prstGeom>
              <a:noFill/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"/>
              <p:cNvSpPr txBox="1"/>
              <p:nvPr/>
            </p:nvSpPr>
            <p:spPr>
              <a:xfrm>
                <a:off x="7628040" y="5713560"/>
                <a:ext cx="33192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M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2" name=""/>
            <p:cNvSpPr/>
            <p:nvPr/>
          </p:nvSpPr>
          <p:spPr>
            <a:xfrm>
              <a:off x="7661160" y="5730840"/>
              <a:ext cx="231840" cy="23184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6816600" y="5732640"/>
              <a:ext cx="246240" cy="24624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"/>
          <p:cNvSpPr txBox="1"/>
          <p:nvPr/>
        </p:nvSpPr>
        <p:spPr>
          <a:xfrm>
            <a:off x="4778280" y="615960"/>
            <a:ext cx="408636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um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The part is clamped against sur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face A, establishing the orienta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tion of the part.  Surface A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therefore referenced as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primary datum in dimens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the hol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5" name=""/>
          <p:cNvGrpSpPr/>
          <p:nvPr/>
        </p:nvGrpSpPr>
        <p:grpSpPr>
          <a:xfrm>
            <a:off x="668160" y="987480"/>
            <a:ext cx="3818160" cy="4366080"/>
            <a:chOff x="668160" y="987480"/>
            <a:chExt cx="3818160" cy="4366080"/>
          </a:xfrm>
        </p:grpSpPr>
        <p:sp>
          <p:nvSpPr>
            <p:cNvPr id="1726" name=""/>
            <p:cNvSpPr/>
            <p:nvPr/>
          </p:nvSpPr>
          <p:spPr>
            <a:xfrm>
              <a:off x="3556080" y="1320840"/>
              <a:ext cx="0" cy="36907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3556080" y="1316160"/>
              <a:ext cx="3096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3881520" y="1320840"/>
              <a:ext cx="0" cy="36907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 flipH="1">
              <a:off x="3556080" y="5011560"/>
              <a:ext cx="299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952560" y="3121200"/>
              <a:ext cx="21556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3189240" y="3125880"/>
              <a:ext cx="1191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3398760" y="3125880"/>
              <a:ext cx="9288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2921040" y="2535120"/>
              <a:ext cx="0" cy="1133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 flipH="1" flipV="1">
              <a:off x="2913120" y="3668760"/>
              <a:ext cx="104760" cy="1047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673200" y="987480"/>
              <a:ext cx="2882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3556080" y="987480"/>
              <a:ext cx="0" cy="14047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2127240" y="2428920"/>
              <a:ext cx="0" cy="1371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2133720" y="3805200"/>
              <a:ext cx="14176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3556080" y="3844800"/>
              <a:ext cx="0" cy="1500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 flipH="1">
              <a:off x="787320" y="5345280"/>
              <a:ext cx="27687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 flipH="1">
              <a:off x="1601640" y="2773440"/>
              <a:ext cx="5256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 flipH="1">
              <a:off x="1603440" y="3511440"/>
              <a:ext cx="5238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 flipV="1">
              <a:off x="1603440" y="2773440"/>
              <a:ext cx="0" cy="738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 flipH="1" flipV="1">
              <a:off x="1203480" y="2521080"/>
              <a:ext cx="390240" cy="3902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 flipH="1">
              <a:off x="1308240" y="3292560"/>
              <a:ext cx="285480" cy="285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668160" y="990720"/>
              <a:ext cx="649800" cy="4362840"/>
            </a:xfrm>
            <a:custGeom>
              <a:avLst/>
              <a:gdLst/>
              <a:ahLst/>
              <a:rect l="0" t="0" r="r" b="b"/>
              <a:pathLst>
                <a:path fill="none" w="1805" h="12119">
                  <a:moveTo>
                    <a:pt x="0" y="0"/>
                  </a:moveTo>
                  <a:lnTo>
                    <a:pt x="39" y="101"/>
                  </a:lnTo>
                  <a:lnTo>
                    <a:pt x="39" y="185"/>
                  </a:lnTo>
                  <a:lnTo>
                    <a:pt x="70" y="304"/>
                  </a:lnTo>
                  <a:lnTo>
                    <a:pt x="97" y="392"/>
                  </a:lnTo>
                  <a:lnTo>
                    <a:pt x="132" y="476"/>
                  </a:lnTo>
                  <a:lnTo>
                    <a:pt x="216" y="568"/>
                  </a:lnTo>
                  <a:lnTo>
                    <a:pt x="277" y="683"/>
                  </a:lnTo>
                  <a:lnTo>
                    <a:pt x="335" y="776"/>
                  </a:lnTo>
                  <a:lnTo>
                    <a:pt x="455" y="895"/>
                  </a:lnTo>
                  <a:lnTo>
                    <a:pt x="455" y="1005"/>
                  </a:lnTo>
                  <a:lnTo>
                    <a:pt x="455" y="1124"/>
                  </a:lnTo>
                  <a:lnTo>
                    <a:pt x="481" y="1243"/>
                  </a:lnTo>
                  <a:lnTo>
                    <a:pt x="569" y="1362"/>
                  </a:lnTo>
                  <a:lnTo>
                    <a:pt x="627" y="1450"/>
                  </a:lnTo>
                  <a:lnTo>
                    <a:pt x="719" y="1534"/>
                  </a:lnTo>
                  <a:lnTo>
                    <a:pt x="865" y="1715"/>
                  </a:lnTo>
                  <a:lnTo>
                    <a:pt x="891" y="1799"/>
                  </a:lnTo>
                  <a:lnTo>
                    <a:pt x="953" y="1918"/>
                  </a:lnTo>
                  <a:lnTo>
                    <a:pt x="984" y="2006"/>
                  </a:lnTo>
                  <a:lnTo>
                    <a:pt x="1010" y="2301"/>
                  </a:lnTo>
                  <a:lnTo>
                    <a:pt x="1037" y="2390"/>
                  </a:lnTo>
                  <a:lnTo>
                    <a:pt x="1129" y="2747"/>
                  </a:lnTo>
                  <a:lnTo>
                    <a:pt x="1156" y="2857"/>
                  </a:lnTo>
                  <a:lnTo>
                    <a:pt x="1191" y="3158"/>
                  </a:lnTo>
                  <a:lnTo>
                    <a:pt x="1191" y="3303"/>
                  </a:lnTo>
                  <a:lnTo>
                    <a:pt x="1191" y="3422"/>
                  </a:lnTo>
                  <a:lnTo>
                    <a:pt x="1218" y="3506"/>
                  </a:lnTo>
                  <a:lnTo>
                    <a:pt x="1248" y="3859"/>
                  </a:lnTo>
                  <a:lnTo>
                    <a:pt x="1337" y="3978"/>
                  </a:lnTo>
                  <a:lnTo>
                    <a:pt x="1395" y="4071"/>
                  </a:lnTo>
                  <a:lnTo>
                    <a:pt x="1457" y="4154"/>
                  </a:lnTo>
                  <a:lnTo>
                    <a:pt x="1514" y="4274"/>
                  </a:lnTo>
                  <a:lnTo>
                    <a:pt x="1567" y="4419"/>
                  </a:lnTo>
                  <a:lnTo>
                    <a:pt x="1567" y="4710"/>
                  </a:lnTo>
                  <a:lnTo>
                    <a:pt x="1567" y="4829"/>
                  </a:lnTo>
                  <a:lnTo>
                    <a:pt x="1567" y="5182"/>
                  </a:lnTo>
                  <a:lnTo>
                    <a:pt x="1567" y="5275"/>
                  </a:lnTo>
                  <a:lnTo>
                    <a:pt x="1567" y="5358"/>
                  </a:lnTo>
                  <a:lnTo>
                    <a:pt x="1567" y="5447"/>
                  </a:lnTo>
                  <a:lnTo>
                    <a:pt x="1567" y="5566"/>
                  </a:lnTo>
                  <a:lnTo>
                    <a:pt x="1567" y="5923"/>
                  </a:lnTo>
                  <a:lnTo>
                    <a:pt x="1567" y="6068"/>
                  </a:lnTo>
                  <a:lnTo>
                    <a:pt x="1540" y="6417"/>
                  </a:lnTo>
                  <a:lnTo>
                    <a:pt x="1540" y="6562"/>
                  </a:lnTo>
                  <a:lnTo>
                    <a:pt x="1567" y="6655"/>
                  </a:lnTo>
                  <a:lnTo>
                    <a:pt x="1629" y="6827"/>
                  </a:lnTo>
                  <a:lnTo>
                    <a:pt x="1686" y="6919"/>
                  </a:lnTo>
                  <a:lnTo>
                    <a:pt x="1721" y="7008"/>
                  </a:lnTo>
                  <a:lnTo>
                    <a:pt x="1779" y="7091"/>
                  </a:lnTo>
                  <a:lnTo>
                    <a:pt x="1779" y="7184"/>
                  </a:lnTo>
                  <a:lnTo>
                    <a:pt x="1805" y="7272"/>
                  </a:lnTo>
                  <a:lnTo>
                    <a:pt x="1805" y="7391"/>
                  </a:lnTo>
                  <a:lnTo>
                    <a:pt x="1805" y="7510"/>
                  </a:lnTo>
                  <a:lnTo>
                    <a:pt x="1805" y="7594"/>
                  </a:lnTo>
                  <a:lnTo>
                    <a:pt x="1805" y="7713"/>
                  </a:lnTo>
                  <a:lnTo>
                    <a:pt x="1721" y="7859"/>
                  </a:lnTo>
                  <a:lnTo>
                    <a:pt x="1686" y="7978"/>
                  </a:lnTo>
                  <a:lnTo>
                    <a:pt x="1660" y="8092"/>
                  </a:lnTo>
                  <a:lnTo>
                    <a:pt x="1629" y="8185"/>
                  </a:lnTo>
                  <a:lnTo>
                    <a:pt x="1567" y="8304"/>
                  </a:lnTo>
                  <a:lnTo>
                    <a:pt x="1483" y="8414"/>
                  </a:lnTo>
                  <a:lnTo>
                    <a:pt x="1421" y="8507"/>
                  </a:lnTo>
                  <a:lnTo>
                    <a:pt x="1337" y="8595"/>
                  </a:lnTo>
                  <a:lnTo>
                    <a:pt x="984" y="9654"/>
                  </a:lnTo>
                  <a:lnTo>
                    <a:pt x="688" y="10475"/>
                  </a:lnTo>
                  <a:lnTo>
                    <a:pt x="569" y="10832"/>
                  </a:lnTo>
                  <a:lnTo>
                    <a:pt x="277" y="11771"/>
                  </a:lnTo>
                  <a:lnTo>
                    <a:pt x="304" y="11855"/>
                  </a:lnTo>
                  <a:lnTo>
                    <a:pt x="304" y="11974"/>
                  </a:lnTo>
                  <a:lnTo>
                    <a:pt x="335" y="12119"/>
                  </a:lnTo>
                  <a:lnTo>
                    <a:pt x="277" y="12067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3530520" y="2459160"/>
              <a:ext cx="82440" cy="657360"/>
            </a:xfrm>
            <a:prstGeom prst="rect">
              <a:avLst/>
            </a:prstGeom>
            <a:solidFill>
              <a:srgbClr val="114f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3516480" y="3138480"/>
              <a:ext cx="104760" cy="623880"/>
            </a:xfrm>
            <a:prstGeom prst="rect">
              <a:avLst/>
            </a:prstGeom>
            <a:solidFill>
              <a:srgbClr val="114f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3543480" y="4265640"/>
              <a:ext cx="54000" cy="395280"/>
            </a:xfrm>
            <a:prstGeom prst="rect">
              <a:avLst/>
            </a:prstGeom>
            <a:solidFill>
              <a:srgbClr val="114f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3543480" y="1633680"/>
              <a:ext cx="54000" cy="395280"/>
            </a:xfrm>
            <a:prstGeom prst="rect">
              <a:avLst/>
            </a:prstGeom>
            <a:solidFill>
              <a:srgbClr val="114f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 flipH="1">
              <a:off x="801720" y="1004760"/>
              <a:ext cx="271440" cy="271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 flipH="1">
              <a:off x="954000" y="1000080"/>
              <a:ext cx="604800" cy="604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 flipH="1">
              <a:off x="1073160" y="1000080"/>
              <a:ext cx="995400" cy="995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 flipH="1">
              <a:off x="1149480" y="990720"/>
              <a:ext cx="1419120" cy="1419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 flipH="1">
              <a:off x="1378080" y="995400"/>
              <a:ext cx="1704960" cy="1704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 flipH="1">
              <a:off x="3521160" y="1585800"/>
              <a:ext cx="28440" cy="28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 flipH="1">
              <a:off x="2276640" y="1143000"/>
              <a:ext cx="1263600" cy="1263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 flipH="1">
              <a:off x="1911240" y="2562120"/>
              <a:ext cx="209520" cy="209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 flipH="1">
              <a:off x="2809800" y="2000160"/>
              <a:ext cx="409680" cy="4096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 flipH="1">
              <a:off x="3305160" y="2205000"/>
              <a:ext cx="238320" cy="238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3556080" y="1301760"/>
              <a:ext cx="317880" cy="349560"/>
            </a:xfrm>
            <a:custGeom>
              <a:avLst/>
              <a:gdLst/>
              <a:ahLst/>
              <a:rect l="0" t="0" r="r" b="b"/>
              <a:pathLst>
                <a:path w="883" h="971">
                  <a:moveTo>
                    <a:pt x="0" y="0"/>
                  </a:moveTo>
                  <a:lnTo>
                    <a:pt x="883" y="0"/>
                  </a:lnTo>
                  <a:lnTo>
                    <a:pt x="883" y="971"/>
                  </a:lnTo>
                  <a:lnTo>
                    <a:pt x="0" y="9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dfca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2921040" y="1984320"/>
              <a:ext cx="952920" cy="898920"/>
            </a:xfrm>
            <a:custGeom>
              <a:avLst/>
              <a:gdLst/>
              <a:ahLst/>
              <a:rect l="0" t="0" r="r" b="b"/>
              <a:pathLst>
                <a:path w="2647" h="2497">
                  <a:moveTo>
                    <a:pt x="1751" y="0"/>
                  </a:moveTo>
                  <a:lnTo>
                    <a:pt x="2647" y="0"/>
                  </a:lnTo>
                  <a:lnTo>
                    <a:pt x="2647" y="2497"/>
                  </a:lnTo>
                  <a:lnTo>
                    <a:pt x="0" y="2497"/>
                  </a:lnTo>
                  <a:lnTo>
                    <a:pt x="0" y="1412"/>
                  </a:lnTo>
                  <a:lnTo>
                    <a:pt x="180" y="1178"/>
                  </a:lnTo>
                  <a:lnTo>
                    <a:pt x="1751" y="1178"/>
                  </a:lnTo>
                  <a:lnTo>
                    <a:pt x="1751" y="0"/>
                  </a:lnTo>
                  <a:close/>
                </a:path>
              </a:pathLst>
            </a:custGeom>
            <a:solidFill>
              <a:srgbClr val="00dfca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2921040" y="3370320"/>
              <a:ext cx="952920" cy="932400"/>
            </a:xfrm>
            <a:custGeom>
              <a:avLst/>
              <a:gdLst/>
              <a:ahLst/>
              <a:rect l="0" t="0" r="r" b="b"/>
              <a:pathLst>
                <a:path w="2647" h="2590">
                  <a:moveTo>
                    <a:pt x="2647" y="0"/>
                  </a:moveTo>
                  <a:lnTo>
                    <a:pt x="2647" y="2590"/>
                  </a:lnTo>
                  <a:lnTo>
                    <a:pt x="1764" y="2590"/>
                  </a:lnTo>
                  <a:lnTo>
                    <a:pt x="1751" y="1204"/>
                  </a:lnTo>
                  <a:lnTo>
                    <a:pt x="224" y="1204"/>
                  </a:lnTo>
                  <a:lnTo>
                    <a:pt x="0" y="971"/>
                  </a:lnTo>
                  <a:lnTo>
                    <a:pt x="0" y="0"/>
                  </a:lnTo>
                  <a:lnTo>
                    <a:pt x="2647" y="0"/>
                  </a:lnTo>
                  <a:close/>
                </a:path>
              </a:pathLst>
            </a:custGeom>
            <a:solidFill>
              <a:srgbClr val="00dfca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3556080" y="4651200"/>
              <a:ext cx="317880" cy="365400"/>
            </a:xfrm>
            <a:custGeom>
              <a:avLst/>
              <a:gdLst/>
              <a:ahLst/>
              <a:rect l="0" t="0" r="r" b="b"/>
              <a:pathLst>
                <a:path w="883" h="1015">
                  <a:moveTo>
                    <a:pt x="0" y="0"/>
                  </a:moveTo>
                  <a:lnTo>
                    <a:pt x="883" y="0"/>
                  </a:lnTo>
                  <a:lnTo>
                    <a:pt x="883" y="1015"/>
                  </a:lnTo>
                  <a:lnTo>
                    <a:pt x="0" y="10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dfca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 flipH="1">
              <a:off x="1111320" y="3514680"/>
              <a:ext cx="733320" cy="733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 flipH="1">
              <a:off x="797040" y="3807000"/>
              <a:ext cx="1336680" cy="13366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 flipH="1">
              <a:off x="1149480" y="3816360"/>
              <a:ext cx="1517400" cy="15177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 flipH="1">
              <a:off x="2435400" y="3807000"/>
              <a:ext cx="793440" cy="793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 flipH="1">
              <a:off x="1692360" y="4610160"/>
              <a:ext cx="733320" cy="733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 flipH="1">
              <a:off x="3247920" y="4019400"/>
              <a:ext cx="301680" cy="3016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 flipH="1">
              <a:off x="2282760" y="4600440"/>
              <a:ext cx="733320" cy="7336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"/>
            <p:cNvSpPr/>
            <p:nvPr/>
          </p:nvSpPr>
          <p:spPr>
            <a:xfrm flipH="1">
              <a:off x="2835360" y="4638600"/>
              <a:ext cx="695160" cy="695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"/>
            <p:cNvSpPr/>
            <p:nvPr/>
          </p:nvSpPr>
          <p:spPr>
            <a:xfrm flipH="1">
              <a:off x="3378240" y="5181480"/>
              <a:ext cx="162000" cy="162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4" name=""/>
            <p:cNvGrpSpPr/>
            <p:nvPr/>
          </p:nvGrpSpPr>
          <p:grpSpPr>
            <a:xfrm>
              <a:off x="2451240" y="4156200"/>
              <a:ext cx="2031840" cy="614520"/>
              <a:chOff x="2451240" y="4156200"/>
              <a:chExt cx="2031840" cy="614520"/>
            </a:xfrm>
          </p:grpSpPr>
          <p:sp>
            <p:nvSpPr>
              <p:cNvPr id="1775" name=""/>
              <p:cNvSpPr/>
              <p:nvPr/>
            </p:nvSpPr>
            <p:spPr>
              <a:xfrm>
                <a:off x="2451240" y="4473720"/>
                <a:ext cx="11649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3819600" y="4473720"/>
                <a:ext cx="90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3862440" y="4473720"/>
                <a:ext cx="620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78" name=""/>
              <p:cNvGrpSpPr/>
              <p:nvPr/>
            </p:nvGrpSpPr>
            <p:grpSpPr>
              <a:xfrm>
                <a:off x="2886120" y="4156200"/>
                <a:ext cx="1438560" cy="614520"/>
                <a:chOff x="2886120" y="4156200"/>
                <a:chExt cx="1438560" cy="614520"/>
              </a:xfrm>
            </p:grpSpPr>
            <p:sp>
              <p:nvSpPr>
                <p:cNvPr id="1779" name=""/>
                <p:cNvSpPr/>
                <p:nvPr/>
              </p:nvSpPr>
              <p:spPr>
                <a:xfrm>
                  <a:off x="3230640" y="4629240"/>
                  <a:ext cx="647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80" name=""/>
                <p:cNvGrpSpPr/>
                <p:nvPr/>
              </p:nvGrpSpPr>
              <p:grpSpPr>
                <a:xfrm>
                  <a:off x="2886120" y="4156200"/>
                  <a:ext cx="1438560" cy="614520"/>
                  <a:chOff x="2886120" y="4156200"/>
                  <a:chExt cx="1438560" cy="614520"/>
                </a:xfrm>
              </p:grpSpPr>
              <p:grpSp>
                <p:nvGrpSpPr>
                  <p:cNvPr id="1781" name=""/>
                  <p:cNvGrpSpPr/>
                  <p:nvPr/>
                </p:nvGrpSpPr>
                <p:grpSpPr>
                  <a:xfrm>
                    <a:off x="3875040" y="4156200"/>
                    <a:ext cx="449640" cy="614520"/>
                    <a:chOff x="3875040" y="4156200"/>
                    <a:chExt cx="449640" cy="614520"/>
                  </a:xfrm>
                </p:grpSpPr>
                <p:sp>
                  <p:nvSpPr>
                    <p:cNvPr id="1782" name=""/>
                    <p:cNvSpPr/>
                    <p:nvPr/>
                  </p:nvSpPr>
                  <p:spPr>
                    <a:xfrm>
                      <a:off x="3875040" y="4156200"/>
                      <a:ext cx="0" cy="61416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3" name=""/>
                    <p:cNvSpPr/>
                    <p:nvPr/>
                  </p:nvSpPr>
                  <p:spPr>
                    <a:xfrm>
                      <a:off x="3875040" y="4156200"/>
                      <a:ext cx="33516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-51120" bIns="-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4" name=""/>
                    <p:cNvSpPr/>
                    <p:nvPr/>
                  </p:nvSpPr>
                  <p:spPr>
                    <a:xfrm>
                      <a:off x="4295880" y="4249800"/>
                      <a:ext cx="0" cy="4492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5" name=""/>
                    <p:cNvSpPr/>
                    <p:nvPr/>
                  </p:nvSpPr>
                  <p:spPr>
                    <a:xfrm>
                      <a:off x="3875040" y="4305240"/>
                      <a:ext cx="33516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-51120" bIns="-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6" name=""/>
                    <p:cNvSpPr/>
                    <p:nvPr/>
                  </p:nvSpPr>
                  <p:spPr>
                    <a:xfrm>
                      <a:off x="3875040" y="4622760"/>
                      <a:ext cx="34776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-51120" bIns="-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7" name=""/>
                    <p:cNvSpPr/>
                    <p:nvPr/>
                  </p:nvSpPr>
                  <p:spPr>
                    <a:xfrm>
                      <a:off x="4113720" y="4345200"/>
                      <a:ext cx="210960" cy="2390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fill="none" w="586" h="664">
                          <a:moveTo>
                            <a:pt x="586" y="664"/>
                          </a:moveTo>
                          <a:lnTo>
                            <a:pt x="586" y="664"/>
                          </a:lnTo>
                          <a:lnTo>
                            <a:pt x="586" y="664"/>
                          </a:lnTo>
                          <a:cubicBezTo>
                            <a:pt x="586" y="547"/>
                            <a:pt x="558" y="433"/>
                            <a:pt x="506" y="332"/>
                          </a:cubicBezTo>
                          <a:cubicBezTo>
                            <a:pt x="454" y="231"/>
                            <a:pt x="378" y="147"/>
                            <a:pt x="287" y="89"/>
                          </a:cubicBezTo>
                          <a:cubicBezTo>
                            <a:pt x="200" y="33"/>
                            <a:pt x="101" y="2"/>
                            <a:pt x="0" y="0"/>
                          </a:cubicBezTo>
                        </a:path>
                      </a:pathLst>
                    </a:custGeom>
                    <a:ln w="12600">
                      <a:solidFill>
                        <a:srgbClr val="ffffff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88" name=""/>
                    <p:cNvGrpSpPr/>
                    <p:nvPr/>
                  </p:nvGrpSpPr>
                  <p:grpSpPr>
                    <a:xfrm>
                      <a:off x="4195080" y="4156200"/>
                      <a:ext cx="104400" cy="150840"/>
                      <a:chOff x="4195080" y="4156200"/>
                      <a:chExt cx="104400" cy="150840"/>
                    </a:xfrm>
                  </p:grpSpPr>
                  <p:sp>
                    <p:nvSpPr>
                      <p:cNvPr id="1789" name=""/>
                      <p:cNvSpPr/>
                      <p:nvPr/>
                    </p:nvSpPr>
                    <p:spPr>
                      <a:xfrm>
                        <a:off x="4195800" y="4156200"/>
                        <a:ext cx="103680" cy="7416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fill="none" w="288" h="206">
                            <a:moveTo>
                              <a:pt x="288" y="206"/>
                            </a:moveTo>
                            <a:lnTo>
                              <a:pt x="288" y="206"/>
                            </a:lnTo>
                            <a:lnTo>
                              <a:pt x="288" y="206"/>
                            </a:lnTo>
                            <a:cubicBezTo>
                              <a:pt x="288" y="170"/>
                              <a:pt x="275" y="134"/>
                              <a:pt x="249" y="103"/>
                            </a:cubicBezTo>
                            <a:cubicBezTo>
                              <a:pt x="224" y="72"/>
                              <a:pt x="188" y="46"/>
                              <a:pt x="144" y="28"/>
                            </a:cubicBezTo>
                            <a:cubicBezTo>
                              <a:pt x="100" y="10"/>
                              <a:pt x="51" y="0"/>
                              <a:pt x="0" y="0"/>
                            </a:cubicBezTo>
                          </a:path>
                        </a:pathLst>
                      </a:custGeom>
                      <a:ln w="12600">
                        <a:solidFill>
                          <a:srgbClr val="ffffff"/>
                        </a:solidFill>
                        <a:round/>
                      </a:ln>
                    </p:spPr>
                    <p:txBody>
                      <a:bodyPr lIns="96120" rIns="96120" tIns="23040" bIns="23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0" name=""/>
                      <p:cNvSpPr/>
                      <p:nvPr/>
                    </p:nvSpPr>
                    <p:spPr>
                      <a:xfrm>
                        <a:off x="4195080" y="4232880"/>
                        <a:ext cx="102600" cy="7416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fill="none" w="285" h="206">
                            <a:moveTo>
                              <a:pt x="0" y="206"/>
                            </a:moveTo>
                            <a:lnTo>
                              <a:pt x="0" y="206"/>
                            </a:lnTo>
                            <a:cubicBezTo>
                              <a:pt x="50" y="206"/>
                              <a:pt x="99" y="196"/>
                              <a:pt x="143" y="178"/>
                            </a:cubicBezTo>
                            <a:cubicBezTo>
                              <a:pt x="186" y="160"/>
                              <a:pt x="222" y="134"/>
                              <a:pt x="247" y="103"/>
                            </a:cubicBezTo>
                            <a:cubicBezTo>
                              <a:pt x="272" y="72"/>
                              <a:pt x="285" y="36"/>
                              <a:pt x="285" y="0"/>
                            </a:cubicBezTo>
                          </a:path>
                        </a:pathLst>
                      </a:custGeom>
                      <a:ln w="12600">
                        <a:solidFill>
                          <a:srgbClr val="ffffff"/>
                        </a:solidFill>
                        <a:round/>
                      </a:ln>
                    </p:spPr>
                    <p:txBody>
                      <a:bodyPr lIns="96120" rIns="96120" tIns="23040" bIns="23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791" name=""/>
                    <p:cNvGrpSpPr/>
                    <p:nvPr/>
                  </p:nvGrpSpPr>
                  <p:grpSpPr>
                    <a:xfrm>
                      <a:off x="4214160" y="4621320"/>
                      <a:ext cx="85320" cy="149400"/>
                      <a:chOff x="4214160" y="4621320"/>
                      <a:chExt cx="85320" cy="149400"/>
                    </a:xfrm>
                  </p:grpSpPr>
                  <p:sp>
                    <p:nvSpPr>
                      <p:cNvPr id="1792" name=""/>
                      <p:cNvSpPr/>
                      <p:nvPr/>
                    </p:nvSpPr>
                    <p:spPr>
                      <a:xfrm>
                        <a:off x="4214880" y="4621320"/>
                        <a:ext cx="84600" cy="7416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fill="none" w="235" h="206">
                            <a:moveTo>
                              <a:pt x="235" y="206"/>
                            </a:moveTo>
                            <a:lnTo>
                              <a:pt x="235" y="206"/>
                            </a:lnTo>
                            <a:lnTo>
                              <a:pt x="235" y="206"/>
                            </a:lnTo>
                            <a:cubicBezTo>
                              <a:pt x="235" y="170"/>
                              <a:pt x="224" y="134"/>
                              <a:pt x="204" y="103"/>
                            </a:cubicBezTo>
                            <a:cubicBezTo>
                              <a:pt x="183" y="72"/>
                              <a:pt x="153" y="46"/>
                              <a:pt x="117" y="28"/>
                            </a:cubicBezTo>
                            <a:cubicBezTo>
                              <a:pt x="82" y="10"/>
                              <a:pt x="41" y="0"/>
                              <a:pt x="0" y="0"/>
                            </a:cubicBezTo>
                          </a:path>
                        </a:pathLst>
                      </a:custGeom>
                      <a:ln w="12600">
                        <a:solidFill>
                          <a:srgbClr val="ffffff"/>
                        </a:solidFill>
                        <a:round/>
                      </a:ln>
                    </p:spPr>
                    <p:txBody>
                      <a:bodyPr lIns="96120" rIns="96120" tIns="23040" bIns="23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3" name=""/>
                      <p:cNvSpPr/>
                      <p:nvPr/>
                    </p:nvSpPr>
                    <p:spPr>
                      <a:xfrm>
                        <a:off x="4214160" y="4696560"/>
                        <a:ext cx="83520" cy="7416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fill="none" w="232" h="206">
                            <a:moveTo>
                              <a:pt x="0" y="206"/>
                            </a:moveTo>
                            <a:lnTo>
                              <a:pt x="0" y="206"/>
                            </a:lnTo>
                            <a:cubicBezTo>
                              <a:pt x="41" y="206"/>
                              <a:pt x="81" y="196"/>
                              <a:pt x="116" y="178"/>
                            </a:cubicBezTo>
                            <a:cubicBezTo>
                              <a:pt x="151" y="160"/>
                              <a:pt x="181" y="134"/>
                              <a:pt x="201" y="103"/>
                            </a:cubicBezTo>
                            <a:cubicBezTo>
                              <a:pt x="221" y="72"/>
                              <a:pt x="232" y="36"/>
                              <a:pt x="232" y="0"/>
                            </a:cubicBezTo>
                          </a:path>
                        </a:pathLst>
                      </a:custGeom>
                      <a:ln w="12600">
                        <a:solidFill>
                          <a:srgbClr val="ffffff"/>
                        </a:solidFill>
                        <a:round/>
                      </a:ln>
                    </p:spPr>
                    <p:txBody>
                      <a:bodyPr lIns="96120" rIns="96120" tIns="23040" bIns="23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794" name=""/>
                    <p:cNvSpPr/>
                    <p:nvPr/>
                  </p:nvSpPr>
                  <p:spPr>
                    <a:xfrm>
                      <a:off x="3882960" y="4770360"/>
                      <a:ext cx="33984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-51120" bIns="-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95" name=""/>
                  <p:cNvGrpSpPr/>
                  <p:nvPr/>
                </p:nvGrpSpPr>
                <p:grpSpPr>
                  <a:xfrm>
                    <a:off x="2886120" y="4311720"/>
                    <a:ext cx="981000" cy="317520"/>
                    <a:chOff x="2886120" y="4311720"/>
                    <a:chExt cx="981000" cy="317520"/>
                  </a:xfrm>
                </p:grpSpPr>
                <p:sp>
                  <p:nvSpPr>
                    <p:cNvPr id="1796" name=""/>
                    <p:cNvSpPr/>
                    <p:nvPr/>
                  </p:nvSpPr>
                  <p:spPr>
                    <a:xfrm>
                      <a:off x="3228840" y="4311720"/>
                      <a:ext cx="63828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-51120" bIns="-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7" name=""/>
                    <p:cNvSpPr/>
                    <p:nvPr/>
                  </p:nvSpPr>
                  <p:spPr>
                    <a:xfrm>
                      <a:off x="3797280" y="4314960"/>
                      <a:ext cx="0" cy="3142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8" name=""/>
                    <p:cNvSpPr/>
                    <p:nvPr/>
                  </p:nvSpPr>
                  <p:spPr>
                    <a:xfrm>
                      <a:off x="3233880" y="4354560"/>
                      <a:ext cx="56664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custDash>
                        <a:ds d="402857" sp="402857"/>
                      </a:custDash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-51120" bIns="-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9" name=""/>
                    <p:cNvSpPr/>
                    <p:nvPr/>
                  </p:nvSpPr>
                  <p:spPr>
                    <a:xfrm>
                      <a:off x="3228840" y="4589640"/>
                      <a:ext cx="56520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custDash>
                        <a:ds d="402857" sp="402857"/>
                      </a:custDash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-51120" bIns="-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0" name=""/>
                    <p:cNvSpPr/>
                    <p:nvPr/>
                  </p:nvSpPr>
                  <p:spPr>
                    <a:xfrm>
                      <a:off x="3233880" y="4317840"/>
                      <a:ext cx="0" cy="3096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1" name=""/>
                    <p:cNvSpPr/>
                    <p:nvPr/>
                  </p:nvSpPr>
                  <p:spPr>
                    <a:xfrm flipH="1">
                      <a:off x="2886120" y="4359240"/>
                      <a:ext cx="81000" cy="11124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2" name=""/>
                    <p:cNvSpPr/>
                    <p:nvPr/>
                  </p:nvSpPr>
                  <p:spPr>
                    <a:xfrm>
                      <a:off x="2886120" y="4470480"/>
                      <a:ext cx="77760" cy="11736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3" name=""/>
                    <p:cNvSpPr/>
                    <p:nvPr/>
                  </p:nvSpPr>
                  <p:spPr>
                    <a:xfrm>
                      <a:off x="2968560" y="4354560"/>
                      <a:ext cx="0" cy="23004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4" name=""/>
                    <p:cNvSpPr/>
                    <p:nvPr/>
                  </p:nvSpPr>
                  <p:spPr>
                    <a:xfrm flipH="1">
                      <a:off x="3043080" y="4311720"/>
                      <a:ext cx="16380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custDash>
                        <a:ds d="402857" sp="402857"/>
                      </a:custDash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-51120" bIns="-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5" name=""/>
                    <p:cNvSpPr/>
                    <p:nvPr/>
                  </p:nvSpPr>
                  <p:spPr>
                    <a:xfrm flipH="1">
                      <a:off x="3043080" y="4627440"/>
                      <a:ext cx="16668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custDash>
                        <a:ds d="402857" sp="402857"/>
                      </a:custDash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-51120" bIns="-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6" name=""/>
                    <p:cNvSpPr/>
                    <p:nvPr/>
                  </p:nvSpPr>
                  <p:spPr>
                    <a:xfrm>
                      <a:off x="3040200" y="4311720"/>
                      <a:ext cx="0" cy="3142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custDash>
                        <a:ds d="402857" sp="402857"/>
                      </a:custDash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7" name=""/>
                    <p:cNvSpPr/>
                    <p:nvPr/>
                  </p:nvSpPr>
                  <p:spPr>
                    <a:xfrm>
                      <a:off x="3187800" y="4354560"/>
                      <a:ext cx="0" cy="2332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8" name=""/>
                    <p:cNvSpPr/>
                    <p:nvPr/>
                  </p:nvSpPr>
                  <p:spPr>
                    <a:xfrm flipH="1">
                      <a:off x="3191040" y="4313160"/>
                      <a:ext cx="42840" cy="4284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-8280" bIns="-8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9" name=""/>
                    <p:cNvSpPr/>
                    <p:nvPr/>
                  </p:nvSpPr>
                  <p:spPr>
                    <a:xfrm flipH="1" flipV="1">
                      <a:off x="3187800" y="4584600"/>
                      <a:ext cx="42840" cy="4284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-8280" bIns="-8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0" name=""/>
                    <p:cNvSpPr/>
                    <p:nvPr/>
                  </p:nvSpPr>
                  <p:spPr>
                    <a:xfrm flipH="1">
                      <a:off x="2968560" y="4354560"/>
                      <a:ext cx="22248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-51120" bIns="-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1" name=""/>
                    <p:cNvSpPr/>
                    <p:nvPr/>
                  </p:nvSpPr>
                  <p:spPr>
                    <a:xfrm flipH="1">
                      <a:off x="2962440" y="4589640"/>
                      <a:ext cx="22536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-51120" bIns="-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812" name=""/>
              <p:cNvSpPr/>
              <p:nvPr/>
            </p:nvSpPr>
            <p:spPr>
              <a:xfrm>
                <a:off x="3683160" y="4473720"/>
                <a:ext cx="85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3" name=""/>
            <p:cNvGrpSpPr/>
            <p:nvPr/>
          </p:nvGrpSpPr>
          <p:grpSpPr>
            <a:xfrm>
              <a:off x="2454120" y="1495440"/>
              <a:ext cx="2032200" cy="614880"/>
              <a:chOff x="2454120" y="1495440"/>
              <a:chExt cx="2032200" cy="614880"/>
            </a:xfrm>
          </p:grpSpPr>
          <p:sp>
            <p:nvSpPr>
              <p:cNvPr id="1814" name=""/>
              <p:cNvSpPr/>
              <p:nvPr/>
            </p:nvSpPr>
            <p:spPr>
              <a:xfrm>
                <a:off x="2454120" y="1812960"/>
                <a:ext cx="1165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3822840" y="1812960"/>
                <a:ext cx="90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3865680" y="1812960"/>
                <a:ext cx="620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7" name=""/>
              <p:cNvGrpSpPr/>
              <p:nvPr/>
            </p:nvGrpSpPr>
            <p:grpSpPr>
              <a:xfrm>
                <a:off x="2889360" y="1495440"/>
                <a:ext cx="1438560" cy="614880"/>
                <a:chOff x="2889360" y="1495440"/>
                <a:chExt cx="1438560" cy="614880"/>
              </a:xfrm>
            </p:grpSpPr>
            <p:sp>
              <p:nvSpPr>
                <p:cNvPr id="1818" name=""/>
                <p:cNvSpPr/>
                <p:nvPr/>
              </p:nvSpPr>
              <p:spPr>
                <a:xfrm>
                  <a:off x="3233880" y="1968480"/>
                  <a:ext cx="647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19" name=""/>
                <p:cNvGrpSpPr/>
                <p:nvPr/>
              </p:nvGrpSpPr>
              <p:grpSpPr>
                <a:xfrm>
                  <a:off x="2889360" y="1495440"/>
                  <a:ext cx="1438560" cy="614880"/>
                  <a:chOff x="2889360" y="1495440"/>
                  <a:chExt cx="1438560" cy="614880"/>
                </a:xfrm>
              </p:grpSpPr>
              <p:grpSp>
                <p:nvGrpSpPr>
                  <p:cNvPr id="1820" name=""/>
                  <p:cNvGrpSpPr/>
                  <p:nvPr/>
                </p:nvGrpSpPr>
                <p:grpSpPr>
                  <a:xfrm>
                    <a:off x="3878280" y="1495440"/>
                    <a:ext cx="449640" cy="614880"/>
                    <a:chOff x="3878280" y="1495440"/>
                    <a:chExt cx="449640" cy="614880"/>
                  </a:xfrm>
                </p:grpSpPr>
                <p:sp>
                  <p:nvSpPr>
                    <p:cNvPr id="1821" name=""/>
                    <p:cNvSpPr/>
                    <p:nvPr/>
                  </p:nvSpPr>
                  <p:spPr>
                    <a:xfrm>
                      <a:off x="3878280" y="1495440"/>
                      <a:ext cx="0" cy="6145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2" name=""/>
                    <p:cNvSpPr/>
                    <p:nvPr/>
                  </p:nvSpPr>
                  <p:spPr>
                    <a:xfrm>
                      <a:off x="3878280" y="1495440"/>
                      <a:ext cx="33480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-51120" bIns="-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3" name=""/>
                    <p:cNvSpPr/>
                    <p:nvPr/>
                  </p:nvSpPr>
                  <p:spPr>
                    <a:xfrm>
                      <a:off x="4299120" y="1589040"/>
                      <a:ext cx="0" cy="4492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4" name=""/>
                    <p:cNvSpPr/>
                    <p:nvPr/>
                  </p:nvSpPr>
                  <p:spPr>
                    <a:xfrm>
                      <a:off x="3878280" y="1644480"/>
                      <a:ext cx="33480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-51120" bIns="-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5" name=""/>
                    <p:cNvSpPr/>
                    <p:nvPr/>
                  </p:nvSpPr>
                  <p:spPr>
                    <a:xfrm>
                      <a:off x="3878280" y="1962000"/>
                      <a:ext cx="34776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-51120" bIns="-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6" name=""/>
                    <p:cNvSpPr/>
                    <p:nvPr/>
                  </p:nvSpPr>
                  <p:spPr>
                    <a:xfrm>
                      <a:off x="4116960" y="1684440"/>
                      <a:ext cx="210960" cy="2390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fill="none" w="586" h="664">
                          <a:moveTo>
                            <a:pt x="586" y="664"/>
                          </a:moveTo>
                          <a:lnTo>
                            <a:pt x="586" y="664"/>
                          </a:lnTo>
                          <a:lnTo>
                            <a:pt x="586" y="664"/>
                          </a:lnTo>
                          <a:cubicBezTo>
                            <a:pt x="586" y="547"/>
                            <a:pt x="558" y="433"/>
                            <a:pt x="506" y="332"/>
                          </a:cubicBezTo>
                          <a:cubicBezTo>
                            <a:pt x="454" y="231"/>
                            <a:pt x="378" y="147"/>
                            <a:pt x="287" y="89"/>
                          </a:cubicBezTo>
                          <a:cubicBezTo>
                            <a:pt x="200" y="33"/>
                            <a:pt x="101" y="2"/>
                            <a:pt x="0" y="0"/>
                          </a:cubicBezTo>
                        </a:path>
                      </a:pathLst>
                    </a:custGeom>
                    <a:ln w="12600">
                      <a:solidFill>
                        <a:srgbClr val="ffffff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827" name=""/>
                    <p:cNvGrpSpPr/>
                    <p:nvPr/>
                  </p:nvGrpSpPr>
                  <p:grpSpPr>
                    <a:xfrm>
                      <a:off x="4197960" y="1495440"/>
                      <a:ext cx="104760" cy="151200"/>
                      <a:chOff x="4197960" y="1495440"/>
                      <a:chExt cx="104760" cy="151200"/>
                    </a:xfrm>
                  </p:grpSpPr>
                  <p:sp>
                    <p:nvSpPr>
                      <p:cNvPr id="1828" name=""/>
                      <p:cNvSpPr/>
                      <p:nvPr/>
                    </p:nvSpPr>
                    <p:spPr>
                      <a:xfrm>
                        <a:off x="4199040" y="1495440"/>
                        <a:ext cx="103680" cy="7416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fill="none" w="288" h="206">
                            <a:moveTo>
                              <a:pt x="288" y="206"/>
                            </a:moveTo>
                            <a:lnTo>
                              <a:pt x="288" y="206"/>
                            </a:lnTo>
                            <a:lnTo>
                              <a:pt x="288" y="206"/>
                            </a:lnTo>
                            <a:cubicBezTo>
                              <a:pt x="288" y="170"/>
                              <a:pt x="275" y="134"/>
                              <a:pt x="249" y="103"/>
                            </a:cubicBezTo>
                            <a:cubicBezTo>
                              <a:pt x="224" y="72"/>
                              <a:pt x="188" y="46"/>
                              <a:pt x="144" y="28"/>
                            </a:cubicBezTo>
                            <a:cubicBezTo>
                              <a:pt x="100" y="10"/>
                              <a:pt x="51" y="0"/>
                              <a:pt x="0" y="0"/>
                            </a:cubicBezTo>
                          </a:path>
                        </a:pathLst>
                      </a:custGeom>
                      <a:ln w="12600">
                        <a:solidFill>
                          <a:srgbClr val="ffffff"/>
                        </a:solidFill>
                        <a:round/>
                      </a:ln>
                    </p:spPr>
                    <p:txBody>
                      <a:bodyPr lIns="96120" rIns="96120" tIns="23040" bIns="23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9" name=""/>
                      <p:cNvSpPr/>
                      <p:nvPr/>
                    </p:nvSpPr>
                    <p:spPr>
                      <a:xfrm>
                        <a:off x="4197960" y="1572480"/>
                        <a:ext cx="102600" cy="7416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fill="none" w="285" h="206">
                            <a:moveTo>
                              <a:pt x="0" y="206"/>
                            </a:moveTo>
                            <a:lnTo>
                              <a:pt x="0" y="206"/>
                            </a:lnTo>
                            <a:cubicBezTo>
                              <a:pt x="50" y="206"/>
                              <a:pt x="99" y="196"/>
                              <a:pt x="143" y="178"/>
                            </a:cubicBezTo>
                            <a:cubicBezTo>
                              <a:pt x="186" y="160"/>
                              <a:pt x="222" y="134"/>
                              <a:pt x="247" y="103"/>
                            </a:cubicBezTo>
                            <a:cubicBezTo>
                              <a:pt x="272" y="72"/>
                              <a:pt x="285" y="36"/>
                              <a:pt x="285" y="0"/>
                            </a:cubicBezTo>
                          </a:path>
                        </a:pathLst>
                      </a:custGeom>
                      <a:ln w="12600">
                        <a:solidFill>
                          <a:srgbClr val="ffffff"/>
                        </a:solidFill>
                        <a:round/>
                      </a:ln>
                    </p:spPr>
                    <p:txBody>
                      <a:bodyPr lIns="96120" rIns="96120" tIns="23040" bIns="23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830" name=""/>
                    <p:cNvGrpSpPr/>
                    <p:nvPr/>
                  </p:nvGrpSpPr>
                  <p:grpSpPr>
                    <a:xfrm>
                      <a:off x="4217040" y="1960560"/>
                      <a:ext cx="85680" cy="149760"/>
                      <a:chOff x="4217040" y="1960560"/>
                      <a:chExt cx="85680" cy="149760"/>
                    </a:xfrm>
                  </p:grpSpPr>
                  <p:sp>
                    <p:nvSpPr>
                      <p:cNvPr id="1831" name=""/>
                      <p:cNvSpPr/>
                      <p:nvPr/>
                    </p:nvSpPr>
                    <p:spPr>
                      <a:xfrm>
                        <a:off x="4218120" y="1960560"/>
                        <a:ext cx="84600" cy="7416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fill="none" w="235" h="206">
                            <a:moveTo>
                              <a:pt x="235" y="206"/>
                            </a:moveTo>
                            <a:lnTo>
                              <a:pt x="235" y="206"/>
                            </a:lnTo>
                            <a:lnTo>
                              <a:pt x="235" y="206"/>
                            </a:lnTo>
                            <a:cubicBezTo>
                              <a:pt x="235" y="170"/>
                              <a:pt x="224" y="134"/>
                              <a:pt x="204" y="103"/>
                            </a:cubicBezTo>
                            <a:cubicBezTo>
                              <a:pt x="183" y="72"/>
                              <a:pt x="153" y="46"/>
                              <a:pt x="117" y="28"/>
                            </a:cubicBezTo>
                            <a:cubicBezTo>
                              <a:pt x="82" y="10"/>
                              <a:pt x="41" y="0"/>
                              <a:pt x="0" y="0"/>
                            </a:cubicBezTo>
                          </a:path>
                        </a:pathLst>
                      </a:custGeom>
                      <a:ln w="12600">
                        <a:solidFill>
                          <a:srgbClr val="ffffff"/>
                        </a:solidFill>
                        <a:round/>
                      </a:ln>
                    </p:spPr>
                    <p:txBody>
                      <a:bodyPr lIns="96120" rIns="96120" tIns="23040" bIns="23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2" name=""/>
                      <p:cNvSpPr/>
                      <p:nvPr/>
                    </p:nvSpPr>
                    <p:spPr>
                      <a:xfrm>
                        <a:off x="4217040" y="2036160"/>
                        <a:ext cx="83520" cy="7416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fill="none" w="232" h="206">
                            <a:moveTo>
                              <a:pt x="0" y="206"/>
                            </a:moveTo>
                            <a:lnTo>
                              <a:pt x="0" y="206"/>
                            </a:lnTo>
                            <a:cubicBezTo>
                              <a:pt x="41" y="206"/>
                              <a:pt x="81" y="196"/>
                              <a:pt x="116" y="178"/>
                            </a:cubicBezTo>
                            <a:cubicBezTo>
                              <a:pt x="151" y="160"/>
                              <a:pt x="181" y="134"/>
                              <a:pt x="201" y="103"/>
                            </a:cubicBezTo>
                            <a:cubicBezTo>
                              <a:pt x="221" y="72"/>
                              <a:pt x="232" y="36"/>
                              <a:pt x="232" y="0"/>
                            </a:cubicBezTo>
                          </a:path>
                        </a:pathLst>
                      </a:custGeom>
                      <a:ln w="12600">
                        <a:solidFill>
                          <a:srgbClr val="ffffff"/>
                        </a:solidFill>
                        <a:round/>
                      </a:ln>
                    </p:spPr>
                    <p:txBody>
                      <a:bodyPr lIns="96120" rIns="96120" tIns="23040" bIns="23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833" name=""/>
                    <p:cNvSpPr/>
                    <p:nvPr/>
                  </p:nvSpPr>
                  <p:spPr>
                    <a:xfrm>
                      <a:off x="3886200" y="2109960"/>
                      <a:ext cx="33984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-51120" bIns="-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34" name=""/>
                  <p:cNvGrpSpPr/>
                  <p:nvPr/>
                </p:nvGrpSpPr>
                <p:grpSpPr>
                  <a:xfrm>
                    <a:off x="2889360" y="1650960"/>
                    <a:ext cx="981000" cy="317520"/>
                    <a:chOff x="2889360" y="1650960"/>
                    <a:chExt cx="981000" cy="317520"/>
                  </a:xfrm>
                </p:grpSpPr>
                <p:sp>
                  <p:nvSpPr>
                    <p:cNvPr id="1835" name=""/>
                    <p:cNvSpPr/>
                    <p:nvPr/>
                  </p:nvSpPr>
                  <p:spPr>
                    <a:xfrm>
                      <a:off x="3232080" y="1650960"/>
                      <a:ext cx="63828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-51120" bIns="-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6" name=""/>
                    <p:cNvSpPr/>
                    <p:nvPr/>
                  </p:nvSpPr>
                  <p:spPr>
                    <a:xfrm>
                      <a:off x="3800520" y="1654200"/>
                      <a:ext cx="0" cy="3142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7" name=""/>
                    <p:cNvSpPr/>
                    <p:nvPr/>
                  </p:nvSpPr>
                  <p:spPr>
                    <a:xfrm>
                      <a:off x="3236760" y="1693800"/>
                      <a:ext cx="56700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custDash>
                        <a:ds d="402857" sp="402857"/>
                      </a:custDash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-51120" bIns="-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8" name=""/>
                    <p:cNvSpPr/>
                    <p:nvPr/>
                  </p:nvSpPr>
                  <p:spPr>
                    <a:xfrm>
                      <a:off x="3232080" y="1928880"/>
                      <a:ext cx="56520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custDash>
                        <a:ds d="402857" sp="402857"/>
                      </a:custDash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-51120" bIns="-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9" name=""/>
                    <p:cNvSpPr/>
                    <p:nvPr/>
                  </p:nvSpPr>
                  <p:spPr>
                    <a:xfrm>
                      <a:off x="3236760" y="1657440"/>
                      <a:ext cx="0" cy="3096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0" name=""/>
                    <p:cNvSpPr/>
                    <p:nvPr/>
                  </p:nvSpPr>
                  <p:spPr>
                    <a:xfrm flipH="1">
                      <a:off x="2889360" y="1698480"/>
                      <a:ext cx="81000" cy="11124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1" name=""/>
                    <p:cNvSpPr/>
                    <p:nvPr/>
                  </p:nvSpPr>
                  <p:spPr>
                    <a:xfrm>
                      <a:off x="2889360" y="1809720"/>
                      <a:ext cx="77760" cy="11736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2" name=""/>
                    <p:cNvSpPr/>
                    <p:nvPr/>
                  </p:nvSpPr>
                  <p:spPr>
                    <a:xfrm>
                      <a:off x="2971800" y="1693800"/>
                      <a:ext cx="0" cy="2304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3" name=""/>
                    <p:cNvSpPr/>
                    <p:nvPr/>
                  </p:nvSpPr>
                  <p:spPr>
                    <a:xfrm flipH="1">
                      <a:off x="3046320" y="1650960"/>
                      <a:ext cx="16344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custDash>
                        <a:ds d="402857" sp="402857"/>
                      </a:custDash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-51120" bIns="-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4" name=""/>
                    <p:cNvSpPr/>
                    <p:nvPr/>
                  </p:nvSpPr>
                  <p:spPr>
                    <a:xfrm flipH="1">
                      <a:off x="3046320" y="1967040"/>
                      <a:ext cx="16668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custDash>
                        <a:ds d="402857" sp="402857"/>
                      </a:custDash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-51120" bIns="-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5" name=""/>
                    <p:cNvSpPr/>
                    <p:nvPr/>
                  </p:nvSpPr>
                  <p:spPr>
                    <a:xfrm>
                      <a:off x="3043080" y="1650960"/>
                      <a:ext cx="0" cy="3142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custDash>
                        <a:ds d="402857" sp="402857"/>
                      </a:custDash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6" name=""/>
                    <p:cNvSpPr/>
                    <p:nvPr/>
                  </p:nvSpPr>
                  <p:spPr>
                    <a:xfrm>
                      <a:off x="3191040" y="1693800"/>
                      <a:ext cx="0" cy="2332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7" name=""/>
                    <p:cNvSpPr/>
                    <p:nvPr/>
                  </p:nvSpPr>
                  <p:spPr>
                    <a:xfrm flipH="1">
                      <a:off x="3193920" y="1652760"/>
                      <a:ext cx="42840" cy="4284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-8280" bIns="-8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8" name=""/>
                    <p:cNvSpPr/>
                    <p:nvPr/>
                  </p:nvSpPr>
                  <p:spPr>
                    <a:xfrm flipH="1" flipV="1">
                      <a:off x="3191040" y="1924200"/>
                      <a:ext cx="42840" cy="4284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-8280" bIns="-8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9" name=""/>
                    <p:cNvSpPr/>
                    <p:nvPr/>
                  </p:nvSpPr>
                  <p:spPr>
                    <a:xfrm flipH="1">
                      <a:off x="2971800" y="1693800"/>
                      <a:ext cx="22212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-51120" bIns="-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0" name=""/>
                    <p:cNvSpPr/>
                    <p:nvPr/>
                  </p:nvSpPr>
                  <p:spPr>
                    <a:xfrm flipH="1">
                      <a:off x="2965320" y="1928880"/>
                      <a:ext cx="22572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-51120" bIns="-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851" name=""/>
              <p:cNvSpPr/>
              <p:nvPr/>
            </p:nvSpPr>
            <p:spPr>
              <a:xfrm>
                <a:off x="3686040" y="1812960"/>
                <a:ext cx="86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2" name=""/>
            <p:cNvSpPr/>
            <p:nvPr/>
          </p:nvSpPr>
          <p:spPr>
            <a:xfrm flipH="1">
              <a:off x="2127240" y="2408400"/>
              <a:ext cx="14288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3" name=""/>
          <p:cNvSpPr txBox="1"/>
          <p:nvPr/>
        </p:nvSpPr>
        <p:spPr>
          <a:xfrm>
            <a:off x="2101680" y="5931000"/>
            <a:ext cx="18730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ting P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/>
          <p:cNvSpPr txBox="1"/>
          <p:nvPr/>
        </p:nvSpPr>
        <p:spPr>
          <a:xfrm>
            <a:off x="165240" y="236520"/>
            <a:ext cx="39085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 u="sng">
                <a:solidFill>
                  <a:srgbClr val="fc0128"/>
                </a:solidFill>
                <a:uFillTx/>
                <a:latin typeface="Times New Roman"/>
                <a:ea typeface="Times New Roman"/>
              </a:rPr>
              <a:t>Parts 1 and 2 in Assemb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5" name=""/>
          <p:cNvGrpSpPr/>
          <p:nvPr/>
        </p:nvGrpSpPr>
        <p:grpSpPr>
          <a:xfrm>
            <a:off x="5702400" y="5699160"/>
            <a:ext cx="2266920" cy="325440"/>
            <a:chOff x="5702400" y="5699160"/>
            <a:chExt cx="2266920" cy="325440"/>
          </a:xfrm>
        </p:grpSpPr>
        <p:sp>
          <p:nvSpPr>
            <p:cNvPr id="1856" name=""/>
            <p:cNvSpPr/>
            <p:nvPr/>
          </p:nvSpPr>
          <p:spPr>
            <a:xfrm>
              <a:off x="5702400" y="5699160"/>
              <a:ext cx="2266920" cy="30168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7" name=""/>
            <p:cNvGrpSpPr/>
            <p:nvPr/>
          </p:nvGrpSpPr>
          <p:grpSpPr>
            <a:xfrm>
              <a:off x="5799240" y="5740560"/>
              <a:ext cx="214200" cy="218880"/>
              <a:chOff x="5799240" y="5740560"/>
              <a:chExt cx="214200" cy="218880"/>
            </a:xfrm>
          </p:grpSpPr>
          <p:sp>
            <p:nvSpPr>
              <p:cNvPr id="1858" name=""/>
              <p:cNvSpPr/>
              <p:nvPr/>
            </p:nvSpPr>
            <p:spPr>
              <a:xfrm>
                <a:off x="5821200" y="5765760"/>
                <a:ext cx="171360" cy="17136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5907240" y="5740560"/>
                <a:ext cx="0" cy="21888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5799240" y="5851440"/>
                <a:ext cx="21420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1" name=""/>
            <p:cNvSpPr/>
            <p:nvPr/>
          </p:nvSpPr>
          <p:spPr>
            <a:xfrm>
              <a:off x="6111720" y="5710320"/>
              <a:ext cx="0" cy="27612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2" name=""/>
            <p:cNvGrpSpPr/>
            <p:nvPr/>
          </p:nvGrpSpPr>
          <p:grpSpPr>
            <a:xfrm>
              <a:off x="6168960" y="5767560"/>
              <a:ext cx="171360" cy="171360"/>
              <a:chOff x="6168960" y="5767560"/>
              <a:chExt cx="171360" cy="171360"/>
            </a:xfrm>
          </p:grpSpPr>
          <p:sp>
            <p:nvSpPr>
              <p:cNvPr id="1863" name=""/>
              <p:cNvSpPr/>
              <p:nvPr/>
            </p:nvSpPr>
            <p:spPr>
              <a:xfrm>
                <a:off x="6192720" y="5786280"/>
                <a:ext cx="133200" cy="13320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 flipH="1">
                <a:off x="6168960" y="5767560"/>
                <a:ext cx="171360" cy="17136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5" name=""/>
            <p:cNvSpPr txBox="1"/>
            <p:nvPr/>
          </p:nvSpPr>
          <p:spPr>
            <a:xfrm>
              <a:off x="6369120" y="5710320"/>
              <a:ext cx="4316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0.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6" name=""/>
            <p:cNvGrpSpPr/>
            <p:nvPr/>
          </p:nvGrpSpPr>
          <p:grpSpPr>
            <a:xfrm>
              <a:off x="6780240" y="5713560"/>
              <a:ext cx="331920" cy="304920"/>
              <a:chOff x="6780240" y="5713560"/>
              <a:chExt cx="331920" cy="304920"/>
            </a:xfrm>
          </p:grpSpPr>
          <p:sp>
            <p:nvSpPr>
              <p:cNvPr id="1867" name=""/>
              <p:cNvSpPr/>
              <p:nvPr/>
            </p:nvSpPr>
            <p:spPr>
              <a:xfrm>
                <a:off x="6845400" y="5753160"/>
                <a:ext cx="190440" cy="190440"/>
              </a:xfrm>
              <a:prstGeom prst="ellipse">
                <a:avLst/>
              </a:prstGeom>
              <a:noFill/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"/>
              <p:cNvSpPr txBox="1"/>
              <p:nvPr/>
            </p:nvSpPr>
            <p:spPr>
              <a:xfrm>
                <a:off x="6780240" y="5713560"/>
                <a:ext cx="33192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M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"/>
            <p:cNvSpPr/>
            <p:nvPr/>
          </p:nvSpPr>
          <p:spPr>
            <a:xfrm>
              <a:off x="7121520" y="5710320"/>
              <a:ext cx="0" cy="28584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"/>
            <p:cNvSpPr txBox="1"/>
            <p:nvPr/>
          </p:nvSpPr>
          <p:spPr>
            <a:xfrm>
              <a:off x="7118280" y="5719680"/>
              <a:ext cx="3031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7435800" y="5715000"/>
              <a:ext cx="0" cy="28116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"/>
            <p:cNvSpPr txBox="1"/>
            <p:nvPr/>
          </p:nvSpPr>
          <p:spPr>
            <a:xfrm>
              <a:off x="7410600" y="5719680"/>
              <a:ext cx="3031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3" name=""/>
            <p:cNvGrpSpPr/>
            <p:nvPr/>
          </p:nvGrpSpPr>
          <p:grpSpPr>
            <a:xfrm>
              <a:off x="7628040" y="5713560"/>
              <a:ext cx="331920" cy="304920"/>
              <a:chOff x="7628040" y="5713560"/>
              <a:chExt cx="331920" cy="304920"/>
            </a:xfrm>
          </p:grpSpPr>
          <p:sp>
            <p:nvSpPr>
              <p:cNvPr id="1874" name=""/>
              <p:cNvSpPr/>
              <p:nvPr/>
            </p:nvSpPr>
            <p:spPr>
              <a:xfrm>
                <a:off x="7693200" y="5753160"/>
                <a:ext cx="190440" cy="190440"/>
              </a:xfrm>
              <a:prstGeom prst="ellipse">
                <a:avLst/>
              </a:prstGeom>
              <a:noFill/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"/>
              <p:cNvSpPr txBox="1"/>
              <p:nvPr/>
            </p:nvSpPr>
            <p:spPr>
              <a:xfrm>
                <a:off x="7628040" y="5713560"/>
                <a:ext cx="33192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M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6" name=""/>
            <p:cNvSpPr/>
            <p:nvPr/>
          </p:nvSpPr>
          <p:spPr>
            <a:xfrm>
              <a:off x="7661160" y="5730840"/>
              <a:ext cx="231840" cy="23184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6816600" y="5732640"/>
              <a:ext cx="246240" cy="24624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"/>
          <p:cNvSpPr txBox="1"/>
          <p:nvPr/>
        </p:nvSpPr>
        <p:spPr>
          <a:xfrm>
            <a:off x="4778280" y="615960"/>
            <a:ext cx="4119480" cy="45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um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The part is clamped against sur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face A, establishing the orienta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tion of the part.  Surface A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therefore referenced as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primary datum </a:t>
            </a:r>
            <a:r>
              <a:rPr b="0" lang="en-US" sz="24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in dimens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the holes.  </a:t>
            </a:r>
            <a:r>
              <a:rPr b="0" lang="en-US" sz="24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Diameter B po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the part and is referenced as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secondary datum in the dimen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sioning of the bolt ho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9" name=""/>
          <p:cNvGrpSpPr/>
          <p:nvPr/>
        </p:nvGrpSpPr>
        <p:grpSpPr>
          <a:xfrm>
            <a:off x="668160" y="987480"/>
            <a:ext cx="3818160" cy="4366080"/>
            <a:chOff x="668160" y="987480"/>
            <a:chExt cx="3818160" cy="4366080"/>
          </a:xfrm>
        </p:grpSpPr>
        <p:sp>
          <p:nvSpPr>
            <p:cNvPr id="1880" name=""/>
            <p:cNvSpPr/>
            <p:nvPr/>
          </p:nvSpPr>
          <p:spPr>
            <a:xfrm>
              <a:off x="3556080" y="1320840"/>
              <a:ext cx="0" cy="36907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3556080" y="1316160"/>
              <a:ext cx="3096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3881520" y="1320840"/>
              <a:ext cx="0" cy="36907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 flipH="1">
              <a:off x="3556080" y="5011560"/>
              <a:ext cx="299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952560" y="3121200"/>
              <a:ext cx="21556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3189240" y="3125880"/>
              <a:ext cx="1191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3398760" y="3125880"/>
              <a:ext cx="9288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2921040" y="2535120"/>
              <a:ext cx="0" cy="1133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 flipH="1" flipV="1">
              <a:off x="2913120" y="3668760"/>
              <a:ext cx="104760" cy="1047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673200" y="987480"/>
              <a:ext cx="2882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3556080" y="987480"/>
              <a:ext cx="0" cy="14047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2127240" y="2428920"/>
              <a:ext cx="0" cy="1371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2133720" y="3805200"/>
              <a:ext cx="14176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3556080" y="3844800"/>
              <a:ext cx="0" cy="1500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 flipH="1">
              <a:off x="787320" y="5345280"/>
              <a:ext cx="27687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 flipH="1">
              <a:off x="1601640" y="2773440"/>
              <a:ext cx="5256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 flipH="1">
              <a:off x="1603440" y="3511440"/>
              <a:ext cx="5238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 flipV="1">
              <a:off x="1603440" y="2773440"/>
              <a:ext cx="0" cy="738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 flipH="1" flipV="1">
              <a:off x="1203480" y="2521080"/>
              <a:ext cx="390240" cy="3902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 flipH="1">
              <a:off x="1308240" y="3292560"/>
              <a:ext cx="285480" cy="285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668160" y="990720"/>
              <a:ext cx="649800" cy="4362840"/>
            </a:xfrm>
            <a:custGeom>
              <a:avLst/>
              <a:gdLst/>
              <a:ahLst/>
              <a:rect l="0" t="0" r="r" b="b"/>
              <a:pathLst>
                <a:path fill="none" w="1805" h="12119">
                  <a:moveTo>
                    <a:pt x="0" y="0"/>
                  </a:moveTo>
                  <a:lnTo>
                    <a:pt x="39" y="101"/>
                  </a:lnTo>
                  <a:lnTo>
                    <a:pt x="39" y="185"/>
                  </a:lnTo>
                  <a:lnTo>
                    <a:pt x="70" y="304"/>
                  </a:lnTo>
                  <a:lnTo>
                    <a:pt x="97" y="392"/>
                  </a:lnTo>
                  <a:lnTo>
                    <a:pt x="132" y="476"/>
                  </a:lnTo>
                  <a:lnTo>
                    <a:pt x="216" y="568"/>
                  </a:lnTo>
                  <a:lnTo>
                    <a:pt x="277" y="683"/>
                  </a:lnTo>
                  <a:lnTo>
                    <a:pt x="335" y="776"/>
                  </a:lnTo>
                  <a:lnTo>
                    <a:pt x="455" y="895"/>
                  </a:lnTo>
                  <a:lnTo>
                    <a:pt x="455" y="1005"/>
                  </a:lnTo>
                  <a:lnTo>
                    <a:pt x="455" y="1124"/>
                  </a:lnTo>
                  <a:lnTo>
                    <a:pt x="481" y="1243"/>
                  </a:lnTo>
                  <a:lnTo>
                    <a:pt x="569" y="1362"/>
                  </a:lnTo>
                  <a:lnTo>
                    <a:pt x="627" y="1450"/>
                  </a:lnTo>
                  <a:lnTo>
                    <a:pt x="719" y="1534"/>
                  </a:lnTo>
                  <a:lnTo>
                    <a:pt x="865" y="1715"/>
                  </a:lnTo>
                  <a:lnTo>
                    <a:pt x="891" y="1799"/>
                  </a:lnTo>
                  <a:lnTo>
                    <a:pt x="953" y="1918"/>
                  </a:lnTo>
                  <a:lnTo>
                    <a:pt x="984" y="2006"/>
                  </a:lnTo>
                  <a:lnTo>
                    <a:pt x="1010" y="2301"/>
                  </a:lnTo>
                  <a:lnTo>
                    <a:pt x="1037" y="2390"/>
                  </a:lnTo>
                  <a:lnTo>
                    <a:pt x="1129" y="2747"/>
                  </a:lnTo>
                  <a:lnTo>
                    <a:pt x="1156" y="2857"/>
                  </a:lnTo>
                  <a:lnTo>
                    <a:pt x="1191" y="3158"/>
                  </a:lnTo>
                  <a:lnTo>
                    <a:pt x="1191" y="3303"/>
                  </a:lnTo>
                  <a:lnTo>
                    <a:pt x="1191" y="3422"/>
                  </a:lnTo>
                  <a:lnTo>
                    <a:pt x="1218" y="3506"/>
                  </a:lnTo>
                  <a:lnTo>
                    <a:pt x="1248" y="3859"/>
                  </a:lnTo>
                  <a:lnTo>
                    <a:pt x="1337" y="3978"/>
                  </a:lnTo>
                  <a:lnTo>
                    <a:pt x="1395" y="4071"/>
                  </a:lnTo>
                  <a:lnTo>
                    <a:pt x="1457" y="4154"/>
                  </a:lnTo>
                  <a:lnTo>
                    <a:pt x="1514" y="4274"/>
                  </a:lnTo>
                  <a:lnTo>
                    <a:pt x="1567" y="4419"/>
                  </a:lnTo>
                  <a:lnTo>
                    <a:pt x="1567" y="4710"/>
                  </a:lnTo>
                  <a:lnTo>
                    <a:pt x="1567" y="4829"/>
                  </a:lnTo>
                  <a:lnTo>
                    <a:pt x="1567" y="5182"/>
                  </a:lnTo>
                  <a:lnTo>
                    <a:pt x="1567" y="5275"/>
                  </a:lnTo>
                  <a:lnTo>
                    <a:pt x="1567" y="5358"/>
                  </a:lnTo>
                  <a:lnTo>
                    <a:pt x="1567" y="5447"/>
                  </a:lnTo>
                  <a:lnTo>
                    <a:pt x="1567" y="5566"/>
                  </a:lnTo>
                  <a:lnTo>
                    <a:pt x="1567" y="5923"/>
                  </a:lnTo>
                  <a:lnTo>
                    <a:pt x="1567" y="6068"/>
                  </a:lnTo>
                  <a:lnTo>
                    <a:pt x="1540" y="6417"/>
                  </a:lnTo>
                  <a:lnTo>
                    <a:pt x="1540" y="6562"/>
                  </a:lnTo>
                  <a:lnTo>
                    <a:pt x="1567" y="6655"/>
                  </a:lnTo>
                  <a:lnTo>
                    <a:pt x="1629" y="6827"/>
                  </a:lnTo>
                  <a:lnTo>
                    <a:pt x="1686" y="6919"/>
                  </a:lnTo>
                  <a:lnTo>
                    <a:pt x="1721" y="7008"/>
                  </a:lnTo>
                  <a:lnTo>
                    <a:pt x="1779" y="7091"/>
                  </a:lnTo>
                  <a:lnTo>
                    <a:pt x="1779" y="7184"/>
                  </a:lnTo>
                  <a:lnTo>
                    <a:pt x="1805" y="7272"/>
                  </a:lnTo>
                  <a:lnTo>
                    <a:pt x="1805" y="7391"/>
                  </a:lnTo>
                  <a:lnTo>
                    <a:pt x="1805" y="7510"/>
                  </a:lnTo>
                  <a:lnTo>
                    <a:pt x="1805" y="7594"/>
                  </a:lnTo>
                  <a:lnTo>
                    <a:pt x="1805" y="7713"/>
                  </a:lnTo>
                  <a:lnTo>
                    <a:pt x="1721" y="7859"/>
                  </a:lnTo>
                  <a:lnTo>
                    <a:pt x="1686" y="7978"/>
                  </a:lnTo>
                  <a:lnTo>
                    <a:pt x="1660" y="8092"/>
                  </a:lnTo>
                  <a:lnTo>
                    <a:pt x="1629" y="8185"/>
                  </a:lnTo>
                  <a:lnTo>
                    <a:pt x="1567" y="8304"/>
                  </a:lnTo>
                  <a:lnTo>
                    <a:pt x="1483" y="8414"/>
                  </a:lnTo>
                  <a:lnTo>
                    <a:pt x="1421" y="8507"/>
                  </a:lnTo>
                  <a:lnTo>
                    <a:pt x="1337" y="8595"/>
                  </a:lnTo>
                  <a:lnTo>
                    <a:pt x="984" y="9654"/>
                  </a:lnTo>
                  <a:lnTo>
                    <a:pt x="688" y="10475"/>
                  </a:lnTo>
                  <a:lnTo>
                    <a:pt x="569" y="10832"/>
                  </a:lnTo>
                  <a:lnTo>
                    <a:pt x="277" y="11771"/>
                  </a:lnTo>
                  <a:lnTo>
                    <a:pt x="304" y="11855"/>
                  </a:lnTo>
                  <a:lnTo>
                    <a:pt x="304" y="11974"/>
                  </a:lnTo>
                  <a:lnTo>
                    <a:pt x="335" y="12119"/>
                  </a:lnTo>
                  <a:lnTo>
                    <a:pt x="277" y="12067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3530520" y="2459160"/>
              <a:ext cx="82440" cy="657360"/>
            </a:xfrm>
            <a:prstGeom prst="rect">
              <a:avLst/>
            </a:prstGeom>
            <a:solidFill>
              <a:srgbClr val="114f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3516480" y="3138480"/>
              <a:ext cx="104760" cy="623880"/>
            </a:xfrm>
            <a:prstGeom prst="rect">
              <a:avLst/>
            </a:prstGeom>
            <a:solidFill>
              <a:srgbClr val="114f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3543480" y="4265640"/>
              <a:ext cx="54000" cy="395280"/>
            </a:xfrm>
            <a:prstGeom prst="rect">
              <a:avLst/>
            </a:prstGeom>
            <a:solidFill>
              <a:srgbClr val="114f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3543480" y="1633680"/>
              <a:ext cx="54000" cy="395280"/>
            </a:xfrm>
            <a:prstGeom prst="rect">
              <a:avLst/>
            </a:prstGeom>
            <a:solidFill>
              <a:srgbClr val="114f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 flipH="1">
              <a:off x="801720" y="1004760"/>
              <a:ext cx="271440" cy="271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 flipH="1">
              <a:off x="954000" y="1000080"/>
              <a:ext cx="604800" cy="604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 flipH="1">
              <a:off x="1073160" y="1000080"/>
              <a:ext cx="995400" cy="995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 flipH="1">
              <a:off x="1149480" y="990720"/>
              <a:ext cx="1419120" cy="1419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 flipH="1">
              <a:off x="1378080" y="995400"/>
              <a:ext cx="1704960" cy="1704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 flipH="1">
              <a:off x="3521160" y="1585800"/>
              <a:ext cx="28440" cy="28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 flipH="1">
              <a:off x="2276640" y="1143000"/>
              <a:ext cx="1263600" cy="1263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 flipH="1">
              <a:off x="1911240" y="2562120"/>
              <a:ext cx="209520" cy="209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 flipH="1">
              <a:off x="2809800" y="2000160"/>
              <a:ext cx="409680" cy="4096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 flipH="1">
              <a:off x="3305160" y="2205000"/>
              <a:ext cx="238320" cy="238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556080" y="1301760"/>
              <a:ext cx="317880" cy="349560"/>
            </a:xfrm>
            <a:custGeom>
              <a:avLst/>
              <a:gdLst/>
              <a:ahLst/>
              <a:rect l="0" t="0" r="r" b="b"/>
              <a:pathLst>
                <a:path w="883" h="971">
                  <a:moveTo>
                    <a:pt x="0" y="0"/>
                  </a:moveTo>
                  <a:lnTo>
                    <a:pt x="883" y="0"/>
                  </a:lnTo>
                  <a:lnTo>
                    <a:pt x="883" y="971"/>
                  </a:lnTo>
                  <a:lnTo>
                    <a:pt x="0" y="9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dfca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2921040" y="1984320"/>
              <a:ext cx="952920" cy="898920"/>
            </a:xfrm>
            <a:custGeom>
              <a:avLst/>
              <a:gdLst/>
              <a:ahLst/>
              <a:rect l="0" t="0" r="r" b="b"/>
              <a:pathLst>
                <a:path w="2647" h="2497">
                  <a:moveTo>
                    <a:pt x="1751" y="0"/>
                  </a:moveTo>
                  <a:lnTo>
                    <a:pt x="2647" y="0"/>
                  </a:lnTo>
                  <a:lnTo>
                    <a:pt x="2647" y="2497"/>
                  </a:lnTo>
                  <a:lnTo>
                    <a:pt x="0" y="2497"/>
                  </a:lnTo>
                  <a:lnTo>
                    <a:pt x="0" y="1412"/>
                  </a:lnTo>
                  <a:lnTo>
                    <a:pt x="180" y="1178"/>
                  </a:lnTo>
                  <a:lnTo>
                    <a:pt x="1751" y="1178"/>
                  </a:lnTo>
                  <a:lnTo>
                    <a:pt x="1751" y="0"/>
                  </a:lnTo>
                  <a:close/>
                </a:path>
              </a:pathLst>
            </a:custGeom>
            <a:solidFill>
              <a:srgbClr val="00dfca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2921040" y="3370320"/>
              <a:ext cx="952920" cy="932400"/>
            </a:xfrm>
            <a:custGeom>
              <a:avLst/>
              <a:gdLst/>
              <a:ahLst/>
              <a:rect l="0" t="0" r="r" b="b"/>
              <a:pathLst>
                <a:path w="2647" h="2590">
                  <a:moveTo>
                    <a:pt x="2647" y="0"/>
                  </a:moveTo>
                  <a:lnTo>
                    <a:pt x="2647" y="2590"/>
                  </a:lnTo>
                  <a:lnTo>
                    <a:pt x="1764" y="2590"/>
                  </a:lnTo>
                  <a:lnTo>
                    <a:pt x="1751" y="1204"/>
                  </a:lnTo>
                  <a:lnTo>
                    <a:pt x="224" y="1204"/>
                  </a:lnTo>
                  <a:lnTo>
                    <a:pt x="0" y="971"/>
                  </a:lnTo>
                  <a:lnTo>
                    <a:pt x="0" y="0"/>
                  </a:lnTo>
                  <a:lnTo>
                    <a:pt x="2647" y="0"/>
                  </a:lnTo>
                  <a:close/>
                </a:path>
              </a:pathLst>
            </a:custGeom>
            <a:solidFill>
              <a:srgbClr val="00dfca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3556080" y="4651200"/>
              <a:ext cx="317880" cy="365400"/>
            </a:xfrm>
            <a:custGeom>
              <a:avLst/>
              <a:gdLst/>
              <a:ahLst/>
              <a:rect l="0" t="0" r="r" b="b"/>
              <a:pathLst>
                <a:path w="883" h="1015">
                  <a:moveTo>
                    <a:pt x="0" y="0"/>
                  </a:moveTo>
                  <a:lnTo>
                    <a:pt x="883" y="0"/>
                  </a:lnTo>
                  <a:lnTo>
                    <a:pt x="883" y="1015"/>
                  </a:lnTo>
                  <a:lnTo>
                    <a:pt x="0" y="10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dfca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 flipH="1">
              <a:off x="1111320" y="3514680"/>
              <a:ext cx="733320" cy="733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 flipH="1">
              <a:off x="797040" y="3807000"/>
              <a:ext cx="1336680" cy="13366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 flipH="1">
              <a:off x="1149480" y="3816360"/>
              <a:ext cx="1517400" cy="15177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 flipH="1">
              <a:off x="2435400" y="3807000"/>
              <a:ext cx="793440" cy="793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 flipH="1">
              <a:off x="1692360" y="4610160"/>
              <a:ext cx="733320" cy="733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 flipH="1">
              <a:off x="3247920" y="4019400"/>
              <a:ext cx="301680" cy="3016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 flipH="1">
              <a:off x="2282760" y="4600440"/>
              <a:ext cx="733320" cy="7336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 flipH="1">
              <a:off x="2835360" y="4638600"/>
              <a:ext cx="695160" cy="695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 flipH="1">
              <a:off x="3378240" y="5181480"/>
              <a:ext cx="162000" cy="162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8" name=""/>
            <p:cNvGrpSpPr/>
            <p:nvPr/>
          </p:nvGrpSpPr>
          <p:grpSpPr>
            <a:xfrm>
              <a:off x="2451240" y="4156200"/>
              <a:ext cx="2031840" cy="614520"/>
              <a:chOff x="2451240" y="4156200"/>
              <a:chExt cx="2031840" cy="614520"/>
            </a:xfrm>
          </p:grpSpPr>
          <p:sp>
            <p:nvSpPr>
              <p:cNvPr id="1929" name=""/>
              <p:cNvSpPr/>
              <p:nvPr/>
            </p:nvSpPr>
            <p:spPr>
              <a:xfrm>
                <a:off x="2451240" y="4473720"/>
                <a:ext cx="11649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3819600" y="4473720"/>
                <a:ext cx="90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3862440" y="4473720"/>
                <a:ext cx="620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32" name=""/>
              <p:cNvGrpSpPr/>
              <p:nvPr/>
            </p:nvGrpSpPr>
            <p:grpSpPr>
              <a:xfrm>
                <a:off x="2886120" y="4156200"/>
                <a:ext cx="1438560" cy="614520"/>
                <a:chOff x="2886120" y="4156200"/>
                <a:chExt cx="1438560" cy="614520"/>
              </a:xfrm>
            </p:grpSpPr>
            <p:sp>
              <p:nvSpPr>
                <p:cNvPr id="1933" name=""/>
                <p:cNvSpPr/>
                <p:nvPr/>
              </p:nvSpPr>
              <p:spPr>
                <a:xfrm>
                  <a:off x="3230640" y="4629240"/>
                  <a:ext cx="647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34" name=""/>
                <p:cNvGrpSpPr/>
                <p:nvPr/>
              </p:nvGrpSpPr>
              <p:grpSpPr>
                <a:xfrm>
                  <a:off x="2886120" y="4156200"/>
                  <a:ext cx="1438560" cy="614520"/>
                  <a:chOff x="2886120" y="4156200"/>
                  <a:chExt cx="1438560" cy="614520"/>
                </a:xfrm>
              </p:grpSpPr>
              <p:grpSp>
                <p:nvGrpSpPr>
                  <p:cNvPr id="1935" name=""/>
                  <p:cNvGrpSpPr/>
                  <p:nvPr/>
                </p:nvGrpSpPr>
                <p:grpSpPr>
                  <a:xfrm>
                    <a:off x="3875040" y="4156200"/>
                    <a:ext cx="449640" cy="614520"/>
                    <a:chOff x="3875040" y="4156200"/>
                    <a:chExt cx="449640" cy="614520"/>
                  </a:xfrm>
                </p:grpSpPr>
                <p:sp>
                  <p:nvSpPr>
                    <p:cNvPr id="1936" name=""/>
                    <p:cNvSpPr/>
                    <p:nvPr/>
                  </p:nvSpPr>
                  <p:spPr>
                    <a:xfrm>
                      <a:off x="3875040" y="4156200"/>
                      <a:ext cx="0" cy="61416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7" name=""/>
                    <p:cNvSpPr/>
                    <p:nvPr/>
                  </p:nvSpPr>
                  <p:spPr>
                    <a:xfrm>
                      <a:off x="3875040" y="4156200"/>
                      <a:ext cx="33516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-51120" bIns="-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8" name=""/>
                    <p:cNvSpPr/>
                    <p:nvPr/>
                  </p:nvSpPr>
                  <p:spPr>
                    <a:xfrm>
                      <a:off x="4295880" y="4249800"/>
                      <a:ext cx="0" cy="4492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9" name=""/>
                    <p:cNvSpPr/>
                    <p:nvPr/>
                  </p:nvSpPr>
                  <p:spPr>
                    <a:xfrm>
                      <a:off x="3875040" y="4305240"/>
                      <a:ext cx="33516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-51120" bIns="-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0" name=""/>
                    <p:cNvSpPr/>
                    <p:nvPr/>
                  </p:nvSpPr>
                  <p:spPr>
                    <a:xfrm>
                      <a:off x="3875040" y="4622760"/>
                      <a:ext cx="34776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-51120" bIns="-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1" name=""/>
                    <p:cNvSpPr/>
                    <p:nvPr/>
                  </p:nvSpPr>
                  <p:spPr>
                    <a:xfrm>
                      <a:off x="4113720" y="4345200"/>
                      <a:ext cx="210960" cy="2390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fill="none" w="586" h="664">
                          <a:moveTo>
                            <a:pt x="586" y="664"/>
                          </a:moveTo>
                          <a:lnTo>
                            <a:pt x="586" y="664"/>
                          </a:lnTo>
                          <a:lnTo>
                            <a:pt x="586" y="664"/>
                          </a:lnTo>
                          <a:cubicBezTo>
                            <a:pt x="586" y="547"/>
                            <a:pt x="558" y="433"/>
                            <a:pt x="506" y="332"/>
                          </a:cubicBezTo>
                          <a:cubicBezTo>
                            <a:pt x="454" y="231"/>
                            <a:pt x="378" y="147"/>
                            <a:pt x="287" y="89"/>
                          </a:cubicBezTo>
                          <a:cubicBezTo>
                            <a:pt x="200" y="33"/>
                            <a:pt x="101" y="2"/>
                            <a:pt x="0" y="0"/>
                          </a:cubicBezTo>
                        </a:path>
                      </a:pathLst>
                    </a:custGeom>
                    <a:ln w="12600">
                      <a:solidFill>
                        <a:srgbClr val="ffffff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942" name=""/>
                    <p:cNvGrpSpPr/>
                    <p:nvPr/>
                  </p:nvGrpSpPr>
                  <p:grpSpPr>
                    <a:xfrm>
                      <a:off x="4195080" y="4156200"/>
                      <a:ext cx="104400" cy="150840"/>
                      <a:chOff x="4195080" y="4156200"/>
                      <a:chExt cx="104400" cy="150840"/>
                    </a:xfrm>
                  </p:grpSpPr>
                  <p:sp>
                    <p:nvSpPr>
                      <p:cNvPr id="1943" name=""/>
                      <p:cNvSpPr/>
                      <p:nvPr/>
                    </p:nvSpPr>
                    <p:spPr>
                      <a:xfrm>
                        <a:off x="4195800" y="4156200"/>
                        <a:ext cx="103680" cy="7416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fill="none" w="288" h="206">
                            <a:moveTo>
                              <a:pt x="288" y="206"/>
                            </a:moveTo>
                            <a:lnTo>
                              <a:pt x="288" y="206"/>
                            </a:lnTo>
                            <a:lnTo>
                              <a:pt x="288" y="206"/>
                            </a:lnTo>
                            <a:cubicBezTo>
                              <a:pt x="288" y="170"/>
                              <a:pt x="275" y="134"/>
                              <a:pt x="249" y="103"/>
                            </a:cubicBezTo>
                            <a:cubicBezTo>
                              <a:pt x="224" y="72"/>
                              <a:pt x="188" y="46"/>
                              <a:pt x="144" y="28"/>
                            </a:cubicBezTo>
                            <a:cubicBezTo>
                              <a:pt x="100" y="10"/>
                              <a:pt x="51" y="0"/>
                              <a:pt x="0" y="0"/>
                            </a:cubicBezTo>
                          </a:path>
                        </a:pathLst>
                      </a:custGeom>
                      <a:ln w="12600">
                        <a:solidFill>
                          <a:srgbClr val="ffffff"/>
                        </a:solidFill>
                        <a:round/>
                      </a:ln>
                    </p:spPr>
                    <p:txBody>
                      <a:bodyPr lIns="96120" rIns="96120" tIns="23040" bIns="23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4" name=""/>
                      <p:cNvSpPr/>
                      <p:nvPr/>
                    </p:nvSpPr>
                    <p:spPr>
                      <a:xfrm>
                        <a:off x="4195080" y="4232880"/>
                        <a:ext cx="102600" cy="7416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fill="none" w="285" h="206">
                            <a:moveTo>
                              <a:pt x="0" y="206"/>
                            </a:moveTo>
                            <a:lnTo>
                              <a:pt x="0" y="206"/>
                            </a:lnTo>
                            <a:cubicBezTo>
                              <a:pt x="50" y="206"/>
                              <a:pt x="99" y="196"/>
                              <a:pt x="143" y="178"/>
                            </a:cubicBezTo>
                            <a:cubicBezTo>
                              <a:pt x="186" y="160"/>
                              <a:pt x="222" y="134"/>
                              <a:pt x="247" y="103"/>
                            </a:cubicBezTo>
                            <a:cubicBezTo>
                              <a:pt x="272" y="72"/>
                              <a:pt x="285" y="36"/>
                              <a:pt x="285" y="0"/>
                            </a:cubicBezTo>
                          </a:path>
                        </a:pathLst>
                      </a:custGeom>
                      <a:ln w="12600">
                        <a:solidFill>
                          <a:srgbClr val="ffffff"/>
                        </a:solidFill>
                        <a:round/>
                      </a:ln>
                    </p:spPr>
                    <p:txBody>
                      <a:bodyPr lIns="96120" rIns="96120" tIns="23040" bIns="23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45" name=""/>
                    <p:cNvGrpSpPr/>
                    <p:nvPr/>
                  </p:nvGrpSpPr>
                  <p:grpSpPr>
                    <a:xfrm>
                      <a:off x="4214160" y="4621320"/>
                      <a:ext cx="85320" cy="149400"/>
                      <a:chOff x="4214160" y="4621320"/>
                      <a:chExt cx="85320" cy="149400"/>
                    </a:xfrm>
                  </p:grpSpPr>
                  <p:sp>
                    <p:nvSpPr>
                      <p:cNvPr id="1946" name=""/>
                      <p:cNvSpPr/>
                      <p:nvPr/>
                    </p:nvSpPr>
                    <p:spPr>
                      <a:xfrm>
                        <a:off x="4214880" y="4621320"/>
                        <a:ext cx="84600" cy="7416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fill="none" w="235" h="206">
                            <a:moveTo>
                              <a:pt x="235" y="206"/>
                            </a:moveTo>
                            <a:lnTo>
                              <a:pt x="235" y="206"/>
                            </a:lnTo>
                            <a:lnTo>
                              <a:pt x="235" y="206"/>
                            </a:lnTo>
                            <a:cubicBezTo>
                              <a:pt x="235" y="170"/>
                              <a:pt x="224" y="134"/>
                              <a:pt x="204" y="103"/>
                            </a:cubicBezTo>
                            <a:cubicBezTo>
                              <a:pt x="183" y="72"/>
                              <a:pt x="153" y="46"/>
                              <a:pt x="117" y="28"/>
                            </a:cubicBezTo>
                            <a:cubicBezTo>
                              <a:pt x="82" y="10"/>
                              <a:pt x="41" y="0"/>
                              <a:pt x="0" y="0"/>
                            </a:cubicBezTo>
                          </a:path>
                        </a:pathLst>
                      </a:custGeom>
                      <a:ln w="12600">
                        <a:solidFill>
                          <a:srgbClr val="ffffff"/>
                        </a:solidFill>
                        <a:round/>
                      </a:ln>
                    </p:spPr>
                    <p:txBody>
                      <a:bodyPr lIns="96120" rIns="96120" tIns="23040" bIns="23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7" name=""/>
                      <p:cNvSpPr/>
                      <p:nvPr/>
                    </p:nvSpPr>
                    <p:spPr>
                      <a:xfrm>
                        <a:off x="4214160" y="4696560"/>
                        <a:ext cx="83520" cy="7416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fill="none" w="232" h="206">
                            <a:moveTo>
                              <a:pt x="0" y="206"/>
                            </a:moveTo>
                            <a:lnTo>
                              <a:pt x="0" y="206"/>
                            </a:lnTo>
                            <a:cubicBezTo>
                              <a:pt x="41" y="206"/>
                              <a:pt x="81" y="196"/>
                              <a:pt x="116" y="178"/>
                            </a:cubicBezTo>
                            <a:cubicBezTo>
                              <a:pt x="151" y="160"/>
                              <a:pt x="181" y="134"/>
                              <a:pt x="201" y="103"/>
                            </a:cubicBezTo>
                            <a:cubicBezTo>
                              <a:pt x="221" y="72"/>
                              <a:pt x="232" y="36"/>
                              <a:pt x="232" y="0"/>
                            </a:cubicBezTo>
                          </a:path>
                        </a:pathLst>
                      </a:custGeom>
                      <a:ln w="12600">
                        <a:solidFill>
                          <a:srgbClr val="ffffff"/>
                        </a:solidFill>
                        <a:round/>
                      </a:ln>
                    </p:spPr>
                    <p:txBody>
                      <a:bodyPr lIns="96120" rIns="96120" tIns="23040" bIns="23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948" name=""/>
                    <p:cNvSpPr/>
                    <p:nvPr/>
                  </p:nvSpPr>
                  <p:spPr>
                    <a:xfrm>
                      <a:off x="3882960" y="4770360"/>
                      <a:ext cx="33984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-51120" bIns="-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49" name=""/>
                  <p:cNvGrpSpPr/>
                  <p:nvPr/>
                </p:nvGrpSpPr>
                <p:grpSpPr>
                  <a:xfrm>
                    <a:off x="2886120" y="4311720"/>
                    <a:ext cx="981000" cy="317520"/>
                    <a:chOff x="2886120" y="4311720"/>
                    <a:chExt cx="981000" cy="317520"/>
                  </a:xfrm>
                </p:grpSpPr>
                <p:sp>
                  <p:nvSpPr>
                    <p:cNvPr id="1950" name=""/>
                    <p:cNvSpPr/>
                    <p:nvPr/>
                  </p:nvSpPr>
                  <p:spPr>
                    <a:xfrm>
                      <a:off x="3228840" y="4311720"/>
                      <a:ext cx="63828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-51120" bIns="-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1" name=""/>
                    <p:cNvSpPr/>
                    <p:nvPr/>
                  </p:nvSpPr>
                  <p:spPr>
                    <a:xfrm>
                      <a:off x="3797280" y="4314960"/>
                      <a:ext cx="0" cy="3142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2" name=""/>
                    <p:cNvSpPr/>
                    <p:nvPr/>
                  </p:nvSpPr>
                  <p:spPr>
                    <a:xfrm>
                      <a:off x="3233880" y="4354560"/>
                      <a:ext cx="56664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custDash>
                        <a:ds d="402857" sp="402857"/>
                      </a:custDash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-51120" bIns="-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3" name=""/>
                    <p:cNvSpPr/>
                    <p:nvPr/>
                  </p:nvSpPr>
                  <p:spPr>
                    <a:xfrm>
                      <a:off x="3228840" y="4589640"/>
                      <a:ext cx="56520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custDash>
                        <a:ds d="402857" sp="402857"/>
                      </a:custDash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-51120" bIns="-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4" name=""/>
                    <p:cNvSpPr/>
                    <p:nvPr/>
                  </p:nvSpPr>
                  <p:spPr>
                    <a:xfrm>
                      <a:off x="3233880" y="4317840"/>
                      <a:ext cx="0" cy="3096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5" name=""/>
                    <p:cNvSpPr/>
                    <p:nvPr/>
                  </p:nvSpPr>
                  <p:spPr>
                    <a:xfrm flipH="1">
                      <a:off x="2886120" y="4359240"/>
                      <a:ext cx="81000" cy="11124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6" name=""/>
                    <p:cNvSpPr/>
                    <p:nvPr/>
                  </p:nvSpPr>
                  <p:spPr>
                    <a:xfrm>
                      <a:off x="2886120" y="4470480"/>
                      <a:ext cx="77760" cy="11736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7" name=""/>
                    <p:cNvSpPr/>
                    <p:nvPr/>
                  </p:nvSpPr>
                  <p:spPr>
                    <a:xfrm>
                      <a:off x="2968560" y="4354560"/>
                      <a:ext cx="0" cy="23004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8" name=""/>
                    <p:cNvSpPr/>
                    <p:nvPr/>
                  </p:nvSpPr>
                  <p:spPr>
                    <a:xfrm flipH="1">
                      <a:off x="3043080" y="4311720"/>
                      <a:ext cx="16380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custDash>
                        <a:ds d="402857" sp="402857"/>
                      </a:custDash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-51120" bIns="-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9" name=""/>
                    <p:cNvSpPr/>
                    <p:nvPr/>
                  </p:nvSpPr>
                  <p:spPr>
                    <a:xfrm flipH="1">
                      <a:off x="3043080" y="4627440"/>
                      <a:ext cx="16668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custDash>
                        <a:ds d="402857" sp="402857"/>
                      </a:custDash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-51120" bIns="-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0" name=""/>
                    <p:cNvSpPr/>
                    <p:nvPr/>
                  </p:nvSpPr>
                  <p:spPr>
                    <a:xfrm>
                      <a:off x="3040200" y="4311720"/>
                      <a:ext cx="0" cy="3142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custDash>
                        <a:ds d="402857" sp="402857"/>
                      </a:custDash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1" name=""/>
                    <p:cNvSpPr/>
                    <p:nvPr/>
                  </p:nvSpPr>
                  <p:spPr>
                    <a:xfrm>
                      <a:off x="3187800" y="4354560"/>
                      <a:ext cx="0" cy="2332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2" name=""/>
                    <p:cNvSpPr/>
                    <p:nvPr/>
                  </p:nvSpPr>
                  <p:spPr>
                    <a:xfrm flipH="1">
                      <a:off x="3191040" y="4313160"/>
                      <a:ext cx="42840" cy="4284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-8280" bIns="-8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3" name=""/>
                    <p:cNvSpPr/>
                    <p:nvPr/>
                  </p:nvSpPr>
                  <p:spPr>
                    <a:xfrm flipH="1" flipV="1">
                      <a:off x="3187800" y="4584600"/>
                      <a:ext cx="42840" cy="4284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-8280" bIns="-8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4" name=""/>
                    <p:cNvSpPr/>
                    <p:nvPr/>
                  </p:nvSpPr>
                  <p:spPr>
                    <a:xfrm flipH="1">
                      <a:off x="2968560" y="4354560"/>
                      <a:ext cx="22248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-51120" bIns="-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5" name=""/>
                    <p:cNvSpPr/>
                    <p:nvPr/>
                  </p:nvSpPr>
                  <p:spPr>
                    <a:xfrm flipH="1">
                      <a:off x="2962440" y="4589640"/>
                      <a:ext cx="22536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-51120" bIns="-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966" name=""/>
              <p:cNvSpPr/>
              <p:nvPr/>
            </p:nvSpPr>
            <p:spPr>
              <a:xfrm>
                <a:off x="3683160" y="4473720"/>
                <a:ext cx="85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7" name=""/>
            <p:cNvGrpSpPr/>
            <p:nvPr/>
          </p:nvGrpSpPr>
          <p:grpSpPr>
            <a:xfrm>
              <a:off x="2454120" y="1495440"/>
              <a:ext cx="2032200" cy="614880"/>
              <a:chOff x="2454120" y="1495440"/>
              <a:chExt cx="2032200" cy="614880"/>
            </a:xfrm>
          </p:grpSpPr>
          <p:sp>
            <p:nvSpPr>
              <p:cNvPr id="1968" name=""/>
              <p:cNvSpPr/>
              <p:nvPr/>
            </p:nvSpPr>
            <p:spPr>
              <a:xfrm>
                <a:off x="2454120" y="1812960"/>
                <a:ext cx="1165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3822840" y="1812960"/>
                <a:ext cx="90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3865680" y="1812960"/>
                <a:ext cx="620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71" name=""/>
              <p:cNvGrpSpPr/>
              <p:nvPr/>
            </p:nvGrpSpPr>
            <p:grpSpPr>
              <a:xfrm>
                <a:off x="2889360" y="1495440"/>
                <a:ext cx="1438560" cy="614880"/>
                <a:chOff x="2889360" y="1495440"/>
                <a:chExt cx="1438560" cy="614880"/>
              </a:xfrm>
            </p:grpSpPr>
            <p:sp>
              <p:nvSpPr>
                <p:cNvPr id="1972" name=""/>
                <p:cNvSpPr/>
                <p:nvPr/>
              </p:nvSpPr>
              <p:spPr>
                <a:xfrm>
                  <a:off x="3233880" y="1968480"/>
                  <a:ext cx="647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73" name=""/>
                <p:cNvGrpSpPr/>
                <p:nvPr/>
              </p:nvGrpSpPr>
              <p:grpSpPr>
                <a:xfrm>
                  <a:off x="2889360" y="1495440"/>
                  <a:ext cx="1438560" cy="614880"/>
                  <a:chOff x="2889360" y="1495440"/>
                  <a:chExt cx="1438560" cy="614880"/>
                </a:xfrm>
              </p:grpSpPr>
              <p:grpSp>
                <p:nvGrpSpPr>
                  <p:cNvPr id="1974" name=""/>
                  <p:cNvGrpSpPr/>
                  <p:nvPr/>
                </p:nvGrpSpPr>
                <p:grpSpPr>
                  <a:xfrm>
                    <a:off x="3878280" y="1495440"/>
                    <a:ext cx="449640" cy="614880"/>
                    <a:chOff x="3878280" y="1495440"/>
                    <a:chExt cx="449640" cy="614880"/>
                  </a:xfrm>
                </p:grpSpPr>
                <p:sp>
                  <p:nvSpPr>
                    <p:cNvPr id="1975" name=""/>
                    <p:cNvSpPr/>
                    <p:nvPr/>
                  </p:nvSpPr>
                  <p:spPr>
                    <a:xfrm>
                      <a:off x="3878280" y="1495440"/>
                      <a:ext cx="0" cy="6145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6" name=""/>
                    <p:cNvSpPr/>
                    <p:nvPr/>
                  </p:nvSpPr>
                  <p:spPr>
                    <a:xfrm>
                      <a:off x="3878280" y="1495440"/>
                      <a:ext cx="33480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-51120" bIns="-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7" name=""/>
                    <p:cNvSpPr/>
                    <p:nvPr/>
                  </p:nvSpPr>
                  <p:spPr>
                    <a:xfrm>
                      <a:off x="4299120" y="1589040"/>
                      <a:ext cx="0" cy="4492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8" name=""/>
                    <p:cNvSpPr/>
                    <p:nvPr/>
                  </p:nvSpPr>
                  <p:spPr>
                    <a:xfrm>
                      <a:off x="3878280" y="1644480"/>
                      <a:ext cx="33480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-51120" bIns="-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9" name=""/>
                    <p:cNvSpPr/>
                    <p:nvPr/>
                  </p:nvSpPr>
                  <p:spPr>
                    <a:xfrm>
                      <a:off x="3878280" y="1962000"/>
                      <a:ext cx="34776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-51120" bIns="-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0" name=""/>
                    <p:cNvSpPr/>
                    <p:nvPr/>
                  </p:nvSpPr>
                  <p:spPr>
                    <a:xfrm>
                      <a:off x="4116960" y="1684440"/>
                      <a:ext cx="210960" cy="2390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fill="none" w="586" h="664">
                          <a:moveTo>
                            <a:pt x="586" y="664"/>
                          </a:moveTo>
                          <a:lnTo>
                            <a:pt x="586" y="664"/>
                          </a:lnTo>
                          <a:lnTo>
                            <a:pt x="586" y="664"/>
                          </a:lnTo>
                          <a:cubicBezTo>
                            <a:pt x="586" y="547"/>
                            <a:pt x="558" y="433"/>
                            <a:pt x="506" y="332"/>
                          </a:cubicBezTo>
                          <a:cubicBezTo>
                            <a:pt x="454" y="231"/>
                            <a:pt x="378" y="147"/>
                            <a:pt x="287" y="89"/>
                          </a:cubicBezTo>
                          <a:cubicBezTo>
                            <a:pt x="200" y="33"/>
                            <a:pt x="101" y="2"/>
                            <a:pt x="0" y="0"/>
                          </a:cubicBezTo>
                        </a:path>
                      </a:pathLst>
                    </a:custGeom>
                    <a:ln w="12600">
                      <a:solidFill>
                        <a:srgbClr val="ffffff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981" name=""/>
                    <p:cNvGrpSpPr/>
                    <p:nvPr/>
                  </p:nvGrpSpPr>
                  <p:grpSpPr>
                    <a:xfrm>
                      <a:off x="4197960" y="1495440"/>
                      <a:ext cx="104760" cy="151200"/>
                      <a:chOff x="4197960" y="1495440"/>
                      <a:chExt cx="104760" cy="151200"/>
                    </a:xfrm>
                  </p:grpSpPr>
                  <p:sp>
                    <p:nvSpPr>
                      <p:cNvPr id="1982" name=""/>
                      <p:cNvSpPr/>
                      <p:nvPr/>
                    </p:nvSpPr>
                    <p:spPr>
                      <a:xfrm>
                        <a:off x="4199040" y="1495440"/>
                        <a:ext cx="103680" cy="7416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fill="none" w="288" h="206">
                            <a:moveTo>
                              <a:pt x="288" y="206"/>
                            </a:moveTo>
                            <a:lnTo>
                              <a:pt x="288" y="206"/>
                            </a:lnTo>
                            <a:lnTo>
                              <a:pt x="288" y="206"/>
                            </a:lnTo>
                            <a:cubicBezTo>
                              <a:pt x="288" y="170"/>
                              <a:pt x="275" y="134"/>
                              <a:pt x="249" y="103"/>
                            </a:cubicBezTo>
                            <a:cubicBezTo>
                              <a:pt x="224" y="72"/>
                              <a:pt x="188" y="46"/>
                              <a:pt x="144" y="28"/>
                            </a:cubicBezTo>
                            <a:cubicBezTo>
                              <a:pt x="100" y="10"/>
                              <a:pt x="51" y="0"/>
                              <a:pt x="0" y="0"/>
                            </a:cubicBezTo>
                          </a:path>
                        </a:pathLst>
                      </a:custGeom>
                      <a:ln w="12600">
                        <a:solidFill>
                          <a:srgbClr val="ffffff"/>
                        </a:solidFill>
                        <a:round/>
                      </a:ln>
                    </p:spPr>
                    <p:txBody>
                      <a:bodyPr lIns="96120" rIns="96120" tIns="23040" bIns="23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83" name=""/>
                      <p:cNvSpPr/>
                      <p:nvPr/>
                    </p:nvSpPr>
                    <p:spPr>
                      <a:xfrm>
                        <a:off x="4197960" y="1572480"/>
                        <a:ext cx="102600" cy="7416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fill="none" w="285" h="206">
                            <a:moveTo>
                              <a:pt x="0" y="206"/>
                            </a:moveTo>
                            <a:lnTo>
                              <a:pt x="0" y="206"/>
                            </a:lnTo>
                            <a:cubicBezTo>
                              <a:pt x="50" y="206"/>
                              <a:pt x="99" y="196"/>
                              <a:pt x="143" y="178"/>
                            </a:cubicBezTo>
                            <a:cubicBezTo>
                              <a:pt x="186" y="160"/>
                              <a:pt x="222" y="134"/>
                              <a:pt x="247" y="103"/>
                            </a:cubicBezTo>
                            <a:cubicBezTo>
                              <a:pt x="272" y="72"/>
                              <a:pt x="285" y="36"/>
                              <a:pt x="285" y="0"/>
                            </a:cubicBezTo>
                          </a:path>
                        </a:pathLst>
                      </a:custGeom>
                      <a:ln w="12600">
                        <a:solidFill>
                          <a:srgbClr val="ffffff"/>
                        </a:solidFill>
                        <a:round/>
                      </a:ln>
                    </p:spPr>
                    <p:txBody>
                      <a:bodyPr lIns="96120" rIns="96120" tIns="23040" bIns="23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84" name=""/>
                    <p:cNvGrpSpPr/>
                    <p:nvPr/>
                  </p:nvGrpSpPr>
                  <p:grpSpPr>
                    <a:xfrm>
                      <a:off x="4217040" y="1960560"/>
                      <a:ext cx="85680" cy="149760"/>
                      <a:chOff x="4217040" y="1960560"/>
                      <a:chExt cx="85680" cy="149760"/>
                    </a:xfrm>
                  </p:grpSpPr>
                  <p:sp>
                    <p:nvSpPr>
                      <p:cNvPr id="1985" name=""/>
                      <p:cNvSpPr/>
                      <p:nvPr/>
                    </p:nvSpPr>
                    <p:spPr>
                      <a:xfrm>
                        <a:off x="4218120" y="1960560"/>
                        <a:ext cx="84600" cy="7416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fill="none" w="235" h="206">
                            <a:moveTo>
                              <a:pt x="235" y="206"/>
                            </a:moveTo>
                            <a:lnTo>
                              <a:pt x="235" y="206"/>
                            </a:lnTo>
                            <a:lnTo>
                              <a:pt x="235" y="206"/>
                            </a:lnTo>
                            <a:cubicBezTo>
                              <a:pt x="235" y="170"/>
                              <a:pt x="224" y="134"/>
                              <a:pt x="204" y="103"/>
                            </a:cubicBezTo>
                            <a:cubicBezTo>
                              <a:pt x="183" y="72"/>
                              <a:pt x="153" y="46"/>
                              <a:pt x="117" y="28"/>
                            </a:cubicBezTo>
                            <a:cubicBezTo>
                              <a:pt x="82" y="10"/>
                              <a:pt x="41" y="0"/>
                              <a:pt x="0" y="0"/>
                            </a:cubicBezTo>
                          </a:path>
                        </a:pathLst>
                      </a:custGeom>
                      <a:ln w="12600">
                        <a:solidFill>
                          <a:srgbClr val="ffffff"/>
                        </a:solidFill>
                        <a:round/>
                      </a:ln>
                    </p:spPr>
                    <p:txBody>
                      <a:bodyPr lIns="96120" rIns="96120" tIns="23040" bIns="23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86" name=""/>
                      <p:cNvSpPr/>
                      <p:nvPr/>
                    </p:nvSpPr>
                    <p:spPr>
                      <a:xfrm>
                        <a:off x="4217040" y="2036160"/>
                        <a:ext cx="83520" cy="7416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fill="none" w="232" h="206">
                            <a:moveTo>
                              <a:pt x="0" y="206"/>
                            </a:moveTo>
                            <a:lnTo>
                              <a:pt x="0" y="206"/>
                            </a:lnTo>
                            <a:cubicBezTo>
                              <a:pt x="41" y="206"/>
                              <a:pt x="81" y="196"/>
                              <a:pt x="116" y="178"/>
                            </a:cubicBezTo>
                            <a:cubicBezTo>
                              <a:pt x="151" y="160"/>
                              <a:pt x="181" y="134"/>
                              <a:pt x="201" y="103"/>
                            </a:cubicBezTo>
                            <a:cubicBezTo>
                              <a:pt x="221" y="72"/>
                              <a:pt x="232" y="36"/>
                              <a:pt x="232" y="0"/>
                            </a:cubicBezTo>
                          </a:path>
                        </a:pathLst>
                      </a:custGeom>
                      <a:ln w="12600">
                        <a:solidFill>
                          <a:srgbClr val="ffffff"/>
                        </a:solidFill>
                        <a:round/>
                      </a:ln>
                    </p:spPr>
                    <p:txBody>
                      <a:bodyPr lIns="96120" rIns="96120" tIns="23040" bIns="23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987" name=""/>
                    <p:cNvSpPr/>
                    <p:nvPr/>
                  </p:nvSpPr>
                  <p:spPr>
                    <a:xfrm>
                      <a:off x="3886200" y="2109960"/>
                      <a:ext cx="33984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-51120" bIns="-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8" name=""/>
                  <p:cNvGrpSpPr/>
                  <p:nvPr/>
                </p:nvGrpSpPr>
                <p:grpSpPr>
                  <a:xfrm>
                    <a:off x="2889360" y="1650960"/>
                    <a:ext cx="981000" cy="317520"/>
                    <a:chOff x="2889360" y="1650960"/>
                    <a:chExt cx="981000" cy="317520"/>
                  </a:xfrm>
                </p:grpSpPr>
                <p:sp>
                  <p:nvSpPr>
                    <p:cNvPr id="1989" name=""/>
                    <p:cNvSpPr/>
                    <p:nvPr/>
                  </p:nvSpPr>
                  <p:spPr>
                    <a:xfrm>
                      <a:off x="3232080" y="1650960"/>
                      <a:ext cx="63828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-51120" bIns="-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0" name=""/>
                    <p:cNvSpPr/>
                    <p:nvPr/>
                  </p:nvSpPr>
                  <p:spPr>
                    <a:xfrm>
                      <a:off x="3800520" y="1654200"/>
                      <a:ext cx="0" cy="3142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1" name=""/>
                    <p:cNvSpPr/>
                    <p:nvPr/>
                  </p:nvSpPr>
                  <p:spPr>
                    <a:xfrm>
                      <a:off x="3236760" y="1693800"/>
                      <a:ext cx="56700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custDash>
                        <a:ds d="402857" sp="402857"/>
                      </a:custDash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-51120" bIns="-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2" name=""/>
                    <p:cNvSpPr/>
                    <p:nvPr/>
                  </p:nvSpPr>
                  <p:spPr>
                    <a:xfrm>
                      <a:off x="3232080" y="1928880"/>
                      <a:ext cx="56520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custDash>
                        <a:ds d="402857" sp="402857"/>
                      </a:custDash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-51120" bIns="-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3" name=""/>
                    <p:cNvSpPr/>
                    <p:nvPr/>
                  </p:nvSpPr>
                  <p:spPr>
                    <a:xfrm>
                      <a:off x="3236760" y="1657440"/>
                      <a:ext cx="0" cy="3096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4" name=""/>
                    <p:cNvSpPr/>
                    <p:nvPr/>
                  </p:nvSpPr>
                  <p:spPr>
                    <a:xfrm flipH="1">
                      <a:off x="2889360" y="1698480"/>
                      <a:ext cx="81000" cy="11124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5" name=""/>
                    <p:cNvSpPr/>
                    <p:nvPr/>
                  </p:nvSpPr>
                  <p:spPr>
                    <a:xfrm>
                      <a:off x="2889360" y="1809720"/>
                      <a:ext cx="77760" cy="11736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6" name=""/>
                    <p:cNvSpPr/>
                    <p:nvPr/>
                  </p:nvSpPr>
                  <p:spPr>
                    <a:xfrm>
                      <a:off x="2971800" y="1693800"/>
                      <a:ext cx="0" cy="2304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7" name=""/>
                    <p:cNvSpPr/>
                    <p:nvPr/>
                  </p:nvSpPr>
                  <p:spPr>
                    <a:xfrm flipH="1">
                      <a:off x="3046320" y="1650960"/>
                      <a:ext cx="16344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custDash>
                        <a:ds d="402857" sp="402857"/>
                      </a:custDash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-51120" bIns="-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8" name=""/>
                    <p:cNvSpPr/>
                    <p:nvPr/>
                  </p:nvSpPr>
                  <p:spPr>
                    <a:xfrm flipH="1">
                      <a:off x="3046320" y="1967040"/>
                      <a:ext cx="16668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custDash>
                        <a:ds d="402857" sp="402857"/>
                      </a:custDash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-51120" bIns="-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9" name=""/>
                    <p:cNvSpPr/>
                    <p:nvPr/>
                  </p:nvSpPr>
                  <p:spPr>
                    <a:xfrm>
                      <a:off x="3043080" y="1650960"/>
                      <a:ext cx="0" cy="3142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custDash>
                        <a:ds d="402857" sp="402857"/>
                      </a:custDash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0" name=""/>
                    <p:cNvSpPr/>
                    <p:nvPr/>
                  </p:nvSpPr>
                  <p:spPr>
                    <a:xfrm>
                      <a:off x="3191040" y="1693800"/>
                      <a:ext cx="0" cy="2332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1" name=""/>
                    <p:cNvSpPr/>
                    <p:nvPr/>
                  </p:nvSpPr>
                  <p:spPr>
                    <a:xfrm flipH="1">
                      <a:off x="3193920" y="1652760"/>
                      <a:ext cx="42840" cy="4284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-8280" bIns="-8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2" name=""/>
                    <p:cNvSpPr/>
                    <p:nvPr/>
                  </p:nvSpPr>
                  <p:spPr>
                    <a:xfrm flipH="1" flipV="1">
                      <a:off x="3191040" y="1924200"/>
                      <a:ext cx="42840" cy="4284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-8280" bIns="-8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3" name=""/>
                    <p:cNvSpPr/>
                    <p:nvPr/>
                  </p:nvSpPr>
                  <p:spPr>
                    <a:xfrm flipH="1">
                      <a:off x="2971800" y="1693800"/>
                      <a:ext cx="22212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-51120" bIns="-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4" name=""/>
                    <p:cNvSpPr/>
                    <p:nvPr/>
                  </p:nvSpPr>
                  <p:spPr>
                    <a:xfrm flipH="1">
                      <a:off x="2965320" y="1928880"/>
                      <a:ext cx="22572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-51120" bIns="-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005" name=""/>
              <p:cNvSpPr/>
              <p:nvPr/>
            </p:nvSpPr>
            <p:spPr>
              <a:xfrm>
                <a:off x="3686040" y="1812960"/>
                <a:ext cx="86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6" name=""/>
            <p:cNvSpPr/>
            <p:nvPr/>
          </p:nvSpPr>
          <p:spPr>
            <a:xfrm flipH="1">
              <a:off x="2127240" y="2408400"/>
              <a:ext cx="14288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7" name=""/>
          <p:cNvSpPr txBox="1"/>
          <p:nvPr/>
        </p:nvSpPr>
        <p:spPr>
          <a:xfrm>
            <a:off x="2101680" y="5931000"/>
            <a:ext cx="18730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ting P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"/>
          <p:cNvSpPr txBox="1"/>
          <p:nvPr/>
        </p:nvSpPr>
        <p:spPr>
          <a:xfrm>
            <a:off x="165240" y="236520"/>
            <a:ext cx="39085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 u="sng">
                <a:solidFill>
                  <a:srgbClr val="fc0128"/>
                </a:solidFill>
                <a:uFillTx/>
                <a:latin typeface="Times New Roman"/>
                <a:ea typeface="Times New Roman"/>
              </a:rPr>
              <a:t>Parts 1 and 2 in Assemb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9" name=""/>
          <p:cNvGrpSpPr/>
          <p:nvPr/>
        </p:nvGrpSpPr>
        <p:grpSpPr>
          <a:xfrm>
            <a:off x="5702400" y="5699160"/>
            <a:ext cx="2266920" cy="325440"/>
            <a:chOff x="5702400" y="5699160"/>
            <a:chExt cx="2266920" cy="325440"/>
          </a:xfrm>
        </p:grpSpPr>
        <p:sp>
          <p:nvSpPr>
            <p:cNvPr id="2010" name=""/>
            <p:cNvSpPr/>
            <p:nvPr/>
          </p:nvSpPr>
          <p:spPr>
            <a:xfrm>
              <a:off x="5702400" y="5699160"/>
              <a:ext cx="2266920" cy="30168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1" name=""/>
            <p:cNvGrpSpPr/>
            <p:nvPr/>
          </p:nvGrpSpPr>
          <p:grpSpPr>
            <a:xfrm>
              <a:off x="5799240" y="5740560"/>
              <a:ext cx="214200" cy="218880"/>
              <a:chOff x="5799240" y="5740560"/>
              <a:chExt cx="214200" cy="218880"/>
            </a:xfrm>
          </p:grpSpPr>
          <p:sp>
            <p:nvSpPr>
              <p:cNvPr id="2012" name=""/>
              <p:cNvSpPr/>
              <p:nvPr/>
            </p:nvSpPr>
            <p:spPr>
              <a:xfrm>
                <a:off x="5821200" y="5765760"/>
                <a:ext cx="171360" cy="17136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5907240" y="5740560"/>
                <a:ext cx="0" cy="21888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5799240" y="5851440"/>
                <a:ext cx="21420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5" name=""/>
            <p:cNvSpPr/>
            <p:nvPr/>
          </p:nvSpPr>
          <p:spPr>
            <a:xfrm>
              <a:off x="6111720" y="5710320"/>
              <a:ext cx="0" cy="27612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6" name=""/>
            <p:cNvGrpSpPr/>
            <p:nvPr/>
          </p:nvGrpSpPr>
          <p:grpSpPr>
            <a:xfrm>
              <a:off x="6168960" y="5767560"/>
              <a:ext cx="171360" cy="171360"/>
              <a:chOff x="6168960" y="5767560"/>
              <a:chExt cx="171360" cy="171360"/>
            </a:xfrm>
          </p:grpSpPr>
          <p:sp>
            <p:nvSpPr>
              <p:cNvPr id="2017" name=""/>
              <p:cNvSpPr/>
              <p:nvPr/>
            </p:nvSpPr>
            <p:spPr>
              <a:xfrm>
                <a:off x="6192720" y="5786280"/>
                <a:ext cx="133200" cy="13320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 flipH="1">
                <a:off x="6168960" y="5767560"/>
                <a:ext cx="171360" cy="17136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9" name=""/>
            <p:cNvSpPr txBox="1"/>
            <p:nvPr/>
          </p:nvSpPr>
          <p:spPr>
            <a:xfrm>
              <a:off x="6369120" y="5710320"/>
              <a:ext cx="4316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0.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0" name=""/>
            <p:cNvGrpSpPr/>
            <p:nvPr/>
          </p:nvGrpSpPr>
          <p:grpSpPr>
            <a:xfrm>
              <a:off x="6780240" y="5713560"/>
              <a:ext cx="331920" cy="304920"/>
              <a:chOff x="6780240" y="5713560"/>
              <a:chExt cx="331920" cy="304920"/>
            </a:xfrm>
          </p:grpSpPr>
          <p:sp>
            <p:nvSpPr>
              <p:cNvPr id="2021" name=""/>
              <p:cNvSpPr/>
              <p:nvPr/>
            </p:nvSpPr>
            <p:spPr>
              <a:xfrm>
                <a:off x="6845400" y="5753160"/>
                <a:ext cx="190440" cy="190440"/>
              </a:xfrm>
              <a:prstGeom prst="ellipse">
                <a:avLst/>
              </a:prstGeom>
              <a:noFill/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"/>
              <p:cNvSpPr txBox="1"/>
              <p:nvPr/>
            </p:nvSpPr>
            <p:spPr>
              <a:xfrm>
                <a:off x="6780240" y="5713560"/>
                <a:ext cx="33192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M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3" name=""/>
            <p:cNvSpPr/>
            <p:nvPr/>
          </p:nvSpPr>
          <p:spPr>
            <a:xfrm>
              <a:off x="7121520" y="5710320"/>
              <a:ext cx="0" cy="28584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"/>
            <p:cNvSpPr txBox="1"/>
            <p:nvPr/>
          </p:nvSpPr>
          <p:spPr>
            <a:xfrm>
              <a:off x="7118280" y="5719680"/>
              <a:ext cx="3031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7435800" y="5715000"/>
              <a:ext cx="0" cy="28116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"/>
            <p:cNvSpPr txBox="1"/>
            <p:nvPr/>
          </p:nvSpPr>
          <p:spPr>
            <a:xfrm>
              <a:off x="7410600" y="5719680"/>
              <a:ext cx="3031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7" name=""/>
            <p:cNvGrpSpPr/>
            <p:nvPr/>
          </p:nvGrpSpPr>
          <p:grpSpPr>
            <a:xfrm>
              <a:off x="7628040" y="5713560"/>
              <a:ext cx="331920" cy="304920"/>
              <a:chOff x="7628040" y="5713560"/>
              <a:chExt cx="331920" cy="304920"/>
            </a:xfrm>
          </p:grpSpPr>
          <p:sp>
            <p:nvSpPr>
              <p:cNvPr id="2028" name=""/>
              <p:cNvSpPr/>
              <p:nvPr/>
            </p:nvSpPr>
            <p:spPr>
              <a:xfrm>
                <a:off x="7693200" y="5753160"/>
                <a:ext cx="190440" cy="190440"/>
              </a:xfrm>
              <a:prstGeom prst="ellipse">
                <a:avLst/>
              </a:prstGeom>
              <a:noFill/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"/>
              <p:cNvSpPr txBox="1"/>
              <p:nvPr/>
            </p:nvSpPr>
            <p:spPr>
              <a:xfrm>
                <a:off x="7628040" y="5713560"/>
                <a:ext cx="33192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M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0" name=""/>
            <p:cNvSpPr/>
            <p:nvPr/>
          </p:nvSpPr>
          <p:spPr>
            <a:xfrm>
              <a:off x="7661160" y="5730840"/>
              <a:ext cx="231840" cy="23184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6816600" y="5732640"/>
              <a:ext cx="246240" cy="24624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um Feature Material Condition Spec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"/>
          <p:cNvSpPr txBox="1"/>
          <p:nvPr/>
        </p:nvSpPr>
        <p:spPr>
          <a:xfrm>
            <a:off x="577800" y="1994040"/>
            <a:ext cx="803448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asurements made from a datum reference frame do </a:t>
            </a:r>
            <a:r>
              <a:rPr b="1" lang="en-US" sz="2800" spc="-1" strike="noStrike" u="sng">
                <a:solidFill>
                  <a:srgbClr val="fd0000"/>
                </a:solidFill>
                <a:uFillTx/>
                <a:latin typeface="Times New Roman"/>
                <a:ea typeface="Times New Roman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ake into account any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variations and/or defect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the specified datum fea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deration should be given to controlling the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sired accuracy and surface finish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datum features by applying appropriate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eometric toleranc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"/>
          <p:cNvSpPr txBox="1"/>
          <p:nvPr/>
        </p:nvSpPr>
        <p:spPr>
          <a:xfrm>
            <a:off x="669960" y="1343160"/>
            <a:ext cx="777240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NAR FEATURE DATUM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"/>
          <p:cNvSpPr txBox="1"/>
          <p:nvPr/>
        </p:nvSpPr>
        <p:spPr>
          <a:xfrm>
            <a:off x="349200" y="996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some cases, a single datum is sufficient for verific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"/>
          <p:cNvSpPr txBox="1"/>
          <p:nvPr/>
        </p:nvSpPr>
        <p:spPr>
          <a:xfrm>
            <a:off x="2995560" y="223920"/>
            <a:ext cx="28893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Planar Datu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"/>
          <p:cNvSpPr txBox="1"/>
          <p:nvPr/>
        </p:nvSpPr>
        <p:spPr>
          <a:xfrm>
            <a:off x="349200" y="996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114ffb"/>
                </a:solidFill>
                <a:latin typeface="Times New Roman"/>
                <a:ea typeface="Times New Roman"/>
              </a:rPr>
              <a:t>In some cases, a single datum is sufficient for verification.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such is the case, the datum reference is considered the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imary datu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"/>
          <p:cNvSpPr txBox="1"/>
          <p:nvPr/>
        </p:nvSpPr>
        <p:spPr>
          <a:xfrm>
            <a:off x="2995560" y="223920"/>
            <a:ext cx="28893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Planar Datu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"/>
          <p:cNvSpPr txBox="1"/>
          <p:nvPr/>
        </p:nvSpPr>
        <p:spPr>
          <a:xfrm>
            <a:off x="1771560" y="1063800"/>
            <a:ext cx="12891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00dfca"/>
                </a:solidFill>
                <a:uFillTx/>
                <a:latin typeface="Times New Roman"/>
                <a:ea typeface="Times New Roman"/>
              </a:rPr>
              <a:t>DRA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 txBox="1"/>
          <p:nvPr/>
        </p:nvSpPr>
        <p:spPr>
          <a:xfrm>
            <a:off x="1333440" y="320760"/>
            <a:ext cx="61326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ngle (Primary) Datum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5" name=""/>
          <p:cNvGrpSpPr/>
          <p:nvPr/>
        </p:nvGrpSpPr>
        <p:grpSpPr>
          <a:xfrm>
            <a:off x="333360" y="2039760"/>
            <a:ext cx="3090960" cy="3283200"/>
            <a:chOff x="333360" y="2039760"/>
            <a:chExt cx="3090960" cy="3283200"/>
          </a:xfrm>
        </p:grpSpPr>
        <p:sp>
          <p:nvSpPr>
            <p:cNvPr id="2046" name=""/>
            <p:cNvSpPr/>
            <p:nvPr/>
          </p:nvSpPr>
          <p:spPr>
            <a:xfrm>
              <a:off x="2635200" y="4548240"/>
              <a:ext cx="695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1905120" y="2897280"/>
              <a:ext cx="14126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8" name=""/>
            <p:cNvGrpSpPr/>
            <p:nvPr/>
          </p:nvGrpSpPr>
          <p:grpSpPr>
            <a:xfrm>
              <a:off x="333360" y="2039760"/>
              <a:ext cx="1793880" cy="841680"/>
              <a:chOff x="333360" y="2039760"/>
              <a:chExt cx="1793880" cy="841680"/>
            </a:xfrm>
          </p:grpSpPr>
          <p:sp>
            <p:nvSpPr>
              <p:cNvPr id="2049" name=""/>
              <p:cNvSpPr/>
              <p:nvPr/>
            </p:nvSpPr>
            <p:spPr>
              <a:xfrm>
                <a:off x="333360" y="2039760"/>
                <a:ext cx="1397160" cy="3016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809640" y="2039760"/>
                <a:ext cx="0" cy="285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1397160" y="2039760"/>
                <a:ext cx="0" cy="285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 flipH="1">
                <a:off x="452520" y="2106720"/>
                <a:ext cx="109440" cy="163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 flipH="1">
                <a:off x="571680" y="2108160"/>
                <a:ext cx="104760" cy="162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"/>
              <p:cNvSpPr txBox="1"/>
              <p:nvPr/>
            </p:nvSpPr>
            <p:spPr>
              <a:xfrm>
                <a:off x="853920" y="2049480"/>
                <a:ext cx="43164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0.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"/>
              <p:cNvSpPr txBox="1"/>
              <p:nvPr/>
            </p:nvSpPr>
            <p:spPr>
              <a:xfrm>
                <a:off x="1403280" y="2049480"/>
                <a:ext cx="31284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1746360" y="2182680"/>
                <a:ext cx="365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 flipH="1">
                <a:off x="1428840" y="2182680"/>
                <a:ext cx="698400" cy="698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8" name=""/>
            <p:cNvSpPr/>
            <p:nvPr/>
          </p:nvSpPr>
          <p:spPr>
            <a:xfrm>
              <a:off x="3174840" y="2913120"/>
              <a:ext cx="0" cy="428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3174840" y="3992400"/>
              <a:ext cx="0" cy="540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"/>
            <p:cNvSpPr txBox="1"/>
            <p:nvPr/>
          </p:nvSpPr>
          <p:spPr>
            <a:xfrm>
              <a:off x="2894040" y="3365640"/>
              <a:ext cx="5302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0.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0.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1778040" y="2897280"/>
              <a:ext cx="745920" cy="745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"/>
            <p:cNvSpPr/>
            <p:nvPr/>
          </p:nvSpPr>
          <p:spPr>
            <a:xfrm flipH="1">
              <a:off x="873000" y="2897280"/>
              <a:ext cx="905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873000" y="2897280"/>
              <a:ext cx="0" cy="1650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873000" y="4548240"/>
              <a:ext cx="1635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"/>
            <p:cNvSpPr/>
            <p:nvPr/>
          </p:nvSpPr>
          <p:spPr>
            <a:xfrm flipV="1">
              <a:off x="2523960" y="3659040"/>
              <a:ext cx="0" cy="889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2660760" y="4917960"/>
              <a:ext cx="291960" cy="291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"/>
            <p:cNvSpPr/>
            <p:nvPr/>
          </p:nvSpPr>
          <p:spPr>
            <a:xfrm flipV="1">
              <a:off x="2806560" y="4624560"/>
              <a:ext cx="0" cy="293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2725560" y="4552920"/>
              <a:ext cx="165600" cy="165600"/>
            </a:xfrm>
            <a:custGeom>
              <a:avLst/>
              <a:gdLst/>
              <a:ahLst/>
              <a:rect l="0" t="0" r="r" b="b"/>
              <a:pathLst>
                <a:path w="460" h="460">
                  <a:moveTo>
                    <a:pt x="0" y="0"/>
                  </a:moveTo>
                  <a:lnTo>
                    <a:pt x="460" y="0"/>
                  </a:lnTo>
                  <a:lnTo>
                    <a:pt x="230" y="4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"/>
            <p:cNvSpPr txBox="1"/>
            <p:nvPr/>
          </p:nvSpPr>
          <p:spPr>
            <a:xfrm>
              <a:off x="2671920" y="4932360"/>
              <a:ext cx="3128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1471680" y="5011560"/>
              <a:ext cx="0" cy="303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1" name=""/>
            <p:cNvGrpSpPr/>
            <p:nvPr/>
          </p:nvGrpSpPr>
          <p:grpSpPr>
            <a:xfrm>
              <a:off x="776160" y="4552920"/>
              <a:ext cx="1222560" cy="770040"/>
              <a:chOff x="776160" y="4552920"/>
              <a:chExt cx="1222560" cy="770040"/>
            </a:xfrm>
          </p:grpSpPr>
          <p:sp>
            <p:nvSpPr>
              <p:cNvPr id="2072" name=""/>
              <p:cNvSpPr/>
              <p:nvPr/>
            </p:nvSpPr>
            <p:spPr>
              <a:xfrm>
                <a:off x="955800" y="5011560"/>
                <a:ext cx="1042920" cy="3031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1066680" y="5089680"/>
                <a:ext cx="303480" cy="124200"/>
              </a:xfrm>
              <a:custGeom>
                <a:avLst/>
                <a:gdLst/>
                <a:ahLst/>
                <a:rect l="0" t="0" r="r" b="b"/>
                <a:pathLst>
                  <a:path fill="none" w="843" h="345">
                    <a:moveTo>
                      <a:pt x="0" y="345"/>
                    </a:moveTo>
                    <a:lnTo>
                      <a:pt x="590" y="345"/>
                    </a:lnTo>
                    <a:lnTo>
                      <a:pt x="843" y="0"/>
                    </a:lnTo>
                    <a:lnTo>
                      <a:pt x="252" y="0"/>
                    </a:lnTo>
                    <a:lnTo>
                      <a:pt x="0" y="345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"/>
              <p:cNvSpPr txBox="1"/>
              <p:nvPr/>
            </p:nvSpPr>
            <p:spPr>
              <a:xfrm>
                <a:off x="1535040" y="5018040"/>
                <a:ext cx="43164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f2fefd"/>
                    </a:solidFill>
                    <a:latin typeface="Arial"/>
                    <a:ea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 flipH="1">
                <a:off x="776160" y="5157720"/>
                <a:ext cx="179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 flipV="1">
                <a:off x="776160" y="4552920"/>
                <a:ext cx="370080" cy="604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07880" y="1106640"/>
            <a:ext cx="8461440" cy="54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961"/>
              </a:spcBef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Datum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re theoretically exact points, axes, or planes.  They are established by bringing designated </a:t>
            </a:r>
            <a:r>
              <a:rPr b="0" i="1" lang="en-US" sz="24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part features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datum features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)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o contact with a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simulated datu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gage, surface plate, etc</a:t>
            </a:r>
            <a:r>
              <a:rPr b="0" lang="en-US" sz="24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 Geometric relationships, specified in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ature control frame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an then be verified for dimensional accurac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61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ometric characteristics are </a:t>
            </a:r>
            <a:r>
              <a:rPr b="0" lang="en-US" sz="24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verified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in a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datum reference frame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nsisting of three mutually perpendicular datum planes.  The part is oriented and immobilized by bringing the simulated datums into contact with the datum features on the part, following a prescribed </a:t>
            </a:r>
            <a:r>
              <a:rPr b="0" lang="en-US" sz="24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order of precedence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This order of precedence used in the inspection setup procedure, and the resulting restriction of movement imposed by the datum reference frame, makes verification measurements between geometric relationships </a:t>
            </a:r>
            <a:r>
              <a:rPr b="0" lang="en-US" sz="24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measurable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the process </a:t>
            </a:r>
            <a:r>
              <a:rPr b="0" lang="en-US" sz="24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repeatab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22280" y="264960"/>
            <a:ext cx="28764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FOREWORD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"/>
          <p:cNvSpPr txBox="1"/>
          <p:nvPr/>
        </p:nvSpPr>
        <p:spPr>
          <a:xfrm>
            <a:off x="1771560" y="1063800"/>
            <a:ext cx="12891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00dfca"/>
                </a:solidFill>
                <a:uFillTx/>
                <a:latin typeface="Times New Roman"/>
                <a:ea typeface="Times New Roman"/>
              </a:rPr>
              <a:t>DRA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 txBox="1"/>
          <p:nvPr/>
        </p:nvSpPr>
        <p:spPr>
          <a:xfrm>
            <a:off x="5381640" y="1060560"/>
            <a:ext cx="2127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00dfca"/>
                </a:solidFill>
                <a:uFillTx/>
                <a:latin typeface="Times New Roman"/>
                <a:ea typeface="Times New Roman"/>
              </a:rPr>
              <a:t>INTERP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>
            <a:off x="4397400" y="1952640"/>
            <a:ext cx="0" cy="384156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"/>
          <p:cNvSpPr txBox="1"/>
          <p:nvPr/>
        </p:nvSpPr>
        <p:spPr>
          <a:xfrm>
            <a:off x="1333440" y="320760"/>
            <a:ext cx="61326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ngle (Primary) Datum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1" name=""/>
          <p:cNvGrpSpPr/>
          <p:nvPr/>
        </p:nvGrpSpPr>
        <p:grpSpPr>
          <a:xfrm>
            <a:off x="333360" y="2039760"/>
            <a:ext cx="3090960" cy="3283200"/>
            <a:chOff x="333360" y="2039760"/>
            <a:chExt cx="3090960" cy="3283200"/>
          </a:xfrm>
        </p:grpSpPr>
        <p:sp>
          <p:nvSpPr>
            <p:cNvPr id="2082" name=""/>
            <p:cNvSpPr/>
            <p:nvPr/>
          </p:nvSpPr>
          <p:spPr>
            <a:xfrm>
              <a:off x="2635200" y="4548240"/>
              <a:ext cx="695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1905120" y="2897280"/>
              <a:ext cx="14126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4" name=""/>
            <p:cNvGrpSpPr/>
            <p:nvPr/>
          </p:nvGrpSpPr>
          <p:grpSpPr>
            <a:xfrm>
              <a:off x="333360" y="2039760"/>
              <a:ext cx="1793880" cy="841680"/>
              <a:chOff x="333360" y="2039760"/>
              <a:chExt cx="1793880" cy="841680"/>
            </a:xfrm>
          </p:grpSpPr>
          <p:sp>
            <p:nvSpPr>
              <p:cNvPr id="2085" name=""/>
              <p:cNvSpPr/>
              <p:nvPr/>
            </p:nvSpPr>
            <p:spPr>
              <a:xfrm>
                <a:off x="333360" y="2039760"/>
                <a:ext cx="1397160" cy="3016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809640" y="2039760"/>
                <a:ext cx="0" cy="285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1397160" y="2039760"/>
                <a:ext cx="0" cy="285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 flipH="1">
                <a:off x="452520" y="2106720"/>
                <a:ext cx="109440" cy="163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 flipH="1">
                <a:off x="571680" y="2108160"/>
                <a:ext cx="104760" cy="162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"/>
              <p:cNvSpPr txBox="1"/>
              <p:nvPr/>
            </p:nvSpPr>
            <p:spPr>
              <a:xfrm>
                <a:off x="853920" y="2049480"/>
                <a:ext cx="43164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0.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"/>
              <p:cNvSpPr txBox="1"/>
              <p:nvPr/>
            </p:nvSpPr>
            <p:spPr>
              <a:xfrm>
                <a:off x="1403280" y="2049480"/>
                <a:ext cx="31284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1746360" y="2182680"/>
                <a:ext cx="365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 flipH="1">
                <a:off x="1428840" y="2182680"/>
                <a:ext cx="698400" cy="698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4" name=""/>
            <p:cNvSpPr/>
            <p:nvPr/>
          </p:nvSpPr>
          <p:spPr>
            <a:xfrm>
              <a:off x="3174840" y="2913120"/>
              <a:ext cx="0" cy="428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3174840" y="3992400"/>
              <a:ext cx="0" cy="540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"/>
            <p:cNvSpPr txBox="1"/>
            <p:nvPr/>
          </p:nvSpPr>
          <p:spPr>
            <a:xfrm>
              <a:off x="2894040" y="3365640"/>
              <a:ext cx="5302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0.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0.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1778040" y="2897280"/>
              <a:ext cx="745920" cy="745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"/>
            <p:cNvSpPr/>
            <p:nvPr/>
          </p:nvSpPr>
          <p:spPr>
            <a:xfrm flipH="1">
              <a:off x="873000" y="2897280"/>
              <a:ext cx="905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873000" y="2897280"/>
              <a:ext cx="0" cy="1650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873000" y="4548240"/>
              <a:ext cx="1635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"/>
            <p:cNvSpPr/>
            <p:nvPr/>
          </p:nvSpPr>
          <p:spPr>
            <a:xfrm flipV="1">
              <a:off x="2523960" y="3659040"/>
              <a:ext cx="0" cy="889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2660760" y="4917960"/>
              <a:ext cx="291960" cy="291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"/>
            <p:cNvSpPr/>
            <p:nvPr/>
          </p:nvSpPr>
          <p:spPr>
            <a:xfrm flipV="1">
              <a:off x="2806560" y="4624560"/>
              <a:ext cx="0" cy="293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2725560" y="4552920"/>
              <a:ext cx="165600" cy="165600"/>
            </a:xfrm>
            <a:custGeom>
              <a:avLst/>
              <a:gdLst/>
              <a:ahLst/>
              <a:rect l="0" t="0" r="r" b="b"/>
              <a:pathLst>
                <a:path w="460" h="460">
                  <a:moveTo>
                    <a:pt x="0" y="0"/>
                  </a:moveTo>
                  <a:lnTo>
                    <a:pt x="460" y="0"/>
                  </a:lnTo>
                  <a:lnTo>
                    <a:pt x="230" y="4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"/>
            <p:cNvSpPr txBox="1"/>
            <p:nvPr/>
          </p:nvSpPr>
          <p:spPr>
            <a:xfrm>
              <a:off x="2671920" y="4932360"/>
              <a:ext cx="3128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1471680" y="5011560"/>
              <a:ext cx="0" cy="303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7" name=""/>
            <p:cNvGrpSpPr/>
            <p:nvPr/>
          </p:nvGrpSpPr>
          <p:grpSpPr>
            <a:xfrm>
              <a:off x="776160" y="4552920"/>
              <a:ext cx="1222560" cy="770040"/>
              <a:chOff x="776160" y="4552920"/>
              <a:chExt cx="1222560" cy="770040"/>
            </a:xfrm>
          </p:grpSpPr>
          <p:sp>
            <p:nvSpPr>
              <p:cNvPr id="2108" name=""/>
              <p:cNvSpPr/>
              <p:nvPr/>
            </p:nvSpPr>
            <p:spPr>
              <a:xfrm>
                <a:off x="955800" y="5011560"/>
                <a:ext cx="1042920" cy="3031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1066680" y="5089680"/>
                <a:ext cx="303480" cy="124200"/>
              </a:xfrm>
              <a:custGeom>
                <a:avLst/>
                <a:gdLst/>
                <a:ahLst/>
                <a:rect l="0" t="0" r="r" b="b"/>
                <a:pathLst>
                  <a:path fill="none" w="843" h="345">
                    <a:moveTo>
                      <a:pt x="0" y="345"/>
                    </a:moveTo>
                    <a:lnTo>
                      <a:pt x="590" y="345"/>
                    </a:lnTo>
                    <a:lnTo>
                      <a:pt x="843" y="0"/>
                    </a:lnTo>
                    <a:lnTo>
                      <a:pt x="252" y="0"/>
                    </a:lnTo>
                    <a:lnTo>
                      <a:pt x="0" y="345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"/>
              <p:cNvSpPr txBox="1"/>
              <p:nvPr/>
            </p:nvSpPr>
            <p:spPr>
              <a:xfrm>
                <a:off x="1535040" y="5018040"/>
                <a:ext cx="43164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f2fefd"/>
                    </a:solidFill>
                    <a:latin typeface="Arial"/>
                    <a:ea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 flipH="1">
                <a:off x="776160" y="5157720"/>
                <a:ext cx="179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 flipV="1">
                <a:off x="776160" y="4552920"/>
                <a:ext cx="370080" cy="604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"/>
          <p:cNvSpPr txBox="1"/>
          <p:nvPr/>
        </p:nvSpPr>
        <p:spPr>
          <a:xfrm>
            <a:off x="1771560" y="1063800"/>
            <a:ext cx="12891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00dfca"/>
                </a:solidFill>
                <a:uFillTx/>
                <a:latin typeface="Times New Roman"/>
                <a:ea typeface="Times New Roman"/>
              </a:rPr>
              <a:t>DRA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"/>
          <p:cNvSpPr txBox="1"/>
          <p:nvPr/>
        </p:nvSpPr>
        <p:spPr>
          <a:xfrm>
            <a:off x="5381640" y="1060560"/>
            <a:ext cx="2127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00dfca"/>
                </a:solidFill>
                <a:uFillTx/>
                <a:latin typeface="Times New Roman"/>
                <a:ea typeface="Times New Roman"/>
              </a:rPr>
              <a:t>INTERP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"/>
          <p:cNvSpPr/>
          <p:nvPr/>
        </p:nvSpPr>
        <p:spPr>
          <a:xfrm>
            <a:off x="4397400" y="1952640"/>
            <a:ext cx="0" cy="384156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"/>
          <p:cNvSpPr txBox="1"/>
          <p:nvPr/>
        </p:nvSpPr>
        <p:spPr>
          <a:xfrm>
            <a:off x="1333440" y="320760"/>
            <a:ext cx="61326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ngle (Primary) Datum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"/>
          <p:cNvSpPr/>
          <p:nvPr/>
        </p:nvSpPr>
        <p:spPr>
          <a:xfrm>
            <a:off x="5049720" y="2036880"/>
            <a:ext cx="43812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"/>
          <p:cNvSpPr/>
          <p:nvPr/>
        </p:nvSpPr>
        <p:spPr>
          <a:xfrm>
            <a:off x="5594400" y="2036880"/>
            <a:ext cx="33012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"/>
          <p:cNvSpPr/>
          <p:nvPr/>
        </p:nvSpPr>
        <p:spPr>
          <a:xfrm>
            <a:off x="5978520" y="2886120"/>
            <a:ext cx="746280" cy="745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"/>
          <p:cNvSpPr/>
          <p:nvPr/>
        </p:nvSpPr>
        <p:spPr>
          <a:xfrm>
            <a:off x="5073480" y="2886120"/>
            <a:ext cx="0" cy="1650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"/>
          <p:cNvSpPr/>
          <p:nvPr/>
        </p:nvSpPr>
        <p:spPr>
          <a:xfrm flipV="1">
            <a:off x="6724800" y="3648240"/>
            <a:ext cx="0" cy="888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"/>
          <p:cNvSpPr/>
          <p:nvPr/>
        </p:nvSpPr>
        <p:spPr>
          <a:xfrm>
            <a:off x="7989840" y="3703680"/>
            <a:ext cx="33012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"/>
          <p:cNvSpPr/>
          <p:nvPr/>
        </p:nvSpPr>
        <p:spPr>
          <a:xfrm>
            <a:off x="5095800" y="4508640"/>
            <a:ext cx="1635480" cy="35280"/>
          </a:xfrm>
          <a:custGeom>
            <a:avLst/>
            <a:gdLst/>
            <a:ahLst/>
            <a:rect l="0" t="0" r="r" b="b"/>
            <a:pathLst>
              <a:path fill="none" w="4543" h="98">
                <a:moveTo>
                  <a:pt x="0" y="98"/>
                </a:moveTo>
                <a:lnTo>
                  <a:pt x="132" y="53"/>
                </a:lnTo>
                <a:lnTo>
                  <a:pt x="264" y="98"/>
                </a:lnTo>
                <a:lnTo>
                  <a:pt x="440" y="98"/>
                </a:lnTo>
                <a:lnTo>
                  <a:pt x="529" y="98"/>
                </a:lnTo>
                <a:lnTo>
                  <a:pt x="661" y="53"/>
                </a:lnTo>
                <a:lnTo>
                  <a:pt x="837" y="53"/>
                </a:lnTo>
                <a:lnTo>
                  <a:pt x="996" y="35"/>
                </a:lnTo>
                <a:lnTo>
                  <a:pt x="1411" y="80"/>
                </a:lnTo>
                <a:lnTo>
                  <a:pt x="2160" y="44"/>
                </a:lnTo>
                <a:lnTo>
                  <a:pt x="2867" y="0"/>
                </a:lnTo>
                <a:lnTo>
                  <a:pt x="3572" y="53"/>
                </a:lnTo>
                <a:lnTo>
                  <a:pt x="3705" y="8"/>
                </a:lnTo>
                <a:lnTo>
                  <a:pt x="3837" y="98"/>
                </a:lnTo>
                <a:lnTo>
                  <a:pt x="4013" y="8"/>
                </a:lnTo>
                <a:lnTo>
                  <a:pt x="4146" y="98"/>
                </a:lnTo>
                <a:lnTo>
                  <a:pt x="4278" y="53"/>
                </a:lnTo>
                <a:lnTo>
                  <a:pt x="4410" y="53"/>
                </a:lnTo>
                <a:lnTo>
                  <a:pt x="4543" y="98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-15840" bIns="-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"/>
          <p:cNvSpPr txBox="1"/>
          <p:nvPr/>
        </p:nvSpPr>
        <p:spPr>
          <a:xfrm>
            <a:off x="7367760" y="1879560"/>
            <a:ext cx="9460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"/>
          <p:cNvSpPr/>
          <p:nvPr/>
        </p:nvSpPr>
        <p:spPr>
          <a:xfrm flipH="1">
            <a:off x="7178760" y="2057400"/>
            <a:ext cx="2062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"/>
          <p:cNvSpPr/>
          <p:nvPr/>
        </p:nvSpPr>
        <p:spPr>
          <a:xfrm flipH="1">
            <a:off x="6357960" y="2050920"/>
            <a:ext cx="822240" cy="24638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"/>
          <p:cNvSpPr/>
          <p:nvPr/>
        </p:nvSpPr>
        <p:spPr>
          <a:xfrm>
            <a:off x="5073480" y="2860560"/>
            <a:ext cx="905400" cy="57600"/>
          </a:xfrm>
          <a:custGeom>
            <a:avLst/>
            <a:gdLst/>
            <a:ahLst/>
            <a:rect l="0" t="0" r="r" b="b"/>
            <a:pathLst>
              <a:path fill="none" w="2515" h="160">
                <a:moveTo>
                  <a:pt x="0" y="71"/>
                </a:moveTo>
                <a:lnTo>
                  <a:pt x="26" y="62"/>
                </a:lnTo>
                <a:lnTo>
                  <a:pt x="52" y="53"/>
                </a:lnTo>
                <a:lnTo>
                  <a:pt x="79" y="45"/>
                </a:lnTo>
                <a:lnTo>
                  <a:pt x="105" y="35"/>
                </a:lnTo>
                <a:lnTo>
                  <a:pt x="123" y="8"/>
                </a:lnTo>
                <a:lnTo>
                  <a:pt x="176" y="0"/>
                </a:lnTo>
                <a:lnTo>
                  <a:pt x="211" y="0"/>
                </a:lnTo>
                <a:lnTo>
                  <a:pt x="255" y="0"/>
                </a:lnTo>
                <a:lnTo>
                  <a:pt x="308" y="8"/>
                </a:lnTo>
                <a:lnTo>
                  <a:pt x="335" y="26"/>
                </a:lnTo>
                <a:lnTo>
                  <a:pt x="370" y="35"/>
                </a:lnTo>
                <a:lnTo>
                  <a:pt x="396" y="45"/>
                </a:lnTo>
                <a:lnTo>
                  <a:pt x="423" y="53"/>
                </a:lnTo>
                <a:lnTo>
                  <a:pt x="440" y="80"/>
                </a:lnTo>
                <a:lnTo>
                  <a:pt x="467" y="80"/>
                </a:lnTo>
                <a:lnTo>
                  <a:pt x="493" y="98"/>
                </a:lnTo>
                <a:lnTo>
                  <a:pt x="529" y="106"/>
                </a:lnTo>
                <a:lnTo>
                  <a:pt x="555" y="115"/>
                </a:lnTo>
                <a:lnTo>
                  <a:pt x="599" y="115"/>
                </a:lnTo>
                <a:lnTo>
                  <a:pt x="644" y="125"/>
                </a:lnTo>
                <a:lnTo>
                  <a:pt x="671" y="143"/>
                </a:lnTo>
                <a:lnTo>
                  <a:pt x="697" y="160"/>
                </a:lnTo>
                <a:lnTo>
                  <a:pt x="724" y="160"/>
                </a:lnTo>
                <a:lnTo>
                  <a:pt x="750" y="160"/>
                </a:lnTo>
                <a:lnTo>
                  <a:pt x="794" y="160"/>
                </a:lnTo>
                <a:lnTo>
                  <a:pt x="838" y="160"/>
                </a:lnTo>
                <a:lnTo>
                  <a:pt x="865" y="160"/>
                </a:lnTo>
                <a:lnTo>
                  <a:pt x="909" y="151"/>
                </a:lnTo>
                <a:lnTo>
                  <a:pt x="935" y="143"/>
                </a:lnTo>
                <a:lnTo>
                  <a:pt x="1006" y="115"/>
                </a:lnTo>
                <a:lnTo>
                  <a:pt x="1032" y="98"/>
                </a:lnTo>
                <a:lnTo>
                  <a:pt x="1059" y="80"/>
                </a:lnTo>
                <a:lnTo>
                  <a:pt x="1085" y="71"/>
                </a:lnTo>
                <a:lnTo>
                  <a:pt x="1112" y="62"/>
                </a:lnTo>
                <a:lnTo>
                  <a:pt x="1156" y="71"/>
                </a:lnTo>
                <a:lnTo>
                  <a:pt x="1182" y="80"/>
                </a:lnTo>
                <a:lnTo>
                  <a:pt x="1226" y="106"/>
                </a:lnTo>
                <a:lnTo>
                  <a:pt x="1253" y="106"/>
                </a:lnTo>
                <a:lnTo>
                  <a:pt x="1288" y="106"/>
                </a:lnTo>
                <a:lnTo>
                  <a:pt x="1315" y="125"/>
                </a:lnTo>
                <a:lnTo>
                  <a:pt x="1359" y="125"/>
                </a:lnTo>
                <a:lnTo>
                  <a:pt x="1403" y="125"/>
                </a:lnTo>
                <a:lnTo>
                  <a:pt x="1456" y="98"/>
                </a:lnTo>
                <a:lnTo>
                  <a:pt x="1482" y="62"/>
                </a:lnTo>
                <a:lnTo>
                  <a:pt x="1509" y="53"/>
                </a:lnTo>
                <a:lnTo>
                  <a:pt x="1526" y="26"/>
                </a:lnTo>
                <a:lnTo>
                  <a:pt x="1553" y="17"/>
                </a:lnTo>
                <a:lnTo>
                  <a:pt x="1579" y="8"/>
                </a:lnTo>
                <a:lnTo>
                  <a:pt x="1623" y="8"/>
                </a:lnTo>
                <a:lnTo>
                  <a:pt x="1667" y="8"/>
                </a:lnTo>
                <a:lnTo>
                  <a:pt x="1694" y="8"/>
                </a:lnTo>
                <a:lnTo>
                  <a:pt x="1756" y="26"/>
                </a:lnTo>
                <a:lnTo>
                  <a:pt x="1791" y="62"/>
                </a:lnTo>
                <a:lnTo>
                  <a:pt x="1817" y="71"/>
                </a:lnTo>
                <a:lnTo>
                  <a:pt x="1835" y="98"/>
                </a:lnTo>
                <a:lnTo>
                  <a:pt x="1861" y="98"/>
                </a:lnTo>
                <a:lnTo>
                  <a:pt x="1889" y="98"/>
                </a:lnTo>
                <a:lnTo>
                  <a:pt x="1915" y="98"/>
                </a:lnTo>
                <a:lnTo>
                  <a:pt x="1942" y="98"/>
                </a:lnTo>
                <a:lnTo>
                  <a:pt x="1968" y="98"/>
                </a:lnTo>
                <a:lnTo>
                  <a:pt x="2012" y="106"/>
                </a:lnTo>
                <a:lnTo>
                  <a:pt x="2048" y="134"/>
                </a:lnTo>
                <a:lnTo>
                  <a:pt x="2074" y="151"/>
                </a:lnTo>
                <a:lnTo>
                  <a:pt x="2101" y="151"/>
                </a:lnTo>
                <a:lnTo>
                  <a:pt x="2145" y="151"/>
                </a:lnTo>
                <a:lnTo>
                  <a:pt x="2171" y="151"/>
                </a:lnTo>
                <a:lnTo>
                  <a:pt x="2250" y="134"/>
                </a:lnTo>
                <a:lnTo>
                  <a:pt x="2277" y="125"/>
                </a:lnTo>
                <a:lnTo>
                  <a:pt x="2339" y="115"/>
                </a:lnTo>
                <a:lnTo>
                  <a:pt x="2365" y="106"/>
                </a:lnTo>
                <a:lnTo>
                  <a:pt x="2418" y="98"/>
                </a:lnTo>
                <a:lnTo>
                  <a:pt x="2453" y="89"/>
                </a:lnTo>
                <a:lnTo>
                  <a:pt x="2489" y="89"/>
                </a:lnTo>
                <a:lnTo>
                  <a:pt x="2515" y="71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6480" bIns="6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8" name=""/>
          <p:cNvGrpSpPr/>
          <p:nvPr/>
        </p:nvGrpSpPr>
        <p:grpSpPr>
          <a:xfrm>
            <a:off x="333360" y="2039760"/>
            <a:ext cx="3090960" cy="3283200"/>
            <a:chOff x="333360" y="2039760"/>
            <a:chExt cx="3090960" cy="3283200"/>
          </a:xfrm>
        </p:grpSpPr>
        <p:sp>
          <p:nvSpPr>
            <p:cNvPr id="2129" name=""/>
            <p:cNvSpPr/>
            <p:nvPr/>
          </p:nvSpPr>
          <p:spPr>
            <a:xfrm>
              <a:off x="2635200" y="4548240"/>
              <a:ext cx="695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1905120" y="2897280"/>
              <a:ext cx="14126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1" name=""/>
            <p:cNvGrpSpPr/>
            <p:nvPr/>
          </p:nvGrpSpPr>
          <p:grpSpPr>
            <a:xfrm>
              <a:off x="333360" y="2039760"/>
              <a:ext cx="1793880" cy="841680"/>
              <a:chOff x="333360" y="2039760"/>
              <a:chExt cx="1793880" cy="841680"/>
            </a:xfrm>
          </p:grpSpPr>
          <p:sp>
            <p:nvSpPr>
              <p:cNvPr id="2132" name=""/>
              <p:cNvSpPr/>
              <p:nvPr/>
            </p:nvSpPr>
            <p:spPr>
              <a:xfrm>
                <a:off x="333360" y="2039760"/>
                <a:ext cx="1397160" cy="3016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809640" y="2039760"/>
                <a:ext cx="0" cy="285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1397160" y="2039760"/>
                <a:ext cx="0" cy="285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 flipH="1">
                <a:off x="452520" y="2106720"/>
                <a:ext cx="109440" cy="163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 flipH="1">
                <a:off x="571680" y="2108160"/>
                <a:ext cx="104760" cy="162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"/>
              <p:cNvSpPr txBox="1"/>
              <p:nvPr/>
            </p:nvSpPr>
            <p:spPr>
              <a:xfrm>
                <a:off x="853920" y="2049480"/>
                <a:ext cx="43164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0.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"/>
              <p:cNvSpPr txBox="1"/>
              <p:nvPr/>
            </p:nvSpPr>
            <p:spPr>
              <a:xfrm>
                <a:off x="1403280" y="2049480"/>
                <a:ext cx="31284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1746360" y="2182680"/>
                <a:ext cx="365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 flipH="1">
                <a:off x="1428840" y="2182680"/>
                <a:ext cx="698400" cy="698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1" name=""/>
            <p:cNvSpPr/>
            <p:nvPr/>
          </p:nvSpPr>
          <p:spPr>
            <a:xfrm>
              <a:off x="3174840" y="2913120"/>
              <a:ext cx="0" cy="428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3174840" y="3992400"/>
              <a:ext cx="0" cy="540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"/>
            <p:cNvSpPr txBox="1"/>
            <p:nvPr/>
          </p:nvSpPr>
          <p:spPr>
            <a:xfrm>
              <a:off x="2894040" y="3365640"/>
              <a:ext cx="5302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0.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0.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1778040" y="2897280"/>
              <a:ext cx="745920" cy="745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"/>
            <p:cNvSpPr/>
            <p:nvPr/>
          </p:nvSpPr>
          <p:spPr>
            <a:xfrm flipH="1">
              <a:off x="873000" y="2897280"/>
              <a:ext cx="905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873000" y="2897280"/>
              <a:ext cx="0" cy="1650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873000" y="4548240"/>
              <a:ext cx="1635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"/>
            <p:cNvSpPr/>
            <p:nvPr/>
          </p:nvSpPr>
          <p:spPr>
            <a:xfrm flipV="1">
              <a:off x="2523960" y="3659040"/>
              <a:ext cx="0" cy="889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2660760" y="4917960"/>
              <a:ext cx="291960" cy="291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"/>
            <p:cNvSpPr/>
            <p:nvPr/>
          </p:nvSpPr>
          <p:spPr>
            <a:xfrm flipV="1">
              <a:off x="2806560" y="4624560"/>
              <a:ext cx="0" cy="293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2725560" y="4552920"/>
              <a:ext cx="165600" cy="165600"/>
            </a:xfrm>
            <a:custGeom>
              <a:avLst/>
              <a:gdLst/>
              <a:ahLst/>
              <a:rect l="0" t="0" r="r" b="b"/>
              <a:pathLst>
                <a:path w="460" h="460">
                  <a:moveTo>
                    <a:pt x="0" y="0"/>
                  </a:moveTo>
                  <a:lnTo>
                    <a:pt x="460" y="0"/>
                  </a:lnTo>
                  <a:lnTo>
                    <a:pt x="230" y="4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"/>
            <p:cNvSpPr txBox="1"/>
            <p:nvPr/>
          </p:nvSpPr>
          <p:spPr>
            <a:xfrm>
              <a:off x="2671920" y="4932360"/>
              <a:ext cx="3128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1471680" y="5011560"/>
              <a:ext cx="0" cy="303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4" name=""/>
            <p:cNvGrpSpPr/>
            <p:nvPr/>
          </p:nvGrpSpPr>
          <p:grpSpPr>
            <a:xfrm>
              <a:off x="776160" y="4552920"/>
              <a:ext cx="1222560" cy="770040"/>
              <a:chOff x="776160" y="4552920"/>
              <a:chExt cx="1222560" cy="770040"/>
            </a:xfrm>
          </p:grpSpPr>
          <p:sp>
            <p:nvSpPr>
              <p:cNvPr id="2155" name=""/>
              <p:cNvSpPr/>
              <p:nvPr/>
            </p:nvSpPr>
            <p:spPr>
              <a:xfrm>
                <a:off x="955800" y="5011560"/>
                <a:ext cx="1042920" cy="3031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1066680" y="5089680"/>
                <a:ext cx="303480" cy="124200"/>
              </a:xfrm>
              <a:custGeom>
                <a:avLst/>
                <a:gdLst/>
                <a:ahLst/>
                <a:rect l="0" t="0" r="r" b="b"/>
                <a:pathLst>
                  <a:path fill="none" w="843" h="345">
                    <a:moveTo>
                      <a:pt x="0" y="345"/>
                    </a:moveTo>
                    <a:lnTo>
                      <a:pt x="590" y="345"/>
                    </a:lnTo>
                    <a:lnTo>
                      <a:pt x="843" y="0"/>
                    </a:lnTo>
                    <a:lnTo>
                      <a:pt x="252" y="0"/>
                    </a:lnTo>
                    <a:lnTo>
                      <a:pt x="0" y="345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"/>
              <p:cNvSpPr txBox="1"/>
              <p:nvPr/>
            </p:nvSpPr>
            <p:spPr>
              <a:xfrm>
                <a:off x="1535040" y="5018040"/>
                <a:ext cx="43164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f2fefd"/>
                    </a:solidFill>
                    <a:latin typeface="Arial"/>
                    <a:ea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 flipH="1">
                <a:off x="776160" y="5157720"/>
                <a:ext cx="179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 flipV="1">
                <a:off x="776160" y="4552920"/>
                <a:ext cx="370080" cy="604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"/>
          <p:cNvSpPr txBox="1"/>
          <p:nvPr/>
        </p:nvSpPr>
        <p:spPr>
          <a:xfrm>
            <a:off x="1771560" y="1063800"/>
            <a:ext cx="12891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00dfca"/>
                </a:solidFill>
                <a:uFillTx/>
                <a:latin typeface="Times New Roman"/>
                <a:ea typeface="Times New Roman"/>
              </a:rPr>
              <a:t>DRA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"/>
          <p:cNvSpPr txBox="1"/>
          <p:nvPr/>
        </p:nvSpPr>
        <p:spPr>
          <a:xfrm>
            <a:off x="5381640" y="1060560"/>
            <a:ext cx="2127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00dfca"/>
                </a:solidFill>
                <a:uFillTx/>
                <a:latin typeface="Times New Roman"/>
                <a:ea typeface="Times New Roman"/>
              </a:rPr>
              <a:t>INTERP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"/>
          <p:cNvSpPr/>
          <p:nvPr/>
        </p:nvSpPr>
        <p:spPr>
          <a:xfrm>
            <a:off x="4397400" y="1952640"/>
            <a:ext cx="0" cy="384156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"/>
          <p:cNvSpPr txBox="1"/>
          <p:nvPr/>
        </p:nvSpPr>
        <p:spPr>
          <a:xfrm>
            <a:off x="1333440" y="320760"/>
            <a:ext cx="61326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ngle (Primary) Datum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"/>
          <p:cNvSpPr/>
          <p:nvPr/>
        </p:nvSpPr>
        <p:spPr>
          <a:xfrm>
            <a:off x="5049720" y="2036880"/>
            <a:ext cx="43812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"/>
          <p:cNvSpPr/>
          <p:nvPr/>
        </p:nvSpPr>
        <p:spPr>
          <a:xfrm>
            <a:off x="5594400" y="2036880"/>
            <a:ext cx="33012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"/>
          <p:cNvSpPr/>
          <p:nvPr/>
        </p:nvSpPr>
        <p:spPr>
          <a:xfrm>
            <a:off x="5978520" y="2886120"/>
            <a:ext cx="746280" cy="745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"/>
          <p:cNvSpPr/>
          <p:nvPr/>
        </p:nvSpPr>
        <p:spPr>
          <a:xfrm>
            <a:off x="5073480" y="2886120"/>
            <a:ext cx="0" cy="1650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8" name=""/>
          <p:cNvGrpSpPr/>
          <p:nvPr/>
        </p:nvGrpSpPr>
        <p:grpSpPr>
          <a:xfrm>
            <a:off x="4603680" y="4568760"/>
            <a:ext cx="4016520" cy="0"/>
            <a:chOff x="4603680" y="4568760"/>
            <a:chExt cx="4016520" cy="0"/>
          </a:xfrm>
        </p:grpSpPr>
        <p:sp>
          <p:nvSpPr>
            <p:cNvPr id="2169" name=""/>
            <p:cNvSpPr/>
            <p:nvPr/>
          </p:nvSpPr>
          <p:spPr>
            <a:xfrm>
              <a:off x="4603680" y="4568760"/>
              <a:ext cx="2349720" cy="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7365960" y="4568760"/>
              <a:ext cx="127080" cy="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7604280" y="4568760"/>
              <a:ext cx="1015920" cy="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7095960" y="4568760"/>
              <a:ext cx="142920" cy="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3" name=""/>
          <p:cNvSpPr/>
          <p:nvPr/>
        </p:nvSpPr>
        <p:spPr>
          <a:xfrm flipV="1">
            <a:off x="6724800" y="3648240"/>
            <a:ext cx="0" cy="888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"/>
          <p:cNvSpPr/>
          <p:nvPr/>
        </p:nvSpPr>
        <p:spPr>
          <a:xfrm>
            <a:off x="7989840" y="3703680"/>
            <a:ext cx="33012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"/>
          <p:cNvSpPr/>
          <p:nvPr/>
        </p:nvSpPr>
        <p:spPr>
          <a:xfrm>
            <a:off x="5095800" y="4508640"/>
            <a:ext cx="1635480" cy="35280"/>
          </a:xfrm>
          <a:custGeom>
            <a:avLst/>
            <a:gdLst/>
            <a:ahLst/>
            <a:rect l="0" t="0" r="r" b="b"/>
            <a:pathLst>
              <a:path fill="none" w="4543" h="98">
                <a:moveTo>
                  <a:pt x="0" y="98"/>
                </a:moveTo>
                <a:lnTo>
                  <a:pt x="132" y="53"/>
                </a:lnTo>
                <a:lnTo>
                  <a:pt x="264" y="98"/>
                </a:lnTo>
                <a:lnTo>
                  <a:pt x="440" y="98"/>
                </a:lnTo>
                <a:lnTo>
                  <a:pt x="529" y="98"/>
                </a:lnTo>
                <a:lnTo>
                  <a:pt x="661" y="53"/>
                </a:lnTo>
                <a:lnTo>
                  <a:pt x="837" y="53"/>
                </a:lnTo>
                <a:lnTo>
                  <a:pt x="996" y="35"/>
                </a:lnTo>
                <a:lnTo>
                  <a:pt x="1411" y="80"/>
                </a:lnTo>
                <a:lnTo>
                  <a:pt x="2160" y="44"/>
                </a:lnTo>
                <a:lnTo>
                  <a:pt x="2867" y="0"/>
                </a:lnTo>
                <a:lnTo>
                  <a:pt x="3572" y="53"/>
                </a:lnTo>
                <a:lnTo>
                  <a:pt x="3705" y="8"/>
                </a:lnTo>
                <a:lnTo>
                  <a:pt x="3837" y="98"/>
                </a:lnTo>
                <a:lnTo>
                  <a:pt x="4013" y="8"/>
                </a:lnTo>
                <a:lnTo>
                  <a:pt x="4146" y="98"/>
                </a:lnTo>
                <a:lnTo>
                  <a:pt x="4278" y="53"/>
                </a:lnTo>
                <a:lnTo>
                  <a:pt x="4410" y="53"/>
                </a:lnTo>
                <a:lnTo>
                  <a:pt x="4543" y="98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-15840" bIns="-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"/>
          <p:cNvSpPr txBox="1"/>
          <p:nvPr/>
        </p:nvSpPr>
        <p:spPr>
          <a:xfrm>
            <a:off x="7367760" y="1879560"/>
            <a:ext cx="9460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"/>
          <p:cNvSpPr/>
          <p:nvPr/>
        </p:nvSpPr>
        <p:spPr>
          <a:xfrm flipH="1">
            <a:off x="7178760" y="2057400"/>
            <a:ext cx="2062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"/>
          <p:cNvSpPr/>
          <p:nvPr/>
        </p:nvSpPr>
        <p:spPr>
          <a:xfrm flipH="1">
            <a:off x="6357960" y="2050920"/>
            <a:ext cx="822240" cy="24638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"/>
          <p:cNvSpPr txBox="1"/>
          <p:nvPr/>
        </p:nvSpPr>
        <p:spPr>
          <a:xfrm>
            <a:off x="7026120" y="3386160"/>
            <a:ext cx="17366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Datum plane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"/>
          <p:cNvSpPr/>
          <p:nvPr/>
        </p:nvSpPr>
        <p:spPr>
          <a:xfrm>
            <a:off x="8674200" y="3565440"/>
            <a:ext cx="1648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"/>
          <p:cNvSpPr/>
          <p:nvPr/>
        </p:nvSpPr>
        <p:spPr>
          <a:xfrm flipH="1">
            <a:off x="8305920" y="3565440"/>
            <a:ext cx="533160" cy="984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"/>
          <p:cNvSpPr/>
          <p:nvPr/>
        </p:nvSpPr>
        <p:spPr>
          <a:xfrm>
            <a:off x="5073480" y="2860560"/>
            <a:ext cx="905400" cy="57600"/>
          </a:xfrm>
          <a:custGeom>
            <a:avLst/>
            <a:gdLst/>
            <a:ahLst/>
            <a:rect l="0" t="0" r="r" b="b"/>
            <a:pathLst>
              <a:path fill="none" w="2515" h="160">
                <a:moveTo>
                  <a:pt x="0" y="71"/>
                </a:moveTo>
                <a:lnTo>
                  <a:pt x="26" y="62"/>
                </a:lnTo>
                <a:lnTo>
                  <a:pt x="52" y="53"/>
                </a:lnTo>
                <a:lnTo>
                  <a:pt x="79" y="45"/>
                </a:lnTo>
                <a:lnTo>
                  <a:pt x="105" y="35"/>
                </a:lnTo>
                <a:lnTo>
                  <a:pt x="123" y="8"/>
                </a:lnTo>
                <a:lnTo>
                  <a:pt x="176" y="0"/>
                </a:lnTo>
                <a:lnTo>
                  <a:pt x="211" y="0"/>
                </a:lnTo>
                <a:lnTo>
                  <a:pt x="255" y="0"/>
                </a:lnTo>
                <a:lnTo>
                  <a:pt x="308" y="8"/>
                </a:lnTo>
                <a:lnTo>
                  <a:pt x="335" y="26"/>
                </a:lnTo>
                <a:lnTo>
                  <a:pt x="370" y="35"/>
                </a:lnTo>
                <a:lnTo>
                  <a:pt x="396" y="45"/>
                </a:lnTo>
                <a:lnTo>
                  <a:pt x="423" y="53"/>
                </a:lnTo>
                <a:lnTo>
                  <a:pt x="440" y="80"/>
                </a:lnTo>
                <a:lnTo>
                  <a:pt x="467" y="80"/>
                </a:lnTo>
                <a:lnTo>
                  <a:pt x="493" y="98"/>
                </a:lnTo>
                <a:lnTo>
                  <a:pt x="529" y="106"/>
                </a:lnTo>
                <a:lnTo>
                  <a:pt x="555" y="115"/>
                </a:lnTo>
                <a:lnTo>
                  <a:pt x="599" y="115"/>
                </a:lnTo>
                <a:lnTo>
                  <a:pt x="644" y="125"/>
                </a:lnTo>
                <a:lnTo>
                  <a:pt x="671" y="143"/>
                </a:lnTo>
                <a:lnTo>
                  <a:pt x="697" y="160"/>
                </a:lnTo>
                <a:lnTo>
                  <a:pt x="724" y="160"/>
                </a:lnTo>
                <a:lnTo>
                  <a:pt x="750" y="160"/>
                </a:lnTo>
                <a:lnTo>
                  <a:pt x="794" y="160"/>
                </a:lnTo>
                <a:lnTo>
                  <a:pt x="838" y="160"/>
                </a:lnTo>
                <a:lnTo>
                  <a:pt x="865" y="160"/>
                </a:lnTo>
                <a:lnTo>
                  <a:pt x="909" y="151"/>
                </a:lnTo>
                <a:lnTo>
                  <a:pt x="935" y="143"/>
                </a:lnTo>
                <a:lnTo>
                  <a:pt x="1006" y="115"/>
                </a:lnTo>
                <a:lnTo>
                  <a:pt x="1032" y="98"/>
                </a:lnTo>
                <a:lnTo>
                  <a:pt x="1059" y="80"/>
                </a:lnTo>
                <a:lnTo>
                  <a:pt x="1085" y="71"/>
                </a:lnTo>
                <a:lnTo>
                  <a:pt x="1112" y="62"/>
                </a:lnTo>
                <a:lnTo>
                  <a:pt x="1156" y="71"/>
                </a:lnTo>
                <a:lnTo>
                  <a:pt x="1182" y="80"/>
                </a:lnTo>
                <a:lnTo>
                  <a:pt x="1226" y="106"/>
                </a:lnTo>
                <a:lnTo>
                  <a:pt x="1253" y="106"/>
                </a:lnTo>
                <a:lnTo>
                  <a:pt x="1288" y="106"/>
                </a:lnTo>
                <a:lnTo>
                  <a:pt x="1315" y="125"/>
                </a:lnTo>
                <a:lnTo>
                  <a:pt x="1359" y="125"/>
                </a:lnTo>
                <a:lnTo>
                  <a:pt x="1403" y="125"/>
                </a:lnTo>
                <a:lnTo>
                  <a:pt x="1456" y="98"/>
                </a:lnTo>
                <a:lnTo>
                  <a:pt x="1482" y="62"/>
                </a:lnTo>
                <a:lnTo>
                  <a:pt x="1509" y="53"/>
                </a:lnTo>
                <a:lnTo>
                  <a:pt x="1526" y="26"/>
                </a:lnTo>
                <a:lnTo>
                  <a:pt x="1553" y="17"/>
                </a:lnTo>
                <a:lnTo>
                  <a:pt x="1579" y="8"/>
                </a:lnTo>
                <a:lnTo>
                  <a:pt x="1623" y="8"/>
                </a:lnTo>
                <a:lnTo>
                  <a:pt x="1667" y="8"/>
                </a:lnTo>
                <a:lnTo>
                  <a:pt x="1694" y="8"/>
                </a:lnTo>
                <a:lnTo>
                  <a:pt x="1756" y="26"/>
                </a:lnTo>
                <a:lnTo>
                  <a:pt x="1791" y="62"/>
                </a:lnTo>
                <a:lnTo>
                  <a:pt x="1817" y="71"/>
                </a:lnTo>
                <a:lnTo>
                  <a:pt x="1835" y="98"/>
                </a:lnTo>
                <a:lnTo>
                  <a:pt x="1861" y="98"/>
                </a:lnTo>
                <a:lnTo>
                  <a:pt x="1889" y="98"/>
                </a:lnTo>
                <a:lnTo>
                  <a:pt x="1915" y="98"/>
                </a:lnTo>
                <a:lnTo>
                  <a:pt x="1942" y="98"/>
                </a:lnTo>
                <a:lnTo>
                  <a:pt x="1968" y="98"/>
                </a:lnTo>
                <a:lnTo>
                  <a:pt x="2012" y="106"/>
                </a:lnTo>
                <a:lnTo>
                  <a:pt x="2048" y="134"/>
                </a:lnTo>
                <a:lnTo>
                  <a:pt x="2074" y="151"/>
                </a:lnTo>
                <a:lnTo>
                  <a:pt x="2101" y="151"/>
                </a:lnTo>
                <a:lnTo>
                  <a:pt x="2145" y="151"/>
                </a:lnTo>
                <a:lnTo>
                  <a:pt x="2171" y="151"/>
                </a:lnTo>
                <a:lnTo>
                  <a:pt x="2250" y="134"/>
                </a:lnTo>
                <a:lnTo>
                  <a:pt x="2277" y="125"/>
                </a:lnTo>
                <a:lnTo>
                  <a:pt x="2339" y="115"/>
                </a:lnTo>
                <a:lnTo>
                  <a:pt x="2365" y="106"/>
                </a:lnTo>
                <a:lnTo>
                  <a:pt x="2418" y="98"/>
                </a:lnTo>
                <a:lnTo>
                  <a:pt x="2453" y="89"/>
                </a:lnTo>
                <a:lnTo>
                  <a:pt x="2489" y="89"/>
                </a:lnTo>
                <a:lnTo>
                  <a:pt x="2515" y="71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6480" bIns="6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3" name=""/>
          <p:cNvGrpSpPr/>
          <p:nvPr/>
        </p:nvGrpSpPr>
        <p:grpSpPr>
          <a:xfrm>
            <a:off x="333360" y="2039760"/>
            <a:ext cx="3090960" cy="3283200"/>
            <a:chOff x="333360" y="2039760"/>
            <a:chExt cx="3090960" cy="3283200"/>
          </a:xfrm>
        </p:grpSpPr>
        <p:sp>
          <p:nvSpPr>
            <p:cNvPr id="2184" name=""/>
            <p:cNvSpPr/>
            <p:nvPr/>
          </p:nvSpPr>
          <p:spPr>
            <a:xfrm>
              <a:off x="2635200" y="4548240"/>
              <a:ext cx="695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1905120" y="2897280"/>
              <a:ext cx="14126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86" name=""/>
            <p:cNvGrpSpPr/>
            <p:nvPr/>
          </p:nvGrpSpPr>
          <p:grpSpPr>
            <a:xfrm>
              <a:off x="333360" y="2039760"/>
              <a:ext cx="1793880" cy="841680"/>
              <a:chOff x="333360" y="2039760"/>
              <a:chExt cx="1793880" cy="841680"/>
            </a:xfrm>
          </p:grpSpPr>
          <p:sp>
            <p:nvSpPr>
              <p:cNvPr id="2187" name=""/>
              <p:cNvSpPr/>
              <p:nvPr/>
            </p:nvSpPr>
            <p:spPr>
              <a:xfrm>
                <a:off x="333360" y="2039760"/>
                <a:ext cx="1397160" cy="3016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809640" y="2039760"/>
                <a:ext cx="0" cy="285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1397160" y="2039760"/>
                <a:ext cx="0" cy="285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 flipH="1">
                <a:off x="452520" y="2106720"/>
                <a:ext cx="109440" cy="163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 flipH="1">
                <a:off x="571680" y="2108160"/>
                <a:ext cx="104760" cy="162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"/>
              <p:cNvSpPr txBox="1"/>
              <p:nvPr/>
            </p:nvSpPr>
            <p:spPr>
              <a:xfrm>
                <a:off x="853920" y="2049480"/>
                <a:ext cx="43164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0.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"/>
              <p:cNvSpPr txBox="1"/>
              <p:nvPr/>
            </p:nvSpPr>
            <p:spPr>
              <a:xfrm>
                <a:off x="1403280" y="2049480"/>
                <a:ext cx="31284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1746360" y="2182680"/>
                <a:ext cx="365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 flipH="1">
                <a:off x="1428840" y="2182680"/>
                <a:ext cx="698400" cy="698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6" name=""/>
            <p:cNvSpPr/>
            <p:nvPr/>
          </p:nvSpPr>
          <p:spPr>
            <a:xfrm>
              <a:off x="3174840" y="2913120"/>
              <a:ext cx="0" cy="428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3174840" y="3992400"/>
              <a:ext cx="0" cy="540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"/>
            <p:cNvSpPr txBox="1"/>
            <p:nvPr/>
          </p:nvSpPr>
          <p:spPr>
            <a:xfrm>
              <a:off x="2894040" y="3365640"/>
              <a:ext cx="5302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0.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0.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1778040" y="2897280"/>
              <a:ext cx="745920" cy="745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"/>
            <p:cNvSpPr/>
            <p:nvPr/>
          </p:nvSpPr>
          <p:spPr>
            <a:xfrm flipH="1">
              <a:off x="873000" y="2897280"/>
              <a:ext cx="905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873000" y="2897280"/>
              <a:ext cx="0" cy="1650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873000" y="4548240"/>
              <a:ext cx="1635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 flipV="1">
              <a:off x="2523960" y="3659040"/>
              <a:ext cx="0" cy="889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2660760" y="4917960"/>
              <a:ext cx="291960" cy="291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"/>
            <p:cNvSpPr/>
            <p:nvPr/>
          </p:nvSpPr>
          <p:spPr>
            <a:xfrm flipV="1">
              <a:off x="2806560" y="4624560"/>
              <a:ext cx="0" cy="293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2725560" y="4552920"/>
              <a:ext cx="165600" cy="165600"/>
            </a:xfrm>
            <a:custGeom>
              <a:avLst/>
              <a:gdLst/>
              <a:ahLst/>
              <a:rect l="0" t="0" r="r" b="b"/>
              <a:pathLst>
                <a:path w="460" h="460">
                  <a:moveTo>
                    <a:pt x="0" y="0"/>
                  </a:moveTo>
                  <a:lnTo>
                    <a:pt x="460" y="0"/>
                  </a:lnTo>
                  <a:lnTo>
                    <a:pt x="230" y="4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"/>
            <p:cNvSpPr txBox="1"/>
            <p:nvPr/>
          </p:nvSpPr>
          <p:spPr>
            <a:xfrm>
              <a:off x="2671920" y="4932360"/>
              <a:ext cx="3128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1471680" y="5011560"/>
              <a:ext cx="0" cy="303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9" name=""/>
            <p:cNvGrpSpPr/>
            <p:nvPr/>
          </p:nvGrpSpPr>
          <p:grpSpPr>
            <a:xfrm>
              <a:off x="776160" y="4552920"/>
              <a:ext cx="1222560" cy="770040"/>
              <a:chOff x="776160" y="4552920"/>
              <a:chExt cx="1222560" cy="770040"/>
            </a:xfrm>
          </p:grpSpPr>
          <p:sp>
            <p:nvSpPr>
              <p:cNvPr id="2210" name=""/>
              <p:cNvSpPr/>
              <p:nvPr/>
            </p:nvSpPr>
            <p:spPr>
              <a:xfrm>
                <a:off x="955800" y="5011560"/>
                <a:ext cx="1042920" cy="3031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1066680" y="5089680"/>
                <a:ext cx="303480" cy="124200"/>
              </a:xfrm>
              <a:custGeom>
                <a:avLst/>
                <a:gdLst/>
                <a:ahLst/>
                <a:rect l="0" t="0" r="r" b="b"/>
                <a:pathLst>
                  <a:path fill="none" w="843" h="345">
                    <a:moveTo>
                      <a:pt x="0" y="345"/>
                    </a:moveTo>
                    <a:lnTo>
                      <a:pt x="590" y="345"/>
                    </a:lnTo>
                    <a:lnTo>
                      <a:pt x="843" y="0"/>
                    </a:lnTo>
                    <a:lnTo>
                      <a:pt x="252" y="0"/>
                    </a:lnTo>
                    <a:lnTo>
                      <a:pt x="0" y="345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 txBox="1"/>
              <p:nvPr/>
            </p:nvSpPr>
            <p:spPr>
              <a:xfrm>
                <a:off x="1535040" y="5018040"/>
                <a:ext cx="43164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f2fefd"/>
                    </a:solidFill>
                    <a:latin typeface="Arial"/>
                    <a:ea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 flipH="1">
                <a:off x="776160" y="5157720"/>
                <a:ext cx="179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 flipV="1">
                <a:off x="776160" y="4552920"/>
                <a:ext cx="370080" cy="604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"/>
          <p:cNvSpPr txBox="1"/>
          <p:nvPr/>
        </p:nvSpPr>
        <p:spPr>
          <a:xfrm>
            <a:off x="1771560" y="1063800"/>
            <a:ext cx="12891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00dfca"/>
                </a:solidFill>
                <a:uFillTx/>
                <a:latin typeface="Times New Roman"/>
                <a:ea typeface="Times New Roman"/>
              </a:rPr>
              <a:t>DRA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"/>
          <p:cNvSpPr txBox="1"/>
          <p:nvPr/>
        </p:nvSpPr>
        <p:spPr>
          <a:xfrm>
            <a:off x="5381640" y="1060560"/>
            <a:ext cx="2127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00dfca"/>
                </a:solidFill>
                <a:uFillTx/>
                <a:latin typeface="Times New Roman"/>
                <a:ea typeface="Times New Roman"/>
              </a:rPr>
              <a:t>INTERP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"/>
          <p:cNvSpPr/>
          <p:nvPr/>
        </p:nvSpPr>
        <p:spPr>
          <a:xfrm>
            <a:off x="4397400" y="1952640"/>
            <a:ext cx="0" cy="384156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"/>
          <p:cNvSpPr txBox="1"/>
          <p:nvPr/>
        </p:nvSpPr>
        <p:spPr>
          <a:xfrm>
            <a:off x="1333440" y="320760"/>
            <a:ext cx="61326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ngle (Primary) Datum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"/>
          <p:cNvSpPr/>
          <p:nvPr/>
        </p:nvSpPr>
        <p:spPr>
          <a:xfrm>
            <a:off x="5049720" y="2036880"/>
            <a:ext cx="43812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"/>
          <p:cNvSpPr/>
          <p:nvPr/>
        </p:nvSpPr>
        <p:spPr>
          <a:xfrm>
            <a:off x="5594400" y="2036880"/>
            <a:ext cx="33012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"/>
          <p:cNvSpPr/>
          <p:nvPr/>
        </p:nvSpPr>
        <p:spPr>
          <a:xfrm>
            <a:off x="5978520" y="2886120"/>
            <a:ext cx="746280" cy="745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"/>
          <p:cNvSpPr/>
          <p:nvPr/>
        </p:nvSpPr>
        <p:spPr>
          <a:xfrm>
            <a:off x="5073480" y="2886120"/>
            <a:ext cx="0" cy="1650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"/>
          <p:cNvSpPr/>
          <p:nvPr/>
        </p:nvSpPr>
        <p:spPr>
          <a:xfrm flipV="1">
            <a:off x="6724800" y="3648240"/>
            <a:ext cx="0" cy="888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"/>
          <p:cNvSpPr/>
          <p:nvPr/>
        </p:nvSpPr>
        <p:spPr>
          <a:xfrm>
            <a:off x="7989840" y="3703680"/>
            <a:ext cx="33012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"/>
          <p:cNvSpPr/>
          <p:nvPr/>
        </p:nvSpPr>
        <p:spPr>
          <a:xfrm>
            <a:off x="5095800" y="4508640"/>
            <a:ext cx="1635480" cy="35280"/>
          </a:xfrm>
          <a:custGeom>
            <a:avLst/>
            <a:gdLst/>
            <a:ahLst/>
            <a:rect l="0" t="0" r="r" b="b"/>
            <a:pathLst>
              <a:path fill="none" w="4543" h="98">
                <a:moveTo>
                  <a:pt x="0" y="98"/>
                </a:moveTo>
                <a:lnTo>
                  <a:pt x="132" y="53"/>
                </a:lnTo>
                <a:lnTo>
                  <a:pt x="264" y="98"/>
                </a:lnTo>
                <a:lnTo>
                  <a:pt x="440" y="98"/>
                </a:lnTo>
                <a:lnTo>
                  <a:pt x="529" y="98"/>
                </a:lnTo>
                <a:lnTo>
                  <a:pt x="661" y="53"/>
                </a:lnTo>
                <a:lnTo>
                  <a:pt x="837" y="53"/>
                </a:lnTo>
                <a:lnTo>
                  <a:pt x="996" y="35"/>
                </a:lnTo>
                <a:lnTo>
                  <a:pt x="1411" y="80"/>
                </a:lnTo>
                <a:lnTo>
                  <a:pt x="2160" y="44"/>
                </a:lnTo>
                <a:lnTo>
                  <a:pt x="2867" y="0"/>
                </a:lnTo>
                <a:lnTo>
                  <a:pt x="3572" y="53"/>
                </a:lnTo>
                <a:lnTo>
                  <a:pt x="3705" y="8"/>
                </a:lnTo>
                <a:lnTo>
                  <a:pt x="3837" y="98"/>
                </a:lnTo>
                <a:lnTo>
                  <a:pt x="4013" y="8"/>
                </a:lnTo>
                <a:lnTo>
                  <a:pt x="4146" y="98"/>
                </a:lnTo>
                <a:lnTo>
                  <a:pt x="4278" y="53"/>
                </a:lnTo>
                <a:lnTo>
                  <a:pt x="4410" y="53"/>
                </a:lnTo>
                <a:lnTo>
                  <a:pt x="4543" y="98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-15840" bIns="-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"/>
          <p:cNvSpPr txBox="1"/>
          <p:nvPr/>
        </p:nvSpPr>
        <p:spPr>
          <a:xfrm>
            <a:off x="7367760" y="1879560"/>
            <a:ext cx="9460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"/>
          <p:cNvSpPr/>
          <p:nvPr/>
        </p:nvSpPr>
        <p:spPr>
          <a:xfrm flipH="1">
            <a:off x="7178760" y="2057400"/>
            <a:ext cx="2062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"/>
          <p:cNvSpPr/>
          <p:nvPr/>
        </p:nvSpPr>
        <p:spPr>
          <a:xfrm flipH="1">
            <a:off x="6357960" y="2050920"/>
            <a:ext cx="822240" cy="24638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"/>
          <p:cNvSpPr/>
          <p:nvPr/>
        </p:nvSpPr>
        <p:spPr>
          <a:xfrm>
            <a:off x="4932360" y="4565520"/>
            <a:ext cx="2040120" cy="343440"/>
          </a:xfrm>
          <a:custGeom>
            <a:avLst/>
            <a:gdLst/>
            <a:ahLst/>
            <a:rect l="0" t="0" r="r" b="b"/>
            <a:pathLst>
              <a:path w="5667" h="954">
                <a:moveTo>
                  <a:pt x="4" y="8"/>
                </a:moveTo>
                <a:lnTo>
                  <a:pt x="5667" y="0"/>
                </a:lnTo>
                <a:lnTo>
                  <a:pt x="5667" y="954"/>
                </a:lnTo>
                <a:lnTo>
                  <a:pt x="5588" y="954"/>
                </a:lnTo>
                <a:lnTo>
                  <a:pt x="5482" y="954"/>
                </a:lnTo>
                <a:lnTo>
                  <a:pt x="5402" y="901"/>
                </a:lnTo>
                <a:lnTo>
                  <a:pt x="5270" y="875"/>
                </a:lnTo>
                <a:lnTo>
                  <a:pt x="5191" y="875"/>
                </a:lnTo>
                <a:lnTo>
                  <a:pt x="5111" y="848"/>
                </a:lnTo>
                <a:lnTo>
                  <a:pt x="4979" y="848"/>
                </a:lnTo>
                <a:lnTo>
                  <a:pt x="4873" y="848"/>
                </a:lnTo>
                <a:lnTo>
                  <a:pt x="4767" y="848"/>
                </a:lnTo>
                <a:lnTo>
                  <a:pt x="4688" y="875"/>
                </a:lnTo>
                <a:lnTo>
                  <a:pt x="4609" y="875"/>
                </a:lnTo>
                <a:lnTo>
                  <a:pt x="4529" y="875"/>
                </a:lnTo>
                <a:lnTo>
                  <a:pt x="4371" y="901"/>
                </a:lnTo>
                <a:lnTo>
                  <a:pt x="4238" y="901"/>
                </a:lnTo>
                <a:lnTo>
                  <a:pt x="4159" y="901"/>
                </a:lnTo>
                <a:lnTo>
                  <a:pt x="4027" y="901"/>
                </a:lnTo>
                <a:lnTo>
                  <a:pt x="3841" y="901"/>
                </a:lnTo>
                <a:lnTo>
                  <a:pt x="3762" y="928"/>
                </a:lnTo>
                <a:lnTo>
                  <a:pt x="3656" y="928"/>
                </a:lnTo>
                <a:lnTo>
                  <a:pt x="3524" y="928"/>
                </a:lnTo>
                <a:lnTo>
                  <a:pt x="3392" y="901"/>
                </a:lnTo>
                <a:lnTo>
                  <a:pt x="3312" y="875"/>
                </a:lnTo>
                <a:lnTo>
                  <a:pt x="3233" y="875"/>
                </a:lnTo>
                <a:lnTo>
                  <a:pt x="3048" y="875"/>
                </a:lnTo>
                <a:lnTo>
                  <a:pt x="2889" y="875"/>
                </a:lnTo>
                <a:lnTo>
                  <a:pt x="2808" y="875"/>
                </a:lnTo>
                <a:lnTo>
                  <a:pt x="2729" y="875"/>
                </a:lnTo>
                <a:lnTo>
                  <a:pt x="2597" y="901"/>
                </a:lnTo>
                <a:lnTo>
                  <a:pt x="2438" y="901"/>
                </a:lnTo>
                <a:lnTo>
                  <a:pt x="2332" y="875"/>
                </a:lnTo>
                <a:lnTo>
                  <a:pt x="2226" y="875"/>
                </a:lnTo>
                <a:lnTo>
                  <a:pt x="2147" y="848"/>
                </a:lnTo>
                <a:lnTo>
                  <a:pt x="2068" y="822"/>
                </a:lnTo>
                <a:lnTo>
                  <a:pt x="1962" y="795"/>
                </a:lnTo>
                <a:lnTo>
                  <a:pt x="1856" y="795"/>
                </a:lnTo>
                <a:lnTo>
                  <a:pt x="1644" y="795"/>
                </a:lnTo>
                <a:lnTo>
                  <a:pt x="1406" y="769"/>
                </a:lnTo>
                <a:lnTo>
                  <a:pt x="1274" y="769"/>
                </a:lnTo>
                <a:lnTo>
                  <a:pt x="1089" y="769"/>
                </a:lnTo>
                <a:lnTo>
                  <a:pt x="877" y="769"/>
                </a:lnTo>
                <a:lnTo>
                  <a:pt x="798" y="795"/>
                </a:lnTo>
                <a:lnTo>
                  <a:pt x="692" y="795"/>
                </a:lnTo>
                <a:lnTo>
                  <a:pt x="612" y="795"/>
                </a:lnTo>
                <a:lnTo>
                  <a:pt x="427" y="795"/>
                </a:lnTo>
                <a:lnTo>
                  <a:pt x="348" y="795"/>
                </a:lnTo>
                <a:lnTo>
                  <a:pt x="268" y="795"/>
                </a:lnTo>
                <a:lnTo>
                  <a:pt x="189" y="795"/>
                </a:lnTo>
                <a:lnTo>
                  <a:pt x="83" y="795"/>
                </a:lnTo>
                <a:lnTo>
                  <a:pt x="0" y="791"/>
                </a:lnTo>
                <a:lnTo>
                  <a:pt x="26" y="791"/>
                </a:lnTo>
                <a:lnTo>
                  <a:pt x="4" y="769"/>
                </a:lnTo>
                <a:lnTo>
                  <a:pt x="4" y="8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"/>
          <p:cNvSpPr txBox="1"/>
          <p:nvPr/>
        </p:nvSpPr>
        <p:spPr>
          <a:xfrm>
            <a:off x="6581880" y="5062680"/>
            <a:ext cx="19684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Simulated Dat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(Surface pl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"/>
          <p:cNvSpPr/>
          <p:nvPr/>
        </p:nvSpPr>
        <p:spPr>
          <a:xfrm flipH="1">
            <a:off x="6426360" y="5270400"/>
            <a:ext cx="190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"/>
          <p:cNvSpPr/>
          <p:nvPr/>
        </p:nvSpPr>
        <p:spPr>
          <a:xfrm flipH="1" flipV="1">
            <a:off x="6051600" y="4889520"/>
            <a:ext cx="374760" cy="3747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"/>
          <p:cNvSpPr/>
          <p:nvPr/>
        </p:nvSpPr>
        <p:spPr>
          <a:xfrm>
            <a:off x="8674200" y="3565440"/>
            <a:ext cx="1648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"/>
          <p:cNvSpPr/>
          <p:nvPr/>
        </p:nvSpPr>
        <p:spPr>
          <a:xfrm flipH="1">
            <a:off x="8305920" y="3565440"/>
            <a:ext cx="533160" cy="984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"/>
          <p:cNvSpPr/>
          <p:nvPr/>
        </p:nvSpPr>
        <p:spPr>
          <a:xfrm>
            <a:off x="5073480" y="2860560"/>
            <a:ext cx="905400" cy="57600"/>
          </a:xfrm>
          <a:custGeom>
            <a:avLst/>
            <a:gdLst/>
            <a:ahLst/>
            <a:rect l="0" t="0" r="r" b="b"/>
            <a:pathLst>
              <a:path fill="none" w="2515" h="160">
                <a:moveTo>
                  <a:pt x="0" y="71"/>
                </a:moveTo>
                <a:lnTo>
                  <a:pt x="26" y="62"/>
                </a:lnTo>
                <a:lnTo>
                  <a:pt x="52" y="53"/>
                </a:lnTo>
                <a:lnTo>
                  <a:pt x="79" y="45"/>
                </a:lnTo>
                <a:lnTo>
                  <a:pt x="105" y="35"/>
                </a:lnTo>
                <a:lnTo>
                  <a:pt x="123" y="8"/>
                </a:lnTo>
                <a:lnTo>
                  <a:pt x="176" y="0"/>
                </a:lnTo>
                <a:lnTo>
                  <a:pt x="211" y="0"/>
                </a:lnTo>
                <a:lnTo>
                  <a:pt x="255" y="0"/>
                </a:lnTo>
                <a:lnTo>
                  <a:pt x="308" y="8"/>
                </a:lnTo>
                <a:lnTo>
                  <a:pt x="335" y="26"/>
                </a:lnTo>
                <a:lnTo>
                  <a:pt x="370" y="35"/>
                </a:lnTo>
                <a:lnTo>
                  <a:pt x="396" y="45"/>
                </a:lnTo>
                <a:lnTo>
                  <a:pt x="423" y="53"/>
                </a:lnTo>
                <a:lnTo>
                  <a:pt x="440" y="80"/>
                </a:lnTo>
                <a:lnTo>
                  <a:pt x="467" y="80"/>
                </a:lnTo>
                <a:lnTo>
                  <a:pt x="493" y="98"/>
                </a:lnTo>
                <a:lnTo>
                  <a:pt x="529" y="106"/>
                </a:lnTo>
                <a:lnTo>
                  <a:pt x="555" y="115"/>
                </a:lnTo>
                <a:lnTo>
                  <a:pt x="599" y="115"/>
                </a:lnTo>
                <a:lnTo>
                  <a:pt x="644" y="125"/>
                </a:lnTo>
                <a:lnTo>
                  <a:pt x="671" y="143"/>
                </a:lnTo>
                <a:lnTo>
                  <a:pt x="697" y="160"/>
                </a:lnTo>
                <a:lnTo>
                  <a:pt x="724" y="160"/>
                </a:lnTo>
                <a:lnTo>
                  <a:pt x="750" y="160"/>
                </a:lnTo>
                <a:lnTo>
                  <a:pt x="794" y="160"/>
                </a:lnTo>
                <a:lnTo>
                  <a:pt x="838" y="160"/>
                </a:lnTo>
                <a:lnTo>
                  <a:pt x="865" y="160"/>
                </a:lnTo>
                <a:lnTo>
                  <a:pt x="909" y="151"/>
                </a:lnTo>
                <a:lnTo>
                  <a:pt x="935" y="143"/>
                </a:lnTo>
                <a:lnTo>
                  <a:pt x="1006" y="115"/>
                </a:lnTo>
                <a:lnTo>
                  <a:pt x="1032" y="98"/>
                </a:lnTo>
                <a:lnTo>
                  <a:pt x="1059" y="80"/>
                </a:lnTo>
                <a:lnTo>
                  <a:pt x="1085" y="71"/>
                </a:lnTo>
                <a:lnTo>
                  <a:pt x="1112" y="62"/>
                </a:lnTo>
                <a:lnTo>
                  <a:pt x="1156" y="71"/>
                </a:lnTo>
                <a:lnTo>
                  <a:pt x="1182" y="80"/>
                </a:lnTo>
                <a:lnTo>
                  <a:pt x="1226" y="106"/>
                </a:lnTo>
                <a:lnTo>
                  <a:pt x="1253" y="106"/>
                </a:lnTo>
                <a:lnTo>
                  <a:pt x="1288" y="106"/>
                </a:lnTo>
                <a:lnTo>
                  <a:pt x="1315" y="125"/>
                </a:lnTo>
                <a:lnTo>
                  <a:pt x="1359" y="125"/>
                </a:lnTo>
                <a:lnTo>
                  <a:pt x="1403" y="125"/>
                </a:lnTo>
                <a:lnTo>
                  <a:pt x="1456" y="98"/>
                </a:lnTo>
                <a:lnTo>
                  <a:pt x="1482" y="62"/>
                </a:lnTo>
                <a:lnTo>
                  <a:pt x="1509" y="53"/>
                </a:lnTo>
                <a:lnTo>
                  <a:pt x="1526" y="26"/>
                </a:lnTo>
                <a:lnTo>
                  <a:pt x="1553" y="17"/>
                </a:lnTo>
                <a:lnTo>
                  <a:pt x="1579" y="8"/>
                </a:lnTo>
                <a:lnTo>
                  <a:pt x="1623" y="8"/>
                </a:lnTo>
                <a:lnTo>
                  <a:pt x="1667" y="8"/>
                </a:lnTo>
                <a:lnTo>
                  <a:pt x="1694" y="8"/>
                </a:lnTo>
                <a:lnTo>
                  <a:pt x="1756" y="26"/>
                </a:lnTo>
                <a:lnTo>
                  <a:pt x="1791" y="62"/>
                </a:lnTo>
                <a:lnTo>
                  <a:pt x="1817" y="71"/>
                </a:lnTo>
                <a:lnTo>
                  <a:pt x="1835" y="98"/>
                </a:lnTo>
                <a:lnTo>
                  <a:pt x="1861" y="98"/>
                </a:lnTo>
                <a:lnTo>
                  <a:pt x="1889" y="98"/>
                </a:lnTo>
                <a:lnTo>
                  <a:pt x="1915" y="98"/>
                </a:lnTo>
                <a:lnTo>
                  <a:pt x="1942" y="98"/>
                </a:lnTo>
                <a:lnTo>
                  <a:pt x="1968" y="98"/>
                </a:lnTo>
                <a:lnTo>
                  <a:pt x="2012" y="106"/>
                </a:lnTo>
                <a:lnTo>
                  <a:pt x="2048" y="134"/>
                </a:lnTo>
                <a:lnTo>
                  <a:pt x="2074" y="151"/>
                </a:lnTo>
                <a:lnTo>
                  <a:pt x="2101" y="151"/>
                </a:lnTo>
                <a:lnTo>
                  <a:pt x="2145" y="151"/>
                </a:lnTo>
                <a:lnTo>
                  <a:pt x="2171" y="151"/>
                </a:lnTo>
                <a:lnTo>
                  <a:pt x="2250" y="134"/>
                </a:lnTo>
                <a:lnTo>
                  <a:pt x="2277" y="125"/>
                </a:lnTo>
                <a:lnTo>
                  <a:pt x="2339" y="115"/>
                </a:lnTo>
                <a:lnTo>
                  <a:pt x="2365" y="106"/>
                </a:lnTo>
                <a:lnTo>
                  <a:pt x="2418" y="98"/>
                </a:lnTo>
                <a:lnTo>
                  <a:pt x="2453" y="89"/>
                </a:lnTo>
                <a:lnTo>
                  <a:pt x="2489" y="89"/>
                </a:lnTo>
                <a:lnTo>
                  <a:pt x="2515" y="71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6480" bIns="6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6" name=""/>
          <p:cNvGrpSpPr/>
          <p:nvPr/>
        </p:nvGrpSpPr>
        <p:grpSpPr>
          <a:xfrm>
            <a:off x="4683240" y="4562640"/>
            <a:ext cx="4016160" cy="0"/>
            <a:chOff x="4683240" y="4562640"/>
            <a:chExt cx="4016160" cy="0"/>
          </a:xfrm>
        </p:grpSpPr>
        <p:sp>
          <p:nvSpPr>
            <p:cNvPr id="2237" name=""/>
            <p:cNvSpPr/>
            <p:nvPr/>
          </p:nvSpPr>
          <p:spPr>
            <a:xfrm>
              <a:off x="4683240" y="4562640"/>
              <a:ext cx="2349360" cy="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7445520" y="4562640"/>
              <a:ext cx="126720" cy="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7683480" y="4562640"/>
              <a:ext cx="1015920" cy="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7175520" y="4562640"/>
              <a:ext cx="142920" cy="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1" name=""/>
          <p:cNvGrpSpPr/>
          <p:nvPr/>
        </p:nvGrpSpPr>
        <p:grpSpPr>
          <a:xfrm>
            <a:off x="333360" y="2039760"/>
            <a:ext cx="3090960" cy="3283200"/>
            <a:chOff x="333360" y="2039760"/>
            <a:chExt cx="3090960" cy="3283200"/>
          </a:xfrm>
        </p:grpSpPr>
        <p:sp>
          <p:nvSpPr>
            <p:cNvPr id="2242" name=""/>
            <p:cNvSpPr/>
            <p:nvPr/>
          </p:nvSpPr>
          <p:spPr>
            <a:xfrm>
              <a:off x="2635200" y="4548240"/>
              <a:ext cx="695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1905120" y="2897280"/>
              <a:ext cx="14126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4" name=""/>
            <p:cNvGrpSpPr/>
            <p:nvPr/>
          </p:nvGrpSpPr>
          <p:grpSpPr>
            <a:xfrm>
              <a:off x="333360" y="2039760"/>
              <a:ext cx="1793880" cy="841680"/>
              <a:chOff x="333360" y="2039760"/>
              <a:chExt cx="1793880" cy="841680"/>
            </a:xfrm>
          </p:grpSpPr>
          <p:sp>
            <p:nvSpPr>
              <p:cNvPr id="2245" name=""/>
              <p:cNvSpPr/>
              <p:nvPr/>
            </p:nvSpPr>
            <p:spPr>
              <a:xfrm>
                <a:off x="333360" y="2039760"/>
                <a:ext cx="1397160" cy="3016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809640" y="2039760"/>
                <a:ext cx="0" cy="285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1397160" y="2039760"/>
                <a:ext cx="0" cy="285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 flipH="1">
                <a:off x="452520" y="2106720"/>
                <a:ext cx="109440" cy="163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 flipH="1">
                <a:off x="571680" y="2108160"/>
                <a:ext cx="104760" cy="162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0" name=""/>
              <p:cNvSpPr txBox="1"/>
              <p:nvPr/>
            </p:nvSpPr>
            <p:spPr>
              <a:xfrm>
                <a:off x="853920" y="2049480"/>
                <a:ext cx="43164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0.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"/>
              <p:cNvSpPr txBox="1"/>
              <p:nvPr/>
            </p:nvSpPr>
            <p:spPr>
              <a:xfrm>
                <a:off x="1403280" y="2049480"/>
                <a:ext cx="31284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1746360" y="2182680"/>
                <a:ext cx="365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 flipH="1">
                <a:off x="1428840" y="2182680"/>
                <a:ext cx="698400" cy="698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4" name=""/>
            <p:cNvSpPr/>
            <p:nvPr/>
          </p:nvSpPr>
          <p:spPr>
            <a:xfrm>
              <a:off x="3174840" y="2913120"/>
              <a:ext cx="0" cy="428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3174840" y="3992400"/>
              <a:ext cx="0" cy="540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"/>
            <p:cNvSpPr txBox="1"/>
            <p:nvPr/>
          </p:nvSpPr>
          <p:spPr>
            <a:xfrm>
              <a:off x="2894040" y="3365640"/>
              <a:ext cx="5302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0.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0.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1778040" y="2897280"/>
              <a:ext cx="745920" cy="745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"/>
            <p:cNvSpPr/>
            <p:nvPr/>
          </p:nvSpPr>
          <p:spPr>
            <a:xfrm flipH="1">
              <a:off x="873000" y="2897280"/>
              <a:ext cx="905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873000" y="2897280"/>
              <a:ext cx="0" cy="1650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873000" y="4548240"/>
              <a:ext cx="1635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 flipV="1">
              <a:off x="2523960" y="3659040"/>
              <a:ext cx="0" cy="889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2660760" y="4917960"/>
              <a:ext cx="291960" cy="291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"/>
            <p:cNvSpPr/>
            <p:nvPr/>
          </p:nvSpPr>
          <p:spPr>
            <a:xfrm flipV="1">
              <a:off x="2806560" y="4624560"/>
              <a:ext cx="0" cy="293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2725560" y="4552920"/>
              <a:ext cx="165600" cy="165600"/>
            </a:xfrm>
            <a:custGeom>
              <a:avLst/>
              <a:gdLst/>
              <a:ahLst/>
              <a:rect l="0" t="0" r="r" b="b"/>
              <a:pathLst>
                <a:path w="460" h="460">
                  <a:moveTo>
                    <a:pt x="0" y="0"/>
                  </a:moveTo>
                  <a:lnTo>
                    <a:pt x="460" y="0"/>
                  </a:lnTo>
                  <a:lnTo>
                    <a:pt x="230" y="4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"/>
            <p:cNvSpPr txBox="1"/>
            <p:nvPr/>
          </p:nvSpPr>
          <p:spPr>
            <a:xfrm>
              <a:off x="2671920" y="4932360"/>
              <a:ext cx="3128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1471680" y="5011560"/>
              <a:ext cx="0" cy="303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7" name=""/>
            <p:cNvGrpSpPr/>
            <p:nvPr/>
          </p:nvGrpSpPr>
          <p:grpSpPr>
            <a:xfrm>
              <a:off x="776160" y="4552920"/>
              <a:ext cx="1222560" cy="770040"/>
              <a:chOff x="776160" y="4552920"/>
              <a:chExt cx="1222560" cy="770040"/>
            </a:xfrm>
          </p:grpSpPr>
          <p:sp>
            <p:nvSpPr>
              <p:cNvPr id="2268" name=""/>
              <p:cNvSpPr/>
              <p:nvPr/>
            </p:nvSpPr>
            <p:spPr>
              <a:xfrm>
                <a:off x="955800" y="5011560"/>
                <a:ext cx="1042920" cy="3031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1066680" y="5089680"/>
                <a:ext cx="303480" cy="124200"/>
              </a:xfrm>
              <a:custGeom>
                <a:avLst/>
                <a:gdLst/>
                <a:ahLst/>
                <a:rect l="0" t="0" r="r" b="b"/>
                <a:pathLst>
                  <a:path fill="none" w="843" h="345">
                    <a:moveTo>
                      <a:pt x="0" y="345"/>
                    </a:moveTo>
                    <a:lnTo>
                      <a:pt x="590" y="345"/>
                    </a:lnTo>
                    <a:lnTo>
                      <a:pt x="843" y="0"/>
                    </a:lnTo>
                    <a:lnTo>
                      <a:pt x="252" y="0"/>
                    </a:lnTo>
                    <a:lnTo>
                      <a:pt x="0" y="345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"/>
              <p:cNvSpPr txBox="1"/>
              <p:nvPr/>
            </p:nvSpPr>
            <p:spPr>
              <a:xfrm>
                <a:off x="1535040" y="5018040"/>
                <a:ext cx="43164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f2fefd"/>
                    </a:solidFill>
                    <a:latin typeface="Arial"/>
                    <a:ea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 flipH="1">
                <a:off x="776160" y="5157720"/>
                <a:ext cx="179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 flipV="1">
                <a:off x="776160" y="4552920"/>
                <a:ext cx="370080" cy="604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73" name=""/>
          <p:cNvSpPr txBox="1"/>
          <p:nvPr/>
        </p:nvSpPr>
        <p:spPr>
          <a:xfrm>
            <a:off x="7026120" y="3386160"/>
            <a:ext cx="17366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Datum plane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"/>
          <p:cNvSpPr txBox="1"/>
          <p:nvPr/>
        </p:nvSpPr>
        <p:spPr>
          <a:xfrm>
            <a:off x="1771560" y="1063800"/>
            <a:ext cx="12891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00dfca"/>
                </a:solidFill>
                <a:uFillTx/>
                <a:latin typeface="Times New Roman"/>
                <a:ea typeface="Times New Roman"/>
              </a:rPr>
              <a:t>DRA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"/>
          <p:cNvSpPr txBox="1"/>
          <p:nvPr/>
        </p:nvSpPr>
        <p:spPr>
          <a:xfrm>
            <a:off x="5381640" y="1060560"/>
            <a:ext cx="2127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00dfca"/>
                </a:solidFill>
                <a:uFillTx/>
                <a:latin typeface="Times New Roman"/>
                <a:ea typeface="Times New Roman"/>
              </a:rPr>
              <a:t>INTERP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"/>
          <p:cNvSpPr/>
          <p:nvPr/>
        </p:nvSpPr>
        <p:spPr>
          <a:xfrm>
            <a:off x="4397400" y="1952640"/>
            <a:ext cx="0" cy="384156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"/>
          <p:cNvSpPr txBox="1"/>
          <p:nvPr/>
        </p:nvSpPr>
        <p:spPr>
          <a:xfrm>
            <a:off x="1333440" y="320760"/>
            <a:ext cx="61326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ngle (Primary) Datum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8" name=""/>
          <p:cNvGrpSpPr/>
          <p:nvPr/>
        </p:nvGrpSpPr>
        <p:grpSpPr>
          <a:xfrm>
            <a:off x="333360" y="2039760"/>
            <a:ext cx="3090960" cy="3283200"/>
            <a:chOff x="333360" y="2039760"/>
            <a:chExt cx="3090960" cy="3283200"/>
          </a:xfrm>
        </p:grpSpPr>
        <p:sp>
          <p:nvSpPr>
            <p:cNvPr id="2279" name=""/>
            <p:cNvSpPr/>
            <p:nvPr/>
          </p:nvSpPr>
          <p:spPr>
            <a:xfrm>
              <a:off x="2635200" y="4548240"/>
              <a:ext cx="695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1905120" y="2897280"/>
              <a:ext cx="14126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1" name=""/>
            <p:cNvGrpSpPr/>
            <p:nvPr/>
          </p:nvGrpSpPr>
          <p:grpSpPr>
            <a:xfrm>
              <a:off x="333360" y="2039760"/>
              <a:ext cx="1793880" cy="841680"/>
              <a:chOff x="333360" y="2039760"/>
              <a:chExt cx="1793880" cy="841680"/>
            </a:xfrm>
          </p:grpSpPr>
          <p:sp>
            <p:nvSpPr>
              <p:cNvPr id="2282" name=""/>
              <p:cNvSpPr/>
              <p:nvPr/>
            </p:nvSpPr>
            <p:spPr>
              <a:xfrm>
                <a:off x="333360" y="2039760"/>
                <a:ext cx="1397160" cy="3016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809640" y="2039760"/>
                <a:ext cx="0" cy="285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1397160" y="2039760"/>
                <a:ext cx="0" cy="285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 flipH="1">
                <a:off x="452520" y="2106720"/>
                <a:ext cx="109440" cy="163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 flipH="1">
                <a:off x="571680" y="2108160"/>
                <a:ext cx="104760" cy="162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"/>
              <p:cNvSpPr txBox="1"/>
              <p:nvPr/>
            </p:nvSpPr>
            <p:spPr>
              <a:xfrm>
                <a:off x="853920" y="2049480"/>
                <a:ext cx="43164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0.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"/>
              <p:cNvSpPr txBox="1"/>
              <p:nvPr/>
            </p:nvSpPr>
            <p:spPr>
              <a:xfrm>
                <a:off x="1403280" y="2049480"/>
                <a:ext cx="31284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1746360" y="2182680"/>
                <a:ext cx="365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 flipH="1">
                <a:off x="1428840" y="2182680"/>
                <a:ext cx="698400" cy="698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1" name=""/>
            <p:cNvSpPr/>
            <p:nvPr/>
          </p:nvSpPr>
          <p:spPr>
            <a:xfrm>
              <a:off x="3174840" y="2913120"/>
              <a:ext cx="0" cy="428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3174840" y="3992400"/>
              <a:ext cx="0" cy="540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"/>
            <p:cNvSpPr txBox="1"/>
            <p:nvPr/>
          </p:nvSpPr>
          <p:spPr>
            <a:xfrm>
              <a:off x="2894040" y="3365640"/>
              <a:ext cx="5302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0.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0.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1778040" y="2897280"/>
              <a:ext cx="745920" cy="745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"/>
            <p:cNvSpPr/>
            <p:nvPr/>
          </p:nvSpPr>
          <p:spPr>
            <a:xfrm flipH="1">
              <a:off x="873000" y="2897280"/>
              <a:ext cx="905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873000" y="2897280"/>
              <a:ext cx="0" cy="1650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873000" y="4548240"/>
              <a:ext cx="1635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"/>
            <p:cNvSpPr/>
            <p:nvPr/>
          </p:nvSpPr>
          <p:spPr>
            <a:xfrm flipV="1">
              <a:off x="2523960" y="3659040"/>
              <a:ext cx="0" cy="889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2660760" y="4917960"/>
              <a:ext cx="291960" cy="291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"/>
            <p:cNvSpPr/>
            <p:nvPr/>
          </p:nvSpPr>
          <p:spPr>
            <a:xfrm flipV="1">
              <a:off x="2806560" y="4624560"/>
              <a:ext cx="0" cy="293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2725560" y="4552920"/>
              <a:ext cx="165600" cy="165600"/>
            </a:xfrm>
            <a:custGeom>
              <a:avLst/>
              <a:gdLst/>
              <a:ahLst/>
              <a:rect l="0" t="0" r="r" b="b"/>
              <a:pathLst>
                <a:path w="460" h="460">
                  <a:moveTo>
                    <a:pt x="0" y="0"/>
                  </a:moveTo>
                  <a:lnTo>
                    <a:pt x="460" y="0"/>
                  </a:lnTo>
                  <a:lnTo>
                    <a:pt x="230" y="4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"/>
            <p:cNvSpPr txBox="1"/>
            <p:nvPr/>
          </p:nvSpPr>
          <p:spPr>
            <a:xfrm>
              <a:off x="2671920" y="4932360"/>
              <a:ext cx="3128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1471680" y="5011560"/>
              <a:ext cx="0" cy="303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04" name=""/>
            <p:cNvGrpSpPr/>
            <p:nvPr/>
          </p:nvGrpSpPr>
          <p:grpSpPr>
            <a:xfrm>
              <a:off x="776160" y="4552920"/>
              <a:ext cx="1222560" cy="770040"/>
              <a:chOff x="776160" y="4552920"/>
              <a:chExt cx="1222560" cy="770040"/>
            </a:xfrm>
          </p:grpSpPr>
          <p:sp>
            <p:nvSpPr>
              <p:cNvPr id="2305" name=""/>
              <p:cNvSpPr/>
              <p:nvPr/>
            </p:nvSpPr>
            <p:spPr>
              <a:xfrm>
                <a:off x="955800" y="5011560"/>
                <a:ext cx="1042920" cy="3031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1066680" y="5089680"/>
                <a:ext cx="303480" cy="124200"/>
              </a:xfrm>
              <a:custGeom>
                <a:avLst/>
                <a:gdLst/>
                <a:ahLst/>
                <a:rect l="0" t="0" r="r" b="b"/>
                <a:pathLst>
                  <a:path fill="none" w="843" h="345">
                    <a:moveTo>
                      <a:pt x="0" y="345"/>
                    </a:moveTo>
                    <a:lnTo>
                      <a:pt x="590" y="345"/>
                    </a:lnTo>
                    <a:lnTo>
                      <a:pt x="843" y="0"/>
                    </a:lnTo>
                    <a:lnTo>
                      <a:pt x="252" y="0"/>
                    </a:lnTo>
                    <a:lnTo>
                      <a:pt x="0" y="345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"/>
              <p:cNvSpPr txBox="1"/>
              <p:nvPr/>
            </p:nvSpPr>
            <p:spPr>
              <a:xfrm>
                <a:off x="1535040" y="5018040"/>
                <a:ext cx="43164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f2fefd"/>
                    </a:solidFill>
                    <a:latin typeface="Arial"/>
                    <a:ea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 flipH="1">
                <a:off x="776160" y="5157720"/>
                <a:ext cx="179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 flipV="1">
                <a:off x="776160" y="4552920"/>
                <a:ext cx="370080" cy="604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10" name=""/>
          <p:cNvGrpSpPr/>
          <p:nvPr/>
        </p:nvGrpSpPr>
        <p:grpSpPr>
          <a:xfrm>
            <a:off x="4610160" y="1879560"/>
            <a:ext cx="4228920" cy="4027320"/>
            <a:chOff x="4610160" y="1879560"/>
            <a:chExt cx="4228920" cy="4027320"/>
          </a:xfrm>
        </p:grpSpPr>
        <p:sp>
          <p:nvSpPr>
            <p:cNvPr id="2311" name=""/>
            <p:cNvSpPr/>
            <p:nvPr/>
          </p:nvSpPr>
          <p:spPr>
            <a:xfrm>
              <a:off x="5049720" y="2036880"/>
              <a:ext cx="438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5594400" y="203688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5978520" y="2886120"/>
              <a:ext cx="746280" cy="745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5073480" y="2886120"/>
              <a:ext cx="0" cy="1650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"/>
            <p:cNvSpPr/>
            <p:nvPr/>
          </p:nvSpPr>
          <p:spPr>
            <a:xfrm flipV="1">
              <a:off x="6724800" y="3648240"/>
              <a:ext cx="0" cy="888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7989840" y="370368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5095800" y="4508640"/>
              <a:ext cx="1635480" cy="35280"/>
            </a:xfrm>
            <a:custGeom>
              <a:avLst/>
              <a:gdLst/>
              <a:ahLst/>
              <a:rect l="0" t="0" r="r" b="b"/>
              <a:pathLst>
                <a:path fill="none" w="4543" h="98">
                  <a:moveTo>
                    <a:pt x="0" y="98"/>
                  </a:moveTo>
                  <a:lnTo>
                    <a:pt x="132" y="53"/>
                  </a:lnTo>
                  <a:lnTo>
                    <a:pt x="264" y="98"/>
                  </a:lnTo>
                  <a:lnTo>
                    <a:pt x="440" y="98"/>
                  </a:lnTo>
                  <a:lnTo>
                    <a:pt x="529" y="98"/>
                  </a:lnTo>
                  <a:lnTo>
                    <a:pt x="661" y="53"/>
                  </a:lnTo>
                  <a:lnTo>
                    <a:pt x="837" y="53"/>
                  </a:lnTo>
                  <a:lnTo>
                    <a:pt x="996" y="35"/>
                  </a:lnTo>
                  <a:lnTo>
                    <a:pt x="1411" y="80"/>
                  </a:lnTo>
                  <a:lnTo>
                    <a:pt x="2160" y="44"/>
                  </a:lnTo>
                  <a:lnTo>
                    <a:pt x="2867" y="0"/>
                  </a:lnTo>
                  <a:lnTo>
                    <a:pt x="3572" y="53"/>
                  </a:lnTo>
                  <a:lnTo>
                    <a:pt x="3705" y="8"/>
                  </a:lnTo>
                  <a:lnTo>
                    <a:pt x="3837" y="98"/>
                  </a:lnTo>
                  <a:lnTo>
                    <a:pt x="4013" y="8"/>
                  </a:lnTo>
                  <a:lnTo>
                    <a:pt x="4146" y="98"/>
                  </a:lnTo>
                  <a:lnTo>
                    <a:pt x="4278" y="53"/>
                  </a:lnTo>
                  <a:lnTo>
                    <a:pt x="4410" y="53"/>
                  </a:lnTo>
                  <a:lnTo>
                    <a:pt x="4543" y="98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"/>
            <p:cNvSpPr txBox="1"/>
            <p:nvPr/>
          </p:nvSpPr>
          <p:spPr>
            <a:xfrm>
              <a:off x="7367760" y="1879560"/>
              <a:ext cx="94608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atum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eatu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"/>
            <p:cNvSpPr/>
            <p:nvPr/>
          </p:nvSpPr>
          <p:spPr>
            <a:xfrm flipH="1">
              <a:off x="7178760" y="2057400"/>
              <a:ext cx="206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0" name=""/>
            <p:cNvGrpSpPr/>
            <p:nvPr/>
          </p:nvGrpSpPr>
          <p:grpSpPr>
            <a:xfrm>
              <a:off x="4610160" y="4500720"/>
              <a:ext cx="2705040" cy="6120"/>
              <a:chOff x="4610160" y="4500720"/>
              <a:chExt cx="2705040" cy="6120"/>
            </a:xfrm>
          </p:grpSpPr>
          <p:sp>
            <p:nvSpPr>
              <p:cNvPr id="2321" name=""/>
              <p:cNvSpPr/>
              <p:nvPr/>
            </p:nvSpPr>
            <p:spPr>
              <a:xfrm>
                <a:off x="4610160" y="4500720"/>
                <a:ext cx="126216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6284880" y="4506840"/>
                <a:ext cx="1270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6523200" y="4506840"/>
                <a:ext cx="7920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6014880" y="4506840"/>
                <a:ext cx="14292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5" name=""/>
            <p:cNvSpPr/>
            <p:nvPr/>
          </p:nvSpPr>
          <p:spPr>
            <a:xfrm flipH="1">
              <a:off x="6357960" y="2050920"/>
              <a:ext cx="822240" cy="2463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4743360" y="421632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4743360" y="4572000"/>
              <a:ext cx="0" cy="819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4743360" y="5400720"/>
              <a:ext cx="1335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"/>
            <p:cNvSpPr txBox="1"/>
            <p:nvPr/>
          </p:nvSpPr>
          <p:spPr>
            <a:xfrm>
              <a:off x="4889520" y="5205240"/>
              <a:ext cx="165744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2fefd"/>
                  </a:solidFill>
                  <a:latin typeface="Times New Roman"/>
                  <a:ea typeface="Times New Roman"/>
                </a:rPr>
                <a:t>0.2 flatne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2fefd"/>
                  </a:solidFill>
                  <a:latin typeface="Times New Roman"/>
                  <a:ea typeface="Times New Roman"/>
                </a:rPr>
                <a:t>tolerance zo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4932360" y="4565520"/>
              <a:ext cx="2040120" cy="343440"/>
            </a:xfrm>
            <a:custGeom>
              <a:avLst/>
              <a:gdLst/>
              <a:ahLst/>
              <a:rect l="0" t="0" r="r" b="b"/>
              <a:pathLst>
                <a:path w="5667" h="954">
                  <a:moveTo>
                    <a:pt x="4" y="8"/>
                  </a:moveTo>
                  <a:lnTo>
                    <a:pt x="5667" y="0"/>
                  </a:lnTo>
                  <a:lnTo>
                    <a:pt x="5667" y="954"/>
                  </a:lnTo>
                  <a:lnTo>
                    <a:pt x="5588" y="954"/>
                  </a:lnTo>
                  <a:lnTo>
                    <a:pt x="5482" y="954"/>
                  </a:lnTo>
                  <a:lnTo>
                    <a:pt x="5402" y="901"/>
                  </a:lnTo>
                  <a:lnTo>
                    <a:pt x="5270" y="875"/>
                  </a:lnTo>
                  <a:lnTo>
                    <a:pt x="5191" y="875"/>
                  </a:lnTo>
                  <a:lnTo>
                    <a:pt x="5111" y="848"/>
                  </a:lnTo>
                  <a:lnTo>
                    <a:pt x="4979" y="848"/>
                  </a:lnTo>
                  <a:lnTo>
                    <a:pt x="4873" y="848"/>
                  </a:lnTo>
                  <a:lnTo>
                    <a:pt x="4767" y="848"/>
                  </a:lnTo>
                  <a:lnTo>
                    <a:pt x="4688" y="875"/>
                  </a:lnTo>
                  <a:lnTo>
                    <a:pt x="4609" y="875"/>
                  </a:lnTo>
                  <a:lnTo>
                    <a:pt x="4529" y="875"/>
                  </a:lnTo>
                  <a:lnTo>
                    <a:pt x="4371" y="901"/>
                  </a:lnTo>
                  <a:lnTo>
                    <a:pt x="4238" y="901"/>
                  </a:lnTo>
                  <a:lnTo>
                    <a:pt x="4159" y="901"/>
                  </a:lnTo>
                  <a:lnTo>
                    <a:pt x="4027" y="901"/>
                  </a:lnTo>
                  <a:lnTo>
                    <a:pt x="3841" y="901"/>
                  </a:lnTo>
                  <a:lnTo>
                    <a:pt x="3762" y="928"/>
                  </a:lnTo>
                  <a:lnTo>
                    <a:pt x="3656" y="928"/>
                  </a:lnTo>
                  <a:lnTo>
                    <a:pt x="3524" y="928"/>
                  </a:lnTo>
                  <a:lnTo>
                    <a:pt x="3392" y="901"/>
                  </a:lnTo>
                  <a:lnTo>
                    <a:pt x="3312" y="875"/>
                  </a:lnTo>
                  <a:lnTo>
                    <a:pt x="3233" y="875"/>
                  </a:lnTo>
                  <a:lnTo>
                    <a:pt x="3048" y="875"/>
                  </a:lnTo>
                  <a:lnTo>
                    <a:pt x="2889" y="875"/>
                  </a:lnTo>
                  <a:lnTo>
                    <a:pt x="2808" y="875"/>
                  </a:lnTo>
                  <a:lnTo>
                    <a:pt x="2729" y="875"/>
                  </a:lnTo>
                  <a:lnTo>
                    <a:pt x="2597" y="901"/>
                  </a:lnTo>
                  <a:lnTo>
                    <a:pt x="2438" y="901"/>
                  </a:lnTo>
                  <a:lnTo>
                    <a:pt x="2332" y="875"/>
                  </a:lnTo>
                  <a:lnTo>
                    <a:pt x="2226" y="875"/>
                  </a:lnTo>
                  <a:lnTo>
                    <a:pt x="2147" y="848"/>
                  </a:lnTo>
                  <a:lnTo>
                    <a:pt x="2068" y="822"/>
                  </a:lnTo>
                  <a:lnTo>
                    <a:pt x="1962" y="795"/>
                  </a:lnTo>
                  <a:lnTo>
                    <a:pt x="1856" y="795"/>
                  </a:lnTo>
                  <a:lnTo>
                    <a:pt x="1644" y="795"/>
                  </a:lnTo>
                  <a:lnTo>
                    <a:pt x="1406" y="769"/>
                  </a:lnTo>
                  <a:lnTo>
                    <a:pt x="1274" y="769"/>
                  </a:lnTo>
                  <a:lnTo>
                    <a:pt x="1089" y="769"/>
                  </a:lnTo>
                  <a:lnTo>
                    <a:pt x="877" y="769"/>
                  </a:lnTo>
                  <a:lnTo>
                    <a:pt x="798" y="795"/>
                  </a:lnTo>
                  <a:lnTo>
                    <a:pt x="692" y="795"/>
                  </a:lnTo>
                  <a:lnTo>
                    <a:pt x="612" y="795"/>
                  </a:lnTo>
                  <a:lnTo>
                    <a:pt x="427" y="795"/>
                  </a:lnTo>
                  <a:lnTo>
                    <a:pt x="348" y="795"/>
                  </a:lnTo>
                  <a:lnTo>
                    <a:pt x="268" y="795"/>
                  </a:lnTo>
                  <a:lnTo>
                    <a:pt x="189" y="795"/>
                  </a:lnTo>
                  <a:lnTo>
                    <a:pt x="83" y="795"/>
                  </a:lnTo>
                  <a:lnTo>
                    <a:pt x="0" y="791"/>
                  </a:lnTo>
                  <a:lnTo>
                    <a:pt x="26" y="791"/>
                  </a:lnTo>
                  <a:lnTo>
                    <a:pt x="4" y="769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"/>
            <p:cNvSpPr txBox="1"/>
            <p:nvPr/>
          </p:nvSpPr>
          <p:spPr>
            <a:xfrm>
              <a:off x="6581880" y="5062680"/>
              <a:ext cx="196848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2fefd"/>
                  </a:solidFill>
                  <a:latin typeface="Times New Roman"/>
                  <a:ea typeface="Times New Roman"/>
                </a:rPr>
                <a:t>Simulated Datu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2fefd"/>
                  </a:solidFill>
                  <a:latin typeface="Times New Roman"/>
                  <a:ea typeface="Times New Roman"/>
                </a:rPr>
                <a:t>(Surface plate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"/>
            <p:cNvSpPr/>
            <p:nvPr/>
          </p:nvSpPr>
          <p:spPr>
            <a:xfrm flipH="1">
              <a:off x="6426360" y="5270400"/>
              <a:ext cx="1904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"/>
            <p:cNvSpPr/>
            <p:nvPr/>
          </p:nvSpPr>
          <p:spPr>
            <a:xfrm flipH="1" flipV="1">
              <a:off x="6051600" y="4889520"/>
              <a:ext cx="374760" cy="3747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8674200" y="3565440"/>
              <a:ext cx="164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"/>
            <p:cNvSpPr/>
            <p:nvPr/>
          </p:nvSpPr>
          <p:spPr>
            <a:xfrm flipH="1">
              <a:off x="8305920" y="3565440"/>
              <a:ext cx="533160" cy="9842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5073480" y="2860560"/>
              <a:ext cx="905400" cy="57600"/>
            </a:xfrm>
            <a:custGeom>
              <a:avLst/>
              <a:gdLst/>
              <a:ahLst/>
              <a:rect l="0" t="0" r="r" b="b"/>
              <a:pathLst>
                <a:path fill="none" w="2515" h="160">
                  <a:moveTo>
                    <a:pt x="0" y="71"/>
                  </a:moveTo>
                  <a:lnTo>
                    <a:pt x="26" y="62"/>
                  </a:lnTo>
                  <a:lnTo>
                    <a:pt x="52" y="53"/>
                  </a:lnTo>
                  <a:lnTo>
                    <a:pt x="79" y="45"/>
                  </a:lnTo>
                  <a:lnTo>
                    <a:pt x="105" y="35"/>
                  </a:lnTo>
                  <a:lnTo>
                    <a:pt x="123" y="8"/>
                  </a:lnTo>
                  <a:lnTo>
                    <a:pt x="176" y="0"/>
                  </a:lnTo>
                  <a:lnTo>
                    <a:pt x="211" y="0"/>
                  </a:lnTo>
                  <a:lnTo>
                    <a:pt x="255" y="0"/>
                  </a:lnTo>
                  <a:lnTo>
                    <a:pt x="308" y="8"/>
                  </a:lnTo>
                  <a:lnTo>
                    <a:pt x="335" y="26"/>
                  </a:lnTo>
                  <a:lnTo>
                    <a:pt x="370" y="35"/>
                  </a:lnTo>
                  <a:lnTo>
                    <a:pt x="396" y="45"/>
                  </a:lnTo>
                  <a:lnTo>
                    <a:pt x="423" y="53"/>
                  </a:lnTo>
                  <a:lnTo>
                    <a:pt x="440" y="80"/>
                  </a:lnTo>
                  <a:lnTo>
                    <a:pt x="467" y="80"/>
                  </a:lnTo>
                  <a:lnTo>
                    <a:pt x="493" y="98"/>
                  </a:lnTo>
                  <a:lnTo>
                    <a:pt x="529" y="106"/>
                  </a:lnTo>
                  <a:lnTo>
                    <a:pt x="555" y="115"/>
                  </a:lnTo>
                  <a:lnTo>
                    <a:pt x="599" y="115"/>
                  </a:lnTo>
                  <a:lnTo>
                    <a:pt x="644" y="125"/>
                  </a:lnTo>
                  <a:lnTo>
                    <a:pt x="671" y="143"/>
                  </a:lnTo>
                  <a:lnTo>
                    <a:pt x="697" y="160"/>
                  </a:lnTo>
                  <a:lnTo>
                    <a:pt x="724" y="160"/>
                  </a:lnTo>
                  <a:lnTo>
                    <a:pt x="750" y="160"/>
                  </a:lnTo>
                  <a:lnTo>
                    <a:pt x="794" y="160"/>
                  </a:lnTo>
                  <a:lnTo>
                    <a:pt x="838" y="160"/>
                  </a:lnTo>
                  <a:lnTo>
                    <a:pt x="865" y="160"/>
                  </a:lnTo>
                  <a:lnTo>
                    <a:pt x="909" y="151"/>
                  </a:lnTo>
                  <a:lnTo>
                    <a:pt x="935" y="143"/>
                  </a:lnTo>
                  <a:lnTo>
                    <a:pt x="1006" y="115"/>
                  </a:lnTo>
                  <a:lnTo>
                    <a:pt x="1032" y="98"/>
                  </a:lnTo>
                  <a:lnTo>
                    <a:pt x="1059" y="80"/>
                  </a:lnTo>
                  <a:lnTo>
                    <a:pt x="1085" y="71"/>
                  </a:lnTo>
                  <a:lnTo>
                    <a:pt x="1112" y="62"/>
                  </a:lnTo>
                  <a:lnTo>
                    <a:pt x="1156" y="71"/>
                  </a:lnTo>
                  <a:lnTo>
                    <a:pt x="1182" y="80"/>
                  </a:lnTo>
                  <a:lnTo>
                    <a:pt x="1226" y="106"/>
                  </a:lnTo>
                  <a:lnTo>
                    <a:pt x="1253" y="106"/>
                  </a:lnTo>
                  <a:lnTo>
                    <a:pt x="1288" y="106"/>
                  </a:lnTo>
                  <a:lnTo>
                    <a:pt x="1315" y="125"/>
                  </a:lnTo>
                  <a:lnTo>
                    <a:pt x="1359" y="125"/>
                  </a:lnTo>
                  <a:lnTo>
                    <a:pt x="1403" y="125"/>
                  </a:lnTo>
                  <a:lnTo>
                    <a:pt x="1456" y="98"/>
                  </a:lnTo>
                  <a:lnTo>
                    <a:pt x="1482" y="62"/>
                  </a:lnTo>
                  <a:lnTo>
                    <a:pt x="1509" y="53"/>
                  </a:lnTo>
                  <a:lnTo>
                    <a:pt x="1526" y="26"/>
                  </a:lnTo>
                  <a:lnTo>
                    <a:pt x="1553" y="17"/>
                  </a:lnTo>
                  <a:lnTo>
                    <a:pt x="1579" y="8"/>
                  </a:lnTo>
                  <a:lnTo>
                    <a:pt x="1623" y="8"/>
                  </a:lnTo>
                  <a:lnTo>
                    <a:pt x="1667" y="8"/>
                  </a:lnTo>
                  <a:lnTo>
                    <a:pt x="1694" y="8"/>
                  </a:lnTo>
                  <a:lnTo>
                    <a:pt x="1756" y="26"/>
                  </a:lnTo>
                  <a:lnTo>
                    <a:pt x="1791" y="62"/>
                  </a:lnTo>
                  <a:lnTo>
                    <a:pt x="1817" y="71"/>
                  </a:lnTo>
                  <a:lnTo>
                    <a:pt x="1835" y="98"/>
                  </a:lnTo>
                  <a:lnTo>
                    <a:pt x="1861" y="98"/>
                  </a:lnTo>
                  <a:lnTo>
                    <a:pt x="1889" y="98"/>
                  </a:lnTo>
                  <a:lnTo>
                    <a:pt x="1915" y="98"/>
                  </a:lnTo>
                  <a:lnTo>
                    <a:pt x="1942" y="98"/>
                  </a:lnTo>
                  <a:lnTo>
                    <a:pt x="1968" y="98"/>
                  </a:lnTo>
                  <a:lnTo>
                    <a:pt x="2012" y="106"/>
                  </a:lnTo>
                  <a:lnTo>
                    <a:pt x="2048" y="134"/>
                  </a:lnTo>
                  <a:lnTo>
                    <a:pt x="2074" y="151"/>
                  </a:lnTo>
                  <a:lnTo>
                    <a:pt x="2101" y="151"/>
                  </a:lnTo>
                  <a:lnTo>
                    <a:pt x="2145" y="151"/>
                  </a:lnTo>
                  <a:lnTo>
                    <a:pt x="2171" y="151"/>
                  </a:lnTo>
                  <a:lnTo>
                    <a:pt x="2250" y="134"/>
                  </a:lnTo>
                  <a:lnTo>
                    <a:pt x="2277" y="125"/>
                  </a:lnTo>
                  <a:lnTo>
                    <a:pt x="2339" y="115"/>
                  </a:lnTo>
                  <a:lnTo>
                    <a:pt x="2365" y="106"/>
                  </a:lnTo>
                  <a:lnTo>
                    <a:pt x="2418" y="98"/>
                  </a:lnTo>
                  <a:lnTo>
                    <a:pt x="2453" y="89"/>
                  </a:lnTo>
                  <a:lnTo>
                    <a:pt x="2489" y="89"/>
                  </a:lnTo>
                  <a:lnTo>
                    <a:pt x="2515" y="71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7" name=""/>
            <p:cNvGrpSpPr/>
            <p:nvPr/>
          </p:nvGrpSpPr>
          <p:grpSpPr>
            <a:xfrm>
              <a:off x="4667400" y="4584600"/>
              <a:ext cx="4016160" cy="0"/>
              <a:chOff x="4667400" y="4584600"/>
              <a:chExt cx="4016160" cy="0"/>
            </a:xfrm>
          </p:grpSpPr>
          <p:sp>
            <p:nvSpPr>
              <p:cNvPr id="2338" name=""/>
              <p:cNvSpPr/>
              <p:nvPr/>
            </p:nvSpPr>
            <p:spPr>
              <a:xfrm>
                <a:off x="4667400" y="4584600"/>
                <a:ext cx="2349360" cy="0"/>
              </a:xfrm>
              <a:prstGeom prst="line">
                <a:avLst/>
              </a:prstGeom>
              <a:ln w="255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7429680" y="4584600"/>
                <a:ext cx="126720" cy="0"/>
              </a:xfrm>
              <a:prstGeom prst="line">
                <a:avLst/>
              </a:prstGeom>
              <a:ln w="255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7667640" y="4584600"/>
                <a:ext cx="1015920" cy="0"/>
              </a:xfrm>
              <a:prstGeom prst="line">
                <a:avLst/>
              </a:prstGeom>
              <a:ln w="255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7159680" y="4584600"/>
                <a:ext cx="142920" cy="0"/>
              </a:xfrm>
              <a:prstGeom prst="line">
                <a:avLst/>
              </a:prstGeom>
              <a:ln w="255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2" name=""/>
            <p:cNvSpPr txBox="1"/>
            <p:nvPr/>
          </p:nvSpPr>
          <p:spPr>
            <a:xfrm>
              <a:off x="7026120" y="3386160"/>
              <a:ext cx="17366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2fefd"/>
                  </a:solidFill>
                  <a:latin typeface="Times New Roman"/>
                  <a:ea typeface="Times New Roman"/>
                </a:rPr>
                <a:t>Datum plane 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"/>
          <p:cNvSpPr txBox="1"/>
          <p:nvPr/>
        </p:nvSpPr>
        <p:spPr>
          <a:xfrm>
            <a:off x="1746360" y="1063800"/>
            <a:ext cx="1339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dfca"/>
                </a:solidFill>
                <a:uFillTx/>
                <a:latin typeface="Times New Roman"/>
                <a:ea typeface="Times New Roman"/>
              </a:rPr>
              <a:t>DRA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"/>
          <p:cNvSpPr txBox="1"/>
          <p:nvPr/>
        </p:nvSpPr>
        <p:spPr>
          <a:xfrm>
            <a:off x="5381640" y="1060560"/>
            <a:ext cx="2266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dfca"/>
                </a:solidFill>
                <a:uFillTx/>
                <a:latin typeface="Times New Roman"/>
                <a:ea typeface="Times New Roman"/>
              </a:rPr>
              <a:t>INTERP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"/>
          <p:cNvSpPr/>
          <p:nvPr/>
        </p:nvSpPr>
        <p:spPr>
          <a:xfrm>
            <a:off x="4397400" y="1952640"/>
            <a:ext cx="0" cy="384156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"/>
          <p:cNvSpPr txBox="1"/>
          <p:nvPr/>
        </p:nvSpPr>
        <p:spPr>
          <a:xfrm>
            <a:off x="1333440" y="320760"/>
            <a:ext cx="61326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ngle (Primary) Datum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7" name=""/>
          <p:cNvGrpSpPr/>
          <p:nvPr/>
        </p:nvGrpSpPr>
        <p:grpSpPr>
          <a:xfrm>
            <a:off x="333360" y="2039760"/>
            <a:ext cx="3090960" cy="3283200"/>
            <a:chOff x="333360" y="2039760"/>
            <a:chExt cx="3090960" cy="3283200"/>
          </a:xfrm>
        </p:grpSpPr>
        <p:sp>
          <p:nvSpPr>
            <p:cNvPr id="2348" name=""/>
            <p:cNvSpPr/>
            <p:nvPr/>
          </p:nvSpPr>
          <p:spPr>
            <a:xfrm>
              <a:off x="2635200" y="4548240"/>
              <a:ext cx="695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1905120" y="2897280"/>
              <a:ext cx="14126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50" name=""/>
            <p:cNvGrpSpPr/>
            <p:nvPr/>
          </p:nvGrpSpPr>
          <p:grpSpPr>
            <a:xfrm>
              <a:off x="333360" y="2039760"/>
              <a:ext cx="1793880" cy="841680"/>
              <a:chOff x="333360" y="2039760"/>
              <a:chExt cx="1793880" cy="841680"/>
            </a:xfrm>
          </p:grpSpPr>
          <p:sp>
            <p:nvSpPr>
              <p:cNvPr id="2351" name=""/>
              <p:cNvSpPr/>
              <p:nvPr/>
            </p:nvSpPr>
            <p:spPr>
              <a:xfrm>
                <a:off x="333360" y="2039760"/>
                <a:ext cx="1397160" cy="3016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809640" y="2039760"/>
                <a:ext cx="0" cy="285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1397160" y="2039760"/>
                <a:ext cx="0" cy="285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 flipH="1">
                <a:off x="452520" y="2106720"/>
                <a:ext cx="109440" cy="163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 flipH="1">
                <a:off x="571680" y="2108160"/>
                <a:ext cx="104760" cy="162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6" name=""/>
              <p:cNvSpPr txBox="1"/>
              <p:nvPr/>
            </p:nvSpPr>
            <p:spPr>
              <a:xfrm>
                <a:off x="853920" y="2049480"/>
                <a:ext cx="43164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0.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7" name=""/>
              <p:cNvSpPr txBox="1"/>
              <p:nvPr/>
            </p:nvSpPr>
            <p:spPr>
              <a:xfrm>
                <a:off x="1403280" y="2049480"/>
                <a:ext cx="31284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1746360" y="2182680"/>
                <a:ext cx="365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 flipH="1">
                <a:off x="1428840" y="2182680"/>
                <a:ext cx="698400" cy="698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0" name=""/>
            <p:cNvSpPr/>
            <p:nvPr/>
          </p:nvSpPr>
          <p:spPr>
            <a:xfrm>
              <a:off x="3174840" y="2913120"/>
              <a:ext cx="0" cy="428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3174840" y="3992400"/>
              <a:ext cx="0" cy="540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"/>
            <p:cNvSpPr txBox="1"/>
            <p:nvPr/>
          </p:nvSpPr>
          <p:spPr>
            <a:xfrm>
              <a:off x="2894040" y="3365640"/>
              <a:ext cx="5302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0.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0.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1778040" y="2897280"/>
              <a:ext cx="745920" cy="745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"/>
            <p:cNvSpPr/>
            <p:nvPr/>
          </p:nvSpPr>
          <p:spPr>
            <a:xfrm flipH="1">
              <a:off x="873000" y="2897280"/>
              <a:ext cx="905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873000" y="2897280"/>
              <a:ext cx="0" cy="1650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873000" y="4548240"/>
              <a:ext cx="1635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"/>
            <p:cNvSpPr/>
            <p:nvPr/>
          </p:nvSpPr>
          <p:spPr>
            <a:xfrm flipV="1">
              <a:off x="2523960" y="3659040"/>
              <a:ext cx="0" cy="889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2660760" y="4917960"/>
              <a:ext cx="291960" cy="291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"/>
            <p:cNvSpPr/>
            <p:nvPr/>
          </p:nvSpPr>
          <p:spPr>
            <a:xfrm flipV="1">
              <a:off x="2806560" y="4624560"/>
              <a:ext cx="0" cy="293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2725560" y="4552920"/>
              <a:ext cx="165600" cy="165600"/>
            </a:xfrm>
            <a:custGeom>
              <a:avLst/>
              <a:gdLst/>
              <a:ahLst/>
              <a:rect l="0" t="0" r="r" b="b"/>
              <a:pathLst>
                <a:path w="460" h="460">
                  <a:moveTo>
                    <a:pt x="0" y="0"/>
                  </a:moveTo>
                  <a:lnTo>
                    <a:pt x="460" y="0"/>
                  </a:lnTo>
                  <a:lnTo>
                    <a:pt x="230" y="4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"/>
            <p:cNvSpPr txBox="1"/>
            <p:nvPr/>
          </p:nvSpPr>
          <p:spPr>
            <a:xfrm>
              <a:off x="2671920" y="4932360"/>
              <a:ext cx="3128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1471680" y="5011560"/>
              <a:ext cx="0" cy="303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3" name=""/>
            <p:cNvGrpSpPr/>
            <p:nvPr/>
          </p:nvGrpSpPr>
          <p:grpSpPr>
            <a:xfrm>
              <a:off x="776160" y="4552920"/>
              <a:ext cx="1222560" cy="770040"/>
              <a:chOff x="776160" y="4552920"/>
              <a:chExt cx="1222560" cy="770040"/>
            </a:xfrm>
          </p:grpSpPr>
          <p:sp>
            <p:nvSpPr>
              <p:cNvPr id="2374" name=""/>
              <p:cNvSpPr/>
              <p:nvPr/>
            </p:nvSpPr>
            <p:spPr>
              <a:xfrm>
                <a:off x="955800" y="5011560"/>
                <a:ext cx="1042920" cy="3031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1066680" y="5089680"/>
                <a:ext cx="303480" cy="124200"/>
              </a:xfrm>
              <a:custGeom>
                <a:avLst/>
                <a:gdLst/>
                <a:ahLst/>
                <a:rect l="0" t="0" r="r" b="b"/>
                <a:pathLst>
                  <a:path fill="none" w="843" h="345">
                    <a:moveTo>
                      <a:pt x="0" y="345"/>
                    </a:moveTo>
                    <a:lnTo>
                      <a:pt x="590" y="345"/>
                    </a:lnTo>
                    <a:lnTo>
                      <a:pt x="843" y="0"/>
                    </a:lnTo>
                    <a:lnTo>
                      <a:pt x="252" y="0"/>
                    </a:lnTo>
                    <a:lnTo>
                      <a:pt x="0" y="345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"/>
              <p:cNvSpPr txBox="1"/>
              <p:nvPr/>
            </p:nvSpPr>
            <p:spPr>
              <a:xfrm>
                <a:off x="1535040" y="5018040"/>
                <a:ext cx="43164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f2fefd"/>
                    </a:solidFill>
                    <a:latin typeface="Arial"/>
                    <a:ea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 flipH="1">
                <a:off x="776160" y="5157720"/>
                <a:ext cx="179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 flipV="1">
                <a:off x="776160" y="4552920"/>
                <a:ext cx="370080" cy="604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9" name=""/>
          <p:cNvSpPr/>
          <p:nvPr/>
        </p:nvSpPr>
        <p:spPr>
          <a:xfrm>
            <a:off x="5049720" y="2036880"/>
            <a:ext cx="43812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"/>
          <p:cNvSpPr/>
          <p:nvPr/>
        </p:nvSpPr>
        <p:spPr>
          <a:xfrm>
            <a:off x="5594400" y="2036880"/>
            <a:ext cx="33012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1" name=""/>
          <p:cNvGrpSpPr/>
          <p:nvPr/>
        </p:nvGrpSpPr>
        <p:grpSpPr>
          <a:xfrm>
            <a:off x="4667400" y="2814480"/>
            <a:ext cx="3233520" cy="158760"/>
            <a:chOff x="4667400" y="2814480"/>
            <a:chExt cx="3233520" cy="158760"/>
          </a:xfrm>
        </p:grpSpPr>
        <p:sp>
          <p:nvSpPr>
            <p:cNvPr id="2382" name=""/>
            <p:cNvSpPr/>
            <p:nvPr/>
          </p:nvSpPr>
          <p:spPr>
            <a:xfrm>
              <a:off x="4667400" y="2814480"/>
              <a:ext cx="1557360" cy="0"/>
            </a:xfrm>
            <a:prstGeom prst="line">
              <a:avLst/>
            </a:prstGeom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6637320" y="2820960"/>
              <a:ext cx="127080" cy="0"/>
            </a:xfrm>
            <a:prstGeom prst="line">
              <a:avLst/>
            </a:prstGeom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6875640" y="2820960"/>
              <a:ext cx="1015920" cy="0"/>
            </a:xfrm>
            <a:prstGeom prst="line">
              <a:avLst/>
            </a:prstGeom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6367320" y="2820960"/>
              <a:ext cx="142920" cy="0"/>
            </a:xfrm>
            <a:prstGeom prst="line">
              <a:avLst/>
            </a:prstGeom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4667400" y="2967120"/>
              <a:ext cx="1566720" cy="0"/>
            </a:xfrm>
            <a:prstGeom prst="line">
              <a:avLst/>
            </a:prstGeom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6647040" y="2973240"/>
              <a:ext cx="126720" cy="0"/>
            </a:xfrm>
            <a:prstGeom prst="line">
              <a:avLst/>
            </a:prstGeom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6885000" y="2973240"/>
              <a:ext cx="1015920" cy="0"/>
            </a:xfrm>
            <a:prstGeom prst="line">
              <a:avLst/>
            </a:prstGeom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6377040" y="2973240"/>
              <a:ext cx="142920" cy="0"/>
            </a:xfrm>
            <a:prstGeom prst="line">
              <a:avLst/>
            </a:prstGeom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0" name=""/>
          <p:cNvSpPr/>
          <p:nvPr/>
        </p:nvSpPr>
        <p:spPr>
          <a:xfrm flipV="1">
            <a:off x="4762440" y="2031840"/>
            <a:ext cx="0" cy="77184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"/>
          <p:cNvSpPr/>
          <p:nvPr/>
        </p:nvSpPr>
        <p:spPr>
          <a:xfrm>
            <a:off x="4772160" y="2031840"/>
            <a:ext cx="1332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"/>
          <p:cNvSpPr/>
          <p:nvPr/>
        </p:nvSpPr>
        <p:spPr>
          <a:xfrm>
            <a:off x="4762440" y="2981160"/>
            <a:ext cx="0" cy="31464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"/>
          <p:cNvSpPr txBox="1"/>
          <p:nvPr/>
        </p:nvSpPr>
        <p:spPr>
          <a:xfrm>
            <a:off x="4908600" y="1824120"/>
            <a:ext cx="215280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0.4 w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tolerance z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parallel to datum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"/>
          <p:cNvSpPr/>
          <p:nvPr/>
        </p:nvSpPr>
        <p:spPr>
          <a:xfrm>
            <a:off x="5049720" y="2036880"/>
            <a:ext cx="43812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"/>
          <p:cNvSpPr/>
          <p:nvPr/>
        </p:nvSpPr>
        <p:spPr>
          <a:xfrm>
            <a:off x="5594400" y="2036880"/>
            <a:ext cx="33012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"/>
          <p:cNvSpPr/>
          <p:nvPr/>
        </p:nvSpPr>
        <p:spPr>
          <a:xfrm>
            <a:off x="5978520" y="2886120"/>
            <a:ext cx="746280" cy="745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"/>
          <p:cNvSpPr/>
          <p:nvPr/>
        </p:nvSpPr>
        <p:spPr>
          <a:xfrm>
            <a:off x="5073480" y="2886120"/>
            <a:ext cx="0" cy="1650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"/>
          <p:cNvSpPr/>
          <p:nvPr/>
        </p:nvSpPr>
        <p:spPr>
          <a:xfrm flipV="1">
            <a:off x="6724800" y="3648240"/>
            <a:ext cx="0" cy="888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"/>
          <p:cNvSpPr/>
          <p:nvPr/>
        </p:nvSpPr>
        <p:spPr>
          <a:xfrm>
            <a:off x="7989840" y="3703680"/>
            <a:ext cx="33012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0" name=""/>
          <p:cNvSpPr/>
          <p:nvPr/>
        </p:nvSpPr>
        <p:spPr>
          <a:xfrm>
            <a:off x="5095800" y="4508640"/>
            <a:ext cx="1635480" cy="35280"/>
          </a:xfrm>
          <a:custGeom>
            <a:avLst/>
            <a:gdLst/>
            <a:ahLst/>
            <a:rect l="0" t="0" r="r" b="b"/>
            <a:pathLst>
              <a:path fill="none" w="4543" h="98">
                <a:moveTo>
                  <a:pt x="0" y="98"/>
                </a:moveTo>
                <a:lnTo>
                  <a:pt x="132" y="53"/>
                </a:lnTo>
                <a:lnTo>
                  <a:pt x="264" y="98"/>
                </a:lnTo>
                <a:lnTo>
                  <a:pt x="440" y="98"/>
                </a:lnTo>
                <a:lnTo>
                  <a:pt x="529" y="98"/>
                </a:lnTo>
                <a:lnTo>
                  <a:pt x="661" y="53"/>
                </a:lnTo>
                <a:lnTo>
                  <a:pt x="837" y="53"/>
                </a:lnTo>
                <a:lnTo>
                  <a:pt x="996" y="35"/>
                </a:lnTo>
                <a:lnTo>
                  <a:pt x="1411" y="80"/>
                </a:lnTo>
                <a:lnTo>
                  <a:pt x="2160" y="44"/>
                </a:lnTo>
                <a:lnTo>
                  <a:pt x="2867" y="0"/>
                </a:lnTo>
                <a:lnTo>
                  <a:pt x="3572" y="53"/>
                </a:lnTo>
                <a:lnTo>
                  <a:pt x="3705" y="8"/>
                </a:lnTo>
                <a:lnTo>
                  <a:pt x="3837" y="98"/>
                </a:lnTo>
                <a:lnTo>
                  <a:pt x="4013" y="8"/>
                </a:lnTo>
                <a:lnTo>
                  <a:pt x="4146" y="98"/>
                </a:lnTo>
                <a:lnTo>
                  <a:pt x="4278" y="53"/>
                </a:lnTo>
                <a:lnTo>
                  <a:pt x="4410" y="53"/>
                </a:lnTo>
                <a:lnTo>
                  <a:pt x="4543" y="98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-15840" bIns="-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"/>
          <p:cNvSpPr txBox="1"/>
          <p:nvPr/>
        </p:nvSpPr>
        <p:spPr>
          <a:xfrm>
            <a:off x="7367760" y="1879560"/>
            <a:ext cx="9460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"/>
          <p:cNvSpPr/>
          <p:nvPr/>
        </p:nvSpPr>
        <p:spPr>
          <a:xfrm flipH="1">
            <a:off x="7178760" y="2057400"/>
            <a:ext cx="2062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3" name=""/>
          <p:cNvGrpSpPr/>
          <p:nvPr/>
        </p:nvGrpSpPr>
        <p:grpSpPr>
          <a:xfrm>
            <a:off x="4610160" y="4500720"/>
            <a:ext cx="2705040" cy="6120"/>
            <a:chOff x="4610160" y="4500720"/>
            <a:chExt cx="2705040" cy="6120"/>
          </a:xfrm>
        </p:grpSpPr>
        <p:sp>
          <p:nvSpPr>
            <p:cNvPr id="2404" name=""/>
            <p:cNvSpPr/>
            <p:nvPr/>
          </p:nvSpPr>
          <p:spPr>
            <a:xfrm>
              <a:off x="4610160" y="4500720"/>
              <a:ext cx="1262160" cy="0"/>
            </a:xfrm>
            <a:prstGeom prst="line">
              <a:avLst/>
            </a:prstGeom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6284880" y="4506840"/>
              <a:ext cx="127080" cy="0"/>
            </a:xfrm>
            <a:prstGeom prst="line">
              <a:avLst/>
            </a:prstGeom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6523200" y="4506840"/>
              <a:ext cx="792000" cy="0"/>
            </a:xfrm>
            <a:prstGeom prst="line">
              <a:avLst/>
            </a:prstGeom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6014880" y="4506840"/>
              <a:ext cx="142920" cy="0"/>
            </a:xfrm>
            <a:prstGeom prst="line">
              <a:avLst/>
            </a:prstGeom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8" name=""/>
          <p:cNvSpPr/>
          <p:nvPr/>
        </p:nvSpPr>
        <p:spPr>
          <a:xfrm flipH="1">
            <a:off x="6357960" y="2050920"/>
            <a:ext cx="822240" cy="24638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"/>
          <p:cNvSpPr/>
          <p:nvPr/>
        </p:nvSpPr>
        <p:spPr>
          <a:xfrm>
            <a:off x="4743360" y="4216320"/>
            <a:ext cx="0" cy="2667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"/>
          <p:cNvSpPr/>
          <p:nvPr/>
        </p:nvSpPr>
        <p:spPr>
          <a:xfrm>
            <a:off x="4743360" y="4572000"/>
            <a:ext cx="0" cy="8190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"/>
          <p:cNvSpPr/>
          <p:nvPr/>
        </p:nvSpPr>
        <p:spPr>
          <a:xfrm>
            <a:off x="4743360" y="5400720"/>
            <a:ext cx="133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"/>
          <p:cNvSpPr txBox="1"/>
          <p:nvPr/>
        </p:nvSpPr>
        <p:spPr>
          <a:xfrm>
            <a:off x="4889520" y="5205240"/>
            <a:ext cx="16574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0.2 flat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tolerance z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"/>
          <p:cNvSpPr/>
          <p:nvPr/>
        </p:nvSpPr>
        <p:spPr>
          <a:xfrm>
            <a:off x="4932360" y="4565520"/>
            <a:ext cx="2040120" cy="343440"/>
          </a:xfrm>
          <a:custGeom>
            <a:avLst/>
            <a:gdLst/>
            <a:ahLst/>
            <a:rect l="0" t="0" r="r" b="b"/>
            <a:pathLst>
              <a:path w="5667" h="954">
                <a:moveTo>
                  <a:pt x="4" y="8"/>
                </a:moveTo>
                <a:lnTo>
                  <a:pt x="5667" y="0"/>
                </a:lnTo>
                <a:lnTo>
                  <a:pt x="5667" y="954"/>
                </a:lnTo>
                <a:lnTo>
                  <a:pt x="5588" y="954"/>
                </a:lnTo>
                <a:lnTo>
                  <a:pt x="5482" y="954"/>
                </a:lnTo>
                <a:lnTo>
                  <a:pt x="5402" y="901"/>
                </a:lnTo>
                <a:lnTo>
                  <a:pt x="5270" y="875"/>
                </a:lnTo>
                <a:lnTo>
                  <a:pt x="5191" y="875"/>
                </a:lnTo>
                <a:lnTo>
                  <a:pt x="5111" y="848"/>
                </a:lnTo>
                <a:lnTo>
                  <a:pt x="4979" y="848"/>
                </a:lnTo>
                <a:lnTo>
                  <a:pt x="4873" y="848"/>
                </a:lnTo>
                <a:lnTo>
                  <a:pt x="4767" y="848"/>
                </a:lnTo>
                <a:lnTo>
                  <a:pt x="4688" y="875"/>
                </a:lnTo>
                <a:lnTo>
                  <a:pt x="4609" y="875"/>
                </a:lnTo>
                <a:lnTo>
                  <a:pt x="4529" y="875"/>
                </a:lnTo>
                <a:lnTo>
                  <a:pt x="4371" y="901"/>
                </a:lnTo>
                <a:lnTo>
                  <a:pt x="4238" y="901"/>
                </a:lnTo>
                <a:lnTo>
                  <a:pt x="4159" y="901"/>
                </a:lnTo>
                <a:lnTo>
                  <a:pt x="4027" y="901"/>
                </a:lnTo>
                <a:lnTo>
                  <a:pt x="3841" y="901"/>
                </a:lnTo>
                <a:lnTo>
                  <a:pt x="3762" y="928"/>
                </a:lnTo>
                <a:lnTo>
                  <a:pt x="3656" y="928"/>
                </a:lnTo>
                <a:lnTo>
                  <a:pt x="3524" y="928"/>
                </a:lnTo>
                <a:lnTo>
                  <a:pt x="3392" y="901"/>
                </a:lnTo>
                <a:lnTo>
                  <a:pt x="3312" y="875"/>
                </a:lnTo>
                <a:lnTo>
                  <a:pt x="3233" y="875"/>
                </a:lnTo>
                <a:lnTo>
                  <a:pt x="3048" y="875"/>
                </a:lnTo>
                <a:lnTo>
                  <a:pt x="2889" y="875"/>
                </a:lnTo>
                <a:lnTo>
                  <a:pt x="2808" y="875"/>
                </a:lnTo>
                <a:lnTo>
                  <a:pt x="2729" y="875"/>
                </a:lnTo>
                <a:lnTo>
                  <a:pt x="2597" y="901"/>
                </a:lnTo>
                <a:lnTo>
                  <a:pt x="2438" y="901"/>
                </a:lnTo>
                <a:lnTo>
                  <a:pt x="2332" y="875"/>
                </a:lnTo>
                <a:lnTo>
                  <a:pt x="2226" y="875"/>
                </a:lnTo>
                <a:lnTo>
                  <a:pt x="2147" y="848"/>
                </a:lnTo>
                <a:lnTo>
                  <a:pt x="2068" y="822"/>
                </a:lnTo>
                <a:lnTo>
                  <a:pt x="1962" y="795"/>
                </a:lnTo>
                <a:lnTo>
                  <a:pt x="1856" y="795"/>
                </a:lnTo>
                <a:lnTo>
                  <a:pt x="1644" y="795"/>
                </a:lnTo>
                <a:lnTo>
                  <a:pt x="1406" y="769"/>
                </a:lnTo>
                <a:lnTo>
                  <a:pt x="1274" y="769"/>
                </a:lnTo>
                <a:lnTo>
                  <a:pt x="1089" y="769"/>
                </a:lnTo>
                <a:lnTo>
                  <a:pt x="877" y="769"/>
                </a:lnTo>
                <a:lnTo>
                  <a:pt x="798" y="795"/>
                </a:lnTo>
                <a:lnTo>
                  <a:pt x="692" y="795"/>
                </a:lnTo>
                <a:lnTo>
                  <a:pt x="612" y="795"/>
                </a:lnTo>
                <a:lnTo>
                  <a:pt x="427" y="795"/>
                </a:lnTo>
                <a:lnTo>
                  <a:pt x="348" y="795"/>
                </a:lnTo>
                <a:lnTo>
                  <a:pt x="268" y="795"/>
                </a:lnTo>
                <a:lnTo>
                  <a:pt x="189" y="795"/>
                </a:lnTo>
                <a:lnTo>
                  <a:pt x="83" y="795"/>
                </a:lnTo>
                <a:lnTo>
                  <a:pt x="0" y="791"/>
                </a:lnTo>
                <a:lnTo>
                  <a:pt x="26" y="791"/>
                </a:lnTo>
                <a:lnTo>
                  <a:pt x="4" y="769"/>
                </a:lnTo>
                <a:lnTo>
                  <a:pt x="4" y="8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"/>
          <p:cNvSpPr txBox="1"/>
          <p:nvPr/>
        </p:nvSpPr>
        <p:spPr>
          <a:xfrm>
            <a:off x="6581880" y="5062680"/>
            <a:ext cx="19684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Simulated Dat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(Surface pl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"/>
          <p:cNvSpPr/>
          <p:nvPr/>
        </p:nvSpPr>
        <p:spPr>
          <a:xfrm flipH="1">
            <a:off x="6426360" y="5270400"/>
            <a:ext cx="190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"/>
          <p:cNvSpPr/>
          <p:nvPr/>
        </p:nvSpPr>
        <p:spPr>
          <a:xfrm flipH="1" flipV="1">
            <a:off x="6051600" y="4889520"/>
            <a:ext cx="374760" cy="3747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"/>
          <p:cNvSpPr/>
          <p:nvPr/>
        </p:nvSpPr>
        <p:spPr>
          <a:xfrm>
            <a:off x="8674200" y="3565440"/>
            <a:ext cx="1648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"/>
          <p:cNvSpPr/>
          <p:nvPr/>
        </p:nvSpPr>
        <p:spPr>
          <a:xfrm flipH="1">
            <a:off x="8305920" y="3565440"/>
            <a:ext cx="533160" cy="984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"/>
          <p:cNvSpPr/>
          <p:nvPr/>
        </p:nvSpPr>
        <p:spPr>
          <a:xfrm>
            <a:off x="5073480" y="2860560"/>
            <a:ext cx="905400" cy="57600"/>
          </a:xfrm>
          <a:custGeom>
            <a:avLst/>
            <a:gdLst/>
            <a:ahLst/>
            <a:rect l="0" t="0" r="r" b="b"/>
            <a:pathLst>
              <a:path fill="none" w="2515" h="160">
                <a:moveTo>
                  <a:pt x="0" y="71"/>
                </a:moveTo>
                <a:lnTo>
                  <a:pt x="26" y="62"/>
                </a:lnTo>
                <a:lnTo>
                  <a:pt x="52" y="53"/>
                </a:lnTo>
                <a:lnTo>
                  <a:pt x="79" y="45"/>
                </a:lnTo>
                <a:lnTo>
                  <a:pt x="105" y="35"/>
                </a:lnTo>
                <a:lnTo>
                  <a:pt x="123" y="8"/>
                </a:lnTo>
                <a:lnTo>
                  <a:pt x="176" y="0"/>
                </a:lnTo>
                <a:lnTo>
                  <a:pt x="211" y="0"/>
                </a:lnTo>
                <a:lnTo>
                  <a:pt x="255" y="0"/>
                </a:lnTo>
                <a:lnTo>
                  <a:pt x="308" y="8"/>
                </a:lnTo>
                <a:lnTo>
                  <a:pt x="335" y="26"/>
                </a:lnTo>
                <a:lnTo>
                  <a:pt x="370" y="35"/>
                </a:lnTo>
                <a:lnTo>
                  <a:pt x="396" y="45"/>
                </a:lnTo>
                <a:lnTo>
                  <a:pt x="423" y="53"/>
                </a:lnTo>
                <a:lnTo>
                  <a:pt x="440" y="80"/>
                </a:lnTo>
                <a:lnTo>
                  <a:pt x="467" y="80"/>
                </a:lnTo>
                <a:lnTo>
                  <a:pt x="493" y="98"/>
                </a:lnTo>
                <a:lnTo>
                  <a:pt x="529" y="106"/>
                </a:lnTo>
                <a:lnTo>
                  <a:pt x="555" y="115"/>
                </a:lnTo>
                <a:lnTo>
                  <a:pt x="599" y="115"/>
                </a:lnTo>
                <a:lnTo>
                  <a:pt x="644" y="125"/>
                </a:lnTo>
                <a:lnTo>
                  <a:pt x="671" y="143"/>
                </a:lnTo>
                <a:lnTo>
                  <a:pt x="697" y="160"/>
                </a:lnTo>
                <a:lnTo>
                  <a:pt x="724" y="160"/>
                </a:lnTo>
                <a:lnTo>
                  <a:pt x="750" y="160"/>
                </a:lnTo>
                <a:lnTo>
                  <a:pt x="794" y="160"/>
                </a:lnTo>
                <a:lnTo>
                  <a:pt x="838" y="160"/>
                </a:lnTo>
                <a:lnTo>
                  <a:pt x="865" y="160"/>
                </a:lnTo>
                <a:lnTo>
                  <a:pt x="909" y="151"/>
                </a:lnTo>
                <a:lnTo>
                  <a:pt x="935" y="143"/>
                </a:lnTo>
                <a:lnTo>
                  <a:pt x="1006" y="115"/>
                </a:lnTo>
                <a:lnTo>
                  <a:pt x="1032" y="98"/>
                </a:lnTo>
                <a:lnTo>
                  <a:pt x="1059" y="80"/>
                </a:lnTo>
                <a:lnTo>
                  <a:pt x="1085" y="71"/>
                </a:lnTo>
                <a:lnTo>
                  <a:pt x="1112" y="62"/>
                </a:lnTo>
                <a:lnTo>
                  <a:pt x="1156" y="71"/>
                </a:lnTo>
                <a:lnTo>
                  <a:pt x="1182" y="80"/>
                </a:lnTo>
                <a:lnTo>
                  <a:pt x="1226" y="106"/>
                </a:lnTo>
                <a:lnTo>
                  <a:pt x="1253" y="106"/>
                </a:lnTo>
                <a:lnTo>
                  <a:pt x="1288" y="106"/>
                </a:lnTo>
                <a:lnTo>
                  <a:pt x="1315" y="125"/>
                </a:lnTo>
                <a:lnTo>
                  <a:pt x="1359" y="125"/>
                </a:lnTo>
                <a:lnTo>
                  <a:pt x="1403" y="125"/>
                </a:lnTo>
                <a:lnTo>
                  <a:pt x="1456" y="98"/>
                </a:lnTo>
                <a:lnTo>
                  <a:pt x="1482" y="62"/>
                </a:lnTo>
                <a:lnTo>
                  <a:pt x="1509" y="53"/>
                </a:lnTo>
                <a:lnTo>
                  <a:pt x="1526" y="26"/>
                </a:lnTo>
                <a:lnTo>
                  <a:pt x="1553" y="17"/>
                </a:lnTo>
                <a:lnTo>
                  <a:pt x="1579" y="8"/>
                </a:lnTo>
                <a:lnTo>
                  <a:pt x="1623" y="8"/>
                </a:lnTo>
                <a:lnTo>
                  <a:pt x="1667" y="8"/>
                </a:lnTo>
                <a:lnTo>
                  <a:pt x="1694" y="8"/>
                </a:lnTo>
                <a:lnTo>
                  <a:pt x="1756" y="26"/>
                </a:lnTo>
                <a:lnTo>
                  <a:pt x="1791" y="62"/>
                </a:lnTo>
                <a:lnTo>
                  <a:pt x="1817" y="71"/>
                </a:lnTo>
                <a:lnTo>
                  <a:pt x="1835" y="98"/>
                </a:lnTo>
                <a:lnTo>
                  <a:pt x="1861" y="98"/>
                </a:lnTo>
                <a:lnTo>
                  <a:pt x="1889" y="98"/>
                </a:lnTo>
                <a:lnTo>
                  <a:pt x="1915" y="98"/>
                </a:lnTo>
                <a:lnTo>
                  <a:pt x="1942" y="98"/>
                </a:lnTo>
                <a:lnTo>
                  <a:pt x="1968" y="98"/>
                </a:lnTo>
                <a:lnTo>
                  <a:pt x="2012" y="106"/>
                </a:lnTo>
                <a:lnTo>
                  <a:pt x="2048" y="134"/>
                </a:lnTo>
                <a:lnTo>
                  <a:pt x="2074" y="151"/>
                </a:lnTo>
                <a:lnTo>
                  <a:pt x="2101" y="151"/>
                </a:lnTo>
                <a:lnTo>
                  <a:pt x="2145" y="151"/>
                </a:lnTo>
                <a:lnTo>
                  <a:pt x="2171" y="151"/>
                </a:lnTo>
                <a:lnTo>
                  <a:pt x="2250" y="134"/>
                </a:lnTo>
                <a:lnTo>
                  <a:pt x="2277" y="125"/>
                </a:lnTo>
                <a:lnTo>
                  <a:pt x="2339" y="115"/>
                </a:lnTo>
                <a:lnTo>
                  <a:pt x="2365" y="106"/>
                </a:lnTo>
                <a:lnTo>
                  <a:pt x="2418" y="98"/>
                </a:lnTo>
                <a:lnTo>
                  <a:pt x="2453" y="89"/>
                </a:lnTo>
                <a:lnTo>
                  <a:pt x="2489" y="89"/>
                </a:lnTo>
                <a:lnTo>
                  <a:pt x="2515" y="71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6480" bIns="6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0" name=""/>
          <p:cNvGrpSpPr/>
          <p:nvPr/>
        </p:nvGrpSpPr>
        <p:grpSpPr>
          <a:xfrm>
            <a:off x="4667400" y="4584600"/>
            <a:ext cx="4016160" cy="0"/>
            <a:chOff x="4667400" y="4584600"/>
            <a:chExt cx="4016160" cy="0"/>
          </a:xfrm>
        </p:grpSpPr>
        <p:sp>
          <p:nvSpPr>
            <p:cNvPr id="2421" name=""/>
            <p:cNvSpPr/>
            <p:nvPr/>
          </p:nvSpPr>
          <p:spPr>
            <a:xfrm>
              <a:off x="4667400" y="4584600"/>
              <a:ext cx="2349360" cy="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7429680" y="4584600"/>
              <a:ext cx="126720" cy="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7667640" y="4584600"/>
              <a:ext cx="1015920" cy="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7159680" y="4584600"/>
              <a:ext cx="142920" cy="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5" name=""/>
          <p:cNvSpPr txBox="1"/>
          <p:nvPr/>
        </p:nvSpPr>
        <p:spPr>
          <a:xfrm>
            <a:off x="7026120" y="3386160"/>
            <a:ext cx="17366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Datum plane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"/>
          <p:cNvSpPr txBox="1"/>
          <p:nvPr/>
        </p:nvSpPr>
        <p:spPr>
          <a:xfrm>
            <a:off x="349200" y="996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114ffb"/>
                </a:solidFill>
                <a:latin typeface="Times New Roman"/>
                <a:ea typeface="Times New Roman"/>
              </a:rPr>
              <a:t>In some cases, a single datum is sufficient for verification.  When such is the case, the datum reference is considered the primary datum.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rimary datum always establishes the attitude of the part for measurement and assembl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"/>
          <p:cNvSpPr txBox="1"/>
          <p:nvPr/>
        </p:nvSpPr>
        <p:spPr>
          <a:xfrm>
            <a:off x="2995560" y="223920"/>
            <a:ext cx="28893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Planar Datu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"/>
          <p:cNvSpPr txBox="1"/>
          <p:nvPr/>
        </p:nvSpPr>
        <p:spPr>
          <a:xfrm>
            <a:off x="1711440" y="1063800"/>
            <a:ext cx="14112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 u="sng">
                <a:solidFill>
                  <a:srgbClr val="00dfca"/>
                </a:solidFill>
                <a:uFillTx/>
                <a:latin typeface="Times New Roman"/>
                <a:ea typeface="Times New Roman"/>
              </a:rPr>
              <a:t>DRAW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"/>
          <p:cNvSpPr txBox="1"/>
          <p:nvPr/>
        </p:nvSpPr>
        <p:spPr>
          <a:xfrm>
            <a:off x="5381640" y="1060560"/>
            <a:ext cx="23432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 u="sng">
                <a:solidFill>
                  <a:srgbClr val="00dfca"/>
                </a:solidFill>
                <a:uFillTx/>
                <a:latin typeface="Times New Roman"/>
                <a:ea typeface="Times New Roman"/>
              </a:rPr>
              <a:t>INTERPRE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"/>
          <p:cNvSpPr/>
          <p:nvPr/>
        </p:nvSpPr>
        <p:spPr>
          <a:xfrm>
            <a:off x="4397400" y="1952640"/>
            <a:ext cx="0" cy="384156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"/>
          <p:cNvSpPr txBox="1"/>
          <p:nvPr/>
        </p:nvSpPr>
        <p:spPr>
          <a:xfrm>
            <a:off x="1333440" y="320760"/>
            <a:ext cx="61326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ngle (Primary) Datum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"/>
          <p:cNvSpPr/>
          <p:nvPr/>
        </p:nvSpPr>
        <p:spPr>
          <a:xfrm>
            <a:off x="5049720" y="2036880"/>
            <a:ext cx="43812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"/>
          <p:cNvSpPr/>
          <p:nvPr/>
        </p:nvSpPr>
        <p:spPr>
          <a:xfrm>
            <a:off x="5594400" y="2036880"/>
            <a:ext cx="33012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"/>
          <p:cNvSpPr/>
          <p:nvPr/>
        </p:nvSpPr>
        <p:spPr>
          <a:xfrm>
            <a:off x="5978520" y="2886120"/>
            <a:ext cx="746280" cy="745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"/>
          <p:cNvSpPr/>
          <p:nvPr/>
        </p:nvSpPr>
        <p:spPr>
          <a:xfrm>
            <a:off x="5073480" y="2886120"/>
            <a:ext cx="0" cy="1650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"/>
          <p:cNvSpPr/>
          <p:nvPr/>
        </p:nvSpPr>
        <p:spPr>
          <a:xfrm flipV="1">
            <a:off x="6724800" y="3648240"/>
            <a:ext cx="0" cy="888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"/>
          <p:cNvSpPr/>
          <p:nvPr/>
        </p:nvSpPr>
        <p:spPr>
          <a:xfrm>
            <a:off x="5073480" y="4519440"/>
            <a:ext cx="1646640" cy="35280"/>
          </a:xfrm>
          <a:custGeom>
            <a:avLst/>
            <a:gdLst/>
            <a:ahLst/>
            <a:rect l="0" t="0" r="r" b="b"/>
            <a:pathLst>
              <a:path fill="none" w="4574" h="98">
                <a:moveTo>
                  <a:pt x="0" y="75"/>
                </a:moveTo>
                <a:lnTo>
                  <a:pt x="163" y="53"/>
                </a:lnTo>
                <a:lnTo>
                  <a:pt x="295" y="98"/>
                </a:lnTo>
                <a:lnTo>
                  <a:pt x="471" y="98"/>
                </a:lnTo>
                <a:lnTo>
                  <a:pt x="560" y="98"/>
                </a:lnTo>
                <a:lnTo>
                  <a:pt x="692" y="53"/>
                </a:lnTo>
                <a:lnTo>
                  <a:pt x="868" y="53"/>
                </a:lnTo>
                <a:lnTo>
                  <a:pt x="1027" y="35"/>
                </a:lnTo>
                <a:lnTo>
                  <a:pt x="1442" y="80"/>
                </a:lnTo>
                <a:lnTo>
                  <a:pt x="2192" y="44"/>
                </a:lnTo>
                <a:lnTo>
                  <a:pt x="2898" y="0"/>
                </a:lnTo>
                <a:lnTo>
                  <a:pt x="3604" y="53"/>
                </a:lnTo>
                <a:lnTo>
                  <a:pt x="3737" y="8"/>
                </a:lnTo>
                <a:lnTo>
                  <a:pt x="3869" y="98"/>
                </a:lnTo>
                <a:lnTo>
                  <a:pt x="4045" y="8"/>
                </a:lnTo>
                <a:lnTo>
                  <a:pt x="4178" y="98"/>
                </a:lnTo>
                <a:lnTo>
                  <a:pt x="4310" y="53"/>
                </a:lnTo>
                <a:lnTo>
                  <a:pt x="4442" y="53"/>
                </a:lnTo>
                <a:lnTo>
                  <a:pt x="4574" y="98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-15840" bIns="-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"/>
          <p:cNvSpPr txBox="1"/>
          <p:nvPr/>
        </p:nvSpPr>
        <p:spPr>
          <a:xfrm>
            <a:off x="7367760" y="1879560"/>
            <a:ext cx="9460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"/>
          <p:cNvSpPr/>
          <p:nvPr/>
        </p:nvSpPr>
        <p:spPr>
          <a:xfrm flipH="1">
            <a:off x="7178760" y="2057400"/>
            <a:ext cx="2062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1" name=""/>
          <p:cNvSpPr/>
          <p:nvPr/>
        </p:nvSpPr>
        <p:spPr>
          <a:xfrm flipH="1">
            <a:off x="6357960" y="2050920"/>
            <a:ext cx="822240" cy="24638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"/>
          <p:cNvSpPr txBox="1"/>
          <p:nvPr/>
        </p:nvSpPr>
        <p:spPr>
          <a:xfrm>
            <a:off x="5931000" y="5402160"/>
            <a:ext cx="17366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Datum plane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"/>
          <p:cNvSpPr/>
          <p:nvPr/>
        </p:nvSpPr>
        <p:spPr>
          <a:xfrm>
            <a:off x="7578720" y="5581800"/>
            <a:ext cx="165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"/>
          <p:cNvSpPr/>
          <p:nvPr/>
        </p:nvSpPr>
        <p:spPr>
          <a:xfrm flipH="1" flipV="1">
            <a:off x="7226280" y="4597560"/>
            <a:ext cx="533520" cy="984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"/>
          <p:cNvSpPr/>
          <p:nvPr/>
        </p:nvSpPr>
        <p:spPr>
          <a:xfrm>
            <a:off x="5073480" y="2860560"/>
            <a:ext cx="905400" cy="57600"/>
          </a:xfrm>
          <a:custGeom>
            <a:avLst/>
            <a:gdLst/>
            <a:ahLst/>
            <a:rect l="0" t="0" r="r" b="b"/>
            <a:pathLst>
              <a:path fill="none" w="2515" h="160">
                <a:moveTo>
                  <a:pt x="0" y="71"/>
                </a:moveTo>
                <a:lnTo>
                  <a:pt x="26" y="62"/>
                </a:lnTo>
                <a:lnTo>
                  <a:pt x="52" y="53"/>
                </a:lnTo>
                <a:lnTo>
                  <a:pt x="79" y="45"/>
                </a:lnTo>
                <a:lnTo>
                  <a:pt x="105" y="35"/>
                </a:lnTo>
                <a:lnTo>
                  <a:pt x="123" y="8"/>
                </a:lnTo>
                <a:lnTo>
                  <a:pt x="176" y="0"/>
                </a:lnTo>
                <a:lnTo>
                  <a:pt x="211" y="0"/>
                </a:lnTo>
                <a:lnTo>
                  <a:pt x="255" y="0"/>
                </a:lnTo>
                <a:lnTo>
                  <a:pt x="308" y="8"/>
                </a:lnTo>
                <a:lnTo>
                  <a:pt x="335" y="26"/>
                </a:lnTo>
                <a:lnTo>
                  <a:pt x="370" y="35"/>
                </a:lnTo>
                <a:lnTo>
                  <a:pt x="396" y="45"/>
                </a:lnTo>
                <a:lnTo>
                  <a:pt x="423" y="53"/>
                </a:lnTo>
                <a:lnTo>
                  <a:pt x="440" y="80"/>
                </a:lnTo>
                <a:lnTo>
                  <a:pt x="467" y="80"/>
                </a:lnTo>
                <a:lnTo>
                  <a:pt x="493" y="98"/>
                </a:lnTo>
                <a:lnTo>
                  <a:pt x="529" y="106"/>
                </a:lnTo>
                <a:lnTo>
                  <a:pt x="555" y="115"/>
                </a:lnTo>
                <a:lnTo>
                  <a:pt x="599" y="115"/>
                </a:lnTo>
                <a:lnTo>
                  <a:pt x="644" y="125"/>
                </a:lnTo>
                <a:lnTo>
                  <a:pt x="671" y="143"/>
                </a:lnTo>
                <a:lnTo>
                  <a:pt x="697" y="160"/>
                </a:lnTo>
                <a:lnTo>
                  <a:pt x="724" y="160"/>
                </a:lnTo>
                <a:lnTo>
                  <a:pt x="750" y="160"/>
                </a:lnTo>
                <a:lnTo>
                  <a:pt x="794" y="160"/>
                </a:lnTo>
                <a:lnTo>
                  <a:pt x="838" y="160"/>
                </a:lnTo>
                <a:lnTo>
                  <a:pt x="865" y="160"/>
                </a:lnTo>
                <a:lnTo>
                  <a:pt x="909" y="151"/>
                </a:lnTo>
                <a:lnTo>
                  <a:pt x="935" y="143"/>
                </a:lnTo>
                <a:lnTo>
                  <a:pt x="1006" y="115"/>
                </a:lnTo>
                <a:lnTo>
                  <a:pt x="1032" y="98"/>
                </a:lnTo>
                <a:lnTo>
                  <a:pt x="1059" y="80"/>
                </a:lnTo>
                <a:lnTo>
                  <a:pt x="1085" y="71"/>
                </a:lnTo>
                <a:lnTo>
                  <a:pt x="1112" y="62"/>
                </a:lnTo>
                <a:lnTo>
                  <a:pt x="1156" y="71"/>
                </a:lnTo>
                <a:lnTo>
                  <a:pt x="1182" y="80"/>
                </a:lnTo>
                <a:lnTo>
                  <a:pt x="1226" y="106"/>
                </a:lnTo>
                <a:lnTo>
                  <a:pt x="1253" y="106"/>
                </a:lnTo>
                <a:lnTo>
                  <a:pt x="1288" y="106"/>
                </a:lnTo>
                <a:lnTo>
                  <a:pt x="1315" y="125"/>
                </a:lnTo>
                <a:lnTo>
                  <a:pt x="1359" y="125"/>
                </a:lnTo>
                <a:lnTo>
                  <a:pt x="1403" y="125"/>
                </a:lnTo>
                <a:lnTo>
                  <a:pt x="1456" y="98"/>
                </a:lnTo>
                <a:lnTo>
                  <a:pt x="1482" y="62"/>
                </a:lnTo>
                <a:lnTo>
                  <a:pt x="1509" y="53"/>
                </a:lnTo>
                <a:lnTo>
                  <a:pt x="1526" y="26"/>
                </a:lnTo>
                <a:lnTo>
                  <a:pt x="1553" y="17"/>
                </a:lnTo>
                <a:lnTo>
                  <a:pt x="1579" y="8"/>
                </a:lnTo>
                <a:lnTo>
                  <a:pt x="1623" y="8"/>
                </a:lnTo>
                <a:lnTo>
                  <a:pt x="1667" y="8"/>
                </a:lnTo>
                <a:lnTo>
                  <a:pt x="1694" y="8"/>
                </a:lnTo>
                <a:lnTo>
                  <a:pt x="1756" y="26"/>
                </a:lnTo>
                <a:lnTo>
                  <a:pt x="1791" y="62"/>
                </a:lnTo>
                <a:lnTo>
                  <a:pt x="1817" y="71"/>
                </a:lnTo>
                <a:lnTo>
                  <a:pt x="1835" y="98"/>
                </a:lnTo>
                <a:lnTo>
                  <a:pt x="1861" y="98"/>
                </a:lnTo>
                <a:lnTo>
                  <a:pt x="1889" y="98"/>
                </a:lnTo>
                <a:lnTo>
                  <a:pt x="1915" y="98"/>
                </a:lnTo>
                <a:lnTo>
                  <a:pt x="1942" y="98"/>
                </a:lnTo>
                <a:lnTo>
                  <a:pt x="1968" y="98"/>
                </a:lnTo>
                <a:lnTo>
                  <a:pt x="2012" y="106"/>
                </a:lnTo>
                <a:lnTo>
                  <a:pt x="2048" y="134"/>
                </a:lnTo>
                <a:lnTo>
                  <a:pt x="2074" y="151"/>
                </a:lnTo>
                <a:lnTo>
                  <a:pt x="2101" y="151"/>
                </a:lnTo>
                <a:lnTo>
                  <a:pt x="2145" y="151"/>
                </a:lnTo>
                <a:lnTo>
                  <a:pt x="2171" y="151"/>
                </a:lnTo>
                <a:lnTo>
                  <a:pt x="2250" y="134"/>
                </a:lnTo>
                <a:lnTo>
                  <a:pt x="2277" y="125"/>
                </a:lnTo>
                <a:lnTo>
                  <a:pt x="2339" y="115"/>
                </a:lnTo>
                <a:lnTo>
                  <a:pt x="2365" y="106"/>
                </a:lnTo>
                <a:lnTo>
                  <a:pt x="2418" y="98"/>
                </a:lnTo>
                <a:lnTo>
                  <a:pt x="2453" y="89"/>
                </a:lnTo>
                <a:lnTo>
                  <a:pt x="2489" y="89"/>
                </a:lnTo>
                <a:lnTo>
                  <a:pt x="2515" y="71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6480" bIns="6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"/>
          <p:cNvSpPr/>
          <p:nvPr/>
        </p:nvSpPr>
        <p:spPr>
          <a:xfrm>
            <a:off x="4965840" y="2857680"/>
            <a:ext cx="3052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"/>
          <p:cNvSpPr txBox="1"/>
          <p:nvPr/>
        </p:nvSpPr>
        <p:spPr>
          <a:xfrm>
            <a:off x="7431120" y="3290760"/>
            <a:ext cx="15667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rif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eas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8" name=""/>
          <p:cNvSpPr/>
          <p:nvPr/>
        </p:nvSpPr>
        <p:spPr>
          <a:xfrm>
            <a:off x="7913520" y="2854440"/>
            <a:ext cx="0" cy="4842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"/>
          <p:cNvSpPr/>
          <p:nvPr/>
        </p:nvSpPr>
        <p:spPr>
          <a:xfrm>
            <a:off x="7927920" y="3913200"/>
            <a:ext cx="0" cy="66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"/>
          <p:cNvSpPr txBox="1"/>
          <p:nvPr/>
        </p:nvSpPr>
        <p:spPr>
          <a:xfrm>
            <a:off x="5684760" y="5743440"/>
            <a:ext cx="31449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Minimum 3 points conta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ith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rimary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datum plane 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1" name=""/>
          <p:cNvGrpSpPr/>
          <p:nvPr/>
        </p:nvGrpSpPr>
        <p:grpSpPr>
          <a:xfrm>
            <a:off x="4667400" y="4575240"/>
            <a:ext cx="4016160" cy="0"/>
            <a:chOff x="4667400" y="4575240"/>
            <a:chExt cx="4016160" cy="0"/>
          </a:xfrm>
        </p:grpSpPr>
        <p:sp>
          <p:nvSpPr>
            <p:cNvPr id="2452" name=""/>
            <p:cNvSpPr/>
            <p:nvPr/>
          </p:nvSpPr>
          <p:spPr>
            <a:xfrm>
              <a:off x="4667400" y="4575240"/>
              <a:ext cx="2349360" cy="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7429680" y="4575240"/>
              <a:ext cx="126720" cy="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7667640" y="4575240"/>
              <a:ext cx="1015920" cy="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7159680" y="4575240"/>
              <a:ext cx="142920" cy="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6" name=""/>
          <p:cNvSpPr/>
          <p:nvPr/>
        </p:nvSpPr>
        <p:spPr>
          <a:xfrm>
            <a:off x="7858080" y="4500720"/>
            <a:ext cx="139680" cy="13968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7" name=""/>
          <p:cNvGrpSpPr/>
          <p:nvPr/>
        </p:nvGrpSpPr>
        <p:grpSpPr>
          <a:xfrm>
            <a:off x="333360" y="2039760"/>
            <a:ext cx="3090960" cy="3283200"/>
            <a:chOff x="333360" y="2039760"/>
            <a:chExt cx="3090960" cy="3283200"/>
          </a:xfrm>
        </p:grpSpPr>
        <p:sp>
          <p:nvSpPr>
            <p:cNvPr id="2458" name=""/>
            <p:cNvSpPr/>
            <p:nvPr/>
          </p:nvSpPr>
          <p:spPr>
            <a:xfrm>
              <a:off x="2635200" y="4548240"/>
              <a:ext cx="695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1905120" y="2897280"/>
              <a:ext cx="14126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0" name=""/>
            <p:cNvGrpSpPr/>
            <p:nvPr/>
          </p:nvGrpSpPr>
          <p:grpSpPr>
            <a:xfrm>
              <a:off x="333360" y="2039760"/>
              <a:ext cx="1793880" cy="841680"/>
              <a:chOff x="333360" y="2039760"/>
              <a:chExt cx="1793880" cy="841680"/>
            </a:xfrm>
          </p:grpSpPr>
          <p:sp>
            <p:nvSpPr>
              <p:cNvPr id="2461" name=""/>
              <p:cNvSpPr/>
              <p:nvPr/>
            </p:nvSpPr>
            <p:spPr>
              <a:xfrm>
                <a:off x="333360" y="2039760"/>
                <a:ext cx="1397160" cy="3016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809640" y="2039760"/>
                <a:ext cx="0" cy="285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1397160" y="2039760"/>
                <a:ext cx="0" cy="285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 flipH="1">
                <a:off x="452520" y="2106720"/>
                <a:ext cx="109440" cy="163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 flipH="1">
                <a:off x="571680" y="2108160"/>
                <a:ext cx="104760" cy="162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6" name=""/>
              <p:cNvSpPr txBox="1"/>
              <p:nvPr/>
            </p:nvSpPr>
            <p:spPr>
              <a:xfrm>
                <a:off x="853920" y="2049480"/>
                <a:ext cx="43164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0.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7" name=""/>
              <p:cNvSpPr txBox="1"/>
              <p:nvPr/>
            </p:nvSpPr>
            <p:spPr>
              <a:xfrm>
                <a:off x="1403280" y="2049480"/>
                <a:ext cx="31284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1746360" y="2182680"/>
                <a:ext cx="365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 flipH="1">
                <a:off x="1428840" y="2182680"/>
                <a:ext cx="698400" cy="698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0" name=""/>
            <p:cNvSpPr/>
            <p:nvPr/>
          </p:nvSpPr>
          <p:spPr>
            <a:xfrm>
              <a:off x="3174840" y="2913120"/>
              <a:ext cx="0" cy="428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3174840" y="3992400"/>
              <a:ext cx="0" cy="540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"/>
            <p:cNvSpPr txBox="1"/>
            <p:nvPr/>
          </p:nvSpPr>
          <p:spPr>
            <a:xfrm>
              <a:off x="2894040" y="3365640"/>
              <a:ext cx="5302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0.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0.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1778040" y="2897280"/>
              <a:ext cx="745920" cy="745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"/>
            <p:cNvSpPr/>
            <p:nvPr/>
          </p:nvSpPr>
          <p:spPr>
            <a:xfrm flipH="1">
              <a:off x="873000" y="2897280"/>
              <a:ext cx="905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873000" y="2897280"/>
              <a:ext cx="0" cy="1650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873000" y="4548240"/>
              <a:ext cx="1635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"/>
            <p:cNvSpPr/>
            <p:nvPr/>
          </p:nvSpPr>
          <p:spPr>
            <a:xfrm flipV="1">
              <a:off x="2523960" y="3659040"/>
              <a:ext cx="0" cy="889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2660760" y="4917960"/>
              <a:ext cx="291960" cy="291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"/>
            <p:cNvSpPr/>
            <p:nvPr/>
          </p:nvSpPr>
          <p:spPr>
            <a:xfrm flipV="1">
              <a:off x="2806560" y="4624560"/>
              <a:ext cx="0" cy="293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2725560" y="4552920"/>
              <a:ext cx="165600" cy="165600"/>
            </a:xfrm>
            <a:custGeom>
              <a:avLst/>
              <a:gdLst/>
              <a:ahLst/>
              <a:rect l="0" t="0" r="r" b="b"/>
              <a:pathLst>
                <a:path w="460" h="460">
                  <a:moveTo>
                    <a:pt x="0" y="0"/>
                  </a:moveTo>
                  <a:lnTo>
                    <a:pt x="460" y="0"/>
                  </a:lnTo>
                  <a:lnTo>
                    <a:pt x="230" y="4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"/>
            <p:cNvSpPr txBox="1"/>
            <p:nvPr/>
          </p:nvSpPr>
          <p:spPr>
            <a:xfrm>
              <a:off x="2671920" y="4932360"/>
              <a:ext cx="3128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1471680" y="5011560"/>
              <a:ext cx="0" cy="303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3" name=""/>
            <p:cNvGrpSpPr/>
            <p:nvPr/>
          </p:nvGrpSpPr>
          <p:grpSpPr>
            <a:xfrm>
              <a:off x="776160" y="4552920"/>
              <a:ext cx="1222560" cy="770040"/>
              <a:chOff x="776160" y="4552920"/>
              <a:chExt cx="1222560" cy="770040"/>
            </a:xfrm>
          </p:grpSpPr>
          <p:sp>
            <p:nvSpPr>
              <p:cNvPr id="2484" name=""/>
              <p:cNvSpPr/>
              <p:nvPr/>
            </p:nvSpPr>
            <p:spPr>
              <a:xfrm>
                <a:off x="955800" y="5011560"/>
                <a:ext cx="1042920" cy="3031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1066680" y="5089680"/>
                <a:ext cx="303480" cy="124200"/>
              </a:xfrm>
              <a:custGeom>
                <a:avLst/>
                <a:gdLst/>
                <a:ahLst/>
                <a:rect l="0" t="0" r="r" b="b"/>
                <a:pathLst>
                  <a:path fill="none" w="843" h="345">
                    <a:moveTo>
                      <a:pt x="0" y="345"/>
                    </a:moveTo>
                    <a:lnTo>
                      <a:pt x="590" y="345"/>
                    </a:lnTo>
                    <a:lnTo>
                      <a:pt x="843" y="0"/>
                    </a:lnTo>
                    <a:lnTo>
                      <a:pt x="252" y="0"/>
                    </a:lnTo>
                    <a:lnTo>
                      <a:pt x="0" y="345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6" name=""/>
              <p:cNvSpPr txBox="1"/>
              <p:nvPr/>
            </p:nvSpPr>
            <p:spPr>
              <a:xfrm>
                <a:off x="1535040" y="5018040"/>
                <a:ext cx="43164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f2fefd"/>
                    </a:solidFill>
                    <a:latin typeface="Arial"/>
                    <a:ea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 flipH="1">
                <a:off x="776160" y="5157720"/>
                <a:ext cx="179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 flipV="1">
                <a:off x="776160" y="4552920"/>
                <a:ext cx="370080" cy="604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"/>
          <p:cNvSpPr txBox="1"/>
          <p:nvPr/>
        </p:nvSpPr>
        <p:spPr>
          <a:xfrm>
            <a:off x="349200" y="996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114ffb"/>
                </a:solidFill>
                <a:latin typeface="Times New Roman"/>
                <a:ea typeface="Times New Roman"/>
              </a:rPr>
              <a:t>In some cases, a single datum is sufficient for verification.  When such is the case, the datum reference is considered the primary datum.  A primary datum always establishes the attitude of the part for measurement and assembly.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datum plane is simulated by machine elements or gages, and contacts the high points of the datum featur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"/>
          <p:cNvSpPr txBox="1"/>
          <p:nvPr/>
        </p:nvSpPr>
        <p:spPr>
          <a:xfrm>
            <a:off x="2995560" y="223920"/>
            <a:ext cx="28893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Planar Datu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2" name=""/>
          <p:cNvSpPr txBox="1"/>
          <p:nvPr/>
        </p:nvSpPr>
        <p:spPr>
          <a:xfrm>
            <a:off x="1771560" y="1063800"/>
            <a:ext cx="12891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00dfca"/>
                </a:solidFill>
                <a:uFillTx/>
                <a:latin typeface="Times New Roman"/>
                <a:ea typeface="Times New Roman"/>
              </a:rPr>
              <a:t>DRA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"/>
          <p:cNvSpPr txBox="1"/>
          <p:nvPr/>
        </p:nvSpPr>
        <p:spPr>
          <a:xfrm>
            <a:off x="5381640" y="1060560"/>
            <a:ext cx="2127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00dfca"/>
                </a:solidFill>
                <a:uFillTx/>
                <a:latin typeface="Times New Roman"/>
                <a:ea typeface="Times New Roman"/>
              </a:rPr>
              <a:t>INTERP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"/>
          <p:cNvSpPr/>
          <p:nvPr/>
        </p:nvSpPr>
        <p:spPr>
          <a:xfrm>
            <a:off x="4397400" y="1952640"/>
            <a:ext cx="0" cy="384156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"/>
          <p:cNvSpPr txBox="1"/>
          <p:nvPr/>
        </p:nvSpPr>
        <p:spPr>
          <a:xfrm>
            <a:off x="1333440" y="320760"/>
            <a:ext cx="61326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ngle (Primary) Datum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"/>
          <p:cNvSpPr/>
          <p:nvPr/>
        </p:nvSpPr>
        <p:spPr>
          <a:xfrm>
            <a:off x="5049720" y="2036880"/>
            <a:ext cx="43812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"/>
          <p:cNvSpPr/>
          <p:nvPr/>
        </p:nvSpPr>
        <p:spPr>
          <a:xfrm>
            <a:off x="5594400" y="2036880"/>
            <a:ext cx="33012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8" name=""/>
          <p:cNvSpPr/>
          <p:nvPr/>
        </p:nvSpPr>
        <p:spPr>
          <a:xfrm>
            <a:off x="7989840" y="3703680"/>
            <a:ext cx="33012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"/>
          <p:cNvSpPr txBox="1"/>
          <p:nvPr/>
        </p:nvSpPr>
        <p:spPr>
          <a:xfrm>
            <a:off x="7367760" y="1879560"/>
            <a:ext cx="9460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"/>
          <p:cNvSpPr/>
          <p:nvPr/>
        </p:nvSpPr>
        <p:spPr>
          <a:xfrm flipH="1">
            <a:off x="7178760" y="2050920"/>
            <a:ext cx="2062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"/>
          <p:cNvSpPr/>
          <p:nvPr/>
        </p:nvSpPr>
        <p:spPr>
          <a:xfrm flipH="1">
            <a:off x="6357960" y="2050920"/>
            <a:ext cx="822240" cy="24638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"/>
          <p:cNvSpPr/>
          <p:nvPr/>
        </p:nvSpPr>
        <p:spPr>
          <a:xfrm>
            <a:off x="4932360" y="4549680"/>
            <a:ext cx="2040120" cy="343440"/>
          </a:xfrm>
          <a:custGeom>
            <a:avLst/>
            <a:gdLst/>
            <a:ahLst/>
            <a:rect l="0" t="0" r="r" b="b"/>
            <a:pathLst>
              <a:path w="5667" h="954">
                <a:moveTo>
                  <a:pt x="4" y="8"/>
                </a:moveTo>
                <a:lnTo>
                  <a:pt x="5667" y="0"/>
                </a:lnTo>
                <a:lnTo>
                  <a:pt x="5667" y="954"/>
                </a:lnTo>
                <a:lnTo>
                  <a:pt x="5588" y="954"/>
                </a:lnTo>
                <a:lnTo>
                  <a:pt x="5482" y="954"/>
                </a:lnTo>
                <a:lnTo>
                  <a:pt x="5402" y="901"/>
                </a:lnTo>
                <a:lnTo>
                  <a:pt x="5270" y="875"/>
                </a:lnTo>
                <a:lnTo>
                  <a:pt x="5191" y="875"/>
                </a:lnTo>
                <a:lnTo>
                  <a:pt x="5111" y="848"/>
                </a:lnTo>
                <a:lnTo>
                  <a:pt x="4979" y="848"/>
                </a:lnTo>
                <a:lnTo>
                  <a:pt x="4873" y="848"/>
                </a:lnTo>
                <a:lnTo>
                  <a:pt x="4767" y="848"/>
                </a:lnTo>
                <a:lnTo>
                  <a:pt x="4688" y="875"/>
                </a:lnTo>
                <a:lnTo>
                  <a:pt x="4609" y="875"/>
                </a:lnTo>
                <a:lnTo>
                  <a:pt x="4529" y="875"/>
                </a:lnTo>
                <a:lnTo>
                  <a:pt x="4371" y="901"/>
                </a:lnTo>
                <a:lnTo>
                  <a:pt x="4238" y="901"/>
                </a:lnTo>
                <a:lnTo>
                  <a:pt x="4159" y="901"/>
                </a:lnTo>
                <a:lnTo>
                  <a:pt x="4027" y="901"/>
                </a:lnTo>
                <a:lnTo>
                  <a:pt x="3841" y="901"/>
                </a:lnTo>
                <a:lnTo>
                  <a:pt x="3762" y="928"/>
                </a:lnTo>
                <a:lnTo>
                  <a:pt x="3656" y="928"/>
                </a:lnTo>
                <a:lnTo>
                  <a:pt x="3524" y="928"/>
                </a:lnTo>
                <a:lnTo>
                  <a:pt x="3392" y="901"/>
                </a:lnTo>
                <a:lnTo>
                  <a:pt x="3312" y="875"/>
                </a:lnTo>
                <a:lnTo>
                  <a:pt x="3233" y="875"/>
                </a:lnTo>
                <a:lnTo>
                  <a:pt x="3048" y="875"/>
                </a:lnTo>
                <a:lnTo>
                  <a:pt x="2889" y="875"/>
                </a:lnTo>
                <a:lnTo>
                  <a:pt x="2808" y="875"/>
                </a:lnTo>
                <a:lnTo>
                  <a:pt x="2729" y="875"/>
                </a:lnTo>
                <a:lnTo>
                  <a:pt x="2597" y="901"/>
                </a:lnTo>
                <a:lnTo>
                  <a:pt x="2438" y="901"/>
                </a:lnTo>
                <a:lnTo>
                  <a:pt x="2332" y="875"/>
                </a:lnTo>
                <a:lnTo>
                  <a:pt x="2226" y="875"/>
                </a:lnTo>
                <a:lnTo>
                  <a:pt x="2147" y="848"/>
                </a:lnTo>
                <a:lnTo>
                  <a:pt x="2068" y="822"/>
                </a:lnTo>
                <a:lnTo>
                  <a:pt x="1962" y="795"/>
                </a:lnTo>
                <a:lnTo>
                  <a:pt x="1856" y="795"/>
                </a:lnTo>
                <a:lnTo>
                  <a:pt x="1644" y="795"/>
                </a:lnTo>
                <a:lnTo>
                  <a:pt x="1406" y="769"/>
                </a:lnTo>
                <a:lnTo>
                  <a:pt x="1274" y="769"/>
                </a:lnTo>
                <a:lnTo>
                  <a:pt x="1089" y="769"/>
                </a:lnTo>
                <a:lnTo>
                  <a:pt x="877" y="769"/>
                </a:lnTo>
                <a:lnTo>
                  <a:pt x="798" y="795"/>
                </a:lnTo>
                <a:lnTo>
                  <a:pt x="692" y="795"/>
                </a:lnTo>
                <a:lnTo>
                  <a:pt x="612" y="795"/>
                </a:lnTo>
                <a:lnTo>
                  <a:pt x="427" y="795"/>
                </a:lnTo>
                <a:lnTo>
                  <a:pt x="348" y="795"/>
                </a:lnTo>
                <a:lnTo>
                  <a:pt x="268" y="795"/>
                </a:lnTo>
                <a:lnTo>
                  <a:pt x="189" y="795"/>
                </a:lnTo>
                <a:lnTo>
                  <a:pt x="83" y="795"/>
                </a:lnTo>
                <a:lnTo>
                  <a:pt x="0" y="791"/>
                </a:lnTo>
                <a:lnTo>
                  <a:pt x="26" y="791"/>
                </a:lnTo>
                <a:lnTo>
                  <a:pt x="4" y="769"/>
                </a:lnTo>
                <a:lnTo>
                  <a:pt x="4" y="8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3" name=""/>
          <p:cNvGrpSpPr/>
          <p:nvPr/>
        </p:nvGrpSpPr>
        <p:grpSpPr>
          <a:xfrm>
            <a:off x="4645080" y="4546440"/>
            <a:ext cx="4016160" cy="6480"/>
            <a:chOff x="4645080" y="4546440"/>
            <a:chExt cx="4016160" cy="6480"/>
          </a:xfrm>
        </p:grpSpPr>
        <p:sp>
          <p:nvSpPr>
            <p:cNvPr id="2504" name=""/>
            <p:cNvSpPr/>
            <p:nvPr/>
          </p:nvSpPr>
          <p:spPr>
            <a:xfrm>
              <a:off x="4645080" y="4546440"/>
              <a:ext cx="2349360" cy="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7407360" y="4552920"/>
              <a:ext cx="127080" cy="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7645320" y="4552920"/>
              <a:ext cx="1015920" cy="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7137360" y="4552920"/>
              <a:ext cx="142920" cy="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8" name=""/>
          <p:cNvSpPr txBox="1"/>
          <p:nvPr/>
        </p:nvSpPr>
        <p:spPr>
          <a:xfrm>
            <a:off x="6127920" y="5056200"/>
            <a:ext cx="19684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imulated Dat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Surface pl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"/>
          <p:cNvSpPr/>
          <p:nvPr/>
        </p:nvSpPr>
        <p:spPr>
          <a:xfrm flipH="1">
            <a:off x="5956200" y="5248440"/>
            <a:ext cx="190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"/>
          <p:cNvSpPr/>
          <p:nvPr/>
        </p:nvSpPr>
        <p:spPr>
          <a:xfrm>
            <a:off x="8667720" y="3543480"/>
            <a:ext cx="165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"/>
          <p:cNvSpPr/>
          <p:nvPr/>
        </p:nvSpPr>
        <p:spPr>
          <a:xfrm flipH="1">
            <a:off x="8305920" y="3543480"/>
            <a:ext cx="533160" cy="984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"/>
          <p:cNvSpPr/>
          <p:nvPr/>
        </p:nvSpPr>
        <p:spPr>
          <a:xfrm>
            <a:off x="5978520" y="2870280"/>
            <a:ext cx="746280" cy="745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3" name=""/>
          <p:cNvSpPr/>
          <p:nvPr/>
        </p:nvSpPr>
        <p:spPr>
          <a:xfrm>
            <a:off x="5073480" y="2870280"/>
            <a:ext cx="0" cy="1650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4" name=""/>
          <p:cNvSpPr/>
          <p:nvPr/>
        </p:nvSpPr>
        <p:spPr>
          <a:xfrm flipV="1">
            <a:off x="6724800" y="3619440"/>
            <a:ext cx="0" cy="901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5" name=""/>
          <p:cNvSpPr/>
          <p:nvPr/>
        </p:nvSpPr>
        <p:spPr>
          <a:xfrm>
            <a:off x="5073480" y="4492800"/>
            <a:ext cx="1648080" cy="38520"/>
          </a:xfrm>
          <a:custGeom>
            <a:avLst/>
            <a:gdLst/>
            <a:ahLst/>
            <a:rect l="0" t="0" r="r" b="b"/>
            <a:pathLst>
              <a:path fill="none" w="4578" h="107">
                <a:moveTo>
                  <a:pt x="0" y="107"/>
                </a:moveTo>
                <a:lnTo>
                  <a:pt x="185" y="53"/>
                </a:lnTo>
                <a:lnTo>
                  <a:pt x="317" y="99"/>
                </a:lnTo>
                <a:lnTo>
                  <a:pt x="493" y="99"/>
                </a:lnTo>
                <a:lnTo>
                  <a:pt x="582" y="99"/>
                </a:lnTo>
                <a:lnTo>
                  <a:pt x="714" y="53"/>
                </a:lnTo>
                <a:lnTo>
                  <a:pt x="890" y="53"/>
                </a:lnTo>
                <a:lnTo>
                  <a:pt x="1049" y="36"/>
                </a:lnTo>
                <a:lnTo>
                  <a:pt x="1508" y="107"/>
                </a:lnTo>
                <a:lnTo>
                  <a:pt x="2213" y="45"/>
                </a:lnTo>
                <a:lnTo>
                  <a:pt x="2920" y="0"/>
                </a:lnTo>
                <a:lnTo>
                  <a:pt x="3590" y="71"/>
                </a:lnTo>
                <a:lnTo>
                  <a:pt x="3758" y="8"/>
                </a:lnTo>
                <a:lnTo>
                  <a:pt x="3890" y="99"/>
                </a:lnTo>
                <a:lnTo>
                  <a:pt x="4066" y="8"/>
                </a:lnTo>
                <a:lnTo>
                  <a:pt x="4199" y="99"/>
                </a:lnTo>
                <a:lnTo>
                  <a:pt x="4331" y="53"/>
                </a:lnTo>
                <a:lnTo>
                  <a:pt x="4463" y="53"/>
                </a:lnTo>
                <a:lnTo>
                  <a:pt x="4578" y="9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6" name=""/>
          <p:cNvSpPr/>
          <p:nvPr/>
        </p:nvSpPr>
        <p:spPr>
          <a:xfrm>
            <a:off x="5073480" y="2844720"/>
            <a:ext cx="905400" cy="57600"/>
          </a:xfrm>
          <a:custGeom>
            <a:avLst/>
            <a:gdLst/>
            <a:ahLst/>
            <a:rect l="0" t="0" r="r" b="b"/>
            <a:pathLst>
              <a:path fill="none" w="2515" h="160">
                <a:moveTo>
                  <a:pt x="0" y="71"/>
                </a:moveTo>
                <a:lnTo>
                  <a:pt x="26" y="62"/>
                </a:lnTo>
                <a:lnTo>
                  <a:pt x="52" y="53"/>
                </a:lnTo>
                <a:lnTo>
                  <a:pt x="79" y="45"/>
                </a:lnTo>
                <a:lnTo>
                  <a:pt x="105" y="35"/>
                </a:lnTo>
                <a:lnTo>
                  <a:pt x="123" y="8"/>
                </a:lnTo>
                <a:lnTo>
                  <a:pt x="176" y="0"/>
                </a:lnTo>
                <a:lnTo>
                  <a:pt x="211" y="0"/>
                </a:lnTo>
                <a:lnTo>
                  <a:pt x="255" y="0"/>
                </a:lnTo>
                <a:lnTo>
                  <a:pt x="308" y="8"/>
                </a:lnTo>
                <a:lnTo>
                  <a:pt x="335" y="26"/>
                </a:lnTo>
                <a:lnTo>
                  <a:pt x="370" y="35"/>
                </a:lnTo>
                <a:lnTo>
                  <a:pt x="396" y="45"/>
                </a:lnTo>
                <a:lnTo>
                  <a:pt x="423" y="53"/>
                </a:lnTo>
                <a:lnTo>
                  <a:pt x="440" y="80"/>
                </a:lnTo>
                <a:lnTo>
                  <a:pt x="467" y="80"/>
                </a:lnTo>
                <a:lnTo>
                  <a:pt x="493" y="98"/>
                </a:lnTo>
                <a:lnTo>
                  <a:pt x="529" y="106"/>
                </a:lnTo>
                <a:lnTo>
                  <a:pt x="555" y="115"/>
                </a:lnTo>
                <a:lnTo>
                  <a:pt x="599" y="115"/>
                </a:lnTo>
                <a:lnTo>
                  <a:pt x="644" y="125"/>
                </a:lnTo>
                <a:lnTo>
                  <a:pt x="671" y="143"/>
                </a:lnTo>
                <a:lnTo>
                  <a:pt x="697" y="160"/>
                </a:lnTo>
                <a:lnTo>
                  <a:pt x="724" y="160"/>
                </a:lnTo>
                <a:lnTo>
                  <a:pt x="750" y="160"/>
                </a:lnTo>
                <a:lnTo>
                  <a:pt x="794" y="160"/>
                </a:lnTo>
                <a:lnTo>
                  <a:pt x="838" y="160"/>
                </a:lnTo>
                <a:lnTo>
                  <a:pt x="865" y="160"/>
                </a:lnTo>
                <a:lnTo>
                  <a:pt x="909" y="151"/>
                </a:lnTo>
                <a:lnTo>
                  <a:pt x="935" y="143"/>
                </a:lnTo>
                <a:lnTo>
                  <a:pt x="1006" y="115"/>
                </a:lnTo>
                <a:lnTo>
                  <a:pt x="1032" y="98"/>
                </a:lnTo>
                <a:lnTo>
                  <a:pt x="1059" y="80"/>
                </a:lnTo>
                <a:lnTo>
                  <a:pt x="1085" y="71"/>
                </a:lnTo>
                <a:lnTo>
                  <a:pt x="1112" y="62"/>
                </a:lnTo>
                <a:lnTo>
                  <a:pt x="1156" y="71"/>
                </a:lnTo>
                <a:lnTo>
                  <a:pt x="1182" y="80"/>
                </a:lnTo>
                <a:lnTo>
                  <a:pt x="1226" y="106"/>
                </a:lnTo>
                <a:lnTo>
                  <a:pt x="1253" y="106"/>
                </a:lnTo>
                <a:lnTo>
                  <a:pt x="1288" y="106"/>
                </a:lnTo>
                <a:lnTo>
                  <a:pt x="1315" y="125"/>
                </a:lnTo>
                <a:lnTo>
                  <a:pt x="1359" y="125"/>
                </a:lnTo>
                <a:lnTo>
                  <a:pt x="1403" y="125"/>
                </a:lnTo>
                <a:lnTo>
                  <a:pt x="1456" y="98"/>
                </a:lnTo>
                <a:lnTo>
                  <a:pt x="1482" y="62"/>
                </a:lnTo>
                <a:lnTo>
                  <a:pt x="1509" y="53"/>
                </a:lnTo>
                <a:lnTo>
                  <a:pt x="1526" y="26"/>
                </a:lnTo>
                <a:lnTo>
                  <a:pt x="1553" y="17"/>
                </a:lnTo>
                <a:lnTo>
                  <a:pt x="1579" y="8"/>
                </a:lnTo>
                <a:lnTo>
                  <a:pt x="1623" y="8"/>
                </a:lnTo>
                <a:lnTo>
                  <a:pt x="1667" y="8"/>
                </a:lnTo>
                <a:lnTo>
                  <a:pt x="1694" y="8"/>
                </a:lnTo>
                <a:lnTo>
                  <a:pt x="1756" y="26"/>
                </a:lnTo>
                <a:lnTo>
                  <a:pt x="1791" y="62"/>
                </a:lnTo>
                <a:lnTo>
                  <a:pt x="1817" y="71"/>
                </a:lnTo>
                <a:lnTo>
                  <a:pt x="1835" y="98"/>
                </a:lnTo>
                <a:lnTo>
                  <a:pt x="1861" y="98"/>
                </a:lnTo>
                <a:lnTo>
                  <a:pt x="1889" y="98"/>
                </a:lnTo>
                <a:lnTo>
                  <a:pt x="1915" y="98"/>
                </a:lnTo>
                <a:lnTo>
                  <a:pt x="1942" y="98"/>
                </a:lnTo>
                <a:lnTo>
                  <a:pt x="1968" y="98"/>
                </a:lnTo>
                <a:lnTo>
                  <a:pt x="2012" y="106"/>
                </a:lnTo>
                <a:lnTo>
                  <a:pt x="2048" y="134"/>
                </a:lnTo>
                <a:lnTo>
                  <a:pt x="2074" y="151"/>
                </a:lnTo>
                <a:lnTo>
                  <a:pt x="2101" y="151"/>
                </a:lnTo>
                <a:lnTo>
                  <a:pt x="2145" y="151"/>
                </a:lnTo>
                <a:lnTo>
                  <a:pt x="2171" y="151"/>
                </a:lnTo>
                <a:lnTo>
                  <a:pt x="2250" y="134"/>
                </a:lnTo>
                <a:lnTo>
                  <a:pt x="2277" y="125"/>
                </a:lnTo>
                <a:lnTo>
                  <a:pt x="2339" y="115"/>
                </a:lnTo>
                <a:lnTo>
                  <a:pt x="2365" y="106"/>
                </a:lnTo>
                <a:lnTo>
                  <a:pt x="2418" y="98"/>
                </a:lnTo>
                <a:lnTo>
                  <a:pt x="2453" y="89"/>
                </a:lnTo>
                <a:lnTo>
                  <a:pt x="2489" y="89"/>
                </a:lnTo>
                <a:lnTo>
                  <a:pt x="2515" y="71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6480" bIns="6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7" name=""/>
          <p:cNvSpPr/>
          <p:nvPr/>
        </p:nvSpPr>
        <p:spPr>
          <a:xfrm flipV="1">
            <a:off x="5946840" y="4894200"/>
            <a:ext cx="347760" cy="3477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8" name=""/>
          <p:cNvGrpSpPr/>
          <p:nvPr/>
        </p:nvGrpSpPr>
        <p:grpSpPr>
          <a:xfrm>
            <a:off x="333360" y="2039760"/>
            <a:ext cx="3090960" cy="3283200"/>
            <a:chOff x="333360" y="2039760"/>
            <a:chExt cx="3090960" cy="3283200"/>
          </a:xfrm>
        </p:grpSpPr>
        <p:sp>
          <p:nvSpPr>
            <p:cNvPr id="2519" name=""/>
            <p:cNvSpPr/>
            <p:nvPr/>
          </p:nvSpPr>
          <p:spPr>
            <a:xfrm>
              <a:off x="2635200" y="4548240"/>
              <a:ext cx="695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1905120" y="2897280"/>
              <a:ext cx="14126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21" name=""/>
            <p:cNvGrpSpPr/>
            <p:nvPr/>
          </p:nvGrpSpPr>
          <p:grpSpPr>
            <a:xfrm>
              <a:off x="333360" y="2039760"/>
              <a:ext cx="1793880" cy="841680"/>
              <a:chOff x="333360" y="2039760"/>
              <a:chExt cx="1793880" cy="841680"/>
            </a:xfrm>
          </p:grpSpPr>
          <p:sp>
            <p:nvSpPr>
              <p:cNvPr id="2522" name=""/>
              <p:cNvSpPr/>
              <p:nvPr/>
            </p:nvSpPr>
            <p:spPr>
              <a:xfrm>
                <a:off x="333360" y="2039760"/>
                <a:ext cx="1397160" cy="3016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809640" y="2039760"/>
                <a:ext cx="0" cy="285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1397160" y="2039760"/>
                <a:ext cx="0" cy="285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 flipH="1">
                <a:off x="452520" y="2106720"/>
                <a:ext cx="109440" cy="163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 flipH="1">
                <a:off x="571680" y="2108160"/>
                <a:ext cx="104760" cy="162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7" name=""/>
              <p:cNvSpPr txBox="1"/>
              <p:nvPr/>
            </p:nvSpPr>
            <p:spPr>
              <a:xfrm>
                <a:off x="853920" y="2049480"/>
                <a:ext cx="43164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0.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8" name=""/>
              <p:cNvSpPr txBox="1"/>
              <p:nvPr/>
            </p:nvSpPr>
            <p:spPr>
              <a:xfrm>
                <a:off x="1403280" y="2049480"/>
                <a:ext cx="31284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1746360" y="2182680"/>
                <a:ext cx="365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 flipH="1">
                <a:off x="1428840" y="2182680"/>
                <a:ext cx="698400" cy="698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1" name=""/>
            <p:cNvSpPr/>
            <p:nvPr/>
          </p:nvSpPr>
          <p:spPr>
            <a:xfrm>
              <a:off x="3174840" y="2913120"/>
              <a:ext cx="0" cy="428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3174840" y="3992400"/>
              <a:ext cx="0" cy="540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"/>
            <p:cNvSpPr txBox="1"/>
            <p:nvPr/>
          </p:nvSpPr>
          <p:spPr>
            <a:xfrm>
              <a:off x="2894040" y="3365640"/>
              <a:ext cx="5302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0.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0.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1778040" y="2897280"/>
              <a:ext cx="745920" cy="745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"/>
            <p:cNvSpPr/>
            <p:nvPr/>
          </p:nvSpPr>
          <p:spPr>
            <a:xfrm flipH="1">
              <a:off x="873000" y="2897280"/>
              <a:ext cx="905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873000" y="2897280"/>
              <a:ext cx="0" cy="1650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873000" y="4548240"/>
              <a:ext cx="1635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"/>
            <p:cNvSpPr/>
            <p:nvPr/>
          </p:nvSpPr>
          <p:spPr>
            <a:xfrm flipV="1">
              <a:off x="2523960" y="3659040"/>
              <a:ext cx="0" cy="889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2660760" y="4917960"/>
              <a:ext cx="291960" cy="291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"/>
            <p:cNvSpPr/>
            <p:nvPr/>
          </p:nvSpPr>
          <p:spPr>
            <a:xfrm flipV="1">
              <a:off x="2806560" y="4624560"/>
              <a:ext cx="0" cy="293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2725560" y="4552920"/>
              <a:ext cx="165600" cy="165600"/>
            </a:xfrm>
            <a:custGeom>
              <a:avLst/>
              <a:gdLst/>
              <a:ahLst/>
              <a:rect l="0" t="0" r="r" b="b"/>
              <a:pathLst>
                <a:path w="460" h="460">
                  <a:moveTo>
                    <a:pt x="0" y="0"/>
                  </a:moveTo>
                  <a:lnTo>
                    <a:pt x="460" y="0"/>
                  </a:lnTo>
                  <a:lnTo>
                    <a:pt x="230" y="4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"/>
            <p:cNvSpPr txBox="1"/>
            <p:nvPr/>
          </p:nvSpPr>
          <p:spPr>
            <a:xfrm>
              <a:off x="2671920" y="4932360"/>
              <a:ext cx="3128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1471680" y="5011560"/>
              <a:ext cx="0" cy="303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4" name=""/>
            <p:cNvGrpSpPr/>
            <p:nvPr/>
          </p:nvGrpSpPr>
          <p:grpSpPr>
            <a:xfrm>
              <a:off x="776160" y="4552920"/>
              <a:ext cx="1222560" cy="770040"/>
              <a:chOff x="776160" y="4552920"/>
              <a:chExt cx="1222560" cy="770040"/>
            </a:xfrm>
          </p:grpSpPr>
          <p:sp>
            <p:nvSpPr>
              <p:cNvPr id="2545" name=""/>
              <p:cNvSpPr/>
              <p:nvPr/>
            </p:nvSpPr>
            <p:spPr>
              <a:xfrm>
                <a:off x="955800" y="5011560"/>
                <a:ext cx="1042920" cy="3031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1066680" y="5089680"/>
                <a:ext cx="303480" cy="124200"/>
              </a:xfrm>
              <a:custGeom>
                <a:avLst/>
                <a:gdLst/>
                <a:ahLst/>
                <a:rect l="0" t="0" r="r" b="b"/>
                <a:pathLst>
                  <a:path fill="none" w="843" h="345">
                    <a:moveTo>
                      <a:pt x="0" y="345"/>
                    </a:moveTo>
                    <a:lnTo>
                      <a:pt x="590" y="345"/>
                    </a:lnTo>
                    <a:lnTo>
                      <a:pt x="843" y="0"/>
                    </a:lnTo>
                    <a:lnTo>
                      <a:pt x="252" y="0"/>
                    </a:lnTo>
                    <a:lnTo>
                      <a:pt x="0" y="345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7" name=""/>
              <p:cNvSpPr txBox="1"/>
              <p:nvPr/>
            </p:nvSpPr>
            <p:spPr>
              <a:xfrm>
                <a:off x="1535040" y="5018040"/>
                <a:ext cx="43164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f2fefd"/>
                    </a:solidFill>
                    <a:latin typeface="Arial"/>
                    <a:ea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 flipH="1">
                <a:off x="776160" y="5157720"/>
                <a:ext cx="179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 flipV="1">
                <a:off x="776160" y="4552920"/>
                <a:ext cx="370080" cy="604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50" name=""/>
          <p:cNvSpPr txBox="1"/>
          <p:nvPr/>
        </p:nvSpPr>
        <p:spPr>
          <a:xfrm>
            <a:off x="7026120" y="3363840"/>
            <a:ext cx="17366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Datum plane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822240" y="274680"/>
            <a:ext cx="777240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KEY CONCEP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792000" y="1001880"/>
            <a:ext cx="7772400" cy="563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um -- (Theoretical True Geometric Counterpa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um Feature (Planes and Ax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terial Condition Options for Size-Feature Dat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ulated Datu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um Feature Symb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um Refer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um Reference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ied Datums / Specified Dat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um Precedence (Primary, Secondary, Tertia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mporary and Permanent Datu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ylindrical Dat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um Targets -- (Points, Lines, Are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2" name=""/>
          <p:cNvSpPr txBox="1"/>
          <p:nvPr/>
        </p:nvSpPr>
        <p:spPr>
          <a:xfrm>
            <a:off x="349200" y="996840"/>
            <a:ext cx="84931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114ffb"/>
                </a:solidFill>
                <a:latin typeface="Times New Roman"/>
                <a:ea typeface="Times New Roman"/>
              </a:rPr>
              <a:t>In some cases, a single datum is sufficient for verification.  When such is the case, the datum reference is considered the primary datum.  A primary datum always establishes the attitude of the part for measurement and assembly.  A datum plane is simulated by machine elements or gages, and contacts the high points of the datum feature.</a:t>
            </a:r>
            <a:r>
              <a:rPr b="0" lang="en-US" sz="3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asurements from a datum plane are always made perpendicular to the datum pla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3" name=""/>
          <p:cNvSpPr txBox="1"/>
          <p:nvPr/>
        </p:nvSpPr>
        <p:spPr>
          <a:xfrm>
            <a:off x="2995560" y="223920"/>
            <a:ext cx="28893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Planar Datu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"/>
          <p:cNvSpPr txBox="1"/>
          <p:nvPr/>
        </p:nvSpPr>
        <p:spPr>
          <a:xfrm>
            <a:off x="1771560" y="1063800"/>
            <a:ext cx="12891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00dfca"/>
                </a:solidFill>
                <a:uFillTx/>
                <a:latin typeface="Times New Roman"/>
                <a:ea typeface="Times New Roman"/>
              </a:rPr>
              <a:t>DRA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5" name=""/>
          <p:cNvSpPr txBox="1"/>
          <p:nvPr/>
        </p:nvSpPr>
        <p:spPr>
          <a:xfrm>
            <a:off x="5381640" y="1060560"/>
            <a:ext cx="2127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00dfca"/>
                </a:solidFill>
                <a:uFillTx/>
                <a:latin typeface="Times New Roman"/>
                <a:ea typeface="Times New Roman"/>
              </a:rPr>
              <a:t>INTERP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6" name=""/>
          <p:cNvSpPr/>
          <p:nvPr/>
        </p:nvSpPr>
        <p:spPr>
          <a:xfrm>
            <a:off x="4397400" y="1952640"/>
            <a:ext cx="0" cy="384156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7" name=""/>
          <p:cNvSpPr txBox="1"/>
          <p:nvPr/>
        </p:nvSpPr>
        <p:spPr>
          <a:xfrm>
            <a:off x="1333440" y="320760"/>
            <a:ext cx="61326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ngle (Primary) Datum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8" name=""/>
          <p:cNvSpPr/>
          <p:nvPr/>
        </p:nvSpPr>
        <p:spPr>
          <a:xfrm>
            <a:off x="5049720" y="2036880"/>
            <a:ext cx="43812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"/>
          <p:cNvSpPr/>
          <p:nvPr/>
        </p:nvSpPr>
        <p:spPr>
          <a:xfrm>
            <a:off x="5594400" y="2036880"/>
            <a:ext cx="33012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"/>
          <p:cNvSpPr/>
          <p:nvPr/>
        </p:nvSpPr>
        <p:spPr>
          <a:xfrm>
            <a:off x="5978520" y="2886120"/>
            <a:ext cx="746280" cy="745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1" name=""/>
          <p:cNvSpPr/>
          <p:nvPr/>
        </p:nvSpPr>
        <p:spPr>
          <a:xfrm>
            <a:off x="5073480" y="2886120"/>
            <a:ext cx="0" cy="1650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"/>
          <p:cNvSpPr/>
          <p:nvPr/>
        </p:nvSpPr>
        <p:spPr>
          <a:xfrm flipV="1">
            <a:off x="6724800" y="3648240"/>
            <a:ext cx="0" cy="888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"/>
          <p:cNvSpPr txBox="1"/>
          <p:nvPr/>
        </p:nvSpPr>
        <p:spPr>
          <a:xfrm>
            <a:off x="7367760" y="1879560"/>
            <a:ext cx="9460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4" name=""/>
          <p:cNvSpPr/>
          <p:nvPr/>
        </p:nvSpPr>
        <p:spPr>
          <a:xfrm flipH="1">
            <a:off x="7178760" y="2057400"/>
            <a:ext cx="2062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5" name=""/>
          <p:cNvSpPr/>
          <p:nvPr/>
        </p:nvSpPr>
        <p:spPr>
          <a:xfrm flipH="1">
            <a:off x="6357960" y="2050920"/>
            <a:ext cx="822240" cy="24638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6" name=""/>
          <p:cNvSpPr txBox="1"/>
          <p:nvPr/>
        </p:nvSpPr>
        <p:spPr>
          <a:xfrm>
            <a:off x="5819760" y="5402160"/>
            <a:ext cx="17366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Datum plane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7" name=""/>
          <p:cNvSpPr/>
          <p:nvPr/>
        </p:nvSpPr>
        <p:spPr>
          <a:xfrm>
            <a:off x="7499520" y="5597640"/>
            <a:ext cx="1648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8" name=""/>
          <p:cNvSpPr/>
          <p:nvPr/>
        </p:nvSpPr>
        <p:spPr>
          <a:xfrm>
            <a:off x="5073480" y="2860560"/>
            <a:ext cx="905400" cy="57600"/>
          </a:xfrm>
          <a:custGeom>
            <a:avLst/>
            <a:gdLst/>
            <a:ahLst/>
            <a:rect l="0" t="0" r="r" b="b"/>
            <a:pathLst>
              <a:path fill="none" w="2515" h="160">
                <a:moveTo>
                  <a:pt x="0" y="71"/>
                </a:moveTo>
                <a:lnTo>
                  <a:pt x="26" y="62"/>
                </a:lnTo>
                <a:lnTo>
                  <a:pt x="52" y="53"/>
                </a:lnTo>
                <a:lnTo>
                  <a:pt x="79" y="45"/>
                </a:lnTo>
                <a:lnTo>
                  <a:pt x="105" y="35"/>
                </a:lnTo>
                <a:lnTo>
                  <a:pt x="123" y="8"/>
                </a:lnTo>
                <a:lnTo>
                  <a:pt x="176" y="0"/>
                </a:lnTo>
                <a:lnTo>
                  <a:pt x="211" y="0"/>
                </a:lnTo>
                <a:lnTo>
                  <a:pt x="255" y="0"/>
                </a:lnTo>
                <a:lnTo>
                  <a:pt x="308" y="8"/>
                </a:lnTo>
                <a:lnTo>
                  <a:pt x="335" y="26"/>
                </a:lnTo>
                <a:lnTo>
                  <a:pt x="370" y="35"/>
                </a:lnTo>
                <a:lnTo>
                  <a:pt x="396" y="45"/>
                </a:lnTo>
                <a:lnTo>
                  <a:pt x="423" y="53"/>
                </a:lnTo>
                <a:lnTo>
                  <a:pt x="440" y="80"/>
                </a:lnTo>
                <a:lnTo>
                  <a:pt x="467" y="80"/>
                </a:lnTo>
                <a:lnTo>
                  <a:pt x="493" y="98"/>
                </a:lnTo>
                <a:lnTo>
                  <a:pt x="529" y="106"/>
                </a:lnTo>
                <a:lnTo>
                  <a:pt x="555" y="115"/>
                </a:lnTo>
                <a:lnTo>
                  <a:pt x="599" y="115"/>
                </a:lnTo>
                <a:lnTo>
                  <a:pt x="644" y="125"/>
                </a:lnTo>
                <a:lnTo>
                  <a:pt x="671" y="143"/>
                </a:lnTo>
                <a:lnTo>
                  <a:pt x="697" y="160"/>
                </a:lnTo>
                <a:lnTo>
                  <a:pt x="724" y="160"/>
                </a:lnTo>
                <a:lnTo>
                  <a:pt x="750" y="160"/>
                </a:lnTo>
                <a:lnTo>
                  <a:pt x="794" y="160"/>
                </a:lnTo>
                <a:lnTo>
                  <a:pt x="838" y="160"/>
                </a:lnTo>
                <a:lnTo>
                  <a:pt x="865" y="160"/>
                </a:lnTo>
                <a:lnTo>
                  <a:pt x="909" y="151"/>
                </a:lnTo>
                <a:lnTo>
                  <a:pt x="935" y="143"/>
                </a:lnTo>
                <a:lnTo>
                  <a:pt x="1006" y="115"/>
                </a:lnTo>
                <a:lnTo>
                  <a:pt x="1032" y="98"/>
                </a:lnTo>
                <a:lnTo>
                  <a:pt x="1059" y="80"/>
                </a:lnTo>
                <a:lnTo>
                  <a:pt x="1085" y="71"/>
                </a:lnTo>
                <a:lnTo>
                  <a:pt x="1112" y="62"/>
                </a:lnTo>
                <a:lnTo>
                  <a:pt x="1156" y="71"/>
                </a:lnTo>
                <a:lnTo>
                  <a:pt x="1182" y="80"/>
                </a:lnTo>
                <a:lnTo>
                  <a:pt x="1226" y="106"/>
                </a:lnTo>
                <a:lnTo>
                  <a:pt x="1253" y="106"/>
                </a:lnTo>
                <a:lnTo>
                  <a:pt x="1288" y="106"/>
                </a:lnTo>
                <a:lnTo>
                  <a:pt x="1315" y="125"/>
                </a:lnTo>
                <a:lnTo>
                  <a:pt x="1359" y="125"/>
                </a:lnTo>
                <a:lnTo>
                  <a:pt x="1403" y="125"/>
                </a:lnTo>
                <a:lnTo>
                  <a:pt x="1456" y="98"/>
                </a:lnTo>
                <a:lnTo>
                  <a:pt x="1482" y="62"/>
                </a:lnTo>
                <a:lnTo>
                  <a:pt x="1509" y="53"/>
                </a:lnTo>
                <a:lnTo>
                  <a:pt x="1526" y="26"/>
                </a:lnTo>
                <a:lnTo>
                  <a:pt x="1553" y="17"/>
                </a:lnTo>
                <a:lnTo>
                  <a:pt x="1579" y="8"/>
                </a:lnTo>
                <a:lnTo>
                  <a:pt x="1623" y="8"/>
                </a:lnTo>
                <a:lnTo>
                  <a:pt x="1667" y="8"/>
                </a:lnTo>
                <a:lnTo>
                  <a:pt x="1694" y="8"/>
                </a:lnTo>
                <a:lnTo>
                  <a:pt x="1756" y="26"/>
                </a:lnTo>
                <a:lnTo>
                  <a:pt x="1791" y="62"/>
                </a:lnTo>
                <a:lnTo>
                  <a:pt x="1817" y="71"/>
                </a:lnTo>
                <a:lnTo>
                  <a:pt x="1835" y="98"/>
                </a:lnTo>
                <a:lnTo>
                  <a:pt x="1861" y="98"/>
                </a:lnTo>
                <a:lnTo>
                  <a:pt x="1889" y="98"/>
                </a:lnTo>
                <a:lnTo>
                  <a:pt x="1915" y="98"/>
                </a:lnTo>
                <a:lnTo>
                  <a:pt x="1942" y="98"/>
                </a:lnTo>
                <a:lnTo>
                  <a:pt x="1968" y="98"/>
                </a:lnTo>
                <a:lnTo>
                  <a:pt x="2012" y="106"/>
                </a:lnTo>
                <a:lnTo>
                  <a:pt x="2048" y="134"/>
                </a:lnTo>
                <a:lnTo>
                  <a:pt x="2074" y="151"/>
                </a:lnTo>
                <a:lnTo>
                  <a:pt x="2101" y="151"/>
                </a:lnTo>
                <a:lnTo>
                  <a:pt x="2145" y="151"/>
                </a:lnTo>
                <a:lnTo>
                  <a:pt x="2171" y="151"/>
                </a:lnTo>
                <a:lnTo>
                  <a:pt x="2250" y="134"/>
                </a:lnTo>
                <a:lnTo>
                  <a:pt x="2277" y="125"/>
                </a:lnTo>
                <a:lnTo>
                  <a:pt x="2339" y="115"/>
                </a:lnTo>
                <a:lnTo>
                  <a:pt x="2365" y="106"/>
                </a:lnTo>
                <a:lnTo>
                  <a:pt x="2418" y="98"/>
                </a:lnTo>
                <a:lnTo>
                  <a:pt x="2453" y="89"/>
                </a:lnTo>
                <a:lnTo>
                  <a:pt x="2489" y="89"/>
                </a:lnTo>
                <a:lnTo>
                  <a:pt x="2515" y="71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6480" bIns="6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9" name=""/>
          <p:cNvSpPr/>
          <p:nvPr/>
        </p:nvSpPr>
        <p:spPr>
          <a:xfrm>
            <a:off x="4965840" y="2857680"/>
            <a:ext cx="3052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"/>
          <p:cNvSpPr txBox="1"/>
          <p:nvPr/>
        </p:nvSpPr>
        <p:spPr>
          <a:xfrm>
            <a:off x="7431120" y="3290760"/>
            <a:ext cx="176364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rif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eas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erpendicular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"/>
          <p:cNvSpPr/>
          <p:nvPr/>
        </p:nvSpPr>
        <p:spPr>
          <a:xfrm>
            <a:off x="7913520" y="2854440"/>
            <a:ext cx="0" cy="4842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2" name=""/>
          <p:cNvSpPr/>
          <p:nvPr/>
        </p:nvSpPr>
        <p:spPr>
          <a:xfrm>
            <a:off x="7921800" y="4376880"/>
            <a:ext cx="192240" cy="196920"/>
          </a:xfrm>
          <a:prstGeom prst="rect">
            <a:avLst/>
          </a:prstGeom>
          <a:noFill/>
          <a:ln w="12600">
            <a:solidFill>
              <a:srgbClr val="ff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"/>
          <p:cNvSpPr/>
          <p:nvPr/>
        </p:nvSpPr>
        <p:spPr>
          <a:xfrm>
            <a:off x="7927920" y="4280040"/>
            <a:ext cx="0" cy="291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4" name=""/>
          <p:cNvGrpSpPr/>
          <p:nvPr/>
        </p:nvGrpSpPr>
        <p:grpSpPr>
          <a:xfrm>
            <a:off x="4603680" y="4567320"/>
            <a:ext cx="4016520" cy="0"/>
            <a:chOff x="4603680" y="4567320"/>
            <a:chExt cx="4016520" cy="0"/>
          </a:xfrm>
        </p:grpSpPr>
        <p:sp>
          <p:nvSpPr>
            <p:cNvPr id="2575" name=""/>
            <p:cNvSpPr/>
            <p:nvPr/>
          </p:nvSpPr>
          <p:spPr>
            <a:xfrm>
              <a:off x="4603680" y="4567320"/>
              <a:ext cx="2349720" cy="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7365960" y="4567320"/>
              <a:ext cx="127080" cy="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7604280" y="4567320"/>
              <a:ext cx="1015920" cy="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7095960" y="4567320"/>
              <a:ext cx="142920" cy="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9" name=""/>
          <p:cNvSpPr/>
          <p:nvPr/>
        </p:nvSpPr>
        <p:spPr>
          <a:xfrm>
            <a:off x="7858080" y="4491000"/>
            <a:ext cx="139680" cy="13968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0" name=""/>
          <p:cNvSpPr/>
          <p:nvPr/>
        </p:nvSpPr>
        <p:spPr>
          <a:xfrm flipH="1" flipV="1">
            <a:off x="7130880" y="4586400"/>
            <a:ext cx="549360" cy="101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1" name=""/>
          <p:cNvGrpSpPr/>
          <p:nvPr/>
        </p:nvGrpSpPr>
        <p:grpSpPr>
          <a:xfrm>
            <a:off x="333360" y="2039760"/>
            <a:ext cx="3090960" cy="3283200"/>
            <a:chOff x="333360" y="2039760"/>
            <a:chExt cx="3090960" cy="3283200"/>
          </a:xfrm>
        </p:grpSpPr>
        <p:sp>
          <p:nvSpPr>
            <p:cNvPr id="2582" name=""/>
            <p:cNvSpPr/>
            <p:nvPr/>
          </p:nvSpPr>
          <p:spPr>
            <a:xfrm>
              <a:off x="2635200" y="4548240"/>
              <a:ext cx="695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1905120" y="2897280"/>
              <a:ext cx="14126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4" name=""/>
            <p:cNvGrpSpPr/>
            <p:nvPr/>
          </p:nvGrpSpPr>
          <p:grpSpPr>
            <a:xfrm>
              <a:off x="333360" y="2039760"/>
              <a:ext cx="1793880" cy="841680"/>
              <a:chOff x="333360" y="2039760"/>
              <a:chExt cx="1793880" cy="841680"/>
            </a:xfrm>
          </p:grpSpPr>
          <p:sp>
            <p:nvSpPr>
              <p:cNvPr id="2585" name=""/>
              <p:cNvSpPr/>
              <p:nvPr/>
            </p:nvSpPr>
            <p:spPr>
              <a:xfrm>
                <a:off x="333360" y="2039760"/>
                <a:ext cx="1397160" cy="3016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809640" y="2039760"/>
                <a:ext cx="0" cy="285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1397160" y="2039760"/>
                <a:ext cx="0" cy="285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 flipH="1">
                <a:off x="452520" y="2106720"/>
                <a:ext cx="109440" cy="163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 flipH="1">
                <a:off x="571680" y="2108160"/>
                <a:ext cx="104760" cy="162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0" name=""/>
              <p:cNvSpPr txBox="1"/>
              <p:nvPr/>
            </p:nvSpPr>
            <p:spPr>
              <a:xfrm>
                <a:off x="853920" y="2049480"/>
                <a:ext cx="43164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0.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1" name=""/>
              <p:cNvSpPr txBox="1"/>
              <p:nvPr/>
            </p:nvSpPr>
            <p:spPr>
              <a:xfrm>
                <a:off x="1403280" y="2049480"/>
                <a:ext cx="31284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1746360" y="2182680"/>
                <a:ext cx="365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 flipH="1">
                <a:off x="1428840" y="2182680"/>
                <a:ext cx="698400" cy="698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4" name=""/>
            <p:cNvSpPr/>
            <p:nvPr/>
          </p:nvSpPr>
          <p:spPr>
            <a:xfrm>
              <a:off x="3174840" y="2913120"/>
              <a:ext cx="0" cy="428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3174840" y="3992400"/>
              <a:ext cx="0" cy="540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"/>
            <p:cNvSpPr txBox="1"/>
            <p:nvPr/>
          </p:nvSpPr>
          <p:spPr>
            <a:xfrm>
              <a:off x="2894040" y="3365640"/>
              <a:ext cx="5302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0.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0.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1778040" y="2897280"/>
              <a:ext cx="745920" cy="745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"/>
            <p:cNvSpPr/>
            <p:nvPr/>
          </p:nvSpPr>
          <p:spPr>
            <a:xfrm flipH="1">
              <a:off x="873000" y="2897280"/>
              <a:ext cx="905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873000" y="2897280"/>
              <a:ext cx="0" cy="1650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873000" y="4548240"/>
              <a:ext cx="1635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"/>
            <p:cNvSpPr/>
            <p:nvPr/>
          </p:nvSpPr>
          <p:spPr>
            <a:xfrm flipV="1">
              <a:off x="2523960" y="3659040"/>
              <a:ext cx="0" cy="889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2660760" y="4917960"/>
              <a:ext cx="291960" cy="291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"/>
            <p:cNvSpPr/>
            <p:nvPr/>
          </p:nvSpPr>
          <p:spPr>
            <a:xfrm flipV="1">
              <a:off x="2806560" y="4624560"/>
              <a:ext cx="0" cy="293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2725560" y="4552920"/>
              <a:ext cx="165600" cy="165600"/>
            </a:xfrm>
            <a:custGeom>
              <a:avLst/>
              <a:gdLst/>
              <a:ahLst/>
              <a:rect l="0" t="0" r="r" b="b"/>
              <a:pathLst>
                <a:path w="460" h="460">
                  <a:moveTo>
                    <a:pt x="0" y="0"/>
                  </a:moveTo>
                  <a:lnTo>
                    <a:pt x="460" y="0"/>
                  </a:lnTo>
                  <a:lnTo>
                    <a:pt x="230" y="4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"/>
            <p:cNvSpPr txBox="1"/>
            <p:nvPr/>
          </p:nvSpPr>
          <p:spPr>
            <a:xfrm>
              <a:off x="2671920" y="4932360"/>
              <a:ext cx="3128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1471680" y="5011560"/>
              <a:ext cx="0" cy="303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7" name=""/>
            <p:cNvGrpSpPr/>
            <p:nvPr/>
          </p:nvGrpSpPr>
          <p:grpSpPr>
            <a:xfrm>
              <a:off x="776160" y="4552920"/>
              <a:ext cx="1222560" cy="770040"/>
              <a:chOff x="776160" y="4552920"/>
              <a:chExt cx="1222560" cy="770040"/>
            </a:xfrm>
          </p:grpSpPr>
          <p:sp>
            <p:nvSpPr>
              <p:cNvPr id="2608" name=""/>
              <p:cNvSpPr/>
              <p:nvPr/>
            </p:nvSpPr>
            <p:spPr>
              <a:xfrm>
                <a:off x="955800" y="5011560"/>
                <a:ext cx="1042920" cy="3031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1066680" y="5089680"/>
                <a:ext cx="303480" cy="124200"/>
              </a:xfrm>
              <a:custGeom>
                <a:avLst/>
                <a:gdLst/>
                <a:ahLst/>
                <a:rect l="0" t="0" r="r" b="b"/>
                <a:pathLst>
                  <a:path fill="none" w="843" h="345">
                    <a:moveTo>
                      <a:pt x="0" y="345"/>
                    </a:moveTo>
                    <a:lnTo>
                      <a:pt x="590" y="345"/>
                    </a:lnTo>
                    <a:lnTo>
                      <a:pt x="843" y="0"/>
                    </a:lnTo>
                    <a:lnTo>
                      <a:pt x="252" y="0"/>
                    </a:lnTo>
                    <a:lnTo>
                      <a:pt x="0" y="345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0" name=""/>
              <p:cNvSpPr txBox="1"/>
              <p:nvPr/>
            </p:nvSpPr>
            <p:spPr>
              <a:xfrm>
                <a:off x="1535040" y="5018040"/>
                <a:ext cx="43164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f2fefd"/>
                    </a:solidFill>
                    <a:latin typeface="Arial"/>
                    <a:ea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 flipH="1">
                <a:off x="776160" y="5157720"/>
                <a:ext cx="179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 flipV="1">
                <a:off x="776160" y="4552920"/>
                <a:ext cx="370080" cy="604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13" name=""/>
          <p:cNvSpPr/>
          <p:nvPr/>
        </p:nvSpPr>
        <p:spPr>
          <a:xfrm>
            <a:off x="5095800" y="4508640"/>
            <a:ext cx="1635480" cy="35280"/>
          </a:xfrm>
          <a:custGeom>
            <a:avLst/>
            <a:gdLst/>
            <a:ahLst/>
            <a:rect l="0" t="0" r="r" b="b"/>
            <a:pathLst>
              <a:path fill="none" w="4543" h="98">
                <a:moveTo>
                  <a:pt x="0" y="98"/>
                </a:moveTo>
                <a:lnTo>
                  <a:pt x="132" y="53"/>
                </a:lnTo>
                <a:lnTo>
                  <a:pt x="264" y="98"/>
                </a:lnTo>
                <a:lnTo>
                  <a:pt x="440" y="98"/>
                </a:lnTo>
                <a:lnTo>
                  <a:pt x="529" y="98"/>
                </a:lnTo>
                <a:lnTo>
                  <a:pt x="661" y="53"/>
                </a:lnTo>
                <a:lnTo>
                  <a:pt x="837" y="53"/>
                </a:lnTo>
                <a:lnTo>
                  <a:pt x="996" y="35"/>
                </a:lnTo>
                <a:lnTo>
                  <a:pt x="1411" y="80"/>
                </a:lnTo>
                <a:lnTo>
                  <a:pt x="2160" y="44"/>
                </a:lnTo>
                <a:lnTo>
                  <a:pt x="2867" y="0"/>
                </a:lnTo>
                <a:lnTo>
                  <a:pt x="3572" y="53"/>
                </a:lnTo>
                <a:lnTo>
                  <a:pt x="3705" y="8"/>
                </a:lnTo>
                <a:lnTo>
                  <a:pt x="3837" y="98"/>
                </a:lnTo>
                <a:lnTo>
                  <a:pt x="4013" y="8"/>
                </a:lnTo>
                <a:lnTo>
                  <a:pt x="4146" y="98"/>
                </a:lnTo>
                <a:lnTo>
                  <a:pt x="4278" y="53"/>
                </a:lnTo>
                <a:lnTo>
                  <a:pt x="4410" y="53"/>
                </a:lnTo>
                <a:lnTo>
                  <a:pt x="4543" y="98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-15840" bIns="-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5" name=""/>
          <p:cNvSpPr txBox="1"/>
          <p:nvPr/>
        </p:nvSpPr>
        <p:spPr>
          <a:xfrm>
            <a:off x="727200" y="171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measuring geometric tolerances which reference a primary datum plane,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t least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ree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point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the datum feature must be in contact with the (simulated) datum pl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i="1" lang="en-US" sz="28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Only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feature dimensions which are </a:t>
            </a:r>
            <a:r>
              <a:rPr b="1" i="1" lang="en-US" sz="28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related to a datum plane through geometric tolerances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hould be measured from the datum plan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"/>
          <p:cNvSpPr txBox="1"/>
          <p:nvPr/>
        </p:nvSpPr>
        <p:spPr>
          <a:xfrm>
            <a:off x="830160" y="566640"/>
            <a:ext cx="73738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MEASUREMENTS FROM DATU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8" name=""/>
          <p:cNvSpPr txBox="1"/>
          <p:nvPr/>
        </p:nvSpPr>
        <p:spPr>
          <a:xfrm>
            <a:off x="654120" y="2660760"/>
            <a:ext cx="7772400" cy="185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UM  PRECEDENC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0" name=""/>
          <p:cNvSpPr txBox="1"/>
          <p:nvPr/>
        </p:nvSpPr>
        <p:spPr>
          <a:xfrm>
            <a:off x="6858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ums -- Order of Preced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1" name=""/>
          <p:cNvSpPr txBox="1"/>
          <p:nvPr/>
        </p:nvSpPr>
        <p:spPr>
          <a:xfrm>
            <a:off x="441360" y="1600200"/>
            <a:ext cx="8350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position a part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perly and repeatedl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datum reference frame (according to design requirements), datum features must be specified in an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rder of precede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rder of precedenc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specified by entering the datum feature reference letters from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eft to righ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feature control fr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3-2-1 R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"/>
          <p:cNvSpPr txBox="1"/>
          <p:nvPr/>
        </p:nvSpPr>
        <p:spPr>
          <a:xfrm>
            <a:off x="993600" y="2112840"/>
            <a:ext cx="7819920" cy="31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3-2-1 Rul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es to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lanar datum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 It reflects the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d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inimu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umber of contact points required to establish primary, secondary, and tertiary datums within a datum reference fr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6" name=""/>
          <p:cNvSpPr txBox="1"/>
          <p:nvPr/>
        </p:nvSpPr>
        <p:spPr>
          <a:xfrm>
            <a:off x="685800" y="8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um Preced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7" name=""/>
          <p:cNvSpPr txBox="1"/>
          <p:nvPr/>
        </p:nvSpPr>
        <p:spPr>
          <a:xfrm>
            <a:off x="301680" y="1092240"/>
            <a:ext cx="8588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rimary datum feature is related to the datum reference frame by bringing a minimum of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re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oints of the datum feature in contact with the primary datum plan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9" name=""/>
          <p:cNvSpPr txBox="1"/>
          <p:nvPr/>
        </p:nvSpPr>
        <p:spPr>
          <a:xfrm>
            <a:off x="685800" y="8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um Preced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0" name=""/>
          <p:cNvSpPr txBox="1"/>
          <p:nvPr/>
        </p:nvSpPr>
        <p:spPr>
          <a:xfrm>
            <a:off x="301680" y="1092240"/>
            <a:ext cx="8588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114ffb"/>
                </a:solidFill>
                <a:latin typeface="Times New Roman"/>
                <a:ea typeface="Times New Roman"/>
              </a:rPr>
              <a:t>A primary datum feature is related to the datum reference frame by bringing a minimum of </a:t>
            </a:r>
            <a:r>
              <a:rPr b="0" lang="en-US" sz="2800" spc="-1" strike="noStrike">
                <a:solidFill>
                  <a:srgbClr val="a2c1fe"/>
                </a:solidFill>
                <a:latin typeface="Times New Roman"/>
                <a:ea typeface="Times New Roman"/>
              </a:rPr>
              <a:t>three</a:t>
            </a:r>
            <a:r>
              <a:rPr b="0" lang="en-US" sz="2800" spc="-1" strike="noStrike">
                <a:solidFill>
                  <a:srgbClr val="114ffb"/>
                </a:solidFill>
                <a:latin typeface="Times New Roman"/>
                <a:ea typeface="Times New Roman"/>
              </a:rPr>
              <a:t> points of the datum feature in contact with the primary datum plane.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art is further related to datum reference frame by bringing at least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w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oints of the secondary datum feature into contact with the second datum plan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2" name=""/>
          <p:cNvSpPr txBox="1"/>
          <p:nvPr/>
        </p:nvSpPr>
        <p:spPr>
          <a:xfrm>
            <a:off x="685800" y="8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um Preced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3" name=""/>
          <p:cNvSpPr txBox="1"/>
          <p:nvPr/>
        </p:nvSpPr>
        <p:spPr>
          <a:xfrm>
            <a:off x="301680" y="1092240"/>
            <a:ext cx="8588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114ffb"/>
                </a:solidFill>
                <a:latin typeface="Times New Roman"/>
                <a:ea typeface="Times New Roman"/>
              </a:rPr>
              <a:t>A primary datum feature is related to the datum reference frame by bringing a minimum of </a:t>
            </a:r>
            <a:r>
              <a:rPr b="0" lang="en-US" sz="2800" spc="-1" strike="noStrike">
                <a:solidFill>
                  <a:srgbClr val="a2c1fe"/>
                </a:solidFill>
                <a:latin typeface="Times New Roman"/>
                <a:ea typeface="Times New Roman"/>
              </a:rPr>
              <a:t>three</a:t>
            </a:r>
            <a:r>
              <a:rPr b="0" lang="en-US" sz="2800" spc="-1" strike="noStrike">
                <a:solidFill>
                  <a:srgbClr val="114ffb"/>
                </a:solidFill>
                <a:latin typeface="Times New Roman"/>
                <a:ea typeface="Times New Roman"/>
              </a:rPr>
              <a:t> points of the datum feature in contact with the primary datum plane.  The part is further related to datum reference frame by bringing at least </a:t>
            </a:r>
            <a:r>
              <a:rPr b="0" lang="en-US" sz="2800" spc="-1" strike="noStrike">
                <a:solidFill>
                  <a:srgbClr val="a2c1fe"/>
                </a:solidFill>
                <a:latin typeface="Times New Roman"/>
                <a:ea typeface="Times New Roman"/>
              </a:rPr>
              <a:t>two</a:t>
            </a:r>
            <a:r>
              <a:rPr b="0" lang="en-US" sz="2800" spc="-1" strike="noStrike">
                <a:solidFill>
                  <a:srgbClr val="114ffb"/>
                </a:solidFill>
                <a:latin typeface="Times New Roman"/>
                <a:ea typeface="Times New Roman"/>
              </a:rPr>
              <a:t> points of the secondary datum feature into contact with the second datum plane.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relationship is completed by bringing at least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on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int of the tertiary datum feature into contact with the third datum pl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5" name=""/>
          <p:cNvSpPr txBox="1"/>
          <p:nvPr/>
        </p:nvSpPr>
        <p:spPr>
          <a:xfrm>
            <a:off x="685800" y="8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um Preced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6" name=""/>
          <p:cNvSpPr txBox="1"/>
          <p:nvPr/>
        </p:nvSpPr>
        <p:spPr>
          <a:xfrm>
            <a:off x="301680" y="1092240"/>
            <a:ext cx="8588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114ffb"/>
                </a:solidFill>
                <a:latin typeface="Times New Roman"/>
                <a:ea typeface="Times New Roman"/>
              </a:rPr>
              <a:t>A primary datum feature is related to the datum reference frame by bringing a minimum of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ree</a:t>
            </a:r>
            <a:r>
              <a:rPr b="0" lang="en-US" sz="2800" spc="-1" strike="noStrike">
                <a:solidFill>
                  <a:srgbClr val="114ffb"/>
                </a:solidFill>
                <a:latin typeface="Times New Roman"/>
                <a:ea typeface="Times New Roman"/>
              </a:rPr>
              <a:t> points of the datum feature in contact with the primary datum plane.  The part is further related to datum reference frame by bringing at least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wo</a:t>
            </a:r>
            <a:r>
              <a:rPr b="0" lang="en-US" sz="2800" spc="-1" strike="noStrike">
                <a:solidFill>
                  <a:srgbClr val="114ffb"/>
                </a:solidFill>
                <a:latin typeface="Times New Roman"/>
                <a:ea typeface="Times New Roman"/>
              </a:rPr>
              <a:t> points of the secondary datum feature into contact with the second datum plane.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114ffb"/>
                </a:solidFill>
                <a:latin typeface="Times New Roman"/>
                <a:ea typeface="Times New Roman"/>
              </a:rPr>
              <a:t>The relationship is completed by bringing at least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ne</a:t>
            </a:r>
            <a:r>
              <a:rPr b="0" lang="en-US" sz="2800" spc="-1" strike="noStrike">
                <a:solidFill>
                  <a:srgbClr val="114ffb"/>
                </a:solidFill>
                <a:latin typeface="Times New Roman"/>
                <a:ea typeface="Times New Roman"/>
              </a:rPr>
              <a:t> point of the tertiary datum feature into contact with the third datum plan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114ffb"/>
                </a:solidFill>
                <a:latin typeface="Times New Roman"/>
                <a:ea typeface="Times New Roman"/>
              </a:rPr>
              <a:t>--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the 3-2-1 Rul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68160" y="2865600"/>
            <a:ext cx="8047080" cy="20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datum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a theoretically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perfect”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xis, point, line, or plane.  It is derived from the </a:t>
            </a:r>
            <a:r>
              <a:rPr b="0" i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rue geometric counterpar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a specified part fe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712800" y="1714680"/>
            <a:ext cx="48578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DEFINITION: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Datum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7" name=""/>
          <p:cNvGrpSpPr/>
          <p:nvPr/>
        </p:nvGrpSpPr>
        <p:grpSpPr>
          <a:xfrm>
            <a:off x="1523880" y="596880"/>
            <a:ext cx="4918320" cy="6108840"/>
            <a:chOff x="1523880" y="596880"/>
            <a:chExt cx="4918320" cy="6108840"/>
          </a:xfrm>
        </p:grpSpPr>
        <p:sp>
          <p:nvSpPr>
            <p:cNvPr id="2638" name=""/>
            <p:cNvSpPr/>
            <p:nvPr/>
          </p:nvSpPr>
          <p:spPr>
            <a:xfrm>
              <a:off x="3124080" y="62485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1523880" y="4826160"/>
              <a:ext cx="1698840" cy="782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"/>
            <p:cNvSpPr/>
            <p:nvPr/>
          </p:nvSpPr>
          <p:spPr>
            <a:xfrm flipV="1">
              <a:off x="3222720" y="4016520"/>
              <a:ext cx="3219480" cy="15872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"/>
            <p:cNvSpPr/>
            <p:nvPr/>
          </p:nvSpPr>
          <p:spPr>
            <a:xfrm flipV="1">
              <a:off x="1527120" y="4222800"/>
              <a:ext cx="1260360" cy="590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5778360" y="3701880"/>
              <a:ext cx="654120" cy="3016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"/>
            <p:cNvSpPr/>
            <p:nvPr/>
          </p:nvSpPr>
          <p:spPr>
            <a:xfrm flipV="1">
              <a:off x="2778120" y="4064040"/>
              <a:ext cx="0" cy="4287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"/>
            <p:cNvSpPr/>
            <p:nvPr/>
          </p:nvSpPr>
          <p:spPr>
            <a:xfrm flipV="1">
              <a:off x="2793960" y="3079800"/>
              <a:ext cx="2016000" cy="968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4826160" y="3063960"/>
              <a:ext cx="968040" cy="4442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5778360" y="3508200"/>
              <a:ext cx="0" cy="524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"/>
            <p:cNvSpPr/>
            <p:nvPr/>
          </p:nvSpPr>
          <p:spPr>
            <a:xfrm flipH="1">
              <a:off x="3778200" y="4032360"/>
              <a:ext cx="1984320" cy="9842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2778120" y="4508640"/>
              <a:ext cx="1009800" cy="523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2793960" y="4032360"/>
              <a:ext cx="984240" cy="492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3778200" y="4524480"/>
              <a:ext cx="0" cy="4762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1" name=""/>
            <p:cNvSpPr/>
            <p:nvPr/>
          </p:nvSpPr>
          <p:spPr>
            <a:xfrm flipV="1">
              <a:off x="3778200" y="3524400"/>
              <a:ext cx="1984320" cy="10000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5032440" y="3381480"/>
              <a:ext cx="349200" cy="206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3581280" y="4105440"/>
              <a:ext cx="349200" cy="206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4" name=""/>
            <p:cNvSpPr txBox="1"/>
            <p:nvPr/>
          </p:nvSpPr>
          <p:spPr>
            <a:xfrm>
              <a:off x="2792520" y="596880"/>
              <a:ext cx="328788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40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The 3-2-1 Rul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"/>
          <p:cNvSpPr/>
          <p:nvPr/>
        </p:nvSpPr>
        <p:spPr>
          <a:xfrm>
            <a:off x="1523880" y="4826160"/>
            <a:ext cx="1698840" cy="782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"/>
          <p:cNvSpPr/>
          <p:nvPr/>
        </p:nvSpPr>
        <p:spPr>
          <a:xfrm flipV="1">
            <a:off x="3222720" y="4016520"/>
            <a:ext cx="3219480" cy="1587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8" name=""/>
          <p:cNvSpPr/>
          <p:nvPr/>
        </p:nvSpPr>
        <p:spPr>
          <a:xfrm flipV="1">
            <a:off x="1527120" y="4222800"/>
            <a:ext cx="1260360" cy="590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9" name=""/>
          <p:cNvSpPr/>
          <p:nvPr/>
        </p:nvSpPr>
        <p:spPr>
          <a:xfrm>
            <a:off x="5778360" y="3701880"/>
            <a:ext cx="654120" cy="30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0" name=""/>
          <p:cNvSpPr/>
          <p:nvPr/>
        </p:nvSpPr>
        <p:spPr>
          <a:xfrm flipV="1">
            <a:off x="2778120" y="4064040"/>
            <a:ext cx="0" cy="428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"/>
          <p:cNvSpPr/>
          <p:nvPr/>
        </p:nvSpPr>
        <p:spPr>
          <a:xfrm flipV="1">
            <a:off x="2793960" y="3079800"/>
            <a:ext cx="2016000" cy="968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2" name=""/>
          <p:cNvSpPr/>
          <p:nvPr/>
        </p:nvSpPr>
        <p:spPr>
          <a:xfrm>
            <a:off x="4826160" y="3063960"/>
            <a:ext cx="968040" cy="444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3" name=""/>
          <p:cNvSpPr/>
          <p:nvPr/>
        </p:nvSpPr>
        <p:spPr>
          <a:xfrm>
            <a:off x="5778360" y="3508200"/>
            <a:ext cx="0" cy="524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"/>
          <p:cNvSpPr/>
          <p:nvPr/>
        </p:nvSpPr>
        <p:spPr>
          <a:xfrm flipH="1">
            <a:off x="3778200" y="4032360"/>
            <a:ext cx="1984320" cy="984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"/>
          <p:cNvSpPr/>
          <p:nvPr/>
        </p:nvSpPr>
        <p:spPr>
          <a:xfrm>
            <a:off x="2778120" y="4508640"/>
            <a:ext cx="1009800" cy="523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"/>
          <p:cNvSpPr/>
          <p:nvPr/>
        </p:nvSpPr>
        <p:spPr>
          <a:xfrm>
            <a:off x="2793960" y="4032360"/>
            <a:ext cx="984240" cy="49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7" name=""/>
          <p:cNvSpPr/>
          <p:nvPr/>
        </p:nvSpPr>
        <p:spPr>
          <a:xfrm>
            <a:off x="3778200" y="4524480"/>
            <a:ext cx="0" cy="476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8" name=""/>
          <p:cNvSpPr/>
          <p:nvPr/>
        </p:nvSpPr>
        <p:spPr>
          <a:xfrm flipV="1">
            <a:off x="3778200" y="3524400"/>
            <a:ext cx="1984320" cy="100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"/>
          <p:cNvSpPr/>
          <p:nvPr/>
        </p:nvSpPr>
        <p:spPr>
          <a:xfrm>
            <a:off x="5032440" y="3381480"/>
            <a:ext cx="349200" cy="20628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0" name=""/>
          <p:cNvSpPr/>
          <p:nvPr/>
        </p:nvSpPr>
        <p:spPr>
          <a:xfrm>
            <a:off x="3581280" y="4105440"/>
            <a:ext cx="349200" cy="20628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1" name=""/>
          <p:cNvSpPr txBox="1"/>
          <p:nvPr/>
        </p:nvSpPr>
        <p:spPr>
          <a:xfrm>
            <a:off x="6080040" y="1666800"/>
            <a:ext cx="280188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minimum of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th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ints of conta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ween the pri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um feature and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ulated primary dat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2" name=""/>
          <p:cNvSpPr txBox="1"/>
          <p:nvPr/>
        </p:nvSpPr>
        <p:spPr>
          <a:xfrm>
            <a:off x="2792520" y="596880"/>
            <a:ext cx="32878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3-2-1 Ru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4" name=""/>
          <p:cNvSpPr/>
          <p:nvPr/>
        </p:nvSpPr>
        <p:spPr>
          <a:xfrm>
            <a:off x="1523880" y="4826160"/>
            <a:ext cx="1698840" cy="782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5" name=""/>
          <p:cNvSpPr/>
          <p:nvPr/>
        </p:nvSpPr>
        <p:spPr>
          <a:xfrm>
            <a:off x="5794200" y="4029120"/>
            <a:ext cx="279720" cy="123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6" name=""/>
          <p:cNvSpPr/>
          <p:nvPr/>
        </p:nvSpPr>
        <p:spPr>
          <a:xfrm flipV="1">
            <a:off x="3222720" y="4016520"/>
            <a:ext cx="3219480" cy="1587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7" name=""/>
          <p:cNvSpPr/>
          <p:nvPr/>
        </p:nvSpPr>
        <p:spPr>
          <a:xfrm flipV="1">
            <a:off x="1527120" y="4219560"/>
            <a:ext cx="1266840" cy="593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8" name=""/>
          <p:cNvSpPr/>
          <p:nvPr/>
        </p:nvSpPr>
        <p:spPr>
          <a:xfrm>
            <a:off x="4454640" y="2057400"/>
            <a:ext cx="1619280" cy="746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9" name=""/>
          <p:cNvSpPr/>
          <p:nvPr/>
        </p:nvSpPr>
        <p:spPr>
          <a:xfrm>
            <a:off x="6089760" y="2819520"/>
            <a:ext cx="0" cy="1689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0" name=""/>
          <p:cNvSpPr/>
          <p:nvPr/>
        </p:nvSpPr>
        <p:spPr>
          <a:xfrm>
            <a:off x="4454640" y="2073240"/>
            <a:ext cx="0" cy="1165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1" name=""/>
          <p:cNvSpPr/>
          <p:nvPr/>
        </p:nvSpPr>
        <p:spPr>
          <a:xfrm>
            <a:off x="6095880" y="3848040"/>
            <a:ext cx="336600" cy="155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2" name=""/>
          <p:cNvSpPr/>
          <p:nvPr/>
        </p:nvSpPr>
        <p:spPr>
          <a:xfrm>
            <a:off x="5740560" y="4349880"/>
            <a:ext cx="358560" cy="161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3" name=""/>
          <p:cNvSpPr/>
          <p:nvPr/>
        </p:nvSpPr>
        <p:spPr>
          <a:xfrm flipV="1">
            <a:off x="6524640" y="3587760"/>
            <a:ext cx="76212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4" name=""/>
          <p:cNvSpPr/>
          <p:nvPr/>
        </p:nvSpPr>
        <p:spPr>
          <a:xfrm>
            <a:off x="6071760" y="2304360"/>
            <a:ext cx="1119960" cy="1299600"/>
          </a:xfrm>
          <a:custGeom>
            <a:avLst/>
            <a:gdLst/>
            <a:ahLst/>
            <a:rect l="0" t="0" r="r" b="b"/>
            <a:pathLst>
              <a:path fill="none" w="3111" h="3610">
                <a:moveTo>
                  <a:pt x="3111" y="3610"/>
                </a:moveTo>
                <a:lnTo>
                  <a:pt x="3111" y="3610"/>
                </a:lnTo>
                <a:cubicBezTo>
                  <a:pt x="3111" y="2960"/>
                  <a:pt x="2926" y="2321"/>
                  <a:pt x="2573" y="1758"/>
                </a:cubicBezTo>
                <a:cubicBezTo>
                  <a:pt x="2221" y="1194"/>
                  <a:pt x="1714" y="727"/>
                  <a:pt x="1104" y="402"/>
                </a:cubicBezTo>
                <a:cubicBezTo>
                  <a:pt x="760" y="218"/>
                  <a:pt x="388" y="83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5" name=""/>
          <p:cNvSpPr/>
          <p:nvPr/>
        </p:nvSpPr>
        <p:spPr>
          <a:xfrm>
            <a:off x="6429240" y="2603520"/>
            <a:ext cx="666720" cy="317520"/>
          </a:xfrm>
          <a:prstGeom prst="rect">
            <a:avLst/>
          </a:prstGeom>
          <a:solidFill>
            <a:srgbClr val="114ff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6" name=""/>
          <p:cNvSpPr txBox="1"/>
          <p:nvPr/>
        </p:nvSpPr>
        <p:spPr>
          <a:xfrm>
            <a:off x="6505560" y="2612880"/>
            <a:ext cx="387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7" name=""/>
          <p:cNvSpPr/>
          <p:nvPr/>
        </p:nvSpPr>
        <p:spPr>
          <a:xfrm>
            <a:off x="6835680" y="2676600"/>
            <a:ext cx="63360" cy="63360"/>
          </a:xfrm>
          <a:prstGeom prst="ellipse">
            <a:avLst/>
          </a:prstGeom>
          <a:solidFill>
            <a:srgbClr val="114ff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8" name=""/>
          <p:cNvSpPr/>
          <p:nvPr/>
        </p:nvSpPr>
        <p:spPr>
          <a:xfrm flipV="1">
            <a:off x="6095880" y="2206800"/>
            <a:ext cx="0" cy="507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9" name=""/>
          <p:cNvSpPr/>
          <p:nvPr/>
        </p:nvSpPr>
        <p:spPr>
          <a:xfrm flipV="1">
            <a:off x="2793960" y="4079880"/>
            <a:ext cx="0" cy="428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0" name=""/>
          <p:cNvSpPr/>
          <p:nvPr/>
        </p:nvSpPr>
        <p:spPr>
          <a:xfrm flipV="1">
            <a:off x="2793960" y="3079800"/>
            <a:ext cx="2016000" cy="968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1" name=""/>
          <p:cNvSpPr/>
          <p:nvPr/>
        </p:nvSpPr>
        <p:spPr>
          <a:xfrm>
            <a:off x="4826160" y="3063960"/>
            <a:ext cx="968040" cy="444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"/>
          <p:cNvSpPr/>
          <p:nvPr/>
        </p:nvSpPr>
        <p:spPr>
          <a:xfrm>
            <a:off x="5778360" y="3508200"/>
            <a:ext cx="0" cy="524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"/>
          <p:cNvSpPr/>
          <p:nvPr/>
        </p:nvSpPr>
        <p:spPr>
          <a:xfrm flipH="1">
            <a:off x="3778200" y="4032360"/>
            <a:ext cx="1984320" cy="984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"/>
          <p:cNvSpPr/>
          <p:nvPr/>
        </p:nvSpPr>
        <p:spPr>
          <a:xfrm>
            <a:off x="2778120" y="4508640"/>
            <a:ext cx="1009800" cy="523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5" name=""/>
          <p:cNvSpPr/>
          <p:nvPr/>
        </p:nvSpPr>
        <p:spPr>
          <a:xfrm>
            <a:off x="2793960" y="4032360"/>
            <a:ext cx="984240" cy="49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6" name=""/>
          <p:cNvSpPr/>
          <p:nvPr/>
        </p:nvSpPr>
        <p:spPr>
          <a:xfrm>
            <a:off x="3778200" y="4524480"/>
            <a:ext cx="0" cy="476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"/>
          <p:cNvSpPr/>
          <p:nvPr/>
        </p:nvSpPr>
        <p:spPr>
          <a:xfrm flipV="1">
            <a:off x="3778200" y="3524400"/>
            <a:ext cx="1984320" cy="100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"/>
          <p:cNvSpPr/>
          <p:nvPr/>
        </p:nvSpPr>
        <p:spPr>
          <a:xfrm>
            <a:off x="5032440" y="3381480"/>
            <a:ext cx="349200" cy="20628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"/>
          <p:cNvSpPr/>
          <p:nvPr/>
        </p:nvSpPr>
        <p:spPr>
          <a:xfrm>
            <a:off x="3581280" y="4105440"/>
            <a:ext cx="349200" cy="20628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0" name=""/>
          <p:cNvSpPr txBox="1"/>
          <p:nvPr/>
        </p:nvSpPr>
        <p:spPr>
          <a:xfrm>
            <a:off x="971640" y="1771560"/>
            <a:ext cx="273852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minimum of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w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ints of cont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ween the second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um feature and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ond datum simulato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"/>
          <p:cNvSpPr txBox="1"/>
          <p:nvPr/>
        </p:nvSpPr>
        <p:spPr>
          <a:xfrm>
            <a:off x="2792520" y="596880"/>
            <a:ext cx="32878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3-2-1 Ru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3" name=""/>
          <p:cNvSpPr/>
          <p:nvPr/>
        </p:nvSpPr>
        <p:spPr>
          <a:xfrm>
            <a:off x="1841400" y="3635280"/>
            <a:ext cx="0" cy="1698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4" name=""/>
          <p:cNvSpPr/>
          <p:nvPr/>
        </p:nvSpPr>
        <p:spPr>
          <a:xfrm flipV="1">
            <a:off x="1841400" y="2063880"/>
            <a:ext cx="3359160" cy="1571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"/>
          <p:cNvSpPr/>
          <p:nvPr/>
        </p:nvSpPr>
        <p:spPr>
          <a:xfrm>
            <a:off x="4826160" y="2238480"/>
            <a:ext cx="0" cy="825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6" name=""/>
          <p:cNvSpPr/>
          <p:nvPr/>
        </p:nvSpPr>
        <p:spPr>
          <a:xfrm flipV="1">
            <a:off x="1835280" y="4514760"/>
            <a:ext cx="958680" cy="447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"/>
          <p:cNvSpPr/>
          <p:nvPr/>
        </p:nvSpPr>
        <p:spPr>
          <a:xfrm>
            <a:off x="1523880" y="4826160"/>
            <a:ext cx="1698840" cy="782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"/>
          <p:cNvSpPr/>
          <p:nvPr/>
        </p:nvSpPr>
        <p:spPr>
          <a:xfrm>
            <a:off x="5794200" y="4029120"/>
            <a:ext cx="279720" cy="123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"/>
          <p:cNvSpPr/>
          <p:nvPr/>
        </p:nvSpPr>
        <p:spPr>
          <a:xfrm flipV="1">
            <a:off x="3222720" y="4016520"/>
            <a:ext cx="3219480" cy="1587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"/>
          <p:cNvSpPr/>
          <p:nvPr/>
        </p:nvSpPr>
        <p:spPr>
          <a:xfrm flipV="1">
            <a:off x="1527120" y="4665600"/>
            <a:ext cx="314280" cy="147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"/>
          <p:cNvSpPr/>
          <p:nvPr/>
        </p:nvSpPr>
        <p:spPr>
          <a:xfrm flipV="1">
            <a:off x="1844640" y="5159520"/>
            <a:ext cx="384120" cy="177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"/>
          <p:cNvSpPr/>
          <p:nvPr/>
        </p:nvSpPr>
        <p:spPr>
          <a:xfrm>
            <a:off x="4454640" y="2057400"/>
            <a:ext cx="1619280" cy="746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"/>
          <p:cNvSpPr/>
          <p:nvPr/>
        </p:nvSpPr>
        <p:spPr>
          <a:xfrm>
            <a:off x="6089760" y="2819520"/>
            <a:ext cx="0" cy="1689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"/>
          <p:cNvSpPr/>
          <p:nvPr/>
        </p:nvSpPr>
        <p:spPr>
          <a:xfrm>
            <a:off x="4454640" y="2073240"/>
            <a:ext cx="0" cy="339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5" name=""/>
          <p:cNvSpPr/>
          <p:nvPr/>
        </p:nvSpPr>
        <p:spPr>
          <a:xfrm>
            <a:off x="5200560" y="2057400"/>
            <a:ext cx="0" cy="339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6" name=""/>
          <p:cNvSpPr/>
          <p:nvPr/>
        </p:nvSpPr>
        <p:spPr>
          <a:xfrm>
            <a:off x="6095880" y="3848040"/>
            <a:ext cx="336600" cy="155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7" name=""/>
          <p:cNvSpPr/>
          <p:nvPr/>
        </p:nvSpPr>
        <p:spPr>
          <a:xfrm>
            <a:off x="5740560" y="4349880"/>
            <a:ext cx="358560" cy="161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8" name=""/>
          <p:cNvSpPr/>
          <p:nvPr/>
        </p:nvSpPr>
        <p:spPr>
          <a:xfrm flipV="1">
            <a:off x="6524640" y="3587760"/>
            <a:ext cx="76212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9" name=""/>
          <p:cNvSpPr/>
          <p:nvPr/>
        </p:nvSpPr>
        <p:spPr>
          <a:xfrm flipV="1">
            <a:off x="5280120" y="1628640"/>
            <a:ext cx="76176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0" name=""/>
          <p:cNvSpPr/>
          <p:nvPr/>
        </p:nvSpPr>
        <p:spPr>
          <a:xfrm flipH="1" flipV="1">
            <a:off x="3492360" y="1603440"/>
            <a:ext cx="889200" cy="412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1" name=""/>
          <p:cNvSpPr/>
          <p:nvPr/>
        </p:nvSpPr>
        <p:spPr>
          <a:xfrm>
            <a:off x="6071760" y="2304360"/>
            <a:ext cx="1119960" cy="1299600"/>
          </a:xfrm>
          <a:custGeom>
            <a:avLst/>
            <a:gdLst/>
            <a:ahLst/>
            <a:rect l="0" t="0" r="r" b="b"/>
            <a:pathLst>
              <a:path fill="none" w="3111" h="3610">
                <a:moveTo>
                  <a:pt x="3111" y="3610"/>
                </a:moveTo>
                <a:lnTo>
                  <a:pt x="3111" y="3610"/>
                </a:lnTo>
                <a:cubicBezTo>
                  <a:pt x="3111" y="2960"/>
                  <a:pt x="2926" y="2321"/>
                  <a:pt x="2573" y="1758"/>
                </a:cubicBezTo>
                <a:cubicBezTo>
                  <a:pt x="2221" y="1194"/>
                  <a:pt x="1714" y="727"/>
                  <a:pt x="1104" y="402"/>
                </a:cubicBezTo>
                <a:cubicBezTo>
                  <a:pt x="760" y="218"/>
                  <a:pt x="388" y="83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2" name=""/>
          <p:cNvSpPr/>
          <p:nvPr/>
        </p:nvSpPr>
        <p:spPr>
          <a:xfrm flipV="1">
            <a:off x="6095880" y="2206800"/>
            <a:ext cx="0" cy="507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3" name=""/>
          <p:cNvSpPr/>
          <p:nvPr/>
        </p:nvSpPr>
        <p:spPr>
          <a:xfrm>
            <a:off x="4746600" y="1555920"/>
            <a:ext cx="972360" cy="239040"/>
          </a:xfrm>
          <a:custGeom>
            <a:avLst/>
            <a:gdLst/>
            <a:ahLst/>
            <a:rect l="0" t="0" r="r" b="b"/>
            <a:pathLst>
              <a:path fill="none" w="2701" h="664">
                <a:moveTo>
                  <a:pt x="2701" y="664"/>
                </a:moveTo>
                <a:lnTo>
                  <a:pt x="2701" y="664"/>
                </a:lnTo>
                <a:cubicBezTo>
                  <a:pt x="2424" y="471"/>
                  <a:pt x="2051" y="311"/>
                  <a:pt x="1611" y="196"/>
                </a:cubicBezTo>
                <a:cubicBezTo>
                  <a:pt x="1121" y="67"/>
                  <a:pt x="566" y="0"/>
                  <a:pt x="0" y="0"/>
                </a:cubicBez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4" name=""/>
          <p:cNvSpPr/>
          <p:nvPr/>
        </p:nvSpPr>
        <p:spPr>
          <a:xfrm>
            <a:off x="3827160" y="1549440"/>
            <a:ext cx="913680" cy="201600"/>
          </a:xfrm>
          <a:custGeom>
            <a:avLst/>
            <a:gdLst/>
            <a:ahLst/>
            <a:rect l="0" t="0" r="r" b="b"/>
            <a:pathLst>
              <a:path fill="none" w="2538" h="560">
                <a:moveTo>
                  <a:pt x="2538" y="0"/>
                </a:moveTo>
                <a:lnTo>
                  <a:pt x="2538" y="0"/>
                </a:lnTo>
                <a:cubicBezTo>
                  <a:pt x="1973" y="0"/>
                  <a:pt x="1417" y="67"/>
                  <a:pt x="927" y="195"/>
                </a:cubicBezTo>
                <a:cubicBezTo>
                  <a:pt x="569" y="289"/>
                  <a:pt x="255" y="413"/>
                  <a:pt x="0" y="560"/>
                </a:cubicBez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5" name=""/>
          <p:cNvSpPr/>
          <p:nvPr/>
        </p:nvSpPr>
        <p:spPr>
          <a:xfrm>
            <a:off x="6429240" y="2603520"/>
            <a:ext cx="666720" cy="317520"/>
          </a:xfrm>
          <a:prstGeom prst="rect">
            <a:avLst/>
          </a:prstGeom>
          <a:solidFill>
            <a:srgbClr val="114ff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6" name=""/>
          <p:cNvSpPr/>
          <p:nvPr/>
        </p:nvSpPr>
        <p:spPr>
          <a:xfrm>
            <a:off x="4429080" y="1413000"/>
            <a:ext cx="682560" cy="317520"/>
          </a:xfrm>
          <a:prstGeom prst="rect">
            <a:avLst/>
          </a:prstGeom>
          <a:solidFill>
            <a:srgbClr val="114ff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7" name=""/>
          <p:cNvSpPr txBox="1"/>
          <p:nvPr/>
        </p:nvSpPr>
        <p:spPr>
          <a:xfrm>
            <a:off x="6505560" y="2612880"/>
            <a:ext cx="387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8" name=""/>
          <p:cNvSpPr/>
          <p:nvPr/>
        </p:nvSpPr>
        <p:spPr>
          <a:xfrm>
            <a:off x="6835680" y="2676600"/>
            <a:ext cx="63360" cy="63360"/>
          </a:xfrm>
          <a:prstGeom prst="ellipse">
            <a:avLst/>
          </a:prstGeom>
          <a:solidFill>
            <a:srgbClr val="114ff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9" name=""/>
          <p:cNvSpPr txBox="1"/>
          <p:nvPr/>
        </p:nvSpPr>
        <p:spPr>
          <a:xfrm>
            <a:off x="4505400" y="1422360"/>
            <a:ext cx="387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0" name=""/>
          <p:cNvSpPr/>
          <p:nvPr/>
        </p:nvSpPr>
        <p:spPr>
          <a:xfrm>
            <a:off x="4813200" y="1463760"/>
            <a:ext cx="63360" cy="63360"/>
          </a:xfrm>
          <a:prstGeom prst="ellipse">
            <a:avLst/>
          </a:prstGeom>
          <a:solidFill>
            <a:srgbClr val="114ff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1" name=""/>
          <p:cNvSpPr/>
          <p:nvPr/>
        </p:nvSpPr>
        <p:spPr>
          <a:xfrm flipV="1">
            <a:off x="2793960" y="4079880"/>
            <a:ext cx="0" cy="428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2" name=""/>
          <p:cNvSpPr/>
          <p:nvPr/>
        </p:nvSpPr>
        <p:spPr>
          <a:xfrm flipV="1">
            <a:off x="2793960" y="3079800"/>
            <a:ext cx="2016000" cy="968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3" name=""/>
          <p:cNvSpPr/>
          <p:nvPr/>
        </p:nvSpPr>
        <p:spPr>
          <a:xfrm>
            <a:off x="4826160" y="3063960"/>
            <a:ext cx="968040" cy="444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4" name=""/>
          <p:cNvSpPr/>
          <p:nvPr/>
        </p:nvSpPr>
        <p:spPr>
          <a:xfrm>
            <a:off x="5778360" y="3508200"/>
            <a:ext cx="0" cy="524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5" name=""/>
          <p:cNvSpPr/>
          <p:nvPr/>
        </p:nvSpPr>
        <p:spPr>
          <a:xfrm flipH="1">
            <a:off x="3778200" y="4032360"/>
            <a:ext cx="1984320" cy="984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6" name=""/>
          <p:cNvSpPr/>
          <p:nvPr/>
        </p:nvSpPr>
        <p:spPr>
          <a:xfrm>
            <a:off x="2778120" y="4508640"/>
            <a:ext cx="1009800" cy="523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7" name=""/>
          <p:cNvSpPr/>
          <p:nvPr/>
        </p:nvSpPr>
        <p:spPr>
          <a:xfrm>
            <a:off x="2793960" y="4032360"/>
            <a:ext cx="984240" cy="49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"/>
          <p:cNvSpPr/>
          <p:nvPr/>
        </p:nvSpPr>
        <p:spPr>
          <a:xfrm>
            <a:off x="3778200" y="4524480"/>
            <a:ext cx="0" cy="476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9" name=""/>
          <p:cNvSpPr/>
          <p:nvPr/>
        </p:nvSpPr>
        <p:spPr>
          <a:xfrm flipV="1">
            <a:off x="3778200" y="3524400"/>
            <a:ext cx="1984320" cy="100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0" name=""/>
          <p:cNvSpPr/>
          <p:nvPr/>
        </p:nvSpPr>
        <p:spPr>
          <a:xfrm>
            <a:off x="5032440" y="3381480"/>
            <a:ext cx="349200" cy="20628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"/>
          <p:cNvSpPr/>
          <p:nvPr/>
        </p:nvSpPr>
        <p:spPr>
          <a:xfrm>
            <a:off x="3581280" y="4105440"/>
            <a:ext cx="349200" cy="20628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"/>
          <p:cNvSpPr txBox="1"/>
          <p:nvPr/>
        </p:nvSpPr>
        <p:spPr>
          <a:xfrm>
            <a:off x="385920" y="1521000"/>
            <a:ext cx="327348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minimum of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n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contact between the terti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um feature and the thi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um simula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"/>
          <p:cNvSpPr txBox="1"/>
          <p:nvPr/>
        </p:nvSpPr>
        <p:spPr>
          <a:xfrm>
            <a:off x="2792520" y="596880"/>
            <a:ext cx="32878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3-2-1 Ru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5" name=""/>
          <p:cNvSpPr/>
          <p:nvPr/>
        </p:nvSpPr>
        <p:spPr>
          <a:xfrm>
            <a:off x="1841400" y="3635280"/>
            <a:ext cx="0" cy="1698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6" name=""/>
          <p:cNvSpPr/>
          <p:nvPr/>
        </p:nvSpPr>
        <p:spPr>
          <a:xfrm flipV="1">
            <a:off x="1841400" y="2063880"/>
            <a:ext cx="3359160" cy="1571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7" name=""/>
          <p:cNvSpPr/>
          <p:nvPr/>
        </p:nvSpPr>
        <p:spPr>
          <a:xfrm>
            <a:off x="4826160" y="2238480"/>
            <a:ext cx="0" cy="825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8" name=""/>
          <p:cNvSpPr/>
          <p:nvPr/>
        </p:nvSpPr>
        <p:spPr>
          <a:xfrm flipV="1">
            <a:off x="1835280" y="4514760"/>
            <a:ext cx="958680" cy="447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9" name=""/>
          <p:cNvSpPr/>
          <p:nvPr/>
        </p:nvSpPr>
        <p:spPr>
          <a:xfrm>
            <a:off x="1523880" y="4826160"/>
            <a:ext cx="1698840" cy="782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0" name=""/>
          <p:cNvSpPr/>
          <p:nvPr/>
        </p:nvSpPr>
        <p:spPr>
          <a:xfrm>
            <a:off x="5794200" y="4029120"/>
            <a:ext cx="279720" cy="123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"/>
          <p:cNvSpPr/>
          <p:nvPr/>
        </p:nvSpPr>
        <p:spPr>
          <a:xfrm flipV="1">
            <a:off x="3222720" y="4016520"/>
            <a:ext cx="3219480" cy="1587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2" name=""/>
          <p:cNvSpPr/>
          <p:nvPr/>
        </p:nvSpPr>
        <p:spPr>
          <a:xfrm flipV="1">
            <a:off x="1527120" y="4665600"/>
            <a:ext cx="314280" cy="147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"/>
          <p:cNvSpPr/>
          <p:nvPr/>
        </p:nvSpPr>
        <p:spPr>
          <a:xfrm flipV="1">
            <a:off x="1844640" y="5159520"/>
            <a:ext cx="384120" cy="177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4" name=""/>
          <p:cNvSpPr/>
          <p:nvPr/>
        </p:nvSpPr>
        <p:spPr>
          <a:xfrm>
            <a:off x="4454640" y="2057400"/>
            <a:ext cx="1619280" cy="746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"/>
          <p:cNvSpPr/>
          <p:nvPr/>
        </p:nvSpPr>
        <p:spPr>
          <a:xfrm>
            <a:off x="6089760" y="2819520"/>
            <a:ext cx="0" cy="1689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"/>
          <p:cNvSpPr/>
          <p:nvPr/>
        </p:nvSpPr>
        <p:spPr>
          <a:xfrm>
            <a:off x="4454640" y="2073240"/>
            <a:ext cx="0" cy="339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7" name=""/>
          <p:cNvSpPr/>
          <p:nvPr/>
        </p:nvSpPr>
        <p:spPr>
          <a:xfrm>
            <a:off x="5200560" y="2057400"/>
            <a:ext cx="0" cy="339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"/>
          <p:cNvSpPr/>
          <p:nvPr/>
        </p:nvSpPr>
        <p:spPr>
          <a:xfrm>
            <a:off x="6095880" y="3848040"/>
            <a:ext cx="336600" cy="155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"/>
          <p:cNvSpPr/>
          <p:nvPr/>
        </p:nvSpPr>
        <p:spPr>
          <a:xfrm>
            <a:off x="5740560" y="4349880"/>
            <a:ext cx="358560" cy="161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"/>
          <p:cNvSpPr/>
          <p:nvPr/>
        </p:nvSpPr>
        <p:spPr>
          <a:xfrm flipV="1">
            <a:off x="6524640" y="3587760"/>
            <a:ext cx="76212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"/>
          <p:cNvSpPr/>
          <p:nvPr/>
        </p:nvSpPr>
        <p:spPr>
          <a:xfrm flipV="1">
            <a:off x="5280120" y="1628640"/>
            <a:ext cx="76176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"/>
          <p:cNvSpPr/>
          <p:nvPr/>
        </p:nvSpPr>
        <p:spPr>
          <a:xfrm flipH="1" flipV="1">
            <a:off x="3492360" y="1603440"/>
            <a:ext cx="889200" cy="412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"/>
          <p:cNvSpPr/>
          <p:nvPr/>
        </p:nvSpPr>
        <p:spPr>
          <a:xfrm flipV="1">
            <a:off x="1841400" y="2730600"/>
            <a:ext cx="0" cy="809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4" name=""/>
          <p:cNvSpPr/>
          <p:nvPr/>
        </p:nvSpPr>
        <p:spPr>
          <a:xfrm flipH="1" flipV="1">
            <a:off x="431640" y="4286160"/>
            <a:ext cx="1013040" cy="476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"/>
          <p:cNvSpPr/>
          <p:nvPr/>
        </p:nvSpPr>
        <p:spPr>
          <a:xfrm>
            <a:off x="6071760" y="2304360"/>
            <a:ext cx="1119960" cy="1299600"/>
          </a:xfrm>
          <a:custGeom>
            <a:avLst/>
            <a:gdLst/>
            <a:ahLst/>
            <a:rect l="0" t="0" r="r" b="b"/>
            <a:pathLst>
              <a:path fill="none" w="3111" h="3610">
                <a:moveTo>
                  <a:pt x="3111" y="3610"/>
                </a:moveTo>
                <a:lnTo>
                  <a:pt x="3111" y="3610"/>
                </a:lnTo>
                <a:cubicBezTo>
                  <a:pt x="3111" y="2960"/>
                  <a:pt x="2926" y="2321"/>
                  <a:pt x="2573" y="1758"/>
                </a:cubicBezTo>
                <a:cubicBezTo>
                  <a:pt x="2221" y="1194"/>
                  <a:pt x="1714" y="727"/>
                  <a:pt x="1104" y="402"/>
                </a:cubicBezTo>
                <a:cubicBezTo>
                  <a:pt x="760" y="218"/>
                  <a:pt x="388" y="83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6" name=""/>
          <p:cNvSpPr/>
          <p:nvPr/>
        </p:nvSpPr>
        <p:spPr>
          <a:xfrm flipV="1">
            <a:off x="6095880" y="2206800"/>
            <a:ext cx="0" cy="507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7" name=""/>
          <p:cNvSpPr/>
          <p:nvPr/>
        </p:nvSpPr>
        <p:spPr>
          <a:xfrm>
            <a:off x="4746600" y="1555920"/>
            <a:ext cx="972360" cy="239040"/>
          </a:xfrm>
          <a:custGeom>
            <a:avLst/>
            <a:gdLst/>
            <a:ahLst/>
            <a:rect l="0" t="0" r="r" b="b"/>
            <a:pathLst>
              <a:path fill="none" w="2701" h="664">
                <a:moveTo>
                  <a:pt x="2701" y="664"/>
                </a:moveTo>
                <a:lnTo>
                  <a:pt x="2701" y="664"/>
                </a:lnTo>
                <a:cubicBezTo>
                  <a:pt x="2424" y="471"/>
                  <a:pt x="2051" y="311"/>
                  <a:pt x="1611" y="196"/>
                </a:cubicBezTo>
                <a:cubicBezTo>
                  <a:pt x="1121" y="67"/>
                  <a:pt x="566" y="0"/>
                  <a:pt x="0" y="0"/>
                </a:cubicBez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8" name=""/>
          <p:cNvSpPr/>
          <p:nvPr/>
        </p:nvSpPr>
        <p:spPr>
          <a:xfrm>
            <a:off x="3827160" y="1549440"/>
            <a:ext cx="913680" cy="201600"/>
          </a:xfrm>
          <a:custGeom>
            <a:avLst/>
            <a:gdLst/>
            <a:ahLst/>
            <a:rect l="0" t="0" r="r" b="b"/>
            <a:pathLst>
              <a:path fill="none" w="2538" h="560">
                <a:moveTo>
                  <a:pt x="2538" y="0"/>
                </a:moveTo>
                <a:lnTo>
                  <a:pt x="2538" y="0"/>
                </a:lnTo>
                <a:cubicBezTo>
                  <a:pt x="1973" y="0"/>
                  <a:pt x="1417" y="67"/>
                  <a:pt x="927" y="195"/>
                </a:cubicBezTo>
                <a:cubicBezTo>
                  <a:pt x="569" y="289"/>
                  <a:pt x="255" y="413"/>
                  <a:pt x="0" y="560"/>
                </a:cubicBez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9" name=""/>
          <p:cNvSpPr/>
          <p:nvPr/>
        </p:nvSpPr>
        <p:spPr>
          <a:xfrm>
            <a:off x="555480" y="2857680"/>
            <a:ext cx="1270440" cy="1476720"/>
          </a:xfrm>
          <a:custGeom>
            <a:avLst/>
            <a:gdLst/>
            <a:ahLst/>
            <a:rect l="0" t="0" r="r" b="b"/>
            <a:pathLst>
              <a:path fill="none" w="3529" h="4102">
                <a:moveTo>
                  <a:pt x="3529" y="0"/>
                </a:moveTo>
                <a:lnTo>
                  <a:pt x="3529" y="0"/>
                </a:lnTo>
                <a:cubicBezTo>
                  <a:pt x="2910" y="0"/>
                  <a:pt x="2301" y="190"/>
                  <a:pt x="1764" y="550"/>
                </a:cubicBezTo>
                <a:cubicBezTo>
                  <a:pt x="1228" y="910"/>
                  <a:pt x="783" y="1427"/>
                  <a:pt x="473" y="2051"/>
                </a:cubicBezTo>
                <a:cubicBezTo>
                  <a:pt x="163" y="2675"/>
                  <a:pt x="0" y="3382"/>
                  <a:pt x="0" y="4102"/>
                </a:cubicBezTo>
              </a:path>
            </a:pathLst>
          </a:cu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0" name=""/>
          <p:cNvSpPr/>
          <p:nvPr/>
        </p:nvSpPr>
        <p:spPr>
          <a:xfrm>
            <a:off x="6429240" y="2603520"/>
            <a:ext cx="666720" cy="317520"/>
          </a:xfrm>
          <a:prstGeom prst="rect">
            <a:avLst/>
          </a:prstGeom>
          <a:solidFill>
            <a:srgbClr val="114ff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1" name=""/>
          <p:cNvSpPr/>
          <p:nvPr/>
        </p:nvSpPr>
        <p:spPr>
          <a:xfrm>
            <a:off x="4429080" y="1413000"/>
            <a:ext cx="682560" cy="317520"/>
          </a:xfrm>
          <a:prstGeom prst="rect">
            <a:avLst/>
          </a:prstGeom>
          <a:solidFill>
            <a:srgbClr val="114ff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2" name=""/>
          <p:cNvSpPr/>
          <p:nvPr/>
        </p:nvSpPr>
        <p:spPr>
          <a:xfrm>
            <a:off x="555480" y="3159000"/>
            <a:ext cx="587520" cy="317520"/>
          </a:xfrm>
          <a:prstGeom prst="rect">
            <a:avLst/>
          </a:prstGeom>
          <a:solidFill>
            <a:srgbClr val="114ff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"/>
          <p:cNvSpPr txBox="1"/>
          <p:nvPr/>
        </p:nvSpPr>
        <p:spPr>
          <a:xfrm>
            <a:off x="655560" y="3152880"/>
            <a:ext cx="387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4" name=""/>
          <p:cNvSpPr/>
          <p:nvPr/>
        </p:nvSpPr>
        <p:spPr>
          <a:xfrm>
            <a:off x="984240" y="3222720"/>
            <a:ext cx="63360" cy="63360"/>
          </a:xfrm>
          <a:prstGeom prst="ellipse">
            <a:avLst/>
          </a:prstGeom>
          <a:solidFill>
            <a:srgbClr val="114ff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"/>
          <p:cNvSpPr txBox="1"/>
          <p:nvPr/>
        </p:nvSpPr>
        <p:spPr>
          <a:xfrm>
            <a:off x="6505560" y="2612880"/>
            <a:ext cx="387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"/>
          <p:cNvSpPr/>
          <p:nvPr/>
        </p:nvSpPr>
        <p:spPr>
          <a:xfrm>
            <a:off x="6835680" y="2676600"/>
            <a:ext cx="63360" cy="63360"/>
          </a:xfrm>
          <a:prstGeom prst="ellipse">
            <a:avLst/>
          </a:prstGeom>
          <a:solidFill>
            <a:srgbClr val="114ff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7" name=""/>
          <p:cNvSpPr txBox="1"/>
          <p:nvPr/>
        </p:nvSpPr>
        <p:spPr>
          <a:xfrm>
            <a:off x="4505400" y="1422360"/>
            <a:ext cx="387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8" name=""/>
          <p:cNvSpPr/>
          <p:nvPr/>
        </p:nvSpPr>
        <p:spPr>
          <a:xfrm>
            <a:off x="4813200" y="1463760"/>
            <a:ext cx="63360" cy="63360"/>
          </a:xfrm>
          <a:prstGeom prst="ellipse">
            <a:avLst/>
          </a:prstGeom>
          <a:solidFill>
            <a:srgbClr val="114ff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"/>
          <p:cNvSpPr/>
          <p:nvPr/>
        </p:nvSpPr>
        <p:spPr>
          <a:xfrm flipV="1">
            <a:off x="2793960" y="4079880"/>
            <a:ext cx="0" cy="428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"/>
          <p:cNvSpPr/>
          <p:nvPr/>
        </p:nvSpPr>
        <p:spPr>
          <a:xfrm flipV="1">
            <a:off x="2793960" y="3079800"/>
            <a:ext cx="2016000" cy="968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"/>
          <p:cNvSpPr/>
          <p:nvPr/>
        </p:nvSpPr>
        <p:spPr>
          <a:xfrm>
            <a:off x="4826160" y="3063960"/>
            <a:ext cx="968040" cy="444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"/>
          <p:cNvSpPr/>
          <p:nvPr/>
        </p:nvSpPr>
        <p:spPr>
          <a:xfrm>
            <a:off x="5778360" y="3508200"/>
            <a:ext cx="0" cy="524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3" name=""/>
          <p:cNvSpPr/>
          <p:nvPr/>
        </p:nvSpPr>
        <p:spPr>
          <a:xfrm flipH="1">
            <a:off x="3778200" y="4032360"/>
            <a:ext cx="1984320" cy="984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4" name=""/>
          <p:cNvSpPr/>
          <p:nvPr/>
        </p:nvSpPr>
        <p:spPr>
          <a:xfrm>
            <a:off x="2778120" y="4508640"/>
            <a:ext cx="1009800" cy="523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5" name=""/>
          <p:cNvSpPr/>
          <p:nvPr/>
        </p:nvSpPr>
        <p:spPr>
          <a:xfrm>
            <a:off x="2793960" y="4032360"/>
            <a:ext cx="984240" cy="49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6" name=""/>
          <p:cNvSpPr/>
          <p:nvPr/>
        </p:nvSpPr>
        <p:spPr>
          <a:xfrm>
            <a:off x="3778200" y="4524480"/>
            <a:ext cx="0" cy="476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7" name=""/>
          <p:cNvSpPr/>
          <p:nvPr/>
        </p:nvSpPr>
        <p:spPr>
          <a:xfrm flipV="1">
            <a:off x="3778200" y="3524400"/>
            <a:ext cx="1984320" cy="100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8" name=""/>
          <p:cNvSpPr/>
          <p:nvPr/>
        </p:nvSpPr>
        <p:spPr>
          <a:xfrm>
            <a:off x="5032440" y="3381480"/>
            <a:ext cx="349200" cy="20628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9" name=""/>
          <p:cNvSpPr/>
          <p:nvPr/>
        </p:nvSpPr>
        <p:spPr>
          <a:xfrm>
            <a:off x="3581280" y="4105440"/>
            <a:ext cx="349200" cy="20628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0" name=""/>
          <p:cNvSpPr txBox="1"/>
          <p:nvPr/>
        </p:nvSpPr>
        <p:spPr>
          <a:xfrm>
            <a:off x="2792520" y="596880"/>
            <a:ext cx="32878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3-2-1 Ru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"/>
          <p:cNvSpPr txBox="1"/>
          <p:nvPr/>
        </p:nvSpPr>
        <p:spPr>
          <a:xfrm>
            <a:off x="792000" y="2455920"/>
            <a:ext cx="7772400" cy="37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rfaces or features that are identified as primary, secondary, and tertiary datum features should have a significant relationship in the design and function of the pa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mensions related to a datum reference frame through geometric tolerances or special notes should be measured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ro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datum reference fr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omtric tolerances that are linked to a datum reference frame must have a datum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ecedenc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pecif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3" name=""/>
          <p:cNvGrpSpPr/>
          <p:nvPr/>
        </p:nvGrpSpPr>
        <p:grpSpPr>
          <a:xfrm>
            <a:off x="2314440" y="793800"/>
            <a:ext cx="4683240" cy="641520"/>
            <a:chOff x="2314440" y="793800"/>
            <a:chExt cx="4683240" cy="641520"/>
          </a:xfrm>
        </p:grpSpPr>
        <p:sp>
          <p:nvSpPr>
            <p:cNvPr id="2794" name=""/>
            <p:cNvSpPr/>
            <p:nvPr/>
          </p:nvSpPr>
          <p:spPr>
            <a:xfrm>
              <a:off x="5033880" y="809640"/>
              <a:ext cx="1963800" cy="62532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"/>
            <p:cNvSpPr txBox="1"/>
            <p:nvPr/>
          </p:nvSpPr>
          <p:spPr>
            <a:xfrm>
              <a:off x="2314440" y="793800"/>
              <a:ext cx="451476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 u="sng">
                  <a:solidFill>
                    <a:srgbClr val="fafd00"/>
                  </a:solidFill>
                  <a:uFillTx/>
                  <a:latin typeface="Times New Roman"/>
                  <a:ea typeface="Times New Roman"/>
                </a:rPr>
                <a:t>SUMMARY</a:t>
              </a:r>
              <a:r>
                <a:rPr b="0" lang="en-US" sz="36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     Review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6" name=""/>
          <p:cNvSpPr txBox="1"/>
          <p:nvPr/>
        </p:nvSpPr>
        <p:spPr>
          <a:xfrm>
            <a:off x="2128680" y="1622520"/>
            <a:ext cx="45306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 u="sng">
                <a:solidFill>
                  <a:srgbClr val="fc0128"/>
                </a:solidFill>
                <a:uFillTx/>
                <a:latin typeface="Arial"/>
                <a:ea typeface="Arial"/>
              </a:rPr>
              <a:t>CONCEPTS TO CLING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7" name=""/>
          <p:cNvSpPr/>
          <p:nvPr/>
        </p:nvSpPr>
        <p:spPr>
          <a:xfrm>
            <a:off x="0" y="0"/>
            <a:ext cx="9131400" cy="684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. Max Raisor</dc:creator>
  <dc:description/>
  <dc:language>en-US</dc:language>
  <cp:lastModifiedBy>E. Max Raisor</cp:lastModifiedBy>
  <cp:revision>0</cp:revision>
  <dc:subject>Geometric Dimensioning and Tolerancing</dc:subject>
  <dc:title>Datums and Datum Referencing</dc:title>
</cp:coreProperties>
</file>