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609" name=""/>
          <p:cNvSpPr txBox="1"/>
          <p:nvPr/>
        </p:nvSpPr>
        <p:spPr>
          <a:xfrm>
            <a:off x="762120" y="2031840"/>
            <a:ext cx="7772400" cy="3746520"/>
          </a:xfrm>
          <a:prstGeom prst="rect">
            <a:avLst/>
          </a:prstGeom>
          <a:noFill/>
          <a:ln w="0">
            <a:noFill/>
          </a:ln>
        </p:spPr>
        <p:txBody>
          <a:bodyPr lIns="0" rIns="0" tIns="0" bIns="0" anchor="t">
            <a:noAutofit/>
          </a:bodyPr>
          <a:p>
            <a:pPr>
              <a:lnSpc>
                <a:spcPct val="100000"/>
              </a:lnSpc>
              <a:spcBef>
                <a:spcPts val="479"/>
              </a:spcBef>
              <a:spcAft>
                <a:spcPts val="961"/>
              </a:spcAft>
            </a:pPr>
            <a:r>
              <a:rPr b="0" lang="en-US" sz="2800" spc="-1" strike="noStrike">
                <a:solidFill>
                  <a:srgbClr val="ffffff"/>
                </a:solidFill>
                <a:latin typeface="Times New Roman"/>
                <a:ea typeface="Times New Roman"/>
              </a:rPr>
              <a:t>When cylindricity control is applied to an </a:t>
            </a:r>
            <a:r>
              <a:rPr b="0" lang="en-US" sz="2800" spc="-1" strike="noStrike">
                <a:solidFill>
                  <a:srgbClr val="fafd00"/>
                </a:solidFill>
                <a:latin typeface="Times New Roman"/>
                <a:ea typeface="Times New Roman"/>
              </a:rPr>
              <a:t>internal</a:t>
            </a:r>
            <a:r>
              <a:rPr b="0" lang="en-US" sz="2800" spc="-1" strike="noStrike">
                <a:solidFill>
                  <a:srgbClr val="ffffff"/>
                </a:solidFill>
                <a:latin typeface="Times New Roman"/>
                <a:ea typeface="Times New Roman"/>
              </a:rPr>
              <a:t> feature, the inner boundary (smaller cylinder) is established by gage contact of the high points of the surface.  The outer boundary is radially larger by the amount of  the specified tolerance.  The feature, at any point of measurement, must be within the limits of siz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0" name=""/>
          <p:cNvSpPr txBox="1"/>
          <p:nvPr/>
        </p:nvSpPr>
        <p:spPr>
          <a:xfrm>
            <a:off x="2039760" y="2728800"/>
            <a:ext cx="4911840" cy="1311120"/>
          </a:xfrm>
          <a:prstGeom prst="rect">
            <a:avLst/>
          </a:prstGeom>
          <a:noFill/>
          <a:ln w="0">
            <a:noFill/>
          </a:ln>
        </p:spPr>
        <p:txBody>
          <a:bodyPr lIns="0" rIns="0" tIns="0" bIns="0" anchor="t">
            <a:noAutofit/>
          </a:bodyPr>
          <a:p>
            <a:pPr algn="ctr">
              <a:lnSpc>
                <a:spcPct val="100000"/>
              </a:lnSpc>
            </a:pPr>
            <a:r>
              <a:rPr b="0" lang="en-US" sz="4000" spc="-1" strike="noStrike">
                <a:solidFill>
                  <a:srgbClr val="ffffff"/>
                </a:solidFill>
                <a:latin typeface="Times New Roman"/>
                <a:ea typeface="Times New Roman"/>
              </a:rPr>
              <a:t>RULE #1 CONTROL</a:t>
            </a:r>
            <a:endParaRPr b="0" lang="en-US" sz="4000" spc="-1" strike="noStrike">
              <a:solidFill>
                <a:srgbClr val="000000"/>
              </a:solidFill>
              <a:latin typeface="Arial"/>
            </a:endParaRPr>
          </a:p>
          <a:p>
            <a:pPr algn="ctr">
              <a:lnSpc>
                <a:spcPct val="100000"/>
              </a:lnSpc>
            </a:pPr>
            <a:r>
              <a:rPr b="0" lang="en-US" sz="4000" spc="-1" strike="noStrike">
                <a:solidFill>
                  <a:srgbClr val="ffffff"/>
                </a:solidFill>
                <a:latin typeface="Times New Roman"/>
                <a:ea typeface="Times New Roman"/>
              </a:rPr>
              <a:t>FOR CYLINDRICITY</a:t>
            </a:r>
            <a:endParaRPr b="0" lang="en-US" sz="4000" spc="-1" strike="noStrike">
              <a:solidFill>
                <a:srgbClr val="000000"/>
              </a:solidFill>
              <a:latin typeface="Arial"/>
            </a:endParaRPr>
          </a:p>
        </p:txBody>
      </p:sp>
      <p:sp>
        <p:nvSpPr>
          <p:cNvPr id="611" name=""/>
          <p:cNvSpPr/>
          <p:nvPr/>
        </p:nvSpPr>
        <p:spPr>
          <a:xfrm>
            <a:off x="1320840" y="2446200"/>
            <a:ext cx="6335640" cy="1828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2" name=""/>
          <p:cNvSpPr txBox="1"/>
          <p:nvPr/>
        </p:nvSpPr>
        <p:spPr>
          <a:xfrm>
            <a:off x="685800" y="94464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 AS DETERMINED BY RULE #1</a:t>
            </a:r>
            <a:endParaRPr b="0" lang="en-US" sz="3600" spc="-1" strike="noStrike">
              <a:solidFill>
                <a:srgbClr val="000000"/>
              </a:solidFill>
              <a:latin typeface="Arial"/>
            </a:endParaRPr>
          </a:p>
        </p:txBody>
      </p:sp>
      <p:sp>
        <p:nvSpPr>
          <p:cNvPr id="613" name=""/>
          <p:cNvSpPr txBox="1"/>
          <p:nvPr/>
        </p:nvSpPr>
        <p:spPr>
          <a:xfrm>
            <a:off x="976320" y="2235240"/>
            <a:ext cx="7377120" cy="33051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Some cylindricity control is provided by Rule #1. Upper and lower size limits of the feature establish the tolerance boundaries.  At maximum material condition, perfect form is required, but as the feature size departs from MMC towards the lower size limit, the difference in </a:t>
            </a:r>
            <a:r>
              <a:rPr b="0" i="1" lang="en-US" sz="2800" spc="-1" strike="noStrike" u="sng">
                <a:solidFill>
                  <a:srgbClr val="fafd00"/>
                </a:solidFill>
                <a:uFillTx/>
                <a:latin typeface="Times New Roman"/>
                <a:ea typeface="Times New Roman"/>
              </a:rPr>
              <a:t>size</a:t>
            </a:r>
            <a:r>
              <a:rPr b="0" lang="en-US" sz="2800" spc="-1" strike="noStrike">
                <a:solidFill>
                  <a:srgbClr val="ffffff"/>
                </a:solidFill>
                <a:latin typeface="Times New Roman"/>
                <a:ea typeface="Times New Roman"/>
              </a:rPr>
              <a:t> may also apply to </a:t>
            </a:r>
            <a:r>
              <a:rPr b="0" i="1" lang="en-US" sz="2800" spc="-1" strike="noStrike" u="sng">
                <a:solidFill>
                  <a:srgbClr val="fafd00"/>
                </a:solidFill>
                <a:uFillTx/>
                <a:latin typeface="Times New Roman"/>
                <a:ea typeface="Times New Roman"/>
              </a:rPr>
              <a:t>form</a:t>
            </a:r>
            <a:r>
              <a:rPr b="0" i="1"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hus, controlling (in a broad sense) the cylindricity of the fe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4"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615" name=""/>
          <p:cNvGrpSpPr/>
          <p:nvPr/>
        </p:nvGrpSpPr>
        <p:grpSpPr>
          <a:xfrm>
            <a:off x="1146240" y="1157400"/>
            <a:ext cx="6786360" cy="1979640"/>
            <a:chOff x="1146240" y="1157400"/>
            <a:chExt cx="6786360" cy="1979640"/>
          </a:xfrm>
        </p:grpSpPr>
        <p:grpSp>
          <p:nvGrpSpPr>
            <p:cNvPr id="616" name=""/>
            <p:cNvGrpSpPr/>
            <p:nvPr/>
          </p:nvGrpSpPr>
          <p:grpSpPr>
            <a:xfrm>
              <a:off x="2984400" y="1755720"/>
              <a:ext cx="4948200" cy="1381320"/>
              <a:chOff x="2984400" y="1755720"/>
              <a:chExt cx="4948200" cy="1381320"/>
            </a:xfrm>
          </p:grpSpPr>
          <p:sp>
            <p:nvSpPr>
              <p:cNvPr id="617" name=""/>
              <p:cNvSpPr/>
              <p:nvPr/>
            </p:nvSpPr>
            <p:spPr>
              <a:xfrm>
                <a:off x="3174840" y="19605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8" name=""/>
              <p:cNvSpPr/>
              <p:nvPr/>
            </p:nvSpPr>
            <p:spPr>
              <a:xfrm>
                <a:off x="5222880" y="19605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19" name=""/>
              <p:cNvGrpSpPr/>
              <p:nvPr/>
            </p:nvGrpSpPr>
            <p:grpSpPr>
              <a:xfrm>
                <a:off x="2984400" y="2455920"/>
                <a:ext cx="1428840" cy="0"/>
                <a:chOff x="2984400" y="2455920"/>
                <a:chExt cx="1428840" cy="0"/>
              </a:xfrm>
            </p:grpSpPr>
            <p:sp>
              <p:nvSpPr>
                <p:cNvPr id="620" name=""/>
                <p:cNvSpPr/>
                <p:nvPr/>
              </p:nvSpPr>
              <p:spPr>
                <a:xfrm>
                  <a:off x="2984400" y="2455920"/>
                  <a:ext cx="50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3594240" y="2455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3889440" y="24559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3" name=""/>
              <p:cNvGrpSpPr/>
              <p:nvPr/>
            </p:nvGrpSpPr>
            <p:grpSpPr>
              <a:xfrm>
                <a:off x="4989600" y="2454120"/>
                <a:ext cx="2943000" cy="0"/>
                <a:chOff x="4989600" y="2454120"/>
                <a:chExt cx="2943000" cy="0"/>
              </a:xfrm>
            </p:grpSpPr>
            <p:sp>
              <p:nvSpPr>
                <p:cNvPr id="624" name=""/>
                <p:cNvSpPr/>
                <p:nvPr/>
              </p:nvSpPr>
              <p:spPr>
                <a:xfrm>
                  <a:off x="4989600" y="24541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6427800" y="2454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6684840" y="24541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7589880" y="2454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8" name=""/>
              <p:cNvSpPr/>
              <p:nvPr/>
            </p:nvSpPr>
            <p:spPr>
              <a:xfrm>
                <a:off x="3675240" y="17557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3675240" y="23652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3675240" y="26128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1" name=""/>
            <p:cNvSpPr/>
            <p:nvPr/>
          </p:nvSpPr>
          <p:spPr>
            <a:xfrm flipH="1" flipV="1">
              <a:off x="2305080" y="1652760"/>
              <a:ext cx="952560" cy="54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flipH="1">
              <a:off x="2048040" y="1650960"/>
              <a:ext cx="26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1344600" y="130320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4.5</a:t>
              </a:r>
              <a:endParaRPr b="0" lang="en-US" sz="2000" spc="-1" strike="noStrike">
                <a:solidFill>
                  <a:srgbClr val="000000"/>
                </a:solidFill>
                <a:latin typeface="Arial"/>
              </a:endParaRPr>
            </a:p>
          </p:txBody>
        </p:sp>
        <p:grpSp>
          <p:nvGrpSpPr>
            <p:cNvPr id="634" name=""/>
            <p:cNvGrpSpPr/>
            <p:nvPr/>
          </p:nvGrpSpPr>
          <p:grpSpPr>
            <a:xfrm>
              <a:off x="1146240" y="1558800"/>
              <a:ext cx="196920" cy="196920"/>
              <a:chOff x="1146240" y="1558800"/>
              <a:chExt cx="196920" cy="196920"/>
            </a:xfrm>
          </p:grpSpPr>
          <p:sp>
            <p:nvSpPr>
              <p:cNvPr id="635" name=""/>
              <p:cNvSpPr/>
              <p:nvPr/>
            </p:nvSpPr>
            <p:spPr>
              <a:xfrm>
                <a:off x="1162080" y="1576440"/>
                <a:ext cx="166680" cy="1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flipH="1">
                <a:off x="1146240" y="1558800"/>
                <a:ext cx="19692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7" name=""/>
            <p:cNvSpPr/>
            <p:nvPr/>
          </p:nvSpPr>
          <p:spPr>
            <a:xfrm flipV="1">
              <a:off x="5238720" y="1312920"/>
              <a:ext cx="0" cy="58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flipV="1">
              <a:off x="7672320" y="1222200"/>
              <a:ext cx="0" cy="64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5253120" y="1357200"/>
              <a:ext cx="438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7234200" y="1357200"/>
              <a:ext cx="4381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txBox="1"/>
            <p:nvPr/>
          </p:nvSpPr>
          <p:spPr>
            <a:xfrm>
              <a:off x="5764320" y="1157400"/>
              <a:ext cx="139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38.2 - 38.8</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2"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643" name=""/>
          <p:cNvSpPr/>
          <p:nvPr/>
        </p:nvSpPr>
        <p:spPr>
          <a:xfrm>
            <a:off x="5307120" y="3836880"/>
            <a:ext cx="1971720" cy="1971720"/>
          </a:xfrm>
          <a:prstGeom prst="ellipse">
            <a:avLst/>
          </a:prstGeom>
          <a:blipFill rotWithShape="0">
            <a:blip r:embed="rId1"/>
            <a:tile tx="0" ty="0" sx="133018" sy="133018" algn="ctr"/>
          </a:blip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txBox="1"/>
          <p:nvPr/>
        </p:nvSpPr>
        <p:spPr>
          <a:xfrm>
            <a:off x="932040" y="4368960"/>
            <a:ext cx="40384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eature size 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ncentric cylinders, 0.5 apart.</a:t>
            </a:r>
            <a:endParaRPr b="0" lang="en-US" sz="2000" spc="-1" strike="noStrike">
              <a:solidFill>
                <a:srgbClr val="000000"/>
              </a:solidFill>
              <a:latin typeface="Arial"/>
            </a:endParaRPr>
          </a:p>
        </p:txBody>
      </p:sp>
      <p:sp>
        <p:nvSpPr>
          <p:cNvPr id="645" name=""/>
          <p:cNvSpPr/>
          <p:nvPr/>
        </p:nvSpPr>
        <p:spPr>
          <a:xfrm>
            <a:off x="5621400" y="4152960"/>
            <a:ext cx="1335240" cy="133524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flipH="1" flipV="1">
            <a:off x="5222880" y="3805200"/>
            <a:ext cx="34920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6286680" y="3686040"/>
            <a:ext cx="0" cy="94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6286680" y="47372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6286680" y="4917960"/>
            <a:ext cx="0" cy="106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flipH="1">
            <a:off x="4951440" y="3807000"/>
            <a:ext cx="271440" cy="10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flipH="1">
            <a:off x="4541760" y="4834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5796000" y="4381560"/>
            <a:ext cx="24120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3" name=""/>
          <p:cNvGrpSpPr/>
          <p:nvPr/>
        </p:nvGrpSpPr>
        <p:grpSpPr>
          <a:xfrm>
            <a:off x="1146240" y="1157400"/>
            <a:ext cx="6786360" cy="1979640"/>
            <a:chOff x="1146240" y="1157400"/>
            <a:chExt cx="6786360" cy="1979640"/>
          </a:xfrm>
        </p:grpSpPr>
        <p:grpSp>
          <p:nvGrpSpPr>
            <p:cNvPr id="654" name=""/>
            <p:cNvGrpSpPr/>
            <p:nvPr/>
          </p:nvGrpSpPr>
          <p:grpSpPr>
            <a:xfrm>
              <a:off x="2984400" y="1755720"/>
              <a:ext cx="4948200" cy="1381320"/>
              <a:chOff x="2984400" y="1755720"/>
              <a:chExt cx="4948200" cy="1381320"/>
            </a:xfrm>
          </p:grpSpPr>
          <p:sp>
            <p:nvSpPr>
              <p:cNvPr id="655" name=""/>
              <p:cNvSpPr/>
              <p:nvPr/>
            </p:nvSpPr>
            <p:spPr>
              <a:xfrm>
                <a:off x="3174840" y="19605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56" name=""/>
              <p:cNvSpPr/>
              <p:nvPr/>
            </p:nvSpPr>
            <p:spPr>
              <a:xfrm>
                <a:off x="5222880" y="19605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57" name=""/>
              <p:cNvGrpSpPr/>
              <p:nvPr/>
            </p:nvGrpSpPr>
            <p:grpSpPr>
              <a:xfrm>
                <a:off x="2984400" y="2455920"/>
                <a:ext cx="1428840" cy="0"/>
                <a:chOff x="2984400" y="2455920"/>
                <a:chExt cx="1428840" cy="0"/>
              </a:xfrm>
            </p:grpSpPr>
            <p:sp>
              <p:nvSpPr>
                <p:cNvPr id="658" name=""/>
                <p:cNvSpPr/>
                <p:nvPr/>
              </p:nvSpPr>
              <p:spPr>
                <a:xfrm>
                  <a:off x="2984400" y="2455920"/>
                  <a:ext cx="50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3594240" y="2455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3889440" y="24559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1" name=""/>
              <p:cNvGrpSpPr/>
              <p:nvPr/>
            </p:nvGrpSpPr>
            <p:grpSpPr>
              <a:xfrm>
                <a:off x="4989600" y="2454120"/>
                <a:ext cx="2943000" cy="0"/>
                <a:chOff x="4989600" y="2454120"/>
                <a:chExt cx="2943000" cy="0"/>
              </a:xfrm>
            </p:grpSpPr>
            <p:sp>
              <p:nvSpPr>
                <p:cNvPr id="662" name=""/>
                <p:cNvSpPr/>
                <p:nvPr/>
              </p:nvSpPr>
              <p:spPr>
                <a:xfrm>
                  <a:off x="4989600" y="24541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6427800" y="2454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6684840" y="24541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7589880" y="2454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6" name=""/>
              <p:cNvSpPr/>
              <p:nvPr/>
            </p:nvSpPr>
            <p:spPr>
              <a:xfrm>
                <a:off x="3675240" y="17557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3675240" y="23652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3675240" y="26128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9" name=""/>
            <p:cNvSpPr/>
            <p:nvPr/>
          </p:nvSpPr>
          <p:spPr>
            <a:xfrm flipH="1" flipV="1">
              <a:off x="2305080" y="1652760"/>
              <a:ext cx="952560" cy="54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H="1">
              <a:off x="2048040" y="1650960"/>
              <a:ext cx="26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1344600" y="130320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4.5</a:t>
              </a:r>
              <a:endParaRPr b="0" lang="en-US" sz="2000" spc="-1" strike="noStrike">
                <a:solidFill>
                  <a:srgbClr val="000000"/>
                </a:solidFill>
                <a:latin typeface="Arial"/>
              </a:endParaRPr>
            </a:p>
          </p:txBody>
        </p:sp>
        <p:grpSp>
          <p:nvGrpSpPr>
            <p:cNvPr id="672" name=""/>
            <p:cNvGrpSpPr/>
            <p:nvPr/>
          </p:nvGrpSpPr>
          <p:grpSpPr>
            <a:xfrm>
              <a:off x="1146240" y="1558800"/>
              <a:ext cx="196920" cy="196920"/>
              <a:chOff x="1146240" y="1558800"/>
              <a:chExt cx="196920" cy="196920"/>
            </a:xfrm>
          </p:grpSpPr>
          <p:sp>
            <p:nvSpPr>
              <p:cNvPr id="673" name=""/>
              <p:cNvSpPr/>
              <p:nvPr/>
            </p:nvSpPr>
            <p:spPr>
              <a:xfrm>
                <a:off x="1162080" y="1576440"/>
                <a:ext cx="166680" cy="1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flipH="1">
                <a:off x="1146240" y="1558800"/>
                <a:ext cx="19692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5" name=""/>
            <p:cNvSpPr/>
            <p:nvPr/>
          </p:nvSpPr>
          <p:spPr>
            <a:xfrm flipV="1">
              <a:off x="5238720" y="1312920"/>
              <a:ext cx="0" cy="58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flipV="1">
              <a:off x="7672320" y="1222200"/>
              <a:ext cx="0" cy="64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5253120" y="1357200"/>
              <a:ext cx="438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7234200" y="1357200"/>
              <a:ext cx="4381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txBox="1"/>
            <p:nvPr/>
          </p:nvSpPr>
          <p:spPr>
            <a:xfrm>
              <a:off x="5764320" y="1157400"/>
              <a:ext cx="139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38.2 - 38.8</a:t>
              </a:r>
              <a:endParaRPr b="0" lang="en-US" sz="2000" spc="-1" strike="noStrike">
                <a:solidFill>
                  <a:srgbClr val="000000"/>
                </a:solidFill>
                <a:latin typeface="Arial"/>
              </a:endParaRPr>
            </a:p>
          </p:txBody>
        </p:sp>
      </p:grpSp>
      <p:sp>
        <p:nvSpPr>
          <p:cNvPr id="680" name=""/>
          <p:cNvSpPr/>
          <p:nvPr/>
        </p:nvSpPr>
        <p:spPr>
          <a:xfrm>
            <a:off x="5116680" y="4819680"/>
            <a:ext cx="10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6416640" y="481968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83"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684" name=""/>
          <p:cNvSpPr/>
          <p:nvPr/>
        </p:nvSpPr>
        <p:spPr>
          <a:xfrm>
            <a:off x="5307120" y="3836880"/>
            <a:ext cx="1971720" cy="1971720"/>
          </a:xfrm>
          <a:prstGeom prst="ellipse">
            <a:avLst/>
          </a:prstGeom>
          <a:blipFill rotWithShape="0">
            <a:blip r:embed="rId1"/>
            <a:tile tx="0" ty="0" sx="133018" sy="133018" algn="ctr"/>
          </a:blip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txBox="1"/>
          <p:nvPr/>
        </p:nvSpPr>
        <p:spPr>
          <a:xfrm>
            <a:off x="932040" y="4368960"/>
            <a:ext cx="40384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eature size 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ncentric cylinders, 0.5 apart.</a:t>
            </a:r>
            <a:endParaRPr b="0" lang="en-US" sz="2000" spc="-1" strike="noStrike">
              <a:solidFill>
                <a:srgbClr val="000000"/>
              </a:solidFill>
              <a:latin typeface="Arial"/>
            </a:endParaRPr>
          </a:p>
        </p:txBody>
      </p:sp>
      <p:sp>
        <p:nvSpPr>
          <p:cNvPr id="686" name=""/>
          <p:cNvSpPr/>
          <p:nvPr/>
        </p:nvSpPr>
        <p:spPr>
          <a:xfrm>
            <a:off x="5621400" y="4152960"/>
            <a:ext cx="1335240" cy="133524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flipH="1" flipV="1">
            <a:off x="5222880" y="3805200"/>
            <a:ext cx="34920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6286680" y="3686040"/>
            <a:ext cx="0" cy="94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6286680" y="47372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6286680" y="4917960"/>
            <a:ext cx="0" cy="106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flipH="1">
            <a:off x="4951440" y="3807000"/>
            <a:ext cx="271440" cy="10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flipH="1">
            <a:off x="4541760" y="4834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5796000" y="4381560"/>
            <a:ext cx="24120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4" name=""/>
          <p:cNvGrpSpPr/>
          <p:nvPr/>
        </p:nvGrpSpPr>
        <p:grpSpPr>
          <a:xfrm>
            <a:off x="1146240" y="1157400"/>
            <a:ext cx="6786360" cy="1979640"/>
            <a:chOff x="1146240" y="1157400"/>
            <a:chExt cx="6786360" cy="1979640"/>
          </a:xfrm>
        </p:grpSpPr>
        <p:grpSp>
          <p:nvGrpSpPr>
            <p:cNvPr id="695" name=""/>
            <p:cNvGrpSpPr/>
            <p:nvPr/>
          </p:nvGrpSpPr>
          <p:grpSpPr>
            <a:xfrm>
              <a:off x="2984400" y="1755720"/>
              <a:ext cx="4948200" cy="1381320"/>
              <a:chOff x="2984400" y="1755720"/>
              <a:chExt cx="4948200" cy="1381320"/>
            </a:xfrm>
          </p:grpSpPr>
          <p:sp>
            <p:nvSpPr>
              <p:cNvPr id="696" name=""/>
              <p:cNvSpPr/>
              <p:nvPr/>
            </p:nvSpPr>
            <p:spPr>
              <a:xfrm>
                <a:off x="3174840" y="19605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5222880" y="19605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98" name=""/>
              <p:cNvGrpSpPr/>
              <p:nvPr/>
            </p:nvGrpSpPr>
            <p:grpSpPr>
              <a:xfrm>
                <a:off x="2984400" y="2455920"/>
                <a:ext cx="1428840" cy="0"/>
                <a:chOff x="2984400" y="2455920"/>
                <a:chExt cx="1428840" cy="0"/>
              </a:xfrm>
            </p:grpSpPr>
            <p:sp>
              <p:nvSpPr>
                <p:cNvPr id="699" name=""/>
                <p:cNvSpPr/>
                <p:nvPr/>
              </p:nvSpPr>
              <p:spPr>
                <a:xfrm>
                  <a:off x="2984400" y="2455920"/>
                  <a:ext cx="50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594240" y="2455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889440" y="24559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02" name=""/>
              <p:cNvGrpSpPr/>
              <p:nvPr/>
            </p:nvGrpSpPr>
            <p:grpSpPr>
              <a:xfrm>
                <a:off x="4989600" y="2454120"/>
                <a:ext cx="2943000" cy="0"/>
                <a:chOff x="4989600" y="2454120"/>
                <a:chExt cx="2943000" cy="0"/>
              </a:xfrm>
            </p:grpSpPr>
            <p:sp>
              <p:nvSpPr>
                <p:cNvPr id="703" name=""/>
                <p:cNvSpPr/>
                <p:nvPr/>
              </p:nvSpPr>
              <p:spPr>
                <a:xfrm>
                  <a:off x="4989600" y="24541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6427800" y="2454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6684840" y="24541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7589880" y="2454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7" name=""/>
              <p:cNvSpPr/>
              <p:nvPr/>
            </p:nvSpPr>
            <p:spPr>
              <a:xfrm>
                <a:off x="3675240" y="17557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3675240" y="23652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3675240" y="26128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0" name=""/>
            <p:cNvSpPr/>
            <p:nvPr/>
          </p:nvSpPr>
          <p:spPr>
            <a:xfrm flipH="1" flipV="1">
              <a:off x="2305080" y="1652760"/>
              <a:ext cx="952560" cy="54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flipH="1">
              <a:off x="2048040" y="1650960"/>
              <a:ext cx="26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txBox="1"/>
            <p:nvPr/>
          </p:nvSpPr>
          <p:spPr>
            <a:xfrm>
              <a:off x="1344600" y="130320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4.5</a:t>
              </a:r>
              <a:endParaRPr b="0" lang="en-US" sz="2000" spc="-1" strike="noStrike">
                <a:solidFill>
                  <a:srgbClr val="000000"/>
                </a:solidFill>
                <a:latin typeface="Arial"/>
              </a:endParaRPr>
            </a:p>
          </p:txBody>
        </p:sp>
        <p:grpSp>
          <p:nvGrpSpPr>
            <p:cNvPr id="713" name=""/>
            <p:cNvGrpSpPr/>
            <p:nvPr/>
          </p:nvGrpSpPr>
          <p:grpSpPr>
            <a:xfrm>
              <a:off x="1146240" y="1558800"/>
              <a:ext cx="196920" cy="196920"/>
              <a:chOff x="1146240" y="1558800"/>
              <a:chExt cx="196920" cy="196920"/>
            </a:xfrm>
          </p:grpSpPr>
          <p:sp>
            <p:nvSpPr>
              <p:cNvPr id="714" name=""/>
              <p:cNvSpPr/>
              <p:nvPr/>
            </p:nvSpPr>
            <p:spPr>
              <a:xfrm>
                <a:off x="1162080" y="1576440"/>
                <a:ext cx="166680" cy="1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flipH="1">
                <a:off x="1146240" y="1558800"/>
                <a:ext cx="19692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6" name=""/>
            <p:cNvSpPr/>
            <p:nvPr/>
          </p:nvSpPr>
          <p:spPr>
            <a:xfrm flipV="1">
              <a:off x="5238720" y="1312920"/>
              <a:ext cx="0" cy="58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flipV="1">
              <a:off x="7672320" y="1222200"/>
              <a:ext cx="0" cy="64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5253120" y="1357200"/>
              <a:ext cx="438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7234200" y="1357200"/>
              <a:ext cx="4381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5764320" y="1157400"/>
              <a:ext cx="139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38.2 - 38.8</a:t>
              </a:r>
              <a:endParaRPr b="0" lang="en-US" sz="2000" spc="-1" strike="noStrike">
                <a:solidFill>
                  <a:srgbClr val="000000"/>
                </a:solidFill>
                <a:latin typeface="Arial"/>
              </a:endParaRPr>
            </a:p>
          </p:txBody>
        </p:sp>
      </p:grpSp>
      <p:sp>
        <p:nvSpPr>
          <p:cNvPr id="721" name=""/>
          <p:cNvSpPr/>
          <p:nvPr/>
        </p:nvSpPr>
        <p:spPr>
          <a:xfrm>
            <a:off x="5116680" y="4819680"/>
            <a:ext cx="10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6416640" y="481968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5595840" y="4098960"/>
            <a:ext cx="1410120" cy="1435320"/>
          </a:xfrm>
          <a:custGeom>
            <a:avLst/>
            <a:gdLst/>
            <a:ahLst/>
            <a:rect l="0" t="0" r="r" b="b"/>
            <a:pathLst>
              <a:path fill="none" w="3917" h="3987">
                <a:moveTo>
                  <a:pt x="1906" y="13"/>
                </a:moveTo>
                <a:lnTo>
                  <a:pt x="1839" y="0"/>
                </a:lnTo>
                <a:lnTo>
                  <a:pt x="1795" y="17"/>
                </a:lnTo>
                <a:lnTo>
                  <a:pt x="1747" y="17"/>
                </a:lnTo>
                <a:lnTo>
                  <a:pt x="1716" y="30"/>
                </a:lnTo>
                <a:lnTo>
                  <a:pt x="1676" y="26"/>
                </a:lnTo>
                <a:lnTo>
                  <a:pt x="1614" y="4"/>
                </a:lnTo>
                <a:lnTo>
                  <a:pt x="1575" y="17"/>
                </a:lnTo>
                <a:lnTo>
                  <a:pt x="1469" y="17"/>
                </a:lnTo>
                <a:lnTo>
                  <a:pt x="1429" y="44"/>
                </a:lnTo>
                <a:lnTo>
                  <a:pt x="1390" y="57"/>
                </a:lnTo>
                <a:lnTo>
                  <a:pt x="1350" y="83"/>
                </a:lnTo>
                <a:lnTo>
                  <a:pt x="1310" y="110"/>
                </a:lnTo>
                <a:lnTo>
                  <a:pt x="1271" y="149"/>
                </a:lnTo>
                <a:lnTo>
                  <a:pt x="1231" y="189"/>
                </a:lnTo>
                <a:lnTo>
                  <a:pt x="1187" y="198"/>
                </a:lnTo>
                <a:lnTo>
                  <a:pt x="1147" y="229"/>
                </a:lnTo>
                <a:lnTo>
                  <a:pt x="1072" y="216"/>
                </a:lnTo>
                <a:lnTo>
                  <a:pt x="1019" y="242"/>
                </a:lnTo>
                <a:lnTo>
                  <a:pt x="1002" y="277"/>
                </a:lnTo>
                <a:lnTo>
                  <a:pt x="948" y="317"/>
                </a:lnTo>
                <a:lnTo>
                  <a:pt x="921" y="383"/>
                </a:lnTo>
                <a:lnTo>
                  <a:pt x="886" y="388"/>
                </a:lnTo>
                <a:lnTo>
                  <a:pt x="833" y="423"/>
                </a:lnTo>
                <a:lnTo>
                  <a:pt x="780" y="449"/>
                </a:lnTo>
                <a:lnTo>
                  <a:pt x="767" y="493"/>
                </a:lnTo>
                <a:lnTo>
                  <a:pt x="727" y="507"/>
                </a:lnTo>
                <a:lnTo>
                  <a:pt x="674" y="533"/>
                </a:lnTo>
                <a:lnTo>
                  <a:pt x="635" y="560"/>
                </a:lnTo>
                <a:lnTo>
                  <a:pt x="595" y="586"/>
                </a:lnTo>
                <a:lnTo>
                  <a:pt x="555" y="612"/>
                </a:lnTo>
                <a:lnTo>
                  <a:pt x="515" y="652"/>
                </a:lnTo>
                <a:lnTo>
                  <a:pt x="476" y="679"/>
                </a:lnTo>
                <a:lnTo>
                  <a:pt x="449" y="718"/>
                </a:lnTo>
                <a:lnTo>
                  <a:pt x="423" y="758"/>
                </a:lnTo>
                <a:lnTo>
                  <a:pt x="396" y="811"/>
                </a:lnTo>
                <a:lnTo>
                  <a:pt x="370" y="864"/>
                </a:lnTo>
                <a:lnTo>
                  <a:pt x="264" y="917"/>
                </a:lnTo>
                <a:lnTo>
                  <a:pt x="224" y="970"/>
                </a:lnTo>
                <a:lnTo>
                  <a:pt x="198" y="1023"/>
                </a:lnTo>
                <a:lnTo>
                  <a:pt x="185" y="1075"/>
                </a:lnTo>
                <a:lnTo>
                  <a:pt x="185" y="1155"/>
                </a:lnTo>
                <a:lnTo>
                  <a:pt x="185" y="1195"/>
                </a:lnTo>
                <a:lnTo>
                  <a:pt x="132" y="1283"/>
                </a:lnTo>
                <a:lnTo>
                  <a:pt x="145" y="1327"/>
                </a:lnTo>
                <a:lnTo>
                  <a:pt x="132" y="1367"/>
                </a:lnTo>
                <a:lnTo>
                  <a:pt x="105" y="1459"/>
                </a:lnTo>
                <a:lnTo>
                  <a:pt x="79" y="1499"/>
                </a:lnTo>
                <a:lnTo>
                  <a:pt x="79" y="1538"/>
                </a:lnTo>
                <a:lnTo>
                  <a:pt x="52" y="1591"/>
                </a:lnTo>
                <a:lnTo>
                  <a:pt x="52" y="1697"/>
                </a:lnTo>
                <a:lnTo>
                  <a:pt x="52" y="1737"/>
                </a:lnTo>
                <a:lnTo>
                  <a:pt x="39" y="1777"/>
                </a:lnTo>
                <a:lnTo>
                  <a:pt x="26" y="1830"/>
                </a:lnTo>
                <a:lnTo>
                  <a:pt x="26" y="1882"/>
                </a:lnTo>
                <a:lnTo>
                  <a:pt x="13" y="1922"/>
                </a:lnTo>
                <a:lnTo>
                  <a:pt x="0" y="1962"/>
                </a:lnTo>
                <a:lnTo>
                  <a:pt x="0" y="2016"/>
                </a:lnTo>
                <a:lnTo>
                  <a:pt x="0" y="2055"/>
                </a:lnTo>
                <a:lnTo>
                  <a:pt x="0" y="2095"/>
                </a:lnTo>
                <a:lnTo>
                  <a:pt x="0" y="2201"/>
                </a:lnTo>
                <a:lnTo>
                  <a:pt x="0" y="2241"/>
                </a:lnTo>
                <a:lnTo>
                  <a:pt x="0" y="2280"/>
                </a:lnTo>
                <a:lnTo>
                  <a:pt x="13" y="2320"/>
                </a:lnTo>
                <a:lnTo>
                  <a:pt x="13" y="2360"/>
                </a:lnTo>
                <a:lnTo>
                  <a:pt x="13" y="2439"/>
                </a:lnTo>
                <a:lnTo>
                  <a:pt x="26" y="2479"/>
                </a:lnTo>
                <a:lnTo>
                  <a:pt x="39" y="2585"/>
                </a:lnTo>
                <a:lnTo>
                  <a:pt x="66" y="2677"/>
                </a:lnTo>
                <a:lnTo>
                  <a:pt x="79" y="2717"/>
                </a:lnTo>
                <a:lnTo>
                  <a:pt x="105" y="2770"/>
                </a:lnTo>
                <a:lnTo>
                  <a:pt x="132" y="2823"/>
                </a:lnTo>
                <a:lnTo>
                  <a:pt x="145" y="2862"/>
                </a:lnTo>
                <a:lnTo>
                  <a:pt x="158" y="2902"/>
                </a:lnTo>
                <a:lnTo>
                  <a:pt x="185" y="2981"/>
                </a:lnTo>
                <a:lnTo>
                  <a:pt x="211" y="3021"/>
                </a:lnTo>
                <a:lnTo>
                  <a:pt x="291" y="3048"/>
                </a:lnTo>
                <a:lnTo>
                  <a:pt x="317" y="3087"/>
                </a:lnTo>
                <a:lnTo>
                  <a:pt x="357" y="3127"/>
                </a:lnTo>
                <a:lnTo>
                  <a:pt x="370" y="3220"/>
                </a:lnTo>
                <a:lnTo>
                  <a:pt x="396" y="3259"/>
                </a:lnTo>
                <a:lnTo>
                  <a:pt x="436" y="3378"/>
                </a:lnTo>
                <a:lnTo>
                  <a:pt x="463" y="3431"/>
                </a:lnTo>
                <a:lnTo>
                  <a:pt x="502" y="3458"/>
                </a:lnTo>
                <a:lnTo>
                  <a:pt x="582" y="3484"/>
                </a:lnTo>
                <a:lnTo>
                  <a:pt x="714" y="3524"/>
                </a:lnTo>
                <a:lnTo>
                  <a:pt x="820" y="3603"/>
                </a:lnTo>
                <a:lnTo>
                  <a:pt x="912" y="3643"/>
                </a:lnTo>
                <a:lnTo>
                  <a:pt x="1032" y="3696"/>
                </a:lnTo>
                <a:lnTo>
                  <a:pt x="1081" y="3718"/>
                </a:lnTo>
                <a:lnTo>
                  <a:pt x="1138" y="3744"/>
                </a:lnTo>
                <a:lnTo>
                  <a:pt x="1271" y="3881"/>
                </a:lnTo>
                <a:lnTo>
                  <a:pt x="1416" y="3908"/>
                </a:lnTo>
                <a:lnTo>
                  <a:pt x="1548" y="3921"/>
                </a:lnTo>
                <a:lnTo>
                  <a:pt x="1588" y="3934"/>
                </a:lnTo>
                <a:lnTo>
                  <a:pt x="1747" y="3960"/>
                </a:lnTo>
                <a:lnTo>
                  <a:pt x="1853" y="3987"/>
                </a:lnTo>
                <a:lnTo>
                  <a:pt x="1932" y="3960"/>
                </a:lnTo>
                <a:lnTo>
                  <a:pt x="1972" y="3960"/>
                </a:lnTo>
                <a:lnTo>
                  <a:pt x="2011" y="3947"/>
                </a:lnTo>
                <a:lnTo>
                  <a:pt x="2047" y="3930"/>
                </a:lnTo>
                <a:lnTo>
                  <a:pt x="2113" y="3908"/>
                </a:lnTo>
                <a:lnTo>
                  <a:pt x="2179" y="3908"/>
                </a:lnTo>
                <a:lnTo>
                  <a:pt x="2223" y="3908"/>
                </a:lnTo>
                <a:lnTo>
                  <a:pt x="2342" y="3908"/>
                </a:lnTo>
                <a:lnTo>
                  <a:pt x="2395" y="3908"/>
                </a:lnTo>
                <a:lnTo>
                  <a:pt x="2474" y="3908"/>
                </a:lnTo>
                <a:lnTo>
                  <a:pt x="2567" y="3908"/>
                </a:lnTo>
                <a:lnTo>
                  <a:pt x="2620" y="3894"/>
                </a:lnTo>
                <a:lnTo>
                  <a:pt x="2660" y="3881"/>
                </a:lnTo>
                <a:lnTo>
                  <a:pt x="2699" y="3855"/>
                </a:lnTo>
                <a:lnTo>
                  <a:pt x="2739" y="3828"/>
                </a:lnTo>
                <a:lnTo>
                  <a:pt x="2832" y="3802"/>
                </a:lnTo>
                <a:lnTo>
                  <a:pt x="2871" y="3775"/>
                </a:lnTo>
                <a:lnTo>
                  <a:pt x="2924" y="3762"/>
                </a:lnTo>
                <a:lnTo>
                  <a:pt x="3018" y="3722"/>
                </a:lnTo>
                <a:lnTo>
                  <a:pt x="3057" y="3696"/>
                </a:lnTo>
                <a:lnTo>
                  <a:pt x="3084" y="3656"/>
                </a:lnTo>
                <a:lnTo>
                  <a:pt x="3097" y="3616"/>
                </a:lnTo>
                <a:lnTo>
                  <a:pt x="3124" y="3511"/>
                </a:lnTo>
                <a:lnTo>
                  <a:pt x="3150" y="3458"/>
                </a:lnTo>
                <a:lnTo>
                  <a:pt x="3190" y="3418"/>
                </a:lnTo>
                <a:lnTo>
                  <a:pt x="3238" y="3378"/>
                </a:lnTo>
                <a:lnTo>
                  <a:pt x="3296" y="3347"/>
                </a:lnTo>
                <a:lnTo>
                  <a:pt x="3335" y="3308"/>
                </a:lnTo>
                <a:lnTo>
                  <a:pt x="3362" y="3281"/>
                </a:lnTo>
                <a:lnTo>
                  <a:pt x="3401" y="3233"/>
                </a:lnTo>
                <a:lnTo>
                  <a:pt x="3463" y="3140"/>
                </a:lnTo>
                <a:lnTo>
                  <a:pt x="3529" y="3096"/>
                </a:lnTo>
                <a:lnTo>
                  <a:pt x="3613" y="3034"/>
                </a:lnTo>
                <a:lnTo>
                  <a:pt x="3640" y="2951"/>
                </a:lnTo>
                <a:lnTo>
                  <a:pt x="3635" y="2862"/>
                </a:lnTo>
                <a:lnTo>
                  <a:pt x="3701" y="2845"/>
                </a:lnTo>
                <a:lnTo>
                  <a:pt x="3781" y="2783"/>
                </a:lnTo>
                <a:lnTo>
                  <a:pt x="3812" y="2770"/>
                </a:lnTo>
                <a:lnTo>
                  <a:pt x="3825" y="2730"/>
                </a:lnTo>
                <a:lnTo>
                  <a:pt x="3812" y="2690"/>
                </a:lnTo>
                <a:lnTo>
                  <a:pt x="3812" y="2651"/>
                </a:lnTo>
                <a:lnTo>
                  <a:pt x="3812" y="2611"/>
                </a:lnTo>
                <a:lnTo>
                  <a:pt x="3812" y="2558"/>
                </a:lnTo>
                <a:lnTo>
                  <a:pt x="3825" y="2505"/>
                </a:lnTo>
                <a:lnTo>
                  <a:pt x="3838" y="2426"/>
                </a:lnTo>
                <a:lnTo>
                  <a:pt x="3851" y="2373"/>
                </a:lnTo>
                <a:lnTo>
                  <a:pt x="3878" y="2267"/>
                </a:lnTo>
                <a:lnTo>
                  <a:pt x="3891" y="2227"/>
                </a:lnTo>
                <a:lnTo>
                  <a:pt x="3904" y="2188"/>
                </a:lnTo>
                <a:lnTo>
                  <a:pt x="3917" y="2082"/>
                </a:lnTo>
                <a:lnTo>
                  <a:pt x="3904" y="2029"/>
                </a:lnTo>
                <a:lnTo>
                  <a:pt x="3878" y="1975"/>
                </a:lnTo>
                <a:lnTo>
                  <a:pt x="3864" y="1935"/>
                </a:lnTo>
                <a:lnTo>
                  <a:pt x="3825" y="1830"/>
                </a:lnTo>
                <a:lnTo>
                  <a:pt x="3812" y="1777"/>
                </a:lnTo>
                <a:lnTo>
                  <a:pt x="3785" y="1644"/>
                </a:lnTo>
                <a:lnTo>
                  <a:pt x="3785" y="1605"/>
                </a:lnTo>
                <a:lnTo>
                  <a:pt x="3785" y="1565"/>
                </a:lnTo>
                <a:lnTo>
                  <a:pt x="3772" y="1512"/>
                </a:lnTo>
                <a:lnTo>
                  <a:pt x="3759" y="1472"/>
                </a:lnTo>
                <a:lnTo>
                  <a:pt x="3732" y="1367"/>
                </a:lnTo>
                <a:lnTo>
                  <a:pt x="3732" y="1314"/>
                </a:lnTo>
                <a:lnTo>
                  <a:pt x="3706" y="1261"/>
                </a:lnTo>
                <a:lnTo>
                  <a:pt x="3692" y="1155"/>
                </a:lnTo>
                <a:lnTo>
                  <a:pt x="3679" y="1075"/>
                </a:lnTo>
                <a:lnTo>
                  <a:pt x="3595" y="1045"/>
                </a:lnTo>
                <a:lnTo>
                  <a:pt x="3582" y="952"/>
                </a:lnTo>
                <a:lnTo>
                  <a:pt x="3547" y="864"/>
                </a:lnTo>
                <a:lnTo>
                  <a:pt x="3507" y="837"/>
                </a:lnTo>
                <a:lnTo>
                  <a:pt x="3468" y="824"/>
                </a:lnTo>
                <a:lnTo>
                  <a:pt x="3397" y="780"/>
                </a:lnTo>
                <a:lnTo>
                  <a:pt x="3357" y="732"/>
                </a:lnTo>
                <a:lnTo>
                  <a:pt x="3322" y="687"/>
                </a:lnTo>
                <a:lnTo>
                  <a:pt x="3216" y="586"/>
                </a:lnTo>
                <a:lnTo>
                  <a:pt x="3177" y="493"/>
                </a:lnTo>
                <a:lnTo>
                  <a:pt x="3137" y="467"/>
                </a:lnTo>
                <a:lnTo>
                  <a:pt x="3031" y="454"/>
                </a:lnTo>
                <a:lnTo>
                  <a:pt x="3005" y="414"/>
                </a:lnTo>
                <a:lnTo>
                  <a:pt x="2924" y="335"/>
                </a:lnTo>
                <a:lnTo>
                  <a:pt x="2884" y="321"/>
                </a:lnTo>
                <a:lnTo>
                  <a:pt x="2792" y="216"/>
                </a:lnTo>
                <a:lnTo>
                  <a:pt x="2752" y="202"/>
                </a:lnTo>
                <a:lnTo>
                  <a:pt x="2673" y="189"/>
                </a:lnTo>
                <a:lnTo>
                  <a:pt x="2567" y="176"/>
                </a:lnTo>
                <a:lnTo>
                  <a:pt x="2461" y="97"/>
                </a:lnTo>
                <a:lnTo>
                  <a:pt x="2421" y="83"/>
                </a:lnTo>
                <a:lnTo>
                  <a:pt x="2316" y="57"/>
                </a:lnTo>
                <a:lnTo>
                  <a:pt x="2276" y="57"/>
                </a:lnTo>
                <a:lnTo>
                  <a:pt x="2170" y="52"/>
                </a:lnTo>
                <a:lnTo>
                  <a:pt x="2091" y="39"/>
                </a:lnTo>
                <a:lnTo>
                  <a:pt x="2007" y="13"/>
                </a:lnTo>
                <a:lnTo>
                  <a:pt x="1932" y="13"/>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5" name=""/>
          <p:cNvSpPr txBox="1"/>
          <p:nvPr/>
        </p:nvSpPr>
        <p:spPr>
          <a:xfrm>
            <a:off x="6869160" y="3184560"/>
            <a:ext cx="2201760" cy="16160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Actual surfac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elements must li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betwee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limits of siz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6"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727" name=""/>
          <p:cNvSpPr/>
          <p:nvPr/>
        </p:nvSpPr>
        <p:spPr>
          <a:xfrm>
            <a:off x="5307120" y="3836880"/>
            <a:ext cx="1971720" cy="1971720"/>
          </a:xfrm>
          <a:prstGeom prst="ellipse">
            <a:avLst/>
          </a:prstGeom>
          <a:blipFill rotWithShape="0">
            <a:blip r:embed="rId1"/>
            <a:tile tx="0" ty="0" sx="133018" sy="133018" algn="ctr"/>
          </a:blip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txBox="1"/>
          <p:nvPr/>
        </p:nvSpPr>
        <p:spPr>
          <a:xfrm>
            <a:off x="932040" y="4368960"/>
            <a:ext cx="40384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eature size 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ncentric cylinders, 0.5 apart.</a:t>
            </a:r>
            <a:endParaRPr b="0" lang="en-US" sz="2000" spc="-1" strike="noStrike">
              <a:solidFill>
                <a:srgbClr val="000000"/>
              </a:solidFill>
              <a:latin typeface="Arial"/>
            </a:endParaRPr>
          </a:p>
        </p:txBody>
      </p:sp>
      <p:sp>
        <p:nvSpPr>
          <p:cNvPr id="729" name=""/>
          <p:cNvSpPr/>
          <p:nvPr/>
        </p:nvSpPr>
        <p:spPr>
          <a:xfrm>
            <a:off x="5621400" y="4152960"/>
            <a:ext cx="1335240" cy="133524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flipH="1" flipV="1">
            <a:off x="5222880" y="3805200"/>
            <a:ext cx="34920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6286680" y="3686040"/>
            <a:ext cx="0" cy="94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6286680" y="47372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6286680" y="4917960"/>
            <a:ext cx="0" cy="106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flipH="1">
            <a:off x="4951440" y="3807000"/>
            <a:ext cx="271440" cy="10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flipH="1">
            <a:off x="4541760" y="4834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5796000" y="4381560"/>
            <a:ext cx="24120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7" name=""/>
          <p:cNvGrpSpPr/>
          <p:nvPr/>
        </p:nvGrpSpPr>
        <p:grpSpPr>
          <a:xfrm>
            <a:off x="1146240" y="1157400"/>
            <a:ext cx="6786360" cy="1979640"/>
            <a:chOff x="1146240" y="1157400"/>
            <a:chExt cx="6786360" cy="1979640"/>
          </a:xfrm>
        </p:grpSpPr>
        <p:grpSp>
          <p:nvGrpSpPr>
            <p:cNvPr id="738" name=""/>
            <p:cNvGrpSpPr/>
            <p:nvPr/>
          </p:nvGrpSpPr>
          <p:grpSpPr>
            <a:xfrm>
              <a:off x="2984400" y="1755720"/>
              <a:ext cx="4948200" cy="1381320"/>
              <a:chOff x="2984400" y="1755720"/>
              <a:chExt cx="4948200" cy="1381320"/>
            </a:xfrm>
          </p:grpSpPr>
          <p:sp>
            <p:nvSpPr>
              <p:cNvPr id="739" name=""/>
              <p:cNvSpPr/>
              <p:nvPr/>
            </p:nvSpPr>
            <p:spPr>
              <a:xfrm>
                <a:off x="3174840" y="19605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0" name=""/>
              <p:cNvSpPr/>
              <p:nvPr/>
            </p:nvSpPr>
            <p:spPr>
              <a:xfrm>
                <a:off x="5222880" y="19605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41" name=""/>
              <p:cNvGrpSpPr/>
              <p:nvPr/>
            </p:nvGrpSpPr>
            <p:grpSpPr>
              <a:xfrm>
                <a:off x="2984400" y="2455920"/>
                <a:ext cx="1428840" cy="0"/>
                <a:chOff x="2984400" y="2455920"/>
                <a:chExt cx="1428840" cy="0"/>
              </a:xfrm>
            </p:grpSpPr>
            <p:sp>
              <p:nvSpPr>
                <p:cNvPr id="742" name=""/>
                <p:cNvSpPr/>
                <p:nvPr/>
              </p:nvSpPr>
              <p:spPr>
                <a:xfrm>
                  <a:off x="2984400" y="2455920"/>
                  <a:ext cx="50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3594240" y="2455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3889440" y="24559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45" name=""/>
              <p:cNvGrpSpPr/>
              <p:nvPr/>
            </p:nvGrpSpPr>
            <p:grpSpPr>
              <a:xfrm>
                <a:off x="4989600" y="2454120"/>
                <a:ext cx="2943000" cy="0"/>
                <a:chOff x="4989600" y="2454120"/>
                <a:chExt cx="2943000" cy="0"/>
              </a:xfrm>
            </p:grpSpPr>
            <p:sp>
              <p:nvSpPr>
                <p:cNvPr id="746" name=""/>
                <p:cNvSpPr/>
                <p:nvPr/>
              </p:nvSpPr>
              <p:spPr>
                <a:xfrm>
                  <a:off x="4989600" y="24541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6427800" y="2454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6684840" y="24541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7589880" y="2454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0" name=""/>
              <p:cNvSpPr/>
              <p:nvPr/>
            </p:nvSpPr>
            <p:spPr>
              <a:xfrm>
                <a:off x="3675240" y="17557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3675240" y="23652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3675240" y="26128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3" name=""/>
            <p:cNvSpPr/>
            <p:nvPr/>
          </p:nvSpPr>
          <p:spPr>
            <a:xfrm flipH="1" flipV="1">
              <a:off x="2305080" y="1652760"/>
              <a:ext cx="952560" cy="54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flipH="1">
              <a:off x="2048040" y="1650960"/>
              <a:ext cx="26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txBox="1"/>
            <p:nvPr/>
          </p:nvSpPr>
          <p:spPr>
            <a:xfrm>
              <a:off x="1344600" y="130320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4.5</a:t>
              </a:r>
              <a:endParaRPr b="0" lang="en-US" sz="2000" spc="-1" strike="noStrike">
                <a:solidFill>
                  <a:srgbClr val="000000"/>
                </a:solidFill>
                <a:latin typeface="Arial"/>
              </a:endParaRPr>
            </a:p>
          </p:txBody>
        </p:sp>
        <p:grpSp>
          <p:nvGrpSpPr>
            <p:cNvPr id="756" name=""/>
            <p:cNvGrpSpPr/>
            <p:nvPr/>
          </p:nvGrpSpPr>
          <p:grpSpPr>
            <a:xfrm>
              <a:off x="1146240" y="1558800"/>
              <a:ext cx="196920" cy="196920"/>
              <a:chOff x="1146240" y="1558800"/>
              <a:chExt cx="196920" cy="196920"/>
            </a:xfrm>
          </p:grpSpPr>
          <p:sp>
            <p:nvSpPr>
              <p:cNvPr id="757" name=""/>
              <p:cNvSpPr/>
              <p:nvPr/>
            </p:nvSpPr>
            <p:spPr>
              <a:xfrm>
                <a:off x="1162080" y="1576440"/>
                <a:ext cx="166680" cy="1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flipH="1">
                <a:off x="1146240" y="1558800"/>
                <a:ext cx="19692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9" name=""/>
            <p:cNvSpPr/>
            <p:nvPr/>
          </p:nvSpPr>
          <p:spPr>
            <a:xfrm flipV="1">
              <a:off x="5238720" y="1312920"/>
              <a:ext cx="0" cy="58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flipV="1">
              <a:off x="7672320" y="1222200"/>
              <a:ext cx="0" cy="64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5253120" y="1357200"/>
              <a:ext cx="438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7234200" y="1357200"/>
              <a:ext cx="4381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txBox="1"/>
            <p:nvPr/>
          </p:nvSpPr>
          <p:spPr>
            <a:xfrm>
              <a:off x="5764320" y="1157400"/>
              <a:ext cx="139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38.2 - 38.8</a:t>
              </a:r>
              <a:endParaRPr b="0" lang="en-US" sz="2000" spc="-1" strike="noStrike">
                <a:solidFill>
                  <a:srgbClr val="000000"/>
                </a:solidFill>
                <a:latin typeface="Arial"/>
              </a:endParaRPr>
            </a:p>
          </p:txBody>
        </p:sp>
      </p:grpSp>
      <p:sp>
        <p:nvSpPr>
          <p:cNvPr id="764" name=""/>
          <p:cNvSpPr/>
          <p:nvPr/>
        </p:nvSpPr>
        <p:spPr>
          <a:xfrm>
            <a:off x="5116680" y="4819680"/>
            <a:ext cx="10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6416640" y="481968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5595840" y="4098960"/>
            <a:ext cx="1410120" cy="1435320"/>
          </a:xfrm>
          <a:custGeom>
            <a:avLst/>
            <a:gdLst/>
            <a:ahLst/>
            <a:rect l="0" t="0" r="r" b="b"/>
            <a:pathLst>
              <a:path fill="none" w="3917" h="3987">
                <a:moveTo>
                  <a:pt x="1906" y="13"/>
                </a:moveTo>
                <a:lnTo>
                  <a:pt x="1839" y="0"/>
                </a:lnTo>
                <a:lnTo>
                  <a:pt x="1795" y="17"/>
                </a:lnTo>
                <a:lnTo>
                  <a:pt x="1747" y="17"/>
                </a:lnTo>
                <a:lnTo>
                  <a:pt x="1716" y="30"/>
                </a:lnTo>
                <a:lnTo>
                  <a:pt x="1676" y="26"/>
                </a:lnTo>
                <a:lnTo>
                  <a:pt x="1614" y="4"/>
                </a:lnTo>
                <a:lnTo>
                  <a:pt x="1575" y="17"/>
                </a:lnTo>
                <a:lnTo>
                  <a:pt x="1469" y="17"/>
                </a:lnTo>
                <a:lnTo>
                  <a:pt x="1429" y="44"/>
                </a:lnTo>
                <a:lnTo>
                  <a:pt x="1390" y="57"/>
                </a:lnTo>
                <a:lnTo>
                  <a:pt x="1350" y="83"/>
                </a:lnTo>
                <a:lnTo>
                  <a:pt x="1310" y="110"/>
                </a:lnTo>
                <a:lnTo>
                  <a:pt x="1271" y="149"/>
                </a:lnTo>
                <a:lnTo>
                  <a:pt x="1231" y="189"/>
                </a:lnTo>
                <a:lnTo>
                  <a:pt x="1187" y="198"/>
                </a:lnTo>
                <a:lnTo>
                  <a:pt x="1147" y="229"/>
                </a:lnTo>
                <a:lnTo>
                  <a:pt x="1072" y="216"/>
                </a:lnTo>
                <a:lnTo>
                  <a:pt x="1019" y="242"/>
                </a:lnTo>
                <a:lnTo>
                  <a:pt x="1002" y="277"/>
                </a:lnTo>
                <a:lnTo>
                  <a:pt x="948" y="317"/>
                </a:lnTo>
                <a:lnTo>
                  <a:pt x="921" y="383"/>
                </a:lnTo>
                <a:lnTo>
                  <a:pt x="886" y="388"/>
                </a:lnTo>
                <a:lnTo>
                  <a:pt x="833" y="423"/>
                </a:lnTo>
                <a:lnTo>
                  <a:pt x="780" y="449"/>
                </a:lnTo>
                <a:lnTo>
                  <a:pt x="767" y="493"/>
                </a:lnTo>
                <a:lnTo>
                  <a:pt x="727" y="507"/>
                </a:lnTo>
                <a:lnTo>
                  <a:pt x="674" y="533"/>
                </a:lnTo>
                <a:lnTo>
                  <a:pt x="635" y="560"/>
                </a:lnTo>
                <a:lnTo>
                  <a:pt x="595" y="586"/>
                </a:lnTo>
                <a:lnTo>
                  <a:pt x="555" y="612"/>
                </a:lnTo>
                <a:lnTo>
                  <a:pt x="515" y="652"/>
                </a:lnTo>
                <a:lnTo>
                  <a:pt x="476" y="679"/>
                </a:lnTo>
                <a:lnTo>
                  <a:pt x="449" y="718"/>
                </a:lnTo>
                <a:lnTo>
                  <a:pt x="423" y="758"/>
                </a:lnTo>
                <a:lnTo>
                  <a:pt x="396" y="811"/>
                </a:lnTo>
                <a:lnTo>
                  <a:pt x="370" y="864"/>
                </a:lnTo>
                <a:lnTo>
                  <a:pt x="264" y="917"/>
                </a:lnTo>
                <a:lnTo>
                  <a:pt x="224" y="970"/>
                </a:lnTo>
                <a:lnTo>
                  <a:pt x="198" y="1023"/>
                </a:lnTo>
                <a:lnTo>
                  <a:pt x="185" y="1075"/>
                </a:lnTo>
                <a:lnTo>
                  <a:pt x="185" y="1155"/>
                </a:lnTo>
                <a:lnTo>
                  <a:pt x="185" y="1195"/>
                </a:lnTo>
                <a:lnTo>
                  <a:pt x="132" y="1283"/>
                </a:lnTo>
                <a:lnTo>
                  <a:pt x="145" y="1327"/>
                </a:lnTo>
                <a:lnTo>
                  <a:pt x="132" y="1367"/>
                </a:lnTo>
                <a:lnTo>
                  <a:pt x="105" y="1459"/>
                </a:lnTo>
                <a:lnTo>
                  <a:pt x="79" y="1499"/>
                </a:lnTo>
                <a:lnTo>
                  <a:pt x="79" y="1538"/>
                </a:lnTo>
                <a:lnTo>
                  <a:pt x="52" y="1591"/>
                </a:lnTo>
                <a:lnTo>
                  <a:pt x="52" y="1697"/>
                </a:lnTo>
                <a:lnTo>
                  <a:pt x="52" y="1737"/>
                </a:lnTo>
                <a:lnTo>
                  <a:pt x="39" y="1777"/>
                </a:lnTo>
                <a:lnTo>
                  <a:pt x="26" y="1830"/>
                </a:lnTo>
                <a:lnTo>
                  <a:pt x="26" y="1882"/>
                </a:lnTo>
                <a:lnTo>
                  <a:pt x="13" y="1922"/>
                </a:lnTo>
                <a:lnTo>
                  <a:pt x="0" y="1962"/>
                </a:lnTo>
                <a:lnTo>
                  <a:pt x="0" y="2016"/>
                </a:lnTo>
                <a:lnTo>
                  <a:pt x="0" y="2055"/>
                </a:lnTo>
                <a:lnTo>
                  <a:pt x="0" y="2095"/>
                </a:lnTo>
                <a:lnTo>
                  <a:pt x="0" y="2201"/>
                </a:lnTo>
                <a:lnTo>
                  <a:pt x="0" y="2241"/>
                </a:lnTo>
                <a:lnTo>
                  <a:pt x="0" y="2280"/>
                </a:lnTo>
                <a:lnTo>
                  <a:pt x="13" y="2320"/>
                </a:lnTo>
                <a:lnTo>
                  <a:pt x="13" y="2360"/>
                </a:lnTo>
                <a:lnTo>
                  <a:pt x="13" y="2439"/>
                </a:lnTo>
                <a:lnTo>
                  <a:pt x="26" y="2479"/>
                </a:lnTo>
                <a:lnTo>
                  <a:pt x="39" y="2585"/>
                </a:lnTo>
                <a:lnTo>
                  <a:pt x="66" y="2677"/>
                </a:lnTo>
                <a:lnTo>
                  <a:pt x="79" y="2717"/>
                </a:lnTo>
                <a:lnTo>
                  <a:pt x="105" y="2770"/>
                </a:lnTo>
                <a:lnTo>
                  <a:pt x="132" y="2823"/>
                </a:lnTo>
                <a:lnTo>
                  <a:pt x="145" y="2862"/>
                </a:lnTo>
                <a:lnTo>
                  <a:pt x="158" y="2902"/>
                </a:lnTo>
                <a:lnTo>
                  <a:pt x="185" y="2981"/>
                </a:lnTo>
                <a:lnTo>
                  <a:pt x="211" y="3021"/>
                </a:lnTo>
                <a:lnTo>
                  <a:pt x="291" y="3048"/>
                </a:lnTo>
                <a:lnTo>
                  <a:pt x="317" y="3087"/>
                </a:lnTo>
                <a:lnTo>
                  <a:pt x="357" y="3127"/>
                </a:lnTo>
                <a:lnTo>
                  <a:pt x="370" y="3220"/>
                </a:lnTo>
                <a:lnTo>
                  <a:pt x="396" y="3259"/>
                </a:lnTo>
                <a:lnTo>
                  <a:pt x="436" y="3378"/>
                </a:lnTo>
                <a:lnTo>
                  <a:pt x="463" y="3431"/>
                </a:lnTo>
                <a:lnTo>
                  <a:pt x="502" y="3458"/>
                </a:lnTo>
                <a:lnTo>
                  <a:pt x="582" y="3484"/>
                </a:lnTo>
                <a:lnTo>
                  <a:pt x="714" y="3524"/>
                </a:lnTo>
                <a:lnTo>
                  <a:pt x="820" y="3603"/>
                </a:lnTo>
                <a:lnTo>
                  <a:pt x="912" y="3643"/>
                </a:lnTo>
                <a:lnTo>
                  <a:pt x="1032" y="3696"/>
                </a:lnTo>
                <a:lnTo>
                  <a:pt x="1081" y="3718"/>
                </a:lnTo>
                <a:lnTo>
                  <a:pt x="1138" y="3744"/>
                </a:lnTo>
                <a:lnTo>
                  <a:pt x="1271" y="3881"/>
                </a:lnTo>
                <a:lnTo>
                  <a:pt x="1416" y="3908"/>
                </a:lnTo>
                <a:lnTo>
                  <a:pt x="1548" y="3921"/>
                </a:lnTo>
                <a:lnTo>
                  <a:pt x="1588" y="3934"/>
                </a:lnTo>
                <a:lnTo>
                  <a:pt x="1747" y="3960"/>
                </a:lnTo>
                <a:lnTo>
                  <a:pt x="1853" y="3987"/>
                </a:lnTo>
                <a:lnTo>
                  <a:pt x="1932" y="3960"/>
                </a:lnTo>
                <a:lnTo>
                  <a:pt x="1972" y="3960"/>
                </a:lnTo>
                <a:lnTo>
                  <a:pt x="2011" y="3947"/>
                </a:lnTo>
                <a:lnTo>
                  <a:pt x="2047" y="3930"/>
                </a:lnTo>
                <a:lnTo>
                  <a:pt x="2113" y="3908"/>
                </a:lnTo>
                <a:lnTo>
                  <a:pt x="2179" y="3908"/>
                </a:lnTo>
                <a:lnTo>
                  <a:pt x="2223" y="3908"/>
                </a:lnTo>
                <a:lnTo>
                  <a:pt x="2342" y="3908"/>
                </a:lnTo>
                <a:lnTo>
                  <a:pt x="2395" y="3908"/>
                </a:lnTo>
                <a:lnTo>
                  <a:pt x="2474" y="3908"/>
                </a:lnTo>
                <a:lnTo>
                  <a:pt x="2567" y="3908"/>
                </a:lnTo>
                <a:lnTo>
                  <a:pt x="2620" y="3894"/>
                </a:lnTo>
                <a:lnTo>
                  <a:pt x="2660" y="3881"/>
                </a:lnTo>
                <a:lnTo>
                  <a:pt x="2699" y="3855"/>
                </a:lnTo>
                <a:lnTo>
                  <a:pt x="2739" y="3828"/>
                </a:lnTo>
                <a:lnTo>
                  <a:pt x="2832" y="3802"/>
                </a:lnTo>
                <a:lnTo>
                  <a:pt x="2871" y="3775"/>
                </a:lnTo>
                <a:lnTo>
                  <a:pt x="2924" y="3762"/>
                </a:lnTo>
                <a:lnTo>
                  <a:pt x="3018" y="3722"/>
                </a:lnTo>
                <a:lnTo>
                  <a:pt x="3057" y="3696"/>
                </a:lnTo>
                <a:lnTo>
                  <a:pt x="3084" y="3656"/>
                </a:lnTo>
                <a:lnTo>
                  <a:pt x="3097" y="3616"/>
                </a:lnTo>
                <a:lnTo>
                  <a:pt x="3124" y="3511"/>
                </a:lnTo>
                <a:lnTo>
                  <a:pt x="3150" y="3458"/>
                </a:lnTo>
                <a:lnTo>
                  <a:pt x="3190" y="3418"/>
                </a:lnTo>
                <a:lnTo>
                  <a:pt x="3238" y="3378"/>
                </a:lnTo>
                <a:lnTo>
                  <a:pt x="3296" y="3347"/>
                </a:lnTo>
                <a:lnTo>
                  <a:pt x="3335" y="3308"/>
                </a:lnTo>
                <a:lnTo>
                  <a:pt x="3362" y="3281"/>
                </a:lnTo>
                <a:lnTo>
                  <a:pt x="3401" y="3233"/>
                </a:lnTo>
                <a:lnTo>
                  <a:pt x="3463" y="3140"/>
                </a:lnTo>
                <a:lnTo>
                  <a:pt x="3529" y="3096"/>
                </a:lnTo>
                <a:lnTo>
                  <a:pt x="3613" y="3034"/>
                </a:lnTo>
                <a:lnTo>
                  <a:pt x="3640" y="2951"/>
                </a:lnTo>
                <a:lnTo>
                  <a:pt x="3635" y="2862"/>
                </a:lnTo>
                <a:lnTo>
                  <a:pt x="3701" y="2845"/>
                </a:lnTo>
                <a:lnTo>
                  <a:pt x="3781" y="2783"/>
                </a:lnTo>
                <a:lnTo>
                  <a:pt x="3812" y="2770"/>
                </a:lnTo>
                <a:lnTo>
                  <a:pt x="3825" y="2730"/>
                </a:lnTo>
                <a:lnTo>
                  <a:pt x="3812" y="2690"/>
                </a:lnTo>
                <a:lnTo>
                  <a:pt x="3812" y="2651"/>
                </a:lnTo>
                <a:lnTo>
                  <a:pt x="3812" y="2611"/>
                </a:lnTo>
                <a:lnTo>
                  <a:pt x="3812" y="2558"/>
                </a:lnTo>
                <a:lnTo>
                  <a:pt x="3825" y="2505"/>
                </a:lnTo>
                <a:lnTo>
                  <a:pt x="3838" y="2426"/>
                </a:lnTo>
                <a:lnTo>
                  <a:pt x="3851" y="2373"/>
                </a:lnTo>
                <a:lnTo>
                  <a:pt x="3878" y="2267"/>
                </a:lnTo>
                <a:lnTo>
                  <a:pt x="3891" y="2227"/>
                </a:lnTo>
                <a:lnTo>
                  <a:pt x="3904" y="2188"/>
                </a:lnTo>
                <a:lnTo>
                  <a:pt x="3917" y="2082"/>
                </a:lnTo>
                <a:lnTo>
                  <a:pt x="3904" y="2029"/>
                </a:lnTo>
                <a:lnTo>
                  <a:pt x="3878" y="1975"/>
                </a:lnTo>
                <a:lnTo>
                  <a:pt x="3864" y="1935"/>
                </a:lnTo>
                <a:lnTo>
                  <a:pt x="3825" y="1830"/>
                </a:lnTo>
                <a:lnTo>
                  <a:pt x="3812" y="1777"/>
                </a:lnTo>
                <a:lnTo>
                  <a:pt x="3785" y="1644"/>
                </a:lnTo>
                <a:lnTo>
                  <a:pt x="3785" y="1605"/>
                </a:lnTo>
                <a:lnTo>
                  <a:pt x="3785" y="1565"/>
                </a:lnTo>
                <a:lnTo>
                  <a:pt x="3772" y="1512"/>
                </a:lnTo>
                <a:lnTo>
                  <a:pt x="3759" y="1472"/>
                </a:lnTo>
                <a:lnTo>
                  <a:pt x="3732" y="1367"/>
                </a:lnTo>
                <a:lnTo>
                  <a:pt x="3732" y="1314"/>
                </a:lnTo>
                <a:lnTo>
                  <a:pt x="3706" y="1261"/>
                </a:lnTo>
                <a:lnTo>
                  <a:pt x="3692" y="1155"/>
                </a:lnTo>
                <a:lnTo>
                  <a:pt x="3679" y="1075"/>
                </a:lnTo>
                <a:lnTo>
                  <a:pt x="3595" y="1045"/>
                </a:lnTo>
                <a:lnTo>
                  <a:pt x="3582" y="952"/>
                </a:lnTo>
                <a:lnTo>
                  <a:pt x="3547" y="864"/>
                </a:lnTo>
                <a:lnTo>
                  <a:pt x="3507" y="837"/>
                </a:lnTo>
                <a:lnTo>
                  <a:pt x="3468" y="824"/>
                </a:lnTo>
                <a:lnTo>
                  <a:pt x="3397" y="780"/>
                </a:lnTo>
                <a:lnTo>
                  <a:pt x="3357" y="732"/>
                </a:lnTo>
                <a:lnTo>
                  <a:pt x="3322" y="687"/>
                </a:lnTo>
                <a:lnTo>
                  <a:pt x="3216" y="586"/>
                </a:lnTo>
                <a:lnTo>
                  <a:pt x="3177" y="493"/>
                </a:lnTo>
                <a:lnTo>
                  <a:pt x="3137" y="467"/>
                </a:lnTo>
                <a:lnTo>
                  <a:pt x="3031" y="454"/>
                </a:lnTo>
                <a:lnTo>
                  <a:pt x="3005" y="414"/>
                </a:lnTo>
                <a:lnTo>
                  <a:pt x="2924" y="335"/>
                </a:lnTo>
                <a:lnTo>
                  <a:pt x="2884" y="321"/>
                </a:lnTo>
                <a:lnTo>
                  <a:pt x="2792" y="216"/>
                </a:lnTo>
                <a:lnTo>
                  <a:pt x="2752" y="202"/>
                </a:lnTo>
                <a:lnTo>
                  <a:pt x="2673" y="189"/>
                </a:lnTo>
                <a:lnTo>
                  <a:pt x="2567" y="176"/>
                </a:lnTo>
                <a:lnTo>
                  <a:pt x="2461" y="97"/>
                </a:lnTo>
                <a:lnTo>
                  <a:pt x="2421" y="83"/>
                </a:lnTo>
                <a:lnTo>
                  <a:pt x="2316" y="57"/>
                </a:lnTo>
                <a:lnTo>
                  <a:pt x="2276" y="57"/>
                </a:lnTo>
                <a:lnTo>
                  <a:pt x="2170" y="52"/>
                </a:lnTo>
                <a:lnTo>
                  <a:pt x="2091" y="39"/>
                </a:lnTo>
                <a:lnTo>
                  <a:pt x="2007" y="13"/>
                </a:lnTo>
                <a:lnTo>
                  <a:pt x="1932" y="13"/>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8" name=""/>
          <p:cNvSpPr txBox="1"/>
          <p:nvPr/>
        </p:nvSpPr>
        <p:spPr>
          <a:xfrm>
            <a:off x="6869160" y="3184560"/>
            <a:ext cx="2201760" cy="16160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Actual surfac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elements must li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betwee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limits of siz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endParaRPr b="0" lang="en-US" sz="2000" spc="-1" strike="noStrike">
              <a:solidFill>
                <a:srgbClr val="000000"/>
              </a:solidFill>
              <a:latin typeface="Arial"/>
            </a:endParaRPr>
          </a:p>
        </p:txBody>
      </p:sp>
      <p:sp>
        <p:nvSpPr>
          <p:cNvPr id="769" name=""/>
          <p:cNvSpPr txBox="1"/>
          <p:nvPr/>
        </p:nvSpPr>
        <p:spPr>
          <a:xfrm>
            <a:off x="6656400" y="5149800"/>
            <a:ext cx="2471760" cy="10065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Also control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the cylindricity</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of the part fe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0"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771" name=""/>
          <p:cNvSpPr/>
          <p:nvPr/>
        </p:nvSpPr>
        <p:spPr>
          <a:xfrm>
            <a:off x="5307120" y="3836880"/>
            <a:ext cx="1971720" cy="1971720"/>
          </a:xfrm>
          <a:prstGeom prst="ellipse">
            <a:avLst/>
          </a:prstGeom>
          <a:blipFill rotWithShape="0">
            <a:blip r:embed="rId1"/>
            <a:tile tx="0" ty="0" sx="133018" sy="133018" algn="ctr"/>
          </a:blip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txBox="1"/>
          <p:nvPr/>
        </p:nvSpPr>
        <p:spPr>
          <a:xfrm>
            <a:off x="932040" y="4368960"/>
            <a:ext cx="40384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eature size 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ncentric cylinders, 0.5 apart.</a:t>
            </a:r>
            <a:endParaRPr b="0" lang="en-US" sz="2000" spc="-1" strike="noStrike">
              <a:solidFill>
                <a:srgbClr val="000000"/>
              </a:solidFill>
              <a:latin typeface="Arial"/>
            </a:endParaRPr>
          </a:p>
        </p:txBody>
      </p:sp>
      <p:sp>
        <p:nvSpPr>
          <p:cNvPr id="773" name=""/>
          <p:cNvSpPr/>
          <p:nvPr/>
        </p:nvSpPr>
        <p:spPr>
          <a:xfrm>
            <a:off x="5621400" y="4152960"/>
            <a:ext cx="1335240" cy="133524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H="1" flipV="1">
            <a:off x="5222880" y="3805200"/>
            <a:ext cx="34920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6286680" y="3686040"/>
            <a:ext cx="0" cy="94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6286680" y="47372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6286680" y="4917960"/>
            <a:ext cx="0" cy="106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flipH="1">
            <a:off x="4951440" y="3807000"/>
            <a:ext cx="271440" cy="10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flipH="1">
            <a:off x="4541760" y="4834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5796000" y="4381560"/>
            <a:ext cx="24120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1" name=""/>
          <p:cNvGrpSpPr/>
          <p:nvPr/>
        </p:nvGrpSpPr>
        <p:grpSpPr>
          <a:xfrm>
            <a:off x="1146240" y="1157400"/>
            <a:ext cx="6786360" cy="1979640"/>
            <a:chOff x="1146240" y="1157400"/>
            <a:chExt cx="6786360" cy="1979640"/>
          </a:xfrm>
        </p:grpSpPr>
        <p:grpSp>
          <p:nvGrpSpPr>
            <p:cNvPr id="782" name=""/>
            <p:cNvGrpSpPr/>
            <p:nvPr/>
          </p:nvGrpSpPr>
          <p:grpSpPr>
            <a:xfrm>
              <a:off x="2984400" y="1755720"/>
              <a:ext cx="4948200" cy="1381320"/>
              <a:chOff x="2984400" y="1755720"/>
              <a:chExt cx="4948200" cy="1381320"/>
            </a:xfrm>
          </p:grpSpPr>
          <p:sp>
            <p:nvSpPr>
              <p:cNvPr id="783" name=""/>
              <p:cNvSpPr/>
              <p:nvPr/>
            </p:nvSpPr>
            <p:spPr>
              <a:xfrm>
                <a:off x="3174840" y="19605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4" name=""/>
              <p:cNvSpPr/>
              <p:nvPr/>
            </p:nvSpPr>
            <p:spPr>
              <a:xfrm>
                <a:off x="5222880" y="19605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85" name=""/>
              <p:cNvGrpSpPr/>
              <p:nvPr/>
            </p:nvGrpSpPr>
            <p:grpSpPr>
              <a:xfrm>
                <a:off x="2984400" y="2455920"/>
                <a:ext cx="1428840" cy="0"/>
                <a:chOff x="2984400" y="2455920"/>
                <a:chExt cx="1428840" cy="0"/>
              </a:xfrm>
            </p:grpSpPr>
            <p:sp>
              <p:nvSpPr>
                <p:cNvPr id="786" name=""/>
                <p:cNvSpPr/>
                <p:nvPr/>
              </p:nvSpPr>
              <p:spPr>
                <a:xfrm>
                  <a:off x="2984400" y="2455920"/>
                  <a:ext cx="50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3594240" y="2455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3889440" y="24559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89" name=""/>
              <p:cNvGrpSpPr/>
              <p:nvPr/>
            </p:nvGrpSpPr>
            <p:grpSpPr>
              <a:xfrm>
                <a:off x="4989600" y="2454120"/>
                <a:ext cx="2943000" cy="0"/>
                <a:chOff x="4989600" y="2454120"/>
                <a:chExt cx="2943000" cy="0"/>
              </a:xfrm>
            </p:grpSpPr>
            <p:sp>
              <p:nvSpPr>
                <p:cNvPr id="790" name=""/>
                <p:cNvSpPr/>
                <p:nvPr/>
              </p:nvSpPr>
              <p:spPr>
                <a:xfrm>
                  <a:off x="4989600" y="24541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6427800" y="2454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6684840" y="24541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7589880" y="2454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4" name=""/>
              <p:cNvSpPr/>
              <p:nvPr/>
            </p:nvSpPr>
            <p:spPr>
              <a:xfrm>
                <a:off x="3675240" y="17557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3675240" y="23652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3675240" y="26128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7" name=""/>
            <p:cNvSpPr/>
            <p:nvPr/>
          </p:nvSpPr>
          <p:spPr>
            <a:xfrm flipH="1" flipV="1">
              <a:off x="2305080" y="1652760"/>
              <a:ext cx="952560" cy="54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flipH="1">
              <a:off x="2048040" y="1650960"/>
              <a:ext cx="26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txBox="1"/>
            <p:nvPr/>
          </p:nvSpPr>
          <p:spPr>
            <a:xfrm>
              <a:off x="1344600" y="130320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4.5</a:t>
              </a:r>
              <a:endParaRPr b="0" lang="en-US" sz="2000" spc="-1" strike="noStrike">
                <a:solidFill>
                  <a:srgbClr val="000000"/>
                </a:solidFill>
                <a:latin typeface="Arial"/>
              </a:endParaRPr>
            </a:p>
          </p:txBody>
        </p:sp>
        <p:grpSp>
          <p:nvGrpSpPr>
            <p:cNvPr id="800" name=""/>
            <p:cNvGrpSpPr/>
            <p:nvPr/>
          </p:nvGrpSpPr>
          <p:grpSpPr>
            <a:xfrm>
              <a:off x="1146240" y="1558800"/>
              <a:ext cx="196920" cy="196920"/>
              <a:chOff x="1146240" y="1558800"/>
              <a:chExt cx="196920" cy="196920"/>
            </a:xfrm>
          </p:grpSpPr>
          <p:sp>
            <p:nvSpPr>
              <p:cNvPr id="801" name=""/>
              <p:cNvSpPr/>
              <p:nvPr/>
            </p:nvSpPr>
            <p:spPr>
              <a:xfrm>
                <a:off x="1162080" y="1576440"/>
                <a:ext cx="166680" cy="1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flipH="1">
                <a:off x="1146240" y="1558800"/>
                <a:ext cx="19692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3" name=""/>
            <p:cNvSpPr/>
            <p:nvPr/>
          </p:nvSpPr>
          <p:spPr>
            <a:xfrm flipV="1">
              <a:off x="5238720" y="1312920"/>
              <a:ext cx="0" cy="58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flipV="1">
              <a:off x="7672320" y="1222200"/>
              <a:ext cx="0" cy="64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5253120" y="1357200"/>
              <a:ext cx="438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7234200" y="1357200"/>
              <a:ext cx="4381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txBox="1"/>
            <p:nvPr/>
          </p:nvSpPr>
          <p:spPr>
            <a:xfrm>
              <a:off x="5764320" y="1157400"/>
              <a:ext cx="139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38.2 - 38.8</a:t>
              </a:r>
              <a:endParaRPr b="0" lang="en-US" sz="2000" spc="-1" strike="noStrike">
                <a:solidFill>
                  <a:srgbClr val="000000"/>
                </a:solidFill>
                <a:latin typeface="Arial"/>
              </a:endParaRPr>
            </a:p>
          </p:txBody>
        </p:sp>
      </p:grpSp>
      <p:sp>
        <p:nvSpPr>
          <p:cNvPr id="808" name=""/>
          <p:cNvSpPr/>
          <p:nvPr/>
        </p:nvSpPr>
        <p:spPr>
          <a:xfrm>
            <a:off x="5116680" y="4819680"/>
            <a:ext cx="10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6416640" y="481968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5454720" y="3956040"/>
            <a:ext cx="1692720" cy="1722960"/>
          </a:xfrm>
          <a:custGeom>
            <a:avLst/>
            <a:gdLst/>
            <a:ahLst/>
            <a:rect l="0" t="0" r="r" b="b"/>
            <a:pathLst>
              <a:path fill="none" w="4702" h="4786">
                <a:moveTo>
                  <a:pt x="2287" y="15"/>
                </a:moveTo>
                <a:lnTo>
                  <a:pt x="2208" y="0"/>
                </a:lnTo>
                <a:lnTo>
                  <a:pt x="2155" y="21"/>
                </a:lnTo>
                <a:lnTo>
                  <a:pt x="2097" y="21"/>
                </a:lnTo>
                <a:lnTo>
                  <a:pt x="2060" y="37"/>
                </a:lnTo>
                <a:lnTo>
                  <a:pt x="2012" y="31"/>
                </a:lnTo>
                <a:lnTo>
                  <a:pt x="1938" y="5"/>
                </a:lnTo>
                <a:lnTo>
                  <a:pt x="1890" y="21"/>
                </a:lnTo>
                <a:lnTo>
                  <a:pt x="1763" y="21"/>
                </a:lnTo>
                <a:lnTo>
                  <a:pt x="1716" y="52"/>
                </a:lnTo>
                <a:lnTo>
                  <a:pt x="1668" y="68"/>
                </a:lnTo>
                <a:lnTo>
                  <a:pt x="1620" y="100"/>
                </a:lnTo>
                <a:lnTo>
                  <a:pt x="1573" y="132"/>
                </a:lnTo>
                <a:lnTo>
                  <a:pt x="1525" y="179"/>
                </a:lnTo>
                <a:lnTo>
                  <a:pt x="1477" y="227"/>
                </a:lnTo>
                <a:lnTo>
                  <a:pt x="1424" y="238"/>
                </a:lnTo>
                <a:lnTo>
                  <a:pt x="1377" y="275"/>
                </a:lnTo>
                <a:lnTo>
                  <a:pt x="1287" y="259"/>
                </a:lnTo>
                <a:lnTo>
                  <a:pt x="1223" y="291"/>
                </a:lnTo>
                <a:lnTo>
                  <a:pt x="1202" y="333"/>
                </a:lnTo>
                <a:lnTo>
                  <a:pt x="1138" y="381"/>
                </a:lnTo>
                <a:lnTo>
                  <a:pt x="1106" y="460"/>
                </a:lnTo>
                <a:lnTo>
                  <a:pt x="1064" y="465"/>
                </a:lnTo>
                <a:lnTo>
                  <a:pt x="1000" y="508"/>
                </a:lnTo>
                <a:lnTo>
                  <a:pt x="936" y="539"/>
                </a:lnTo>
                <a:lnTo>
                  <a:pt x="921" y="592"/>
                </a:lnTo>
                <a:lnTo>
                  <a:pt x="873" y="608"/>
                </a:lnTo>
                <a:lnTo>
                  <a:pt x="809" y="640"/>
                </a:lnTo>
                <a:lnTo>
                  <a:pt x="762" y="672"/>
                </a:lnTo>
                <a:lnTo>
                  <a:pt x="714" y="703"/>
                </a:lnTo>
                <a:lnTo>
                  <a:pt x="667" y="735"/>
                </a:lnTo>
                <a:lnTo>
                  <a:pt x="619" y="783"/>
                </a:lnTo>
                <a:lnTo>
                  <a:pt x="571" y="815"/>
                </a:lnTo>
                <a:lnTo>
                  <a:pt x="539" y="862"/>
                </a:lnTo>
                <a:lnTo>
                  <a:pt x="508" y="910"/>
                </a:lnTo>
                <a:lnTo>
                  <a:pt x="476" y="973"/>
                </a:lnTo>
                <a:lnTo>
                  <a:pt x="444" y="1037"/>
                </a:lnTo>
                <a:lnTo>
                  <a:pt x="317" y="1100"/>
                </a:lnTo>
                <a:lnTo>
                  <a:pt x="269" y="1164"/>
                </a:lnTo>
                <a:lnTo>
                  <a:pt x="238" y="1228"/>
                </a:lnTo>
                <a:lnTo>
                  <a:pt x="222" y="1292"/>
                </a:lnTo>
                <a:lnTo>
                  <a:pt x="222" y="1387"/>
                </a:lnTo>
                <a:lnTo>
                  <a:pt x="222" y="1435"/>
                </a:lnTo>
                <a:lnTo>
                  <a:pt x="158" y="1541"/>
                </a:lnTo>
                <a:lnTo>
                  <a:pt x="174" y="1594"/>
                </a:lnTo>
                <a:lnTo>
                  <a:pt x="158" y="1641"/>
                </a:lnTo>
                <a:lnTo>
                  <a:pt x="127" y="1752"/>
                </a:lnTo>
                <a:lnTo>
                  <a:pt x="95" y="1800"/>
                </a:lnTo>
                <a:lnTo>
                  <a:pt x="95" y="1848"/>
                </a:lnTo>
                <a:lnTo>
                  <a:pt x="63" y="1911"/>
                </a:lnTo>
                <a:lnTo>
                  <a:pt x="63" y="2038"/>
                </a:lnTo>
                <a:lnTo>
                  <a:pt x="63" y="2086"/>
                </a:lnTo>
                <a:lnTo>
                  <a:pt x="47" y="2133"/>
                </a:lnTo>
                <a:lnTo>
                  <a:pt x="31" y="2197"/>
                </a:lnTo>
                <a:lnTo>
                  <a:pt x="31" y="2260"/>
                </a:lnTo>
                <a:lnTo>
                  <a:pt x="15" y="2308"/>
                </a:lnTo>
                <a:lnTo>
                  <a:pt x="0" y="2356"/>
                </a:lnTo>
                <a:lnTo>
                  <a:pt x="0" y="2419"/>
                </a:lnTo>
                <a:lnTo>
                  <a:pt x="0" y="2467"/>
                </a:lnTo>
                <a:lnTo>
                  <a:pt x="0" y="2515"/>
                </a:lnTo>
                <a:lnTo>
                  <a:pt x="0" y="2642"/>
                </a:lnTo>
                <a:lnTo>
                  <a:pt x="0" y="2689"/>
                </a:lnTo>
                <a:lnTo>
                  <a:pt x="0" y="2737"/>
                </a:lnTo>
                <a:lnTo>
                  <a:pt x="15" y="2784"/>
                </a:lnTo>
                <a:lnTo>
                  <a:pt x="15" y="2832"/>
                </a:lnTo>
                <a:lnTo>
                  <a:pt x="15" y="2927"/>
                </a:lnTo>
                <a:lnTo>
                  <a:pt x="31" y="2975"/>
                </a:lnTo>
                <a:lnTo>
                  <a:pt x="47" y="3102"/>
                </a:lnTo>
                <a:lnTo>
                  <a:pt x="79" y="3213"/>
                </a:lnTo>
                <a:lnTo>
                  <a:pt x="95" y="3261"/>
                </a:lnTo>
                <a:lnTo>
                  <a:pt x="127" y="3324"/>
                </a:lnTo>
                <a:lnTo>
                  <a:pt x="158" y="3388"/>
                </a:lnTo>
                <a:lnTo>
                  <a:pt x="174" y="3435"/>
                </a:lnTo>
                <a:lnTo>
                  <a:pt x="190" y="3483"/>
                </a:lnTo>
                <a:lnTo>
                  <a:pt x="222" y="3578"/>
                </a:lnTo>
                <a:lnTo>
                  <a:pt x="254" y="3627"/>
                </a:lnTo>
                <a:lnTo>
                  <a:pt x="349" y="3659"/>
                </a:lnTo>
                <a:lnTo>
                  <a:pt x="381" y="3706"/>
                </a:lnTo>
                <a:lnTo>
                  <a:pt x="428" y="3754"/>
                </a:lnTo>
                <a:lnTo>
                  <a:pt x="444" y="3865"/>
                </a:lnTo>
                <a:lnTo>
                  <a:pt x="476" y="3913"/>
                </a:lnTo>
                <a:lnTo>
                  <a:pt x="524" y="4056"/>
                </a:lnTo>
                <a:lnTo>
                  <a:pt x="555" y="4119"/>
                </a:lnTo>
                <a:lnTo>
                  <a:pt x="603" y="4151"/>
                </a:lnTo>
                <a:lnTo>
                  <a:pt x="698" y="4183"/>
                </a:lnTo>
                <a:lnTo>
                  <a:pt x="857" y="4230"/>
                </a:lnTo>
                <a:lnTo>
                  <a:pt x="984" y="4326"/>
                </a:lnTo>
                <a:lnTo>
                  <a:pt x="1095" y="4373"/>
                </a:lnTo>
                <a:lnTo>
                  <a:pt x="1239" y="4437"/>
                </a:lnTo>
                <a:lnTo>
                  <a:pt x="1297" y="4463"/>
                </a:lnTo>
                <a:lnTo>
                  <a:pt x="1366" y="4495"/>
                </a:lnTo>
                <a:lnTo>
                  <a:pt x="1525" y="4659"/>
                </a:lnTo>
                <a:lnTo>
                  <a:pt x="1700" y="4691"/>
                </a:lnTo>
                <a:lnTo>
                  <a:pt x="1859" y="4707"/>
                </a:lnTo>
                <a:lnTo>
                  <a:pt x="1906" y="4723"/>
                </a:lnTo>
                <a:lnTo>
                  <a:pt x="2097" y="4754"/>
                </a:lnTo>
                <a:lnTo>
                  <a:pt x="2224" y="4786"/>
                </a:lnTo>
                <a:lnTo>
                  <a:pt x="2319" y="4754"/>
                </a:lnTo>
                <a:lnTo>
                  <a:pt x="2367" y="4754"/>
                </a:lnTo>
                <a:lnTo>
                  <a:pt x="2414" y="4738"/>
                </a:lnTo>
                <a:lnTo>
                  <a:pt x="2457" y="4717"/>
                </a:lnTo>
                <a:lnTo>
                  <a:pt x="2536" y="4691"/>
                </a:lnTo>
                <a:lnTo>
                  <a:pt x="2616" y="4691"/>
                </a:lnTo>
                <a:lnTo>
                  <a:pt x="2669" y="4691"/>
                </a:lnTo>
                <a:lnTo>
                  <a:pt x="2811" y="4691"/>
                </a:lnTo>
                <a:lnTo>
                  <a:pt x="2875" y="4691"/>
                </a:lnTo>
                <a:lnTo>
                  <a:pt x="2970" y="4691"/>
                </a:lnTo>
                <a:lnTo>
                  <a:pt x="3081" y="4691"/>
                </a:lnTo>
                <a:lnTo>
                  <a:pt x="3145" y="4675"/>
                </a:lnTo>
                <a:lnTo>
                  <a:pt x="3193" y="4659"/>
                </a:lnTo>
                <a:lnTo>
                  <a:pt x="3240" y="4627"/>
                </a:lnTo>
                <a:lnTo>
                  <a:pt x="3288" y="4596"/>
                </a:lnTo>
                <a:lnTo>
                  <a:pt x="3399" y="4564"/>
                </a:lnTo>
                <a:lnTo>
                  <a:pt x="3447" y="4532"/>
                </a:lnTo>
                <a:lnTo>
                  <a:pt x="3510" y="4516"/>
                </a:lnTo>
                <a:lnTo>
                  <a:pt x="3622" y="4468"/>
                </a:lnTo>
                <a:lnTo>
                  <a:pt x="3670" y="4437"/>
                </a:lnTo>
                <a:lnTo>
                  <a:pt x="3702" y="4389"/>
                </a:lnTo>
                <a:lnTo>
                  <a:pt x="3718" y="4341"/>
                </a:lnTo>
                <a:lnTo>
                  <a:pt x="3749" y="4214"/>
                </a:lnTo>
                <a:lnTo>
                  <a:pt x="3781" y="4151"/>
                </a:lnTo>
                <a:lnTo>
                  <a:pt x="3829" y="4103"/>
                </a:lnTo>
                <a:lnTo>
                  <a:pt x="3887" y="4056"/>
                </a:lnTo>
                <a:lnTo>
                  <a:pt x="3956" y="4019"/>
                </a:lnTo>
                <a:lnTo>
                  <a:pt x="4004" y="3971"/>
                </a:lnTo>
                <a:lnTo>
                  <a:pt x="4035" y="3939"/>
                </a:lnTo>
                <a:lnTo>
                  <a:pt x="4083" y="3881"/>
                </a:lnTo>
                <a:lnTo>
                  <a:pt x="4157" y="3770"/>
                </a:lnTo>
                <a:lnTo>
                  <a:pt x="4236" y="3717"/>
                </a:lnTo>
                <a:lnTo>
                  <a:pt x="4337" y="3643"/>
                </a:lnTo>
                <a:lnTo>
                  <a:pt x="4369" y="3541"/>
                </a:lnTo>
                <a:lnTo>
                  <a:pt x="4363" y="3435"/>
                </a:lnTo>
                <a:lnTo>
                  <a:pt x="4443" y="3414"/>
                </a:lnTo>
                <a:lnTo>
                  <a:pt x="4538" y="3340"/>
                </a:lnTo>
                <a:lnTo>
                  <a:pt x="4575" y="3324"/>
                </a:lnTo>
                <a:lnTo>
                  <a:pt x="4591" y="3277"/>
                </a:lnTo>
                <a:lnTo>
                  <a:pt x="4575" y="3229"/>
                </a:lnTo>
                <a:lnTo>
                  <a:pt x="4575" y="3181"/>
                </a:lnTo>
                <a:lnTo>
                  <a:pt x="4575" y="3134"/>
                </a:lnTo>
                <a:lnTo>
                  <a:pt x="4575" y="3070"/>
                </a:lnTo>
                <a:lnTo>
                  <a:pt x="4591" y="3007"/>
                </a:lnTo>
                <a:lnTo>
                  <a:pt x="4607" y="2911"/>
                </a:lnTo>
                <a:lnTo>
                  <a:pt x="4623" y="2848"/>
                </a:lnTo>
                <a:lnTo>
                  <a:pt x="4655" y="2721"/>
                </a:lnTo>
                <a:lnTo>
                  <a:pt x="4671" y="2673"/>
                </a:lnTo>
                <a:lnTo>
                  <a:pt x="4686" y="2626"/>
                </a:lnTo>
                <a:lnTo>
                  <a:pt x="4702" y="2499"/>
                </a:lnTo>
                <a:lnTo>
                  <a:pt x="4686" y="2435"/>
                </a:lnTo>
                <a:lnTo>
                  <a:pt x="4655" y="2372"/>
                </a:lnTo>
                <a:lnTo>
                  <a:pt x="4639" y="2324"/>
                </a:lnTo>
                <a:lnTo>
                  <a:pt x="4591" y="2197"/>
                </a:lnTo>
                <a:lnTo>
                  <a:pt x="4575" y="2133"/>
                </a:lnTo>
                <a:lnTo>
                  <a:pt x="4543" y="1975"/>
                </a:lnTo>
                <a:lnTo>
                  <a:pt x="4543" y="1927"/>
                </a:lnTo>
                <a:lnTo>
                  <a:pt x="4543" y="1879"/>
                </a:lnTo>
                <a:lnTo>
                  <a:pt x="4528" y="1816"/>
                </a:lnTo>
                <a:lnTo>
                  <a:pt x="4512" y="1768"/>
                </a:lnTo>
                <a:lnTo>
                  <a:pt x="4480" y="1641"/>
                </a:lnTo>
                <a:lnTo>
                  <a:pt x="4480" y="1578"/>
                </a:lnTo>
                <a:lnTo>
                  <a:pt x="4448" y="1514"/>
                </a:lnTo>
                <a:lnTo>
                  <a:pt x="4432" y="1387"/>
                </a:lnTo>
                <a:lnTo>
                  <a:pt x="4416" y="1292"/>
                </a:lnTo>
                <a:lnTo>
                  <a:pt x="4316" y="1255"/>
                </a:lnTo>
                <a:lnTo>
                  <a:pt x="4300" y="1143"/>
                </a:lnTo>
                <a:lnTo>
                  <a:pt x="4258" y="1037"/>
                </a:lnTo>
                <a:lnTo>
                  <a:pt x="4210" y="1005"/>
                </a:lnTo>
                <a:lnTo>
                  <a:pt x="4162" y="989"/>
                </a:lnTo>
                <a:lnTo>
                  <a:pt x="4078" y="936"/>
                </a:lnTo>
                <a:lnTo>
                  <a:pt x="4030" y="878"/>
                </a:lnTo>
                <a:lnTo>
                  <a:pt x="3988" y="825"/>
                </a:lnTo>
                <a:lnTo>
                  <a:pt x="3861" y="703"/>
                </a:lnTo>
                <a:lnTo>
                  <a:pt x="3813" y="592"/>
                </a:lnTo>
                <a:lnTo>
                  <a:pt x="3765" y="561"/>
                </a:lnTo>
                <a:lnTo>
                  <a:pt x="3638" y="545"/>
                </a:lnTo>
                <a:lnTo>
                  <a:pt x="3606" y="497"/>
                </a:lnTo>
                <a:lnTo>
                  <a:pt x="3510" y="402"/>
                </a:lnTo>
                <a:lnTo>
                  <a:pt x="3463" y="386"/>
                </a:lnTo>
                <a:lnTo>
                  <a:pt x="3351" y="259"/>
                </a:lnTo>
                <a:lnTo>
                  <a:pt x="3304" y="243"/>
                </a:lnTo>
                <a:lnTo>
                  <a:pt x="3208" y="227"/>
                </a:lnTo>
                <a:lnTo>
                  <a:pt x="3081" y="211"/>
                </a:lnTo>
                <a:lnTo>
                  <a:pt x="2954" y="116"/>
                </a:lnTo>
                <a:lnTo>
                  <a:pt x="2907" y="100"/>
                </a:lnTo>
                <a:lnTo>
                  <a:pt x="2780" y="68"/>
                </a:lnTo>
                <a:lnTo>
                  <a:pt x="2732" y="68"/>
                </a:lnTo>
                <a:lnTo>
                  <a:pt x="2605" y="63"/>
                </a:lnTo>
                <a:lnTo>
                  <a:pt x="2510" y="47"/>
                </a:lnTo>
                <a:lnTo>
                  <a:pt x="2409" y="15"/>
                </a:lnTo>
                <a:lnTo>
                  <a:pt x="2319" y="15"/>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6869160" y="3184560"/>
            <a:ext cx="2201760" cy="16160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Actual surfac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elements must li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betwee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limits of siz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endParaRPr b="0" lang="en-US" sz="2000" spc="-1" strike="noStrike">
              <a:solidFill>
                <a:srgbClr val="000000"/>
              </a:solidFill>
              <a:latin typeface="Arial"/>
            </a:endParaRPr>
          </a:p>
        </p:txBody>
      </p:sp>
      <p:sp>
        <p:nvSpPr>
          <p:cNvPr id="813" name=""/>
          <p:cNvSpPr txBox="1"/>
          <p:nvPr/>
        </p:nvSpPr>
        <p:spPr>
          <a:xfrm>
            <a:off x="6656400" y="5149800"/>
            <a:ext cx="2471760" cy="10065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Also control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the cylindricity</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of the part fe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14"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815" name=""/>
          <p:cNvSpPr txBox="1"/>
          <p:nvPr/>
        </p:nvSpPr>
        <p:spPr>
          <a:xfrm>
            <a:off x="932040" y="4368960"/>
            <a:ext cx="40384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eature size 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ncentric cylinders, 0.5 apart.</a:t>
            </a:r>
            <a:endParaRPr b="0" lang="en-US" sz="2000" spc="-1" strike="noStrike">
              <a:solidFill>
                <a:srgbClr val="000000"/>
              </a:solidFill>
              <a:latin typeface="Arial"/>
            </a:endParaRPr>
          </a:p>
        </p:txBody>
      </p:sp>
      <p:sp>
        <p:nvSpPr>
          <p:cNvPr id="816" name=""/>
          <p:cNvSpPr/>
          <p:nvPr/>
        </p:nvSpPr>
        <p:spPr>
          <a:xfrm flipH="1" flipV="1">
            <a:off x="5222880" y="3805200"/>
            <a:ext cx="34920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flipH="1">
            <a:off x="4951440" y="3807000"/>
            <a:ext cx="271440" cy="10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flipH="1">
            <a:off x="4541760" y="4834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5796000" y="4381560"/>
            <a:ext cx="24120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20" name=""/>
          <p:cNvGrpSpPr/>
          <p:nvPr/>
        </p:nvGrpSpPr>
        <p:grpSpPr>
          <a:xfrm>
            <a:off x="2984400" y="1755720"/>
            <a:ext cx="4948200" cy="1381320"/>
            <a:chOff x="2984400" y="1755720"/>
            <a:chExt cx="4948200" cy="1381320"/>
          </a:xfrm>
        </p:grpSpPr>
        <p:sp>
          <p:nvSpPr>
            <p:cNvPr id="821" name=""/>
            <p:cNvSpPr/>
            <p:nvPr/>
          </p:nvSpPr>
          <p:spPr>
            <a:xfrm>
              <a:off x="3174840" y="19605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5222880" y="19605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23" name=""/>
            <p:cNvGrpSpPr/>
            <p:nvPr/>
          </p:nvGrpSpPr>
          <p:grpSpPr>
            <a:xfrm>
              <a:off x="2984400" y="2455920"/>
              <a:ext cx="1428840" cy="0"/>
              <a:chOff x="2984400" y="2455920"/>
              <a:chExt cx="1428840" cy="0"/>
            </a:xfrm>
          </p:grpSpPr>
          <p:sp>
            <p:nvSpPr>
              <p:cNvPr id="824" name=""/>
              <p:cNvSpPr/>
              <p:nvPr/>
            </p:nvSpPr>
            <p:spPr>
              <a:xfrm>
                <a:off x="2984400" y="2455920"/>
                <a:ext cx="50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3594240" y="2455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3889440" y="24559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7" name=""/>
            <p:cNvGrpSpPr/>
            <p:nvPr/>
          </p:nvGrpSpPr>
          <p:grpSpPr>
            <a:xfrm>
              <a:off x="4989600" y="2454120"/>
              <a:ext cx="2943000" cy="0"/>
              <a:chOff x="4989600" y="2454120"/>
              <a:chExt cx="2943000" cy="0"/>
            </a:xfrm>
          </p:grpSpPr>
          <p:sp>
            <p:nvSpPr>
              <p:cNvPr id="828" name=""/>
              <p:cNvSpPr/>
              <p:nvPr/>
            </p:nvSpPr>
            <p:spPr>
              <a:xfrm>
                <a:off x="4989600" y="24541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6427800" y="2454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6684840" y="24541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7589880" y="2454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2" name=""/>
            <p:cNvSpPr/>
            <p:nvPr/>
          </p:nvSpPr>
          <p:spPr>
            <a:xfrm>
              <a:off x="3675240" y="17557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3675240" y="23652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3675240" y="26128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5" name=""/>
          <p:cNvSpPr/>
          <p:nvPr/>
        </p:nvSpPr>
        <p:spPr>
          <a:xfrm flipH="1" flipV="1">
            <a:off x="2305080" y="1652760"/>
            <a:ext cx="952560" cy="54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flipH="1">
            <a:off x="2048040" y="1650960"/>
            <a:ext cx="26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 name=""/>
          <p:cNvSpPr txBox="1"/>
          <p:nvPr/>
        </p:nvSpPr>
        <p:spPr>
          <a:xfrm>
            <a:off x="1344600" y="130320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4.5</a:t>
            </a:r>
            <a:endParaRPr b="0" lang="en-US" sz="2000" spc="-1" strike="noStrike">
              <a:solidFill>
                <a:srgbClr val="000000"/>
              </a:solidFill>
              <a:latin typeface="Arial"/>
            </a:endParaRPr>
          </a:p>
        </p:txBody>
      </p:sp>
      <p:grpSp>
        <p:nvGrpSpPr>
          <p:cNvPr id="838" name=""/>
          <p:cNvGrpSpPr/>
          <p:nvPr/>
        </p:nvGrpSpPr>
        <p:grpSpPr>
          <a:xfrm>
            <a:off x="1146240" y="1558800"/>
            <a:ext cx="196920" cy="196920"/>
            <a:chOff x="1146240" y="1558800"/>
            <a:chExt cx="196920" cy="196920"/>
          </a:xfrm>
        </p:grpSpPr>
        <p:sp>
          <p:nvSpPr>
            <p:cNvPr id="839" name=""/>
            <p:cNvSpPr/>
            <p:nvPr/>
          </p:nvSpPr>
          <p:spPr>
            <a:xfrm>
              <a:off x="1162080" y="1576440"/>
              <a:ext cx="166680" cy="1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H="1">
              <a:off x="1146240" y="1558800"/>
              <a:ext cx="19692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1" name=""/>
          <p:cNvSpPr/>
          <p:nvPr/>
        </p:nvSpPr>
        <p:spPr>
          <a:xfrm flipV="1">
            <a:off x="5238720" y="1312920"/>
            <a:ext cx="0" cy="58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V="1">
            <a:off x="7672320" y="1222200"/>
            <a:ext cx="0" cy="64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5253120" y="1357200"/>
            <a:ext cx="438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7234200" y="1357200"/>
            <a:ext cx="4381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txBox="1"/>
          <p:nvPr/>
        </p:nvSpPr>
        <p:spPr>
          <a:xfrm>
            <a:off x="5764320" y="1157400"/>
            <a:ext cx="139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38.2 - 38.8</a:t>
            </a:r>
            <a:endParaRPr b="0" lang="en-US" sz="2000" spc="-1" strike="noStrike">
              <a:solidFill>
                <a:srgbClr val="000000"/>
              </a:solidFill>
              <a:latin typeface="Arial"/>
            </a:endParaRPr>
          </a:p>
        </p:txBody>
      </p:sp>
      <p:sp>
        <p:nvSpPr>
          <p:cNvPr id="846" name=""/>
          <p:cNvSpPr/>
          <p:nvPr/>
        </p:nvSpPr>
        <p:spPr>
          <a:xfrm>
            <a:off x="5307120" y="3836880"/>
            <a:ext cx="1971720" cy="1971720"/>
          </a:xfrm>
          <a:prstGeom prst="ellipse">
            <a:avLst/>
          </a:prstGeom>
          <a:blipFill rotWithShape="0">
            <a:blip r:embed="rId1"/>
            <a:tile tx="0" ty="0" sx="133018" sy="133018" algn="ctr"/>
          </a:blip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5621400" y="4152960"/>
            <a:ext cx="1335240" cy="133524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6286680" y="3686040"/>
            <a:ext cx="0" cy="94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286680" y="47372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286680" y="4917960"/>
            <a:ext cx="0" cy="106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5116680" y="4819680"/>
            <a:ext cx="10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6416640" y="481968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375160" y="3876840"/>
            <a:ext cx="1849680" cy="1883160"/>
          </a:xfrm>
          <a:custGeom>
            <a:avLst/>
            <a:gdLst/>
            <a:ahLst/>
            <a:rect l="0" t="0" r="r" b="b"/>
            <a:pathLst>
              <a:path fill="none" w="5138" h="5231">
                <a:moveTo>
                  <a:pt x="2499" y="17"/>
                </a:moveTo>
                <a:lnTo>
                  <a:pt x="2412" y="0"/>
                </a:lnTo>
                <a:lnTo>
                  <a:pt x="2354" y="23"/>
                </a:lnTo>
                <a:lnTo>
                  <a:pt x="2290" y="23"/>
                </a:lnTo>
                <a:lnTo>
                  <a:pt x="2250" y="40"/>
                </a:lnTo>
                <a:lnTo>
                  <a:pt x="2198" y="34"/>
                </a:lnTo>
                <a:lnTo>
                  <a:pt x="2117" y="5"/>
                </a:lnTo>
                <a:lnTo>
                  <a:pt x="2065" y="23"/>
                </a:lnTo>
                <a:lnTo>
                  <a:pt x="1926" y="23"/>
                </a:lnTo>
                <a:lnTo>
                  <a:pt x="1874" y="57"/>
                </a:lnTo>
                <a:lnTo>
                  <a:pt x="1822" y="75"/>
                </a:lnTo>
                <a:lnTo>
                  <a:pt x="1770" y="109"/>
                </a:lnTo>
                <a:lnTo>
                  <a:pt x="1718" y="144"/>
                </a:lnTo>
                <a:lnTo>
                  <a:pt x="1666" y="196"/>
                </a:lnTo>
                <a:lnTo>
                  <a:pt x="1614" y="248"/>
                </a:lnTo>
                <a:lnTo>
                  <a:pt x="1556" y="260"/>
                </a:lnTo>
                <a:lnTo>
                  <a:pt x="1504" y="300"/>
                </a:lnTo>
                <a:lnTo>
                  <a:pt x="1405" y="283"/>
                </a:lnTo>
                <a:lnTo>
                  <a:pt x="1336" y="318"/>
                </a:lnTo>
                <a:lnTo>
                  <a:pt x="1313" y="364"/>
                </a:lnTo>
                <a:lnTo>
                  <a:pt x="1243" y="416"/>
                </a:lnTo>
                <a:lnTo>
                  <a:pt x="1209" y="503"/>
                </a:lnTo>
                <a:lnTo>
                  <a:pt x="1162" y="509"/>
                </a:lnTo>
                <a:lnTo>
                  <a:pt x="1093" y="555"/>
                </a:lnTo>
                <a:lnTo>
                  <a:pt x="1023" y="590"/>
                </a:lnTo>
                <a:lnTo>
                  <a:pt x="1006" y="647"/>
                </a:lnTo>
                <a:lnTo>
                  <a:pt x="954" y="665"/>
                </a:lnTo>
                <a:lnTo>
                  <a:pt x="885" y="700"/>
                </a:lnTo>
                <a:lnTo>
                  <a:pt x="833" y="734"/>
                </a:lnTo>
                <a:lnTo>
                  <a:pt x="781" y="769"/>
                </a:lnTo>
                <a:lnTo>
                  <a:pt x="728" y="804"/>
                </a:lnTo>
                <a:lnTo>
                  <a:pt x="676" y="856"/>
                </a:lnTo>
                <a:lnTo>
                  <a:pt x="624" y="890"/>
                </a:lnTo>
                <a:lnTo>
                  <a:pt x="590" y="943"/>
                </a:lnTo>
                <a:lnTo>
                  <a:pt x="555" y="995"/>
                </a:lnTo>
                <a:lnTo>
                  <a:pt x="520" y="1064"/>
                </a:lnTo>
                <a:lnTo>
                  <a:pt x="485" y="1133"/>
                </a:lnTo>
                <a:lnTo>
                  <a:pt x="347" y="1203"/>
                </a:lnTo>
                <a:lnTo>
                  <a:pt x="295" y="1272"/>
                </a:lnTo>
                <a:lnTo>
                  <a:pt x="260" y="1343"/>
                </a:lnTo>
                <a:lnTo>
                  <a:pt x="242" y="1412"/>
                </a:lnTo>
                <a:lnTo>
                  <a:pt x="242" y="1516"/>
                </a:lnTo>
                <a:lnTo>
                  <a:pt x="242" y="1568"/>
                </a:lnTo>
                <a:lnTo>
                  <a:pt x="173" y="1684"/>
                </a:lnTo>
                <a:lnTo>
                  <a:pt x="190" y="1742"/>
                </a:lnTo>
                <a:lnTo>
                  <a:pt x="173" y="1794"/>
                </a:lnTo>
                <a:lnTo>
                  <a:pt x="138" y="1915"/>
                </a:lnTo>
                <a:lnTo>
                  <a:pt x="104" y="1968"/>
                </a:lnTo>
                <a:lnTo>
                  <a:pt x="104" y="2020"/>
                </a:lnTo>
                <a:lnTo>
                  <a:pt x="69" y="2089"/>
                </a:lnTo>
                <a:lnTo>
                  <a:pt x="69" y="2228"/>
                </a:lnTo>
                <a:lnTo>
                  <a:pt x="69" y="2280"/>
                </a:lnTo>
                <a:lnTo>
                  <a:pt x="52" y="2332"/>
                </a:lnTo>
                <a:lnTo>
                  <a:pt x="34" y="2401"/>
                </a:lnTo>
                <a:lnTo>
                  <a:pt x="34" y="2471"/>
                </a:lnTo>
                <a:lnTo>
                  <a:pt x="17" y="2523"/>
                </a:lnTo>
                <a:lnTo>
                  <a:pt x="0" y="2575"/>
                </a:lnTo>
                <a:lnTo>
                  <a:pt x="0" y="2644"/>
                </a:lnTo>
                <a:lnTo>
                  <a:pt x="0" y="2696"/>
                </a:lnTo>
                <a:lnTo>
                  <a:pt x="0" y="2749"/>
                </a:lnTo>
                <a:lnTo>
                  <a:pt x="0" y="2887"/>
                </a:lnTo>
                <a:lnTo>
                  <a:pt x="0" y="2939"/>
                </a:lnTo>
                <a:lnTo>
                  <a:pt x="0" y="2992"/>
                </a:lnTo>
                <a:lnTo>
                  <a:pt x="17" y="3044"/>
                </a:lnTo>
                <a:lnTo>
                  <a:pt x="17" y="3096"/>
                </a:lnTo>
                <a:lnTo>
                  <a:pt x="17" y="3200"/>
                </a:lnTo>
                <a:lnTo>
                  <a:pt x="34" y="3252"/>
                </a:lnTo>
                <a:lnTo>
                  <a:pt x="52" y="3391"/>
                </a:lnTo>
                <a:lnTo>
                  <a:pt x="86" y="3512"/>
                </a:lnTo>
                <a:lnTo>
                  <a:pt x="104" y="3564"/>
                </a:lnTo>
                <a:lnTo>
                  <a:pt x="138" y="3634"/>
                </a:lnTo>
                <a:lnTo>
                  <a:pt x="173" y="3703"/>
                </a:lnTo>
                <a:lnTo>
                  <a:pt x="190" y="3755"/>
                </a:lnTo>
                <a:lnTo>
                  <a:pt x="208" y="3807"/>
                </a:lnTo>
                <a:lnTo>
                  <a:pt x="242" y="3911"/>
                </a:lnTo>
                <a:lnTo>
                  <a:pt x="277" y="3964"/>
                </a:lnTo>
                <a:lnTo>
                  <a:pt x="381" y="3999"/>
                </a:lnTo>
                <a:lnTo>
                  <a:pt x="416" y="4051"/>
                </a:lnTo>
                <a:lnTo>
                  <a:pt x="468" y="4103"/>
                </a:lnTo>
                <a:lnTo>
                  <a:pt x="485" y="4225"/>
                </a:lnTo>
                <a:lnTo>
                  <a:pt x="520" y="4277"/>
                </a:lnTo>
                <a:lnTo>
                  <a:pt x="572" y="4433"/>
                </a:lnTo>
                <a:lnTo>
                  <a:pt x="607" y="4502"/>
                </a:lnTo>
                <a:lnTo>
                  <a:pt x="659" y="4537"/>
                </a:lnTo>
                <a:lnTo>
                  <a:pt x="763" y="4572"/>
                </a:lnTo>
                <a:lnTo>
                  <a:pt x="937" y="4624"/>
                </a:lnTo>
                <a:lnTo>
                  <a:pt x="1076" y="4728"/>
                </a:lnTo>
                <a:lnTo>
                  <a:pt x="1197" y="4780"/>
                </a:lnTo>
                <a:lnTo>
                  <a:pt x="1353" y="4850"/>
                </a:lnTo>
                <a:lnTo>
                  <a:pt x="1417" y="4879"/>
                </a:lnTo>
                <a:lnTo>
                  <a:pt x="1492" y="4913"/>
                </a:lnTo>
                <a:lnTo>
                  <a:pt x="1666" y="5093"/>
                </a:lnTo>
                <a:lnTo>
                  <a:pt x="1857" y="5127"/>
                </a:lnTo>
                <a:lnTo>
                  <a:pt x="2030" y="5145"/>
                </a:lnTo>
                <a:lnTo>
                  <a:pt x="2082" y="5162"/>
                </a:lnTo>
                <a:lnTo>
                  <a:pt x="2290" y="5197"/>
                </a:lnTo>
                <a:lnTo>
                  <a:pt x="2429" y="5231"/>
                </a:lnTo>
                <a:lnTo>
                  <a:pt x="2533" y="5197"/>
                </a:lnTo>
                <a:lnTo>
                  <a:pt x="2587" y="5197"/>
                </a:lnTo>
                <a:lnTo>
                  <a:pt x="2639" y="5179"/>
                </a:lnTo>
                <a:lnTo>
                  <a:pt x="2685" y="5156"/>
                </a:lnTo>
                <a:lnTo>
                  <a:pt x="2772" y="5127"/>
                </a:lnTo>
                <a:lnTo>
                  <a:pt x="2858" y="5127"/>
                </a:lnTo>
                <a:lnTo>
                  <a:pt x="2916" y="5127"/>
                </a:lnTo>
                <a:lnTo>
                  <a:pt x="3072" y="5127"/>
                </a:lnTo>
                <a:lnTo>
                  <a:pt x="3142" y="5127"/>
                </a:lnTo>
                <a:lnTo>
                  <a:pt x="3246" y="5127"/>
                </a:lnTo>
                <a:lnTo>
                  <a:pt x="3368" y="5127"/>
                </a:lnTo>
                <a:lnTo>
                  <a:pt x="3437" y="5110"/>
                </a:lnTo>
                <a:lnTo>
                  <a:pt x="3489" y="5093"/>
                </a:lnTo>
                <a:lnTo>
                  <a:pt x="3541" y="5058"/>
                </a:lnTo>
                <a:lnTo>
                  <a:pt x="3593" y="5023"/>
                </a:lnTo>
                <a:lnTo>
                  <a:pt x="3715" y="4988"/>
                </a:lnTo>
                <a:lnTo>
                  <a:pt x="3767" y="4954"/>
                </a:lnTo>
                <a:lnTo>
                  <a:pt x="3836" y="4936"/>
                </a:lnTo>
                <a:lnTo>
                  <a:pt x="3958" y="4884"/>
                </a:lnTo>
                <a:lnTo>
                  <a:pt x="4010" y="4850"/>
                </a:lnTo>
                <a:lnTo>
                  <a:pt x="4044" y="4798"/>
                </a:lnTo>
                <a:lnTo>
                  <a:pt x="4062" y="4745"/>
                </a:lnTo>
                <a:lnTo>
                  <a:pt x="4096" y="4607"/>
                </a:lnTo>
                <a:lnTo>
                  <a:pt x="4131" y="4537"/>
                </a:lnTo>
                <a:lnTo>
                  <a:pt x="4183" y="4485"/>
                </a:lnTo>
                <a:lnTo>
                  <a:pt x="4247" y="4433"/>
                </a:lnTo>
                <a:lnTo>
                  <a:pt x="4322" y="4393"/>
                </a:lnTo>
                <a:lnTo>
                  <a:pt x="4374" y="4340"/>
                </a:lnTo>
                <a:lnTo>
                  <a:pt x="4409" y="4306"/>
                </a:lnTo>
                <a:lnTo>
                  <a:pt x="4461" y="4242"/>
                </a:lnTo>
                <a:lnTo>
                  <a:pt x="4542" y="4121"/>
                </a:lnTo>
                <a:lnTo>
                  <a:pt x="4629" y="4063"/>
                </a:lnTo>
                <a:lnTo>
                  <a:pt x="4739" y="3982"/>
                </a:lnTo>
                <a:lnTo>
                  <a:pt x="4773" y="3871"/>
                </a:lnTo>
                <a:lnTo>
                  <a:pt x="4768" y="3755"/>
                </a:lnTo>
                <a:lnTo>
                  <a:pt x="4854" y="3732"/>
                </a:lnTo>
                <a:lnTo>
                  <a:pt x="4958" y="3651"/>
                </a:lnTo>
                <a:lnTo>
                  <a:pt x="4999" y="3634"/>
                </a:lnTo>
                <a:lnTo>
                  <a:pt x="5016" y="3582"/>
                </a:lnTo>
                <a:lnTo>
                  <a:pt x="4999" y="3530"/>
                </a:lnTo>
                <a:lnTo>
                  <a:pt x="4999" y="3477"/>
                </a:lnTo>
                <a:lnTo>
                  <a:pt x="4999" y="3425"/>
                </a:lnTo>
                <a:lnTo>
                  <a:pt x="4999" y="3356"/>
                </a:lnTo>
                <a:lnTo>
                  <a:pt x="5016" y="3287"/>
                </a:lnTo>
                <a:lnTo>
                  <a:pt x="5034" y="3182"/>
                </a:lnTo>
                <a:lnTo>
                  <a:pt x="5051" y="3113"/>
                </a:lnTo>
                <a:lnTo>
                  <a:pt x="5086" y="2974"/>
                </a:lnTo>
                <a:lnTo>
                  <a:pt x="5103" y="2922"/>
                </a:lnTo>
                <a:lnTo>
                  <a:pt x="5120" y="2870"/>
                </a:lnTo>
                <a:lnTo>
                  <a:pt x="5138" y="2731"/>
                </a:lnTo>
                <a:lnTo>
                  <a:pt x="5120" y="2662"/>
                </a:lnTo>
                <a:lnTo>
                  <a:pt x="5086" y="2592"/>
                </a:lnTo>
                <a:lnTo>
                  <a:pt x="5068" y="2540"/>
                </a:lnTo>
                <a:lnTo>
                  <a:pt x="5016" y="2401"/>
                </a:lnTo>
                <a:lnTo>
                  <a:pt x="4999" y="2332"/>
                </a:lnTo>
                <a:lnTo>
                  <a:pt x="4964" y="2158"/>
                </a:lnTo>
                <a:lnTo>
                  <a:pt x="4964" y="2106"/>
                </a:lnTo>
                <a:lnTo>
                  <a:pt x="4964" y="2054"/>
                </a:lnTo>
                <a:lnTo>
                  <a:pt x="4947" y="1985"/>
                </a:lnTo>
                <a:lnTo>
                  <a:pt x="4930" y="1933"/>
                </a:lnTo>
                <a:lnTo>
                  <a:pt x="4895" y="1794"/>
                </a:lnTo>
                <a:lnTo>
                  <a:pt x="4895" y="1725"/>
                </a:lnTo>
                <a:lnTo>
                  <a:pt x="4860" y="1655"/>
                </a:lnTo>
                <a:lnTo>
                  <a:pt x="4843" y="1516"/>
                </a:lnTo>
                <a:lnTo>
                  <a:pt x="4825" y="1412"/>
                </a:lnTo>
                <a:lnTo>
                  <a:pt x="4716" y="1372"/>
                </a:lnTo>
                <a:lnTo>
                  <a:pt x="4698" y="1249"/>
                </a:lnTo>
                <a:lnTo>
                  <a:pt x="4652" y="1133"/>
                </a:lnTo>
                <a:lnTo>
                  <a:pt x="4600" y="1099"/>
                </a:lnTo>
                <a:lnTo>
                  <a:pt x="4548" y="1081"/>
                </a:lnTo>
                <a:lnTo>
                  <a:pt x="4455" y="1024"/>
                </a:lnTo>
                <a:lnTo>
                  <a:pt x="4403" y="960"/>
                </a:lnTo>
                <a:lnTo>
                  <a:pt x="4357" y="902"/>
                </a:lnTo>
                <a:lnTo>
                  <a:pt x="4218" y="769"/>
                </a:lnTo>
                <a:lnTo>
                  <a:pt x="4166" y="647"/>
                </a:lnTo>
                <a:lnTo>
                  <a:pt x="4114" y="613"/>
                </a:lnTo>
                <a:lnTo>
                  <a:pt x="3975" y="595"/>
                </a:lnTo>
                <a:lnTo>
                  <a:pt x="3940" y="543"/>
                </a:lnTo>
                <a:lnTo>
                  <a:pt x="3836" y="439"/>
                </a:lnTo>
                <a:lnTo>
                  <a:pt x="3784" y="422"/>
                </a:lnTo>
                <a:lnTo>
                  <a:pt x="3663" y="283"/>
                </a:lnTo>
                <a:lnTo>
                  <a:pt x="3611" y="266"/>
                </a:lnTo>
                <a:lnTo>
                  <a:pt x="3506" y="248"/>
                </a:lnTo>
                <a:lnTo>
                  <a:pt x="3368" y="231"/>
                </a:lnTo>
                <a:lnTo>
                  <a:pt x="3229" y="127"/>
                </a:lnTo>
                <a:lnTo>
                  <a:pt x="3177" y="109"/>
                </a:lnTo>
                <a:lnTo>
                  <a:pt x="3038" y="75"/>
                </a:lnTo>
                <a:lnTo>
                  <a:pt x="2986" y="75"/>
                </a:lnTo>
                <a:lnTo>
                  <a:pt x="2847" y="69"/>
                </a:lnTo>
                <a:lnTo>
                  <a:pt x="2743" y="52"/>
                </a:lnTo>
                <a:lnTo>
                  <a:pt x="2633" y="17"/>
                </a:lnTo>
                <a:lnTo>
                  <a:pt x="2533" y="17"/>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5" name=""/>
          <p:cNvSpPr txBox="1"/>
          <p:nvPr/>
        </p:nvSpPr>
        <p:spPr>
          <a:xfrm>
            <a:off x="6869160" y="3184560"/>
            <a:ext cx="2201760" cy="16160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Actual surfac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elements must li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betwee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limits of siz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endParaRPr b="0" lang="en-US" sz="2000" spc="-1" strike="noStrike">
              <a:solidFill>
                <a:srgbClr val="000000"/>
              </a:solidFill>
              <a:latin typeface="Arial"/>
            </a:endParaRPr>
          </a:p>
        </p:txBody>
      </p:sp>
      <p:sp>
        <p:nvSpPr>
          <p:cNvPr id="856" name=""/>
          <p:cNvSpPr txBox="1"/>
          <p:nvPr/>
        </p:nvSpPr>
        <p:spPr>
          <a:xfrm>
            <a:off x="6656400" y="5149800"/>
            <a:ext cx="2471760" cy="10065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Also control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the cylindricity</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of the part fe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7" name=""/>
          <p:cNvSpPr/>
          <p:nvPr/>
        </p:nvSpPr>
        <p:spPr>
          <a:xfrm>
            <a:off x="1521000" y="392040"/>
            <a:ext cx="5940360" cy="5942160"/>
          </a:xfrm>
          <a:prstGeom prst="ellipse">
            <a:avLst/>
          </a:prstGeom>
          <a:blipFill rotWithShape="0">
            <a:blip r:embed="rId1"/>
            <a:tile tx="0" ty="0" sx="133018" sy="133018" algn="ctr"/>
          </a:blip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2470320" y="1344600"/>
            <a:ext cx="4022640" cy="402264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4475160" y="3125880"/>
            <a:ext cx="0" cy="31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1152360" y="3354480"/>
            <a:ext cx="305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4321080" y="3354480"/>
            <a:ext cx="31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1722600" y="515880"/>
            <a:ext cx="5572440" cy="5672520"/>
          </a:xfrm>
          <a:custGeom>
            <a:avLst/>
            <a:gdLst/>
            <a:ahLst/>
            <a:rect l="0" t="0" r="r" b="b"/>
            <a:pathLst>
              <a:path fill="none" w="15479" h="15757">
                <a:moveTo>
                  <a:pt x="7529" y="52"/>
                </a:moveTo>
                <a:lnTo>
                  <a:pt x="7268" y="0"/>
                </a:lnTo>
                <a:lnTo>
                  <a:pt x="7094" y="69"/>
                </a:lnTo>
                <a:lnTo>
                  <a:pt x="6902" y="69"/>
                </a:lnTo>
                <a:lnTo>
                  <a:pt x="6780" y="122"/>
                </a:lnTo>
                <a:lnTo>
                  <a:pt x="6623" y="104"/>
                </a:lnTo>
                <a:lnTo>
                  <a:pt x="6379" y="17"/>
                </a:lnTo>
                <a:lnTo>
                  <a:pt x="6222" y="69"/>
                </a:lnTo>
                <a:lnTo>
                  <a:pt x="5804" y="69"/>
                </a:lnTo>
                <a:lnTo>
                  <a:pt x="5647" y="174"/>
                </a:lnTo>
                <a:lnTo>
                  <a:pt x="5490" y="226"/>
                </a:lnTo>
                <a:lnTo>
                  <a:pt x="5333" y="331"/>
                </a:lnTo>
                <a:lnTo>
                  <a:pt x="5176" y="435"/>
                </a:lnTo>
                <a:lnTo>
                  <a:pt x="5019" y="592"/>
                </a:lnTo>
                <a:lnTo>
                  <a:pt x="4863" y="749"/>
                </a:lnTo>
                <a:lnTo>
                  <a:pt x="4688" y="784"/>
                </a:lnTo>
                <a:lnTo>
                  <a:pt x="4531" y="906"/>
                </a:lnTo>
                <a:lnTo>
                  <a:pt x="4235" y="854"/>
                </a:lnTo>
                <a:lnTo>
                  <a:pt x="4026" y="958"/>
                </a:lnTo>
                <a:lnTo>
                  <a:pt x="3956" y="1098"/>
                </a:lnTo>
                <a:lnTo>
                  <a:pt x="3747" y="1254"/>
                </a:lnTo>
                <a:lnTo>
                  <a:pt x="3642" y="1516"/>
                </a:lnTo>
                <a:lnTo>
                  <a:pt x="3503" y="1533"/>
                </a:lnTo>
                <a:lnTo>
                  <a:pt x="3294" y="1673"/>
                </a:lnTo>
                <a:lnTo>
                  <a:pt x="3085" y="1777"/>
                </a:lnTo>
                <a:lnTo>
                  <a:pt x="3032" y="1952"/>
                </a:lnTo>
                <a:lnTo>
                  <a:pt x="2876" y="2004"/>
                </a:lnTo>
                <a:lnTo>
                  <a:pt x="2666" y="2108"/>
                </a:lnTo>
                <a:lnTo>
                  <a:pt x="2509" y="2213"/>
                </a:lnTo>
                <a:lnTo>
                  <a:pt x="2353" y="2318"/>
                </a:lnTo>
                <a:lnTo>
                  <a:pt x="2196" y="2422"/>
                </a:lnTo>
                <a:lnTo>
                  <a:pt x="2039" y="2579"/>
                </a:lnTo>
                <a:lnTo>
                  <a:pt x="1882" y="2684"/>
                </a:lnTo>
                <a:lnTo>
                  <a:pt x="1777" y="2840"/>
                </a:lnTo>
                <a:lnTo>
                  <a:pt x="1673" y="2997"/>
                </a:lnTo>
                <a:lnTo>
                  <a:pt x="1568" y="3206"/>
                </a:lnTo>
                <a:lnTo>
                  <a:pt x="1464" y="3416"/>
                </a:lnTo>
                <a:lnTo>
                  <a:pt x="1045" y="3625"/>
                </a:lnTo>
                <a:lnTo>
                  <a:pt x="888" y="3834"/>
                </a:lnTo>
                <a:lnTo>
                  <a:pt x="784" y="4044"/>
                </a:lnTo>
                <a:lnTo>
                  <a:pt x="732" y="4253"/>
                </a:lnTo>
                <a:lnTo>
                  <a:pt x="732" y="4567"/>
                </a:lnTo>
                <a:lnTo>
                  <a:pt x="732" y="4724"/>
                </a:lnTo>
                <a:lnTo>
                  <a:pt x="522" y="5072"/>
                </a:lnTo>
                <a:lnTo>
                  <a:pt x="575" y="5247"/>
                </a:lnTo>
                <a:lnTo>
                  <a:pt x="522" y="5404"/>
                </a:lnTo>
                <a:lnTo>
                  <a:pt x="418" y="5770"/>
                </a:lnTo>
                <a:lnTo>
                  <a:pt x="313" y="5926"/>
                </a:lnTo>
                <a:lnTo>
                  <a:pt x="313" y="6083"/>
                </a:lnTo>
                <a:lnTo>
                  <a:pt x="209" y="6292"/>
                </a:lnTo>
                <a:lnTo>
                  <a:pt x="209" y="6711"/>
                </a:lnTo>
                <a:lnTo>
                  <a:pt x="209" y="6868"/>
                </a:lnTo>
                <a:lnTo>
                  <a:pt x="156" y="7024"/>
                </a:lnTo>
                <a:lnTo>
                  <a:pt x="104" y="7234"/>
                </a:lnTo>
                <a:lnTo>
                  <a:pt x="104" y="7443"/>
                </a:lnTo>
                <a:lnTo>
                  <a:pt x="52" y="7600"/>
                </a:lnTo>
                <a:lnTo>
                  <a:pt x="0" y="7756"/>
                </a:lnTo>
                <a:lnTo>
                  <a:pt x="0" y="7966"/>
                </a:lnTo>
                <a:lnTo>
                  <a:pt x="0" y="8122"/>
                </a:lnTo>
                <a:lnTo>
                  <a:pt x="0" y="8279"/>
                </a:lnTo>
                <a:lnTo>
                  <a:pt x="0" y="8698"/>
                </a:lnTo>
                <a:lnTo>
                  <a:pt x="0" y="8854"/>
                </a:lnTo>
                <a:lnTo>
                  <a:pt x="0" y="9011"/>
                </a:lnTo>
                <a:lnTo>
                  <a:pt x="52" y="9168"/>
                </a:lnTo>
                <a:lnTo>
                  <a:pt x="52" y="9325"/>
                </a:lnTo>
                <a:lnTo>
                  <a:pt x="52" y="9639"/>
                </a:lnTo>
                <a:lnTo>
                  <a:pt x="104" y="9796"/>
                </a:lnTo>
                <a:lnTo>
                  <a:pt x="156" y="10214"/>
                </a:lnTo>
                <a:lnTo>
                  <a:pt x="261" y="10580"/>
                </a:lnTo>
                <a:lnTo>
                  <a:pt x="313" y="10737"/>
                </a:lnTo>
                <a:lnTo>
                  <a:pt x="418" y="10946"/>
                </a:lnTo>
                <a:lnTo>
                  <a:pt x="522" y="11155"/>
                </a:lnTo>
                <a:lnTo>
                  <a:pt x="575" y="11312"/>
                </a:lnTo>
                <a:lnTo>
                  <a:pt x="627" y="11469"/>
                </a:lnTo>
                <a:lnTo>
                  <a:pt x="732" y="11783"/>
                </a:lnTo>
                <a:lnTo>
                  <a:pt x="836" y="11940"/>
                </a:lnTo>
                <a:lnTo>
                  <a:pt x="1150" y="12045"/>
                </a:lnTo>
                <a:lnTo>
                  <a:pt x="1254" y="12202"/>
                </a:lnTo>
                <a:lnTo>
                  <a:pt x="1411" y="12359"/>
                </a:lnTo>
                <a:lnTo>
                  <a:pt x="1464" y="12725"/>
                </a:lnTo>
                <a:lnTo>
                  <a:pt x="1568" y="12882"/>
                </a:lnTo>
                <a:lnTo>
                  <a:pt x="1725" y="13352"/>
                </a:lnTo>
                <a:lnTo>
                  <a:pt x="1830" y="13561"/>
                </a:lnTo>
                <a:lnTo>
                  <a:pt x="1987" y="13666"/>
                </a:lnTo>
                <a:lnTo>
                  <a:pt x="2300" y="13771"/>
                </a:lnTo>
                <a:lnTo>
                  <a:pt x="2823" y="13927"/>
                </a:lnTo>
                <a:lnTo>
                  <a:pt x="3242" y="14241"/>
                </a:lnTo>
                <a:lnTo>
                  <a:pt x="3608" y="14398"/>
                </a:lnTo>
                <a:lnTo>
                  <a:pt x="4078" y="14607"/>
                </a:lnTo>
                <a:lnTo>
                  <a:pt x="4270" y="14694"/>
                </a:lnTo>
                <a:lnTo>
                  <a:pt x="4497" y="14799"/>
                </a:lnTo>
                <a:lnTo>
                  <a:pt x="5019" y="15339"/>
                </a:lnTo>
                <a:lnTo>
                  <a:pt x="5595" y="15444"/>
                </a:lnTo>
                <a:lnTo>
                  <a:pt x="6118" y="15496"/>
                </a:lnTo>
                <a:lnTo>
                  <a:pt x="6274" y="15548"/>
                </a:lnTo>
                <a:lnTo>
                  <a:pt x="6902" y="15653"/>
                </a:lnTo>
                <a:lnTo>
                  <a:pt x="7320" y="15757"/>
                </a:lnTo>
                <a:lnTo>
                  <a:pt x="7634" y="15653"/>
                </a:lnTo>
                <a:lnTo>
                  <a:pt x="7792" y="15653"/>
                </a:lnTo>
                <a:lnTo>
                  <a:pt x="7949" y="15601"/>
                </a:lnTo>
                <a:lnTo>
                  <a:pt x="8088" y="15531"/>
                </a:lnTo>
                <a:lnTo>
                  <a:pt x="8350" y="15444"/>
                </a:lnTo>
                <a:lnTo>
                  <a:pt x="8611" y="15444"/>
                </a:lnTo>
                <a:lnTo>
                  <a:pt x="8785" y="15444"/>
                </a:lnTo>
                <a:lnTo>
                  <a:pt x="9256" y="15444"/>
                </a:lnTo>
                <a:lnTo>
                  <a:pt x="9465" y="15444"/>
                </a:lnTo>
                <a:lnTo>
                  <a:pt x="9779" y="15444"/>
                </a:lnTo>
                <a:lnTo>
                  <a:pt x="10145" y="15444"/>
                </a:lnTo>
                <a:lnTo>
                  <a:pt x="10354" y="15391"/>
                </a:lnTo>
                <a:lnTo>
                  <a:pt x="10511" y="15339"/>
                </a:lnTo>
                <a:lnTo>
                  <a:pt x="10668" y="15235"/>
                </a:lnTo>
                <a:lnTo>
                  <a:pt x="10825" y="15130"/>
                </a:lnTo>
                <a:lnTo>
                  <a:pt x="11191" y="15025"/>
                </a:lnTo>
                <a:lnTo>
                  <a:pt x="11348" y="14921"/>
                </a:lnTo>
                <a:lnTo>
                  <a:pt x="11557" y="14869"/>
                </a:lnTo>
                <a:lnTo>
                  <a:pt x="11923" y="14712"/>
                </a:lnTo>
                <a:lnTo>
                  <a:pt x="12080" y="14607"/>
                </a:lnTo>
                <a:lnTo>
                  <a:pt x="12184" y="14450"/>
                </a:lnTo>
                <a:lnTo>
                  <a:pt x="12237" y="14293"/>
                </a:lnTo>
                <a:lnTo>
                  <a:pt x="12341" y="13875"/>
                </a:lnTo>
                <a:lnTo>
                  <a:pt x="12446" y="13666"/>
                </a:lnTo>
                <a:lnTo>
                  <a:pt x="12603" y="13509"/>
                </a:lnTo>
                <a:lnTo>
                  <a:pt x="12794" y="13352"/>
                </a:lnTo>
                <a:lnTo>
                  <a:pt x="13021" y="13230"/>
                </a:lnTo>
                <a:lnTo>
                  <a:pt x="13178" y="13073"/>
                </a:lnTo>
                <a:lnTo>
                  <a:pt x="13282" y="12969"/>
                </a:lnTo>
                <a:lnTo>
                  <a:pt x="13439" y="12777"/>
                </a:lnTo>
                <a:lnTo>
                  <a:pt x="13683" y="12411"/>
                </a:lnTo>
                <a:lnTo>
                  <a:pt x="13945" y="12237"/>
                </a:lnTo>
                <a:lnTo>
                  <a:pt x="14276" y="11993"/>
                </a:lnTo>
                <a:lnTo>
                  <a:pt x="14381" y="11661"/>
                </a:lnTo>
                <a:lnTo>
                  <a:pt x="14363" y="11312"/>
                </a:lnTo>
                <a:lnTo>
                  <a:pt x="14625" y="11242"/>
                </a:lnTo>
                <a:lnTo>
                  <a:pt x="14938" y="10998"/>
                </a:lnTo>
                <a:lnTo>
                  <a:pt x="15060" y="10946"/>
                </a:lnTo>
                <a:lnTo>
                  <a:pt x="15113" y="10789"/>
                </a:lnTo>
                <a:lnTo>
                  <a:pt x="15060" y="10632"/>
                </a:lnTo>
                <a:lnTo>
                  <a:pt x="15060" y="10475"/>
                </a:lnTo>
                <a:lnTo>
                  <a:pt x="15060" y="10319"/>
                </a:lnTo>
                <a:lnTo>
                  <a:pt x="15060" y="10109"/>
                </a:lnTo>
                <a:lnTo>
                  <a:pt x="15113" y="9900"/>
                </a:lnTo>
                <a:lnTo>
                  <a:pt x="15165" y="9587"/>
                </a:lnTo>
                <a:lnTo>
                  <a:pt x="15217" y="9377"/>
                </a:lnTo>
                <a:lnTo>
                  <a:pt x="15322" y="8959"/>
                </a:lnTo>
                <a:lnTo>
                  <a:pt x="15374" y="8802"/>
                </a:lnTo>
                <a:lnTo>
                  <a:pt x="15426" y="8645"/>
                </a:lnTo>
                <a:lnTo>
                  <a:pt x="15479" y="8227"/>
                </a:lnTo>
                <a:lnTo>
                  <a:pt x="15426" y="8018"/>
                </a:lnTo>
                <a:lnTo>
                  <a:pt x="15322" y="7809"/>
                </a:lnTo>
                <a:lnTo>
                  <a:pt x="15269" y="7652"/>
                </a:lnTo>
                <a:lnTo>
                  <a:pt x="15113" y="7234"/>
                </a:lnTo>
                <a:lnTo>
                  <a:pt x="15060" y="7024"/>
                </a:lnTo>
                <a:lnTo>
                  <a:pt x="14956" y="6502"/>
                </a:lnTo>
                <a:lnTo>
                  <a:pt x="14956" y="6345"/>
                </a:lnTo>
                <a:lnTo>
                  <a:pt x="14956" y="6188"/>
                </a:lnTo>
                <a:lnTo>
                  <a:pt x="14903" y="5979"/>
                </a:lnTo>
                <a:lnTo>
                  <a:pt x="14851" y="5822"/>
                </a:lnTo>
                <a:lnTo>
                  <a:pt x="14747" y="5404"/>
                </a:lnTo>
                <a:lnTo>
                  <a:pt x="14747" y="5194"/>
                </a:lnTo>
                <a:lnTo>
                  <a:pt x="14642" y="4985"/>
                </a:lnTo>
                <a:lnTo>
                  <a:pt x="14590" y="4567"/>
                </a:lnTo>
                <a:lnTo>
                  <a:pt x="14537" y="4253"/>
                </a:lnTo>
                <a:lnTo>
                  <a:pt x="14206" y="4131"/>
                </a:lnTo>
                <a:lnTo>
                  <a:pt x="14154" y="3764"/>
                </a:lnTo>
                <a:lnTo>
                  <a:pt x="14014" y="3416"/>
                </a:lnTo>
                <a:lnTo>
                  <a:pt x="13858" y="3311"/>
                </a:lnTo>
                <a:lnTo>
                  <a:pt x="13701" y="3259"/>
                </a:lnTo>
                <a:lnTo>
                  <a:pt x="13422" y="3084"/>
                </a:lnTo>
                <a:lnTo>
                  <a:pt x="13265" y="2893"/>
                </a:lnTo>
                <a:lnTo>
                  <a:pt x="13126" y="2718"/>
                </a:lnTo>
                <a:lnTo>
                  <a:pt x="12707" y="2318"/>
                </a:lnTo>
                <a:lnTo>
                  <a:pt x="12550" y="1952"/>
                </a:lnTo>
                <a:lnTo>
                  <a:pt x="12393" y="1847"/>
                </a:lnTo>
                <a:lnTo>
                  <a:pt x="11975" y="1795"/>
                </a:lnTo>
                <a:lnTo>
                  <a:pt x="11871" y="1638"/>
                </a:lnTo>
                <a:lnTo>
                  <a:pt x="11557" y="1324"/>
                </a:lnTo>
                <a:lnTo>
                  <a:pt x="11400" y="1272"/>
                </a:lnTo>
                <a:lnTo>
                  <a:pt x="11034" y="854"/>
                </a:lnTo>
                <a:lnTo>
                  <a:pt x="10877" y="801"/>
                </a:lnTo>
                <a:lnTo>
                  <a:pt x="10563" y="749"/>
                </a:lnTo>
                <a:lnTo>
                  <a:pt x="10145" y="697"/>
                </a:lnTo>
                <a:lnTo>
                  <a:pt x="9727" y="383"/>
                </a:lnTo>
                <a:lnTo>
                  <a:pt x="9570" y="331"/>
                </a:lnTo>
                <a:lnTo>
                  <a:pt x="9151" y="226"/>
                </a:lnTo>
                <a:lnTo>
                  <a:pt x="8995" y="226"/>
                </a:lnTo>
                <a:lnTo>
                  <a:pt x="8576" y="209"/>
                </a:lnTo>
                <a:lnTo>
                  <a:pt x="8262" y="156"/>
                </a:lnTo>
                <a:lnTo>
                  <a:pt x="7931" y="52"/>
                </a:lnTo>
                <a:lnTo>
                  <a:pt x="7634" y="52"/>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3" name=""/>
          <p:cNvSpPr/>
          <p:nvPr/>
        </p:nvSpPr>
        <p:spPr>
          <a:xfrm>
            <a:off x="1468440" y="-98280"/>
            <a:ext cx="7063200" cy="6733080"/>
          </a:xfrm>
          <a:custGeom>
            <a:avLst/>
            <a:gdLst/>
            <a:ahLst/>
            <a:rect l="0" t="0" r="r" b="b"/>
            <a:pathLst>
              <a:path w="19620" h="18703">
                <a:moveTo>
                  <a:pt x="0" y="4078"/>
                </a:moveTo>
                <a:lnTo>
                  <a:pt x="5660" y="8263"/>
                </a:lnTo>
                <a:lnTo>
                  <a:pt x="9410" y="7362"/>
                </a:lnTo>
                <a:lnTo>
                  <a:pt x="9410" y="11658"/>
                </a:lnTo>
                <a:lnTo>
                  <a:pt x="3235" y="18492"/>
                </a:lnTo>
                <a:lnTo>
                  <a:pt x="19620" y="18703"/>
                </a:lnTo>
                <a:lnTo>
                  <a:pt x="18009" y="0"/>
                </a:lnTo>
                <a:lnTo>
                  <a:pt x="2308" y="740"/>
                </a:lnTo>
                <a:lnTo>
                  <a:pt x="0" y="4078"/>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4" name=""/>
          <p:cNvSpPr/>
          <p:nvPr/>
        </p:nvSpPr>
        <p:spPr>
          <a:xfrm>
            <a:off x="4475160" y="2008080"/>
            <a:ext cx="0" cy="98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4475160" y="3546360"/>
            <a:ext cx="0" cy="321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4757760" y="335448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4827600" y="3681360"/>
            <a:ext cx="3430440" cy="19209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An infinite range of variabl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shape and size possibilities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exist for the actual cylinder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feature, but it must be withi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the limits of size called out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on the drawing.</a:t>
            </a:r>
            <a:endParaRPr b="0" lang="en-US" sz="2000" spc="-1" strike="noStrike">
              <a:solidFill>
                <a:srgbClr val="000000"/>
              </a:solidFill>
              <a:latin typeface="Arial"/>
            </a:endParaRPr>
          </a:p>
        </p:txBody>
      </p:sp>
      <p:sp>
        <p:nvSpPr>
          <p:cNvPr id="868"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869" name=""/>
          <p:cNvSpPr/>
          <p:nvPr/>
        </p:nvSpPr>
        <p:spPr>
          <a:xfrm>
            <a:off x="1684440" y="1100160"/>
            <a:ext cx="1678320" cy="1360800"/>
          </a:xfrm>
          <a:custGeom>
            <a:avLst/>
            <a:gdLst/>
            <a:ahLst/>
            <a:rect l="0" t="0" r="r" b="b"/>
            <a:pathLst>
              <a:path w="4662" h="3780">
                <a:moveTo>
                  <a:pt x="0" y="1724"/>
                </a:moveTo>
                <a:lnTo>
                  <a:pt x="335" y="1807"/>
                </a:lnTo>
                <a:lnTo>
                  <a:pt x="463" y="1892"/>
                </a:lnTo>
                <a:lnTo>
                  <a:pt x="586" y="2060"/>
                </a:lnTo>
                <a:lnTo>
                  <a:pt x="630" y="2188"/>
                </a:lnTo>
                <a:lnTo>
                  <a:pt x="798" y="2311"/>
                </a:lnTo>
                <a:lnTo>
                  <a:pt x="881" y="2439"/>
                </a:lnTo>
                <a:lnTo>
                  <a:pt x="965" y="2607"/>
                </a:lnTo>
                <a:lnTo>
                  <a:pt x="1049" y="2774"/>
                </a:lnTo>
                <a:lnTo>
                  <a:pt x="1177" y="2858"/>
                </a:lnTo>
                <a:lnTo>
                  <a:pt x="1300" y="2986"/>
                </a:lnTo>
                <a:lnTo>
                  <a:pt x="1468" y="3153"/>
                </a:lnTo>
                <a:lnTo>
                  <a:pt x="1596" y="3277"/>
                </a:lnTo>
                <a:lnTo>
                  <a:pt x="1763" y="3361"/>
                </a:lnTo>
                <a:lnTo>
                  <a:pt x="1891" y="3405"/>
                </a:lnTo>
                <a:lnTo>
                  <a:pt x="2059" y="3489"/>
                </a:lnTo>
                <a:lnTo>
                  <a:pt x="2563" y="3528"/>
                </a:lnTo>
                <a:lnTo>
                  <a:pt x="2898" y="3572"/>
                </a:lnTo>
                <a:lnTo>
                  <a:pt x="3065" y="3656"/>
                </a:lnTo>
                <a:lnTo>
                  <a:pt x="3193" y="3740"/>
                </a:lnTo>
                <a:lnTo>
                  <a:pt x="3444" y="3780"/>
                </a:lnTo>
                <a:lnTo>
                  <a:pt x="4662" y="2523"/>
                </a:lnTo>
                <a:lnTo>
                  <a:pt x="1093" y="0"/>
                </a:lnTo>
                <a:lnTo>
                  <a:pt x="0" y="172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2878200" y="4805280"/>
            <a:ext cx="1286280" cy="1618200"/>
          </a:xfrm>
          <a:custGeom>
            <a:avLst/>
            <a:gdLst/>
            <a:ahLst/>
            <a:rect l="0" t="0" r="r" b="b"/>
            <a:pathLst>
              <a:path w="3573" h="4495">
                <a:moveTo>
                  <a:pt x="2227" y="0"/>
                </a:moveTo>
                <a:lnTo>
                  <a:pt x="2060" y="123"/>
                </a:lnTo>
                <a:lnTo>
                  <a:pt x="1932" y="207"/>
                </a:lnTo>
                <a:lnTo>
                  <a:pt x="1808" y="335"/>
                </a:lnTo>
                <a:lnTo>
                  <a:pt x="1681" y="502"/>
                </a:lnTo>
                <a:lnTo>
                  <a:pt x="1597" y="670"/>
                </a:lnTo>
                <a:lnTo>
                  <a:pt x="1513" y="798"/>
                </a:lnTo>
                <a:lnTo>
                  <a:pt x="1345" y="965"/>
                </a:lnTo>
                <a:lnTo>
                  <a:pt x="1178" y="1134"/>
                </a:lnTo>
                <a:lnTo>
                  <a:pt x="1094" y="1301"/>
                </a:lnTo>
                <a:lnTo>
                  <a:pt x="1050" y="1469"/>
                </a:lnTo>
                <a:lnTo>
                  <a:pt x="1010" y="1597"/>
                </a:lnTo>
                <a:lnTo>
                  <a:pt x="927" y="1764"/>
                </a:lnTo>
                <a:lnTo>
                  <a:pt x="881" y="1932"/>
                </a:lnTo>
                <a:lnTo>
                  <a:pt x="842" y="2100"/>
                </a:lnTo>
                <a:lnTo>
                  <a:pt x="798" y="2267"/>
                </a:lnTo>
                <a:lnTo>
                  <a:pt x="842" y="2395"/>
                </a:lnTo>
                <a:lnTo>
                  <a:pt x="798" y="2563"/>
                </a:lnTo>
                <a:lnTo>
                  <a:pt x="674" y="2730"/>
                </a:lnTo>
                <a:lnTo>
                  <a:pt x="546" y="2854"/>
                </a:lnTo>
                <a:lnTo>
                  <a:pt x="463" y="2981"/>
                </a:lnTo>
                <a:lnTo>
                  <a:pt x="379" y="3149"/>
                </a:lnTo>
                <a:lnTo>
                  <a:pt x="339" y="3277"/>
                </a:lnTo>
                <a:lnTo>
                  <a:pt x="251" y="3445"/>
                </a:lnTo>
                <a:lnTo>
                  <a:pt x="167" y="3613"/>
                </a:lnTo>
                <a:lnTo>
                  <a:pt x="44" y="3904"/>
                </a:lnTo>
                <a:lnTo>
                  <a:pt x="0" y="4032"/>
                </a:lnTo>
                <a:lnTo>
                  <a:pt x="2775" y="4495"/>
                </a:lnTo>
                <a:lnTo>
                  <a:pt x="3573" y="374"/>
                </a:lnTo>
                <a:lnTo>
                  <a:pt x="2227"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txBox="1"/>
          <p:nvPr/>
        </p:nvSpPr>
        <p:spPr>
          <a:xfrm>
            <a:off x="488880" y="5724360"/>
            <a:ext cx="192096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Upper size limit</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15.0mm)</a:t>
            </a:r>
            <a:endParaRPr b="0" lang="en-US" sz="2000" spc="-1" strike="noStrike">
              <a:solidFill>
                <a:srgbClr val="000000"/>
              </a:solidFill>
              <a:latin typeface="Arial"/>
            </a:endParaRPr>
          </a:p>
        </p:txBody>
      </p:sp>
      <p:grpSp>
        <p:nvGrpSpPr>
          <p:cNvPr id="872" name=""/>
          <p:cNvGrpSpPr/>
          <p:nvPr/>
        </p:nvGrpSpPr>
        <p:grpSpPr>
          <a:xfrm>
            <a:off x="738360" y="6080040"/>
            <a:ext cx="196560" cy="196920"/>
            <a:chOff x="738360" y="6080040"/>
            <a:chExt cx="196560" cy="196920"/>
          </a:xfrm>
        </p:grpSpPr>
        <p:sp>
          <p:nvSpPr>
            <p:cNvPr id="873" name=""/>
            <p:cNvSpPr/>
            <p:nvPr/>
          </p:nvSpPr>
          <p:spPr>
            <a:xfrm>
              <a:off x="754200" y="6097680"/>
              <a:ext cx="166680" cy="1666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flipH="1">
              <a:off x="738360" y="6080040"/>
              <a:ext cx="196560" cy="196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5" name=""/>
          <p:cNvSpPr/>
          <p:nvPr/>
        </p:nvSpPr>
        <p:spPr>
          <a:xfrm flipH="1">
            <a:off x="307800" y="5862600"/>
            <a:ext cx="21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flipV="1">
            <a:off x="307800" y="4925880"/>
            <a:ext cx="1633680" cy="936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txBox="1"/>
          <p:nvPr/>
        </p:nvSpPr>
        <p:spPr>
          <a:xfrm>
            <a:off x="2548080" y="1204920"/>
            <a:ext cx="335916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Lower size limit (    14.5mm)</a:t>
            </a:r>
            <a:endParaRPr b="0" lang="en-US" sz="2000" spc="-1" strike="noStrike">
              <a:solidFill>
                <a:srgbClr val="000000"/>
              </a:solidFill>
              <a:latin typeface="Arial"/>
            </a:endParaRPr>
          </a:p>
        </p:txBody>
      </p:sp>
      <p:grpSp>
        <p:nvGrpSpPr>
          <p:cNvPr id="878" name=""/>
          <p:cNvGrpSpPr/>
          <p:nvPr/>
        </p:nvGrpSpPr>
        <p:grpSpPr>
          <a:xfrm>
            <a:off x="4562640" y="1301760"/>
            <a:ext cx="196560" cy="196920"/>
            <a:chOff x="4562640" y="1301760"/>
            <a:chExt cx="196560" cy="196920"/>
          </a:xfrm>
        </p:grpSpPr>
        <p:sp>
          <p:nvSpPr>
            <p:cNvPr id="879" name=""/>
            <p:cNvSpPr/>
            <p:nvPr/>
          </p:nvSpPr>
          <p:spPr>
            <a:xfrm>
              <a:off x="4578480" y="1319040"/>
              <a:ext cx="166680" cy="1666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flipH="1">
              <a:off x="4562640" y="1301760"/>
              <a:ext cx="196560" cy="196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1" name=""/>
          <p:cNvGrpSpPr/>
          <p:nvPr/>
        </p:nvGrpSpPr>
        <p:grpSpPr>
          <a:xfrm>
            <a:off x="3059280" y="1417680"/>
            <a:ext cx="3348000" cy="3348000"/>
            <a:chOff x="3059280" y="1417680"/>
            <a:chExt cx="3348000" cy="3348000"/>
          </a:xfrm>
        </p:grpSpPr>
        <p:sp>
          <p:nvSpPr>
            <p:cNvPr id="882" name=""/>
            <p:cNvSpPr/>
            <p:nvPr/>
          </p:nvSpPr>
          <p:spPr>
            <a:xfrm flipV="1">
              <a:off x="3059280" y="1417680"/>
              <a:ext cx="3348000" cy="3348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flipH="1">
              <a:off x="5892840" y="1417680"/>
              <a:ext cx="51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8" name=""/>
          <p:cNvGrpSpPr/>
          <p:nvPr/>
        </p:nvGrpSpPr>
        <p:grpSpPr>
          <a:xfrm>
            <a:off x="0" y="101520"/>
            <a:ext cx="9020160" cy="6743880"/>
            <a:chOff x="0" y="101520"/>
            <a:chExt cx="9020160" cy="6743880"/>
          </a:xfrm>
        </p:grpSpPr>
        <p:sp>
          <p:nvSpPr>
            <p:cNvPr id="39"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2"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7"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4"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99"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 name=""/>
            <p:cNvGrpSpPr/>
            <p:nvPr/>
          </p:nvGrpSpPr>
          <p:grpSpPr>
            <a:xfrm>
              <a:off x="7902720" y="1098720"/>
              <a:ext cx="204480" cy="193680"/>
              <a:chOff x="7902720" y="1098720"/>
              <a:chExt cx="204480" cy="193680"/>
            </a:xfrm>
          </p:grpSpPr>
          <p:sp>
            <p:nvSpPr>
              <p:cNvPr id="12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2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2"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3"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4"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 name=""/>
            <p:cNvGrpSpPr/>
            <p:nvPr/>
          </p:nvGrpSpPr>
          <p:grpSpPr>
            <a:xfrm>
              <a:off x="6835680" y="396720"/>
              <a:ext cx="279360" cy="292320"/>
              <a:chOff x="6835680" y="396720"/>
              <a:chExt cx="279360" cy="292320"/>
            </a:xfrm>
          </p:grpSpPr>
          <p:sp>
            <p:nvSpPr>
              <p:cNvPr id="136"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4"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 name=""/>
            <p:cNvGrpSpPr/>
            <p:nvPr/>
          </p:nvGrpSpPr>
          <p:grpSpPr>
            <a:xfrm>
              <a:off x="5981760" y="5961240"/>
              <a:ext cx="190440" cy="196560"/>
              <a:chOff x="5981760" y="5961240"/>
              <a:chExt cx="190440" cy="196560"/>
            </a:xfrm>
          </p:grpSpPr>
          <p:sp>
            <p:nvSpPr>
              <p:cNvPr id="15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4" name=""/>
            <p:cNvGrpSpPr/>
            <p:nvPr/>
          </p:nvGrpSpPr>
          <p:grpSpPr>
            <a:xfrm>
              <a:off x="6891480" y="6418440"/>
              <a:ext cx="190440" cy="196560"/>
              <a:chOff x="6891480" y="6418440"/>
              <a:chExt cx="190440" cy="196560"/>
            </a:xfrm>
          </p:grpSpPr>
          <p:sp>
            <p:nvSpPr>
              <p:cNvPr id="15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6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6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2"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 name=""/>
            <p:cNvGrpSpPr/>
            <p:nvPr/>
          </p:nvGrpSpPr>
          <p:grpSpPr>
            <a:xfrm>
              <a:off x="7164360" y="422280"/>
              <a:ext cx="204840" cy="193680"/>
              <a:chOff x="7164360" y="422280"/>
              <a:chExt cx="204840" cy="193680"/>
            </a:xfrm>
          </p:grpSpPr>
          <p:sp>
            <p:nvSpPr>
              <p:cNvPr id="179"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7340760" y="184320"/>
              <a:ext cx="163440" cy="155520"/>
              <a:chOff x="7340760" y="184320"/>
              <a:chExt cx="163440" cy="155520"/>
            </a:xfrm>
          </p:grpSpPr>
          <p:sp>
            <p:nvSpPr>
              <p:cNvPr id="182"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2940120" y="1822320"/>
              <a:ext cx="204840" cy="193680"/>
              <a:chOff x="2940120" y="1822320"/>
              <a:chExt cx="204840" cy="193680"/>
            </a:xfrm>
          </p:grpSpPr>
          <p:sp>
            <p:nvSpPr>
              <p:cNvPr id="185"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88"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2"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4"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6"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1"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2"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5"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2998800" y="985680"/>
              <a:ext cx="279360" cy="292320"/>
              <a:chOff x="2998800" y="985680"/>
              <a:chExt cx="279360" cy="292320"/>
            </a:xfrm>
          </p:grpSpPr>
          <p:sp>
            <p:nvSpPr>
              <p:cNvPr id="207"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0"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1" name=""/>
            <p:cNvGrpSpPr/>
            <p:nvPr/>
          </p:nvGrpSpPr>
          <p:grpSpPr>
            <a:xfrm>
              <a:off x="3355920" y="1035000"/>
              <a:ext cx="204840" cy="193680"/>
              <a:chOff x="3355920" y="1035000"/>
              <a:chExt cx="204840" cy="193680"/>
            </a:xfrm>
          </p:grpSpPr>
          <p:sp>
            <p:nvSpPr>
              <p:cNvPr id="212"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5"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27"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3"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4"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39"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 name=""/>
            <p:cNvGrpSpPr/>
            <p:nvPr/>
          </p:nvGrpSpPr>
          <p:grpSpPr>
            <a:xfrm>
              <a:off x="501480" y="146160"/>
              <a:ext cx="204840" cy="193680"/>
              <a:chOff x="501480" y="146160"/>
              <a:chExt cx="204840" cy="193680"/>
            </a:xfrm>
          </p:grpSpPr>
          <p:sp>
            <p:nvSpPr>
              <p:cNvPr id="245"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48"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5"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59"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3"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1"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1"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4"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6"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 name=""/>
            <p:cNvGrpSpPr/>
            <p:nvPr/>
          </p:nvGrpSpPr>
          <p:grpSpPr>
            <a:xfrm>
              <a:off x="3422520" y="4789440"/>
              <a:ext cx="204840" cy="193680"/>
              <a:chOff x="3422520" y="4789440"/>
              <a:chExt cx="204840" cy="193680"/>
            </a:xfrm>
          </p:grpSpPr>
          <p:sp>
            <p:nvSpPr>
              <p:cNvPr id="299"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1"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2"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6"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07"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84" name=""/>
          <p:cNvSpPr/>
          <p:nvPr/>
        </p:nvSpPr>
        <p:spPr>
          <a:xfrm>
            <a:off x="1521000" y="392040"/>
            <a:ext cx="5940360" cy="5942160"/>
          </a:xfrm>
          <a:prstGeom prst="ellipse">
            <a:avLst/>
          </a:prstGeom>
          <a:blipFill rotWithShape="0">
            <a:blip r:embed="rId1"/>
            <a:tile tx="0" ty="0" sx="133018" sy="133018" algn="ctr"/>
          </a:blip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2470320" y="1344600"/>
            <a:ext cx="4022640" cy="402264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4475160" y="3125880"/>
            <a:ext cx="0" cy="31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1152360" y="3354480"/>
            <a:ext cx="305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4321080" y="3354480"/>
            <a:ext cx="31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2417760" y="1224000"/>
            <a:ext cx="4180320" cy="4254840"/>
          </a:xfrm>
          <a:custGeom>
            <a:avLst/>
            <a:gdLst/>
            <a:ahLst/>
            <a:rect l="0" t="0" r="r" b="b"/>
            <a:pathLst>
              <a:path fill="none" w="11612" h="11819">
                <a:moveTo>
                  <a:pt x="5649" y="39"/>
                </a:moveTo>
                <a:lnTo>
                  <a:pt x="5453" y="0"/>
                </a:lnTo>
                <a:lnTo>
                  <a:pt x="5322" y="52"/>
                </a:lnTo>
                <a:lnTo>
                  <a:pt x="5178" y="52"/>
                </a:lnTo>
                <a:lnTo>
                  <a:pt x="5087" y="91"/>
                </a:lnTo>
                <a:lnTo>
                  <a:pt x="4969" y="78"/>
                </a:lnTo>
                <a:lnTo>
                  <a:pt x="4786" y="13"/>
                </a:lnTo>
                <a:lnTo>
                  <a:pt x="4668" y="52"/>
                </a:lnTo>
                <a:lnTo>
                  <a:pt x="4355" y="52"/>
                </a:lnTo>
                <a:lnTo>
                  <a:pt x="4237" y="130"/>
                </a:lnTo>
                <a:lnTo>
                  <a:pt x="4119" y="169"/>
                </a:lnTo>
                <a:lnTo>
                  <a:pt x="4002" y="248"/>
                </a:lnTo>
                <a:lnTo>
                  <a:pt x="3884" y="326"/>
                </a:lnTo>
                <a:lnTo>
                  <a:pt x="3766" y="444"/>
                </a:lnTo>
                <a:lnTo>
                  <a:pt x="3648" y="562"/>
                </a:lnTo>
                <a:lnTo>
                  <a:pt x="3518" y="588"/>
                </a:lnTo>
                <a:lnTo>
                  <a:pt x="3400" y="679"/>
                </a:lnTo>
                <a:lnTo>
                  <a:pt x="3178" y="640"/>
                </a:lnTo>
                <a:lnTo>
                  <a:pt x="3021" y="719"/>
                </a:lnTo>
                <a:lnTo>
                  <a:pt x="2969" y="823"/>
                </a:lnTo>
                <a:lnTo>
                  <a:pt x="2811" y="941"/>
                </a:lnTo>
                <a:lnTo>
                  <a:pt x="2732" y="1137"/>
                </a:lnTo>
                <a:lnTo>
                  <a:pt x="2628" y="1150"/>
                </a:lnTo>
                <a:lnTo>
                  <a:pt x="2471" y="1255"/>
                </a:lnTo>
                <a:lnTo>
                  <a:pt x="2314" y="1333"/>
                </a:lnTo>
                <a:lnTo>
                  <a:pt x="2275" y="1464"/>
                </a:lnTo>
                <a:lnTo>
                  <a:pt x="2157" y="1503"/>
                </a:lnTo>
                <a:lnTo>
                  <a:pt x="2000" y="1581"/>
                </a:lnTo>
                <a:lnTo>
                  <a:pt x="1882" y="1660"/>
                </a:lnTo>
                <a:lnTo>
                  <a:pt x="1765" y="1738"/>
                </a:lnTo>
                <a:lnTo>
                  <a:pt x="1647" y="1817"/>
                </a:lnTo>
                <a:lnTo>
                  <a:pt x="1529" y="1934"/>
                </a:lnTo>
                <a:lnTo>
                  <a:pt x="1412" y="2013"/>
                </a:lnTo>
                <a:lnTo>
                  <a:pt x="1333" y="2130"/>
                </a:lnTo>
                <a:lnTo>
                  <a:pt x="1255" y="2248"/>
                </a:lnTo>
                <a:lnTo>
                  <a:pt x="1176" y="2405"/>
                </a:lnTo>
                <a:lnTo>
                  <a:pt x="1098" y="2562"/>
                </a:lnTo>
                <a:lnTo>
                  <a:pt x="784" y="2719"/>
                </a:lnTo>
                <a:lnTo>
                  <a:pt x="666" y="2876"/>
                </a:lnTo>
                <a:lnTo>
                  <a:pt x="588" y="3032"/>
                </a:lnTo>
                <a:lnTo>
                  <a:pt x="549" y="3189"/>
                </a:lnTo>
                <a:lnTo>
                  <a:pt x="549" y="3425"/>
                </a:lnTo>
                <a:lnTo>
                  <a:pt x="549" y="3542"/>
                </a:lnTo>
                <a:lnTo>
                  <a:pt x="392" y="3804"/>
                </a:lnTo>
                <a:lnTo>
                  <a:pt x="431" y="3934"/>
                </a:lnTo>
                <a:lnTo>
                  <a:pt x="392" y="4052"/>
                </a:lnTo>
                <a:lnTo>
                  <a:pt x="313" y="4327"/>
                </a:lnTo>
                <a:lnTo>
                  <a:pt x="235" y="4444"/>
                </a:lnTo>
                <a:lnTo>
                  <a:pt x="235" y="4562"/>
                </a:lnTo>
                <a:lnTo>
                  <a:pt x="156" y="4719"/>
                </a:lnTo>
                <a:lnTo>
                  <a:pt x="156" y="5033"/>
                </a:lnTo>
                <a:lnTo>
                  <a:pt x="156" y="5150"/>
                </a:lnTo>
                <a:lnTo>
                  <a:pt x="117" y="5268"/>
                </a:lnTo>
                <a:lnTo>
                  <a:pt x="78" y="5425"/>
                </a:lnTo>
                <a:lnTo>
                  <a:pt x="78" y="5582"/>
                </a:lnTo>
                <a:lnTo>
                  <a:pt x="39" y="5699"/>
                </a:lnTo>
                <a:lnTo>
                  <a:pt x="0" y="5817"/>
                </a:lnTo>
                <a:lnTo>
                  <a:pt x="0" y="5975"/>
                </a:lnTo>
                <a:lnTo>
                  <a:pt x="0" y="6093"/>
                </a:lnTo>
                <a:lnTo>
                  <a:pt x="0" y="6210"/>
                </a:lnTo>
                <a:lnTo>
                  <a:pt x="0" y="6524"/>
                </a:lnTo>
                <a:lnTo>
                  <a:pt x="0" y="6642"/>
                </a:lnTo>
                <a:lnTo>
                  <a:pt x="0" y="6759"/>
                </a:lnTo>
                <a:lnTo>
                  <a:pt x="39" y="6877"/>
                </a:lnTo>
                <a:lnTo>
                  <a:pt x="39" y="6995"/>
                </a:lnTo>
                <a:lnTo>
                  <a:pt x="39" y="7230"/>
                </a:lnTo>
                <a:lnTo>
                  <a:pt x="78" y="7348"/>
                </a:lnTo>
                <a:lnTo>
                  <a:pt x="117" y="7661"/>
                </a:lnTo>
                <a:lnTo>
                  <a:pt x="196" y="7936"/>
                </a:lnTo>
                <a:lnTo>
                  <a:pt x="235" y="8054"/>
                </a:lnTo>
                <a:lnTo>
                  <a:pt x="313" y="8210"/>
                </a:lnTo>
                <a:lnTo>
                  <a:pt x="392" y="8367"/>
                </a:lnTo>
                <a:lnTo>
                  <a:pt x="431" y="8485"/>
                </a:lnTo>
                <a:lnTo>
                  <a:pt x="470" y="8603"/>
                </a:lnTo>
                <a:lnTo>
                  <a:pt x="549" y="8838"/>
                </a:lnTo>
                <a:lnTo>
                  <a:pt x="627" y="8956"/>
                </a:lnTo>
                <a:lnTo>
                  <a:pt x="862" y="9034"/>
                </a:lnTo>
                <a:lnTo>
                  <a:pt x="941" y="9152"/>
                </a:lnTo>
                <a:lnTo>
                  <a:pt x="1059" y="9269"/>
                </a:lnTo>
                <a:lnTo>
                  <a:pt x="1098" y="9544"/>
                </a:lnTo>
                <a:lnTo>
                  <a:pt x="1176" y="9661"/>
                </a:lnTo>
                <a:lnTo>
                  <a:pt x="1294" y="10014"/>
                </a:lnTo>
                <a:lnTo>
                  <a:pt x="1372" y="10171"/>
                </a:lnTo>
                <a:lnTo>
                  <a:pt x="1490" y="10250"/>
                </a:lnTo>
                <a:lnTo>
                  <a:pt x="1725" y="10328"/>
                </a:lnTo>
                <a:lnTo>
                  <a:pt x="2118" y="10446"/>
                </a:lnTo>
                <a:lnTo>
                  <a:pt x="2431" y="10681"/>
                </a:lnTo>
                <a:lnTo>
                  <a:pt x="2706" y="10799"/>
                </a:lnTo>
                <a:lnTo>
                  <a:pt x="3060" y="10956"/>
                </a:lnTo>
                <a:lnTo>
                  <a:pt x="3204" y="11021"/>
                </a:lnTo>
                <a:lnTo>
                  <a:pt x="3374" y="11100"/>
                </a:lnTo>
                <a:lnTo>
                  <a:pt x="3766" y="11505"/>
                </a:lnTo>
                <a:lnTo>
                  <a:pt x="4198" y="11583"/>
                </a:lnTo>
                <a:lnTo>
                  <a:pt x="4590" y="11622"/>
                </a:lnTo>
                <a:lnTo>
                  <a:pt x="4708" y="11662"/>
                </a:lnTo>
                <a:lnTo>
                  <a:pt x="5178" y="11740"/>
                </a:lnTo>
                <a:lnTo>
                  <a:pt x="5492" y="11819"/>
                </a:lnTo>
                <a:lnTo>
                  <a:pt x="5727" y="11740"/>
                </a:lnTo>
                <a:lnTo>
                  <a:pt x="5845" y="11740"/>
                </a:lnTo>
                <a:lnTo>
                  <a:pt x="5963" y="11701"/>
                </a:lnTo>
                <a:lnTo>
                  <a:pt x="6067" y="11649"/>
                </a:lnTo>
                <a:lnTo>
                  <a:pt x="6264" y="11583"/>
                </a:lnTo>
                <a:lnTo>
                  <a:pt x="6460" y="11583"/>
                </a:lnTo>
                <a:lnTo>
                  <a:pt x="6590" y="11583"/>
                </a:lnTo>
                <a:lnTo>
                  <a:pt x="6943" y="11583"/>
                </a:lnTo>
                <a:lnTo>
                  <a:pt x="7100" y="11583"/>
                </a:lnTo>
                <a:lnTo>
                  <a:pt x="7336" y="11583"/>
                </a:lnTo>
                <a:lnTo>
                  <a:pt x="7610" y="11583"/>
                </a:lnTo>
                <a:lnTo>
                  <a:pt x="7767" y="11544"/>
                </a:lnTo>
                <a:lnTo>
                  <a:pt x="7885" y="11505"/>
                </a:lnTo>
                <a:lnTo>
                  <a:pt x="8003" y="11426"/>
                </a:lnTo>
                <a:lnTo>
                  <a:pt x="8120" y="11348"/>
                </a:lnTo>
                <a:lnTo>
                  <a:pt x="8395" y="11269"/>
                </a:lnTo>
                <a:lnTo>
                  <a:pt x="8512" y="11191"/>
                </a:lnTo>
                <a:lnTo>
                  <a:pt x="8669" y="11152"/>
                </a:lnTo>
                <a:lnTo>
                  <a:pt x="8945" y="11034"/>
                </a:lnTo>
                <a:lnTo>
                  <a:pt x="9063" y="10956"/>
                </a:lnTo>
                <a:lnTo>
                  <a:pt x="9141" y="10838"/>
                </a:lnTo>
                <a:lnTo>
                  <a:pt x="9180" y="10720"/>
                </a:lnTo>
                <a:lnTo>
                  <a:pt x="9259" y="10407"/>
                </a:lnTo>
                <a:lnTo>
                  <a:pt x="9337" y="10250"/>
                </a:lnTo>
                <a:lnTo>
                  <a:pt x="9455" y="10132"/>
                </a:lnTo>
                <a:lnTo>
                  <a:pt x="9599" y="10014"/>
                </a:lnTo>
                <a:lnTo>
                  <a:pt x="9769" y="9923"/>
                </a:lnTo>
                <a:lnTo>
                  <a:pt x="9886" y="9805"/>
                </a:lnTo>
                <a:lnTo>
                  <a:pt x="9965" y="9727"/>
                </a:lnTo>
                <a:lnTo>
                  <a:pt x="10082" y="9583"/>
                </a:lnTo>
                <a:lnTo>
                  <a:pt x="10266" y="9309"/>
                </a:lnTo>
                <a:lnTo>
                  <a:pt x="10462" y="9178"/>
                </a:lnTo>
                <a:lnTo>
                  <a:pt x="10710" y="8995"/>
                </a:lnTo>
                <a:lnTo>
                  <a:pt x="10789" y="8746"/>
                </a:lnTo>
                <a:lnTo>
                  <a:pt x="10775" y="8485"/>
                </a:lnTo>
                <a:lnTo>
                  <a:pt x="10972" y="8433"/>
                </a:lnTo>
                <a:lnTo>
                  <a:pt x="11207" y="8250"/>
                </a:lnTo>
                <a:lnTo>
                  <a:pt x="11298" y="8210"/>
                </a:lnTo>
                <a:lnTo>
                  <a:pt x="11338" y="8093"/>
                </a:lnTo>
                <a:lnTo>
                  <a:pt x="11298" y="7975"/>
                </a:lnTo>
                <a:lnTo>
                  <a:pt x="11298" y="7857"/>
                </a:lnTo>
                <a:lnTo>
                  <a:pt x="11298" y="7740"/>
                </a:lnTo>
                <a:lnTo>
                  <a:pt x="11298" y="7583"/>
                </a:lnTo>
                <a:lnTo>
                  <a:pt x="11338" y="7426"/>
                </a:lnTo>
                <a:lnTo>
                  <a:pt x="11377" y="7191"/>
                </a:lnTo>
                <a:lnTo>
                  <a:pt x="11416" y="7034"/>
                </a:lnTo>
                <a:lnTo>
                  <a:pt x="11495" y="6720"/>
                </a:lnTo>
                <a:lnTo>
                  <a:pt x="11534" y="6602"/>
                </a:lnTo>
                <a:lnTo>
                  <a:pt x="11573" y="6485"/>
                </a:lnTo>
                <a:lnTo>
                  <a:pt x="11612" y="6171"/>
                </a:lnTo>
                <a:lnTo>
                  <a:pt x="11573" y="6014"/>
                </a:lnTo>
                <a:lnTo>
                  <a:pt x="11495" y="5856"/>
                </a:lnTo>
                <a:lnTo>
                  <a:pt x="11455" y="5739"/>
                </a:lnTo>
                <a:lnTo>
                  <a:pt x="11338" y="5425"/>
                </a:lnTo>
                <a:lnTo>
                  <a:pt x="11298" y="5268"/>
                </a:lnTo>
                <a:lnTo>
                  <a:pt x="11220" y="4876"/>
                </a:lnTo>
                <a:lnTo>
                  <a:pt x="11220" y="4758"/>
                </a:lnTo>
                <a:lnTo>
                  <a:pt x="11220" y="4640"/>
                </a:lnTo>
                <a:lnTo>
                  <a:pt x="11181" y="4484"/>
                </a:lnTo>
                <a:lnTo>
                  <a:pt x="11142" y="4366"/>
                </a:lnTo>
                <a:lnTo>
                  <a:pt x="11063" y="4052"/>
                </a:lnTo>
                <a:lnTo>
                  <a:pt x="11063" y="3895"/>
                </a:lnTo>
                <a:lnTo>
                  <a:pt x="10985" y="3738"/>
                </a:lnTo>
                <a:lnTo>
                  <a:pt x="10945" y="3425"/>
                </a:lnTo>
                <a:lnTo>
                  <a:pt x="10906" y="3189"/>
                </a:lnTo>
                <a:lnTo>
                  <a:pt x="10658" y="3098"/>
                </a:lnTo>
                <a:lnTo>
                  <a:pt x="10619" y="2823"/>
                </a:lnTo>
                <a:lnTo>
                  <a:pt x="10514" y="2562"/>
                </a:lnTo>
                <a:lnTo>
                  <a:pt x="10396" y="2483"/>
                </a:lnTo>
                <a:lnTo>
                  <a:pt x="10279" y="2444"/>
                </a:lnTo>
                <a:lnTo>
                  <a:pt x="10069" y="2313"/>
                </a:lnTo>
                <a:lnTo>
                  <a:pt x="9952" y="2170"/>
                </a:lnTo>
                <a:lnTo>
                  <a:pt x="9847" y="2039"/>
                </a:lnTo>
                <a:lnTo>
                  <a:pt x="9533" y="1738"/>
                </a:lnTo>
                <a:lnTo>
                  <a:pt x="9416" y="1464"/>
                </a:lnTo>
                <a:lnTo>
                  <a:pt x="9298" y="1385"/>
                </a:lnTo>
                <a:lnTo>
                  <a:pt x="8984" y="1346"/>
                </a:lnTo>
                <a:lnTo>
                  <a:pt x="8906" y="1228"/>
                </a:lnTo>
                <a:lnTo>
                  <a:pt x="8669" y="993"/>
                </a:lnTo>
                <a:lnTo>
                  <a:pt x="8552" y="954"/>
                </a:lnTo>
                <a:lnTo>
                  <a:pt x="8277" y="640"/>
                </a:lnTo>
                <a:lnTo>
                  <a:pt x="8159" y="601"/>
                </a:lnTo>
                <a:lnTo>
                  <a:pt x="7924" y="562"/>
                </a:lnTo>
                <a:lnTo>
                  <a:pt x="7610" y="522"/>
                </a:lnTo>
                <a:lnTo>
                  <a:pt x="7296" y="287"/>
                </a:lnTo>
                <a:lnTo>
                  <a:pt x="7179" y="248"/>
                </a:lnTo>
                <a:lnTo>
                  <a:pt x="6865" y="169"/>
                </a:lnTo>
                <a:lnTo>
                  <a:pt x="6747" y="169"/>
                </a:lnTo>
                <a:lnTo>
                  <a:pt x="6434" y="156"/>
                </a:lnTo>
                <a:lnTo>
                  <a:pt x="6198" y="117"/>
                </a:lnTo>
                <a:lnTo>
                  <a:pt x="5950" y="39"/>
                </a:lnTo>
                <a:lnTo>
                  <a:pt x="5727" y="39"/>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0" name=""/>
          <p:cNvSpPr/>
          <p:nvPr/>
        </p:nvSpPr>
        <p:spPr>
          <a:xfrm>
            <a:off x="1468440" y="-98280"/>
            <a:ext cx="7063200" cy="6733080"/>
          </a:xfrm>
          <a:custGeom>
            <a:avLst/>
            <a:gdLst/>
            <a:ahLst/>
            <a:rect l="0" t="0" r="r" b="b"/>
            <a:pathLst>
              <a:path w="19620" h="18703">
                <a:moveTo>
                  <a:pt x="0" y="4078"/>
                </a:moveTo>
                <a:lnTo>
                  <a:pt x="5660" y="8263"/>
                </a:lnTo>
                <a:lnTo>
                  <a:pt x="9410" y="7362"/>
                </a:lnTo>
                <a:lnTo>
                  <a:pt x="9410" y="11658"/>
                </a:lnTo>
                <a:lnTo>
                  <a:pt x="3235" y="18492"/>
                </a:lnTo>
                <a:lnTo>
                  <a:pt x="19620" y="18703"/>
                </a:lnTo>
                <a:lnTo>
                  <a:pt x="18009" y="0"/>
                </a:lnTo>
                <a:lnTo>
                  <a:pt x="2308" y="740"/>
                </a:lnTo>
                <a:lnTo>
                  <a:pt x="0" y="4078"/>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1" name=""/>
          <p:cNvSpPr/>
          <p:nvPr/>
        </p:nvSpPr>
        <p:spPr>
          <a:xfrm>
            <a:off x="4475160" y="2008080"/>
            <a:ext cx="0" cy="98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4475160" y="3546360"/>
            <a:ext cx="0" cy="321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4757760" y="335448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txBox="1"/>
          <p:nvPr/>
        </p:nvSpPr>
        <p:spPr>
          <a:xfrm>
            <a:off x="4827600" y="3681360"/>
            <a:ext cx="3430440" cy="19209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An infinite range of variabl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shape and size possibilities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exist for the actual cylinder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feature, but it must be withi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the limits of size called out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on the drawing.</a:t>
            </a:r>
            <a:endParaRPr b="0" lang="en-US" sz="2000" spc="-1" strike="noStrike">
              <a:solidFill>
                <a:srgbClr val="000000"/>
              </a:solidFill>
              <a:latin typeface="Arial"/>
            </a:endParaRPr>
          </a:p>
        </p:txBody>
      </p:sp>
      <p:sp>
        <p:nvSpPr>
          <p:cNvPr id="895"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896" name=""/>
          <p:cNvSpPr/>
          <p:nvPr/>
        </p:nvSpPr>
        <p:spPr>
          <a:xfrm>
            <a:off x="1684440" y="1100160"/>
            <a:ext cx="1678320" cy="1360800"/>
          </a:xfrm>
          <a:custGeom>
            <a:avLst/>
            <a:gdLst/>
            <a:ahLst/>
            <a:rect l="0" t="0" r="r" b="b"/>
            <a:pathLst>
              <a:path w="4662" h="3780">
                <a:moveTo>
                  <a:pt x="0" y="1724"/>
                </a:moveTo>
                <a:lnTo>
                  <a:pt x="335" y="1807"/>
                </a:lnTo>
                <a:lnTo>
                  <a:pt x="463" y="1892"/>
                </a:lnTo>
                <a:lnTo>
                  <a:pt x="586" y="2060"/>
                </a:lnTo>
                <a:lnTo>
                  <a:pt x="630" y="2188"/>
                </a:lnTo>
                <a:lnTo>
                  <a:pt x="798" y="2311"/>
                </a:lnTo>
                <a:lnTo>
                  <a:pt x="881" y="2439"/>
                </a:lnTo>
                <a:lnTo>
                  <a:pt x="965" y="2607"/>
                </a:lnTo>
                <a:lnTo>
                  <a:pt x="1049" y="2774"/>
                </a:lnTo>
                <a:lnTo>
                  <a:pt x="1177" y="2858"/>
                </a:lnTo>
                <a:lnTo>
                  <a:pt x="1300" y="2986"/>
                </a:lnTo>
                <a:lnTo>
                  <a:pt x="1468" y="3153"/>
                </a:lnTo>
                <a:lnTo>
                  <a:pt x="1596" y="3277"/>
                </a:lnTo>
                <a:lnTo>
                  <a:pt x="1763" y="3361"/>
                </a:lnTo>
                <a:lnTo>
                  <a:pt x="1891" y="3405"/>
                </a:lnTo>
                <a:lnTo>
                  <a:pt x="2059" y="3489"/>
                </a:lnTo>
                <a:lnTo>
                  <a:pt x="2563" y="3528"/>
                </a:lnTo>
                <a:lnTo>
                  <a:pt x="2898" y="3572"/>
                </a:lnTo>
                <a:lnTo>
                  <a:pt x="3065" y="3656"/>
                </a:lnTo>
                <a:lnTo>
                  <a:pt x="3193" y="3740"/>
                </a:lnTo>
                <a:lnTo>
                  <a:pt x="3444" y="3780"/>
                </a:lnTo>
                <a:lnTo>
                  <a:pt x="4662" y="2523"/>
                </a:lnTo>
                <a:lnTo>
                  <a:pt x="1093" y="0"/>
                </a:lnTo>
                <a:lnTo>
                  <a:pt x="0" y="172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2878200" y="4805280"/>
            <a:ext cx="1286280" cy="1618200"/>
          </a:xfrm>
          <a:custGeom>
            <a:avLst/>
            <a:gdLst/>
            <a:ahLst/>
            <a:rect l="0" t="0" r="r" b="b"/>
            <a:pathLst>
              <a:path w="3573" h="4495">
                <a:moveTo>
                  <a:pt x="2227" y="0"/>
                </a:moveTo>
                <a:lnTo>
                  <a:pt x="2060" y="123"/>
                </a:lnTo>
                <a:lnTo>
                  <a:pt x="1932" y="207"/>
                </a:lnTo>
                <a:lnTo>
                  <a:pt x="1808" y="335"/>
                </a:lnTo>
                <a:lnTo>
                  <a:pt x="1681" y="502"/>
                </a:lnTo>
                <a:lnTo>
                  <a:pt x="1597" y="670"/>
                </a:lnTo>
                <a:lnTo>
                  <a:pt x="1513" y="798"/>
                </a:lnTo>
                <a:lnTo>
                  <a:pt x="1345" y="965"/>
                </a:lnTo>
                <a:lnTo>
                  <a:pt x="1178" y="1134"/>
                </a:lnTo>
                <a:lnTo>
                  <a:pt x="1094" y="1301"/>
                </a:lnTo>
                <a:lnTo>
                  <a:pt x="1050" y="1469"/>
                </a:lnTo>
                <a:lnTo>
                  <a:pt x="1010" y="1597"/>
                </a:lnTo>
                <a:lnTo>
                  <a:pt x="927" y="1764"/>
                </a:lnTo>
                <a:lnTo>
                  <a:pt x="881" y="1932"/>
                </a:lnTo>
                <a:lnTo>
                  <a:pt x="842" y="2100"/>
                </a:lnTo>
                <a:lnTo>
                  <a:pt x="798" y="2267"/>
                </a:lnTo>
                <a:lnTo>
                  <a:pt x="842" y="2395"/>
                </a:lnTo>
                <a:lnTo>
                  <a:pt x="798" y="2563"/>
                </a:lnTo>
                <a:lnTo>
                  <a:pt x="674" y="2730"/>
                </a:lnTo>
                <a:lnTo>
                  <a:pt x="546" y="2854"/>
                </a:lnTo>
                <a:lnTo>
                  <a:pt x="463" y="2981"/>
                </a:lnTo>
                <a:lnTo>
                  <a:pt x="379" y="3149"/>
                </a:lnTo>
                <a:lnTo>
                  <a:pt x="339" y="3277"/>
                </a:lnTo>
                <a:lnTo>
                  <a:pt x="251" y="3445"/>
                </a:lnTo>
                <a:lnTo>
                  <a:pt x="167" y="3613"/>
                </a:lnTo>
                <a:lnTo>
                  <a:pt x="44" y="3904"/>
                </a:lnTo>
                <a:lnTo>
                  <a:pt x="0" y="4032"/>
                </a:lnTo>
                <a:lnTo>
                  <a:pt x="2775" y="4495"/>
                </a:lnTo>
                <a:lnTo>
                  <a:pt x="3573" y="374"/>
                </a:lnTo>
                <a:lnTo>
                  <a:pt x="2227"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8" name=""/>
          <p:cNvSpPr txBox="1"/>
          <p:nvPr/>
        </p:nvSpPr>
        <p:spPr>
          <a:xfrm>
            <a:off x="488880" y="5724360"/>
            <a:ext cx="192096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Upper size limit</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15.0mm)</a:t>
            </a:r>
            <a:endParaRPr b="0" lang="en-US" sz="2000" spc="-1" strike="noStrike">
              <a:solidFill>
                <a:srgbClr val="000000"/>
              </a:solidFill>
              <a:latin typeface="Arial"/>
            </a:endParaRPr>
          </a:p>
        </p:txBody>
      </p:sp>
      <p:grpSp>
        <p:nvGrpSpPr>
          <p:cNvPr id="899" name=""/>
          <p:cNvGrpSpPr/>
          <p:nvPr/>
        </p:nvGrpSpPr>
        <p:grpSpPr>
          <a:xfrm>
            <a:off x="738360" y="6080040"/>
            <a:ext cx="196560" cy="196920"/>
            <a:chOff x="738360" y="6080040"/>
            <a:chExt cx="196560" cy="196920"/>
          </a:xfrm>
        </p:grpSpPr>
        <p:sp>
          <p:nvSpPr>
            <p:cNvPr id="900" name=""/>
            <p:cNvSpPr/>
            <p:nvPr/>
          </p:nvSpPr>
          <p:spPr>
            <a:xfrm>
              <a:off x="754200" y="6097680"/>
              <a:ext cx="166680" cy="1666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flipH="1">
              <a:off x="738360" y="6080040"/>
              <a:ext cx="196560" cy="196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2" name=""/>
          <p:cNvSpPr/>
          <p:nvPr/>
        </p:nvSpPr>
        <p:spPr>
          <a:xfrm flipH="1">
            <a:off x="307800" y="5862600"/>
            <a:ext cx="21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flipV="1">
            <a:off x="307800" y="4925880"/>
            <a:ext cx="1633680" cy="936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txBox="1"/>
          <p:nvPr/>
        </p:nvSpPr>
        <p:spPr>
          <a:xfrm>
            <a:off x="2548080" y="1204920"/>
            <a:ext cx="335916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Lower size limit (    14.5mm)</a:t>
            </a:r>
            <a:endParaRPr b="0" lang="en-US" sz="2000" spc="-1" strike="noStrike">
              <a:solidFill>
                <a:srgbClr val="000000"/>
              </a:solidFill>
              <a:latin typeface="Arial"/>
            </a:endParaRPr>
          </a:p>
        </p:txBody>
      </p:sp>
      <p:grpSp>
        <p:nvGrpSpPr>
          <p:cNvPr id="905" name=""/>
          <p:cNvGrpSpPr/>
          <p:nvPr/>
        </p:nvGrpSpPr>
        <p:grpSpPr>
          <a:xfrm>
            <a:off x="4562640" y="1301760"/>
            <a:ext cx="196560" cy="196920"/>
            <a:chOff x="4562640" y="1301760"/>
            <a:chExt cx="196560" cy="196920"/>
          </a:xfrm>
        </p:grpSpPr>
        <p:sp>
          <p:nvSpPr>
            <p:cNvPr id="906" name=""/>
            <p:cNvSpPr/>
            <p:nvPr/>
          </p:nvSpPr>
          <p:spPr>
            <a:xfrm>
              <a:off x="4578480" y="1319040"/>
              <a:ext cx="166680" cy="1666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flipH="1">
              <a:off x="4562640" y="1301760"/>
              <a:ext cx="196560" cy="196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8" name=""/>
          <p:cNvGrpSpPr/>
          <p:nvPr/>
        </p:nvGrpSpPr>
        <p:grpSpPr>
          <a:xfrm>
            <a:off x="3059280" y="1417680"/>
            <a:ext cx="3348000" cy="3348000"/>
            <a:chOff x="3059280" y="1417680"/>
            <a:chExt cx="3348000" cy="3348000"/>
          </a:xfrm>
        </p:grpSpPr>
        <p:sp>
          <p:nvSpPr>
            <p:cNvPr id="909" name=""/>
            <p:cNvSpPr/>
            <p:nvPr/>
          </p:nvSpPr>
          <p:spPr>
            <a:xfrm flipV="1">
              <a:off x="3059280" y="1417680"/>
              <a:ext cx="3348000" cy="3348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flipH="1">
              <a:off x="5892840" y="1417680"/>
              <a:ext cx="51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1" name=""/>
          <p:cNvSpPr txBox="1"/>
          <p:nvPr/>
        </p:nvSpPr>
        <p:spPr>
          <a:xfrm>
            <a:off x="685800" y="609480"/>
            <a:ext cx="7772400" cy="6764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 / RULE #1</a:t>
            </a:r>
            <a:endParaRPr b="0" lang="en-US" sz="3600" spc="-1" strike="noStrike">
              <a:solidFill>
                <a:srgbClr val="000000"/>
              </a:solidFill>
              <a:latin typeface="Arial"/>
            </a:endParaRPr>
          </a:p>
        </p:txBody>
      </p:sp>
      <p:sp>
        <p:nvSpPr>
          <p:cNvPr id="912" name=""/>
          <p:cNvSpPr txBox="1"/>
          <p:nvPr/>
        </p:nvSpPr>
        <p:spPr>
          <a:xfrm>
            <a:off x="808200" y="2473200"/>
            <a:ext cx="7165800" cy="3567240"/>
          </a:xfrm>
          <a:prstGeom prst="rect">
            <a:avLst/>
          </a:prstGeom>
          <a:noFill/>
          <a:ln w="0">
            <a:noFill/>
          </a:ln>
        </p:spPr>
        <p:txBody>
          <a:bodyPr lIns="0" rIns="0" tIns="0" bIns="0" anchor="t">
            <a:noAutofit/>
          </a:bodyPr>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oordinate dimensioning and tolerancing and (Rule #1) automatically produce a cylindrical tolerance zone for cylindrical features.</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erfect cylindricity at MMC.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Size variation  </a:t>
            </a:r>
            <a:r>
              <a:rPr b="0" lang="en-US" sz="2800" spc="-1" strike="noStrike">
                <a:solidFill>
                  <a:srgbClr val="ffffff"/>
                </a:solidFill>
                <a:latin typeface="Times New Roman"/>
                <a:ea typeface="Times New Roman"/>
              </a:rPr>
              <a:t>and </a:t>
            </a:r>
            <a:r>
              <a:rPr b="0" lang="en-US" sz="2800" spc="-1" strike="noStrike">
                <a:solidFill>
                  <a:srgbClr val="fafd00"/>
                </a:solidFill>
                <a:latin typeface="Times New Roman"/>
                <a:ea typeface="Times New Roman"/>
              </a:rPr>
              <a:t>form error </a:t>
            </a:r>
            <a:r>
              <a:rPr b="0" lang="en-US" sz="2800" spc="-1" strike="noStrike">
                <a:solidFill>
                  <a:srgbClr val="ffffff"/>
                </a:solidFill>
                <a:latin typeface="Times New Roman"/>
                <a:ea typeface="Times New Roman"/>
              </a:rPr>
              <a:t>both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llowed as departure from MMC occurs.</a:t>
            </a:r>
            <a:endParaRPr b="0" lang="en-US" sz="2800" spc="-1" strike="noStrike">
              <a:solidFill>
                <a:srgbClr val="000000"/>
              </a:solidFill>
              <a:latin typeface="Arial"/>
            </a:endParaRPr>
          </a:p>
        </p:txBody>
      </p:sp>
      <p:sp>
        <p:nvSpPr>
          <p:cNvPr id="913" name=""/>
          <p:cNvSpPr txBox="1"/>
          <p:nvPr/>
        </p:nvSpPr>
        <p:spPr>
          <a:xfrm>
            <a:off x="685800" y="1546200"/>
            <a:ext cx="7772400" cy="1025280"/>
          </a:xfrm>
          <a:prstGeom prst="rect">
            <a:avLst/>
          </a:prstGeom>
          <a:noFill/>
          <a:ln w="0">
            <a:noFill/>
          </a:ln>
        </p:spPr>
        <p:txBody>
          <a:bodyPr lIns="0" rIns="0" tIns="0" bIns="0" anchor="t">
            <a:noAutofit/>
          </a:bodyPr>
          <a:p>
            <a:pPr algn="ctr">
              <a:lnSpc>
                <a:spcPct val="100000"/>
              </a:lnSpc>
              <a:spcBef>
                <a:spcPts val="479"/>
              </a:spcBef>
              <a:spcAft>
                <a:spcPts val="961"/>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a:p>
            <a:pPr algn="ctr">
              <a:lnSpc>
                <a:spcPct val="100000"/>
              </a:lnSpc>
              <a:spcBef>
                <a:spcPts val="479"/>
              </a:spcBef>
              <a:spcAft>
                <a:spcPts val="961"/>
              </a:spcAf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4" name=""/>
          <p:cNvSpPr txBox="1"/>
          <p:nvPr/>
        </p:nvSpPr>
        <p:spPr>
          <a:xfrm>
            <a:off x="210960" y="609480"/>
            <a:ext cx="874224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RULE #1</a:t>
            </a:r>
            <a:r>
              <a:rPr b="0" lang="en-US" sz="3600" spc="-1" strike="noStrike">
                <a:solidFill>
                  <a:srgbClr val="fafd00"/>
                </a:solidFill>
                <a:latin typeface="Times New Roman"/>
                <a:ea typeface="Times New Roman"/>
              </a:rPr>
              <a:t>  CYLINDRICITY LIMITATIONS</a:t>
            </a:r>
            <a:endParaRPr b="0" lang="en-US" sz="3600" spc="-1" strike="noStrike">
              <a:solidFill>
                <a:srgbClr val="000000"/>
              </a:solidFill>
              <a:latin typeface="Arial"/>
            </a:endParaRPr>
          </a:p>
        </p:txBody>
      </p:sp>
      <p:sp>
        <p:nvSpPr>
          <p:cNvPr id="915" name=""/>
          <p:cNvSpPr txBox="1"/>
          <p:nvPr/>
        </p:nvSpPr>
        <p:spPr>
          <a:xfrm>
            <a:off x="685800" y="2181240"/>
            <a:ext cx="8120160" cy="3068640"/>
          </a:xfrm>
          <a:prstGeom prst="rect">
            <a:avLst/>
          </a:prstGeom>
          <a:noFill/>
          <a:ln w="0">
            <a:noFill/>
          </a:ln>
        </p:spPr>
        <p:txBody>
          <a:bodyPr lIns="0" rIns="0" tIns="0" bIns="0" anchor="t">
            <a:noAutofit/>
          </a:bodyPr>
          <a:p>
            <a:pPr marL="343080" indent="-343080">
              <a:lnSpc>
                <a:spcPct val="100000"/>
              </a:lnSpc>
              <a:spcBef>
                <a:spcPts val="479"/>
              </a:spcBef>
              <a:spcAft>
                <a:spcPts val="601"/>
              </a:spcAft>
              <a:buClr>
                <a:srgbClr val="000000"/>
              </a:buClr>
              <a:buFont typeface="Monotype Sorts"/>
              <a:buChar char=""/>
            </a:pPr>
            <a:r>
              <a:rPr b="0" lang="en-US" sz="2800" spc="-1" strike="noStrike">
                <a:solidFill>
                  <a:srgbClr val="ffffff"/>
                </a:solidFill>
                <a:latin typeface="Times New Roman"/>
                <a:ea typeface="Times New Roman"/>
              </a:rPr>
              <a:t>All elements of a cylindrical surface must lie within a zone defined by two cylinders, equal to the maximum and minimum limits of the feature size dimens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ylindricity is limited to one-half the diameter tolerance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6" name=""/>
          <p:cNvSpPr txBox="1"/>
          <p:nvPr/>
        </p:nvSpPr>
        <p:spPr>
          <a:xfrm>
            <a:off x="1658880" y="2728800"/>
            <a:ext cx="5673600" cy="1311120"/>
          </a:xfrm>
          <a:prstGeom prst="rect">
            <a:avLst/>
          </a:prstGeom>
          <a:noFill/>
          <a:ln w="0">
            <a:noFill/>
          </a:ln>
        </p:spPr>
        <p:txBody>
          <a:bodyPr lIns="0" rIns="0" tIns="0" bIns="0" anchor="t">
            <a:noAutofit/>
          </a:bodyPr>
          <a:p>
            <a:pPr algn="ctr">
              <a:lnSpc>
                <a:spcPct val="100000"/>
              </a:lnSpc>
            </a:pPr>
            <a:r>
              <a:rPr b="0" lang="en-US" sz="4000" spc="-1" strike="noStrike">
                <a:solidFill>
                  <a:srgbClr val="ffffff"/>
                </a:solidFill>
                <a:latin typeface="Times New Roman"/>
                <a:ea typeface="Times New Roman"/>
              </a:rPr>
              <a:t>GEOMETRIC CONTROL</a:t>
            </a:r>
            <a:endParaRPr b="0" lang="en-US" sz="4000" spc="-1" strike="noStrike">
              <a:solidFill>
                <a:srgbClr val="000000"/>
              </a:solidFill>
              <a:latin typeface="Arial"/>
            </a:endParaRPr>
          </a:p>
          <a:p>
            <a:pPr algn="ctr">
              <a:lnSpc>
                <a:spcPct val="100000"/>
              </a:lnSpc>
            </a:pPr>
            <a:r>
              <a:rPr b="0" lang="en-US" sz="4000" spc="-1" strike="noStrike">
                <a:solidFill>
                  <a:srgbClr val="ffffff"/>
                </a:solidFill>
                <a:latin typeface="Times New Roman"/>
                <a:ea typeface="Times New Roman"/>
              </a:rPr>
              <a:t>FOR CYLINDRICITY</a:t>
            </a:r>
            <a:endParaRPr b="0" lang="en-US" sz="4000" spc="-1" strike="noStrike">
              <a:solidFill>
                <a:srgbClr val="000000"/>
              </a:solidFill>
              <a:latin typeface="Arial"/>
            </a:endParaRPr>
          </a:p>
        </p:txBody>
      </p:sp>
      <p:sp>
        <p:nvSpPr>
          <p:cNvPr id="917" name=""/>
          <p:cNvSpPr/>
          <p:nvPr/>
        </p:nvSpPr>
        <p:spPr>
          <a:xfrm>
            <a:off x="1320840" y="2446200"/>
            <a:ext cx="6335640" cy="1828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8" name=""/>
          <p:cNvSpPr/>
          <p:nvPr/>
        </p:nvSpPr>
        <p:spPr>
          <a:xfrm>
            <a:off x="4435560" y="463680"/>
            <a:ext cx="3870360" cy="66528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9" name=""/>
          <p:cNvSpPr txBox="1"/>
          <p:nvPr/>
        </p:nvSpPr>
        <p:spPr>
          <a:xfrm>
            <a:off x="685800" y="495360"/>
            <a:ext cx="7772400" cy="5540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   Concept Overview</a:t>
            </a:r>
            <a:endParaRPr b="0" lang="en-US" sz="3600" spc="-1" strike="noStrike">
              <a:solidFill>
                <a:srgbClr val="000000"/>
              </a:solidFill>
              <a:latin typeface="Arial"/>
            </a:endParaRPr>
          </a:p>
        </p:txBody>
      </p:sp>
      <p:sp>
        <p:nvSpPr>
          <p:cNvPr id="920" name=""/>
          <p:cNvSpPr txBox="1"/>
          <p:nvPr/>
        </p:nvSpPr>
        <p:spPr>
          <a:xfrm>
            <a:off x="398520" y="1468440"/>
            <a:ext cx="8393040" cy="53103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Perfect cylindricity at maximum material condition (Rule #1).</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As a controlled cylindrical feature departs from MMC by an amount greater than that specified by the cylindricity tolerance, the cylindricity tolerance limits the maximum surface variation allow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A cylindricity tolerance does NOT override the tolerance limits of Rule #1 (envelope rule).  Therefore, mating size virtual condition is not affected by cylindricit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To safeguard the integrity of the design, a cylindricity tolerance must be less than half the diameter tolera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Cylindricity controls circularity, straightness, taper, and parallelism of cylindrical features simultaneous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21"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922" name=""/>
          <p:cNvGrpSpPr/>
          <p:nvPr/>
        </p:nvGrpSpPr>
        <p:grpSpPr>
          <a:xfrm>
            <a:off x="3286080" y="1581120"/>
            <a:ext cx="4948200" cy="1381320"/>
            <a:chOff x="3286080" y="1581120"/>
            <a:chExt cx="4948200" cy="1381320"/>
          </a:xfrm>
        </p:grpSpPr>
        <p:sp>
          <p:nvSpPr>
            <p:cNvPr id="923" name=""/>
            <p:cNvSpPr/>
            <p:nvPr/>
          </p:nvSpPr>
          <p:spPr>
            <a:xfrm>
              <a:off x="3476520" y="17859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5524560" y="17859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925" name=""/>
            <p:cNvGrpSpPr/>
            <p:nvPr/>
          </p:nvGrpSpPr>
          <p:grpSpPr>
            <a:xfrm>
              <a:off x="3286080" y="2281320"/>
              <a:ext cx="1428840" cy="0"/>
              <a:chOff x="3286080" y="2281320"/>
              <a:chExt cx="1428840" cy="0"/>
            </a:xfrm>
          </p:grpSpPr>
          <p:sp>
            <p:nvSpPr>
              <p:cNvPr id="926" name=""/>
              <p:cNvSpPr/>
              <p:nvPr/>
            </p:nvSpPr>
            <p:spPr>
              <a:xfrm>
                <a:off x="3286080" y="228132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3895560" y="228132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4191120" y="22813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29" name=""/>
            <p:cNvGrpSpPr/>
            <p:nvPr/>
          </p:nvGrpSpPr>
          <p:grpSpPr>
            <a:xfrm>
              <a:off x="5291280" y="2279520"/>
              <a:ext cx="2943000" cy="0"/>
              <a:chOff x="5291280" y="2279520"/>
              <a:chExt cx="2943000" cy="0"/>
            </a:xfrm>
          </p:grpSpPr>
          <p:sp>
            <p:nvSpPr>
              <p:cNvPr id="930" name=""/>
              <p:cNvSpPr/>
              <p:nvPr/>
            </p:nvSpPr>
            <p:spPr>
              <a:xfrm>
                <a:off x="5291280" y="22795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6729480" y="22795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6986520" y="22795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7891560" y="2279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4" name=""/>
            <p:cNvSpPr/>
            <p:nvPr/>
          </p:nvSpPr>
          <p:spPr>
            <a:xfrm>
              <a:off x="3976560" y="15811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3976560" y="21906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3976560" y="24382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7" name=""/>
          <p:cNvSpPr/>
          <p:nvPr/>
        </p:nvSpPr>
        <p:spPr>
          <a:xfrm>
            <a:off x="857160" y="2793960"/>
            <a:ext cx="161928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1643040" y="27939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txBox="1"/>
          <p:nvPr/>
        </p:nvSpPr>
        <p:spPr>
          <a:xfrm>
            <a:off x="1789200" y="2852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940" name=""/>
          <p:cNvSpPr/>
          <p:nvPr/>
        </p:nvSpPr>
        <p:spPr>
          <a:xfrm flipH="1">
            <a:off x="2476440" y="302724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1" name=""/>
          <p:cNvGrpSpPr/>
          <p:nvPr/>
        </p:nvGrpSpPr>
        <p:grpSpPr>
          <a:xfrm>
            <a:off x="974880" y="2892600"/>
            <a:ext cx="430200" cy="264960"/>
            <a:chOff x="974880" y="2892600"/>
            <a:chExt cx="430200" cy="264960"/>
          </a:xfrm>
        </p:grpSpPr>
        <p:sp>
          <p:nvSpPr>
            <p:cNvPr id="942" name=""/>
            <p:cNvSpPr/>
            <p:nvPr/>
          </p:nvSpPr>
          <p:spPr>
            <a:xfrm>
              <a:off x="1069920" y="290988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flipH="1">
              <a:off x="974880" y="2892600"/>
              <a:ext cx="16020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flipH="1">
              <a:off x="1244520" y="2927520"/>
              <a:ext cx="16056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5" name=""/>
          <p:cNvSpPr/>
          <p:nvPr/>
        </p:nvSpPr>
        <p:spPr>
          <a:xfrm flipV="1">
            <a:off x="2817720" y="2536920"/>
            <a:ext cx="735120" cy="484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477720" y="112068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7"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948" name=""/>
          <p:cNvGrpSpPr/>
          <p:nvPr/>
        </p:nvGrpSpPr>
        <p:grpSpPr>
          <a:xfrm>
            <a:off x="3286080" y="1581120"/>
            <a:ext cx="4948200" cy="1381320"/>
            <a:chOff x="3286080" y="1581120"/>
            <a:chExt cx="4948200" cy="1381320"/>
          </a:xfrm>
        </p:grpSpPr>
        <p:sp>
          <p:nvSpPr>
            <p:cNvPr id="949" name=""/>
            <p:cNvSpPr/>
            <p:nvPr/>
          </p:nvSpPr>
          <p:spPr>
            <a:xfrm>
              <a:off x="3476520" y="17859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5524560" y="17859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951" name=""/>
            <p:cNvGrpSpPr/>
            <p:nvPr/>
          </p:nvGrpSpPr>
          <p:grpSpPr>
            <a:xfrm>
              <a:off x="3286080" y="2281320"/>
              <a:ext cx="1428840" cy="0"/>
              <a:chOff x="3286080" y="2281320"/>
              <a:chExt cx="1428840" cy="0"/>
            </a:xfrm>
          </p:grpSpPr>
          <p:sp>
            <p:nvSpPr>
              <p:cNvPr id="952" name=""/>
              <p:cNvSpPr/>
              <p:nvPr/>
            </p:nvSpPr>
            <p:spPr>
              <a:xfrm>
                <a:off x="3286080" y="228132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3895560" y="228132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4191120" y="22813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55" name=""/>
            <p:cNvGrpSpPr/>
            <p:nvPr/>
          </p:nvGrpSpPr>
          <p:grpSpPr>
            <a:xfrm>
              <a:off x="5291280" y="2279520"/>
              <a:ext cx="2943000" cy="0"/>
              <a:chOff x="5291280" y="2279520"/>
              <a:chExt cx="2943000" cy="0"/>
            </a:xfrm>
          </p:grpSpPr>
          <p:sp>
            <p:nvSpPr>
              <p:cNvPr id="956" name=""/>
              <p:cNvSpPr/>
              <p:nvPr/>
            </p:nvSpPr>
            <p:spPr>
              <a:xfrm>
                <a:off x="5291280" y="22795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6729480" y="22795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6986520" y="22795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7891560" y="2279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0" name=""/>
            <p:cNvSpPr/>
            <p:nvPr/>
          </p:nvSpPr>
          <p:spPr>
            <a:xfrm>
              <a:off x="3976560" y="15811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3976560" y="21906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3976560" y="24382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3" name=""/>
          <p:cNvSpPr/>
          <p:nvPr/>
        </p:nvSpPr>
        <p:spPr>
          <a:xfrm>
            <a:off x="857160" y="2793960"/>
            <a:ext cx="161928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1643040" y="27939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txBox="1"/>
          <p:nvPr/>
        </p:nvSpPr>
        <p:spPr>
          <a:xfrm>
            <a:off x="1789200" y="2852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966" name=""/>
          <p:cNvSpPr/>
          <p:nvPr/>
        </p:nvSpPr>
        <p:spPr>
          <a:xfrm flipH="1">
            <a:off x="2476440" y="302724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flipV="1">
            <a:off x="2817720" y="2536920"/>
            <a:ext cx="735120" cy="484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txBox="1"/>
          <p:nvPr/>
        </p:nvSpPr>
        <p:spPr>
          <a:xfrm>
            <a:off x="477720" y="112068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69" name=""/>
          <p:cNvSpPr txBox="1"/>
          <p:nvPr/>
        </p:nvSpPr>
        <p:spPr>
          <a:xfrm>
            <a:off x="593640" y="60642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970" name=""/>
          <p:cNvGrpSpPr/>
          <p:nvPr/>
        </p:nvGrpSpPr>
        <p:grpSpPr>
          <a:xfrm>
            <a:off x="974880" y="2892600"/>
            <a:ext cx="430200" cy="264960"/>
            <a:chOff x="974880" y="2892600"/>
            <a:chExt cx="430200" cy="264960"/>
          </a:xfrm>
        </p:grpSpPr>
        <p:sp>
          <p:nvSpPr>
            <p:cNvPr id="971" name=""/>
            <p:cNvSpPr/>
            <p:nvPr/>
          </p:nvSpPr>
          <p:spPr>
            <a:xfrm>
              <a:off x="1069920" y="290988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flipH="1">
              <a:off x="974880" y="2892600"/>
              <a:ext cx="16020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flipH="1">
              <a:off x="1244520" y="2927520"/>
              <a:ext cx="16056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4"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975" name=""/>
          <p:cNvGrpSpPr/>
          <p:nvPr/>
        </p:nvGrpSpPr>
        <p:grpSpPr>
          <a:xfrm>
            <a:off x="3286080" y="1581120"/>
            <a:ext cx="4948200" cy="1381320"/>
            <a:chOff x="3286080" y="1581120"/>
            <a:chExt cx="4948200" cy="1381320"/>
          </a:xfrm>
        </p:grpSpPr>
        <p:sp>
          <p:nvSpPr>
            <p:cNvPr id="976" name=""/>
            <p:cNvSpPr/>
            <p:nvPr/>
          </p:nvSpPr>
          <p:spPr>
            <a:xfrm>
              <a:off x="3476520" y="17859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7" name=""/>
            <p:cNvSpPr/>
            <p:nvPr/>
          </p:nvSpPr>
          <p:spPr>
            <a:xfrm>
              <a:off x="5524560" y="17859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978" name=""/>
            <p:cNvGrpSpPr/>
            <p:nvPr/>
          </p:nvGrpSpPr>
          <p:grpSpPr>
            <a:xfrm>
              <a:off x="3286080" y="2281320"/>
              <a:ext cx="1428840" cy="0"/>
              <a:chOff x="3286080" y="2281320"/>
              <a:chExt cx="1428840" cy="0"/>
            </a:xfrm>
          </p:grpSpPr>
          <p:sp>
            <p:nvSpPr>
              <p:cNvPr id="979" name=""/>
              <p:cNvSpPr/>
              <p:nvPr/>
            </p:nvSpPr>
            <p:spPr>
              <a:xfrm>
                <a:off x="3286080" y="228132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3895560" y="228132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4191120" y="22813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82" name=""/>
            <p:cNvGrpSpPr/>
            <p:nvPr/>
          </p:nvGrpSpPr>
          <p:grpSpPr>
            <a:xfrm>
              <a:off x="5291280" y="2279520"/>
              <a:ext cx="2943000" cy="0"/>
              <a:chOff x="5291280" y="2279520"/>
              <a:chExt cx="2943000" cy="0"/>
            </a:xfrm>
          </p:grpSpPr>
          <p:sp>
            <p:nvSpPr>
              <p:cNvPr id="983" name=""/>
              <p:cNvSpPr/>
              <p:nvPr/>
            </p:nvSpPr>
            <p:spPr>
              <a:xfrm>
                <a:off x="5291280" y="22795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6729480" y="22795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986520" y="22795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7891560" y="2279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7" name=""/>
            <p:cNvSpPr/>
            <p:nvPr/>
          </p:nvSpPr>
          <p:spPr>
            <a:xfrm>
              <a:off x="3976560" y="15811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3976560" y="21906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3976560" y="24382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90" name=""/>
          <p:cNvSpPr/>
          <p:nvPr/>
        </p:nvSpPr>
        <p:spPr>
          <a:xfrm flipV="1">
            <a:off x="6286680" y="352440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flipV="1">
            <a:off x="6286680" y="1380960"/>
            <a:ext cx="0" cy="19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857160" y="2793960"/>
            <a:ext cx="161928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1643040" y="27939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1789200" y="2852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995" name=""/>
          <p:cNvSpPr/>
          <p:nvPr/>
        </p:nvSpPr>
        <p:spPr>
          <a:xfrm flipH="1">
            <a:off x="2476440" y="302724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6286680" y="3819600"/>
            <a:ext cx="0" cy="20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txBox="1"/>
          <p:nvPr/>
        </p:nvSpPr>
        <p:spPr>
          <a:xfrm>
            <a:off x="1900080" y="4734000"/>
            <a:ext cx="26542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axial CYLINDERS</a:t>
            </a:r>
            <a:endParaRPr b="0" lang="en-US" sz="2000" spc="-1" strike="noStrike">
              <a:solidFill>
                <a:srgbClr val="000000"/>
              </a:solidFill>
              <a:latin typeface="Arial"/>
            </a:endParaRPr>
          </a:p>
        </p:txBody>
      </p:sp>
      <p:grpSp>
        <p:nvGrpSpPr>
          <p:cNvPr id="998" name=""/>
          <p:cNvGrpSpPr/>
          <p:nvPr/>
        </p:nvGrpSpPr>
        <p:grpSpPr>
          <a:xfrm>
            <a:off x="5283360" y="4819680"/>
            <a:ext cx="2070000" cy="0"/>
            <a:chOff x="5283360" y="4819680"/>
            <a:chExt cx="2070000" cy="0"/>
          </a:xfrm>
        </p:grpSpPr>
        <p:sp>
          <p:nvSpPr>
            <p:cNvPr id="999" name=""/>
            <p:cNvSpPr/>
            <p:nvPr/>
          </p:nvSpPr>
          <p:spPr>
            <a:xfrm>
              <a:off x="5283360" y="4819680"/>
              <a:ext cx="8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6416640" y="4819680"/>
              <a:ext cx="93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02" name=""/>
          <p:cNvSpPr/>
          <p:nvPr/>
        </p:nvSpPr>
        <p:spPr>
          <a:xfrm flipV="1">
            <a:off x="2817720" y="2536920"/>
            <a:ext cx="735120" cy="484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477720" y="112068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04" name=""/>
          <p:cNvSpPr txBox="1"/>
          <p:nvPr/>
        </p:nvSpPr>
        <p:spPr>
          <a:xfrm>
            <a:off x="593640" y="60642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05" name=""/>
          <p:cNvSpPr/>
          <p:nvPr/>
        </p:nvSpPr>
        <p:spPr>
          <a:xfrm>
            <a:off x="5464080" y="1735200"/>
            <a:ext cx="2600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5448240" y="1857240"/>
            <a:ext cx="2616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5418000" y="2717640"/>
            <a:ext cx="2646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5388120" y="2824200"/>
            <a:ext cx="2671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09" name=""/>
          <p:cNvGrpSpPr/>
          <p:nvPr/>
        </p:nvGrpSpPr>
        <p:grpSpPr>
          <a:xfrm>
            <a:off x="974880" y="2892600"/>
            <a:ext cx="430200" cy="264960"/>
            <a:chOff x="974880" y="2892600"/>
            <a:chExt cx="430200" cy="264960"/>
          </a:xfrm>
        </p:grpSpPr>
        <p:sp>
          <p:nvSpPr>
            <p:cNvPr id="1010" name=""/>
            <p:cNvSpPr/>
            <p:nvPr/>
          </p:nvSpPr>
          <p:spPr>
            <a:xfrm>
              <a:off x="1069920" y="290988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flipH="1">
              <a:off x="974880" y="2892600"/>
              <a:ext cx="16020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1244520" y="2927520"/>
              <a:ext cx="16056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13"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1014" name=""/>
          <p:cNvGrpSpPr/>
          <p:nvPr/>
        </p:nvGrpSpPr>
        <p:grpSpPr>
          <a:xfrm>
            <a:off x="3286080" y="1581120"/>
            <a:ext cx="4948200" cy="1381320"/>
            <a:chOff x="3286080" y="1581120"/>
            <a:chExt cx="4948200" cy="1381320"/>
          </a:xfrm>
        </p:grpSpPr>
        <p:sp>
          <p:nvSpPr>
            <p:cNvPr id="1015" name=""/>
            <p:cNvSpPr/>
            <p:nvPr/>
          </p:nvSpPr>
          <p:spPr>
            <a:xfrm>
              <a:off x="3476520" y="17859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524560" y="17859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17" name=""/>
            <p:cNvGrpSpPr/>
            <p:nvPr/>
          </p:nvGrpSpPr>
          <p:grpSpPr>
            <a:xfrm>
              <a:off x="3286080" y="2281320"/>
              <a:ext cx="1428840" cy="0"/>
              <a:chOff x="3286080" y="2281320"/>
              <a:chExt cx="1428840" cy="0"/>
            </a:xfrm>
          </p:grpSpPr>
          <p:sp>
            <p:nvSpPr>
              <p:cNvPr id="1018" name=""/>
              <p:cNvSpPr/>
              <p:nvPr/>
            </p:nvSpPr>
            <p:spPr>
              <a:xfrm>
                <a:off x="3286080" y="228132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3895560" y="228132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4191120" y="22813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21" name=""/>
            <p:cNvGrpSpPr/>
            <p:nvPr/>
          </p:nvGrpSpPr>
          <p:grpSpPr>
            <a:xfrm>
              <a:off x="5291280" y="2279520"/>
              <a:ext cx="2943000" cy="0"/>
              <a:chOff x="5291280" y="2279520"/>
              <a:chExt cx="2943000" cy="0"/>
            </a:xfrm>
          </p:grpSpPr>
          <p:sp>
            <p:nvSpPr>
              <p:cNvPr id="1022" name=""/>
              <p:cNvSpPr/>
              <p:nvPr/>
            </p:nvSpPr>
            <p:spPr>
              <a:xfrm>
                <a:off x="5291280" y="22795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6729480" y="22795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6986520" y="22795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891560" y="2279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26" name=""/>
            <p:cNvSpPr/>
            <p:nvPr/>
          </p:nvSpPr>
          <p:spPr>
            <a:xfrm>
              <a:off x="3976560" y="15811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3976560" y="21906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3976560" y="24382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29" name=""/>
          <p:cNvSpPr/>
          <p:nvPr/>
        </p:nvSpPr>
        <p:spPr>
          <a:xfrm>
            <a:off x="5435640" y="3965400"/>
            <a:ext cx="1714680" cy="17146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flipV="1">
            <a:off x="5743440" y="4829040"/>
            <a:ext cx="419400" cy="41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flipV="1">
            <a:off x="6286680" y="352440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flipV="1">
            <a:off x="6286680" y="1380960"/>
            <a:ext cx="0" cy="19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857160" y="2793960"/>
            <a:ext cx="161928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1643040" y="27939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txBox="1"/>
          <p:nvPr/>
        </p:nvSpPr>
        <p:spPr>
          <a:xfrm>
            <a:off x="1789200" y="2852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1036" name=""/>
          <p:cNvSpPr/>
          <p:nvPr/>
        </p:nvSpPr>
        <p:spPr>
          <a:xfrm flipH="1">
            <a:off x="2476440" y="302724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5586480" y="4108320"/>
            <a:ext cx="1405080" cy="1405080"/>
          </a:xfrm>
          <a:prstGeom prst="ellipse">
            <a:avLst/>
          </a:prstGeom>
          <a:solidFill>
            <a:srgbClr val="114ffb"/>
          </a:soli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a:off x="6286680" y="3819600"/>
            <a:ext cx="0" cy="20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txBox="1"/>
          <p:nvPr/>
        </p:nvSpPr>
        <p:spPr>
          <a:xfrm>
            <a:off x="1900080" y="4734000"/>
            <a:ext cx="26542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axial CYLINDERS</a:t>
            </a:r>
            <a:endParaRPr b="0" lang="en-US" sz="2000" spc="-1" strike="noStrike">
              <a:solidFill>
                <a:srgbClr val="000000"/>
              </a:solidFill>
              <a:latin typeface="Arial"/>
            </a:endParaRPr>
          </a:p>
        </p:txBody>
      </p:sp>
      <p:grpSp>
        <p:nvGrpSpPr>
          <p:cNvPr id="1040" name=""/>
          <p:cNvGrpSpPr/>
          <p:nvPr/>
        </p:nvGrpSpPr>
        <p:grpSpPr>
          <a:xfrm>
            <a:off x="5283360" y="4819680"/>
            <a:ext cx="2070000" cy="0"/>
            <a:chOff x="5283360" y="4819680"/>
            <a:chExt cx="2070000" cy="0"/>
          </a:xfrm>
        </p:grpSpPr>
        <p:sp>
          <p:nvSpPr>
            <p:cNvPr id="1041" name=""/>
            <p:cNvSpPr/>
            <p:nvPr/>
          </p:nvSpPr>
          <p:spPr>
            <a:xfrm>
              <a:off x="5283360" y="4819680"/>
              <a:ext cx="8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6416640" y="4819680"/>
              <a:ext cx="93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4" name=""/>
          <p:cNvSpPr/>
          <p:nvPr/>
        </p:nvSpPr>
        <p:spPr>
          <a:xfrm flipV="1">
            <a:off x="2817720" y="2536920"/>
            <a:ext cx="735120" cy="484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 name=""/>
          <p:cNvSpPr txBox="1"/>
          <p:nvPr/>
        </p:nvSpPr>
        <p:spPr>
          <a:xfrm>
            <a:off x="477720" y="112068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46" name=""/>
          <p:cNvSpPr txBox="1"/>
          <p:nvPr/>
        </p:nvSpPr>
        <p:spPr>
          <a:xfrm>
            <a:off x="593640" y="60642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47" name=""/>
          <p:cNvSpPr/>
          <p:nvPr/>
        </p:nvSpPr>
        <p:spPr>
          <a:xfrm>
            <a:off x="5464080" y="1735200"/>
            <a:ext cx="2600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5448240" y="1857240"/>
            <a:ext cx="2616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5418000" y="2717640"/>
            <a:ext cx="2646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5388120" y="2824200"/>
            <a:ext cx="2671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51" name=""/>
          <p:cNvGrpSpPr/>
          <p:nvPr/>
        </p:nvGrpSpPr>
        <p:grpSpPr>
          <a:xfrm>
            <a:off x="974880" y="2892600"/>
            <a:ext cx="430200" cy="264960"/>
            <a:chOff x="974880" y="2892600"/>
            <a:chExt cx="430200" cy="264960"/>
          </a:xfrm>
        </p:grpSpPr>
        <p:sp>
          <p:nvSpPr>
            <p:cNvPr id="1052" name=""/>
            <p:cNvSpPr/>
            <p:nvPr/>
          </p:nvSpPr>
          <p:spPr>
            <a:xfrm>
              <a:off x="1069920" y="290988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flipH="1">
              <a:off x="974880" y="2892600"/>
              <a:ext cx="16020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H="1">
              <a:off x="1244520" y="2927520"/>
              <a:ext cx="16056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55"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1056" name=""/>
          <p:cNvGrpSpPr/>
          <p:nvPr/>
        </p:nvGrpSpPr>
        <p:grpSpPr>
          <a:xfrm>
            <a:off x="3286080" y="1581120"/>
            <a:ext cx="4948200" cy="1381320"/>
            <a:chOff x="3286080" y="1581120"/>
            <a:chExt cx="4948200" cy="1381320"/>
          </a:xfrm>
        </p:grpSpPr>
        <p:sp>
          <p:nvSpPr>
            <p:cNvPr id="1057" name=""/>
            <p:cNvSpPr/>
            <p:nvPr/>
          </p:nvSpPr>
          <p:spPr>
            <a:xfrm>
              <a:off x="3476520" y="17859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58" name=""/>
            <p:cNvSpPr/>
            <p:nvPr/>
          </p:nvSpPr>
          <p:spPr>
            <a:xfrm>
              <a:off x="5524560" y="17859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59" name=""/>
            <p:cNvGrpSpPr/>
            <p:nvPr/>
          </p:nvGrpSpPr>
          <p:grpSpPr>
            <a:xfrm>
              <a:off x="3286080" y="2281320"/>
              <a:ext cx="1428840" cy="0"/>
              <a:chOff x="3286080" y="2281320"/>
              <a:chExt cx="1428840" cy="0"/>
            </a:xfrm>
          </p:grpSpPr>
          <p:sp>
            <p:nvSpPr>
              <p:cNvPr id="1060" name=""/>
              <p:cNvSpPr/>
              <p:nvPr/>
            </p:nvSpPr>
            <p:spPr>
              <a:xfrm>
                <a:off x="3286080" y="228132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895560" y="228132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4191120" y="22813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63" name=""/>
            <p:cNvGrpSpPr/>
            <p:nvPr/>
          </p:nvGrpSpPr>
          <p:grpSpPr>
            <a:xfrm>
              <a:off x="5291280" y="2279520"/>
              <a:ext cx="2943000" cy="0"/>
              <a:chOff x="5291280" y="2279520"/>
              <a:chExt cx="2943000" cy="0"/>
            </a:xfrm>
          </p:grpSpPr>
          <p:sp>
            <p:nvSpPr>
              <p:cNvPr id="1064" name=""/>
              <p:cNvSpPr/>
              <p:nvPr/>
            </p:nvSpPr>
            <p:spPr>
              <a:xfrm>
                <a:off x="5291280" y="22795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6729480" y="22795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6986520" y="22795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7891560" y="2279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8" name=""/>
            <p:cNvSpPr/>
            <p:nvPr/>
          </p:nvSpPr>
          <p:spPr>
            <a:xfrm>
              <a:off x="3976560" y="15811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3976560" y="21906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3976560" y="24382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1" name=""/>
          <p:cNvSpPr/>
          <p:nvPr/>
        </p:nvSpPr>
        <p:spPr>
          <a:xfrm>
            <a:off x="5435640" y="3965400"/>
            <a:ext cx="1714680" cy="17146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flipV="1">
            <a:off x="5743440" y="4829040"/>
            <a:ext cx="419400" cy="41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flipV="1">
            <a:off x="6286680" y="352440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flipV="1">
            <a:off x="6286680" y="1380960"/>
            <a:ext cx="0" cy="19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857160" y="2793960"/>
            <a:ext cx="161928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a:off x="1643040" y="27939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5472000" y="3971880"/>
            <a:ext cx="1638720" cy="1614960"/>
          </a:xfrm>
          <a:custGeom>
            <a:avLst/>
            <a:gdLst/>
            <a:ahLst/>
            <a:rect l="0" t="0" r="r" b="b"/>
            <a:pathLst>
              <a:path w="4552" h="4486">
                <a:moveTo>
                  <a:pt x="2263" y="26"/>
                </a:moveTo>
                <a:lnTo>
                  <a:pt x="2130" y="26"/>
                </a:lnTo>
                <a:lnTo>
                  <a:pt x="2091" y="26"/>
                </a:lnTo>
                <a:lnTo>
                  <a:pt x="2051" y="39"/>
                </a:lnTo>
                <a:lnTo>
                  <a:pt x="2011" y="52"/>
                </a:lnTo>
                <a:lnTo>
                  <a:pt x="1972" y="79"/>
                </a:lnTo>
                <a:lnTo>
                  <a:pt x="1932" y="105"/>
                </a:lnTo>
                <a:lnTo>
                  <a:pt x="1892" y="132"/>
                </a:lnTo>
                <a:lnTo>
                  <a:pt x="1839" y="132"/>
                </a:lnTo>
                <a:lnTo>
                  <a:pt x="1786" y="158"/>
                </a:lnTo>
                <a:lnTo>
                  <a:pt x="1747" y="171"/>
                </a:lnTo>
                <a:lnTo>
                  <a:pt x="1667" y="185"/>
                </a:lnTo>
                <a:lnTo>
                  <a:pt x="1588" y="198"/>
                </a:lnTo>
                <a:lnTo>
                  <a:pt x="1544" y="246"/>
                </a:lnTo>
                <a:lnTo>
                  <a:pt x="1517" y="260"/>
                </a:lnTo>
                <a:lnTo>
                  <a:pt x="1482" y="277"/>
                </a:lnTo>
                <a:lnTo>
                  <a:pt x="1442" y="304"/>
                </a:lnTo>
                <a:lnTo>
                  <a:pt x="1376" y="330"/>
                </a:lnTo>
                <a:lnTo>
                  <a:pt x="1319" y="352"/>
                </a:lnTo>
                <a:lnTo>
                  <a:pt x="1297" y="352"/>
                </a:lnTo>
                <a:lnTo>
                  <a:pt x="1266" y="392"/>
                </a:lnTo>
                <a:lnTo>
                  <a:pt x="1218" y="432"/>
                </a:lnTo>
                <a:lnTo>
                  <a:pt x="1173" y="449"/>
                </a:lnTo>
                <a:lnTo>
                  <a:pt x="1124" y="502"/>
                </a:lnTo>
                <a:lnTo>
                  <a:pt x="1080" y="537"/>
                </a:lnTo>
                <a:lnTo>
                  <a:pt x="1031" y="542"/>
                </a:lnTo>
                <a:lnTo>
                  <a:pt x="992" y="582"/>
                </a:lnTo>
                <a:lnTo>
                  <a:pt x="952" y="608"/>
                </a:lnTo>
                <a:lnTo>
                  <a:pt x="912" y="661"/>
                </a:lnTo>
                <a:lnTo>
                  <a:pt x="873" y="687"/>
                </a:lnTo>
                <a:lnTo>
                  <a:pt x="833" y="727"/>
                </a:lnTo>
                <a:lnTo>
                  <a:pt x="793" y="754"/>
                </a:lnTo>
                <a:lnTo>
                  <a:pt x="767" y="793"/>
                </a:lnTo>
                <a:lnTo>
                  <a:pt x="714" y="820"/>
                </a:lnTo>
                <a:lnTo>
                  <a:pt x="687" y="859"/>
                </a:lnTo>
                <a:lnTo>
                  <a:pt x="648" y="886"/>
                </a:lnTo>
                <a:lnTo>
                  <a:pt x="621" y="926"/>
                </a:lnTo>
                <a:lnTo>
                  <a:pt x="582" y="952"/>
                </a:lnTo>
                <a:lnTo>
                  <a:pt x="555" y="992"/>
                </a:lnTo>
                <a:lnTo>
                  <a:pt x="515" y="1018"/>
                </a:lnTo>
                <a:lnTo>
                  <a:pt x="476" y="1058"/>
                </a:lnTo>
                <a:lnTo>
                  <a:pt x="436" y="1098"/>
                </a:lnTo>
                <a:lnTo>
                  <a:pt x="410" y="1138"/>
                </a:lnTo>
                <a:lnTo>
                  <a:pt x="383" y="1178"/>
                </a:lnTo>
                <a:lnTo>
                  <a:pt x="357" y="1218"/>
                </a:lnTo>
                <a:lnTo>
                  <a:pt x="317" y="1257"/>
                </a:lnTo>
                <a:lnTo>
                  <a:pt x="291" y="1297"/>
                </a:lnTo>
                <a:lnTo>
                  <a:pt x="251" y="1323"/>
                </a:lnTo>
                <a:lnTo>
                  <a:pt x="224" y="1363"/>
                </a:lnTo>
                <a:lnTo>
                  <a:pt x="198" y="1403"/>
                </a:lnTo>
                <a:lnTo>
                  <a:pt x="185" y="1442"/>
                </a:lnTo>
                <a:lnTo>
                  <a:pt x="158" y="1482"/>
                </a:lnTo>
                <a:lnTo>
                  <a:pt x="132" y="1522"/>
                </a:lnTo>
                <a:lnTo>
                  <a:pt x="105" y="1562"/>
                </a:lnTo>
                <a:lnTo>
                  <a:pt x="92" y="1601"/>
                </a:lnTo>
                <a:lnTo>
                  <a:pt x="61" y="1654"/>
                </a:lnTo>
                <a:lnTo>
                  <a:pt x="61" y="1676"/>
                </a:lnTo>
                <a:lnTo>
                  <a:pt x="22" y="1729"/>
                </a:lnTo>
                <a:lnTo>
                  <a:pt x="26" y="1786"/>
                </a:lnTo>
                <a:lnTo>
                  <a:pt x="22" y="1822"/>
                </a:lnTo>
                <a:lnTo>
                  <a:pt x="8" y="1919"/>
                </a:lnTo>
                <a:lnTo>
                  <a:pt x="13" y="1928"/>
                </a:lnTo>
                <a:lnTo>
                  <a:pt x="0" y="1980"/>
                </a:lnTo>
                <a:lnTo>
                  <a:pt x="0" y="2060"/>
                </a:lnTo>
                <a:lnTo>
                  <a:pt x="8" y="2192"/>
                </a:lnTo>
                <a:lnTo>
                  <a:pt x="39" y="2324"/>
                </a:lnTo>
                <a:lnTo>
                  <a:pt x="35" y="2404"/>
                </a:lnTo>
                <a:lnTo>
                  <a:pt x="79" y="2474"/>
                </a:lnTo>
                <a:lnTo>
                  <a:pt x="79" y="2514"/>
                </a:lnTo>
                <a:lnTo>
                  <a:pt x="79" y="2593"/>
                </a:lnTo>
                <a:lnTo>
                  <a:pt x="92" y="2633"/>
                </a:lnTo>
                <a:lnTo>
                  <a:pt x="105" y="2673"/>
                </a:lnTo>
                <a:lnTo>
                  <a:pt x="119" y="2712"/>
                </a:lnTo>
                <a:lnTo>
                  <a:pt x="132" y="2805"/>
                </a:lnTo>
                <a:lnTo>
                  <a:pt x="145" y="2845"/>
                </a:lnTo>
                <a:lnTo>
                  <a:pt x="158" y="2884"/>
                </a:lnTo>
                <a:lnTo>
                  <a:pt x="171" y="2937"/>
                </a:lnTo>
                <a:lnTo>
                  <a:pt x="171" y="2977"/>
                </a:lnTo>
                <a:lnTo>
                  <a:pt x="185" y="3056"/>
                </a:lnTo>
                <a:lnTo>
                  <a:pt x="198" y="3096"/>
                </a:lnTo>
                <a:lnTo>
                  <a:pt x="211" y="3136"/>
                </a:lnTo>
                <a:lnTo>
                  <a:pt x="224" y="3176"/>
                </a:lnTo>
                <a:lnTo>
                  <a:pt x="264" y="3334"/>
                </a:lnTo>
                <a:lnTo>
                  <a:pt x="291" y="3375"/>
                </a:lnTo>
                <a:lnTo>
                  <a:pt x="317" y="3481"/>
                </a:lnTo>
                <a:lnTo>
                  <a:pt x="343" y="3534"/>
                </a:lnTo>
                <a:lnTo>
                  <a:pt x="370" y="3573"/>
                </a:lnTo>
                <a:lnTo>
                  <a:pt x="383" y="3613"/>
                </a:lnTo>
                <a:lnTo>
                  <a:pt x="410" y="3666"/>
                </a:lnTo>
                <a:lnTo>
                  <a:pt x="423" y="3706"/>
                </a:lnTo>
                <a:lnTo>
                  <a:pt x="458" y="3767"/>
                </a:lnTo>
                <a:lnTo>
                  <a:pt x="471" y="3807"/>
                </a:lnTo>
                <a:lnTo>
                  <a:pt x="511" y="3851"/>
                </a:lnTo>
                <a:lnTo>
                  <a:pt x="551" y="3878"/>
                </a:lnTo>
                <a:lnTo>
                  <a:pt x="551" y="3913"/>
                </a:lnTo>
                <a:lnTo>
                  <a:pt x="617" y="3931"/>
                </a:lnTo>
                <a:lnTo>
                  <a:pt x="648" y="3970"/>
                </a:lnTo>
                <a:lnTo>
                  <a:pt x="687" y="3997"/>
                </a:lnTo>
                <a:lnTo>
                  <a:pt x="793" y="4023"/>
                </a:lnTo>
                <a:lnTo>
                  <a:pt x="833" y="4036"/>
                </a:lnTo>
                <a:lnTo>
                  <a:pt x="965" y="4063"/>
                </a:lnTo>
                <a:lnTo>
                  <a:pt x="1005" y="4063"/>
                </a:lnTo>
                <a:lnTo>
                  <a:pt x="1058" y="4116"/>
                </a:lnTo>
                <a:lnTo>
                  <a:pt x="1191" y="4169"/>
                </a:lnTo>
                <a:lnTo>
                  <a:pt x="1271" y="4195"/>
                </a:lnTo>
                <a:lnTo>
                  <a:pt x="1310" y="4235"/>
                </a:lnTo>
                <a:lnTo>
                  <a:pt x="1350" y="4261"/>
                </a:lnTo>
                <a:lnTo>
                  <a:pt x="1390" y="4275"/>
                </a:lnTo>
                <a:lnTo>
                  <a:pt x="1442" y="4314"/>
                </a:lnTo>
                <a:lnTo>
                  <a:pt x="1575" y="4341"/>
                </a:lnTo>
                <a:lnTo>
                  <a:pt x="1681" y="4367"/>
                </a:lnTo>
                <a:lnTo>
                  <a:pt x="1786" y="4394"/>
                </a:lnTo>
                <a:lnTo>
                  <a:pt x="1972" y="4473"/>
                </a:lnTo>
                <a:lnTo>
                  <a:pt x="2011" y="4486"/>
                </a:lnTo>
                <a:lnTo>
                  <a:pt x="2117" y="4486"/>
                </a:lnTo>
                <a:lnTo>
                  <a:pt x="2197" y="4486"/>
                </a:lnTo>
                <a:lnTo>
                  <a:pt x="2249" y="4486"/>
                </a:lnTo>
                <a:lnTo>
                  <a:pt x="2302" y="4486"/>
                </a:lnTo>
                <a:lnTo>
                  <a:pt x="2342" y="4486"/>
                </a:lnTo>
                <a:lnTo>
                  <a:pt x="2421" y="4486"/>
                </a:lnTo>
                <a:lnTo>
                  <a:pt x="2461" y="4486"/>
                </a:lnTo>
                <a:lnTo>
                  <a:pt x="2541" y="4486"/>
                </a:lnTo>
                <a:lnTo>
                  <a:pt x="2660" y="4447"/>
                </a:lnTo>
                <a:lnTo>
                  <a:pt x="2712" y="4433"/>
                </a:lnTo>
                <a:lnTo>
                  <a:pt x="2774" y="4460"/>
                </a:lnTo>
                <a:lnTo>
                  <a:pt x="2818" y="4447"/>
                </a:lnTo>
                <a:lnTo>
                  <a:pt x="2884" y="4460"/>
                </a:lnTo>
                <a:lnTo>
                  <a:pt x="2986" y="4442"/>
                </a:lnTo>
                <a:lnTo>
                  <a:pt x="3070" y="4429"/>
                </a:lnTo>
                <a:lnTo>
                  <a:pt x="3149" y="4380"/>
                </a:lnTo>
                <a:lnTo>
                  <a:pt x="3189" y="4367"/>
                </a:lnTo>
                <a:lnTo>
                  <a:pt x="3228" y="4354"/>
                </a:lnTo>
                <a:lnTo>
                  <a:pt x="3308" y="4341"/>
                </a:lnTo>
                <a:lnTo>
                  <a:pt x="3400" y="4327"/>
                </a:lnTo>
                <a:lnTo>
                  <a:pt x="3507" y="4301"/>
                </a:lnTo>
                <a:lnTo>
                  <a:pt x="3547" y="4288"/>
                </a:lnTo>
                <a:lnTo>
                  <a:pt x="3635" y="4248"/>
                </a:lnTo>
                <a:lnTo>
                  <a:pt x="3701" y="4208"/>
                </a:lnTo>
                <a:lnTo>
                  <a:pt x="3754" y="4169"/>
                </a:lnTo>
                <a:lnTo>
                  <a:pt x="3759" y="4129"/>
                </a:lnTo>
                <a:lnTo>
                  <a:pt x="3812" y="4111"/>
                </a:lnTo>
                <a:lnTo>
                  <a:pt x="3825" y="4098"/>
                </a:lnTo>
                <a:lnTo>
                  <a:pt x="3878" y="4050"/>
                </a:lnTo>
                <a:lnTo>
                  <a:pt x="3917" y="4036"/>
                </a:lnTo>
                <a:lnTo>
                  <a:pt x="3957" y="3944"/>
                </a:lnTo>
                <a:lnTo>
                  <a:pt x="3983" y="3904"/>
                </a:lnTo>
                <a:lnTo>
                  <a:pt x="4010" y="3864"/>
                </a:lnTo>
                <a:lnTo>
                  <a:pt x="4010" y="3825"/>
                </a:lnTo>
                <a:lnTo>
                  <a:pt x="4036" y="3772"/>
                </a:lnTo>
                <a:lnTo>
                  <a:pt x="4050" y="3719"/>
                </a:lnTo>
                <a:lnTo>
                  <a:pt x="4063" y="3666"/>
                </a:lnTo>
                <a:lnTo>
                  <a:pt x="4076" y="3626"/>
                </a:lnTo>
                <a:lnTo>
                  <a:pt x="4089" y="3587"/>
                </a:lnTo>
                <a:lnTo>
                  <a:pt x="4116" y="3534"/>
                </a:lnTo>
                <a:lnTo>
                  <a:pt x="4169" y="3463"/>
                </a:lnTo>
                <a:lnTo>
                  <a:pt x="4169" y="3423"/>
                </a:lnTo>
                <a:lnTo>
                  <a:pt x="4204" y="3397"/>
                </a:lnTo>
                <a:lnTo>
                  <a:pt x="4248" y="3250"/>
                </a:lnTo>
                <a:lnTo>
                  <a:pt x="4244" y="3211"/>
                </a:lnTo>
                <a:lnTo>
                  <a:pt x="4244" y="3211"/>
                </a:lnTo>
                <a:lnTo>
                  <a:pt x="4283" y="3118"/>
                </a:lnTo>
                <a:lnTo>
                  <a:pt x="4310" y="3043"/>
                </a:lnTo>
                <a:lnTo>
                  <a:pt x="4341" y="2946"/>
                </a:lnTo>
                <a:lnTo>
                  <a:pt x="4363" y="2867"/>
                </a:lnTo>
                <a:lnTo>
                  <a:pt x="4376" y="2792"/>
                </a:lnTo>
                <a:lnTo>
                  <a:pt x="4394" y="2712"/>
                </a:lnTo>
                <a:lnTo>
                  <a:pt x="4447" y="2642"/>
                </a:lnTo>
                <a:lnTo>
                  <a:pt x="4473" y="2615"/>
                </a:lnTo>
                <a:lnTo>
                  <a:pt x="4495" y="2563"/>
                </a:lnTo>
                <a:lnTo>
                  <a:pt x="4508" y="2474"/>
                </a:lnTo>
                <a:lnTo>
                  <a:pt x="4521" y="2404"/>
                </a:lnTo>
                <a:lnTo>
                  <a:pt x="4513" y="2324"/>
                </a:lnTo>
                <a:lnTo>
                  <a:pt x="4513" y="2245"/>
                </a:lnTo>
                <a:lnTo>
                  <a:pt x="4535" y="2183"/>
                </a:lnTo>
                <a:lnTo>
                  <a:pt x="4548" y="2144"/>
                </a:lnTo>
                <a:lnTo>
                  <a:pt x="4535" y="2117"/>
                </a:lnTo>
                <a:lnTo>
                  <a:pt x="4552" y="2091"/>
                </a:lnTo>
                <a:lnTo>
                  <a:pt x="4548" y="2038"/>
                </a:lnTo>
                <a:lnTo>
                  <a:pt x="4548" y="1998"/>
                </a:lnTo>
                <a:lnTo>
                  <a:pt x="4539" y="1958"/>
                </a:lnTo>
                <a:lnTo>
                  <a:pt x="4548" y="1888"/>
                </a:lnTo>
                <a:lnTo>
                  <a:pt x="4521" y="1826"/>
                </a:lnTo>
                <a:lnTo>
                  <a:pt x="4526" y="1782"/>
                </a:lnTo>
                <a:lnTo>
                  <a:pt x="4521" y="1694"/>
                </a:lnTo>
                <a:lnTo>
                  <a:pt x="4508" y="1650"/>
                </a:lnTo>
                <a:lnTo>
                  <a:pt x="4508" y="1601"/>
                </a:lnTo>
                <a:lnTo>
                  <a:pt x="4482" y="1548"/>
                </a:lnTo>
                <a:lnTo>
                  <a:pt x="4455" y="1495"/>
                </a:lnTo>
                <a:lnTo>
                  <a:pt x="4416" y="1451"/>
                </a:lnTo>
                <a:lnTo>
                  <a:pt x="4367" y="1398"/>
                </a:lnTo>
                <a:lnTo>
                  <a:pt x="4336" y="1306"/>
                </a:lnTo>
                <a:lnTo>
                  <a:pt x="4301" y="1231"/>
                </a:lnTo>
                <a:lnTo>
                  <a:pt x="4116" y="1045"/>
                </a:lnTo>
                <a:lnTo>
                  <a:pt x="4076" y="1005"/>
                </a:lnTo>
                <a:lnTo>
                  <a:pt x="4023" y="978"/>
                </a:lnTo>
                <a:lnTo>
                  <a:pt x="3957" y="926"/>
                </a:lnTo>
                <a:lnTo>
                  <a:pt x="3904" y="886"/>
                </a:lnTo>
                <a:lnTo>
                  <a:pt x="3851" y="842"/>
                </a:lnTo>
                <a:lnTo>
                  <a:pt x="3785" y="802"/>
                </a:lnTo>
                <a:lnTo>
                  <a:pt x="3679" y="723"/>
                </a:lnTo>
                <a:lnTo>
                  <a:pt x="3587" y="617"/>
                </a:lnTo>
                <a:lnTo>
                  <a:pt x="3516" y="529"/>
                </a:lnTo>
                <a:lnTo>
                  <a:pt x="3441" y="476"/>
                </a:lnTo>
                <a:lnTo>
                  <a:pt x="3356" y="423"/>
                </a:lnTo>
                <a:lnTo>
                  <a:pt x="3281" y="392"/>
                </a:lnTo>
                <a:lnTo>
                  <a:pt x="3189" y="370"/>
                </a:lnTo>
                <a:lnTo>
                  <a:pt x="3136" y="330"/>
                </a:lnTo>
                <a:lnTo>
                  <a:pt x="3092" y="339"/>
                </a:lnTo>
                <a:lnTo>
                  <a:pt x="3012" y="299"/>
                </a:lnTo>
                <a:lnTo>
                  <a:pt x="2959" y="277"/>
                </a:lnTo>
                <a:lnTo>
                  <a:pt x="2858" y="233"/>
                </a:lnTo>
                <a:lnTo>
                  <a:pt x="2801" y="220"/>
                </a:lnTo>
                <a:lnTo>
                  <a:pt x="2774" y="198"/>
                </a:lnTo>
                <a:lnTo>
                  <a:pt x="2668" y="145"/>
                </a:lnTo>
                <a:lnTo>
                  <a:pt x="2642" y="132"/>
                </a:lnTo>
                <a:lnTo>
                  <a:pt x="2567" y="105"/>
                </a:lnTo>
                <a:lnTo>
                  <a:pt x="2483" y="88"/>
                </a:lnTo>
                <a:lnTo>
                  <a:pt x="2435" y="66"/>
                </a:lnTo>
                <a:lnTo>
                  <a:pt x="2395" y="66"/>
                </a:lnTo>
                <a:lnTo>
                  <a:pt x="2342" y="52"/>
                </a:lnTo>
                <a:lnTo>
                  <a:pt x="2302" y="39"/>
                </a:lnTo>
                <a:lnTo>
                  <a:pt x="2263" y="0"/>
                </a:lnTo>
                <a:lnTo>
                  <a:pt x="2263"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 name=""/>
          <p:cNvSpPr txBox="1"/>
          <p:nvPr/>
        </p:nvSpPr>
        <p:spPr>
          <a:xfrm>
            <a:off x="1789200" y="2852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1079" name=""/>
          <p:cNvSpPr/>
          <p:nvPr/>
        </p:nvSpPr>
        <p:spPr>
          <a:xfrm flipH="1">
            <a:off x="2476440" y="302724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5586480" y="4108320"/>
            <a:ext cx="1405080" cy="1405080"/>
          </a:xfrm>
          <a:prstGeom prst="ellipse">
            <a:avLst/>
          </a:prstGeom>
          <a:blipFill rotWithShape="0">
            <a:blip r:embed="rId2"/>
            <a:tile tx="0" ty="0" sx="133018" sy="133018" algn="ctr"/>
          </a:blip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6286680" y="3819600"/>
            <a:ext cx="0" cy="20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txBox="1"/>
          <p:nvPr/>
        </p:nvSpPr>
        <p:spPr>
          <a:xfrm>
            <a:off x="1900080" y="4734000"/>
            <a:ext cx="26542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axial CYLINDERS</a:t>
            </a:r>
            <a:endParaRPr b="0" lang="en-US" sz="2000" spc="-1" strike="noStrike">
              <a:solidFill>
                <a:srgbClr val="000000"/>
              </a:solidFill>
              <a:latin typeface="Arial"/>
            </a:endParaRPr>
          </a:p>
        </p:txBody>
      </p:sp>
      <p:grpSp>
        <p:nvGrpSpPr>
          <p:cNvPr id="1083" name=""/>
          <p:cNvGrpSpPr/>
          <p:nvPr/>
        </p:nvGrpSpPr>
        <p:grpSpPr>
          <a:xfrm>
            <a:off x="5283360" y="4819680"/>
            <a:ext cx="2070000" cy="0"/>
            <a:chOff x="5283360" y="4819680"/>
            <a:chExt cx="2070000" cy="0"/>
          </a:xfrm>
        </p:grpSpPr>
        <p:sp>
          <p:nvSpPr>
            <p:cNvPr id="1084" name=""/>
            <p:cNvSpPr/>
            <p:nvPr/>
          </p:nvSpPr>
          <p:spPr>
            <a:xfrm>
              <a:off x="5283360" y="4819680"/>
              <a:ext cx="8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6416640" y="4819680"/>
              <a:ext cx="93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7" name=""/>
          <p:cNvSpPr/>
          <p:nvPr/>
        </p:nvSpPr>
        <p:spPr>
          <a:xfrm flipV="1">
            <a:off x="2817720" y="2536920"/>
            <a:ext cx="735120" cy="484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477720" y="112068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89" name=""/>
          <p:cNvSpPr txBox="1"/>
          <p:nvPr/>
        </p:nvSpPr>
        <p:spPr>
          <a:xfrm>
            <a:off x="593640" y="60642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90" name=""/>
          <p:cNvSpPr/>
          <p:nvPr/>
        </p:nvSpPr>
        <p:spPr>
          <a:xfrm>
            <a:off x="5464080" y="1735200"/>
            <a:ext cx="2600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5448240" y="1857240"/>
            <a:ext cx="2616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5418000" y="2717640"/>
            <a:ext cx="2646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5388120" y="2824200"/>
            <a:ext cx="2671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94" name=""/>
          <p:cNvGrpSpPr/>
          <p:nvPr/>
        </p:nvGrpSpPr>
        <p:grpSpPr>
          <a:xfrm>
            <a:off x="5905440" y="3260880"/>
            <a:ext cx="3237120" cy="1616040"/>
            <a:chOff x="5905440" y="3260880"/>
            <a:chExt cx="3237120" cy="1616040"/>
          </a:xfrm>
        </p:grpSpPr>
        <p:sp>
          <p:nvSpPr>
            <p:cNvPr id="1095" name=""/>
            <p:cNvSpPr txBox="1"/>
            <p:nvPr/>
          </p:nvSpPr>
          <p:spPr>
            <a:xfrm>
              <a:off x="6388200" y="3260880"/>
              <a:ext cx="2754360" cy="16160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Smallest true cylinder</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that circumscribe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the high point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of the featur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diameter.</a:t>
              </a:r>
              <a:endParaRPr b="0" lang="en-US" sz="2000" spc="-1" strike="noStrike">
                <a:solidFill>
                  <a:srgbClr val="000000"/>
                </a:solidFill>
                <a:latin typeface="Arial"/>
              </a:endParaRPr>
            </a:p>
          </p:txBody>
        </p:sp>
        <p:sp>
          <p:nvSpPr>
            <p:cNvPr id="1096" name=""/>
            <p:cNvSpPr/>
            <p:nvPr/>
          </p:nvSpPr>
          <p:spPr>
            <a:xfrm flipH="1">
              <a:off x="5905440" y="3444840"/>
              <a:ext cx="45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5905440" y="3444840"/>
              <a:ext cx="135000" cy="528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98" name=""/>
          <p:cNvGrpSpPr/>
          <p:nvPr/>
        </p:nvGrpSpPr>
        <p:grpSpPr>
          <a:xfrm>
            <a:off x="974880" y="2892600"/>
            <a:ext cx="430200" cy="264960"/>
            <a:chOff x="974880" y="2892600"/>
            <a:chExt cx="430200" cy="264960"/>
          </a:xfrm>
        </p:grpSpPr>
        <p:sp>
          <p:nvSpPr>
            <p:cNvPr id="1099" name=""/>
            <p:cNvSpPr/>
            <p:nvPr/>
          </p:nvSpPr>
          <p:spPr>
            <a:xfrm>
              <a:off x="1069920" y="290988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flipH="1">
              <a:off x="974880" y="2892600"/>
              <a:ext cx="16020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flipH="1">
              <a:off x="1244520" y="2927520"/>
              <a:ext cx="16056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0" name=""/>
          <p:cNvGrpSpPr/>
          <p:nvPr/>
        </p:nvGrpSpPr>
        <p:grpSpPr>
          <a:xfrm>
            <a:off x="0" y="0"/>
            <a:ext cx="9131400" cy="6872400"/>
            <a:chOff x="0" y="0"/>
            <a:chExt cx="9131400" cy="6872400"/>
          </a:xfrm>
        </p:grpSpPr>
        <p:sp>
          <p:nvSpPr>
            <p:cNvPr id="311" name=""/>
            <p:cNvSpPr/>
            <p:nvPr/>
          </p:nvSpPr>
          <p:spPr>
            <a:xfrm>
              <a:off x="4965840" y="9360"/>
              <a:ext cx="4165560" cy="5952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5"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4"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5"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8"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9"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0"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1"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3"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8"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2"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8" name=""/>
            <p:cNvGrpSpPr/>
            <p:nvPr/>
          </p:nvGrpSpPr>
          <p:grpSpPr>
            <a:xfrm>
              <a:off x="7902720" y="1098720"/>
              <a:ext cx="204480" cy="193680"/>
              <a:chOff x="7902720" y="1098720"/>
              <a:chExt cx="204480" cy="193680"/>
            </a:xfrm>
          </p:grpSpPr>
          <p:sp>
            <p:nvSpPr>
              <p:cNvPr id="399"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1"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2"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3"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4"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5"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06"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07"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8" name=""/>
            <p:cNvGrpSpPr/>
            <p:nvPr/>
          </p:nvGrpSpPr>
          <p:grpSpPr>
            <a:xfrm>
              <a:off x="6835680" y="396720"/>
              <a:ext cx="279360" cy="292320"/>
              <a:chOff x="6835680" y="396720"/>
              <a:chExt cx="279360" cy="292320"/>
            </a:xfrm>
          </p:grpSpPr>
          <p:sp>
            <p:nvSpPr>
              <p:cNvPr id="409"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2"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17"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19"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2" name=""/>
            <p:cNvGrpSpPr/>
            <p:nvPr/>
          </p:nvGrpSpPr>
          <p:grpSpPr>
            <a:xfrm>
              <a:off x="5981760" y="5961240"/>
              <a:ext cx="190440" cy="196560"/>
              <a:chOff x="5981760" y="5961240"/>
              <a:chExt cx="190440" cy="196560"/>
            </a:xfrm>
          </p:grpSpPr>
          <p:sp>
            <p:nvSpPr>
              <p:cNvPr id="423"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5"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26"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27" name=""/>
            <p:cNvGrpSpPr/>
            <p:nvPr/>
          </p:nvGrpSpPr>
          <p:grpSpPr>
            <a:xfrm>
              <a:off x="6891480" y="6418440"/>
              <a:ext cx="190440" cy="196560"/>
              <a:chOff x="6891480" y="6418440"/>
              <a:chExt cx="190440" cy="196560"/>
            </a:xfrm>
          </p:grpSpPr>
          <p:sp>
            <p:nvSpPr>
              <p:cNvPr id="428"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0"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3"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4"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1"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2"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3"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4"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5"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6"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7"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8"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9"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1" name=""/>
            <p:cNvGrpSpPr/>
            <p:nvPr/>
          </p:nvGrpSpPr>
          <p:grpSpPr>
            <a:xfrm>
              <a:off x="7164360" y="422280"/>
              <a:ext cx="204840" cy="193680"/>
              <a:chOff x="7164360" y="422280"/>
              <a:chExt cx="204840" cy="193680"/>
            </a:xfrm>
          </p:grpSpPr>
          <p:sp>
            <p:nvSpPr>
              <p:cNvPr id="452"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4" name=""/>
            <p:cNvGrpSpPr/>
            <p:nvPr/>
          </p:nvGrpSpPr>
          <p:grpSpPr>
            <a:xfrm>
              <a:off x="7413480" y="162000"/>
              <a:ext cx="163800" cy="155520"/>
              <a:chOff x="7413480" y="162000"/>
              <a:chExt cx="163800" cy="155520"/>
            </a:xfrm>
          </p:grpSpPr>
          <p:sp>
            <p:nvSpPr>
              <p:cNvPr id="455"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7" name=""/>
            <p:cNvGrpSpPr/>
            <p:nvPr/>
          </p:nvGrpSpPr>
          <p:grpSpPr>
            <a:xfrm>
              <a:off x="2940120" y="1822320"/>
              <a:ext cx="204840" cy="193680"/>
              <a:chOff x="2940120" y="1822320"/>
              <a:chExt cx="204840" cy="193680"/>
            </a:xfrm>
          </p:grpSpPr>
          <p:sp>
            <p:nvSpPr>
              <p:cNvPr id="458"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0"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1"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5"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67"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69"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4"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5"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78"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9" name=""/>
            <p:cNvGrpSpPr/>
            <p:nvPr/>
          </p:nvGrpSpPr>
          <p:grpSpPr>
            <a:xfrm>
              <a:off x="2998800" y="985680"/>
              <a:ext cx="279360" cy="292320"/>
              <a:chOff x="2998800" y="985680"/>
              <a:chExt cx="279360" cy="292320"/>
            </a:xfrm>
          </p:grpSpPr>
          <p:sp>
            <p:nvSpPr>
              <p:cNvPr id="480"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3"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4" name=""/>
            <p:cNvGrpSpPr/>
            <p:nvPr/>
          </p:nvGrpSpPr>
          <p:grpSpPr>
            <a:xfrm>
              <a:off x="3355920" y="1035000"/>
              <a:ext cx="204840" cy="193680"/>
              <a:chOff x="3355920" y="1035000"/>
              <a:chExt cx="204840" cy="193680"/>
            </a:xfrm>
          </p:grpSpPr>
          <p:sp>
            <p:nvSpPr>
              <p:cNvPr id="485"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7"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88"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0"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06"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07"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2"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7" name=""/>
            <p:cNvGrpSpPr/>
            <p:nvPr/>
          </p:nvGrpSpPr>
          <p:grpSpPr>
            <a:xfrm>
              <a:off x="501480" y="146160"/>
              <a:ext cx="204840" cy="193680"/>
              <a:chOff x="501480" y="146160"/>
              <a:chExt cx="204840" cy="193680"/>
            </a:xfrm>
          </p:grpSpPr>
          <p:sp>
            <p:nvSpPr>
              <p:cNvPr id="518"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0"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1"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28"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2"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36"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4"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4"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67"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69"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1" name=""/>
            <p:cNvGrpSpPr/>
            <p:nvPr/>
          </p:nvGrpSpPr>
          <p:grpSpPr>
            <a:xfrm>
              <a:off x="3422520" y="4789440"/>
              <a:ext cx="204840" cy="193680"/>
              <a:chOff x="3422520" y="4789440"/>
              <a:chExt cx="204840" cy="193680"/>
            </a:xfrm>
          </p:grpSpPr>
          <p:sp>
            <p:nvSpPr>
              <p:cNvPr id="572"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4"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5"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79"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0"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5" name=""/>
            <p:cNvSpPr txBox="1"/>
            <p:nvPr/>
          </p:nvSpPr>
          <p:spPr>
            <a:xfrm>
              <a:off x="3056040" y="0"/>
              <a:ext cx="356220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7</a:t>
              </a:r>
              <a:endParaRPr b="0" lang="en-US" sz="42200" spc="-1" strike="noStrike">
                <a:solidFill>
                  <a:srgbClr val="000000"/>
                </a:solidFill>
                <a:latin typeface="Arial"/>
              </a:endParaRPr>
            </a:p>
          </p:txBody>
        </p:sp>
        <p:grpSp>
          <p:nvGrpSpPr>
            <p:cNvPr id="586" name=""/>
            <p:cNvGrpSpPr/>
            <p:nvPr/>
          </p:nvGrpSpPr>
          <p:grpSpPr>
            <a:xfrm>
              <a:off x="6924600" y="1039680"/>
              <a:ext cx="2130480" cy="798480"/>
              <a:chOff x="6924600" y="1039680"/>
              <a:chExt cx="2130480" cy="798480"/>
            </a:xfrm>
          </p:grpSpPr>
          <p:sp>
            <p:nvSpPr>
              <p:cNvPr id="587" name=""/>
              <p:cNvSpPr/>
              <p:nvPr/>
            </p:nvSpPr>
            <p:spPr>
              <a:xfrm>
                <a:off x="6924600" y="103968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88" name=""/>
              <p:cNvSpPr txBox="1"/>
              <p:nvPr/>
            </p:nvSpPr>
            <p:spPr>
              <a:xfrm>
                <a:off x="6969240" y="108432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89"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90"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1" name=""/>
            <p:cNvSpPr txBox="1"/>
            <p:nvPr/>
          </p:nvSpPr>
          <p:spPr>
            <a:xfrm>
              <a:off x="223920" y="5168880"/>
              <a:ext cx="777240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FORM</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02"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1103" name=""/>
          <p:cNvGrpSpPr/>
          <p:nvPr/>
        </p:nvGrpSpPr>
        <p:grpSpPr>
          <a:xfrm>
            <a:off x="3286080" y="1581120"/>
            <a:ext cx="4948200" cy="1381320"/>
            <a:chOff x="3286080" y="1581120"/>
            <a:chExt cx="4948200" cy="1381320"/>
          </a:xfrm>
        </p:grpSpPr>
        <p:sp>
          <p:nvSpPr>
            <p:cNvPr id="1104" name=""/>
            <p:cNvSpPr/>
            <p:nvPr/>
          </p:nvSpPr>
          <p:spPr>
            <a:xfrm>
              <a:off x="3476520" y="17859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5" name=""/>
            <p:cNvSpPr/>
            <p:nvPr/>
          </p:nvSpPr>
          <p:spPr>
            <a:xfrm>
              <a:off x="5524560" y="17859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106" name=""/>
            <p:cNvGrpSpPr/>
            <p:nvPr/>
          </p:nvGrpSpPr>
          <p:grpSpPr>
            <a:xfrm>
              <a:off x="3286080" y="2281320"/>
              <a:ext cx="1428840" cy="0"/>
              <a:chOff x="3286080" y="2281320"/>
              <a:chExt cx="1428840" cy="0"/>
            </a:xfrm>
          </p:grpSpPr>
          <p:sp>
            <p:nvSpPr>
              <p:cNvPr id="1107" name=""/>
              <p:cNvSpPr/>
              <p:nvPr/>
            </p:nvSpPr>
            <p:spPr>
              <a:xfrm>
                <a:off x="3286080" y="228132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3895560" y="228132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4191120" y="22813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10" name=""/>
            <p:cNvGrpSpPr/>
            <p:nvPr/>
          </p:nvGrpSpPr>
          <p:grpSpPr>
            <a:xfrm>
              <a:off x="5291280" y="2279520"/>
              <a:ext cx="2943000" cy="0"/>
              <a:chOff x="5291280" y="2279520"/>
              <a:chExt cx="2943000" cy="0"/>
            </a:xfrm>
          </p:grpSpPr>
          <p:sp>
            <p:nvSpPr>
              <p:cNvPr id="1111" name=""/>
              <p:cNvSpPr/>
              <p:nvPr/>
            </p:nvSpPr>
            <p:spPr>
              <a:xfrm>
                <a:off x="5291280" y="22795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a:off x="6729480" y="22795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a:off x="6986520" y="22795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a:off x="7891560" y="2279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5" name=""/>
            <p:cNvSpPr/>
            <p:nvPr/>
          </p:nvSpPr>
          <p:spPr>
            <a:xfrm>
              <a:off x="3976560" y="15811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3976560" y="21906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3976560" y="24382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8" name=""/>
          <p:cNvSpPr/>
          <p:nvPr/>
        </p:nvSpPr>
        <p:spPr>
          <a:xfrm>
            <a:off x="5435640" y="3965400"/>
            <a:ext cx="1714680" cy="17146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flipV="1">
            <a:off x="5743440" y="4829040"/>
            <a:ext cx="419400" cy="41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flipV="1">
            <a:off x="6286680" y="352440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flipV="1">
            <a:off x="6286680" y="1380960"/>
            <a:ext cx="0" cy="19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857160" y="2793960"/>
            <a:ext cx="161928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a:off x="1643040" y="27939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a:off x="5472000" y="3971880"/>
            <a:ext cx="1638720" cy="1614960"/>
          </a:xfrm>
          <a:custGeom>
            <a:avLst/>
            <a:gdLst/>
            <a:ahLst/>
            <a:rect l="0" t="0" r="r" b="b"/>
            <a:pathLst>
              <a:path w="4552" h="4486">
                <a:moveTo>
                  <a:pt x="2263" y="26"/>
                </a:moveTo>
                <a:lnTo>
                  <a:pt x="2130" y="26"/>
                </a:lnTo>
                <a:lnTo>
                  <a:pt x="2091" y="26"/>
                </a:lnTo>
                <a:lnTo>
                  <a:pt x="2051" y="39"/>
                </a:lnTo>
                <a:lnTo>
                  <a:pt x="2011" y="52"/>
                </a:lnTo>
                <a:lnTo>
                  <a:pt x="1972" y="79"/>
                </a:lnTo>
                <a:lnTo>
                  <a:pt x="1932" y="105"/>
                </a:lnTo>
                <a:lnTo>
                  <a:pt x="1892" y="132"/>
                </a:lnTo>
                <a:lnTo>
                  <a:pt x="1839" y="132"/>
                </a:lnTo>
                <a:lnTo>
                  <a:pt x="1786" y="158"/>
                </a:lnTo>
                <a:lnTo>
                  <a:pt x="1747" y="171"/>
                </a:lnTo>
                <a:lnTo>
                  <a:pt x="1667" y="185"/>
                </a:lnTo>
                <a:lnTo>
                  <a:pt x="1588" y="198"/>
                </a:lnTo>
                <a:lnTo>
                  <a:pt x="1544" y="246"/>
                </a:lnTo>
                <a:lnTo>
                  <a:pt x="1517" y="260"/>
                </a:lnTo>
                <a:lnTo>
                  <a:pt x="1482" y="277"/>
                </a:lnTo>
                <a:lnTo>
                  <a:pt x="1442" y="304"/>
                </a:lnTo>
                <a:lnTo>
                  <a:pt x="1376" y="330"/>
                </a:lnTo>
                <a:lnTo>
                  <a:pt x="1319" y="352"/>
                </a:lnTo>
                <a:lnTo>
                  <a:pt x="1297" y="352"/>
                </a:lnTo>
                <a:lnTo>
                  <a:pt x="1266" y="392"/>
                </a:lnTo>
                <a:lnTo>
                  <a:pt x="1218" y="432"/>
                </a:lnTo>
                <a:lnTo>
                  <a:pt x="1173" y="449"/>
                </a:lnTo>
                <a:lnTo>
                  <a:pt x="1124" y="502"/>
                </a:lnTo>
                <a:lnTo>
                  <a:pt x="1080" y="537"/>
                </a:lnTo>
                <a:lnTo>
                  <a:pt x="1031" y="542"/>
                </a:lnTo>
                <a:lnTo>
                  <a:pt x="992" y="582"/>
                </a:lnTo>
                <a:lnTo>
                  <a:pt x="952" y="608"/>
                </a:lnTo>
                <a:lnTo>
                  <a:pt x="912" y="661"/>
                </a:lnTo>
                <a:lnTo>
                  <a:pt x="873" y="687"/>
                </a:lnTo>
                <a:lnTo>
                  <a:pt x="833" y="727"/>
                </a:lnTo>
                <a:lnTo>
                  <a:pt x="793" y="754"/>
                </a:lnTo>
                <a:lnTo>
                  <a:pt x="767" y="793"/>
                </a:lnTo>
                <a:lnTo>
                  <a:pt x="714" y="820"/>
                </a:lnTo>
                <a:lnTo>
                  <a:pt x="687" y="859"/>
                </a:lnTo>
                <a:lnTo>
                  <a:pt x="648" y="886"/>
                </a:lnTo>
                <a:lnTo>
                  <a:pt x="621" y="926"/>
                </a:lnTo>
                <a:lnTo>
                  <a:pt x="582" y="952"/>
                </a:lnTo>
                <a:lnTo>
                  <a:pt x="555" y="992"/>
                </a:lnTo>
                <a:lnTo>
                  <a:pt x="515" y="1018"/>
                </a:lnTo>
                <a:lnTo>
                  <a:pt x="476" y="1058"/>
                </a:lnTo>
                <a:lnTo>
                  <a:pt x="436" y="1098"/>
                </a:lnTo>
                <a:lnTo>
                  <a:pt x="410" y="1138"/>
                </a:lnTo>
                <a:lnTo>
                  <a:pt x="383" y="1178"/>
                </a:lnTo>
                <a:lnTo>
                  <a:pt x="357" y="1218"/>
                </a:lnTo>
                <a:lnTo>
                  <a:pt x="317" y="1257"/>
                </a:lnTo>
                <a:lnTo>
                  <a:pt x="291" y="1297"/>
                </a:lnTo>
                <a:lnTo>
                  <a:pt x="251" y="1323"/>
                </a:lnTo>
                <a:lnTo>
                  <a:pt x="224" y="1363"/>
                </a:lnTo>
                <a:lnTo>
                  <a:pt x="198" y="1403"/>
                </a:lnTo>
                <a:lnTo>
                  <a:pt x="185" y="1442"/>
                </a:lnTo>
                <a:lnTo>
                  <a:pt x="158" y="1482"/>
                </a:lnTo>
                <a:lnTo>
                  <a:pt x="132" y="1522"/>
                </a:lnTo>
                <a:lnTo>
                  <a:pt x="105" y="1562"/>
                </a:lnTo>
                <a:lnTo>
                  <a:pt x="92" y="1601"/>
                </a:lnTo>
                <a:lnTo>
                  <a:pt x="61" y="1654"/>
                </a:lnTo>
                <a:lnTo>
                  <a:pt x="61" y="1676"/>
                </a:lnTo>
                <a:lnTo>
                  <a:pt x="22" y="1729"/>
                </a:lnTo>
                <a:lnTo>
                  <a:pt x="26" y="1786"/>
                </a:lnTo>
                <a:lnTo>
                  <a:pt x="22" y="1822"/>
                </a:lnTo>
                <a:lnTo>
                  <a:pt x="8" y="1919"/>
                </a:lnTo>
                <a:lnTo>
                  <a:pt x="13" y="1928"/>
                </a:lnTo>
                <a:lnTo>
                  <a:pt x="0" y="1980"/>
                </a:lnTo>
                <a:lnTo>
                  <a:pt x="0" y="2060"/>
                </a:lnTo>
                <a:lnTo>
                  <a:pt x="8" y="2192"/>
                </a:lnTo>
                <a:lnTo>
                  <a:pt x="39" y="2324"/>
                </a:lnTo>
                <a:lnTo>
                  <a:pt x="35" y="2404"/>
                </a:lnTo>
                <a:lnTo>
                  <a:pt x="79" y="2474"/>
                </a:lnTo>
                <a:lnTo>
                  <a:pt x="79" y="2514"/>
                </a:lnTo>
                <a:lnTo>
                  <a:pt x="79" y="2593"/>
                </a:lnTo>
                <a:lnTo>
                  <a:pt x="92" y="2633"/>
                </a:lnTo>
                <a:lnTo>
                  <a:pt x="105" y="2673"/>
                </a:lnTo>
                <a:lnTo>
                  <a:pt x="119" y="2712"/>
                </a:lnTo>
                <a:lnTo>
                  <a:pt x="132" y="2805"/>
                </a:lnTo>
                <a:lnTo>
                  <a:pt x="145" y="2845"/>
                </a:lnTo>
                <a:lnTo>
                  <a:pt x="158" y="2884"/>
                </a:lnTo>
                <a:lnTo>
                  <a:pt x="171" y="2937"/>
                </a:lnTo>
                <a:lnTo>
                  <a:pt x="171" y="2977"/>
                </a:lnTo>
                <a:lnTo>
                  <a:pt x="185" y="3056"/>
                </a:lnTo>
                <a:lnTo>
                  <a:pt x="198" y="3096"/>
                </a:lnTo>
                <a:lnTo>
                  <a:pt x="211" y="3136"/>
                </a:lnTo>
                <a:lnTo>
                  <a:pt x="224" y="3176"/>
                </a:lnTo>
                <a:lnTo>
                  <a:pt x="264" y="3334"/>
                </a:lnTo>
                <a:lnTo>
                  <a:pt x="291" y="3375"/>
                </a:lnTo>
                <a:lnTo>
                  <a:pt x="317" y="3481"/>
                </a:lnTo>
                <a:lnTo>
                  <a:pt x="343" y="3534"/>
                </a:lnTo>
                <a:lnTo>
                  <a:pt x="370" y="3573"/>
                </a:lnTo>
                <a:lnTo>
                  <a:pt x="383" y="3613"/>
                </a:lnTo>
                <a:lnTo>
                  <a:pt x="410" y="3666"/>
                </a:lnTo>
                <a:lnTo>
                  <a:pt x="423" y="3706"/>
                </a:lnTo>
                <a:lnTo>
                  <a:pt x="458" y="3767"/>
                </a:lnTo>
                <a:lnTo>
                  <a:pt x="471" y="3807"/>
                </a:lnTo>
                <a:lnTo>
                  <a:pt x="511" y="3851"/>
                </a:lnTo>
                <a:lnTo>
                  <a:pt x="551" y="3878"/>
                </a:lnTo>
                <a:lnTo>
                  <a:pt x="551" y="3913"/>
                </a:lnTo>
                <a:lnTo>
                  <a:pt x="617" y="3931"/>
                </a:lnTo>
                <a:lnTo>
                  <a:pt x="648" y="3970"/>
                </a:lnTo>
                <a:lnTo>
                  <a:pt x="687" y="3997"/>
                </a:lnTo>
                <a:lnTo>
                  <a:pt x="793" y="4023"/>
                </a:lnTo>
                <a:lnTo>
                  <a:pt x="833" y="4036"/>
                </a:lnTo>
                <a:lnTo>
                  <a:pt x="965" y="4063"/>
                </a:lnTo>
                <a:lnTo>
                  <a:pt x="1005" y="4063"/>
                </a:lnTo>
                <a:lnTo>
                  <a:pt x="1058" y="4116"/>
                </a:lnTo>
                <a:lnTo>
                  <a:pt x="1191" y="4169"/>
                </a:lnTo>
                <a:lnTo>
                  <a:pt x="1271" y="4195"/>
                </a:lnTo>
                <a:lnTo>
                  <a:pt x="1310" y="4235"/>
                </a:lnTo>
                <a:lnTo>
                  <a:pt x="1350" y="4261"/>
                </a:lnTo>
                <a:lnTo>
                  <a:pt x="1390" y="4275"/>
                </a:lnTo>
                <a:lnTo>
                  <a:pt x="1442" y="4314"/>
                </a:lnTo>
                <a:lnTo>
                  <a:pt x="1575" y="4341"/>
                </a:lnTo>
                <a:lnTo>
                  <a:pt x="1681" y="4367"/>
                </a:lnTo>
                <a:lnTo>
                  <a:pt x="1786" y="4394"/>
                </a:lnTo>
                <a:lnTo>
                  <a:pt x="1972" y="4473"/>
                </a:lnTo>
                <a:lnTo>
                  <a:pt x="2011" y="4486"/>
                </a:lnTo>
                <a:lnTo>
                  <a:pt x="2117" y="4486"/>
                </a:lnTo>
                <a:lnTo>
                  <a:pt x="2197" y="4486"/>
                </a:lnTo>
                <a:lnTo>
                  <a:pt x="2249" y="4486"/>
                </a:lnTo>
                <a:lnTo>
                  <a:pt x="2302" y="4486"/>
                </a:lnTo>
                <a:lnTo>
                  <a:pt x="2342" y="4486"/>
                </a:lnTo>
                <a:lnTo>
                  <a:pt x="2421" y="4486"/>
                </a:lnTo>
                <a:lnTo>
                  <a:pt x="2461" y="4486"/>
                </a:lnTo>
                <a:lnTo>
                  <a:pt x="2541" y="4486"/>
                </a:lnTo>
                <a:lnTo>
                  <a:pt x="2660" y="4447"/>
                </a:lnTo>
                <a:lnTo>
                  <a:pt x="2712" y="4433"/>
                </a:lnTo>
                <a:lnTo>
                  <a:pt x="2774" y="4460"/>
                </a:lnTo>
                <a:lnTo>
                  <a:pt x="2818" y="4447"/>
                </a:lnTo>
                <a:lnTo>
                  <a:pt x="2884" y="4460"/>
                </a:lnTo>
                <a:lnTo>
                  <a:pt x="2986" y="4442"/>
                </a:lnTo>
                <a:lnTo>
                  <a:pt x="3070" y="4429"/>
                </a:lnTo>
                <a:lnTo>
                  <a:pt x="3149" y="4380"/>
                </a:lnTo>
                <a:lnTo>
                  <a:pt x="3189" y="4367"/>
                </a:lnTo>
                <a:lnTo>
                  <a:pt x="3228" y="4354"/>
                </a:lnTo>
                <a:lnTo>
                  <a:pt x="3308" y="4341"/>
                </a:lnTo>
                <a:lnTo>
                  <a:pt x="3400" y="4327"/>
                </a:lnTo>
                <a:lnTo>
                  <a:pt x="3507" y="4301"/>
                </a:lnTo>
                <a:lnTo>
                  <a:pt x="3547" y="4288"/>
                </a:lnTo>
                <a:lnTo>
                  <a:pt x="3635" y="4248"/>
                </a:lnTo>
                <a:lnTo>
                  <a:pt x="3701" y="4208"/>
                </a:lnTo>
                <a:lnTo>
                  <a:pt x="3754" y="4169"/>
                </a:lnTo>
                <a:lnTo>
                  <a:pt x="3759" y="4129"/>
                </a:lnTo>
                <a:lnTo>
                  <a:pt x="3812" y="4111"/>
                </a:lnTo>
                <a:lnTo>
                  <a:pt x="3825" y="4098"/>
                </a:lnTo>
                <a:lnTo>
                  <a:pt x="3878" y="4050"/>
                </a:lnTo>
                <a:lnTo>
                  <a:pt x="3917" y="4036"/>
                </a:lnTo>
                <a:lnTo>
                  <a:pt x="3957" y="3944"/>
                </a:lnTo>
                <a:lnTo>
                  <a:pt x="3983" y="3904"/>
                </a:lnTo>
                <a:lnTo>
                  <a:pt x="4010" y="3864"/>
                </a:lnTo>
                <a:lnTo>
                  <a:pt x="4010" y="3825"/>
                </a:lnTo>
                <a:lnTo>
                  <a:pt x="4036" y="3772"/>
                </a:lnTo>
                <a:lnTo>
                  <a:pt x="4050" y="3719"/>
                </a:lnTo>
                <a:lnTo>
                  <a:pt x="4063" y="3666"/>
                </a:lnTo>
                <a:lnTo>
                  <a:pt x="4076" y="3626"/>
                </a:lnTo>
                <a:lnTo>
                  <a:pt x="4089" y="3587"/>
                </a:lnTo>
                <a:lnTo>
                  <a:pt x="4116" y="3534"/>
                </a:lnTo>
                <a:lnTo>
                  <a:pt x="4169" y="3463"/>
                </a:lnTo>
                <a:lnTo>
                  <a:pt x="4169" y="3423"/>
                </a:lnTo>
                <a:lnTo>
                  <a:pt x="4204" y="3397"/>
                </a:lnTo>
                <a:lnTo>
                  <a:pt x="4248" y="3250"/>
                </a:lnTo>
                <a:lnTo>
                  <a:pt x="4244" y="3211"/>
                </a:lnTo>
                <a:lnTo>
                  <a:pt x="4244" y="3211"/>
                </a:lnTo>
                <a:lnTo>
                  <a:pt x="4283" y="3118"/>
                </a:lnTo>
                <a:lnTo>
                  <a:pt x="4310" y="3043"/>
                </a:lnTo>
                <a:lnTo>
                  <a:pt x="4341" y="2946"/>
                </a:lnTo>
                <a:lnTo>
                  <a:pt x="4363" y="2867"/>
                </a:lnTo>
                <a:lnTo>
                  <a:pt x="4376" y="2792"/>
                </a:lnTo>
                <a:lnTo>
                  <a:pt x="4394" y="2712"/>
                </a:lnTo>
                <a:lnTo>
                  <a:pt x="4447" y="2642"/>
                </a:lnTo>
                <a:lnTo>
                  <a:pt x="4473" y="2615"/>
                </a:lnTo>
                <a:lnTo>
                  <a:pt x="4495" y="2563"/>
                </a:lnTo>
                <a:lnTo>
                  <a:pt x="4508" y="2474"/>
                </a:lnTo>
                <a:lnTo>
                  <a:pt x="4521" y="2404"/>
                </a:lnTo>
                <a:lnTo>
                  <a:pt x="4513" y="2324"/>
                </a:lnTo>
                <a:lnTo>
                  <a:pt x="4513" y="2245"/>
                </a:lnTo>
                <a:lnTo>
                  <a:pt x="4535" y="2183"/>
                </a:lnTo>
                <a:lnTo>
                  <a:pt x="4548" y="2144"/>
                </a:lnTo>
                <a:lnTo>
                  <a:pt x="4535" y="2117"/>
                </a:lnTo>
                <a:lnTo>
                  <a:pt x="4552" y="2091"/>
                </a:lnTo>
                <a:lnTo>
                  <a:pt x="4548" y="2038"/>
                </a:lnTo>
                <a:lnTo>
                  <a:pt x="4548" y="1998"/>
                </a:lnTo>
                <a:lnTo>
                  <a:pt x="4539" y="1958"/>
                </a:lnTo>
                <a:lnTo>
                  <a:pt x="4548" y="1888"/>
                </a:lnTo>
                <a:lnTo>
                  <a:pt x="4521" y="1826"/>
                </a:lnTo>
                <a:lnTo>
                  <a:pt x="4526" y="1782"/>
                </a:lnTo>
                <a:lnTo>
                  <a:pt x="4521" y="1694"/>
                </a:lnTo>
                <a:lnTo>
                  <a:pt x="4508" y="1650"/>
                </a:lnTo>
                <a:lnTo>
                  <a:pt x="4508" y="1601"/>
                </a:lnTo>
                <a:lnTo>
                  <a:pt x="4482" y="1548"/>
                </a:lnTo>
                <a:lnTo>
                  <a:pt x="4455" y="1495"/>
                </a:lnTo>
                <a:lnTo>
                  <a:pt x="4416" y="1451"/>
                </a:lnTo>
                <a:lnTo>
                  <a:pt x="4367" y="1398"/>
                </a:lnTo>
                <a:lnTo>
                  <a:pt x="4336" y="1306"/>
                </a:lnTo>
                <a:lnTo>
                  <a:pt x="4301" y="1231"/>
                </a:lnTo>
                <a:lnTo>
                  <a:pt x="4116" y="1045"/>
                </a:lnTo>
                <a:lnTo>
                  <a:pt x="4076" y="1005"/>
                </a:lnTo>
                <a:lnTo>
                  <a:pt x="4023" y="978"/>
                </a:lnTo>
                <a:lnTo>
                  <a:pt x="3957" y="926"/>
                </a:lnTo>
                <a:lnTo>
                  <a:pt x="3904" y="886"/>
                </a:lnTo>
                <a:lnTo>
                  <a:pt x="3851" y="842"/>
                </a:lnTo>
                <a:lnTo>
                  <a:pt x="3785" y="802"/>
                </a:lnTo>
                <a:lnTo>
                  <a:pt x="3679" y="723"/>
                </a:lnTo>
                <a:lnTo>
                  <a:pt x="3587" y="617"/>
                </a:lnTo>
                <a:lnTo>
                  <a:pt x="3516" y="529"/>
                </a:lnTo>
                <a:lnTo>
                  <a:pt x="3441" y="476"/>
                </a:lnTo>
                <a:lnTo>
                  <a:pt x="3356" y="423"/>
                </a:lnTo>
                <a:lnTo>
                  <a:pt x="3281" y="392"/>
                </a:lnTo>
                <a:lnTo>
                  <a:pt x="3189" y="370"/>
                </a:lnTo>
                <a:lnTo>
                  <a:pt x="3136" y="330"/>
                </a:lnTo>
                <a:lnTo>
                  <a:pt x="3092" y="339"/>
                </a:lnTo>
                <a:lnTo>
                  <a:pt x="3012" y="299"/>
                </a:lnTo>
                <a:lnTo>
                  <a:pt x="2959" y="277"/>
                </a:lnTo>
                <a:lnTo>
                  <a:pt x="2858" y="233"/>
                </a:lnTo>
                <a:lnTo>
                  <a:pt x="2801" y="220"/>
                </a:lnTo>
                <a:lnTo>
                  <a:pt x="2774" y="198"/>
                </a:lnTo>
                <a:lnTo>
                  <a:pt x="2668" y="145"/>
                </a:lnTo>
                <a:lnTo>
                  <a:pt x="2642" y="132"/>
                </a:lnTo>
                <a:lnTo>
                  <a:pt x="2567" y="105"/>
                </a:lnTo>
                <a:lnTo>
                  <a:pt x="2483" y="88"/>
                </a:lnTo>
                <a:lnTo>
                  <a:pt x="2435" y="66"/>
                </a:lnTo>
                <a:lnTo>
                  <a:pt x="2395" y="66"/>
                </a:lnTo>
                <a:lnTo>
                  <a:pt x="2342" y="52"/>
                </a:lnTo>
                <a:lnTo>
                  <a:pt x="2302" y="39"/>
                </a:lnTo>
                <a:lnTo>
                  <a:pt x="2263" y="0"/>
                </a:lnTo>
                <a:lnTo>
                  <a:pt x="2263"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5" name=""/>
          <p:cNvSpPr txBox="1"/>
          <p:nvPr/>
        </p:nvSpPr>
        <p:spPr>
          <a:xfrm>
            <a:off x="1789200" y="2852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1126" name=""/>
          <p:cNvSpPr/>
          <p:nvPr/>
        </p:nvSpPr>
        <p:spPr>
          <a:xfrm flipH="1">
            <a:off x="2476440" y="302724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5586480" y="4108320"/>
            <a:ext cx="1405080" cy="1405080"/>
          </a:xfrm>
          <a:prstGeom prst="ellipse">
            <a:avLst/>
          </a:prstGeom>
          <a:blipFill rotWithShape="0">
            <a:blip r:embed="rId2"/>
            <a:tile tx="0" ty="0" sx="133018" sy="133018" algn="ctr"/>
          </a:blip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6286680" y="3819600"/>
            <a:ext cx="0" cy="20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 name=""/>
          <p:cNvSpPr txBox="1"/>
          <p:nvPr/>
        </p:nvSpPr>
        <p:spPr>
          <a:xfrm>
            <a:off x="1900080" y="4734000"/>
            <a:ext cx="26542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axial CYLINDERS</a:t>
            </a:r>
            <a:endParaRPr b="0" lang="en-US" sz="2000" spc="-1" strike="noStrike">
              <a:solidFill>
                <a:srgbClr val="000000"/>
              </a:solidFill>
              <a:latin typeface="Arial"/>
            </a:endParaRPr>
          </a:p>
        </p:txBody>
      </p:sp>
      <p:grpSp>
        <p:nvGrpSpPr>
          <p:cNvPr id="1130" name=""/>
          <p:cNvGrpSpPr/>
          <p:nvPr/>
        </p:nvGrpSpPr>
        <p:grpSpPr>
          <a:xfrm>
            <a:off x="5283360" y="4819680"/>
            <a:ext cx="2070000" cy="0"/>
            <a:chOff x="5283360" y="4819680"/>
            <a:chExt cx="2070000" cy="0"/>
          </a:xfrm>
        </p:grpSpPr>
        <p:sp>
          <p:nvSpPr>
            <p:cNvPr id="1131" name=""/>
            <p:cNvSpPr/>
            <p:nvPr/>
          </p:nvSpPr>
          <p:spPr>
            <a:xfrm>
              <a:off x="5283360" y="4819680"/>
              <a:ext cx="8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a:off x="6416640" y="4819680"/>
              <a:ext cx="93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4" name=""/>
          <p:cNvSpPr/>
          <p:nvPr/>
        </p:nvSpPr>
        <p:spPr>
          <a:xfrm flipH="1">
            <a:off x="4743360" y="5381640"/>
            <a:ext cx="885960" cy="885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4743360" y="626760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 name=""/>
          <p:cNvSpPr txBox="1"/>
          <p:nvPr/>
        </p:nvSpPr>
        <p:spPr>
          <a:xfrm>
            <a:off x="5070600" y="6087960"/>
            <a:ext cx="238608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4 Radial Distance</a:t>
            </a:r>
            <a:endParaRPr b="0" lang="en-US" sz="2000" spc="-1" strike="noStrike">
              <a:solidFill>
                <a:srgbClr val="000000"/>
              </a:solidFill>
              <a:latin typeface="Arial"/>
            </a:endParaRPr>
          </a:p>
        </p:txBody>
      </p:sp>
      <p:sp>
        <p:nvSpPr>
          <p:cNvPr id="1137" name=""/>
          <p:cNvSpPr/>
          <p:nvPr/>
        </p:nvSpPr>
        <p:spPr>
          <a:xfrm flipV="1">
            <a:off x="5764320" y="4973760"/>
            <a:ext cx="274680" cy="27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flipV="1">
            <a:off x="2817720" y="2536920"/>
            <a:ext cx="735120" cy="484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 name=""/>
          <p:cNvSpPr txBox="1"/>
          <p:nvPr/>
        </p:nvSpPr>
        <p:spPr>
          <a:xfrm>
            <a:off x="477720" y="112068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40" name=""/>
          <p:cNvSpPr txBox="1"/>
          <p:nvPr/>
        </p:nvSpPr>
        <p:spPr>
          <a:xfrm>
            <a:off x="593640" y="60642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41" name=""/>
          <p:cNvSpPr/>
          <p:nvPr/>
        </p:nvSpPr>
        <p:spPr>
          <a:xfrm>
            <a:off x="5464080" y="1735200"/>
            <a:ext cx="2600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 name=""/>
          <p:cNvSpPr/>
          <p:nvPr/>
        </p:nvSpPr>
        <p:spPr>
          <a:xfrm>
            <a:off x="5448240" y="1857240"/>
            <a:ext cx="2616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a:off x="5418000" y="2717640"/>
            <a:ext cx="2646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 name=""/>
          <p:cNvSpPr/>
          <p:nvPr/>
        </p:nvSpPr>
        <p:spPr>
          <a:xfrm>
            <a:off x="5388120" y="2824200"/>
            <a:ext cx="2671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45" name=""/>
          <p:cNvGrpSpPr/>
          <p:nvPr/>
        </p:nvGrpSpPr>
        <p:grpSpPr>
          <a:xfrm>
            <a:off x="5905440" y="3260880"/>
            <a:ext cx="3237120" cy="1616040"/>
            <a:chOff x="5905440" y="3260880"/>
            <a:chExt cx="3237120" cy="1616040"/>
          </a:xfrm>
        </p:grpSpPr>
        <p:sp>
          <p:nvSpPr>
            <p:cNvPr id="1146" name=""/>
            <p:cNvSpPr txBox="1"/>
            <p:nvPr/>
          </p:nvSpPr>
          <p:spPr>
            <a:xfrm>
              <a:off x="6388200" y="3260880"/>
              <a:ext cx="2754360" cy="16160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Smallest true cylinder</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that circumscribe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the high point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of the featur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             </a:t>
              </a:r>
              <a:r>
                <a:rPr b="0" lang="en-US" sz="2000" spc="-1" strike="noStrike">
                  <a:solidFill>
                    <a:srgbClr val="fafd00"/>
                  </a:solidFill>
                  <a:latin typeface="Arial"/>
                  <a:ea typeface="Arial"/>
                </a:rPr>
                <a:t>diameter.</a:t>
              </a:r>
              <a:endParaRPr b="0" lang="en-US" sz="2000" spc="-1" strike="noStrike">
                <a:solidFill>
                  <a:srgbClr val="000000"/>
                </a:solidFill>
                <a:latin typeface="Arial"/>
              </a:endParaRPr>
            </a:p>
          </p:txBody>
        </p:sp>
        <p:sp>
          <p:nvSpPr>
            <p:cNvPr id="1147" name=""/>
            <p:cNvSpPr/>
            <p:nvPr/>
          </p:nvSpPr>
          <p:spPr>
            <a:xfrm flipH="1">
              <a:off x="5905440" y="3444840"/>
              <a:ext cx="45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5905440" y="3444840"/>
              <a:ext cx="135000" cy="528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49" name=""/>
          <p:cNvGrpSpPr/>
          <p:nvPr/>
        </p:nvGrpSpPr>
        <p:grpSpPr>
          <a:xfrm>
            <a:off x="974880" y="2892600"/>
            <a:ext cx="430200" cy="264960"/>
            <a:chOff x="974880" y="2892600"/>
            <a:chExt cx="430200" cy="264960"/>
          </a:xfrm>
        </p:grpSpPr>
        <p:sp>
          <p:nvSpPr>
            <p:cNvPr id="1150" name=""/>
            <p:cNvSpPr/>
            <p:nvPr/>
          </p:nvSpPr>
          <p:spPr>
            <a:xfrm>
              <a:off x="1069920" y="290988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flipH="1">
              <a:off x="974880" y="2892600"/>
              <a:ext cx="16020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p:nvPr/>
          </p:nvSpPr>
          <p:spPr>
            <a:xfrm flipH="1">
              <a:off x="1244520" y="2927520"/>
              <a:ext cx="16056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3"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1154" name=""/>
          <p:cNvGrpSpPr/>
          <p:nvPr/>
        </p:nvGrpSpPr>
        <p:grpSpPr>
          <a:xfrm>
            <a:off x="3286080" y="1581120"/>
            <a:ext cx="4948200" cy="1381320"/>
            <a:chOff x="3286080" y="1581120"/>
            <a:chExt cx="4948200" cy="1381320"/>
          </a:xfrm>
        </p:grpSpPr>
        <p:sp>
          <p:nvSpPr>
            <p:cNvPr id="1155" name=""/>
            <p:cNvSpPr/>
            <p:nvPr/>
          </p:nvSpPr>
          <p:spPr>
            <a:xfrm>
              <a:off x="3476520" y="17859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6" name=""/>
            <p:cNvSpPr/>
            <p:nvPr/>
          </p:nvSpPr>
          <p:spPr>
            <a:xfrm>
              <a:off x="5524560" y="17859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157" name=""/>
            <p:cNvGrpSpPr/>
            <p:nvPr/>
          </p:nvGrpSpPr>
          <p:grpSpPr>
            <a:xfrm>
              <a:off x="3286080" y="2281320"/>
              <a:ext cx="1428840" cy="0"/>
              <a:chOff x="3286080" y="2281320"/>
              <a:chExt cx="1428840" cy="0"/>
            </a:xfrm>
          </p:grpSpPr>
          <p:sp>
            <p:nvSpPr>
              <p:cNvPr id="1158" name=""/>
              <p:cNvSpPr/>
              <p:nvPr/>
            </p:nvSpPr>
            <p:spPr>
              <a:xfrm>
                <a:off x="3286080" y="228132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a:off x="3895560" y="228132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4191120" y="22813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61" name=""/>
            <p:cNvGrpSpPr/>
            <p:nvPr/>
          </p:nvGrpSpPr>
          <p:grpSpPr>
            <a:xfrm>
              <a:off x="5291280" y="2279520"/>
              <a:ext cx="2943000" cy="0"/>
              <a:chOff x="5291280" y="2279520"/>
              <a:chExt cx="2943000" cy="0"/>
            </a:xfrm>
          </p:grpSpPr>
          <p:sp>
            <p:nvSpPr>
              <p:cNvPr id="1162" name=""/>
              <p:cNvSpPr/>
              <p:nvPr/>
            </p:nvSpPr>
            <p:spPr>
              <a:xfrm>
                <a:off x="5291280" y="22795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6729480" y="22795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a:off x="6986520" y="22795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7891560" y="2279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6" name=""/>
            <p:cNvSpPr/>
            <p:nvPr/>
          </p:nvSpPr>
          <p:spPr>
            <a:xfrm>
              <a:off x="3976560" y="15811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3976560" y="21906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3976560" y="24382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9" name=""/>
          <p:cNvSpPr/>
          <p:nvPr/>
        </p:nvSpPr>
        <p:spPr>
          <a:xfrm>
            <a:off x="857160" y="3238560"/>
            <a:ext cx="161928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1643040" y="32385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txBox="1"/>
          <p:nvPr/>
        </p:nvSpPr>
        <p:spPr>
          <a:xfrm>
            <a:off x="1789200" y="32972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3</a:t>
            </a:r>
            <a:endParaRPr b="0" lang="en-US" sz="2000" spc="-1" strike="noStrike">
              <a:solidFill>
                <a:srgbClr val="000000"/>
              </a:solidFill>
              <a:latin typeface="Arial"/>
            </a:endParaRPr>
          </a:p>
        </p:txBody>
      </p:sp>
      <p:sp>
        <p:nvSpPr>
          <p:cNvPr id="1172" name=""/>
          <p:cNvSpPr/>
          <p:nvPr/>
        </p:nvSpPr>
        <p:spPr>
          <a:xfrm flipH="1">
            <a:off x="2805120" y="2647800"/>
            <a:ext cx="833400" cy="8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flipH="1">
            <a:off x="2476440" y="348768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txBox="1"/>
          <p:nvPr/>
        </p:nvSpPr>
        <p:spPr>
          <a:xfrm>
            <a:off x="2305080" y="132084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0.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9.5</a:t>
            </a:r>
            <a:endParaRPr b="0" lang="en-US" sz="2000" spc="-1" strike="noStrike">
              <a:solidFill>
                <a:srgbClr val="000000"/>
              </a:solidFill>
              <a:latin typeface="Arial"/>
            </a:endParaRPr>
          </a:p>
        </p:txBody>
      </p:sp>
      <p:grpSp>
        <p:nvGrpSpPr>
          <p:cNvPr id="1175" name=""/>
          <p:cNvGrpSpPr/>
          <p:nvPr/>
        </p:nvGrpSpPr>
        <p:grpSpPr>
          <a:xfrm>
            <a:off x="2038320" y="1542960"/>
            <a:ext cx="309600" cy="309600"/>
            <a:chOff x="2038320" y="1542960"/>
            <a:chExt cx="309600" cy="309600"/>
          </a:xfrm>
        </p:grpSpPr>
        <p:sp>
          <p:nvSpPr>
            <p:cNvPr id="1176" name=""/>
            <p:cNvSpPr/>
            <p:nvPr/>
          </p:nvSpPr>
          <p:spPr>
            <a:xfrm>
              <a:off x="2087640" y="1574640"/>
              <a:ext cx="231840" cy="231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flipH="1">
              <a:off x="2038320" y="1542960"/>
              <a:ext cx="30960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8" name=""/>
          <p:cNvSpPr/>
          <p:nvPr/>
        </p:nvSpPr>
        <p:spPr>
          <a:xfrm>
            <a:off x="3009960" y="1666800"/>
            <a:ext cx="32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a:off x="3333600" y="1666800"/>
            <a:ext cx="276480" cy="27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80" name=""/>
          <p:cNvGrpSpPr/>
          <p:nvPr/>
        </p:nvGrpSpPr>
        <p:grpSpPr>
          <a:xfrm>
            <a:off x="981000" y="3336840"/>
            <a:ext cx="424080" cy="265320"/>
            <a:chOff x="981000" y="3336840"/>
            <a:chExt cx="424080" cy="265320"/>
          </a:xfrm>
        </p:grpSpPr>
        <p:sp>
          <p:nvSpPr>
            <p:cNvPr id="1181" name=""/>
            <p:cNvSpPr/>
            <p:nvPr/>
          </p:nvSpPr>
          <p:spPr>
            <a:xfrm>
              <a:off x="1069920" y="335448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flipH="1">
              <a:off x="981000" y="3336840"/>
              <a:ext cx="16056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flipH="1">
              <a:off x="1244520" y="3371760"/>
              <a:ext cx="16056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84" name=""/>
          <p:cNvSpPr/>
          <p:nvPr/>
        </p:nvSpPr>
        <p:spPr>
          <a:xfrm>
            <a:off x="5478480" y="3992400"/>
            <a:ext cx="1628640" cy="1628640"/>
          </a:xfrm>
          <a:prstGeom prst="ellipse">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5586480" y="4118040"/>
            <a:ext cx="1405080" cy="1405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 name=""/>
          <p:cNvSpPr txBox="1"/>
          <p:nvPr/>
        </p:nvSpPr>
        <p:spPr>
          <a:xfrm>
            <a:off x="662040" y="395280"/>
            <a:ext cx="7772400" cy="723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grpSp>
        <p:nvGrpSpPr>
          <p:cNvPr id="1187" name=""/>
          <p:cNvGrpSpPr/>
          <p:nvPr/>
        </p:nvGrpSpPr>
        <p:grpSpPr>
          <a:xfrm>
            <a:off x="3286080" y="1581120"/>
            <a:ext cx="4948200" cy="1381320"/>
            <a:chOff x="3286080" y="1581120"/>
            <a:chExt cx="4948200" cy="1381320"/>
          </a:xfrm>
        </p:grpSpPr>
        <p:sp>
          <p:nvSpPr>
            <p:cNvPr id="1188" name=""/>
            <p:cNvSpPr/>
            <p:nvPr/>
          </p:nvSpPr>
          <p:spPr>
            <a:xfrm>
              <a:off x="3476520" y="1785960"/>
              <a:ext cx="1000080" cy="100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89" name=""/>
            <p:cNvSpPr/>
            <p:nvPr/>
          </p:nvSpPr>
          <p:spPr>
            <a:xfrm>
              <a:off x="5524560" y="1785960"/>
              <a:ext cx="245268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190" name=""/>
            <p:cNvGrpSpPr/>
            <p:nvPr/>
          </p:nvGrpSpPr>
          <p:grpSpPr>
            <a:xfrm>
              <a:off x="3286080" y="2281320"/>
              <a:ext cx="1428840" cy="0"/>
              <a:chOff x="3286080" y="2281320"/>
              <a:chExt cx="1428840" cy="0"/>
            </a:xfrm>
          </p:grpSpPr>
          <p:sp>
            <p:nvSpPr>
              <p:cNvPr id="1191" name=""/>
              <p:cNvSpPr/>
              <p:nvPr/>
            </p:nvSpPr>
            <p:spPr>
              <a:xfrm>
                <a:off x="3286080" y="228132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3895560" y="228132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4191120" y="228132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94" name=""/>
            <p:cNvGrpSpPr/>
            <p:nvPr/>
          </p:nvGrpSpPr>
          <p:grpSpPr>
            <a:xfrm>
              <a:off x="5291280" y="2279520"/>
              <a:ext cx="2943000" cy="0"/>
              <a:chOff x="5291280" y="2279520"/>
              <a:chExt cx="2943000" cy="0"/>
            </a:xfrm>
          </p:grpSpPr>
          <p:sp>
            <p:nvSpPr>
              <p:cNvPr id="1195" name=""/>
              <p:cNvSpPr/>
              <p:nvPr/>
            </p:nvSpPr>
            <p:spPr>
              <a:xfrm>
                <a:off x="5291280" y="2279520"/>
                <a:ext cx="13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6" name=""/>
              <p:cNvSpPr/>
              <p:nvPr/>
            </p:nvSpPr>
            <p:spPr>
              <a:xfrm>
                <a:off x="6729480" y="22795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6986520" y="227952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7891560" y="2279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99" name=""/>
            <p:cNvSpPr/>
            <p:nvPr/>
          </p:nvSpPr>
          <p:spPr>
            <a:xfrm>
              <a:off x="3976560" y="15811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 name=""/>
            <p:cNvSpPr/>
            <p:nvPr/>
          </p:nvSpPr>
          <p:spPr>
            <a:xfrm>
              <a:off x="3976560" y="219060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p:nvPr/>
          </p:nvSpPr>
          <p:spPr>
            <a:xfrm>
              <a:off x="3976560" y="2438280"/>
              <a:ext cx="0" cy="52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2" name=""/>
          <p:cNvSpPr/>
          <p:nvPr/>
        </p:nvSpPr>
        <p:spPr>
          <a:xfrm>
            <a:off x="5307120" y="3836880"/>
            <a:ext cx="1971720" cy="19717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3" name=""/>
          <p:cNvSpPr/>
          <p:nvPr/>
        </p:nvSpPr>
        <p:spPr>
          <a:xfrm flipH="1">
            <a:off x="4954680" y="5429160"/>
            <a:ext cx="811080" cy="81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a:off x="4950000" y="6251400"/>
            <a:ext cx="26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 name=""/>
          <p:cNvSpPr txBox="1"/>
          <p:nvPr/>
        </p:nvSpPr>
        <p:spPr>
          <a:xfrm>
            <a:off x="5292720" y="6072120"/>
            <a:ext cx="254160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3 Radial Distanc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ylindricity tolerance.</a:t>
            </a:r>
            <a:endParaRPr b="0" lang="en-US" sz="2000" spc="-1" strike="noStrike">
              <a:solidFill>
                <a:srgbClr val="000000"/>
              </a:solidFill>
              <a:latin typeface="Arial"/>
            </a:endParaRPr>
          </a:p>
        </p:txBody>
      </p:sp>
      <p:sp>
        <p:nvSpPr>
          <p:cNvPr id="1206" name=""/>
          <p:cNvSpPr txBox="1"/>
          <p:nvPr/>
        </p:nvSpPr>
        <p:spPr>
          <a:xfrm>
            <a:off x="932040" y="4368960"/>
            <a:ext cx="403848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eature size tolerance zone is two</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concentric cylinders, 0.5 apart.</a:t>
            </a:r>
            <a:endParaRPr b="0" lang="en-US" sz="2000" spc="-1" strike="noStrike">
              <a:solidFill>
                <a:srgbClr val="000000"/>
              </a:solidFill>
              <a:latin typeface="Arial"/>
            </a:endParaRPr>
          </a:p>
        </p:txBody>
      </p:sp>
      <p:sp>
        <p:nvSpPr>
          <p:cNvPr id="1207" name=""/>
          <p:cNvSpPr/>
          <p:nvPr/>
        </p:nvSpPr>
        <p:spPr>
          <a:xfrm flipV="1">
            <a:off x="6286680" y="352440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 name=""/>
          <p:cNvSpPr/>
          <p:nvPr/>
        </p:nvSpPr>
        <p:spPr>
          <a:xfrm flipV="1">
            <a:off x="6286680" y="1380960"/>
            <a:ext cx="0" cy="19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p:nvPr/>
        </p:nvSpPr>
        <p:spPr>
          <a:xfrm>
            <a:off x="857160" y="3238560"/>
            <a:ext cx="161928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0" name=""/>
          <p:cNvSpPr/>
          <p:nvPr/>
        </p:nvSpPr>
        <p:spPr>
          <a:xfrm>
            <a:off x="1643040" y="32385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 name=""/>
          <p:cNvSpPr txBox="1"/>
          <p:nvPr/>
        </p:nvSpPr>
        <p:spPr>
          <a:xfrm>
            <a:off x="1789200" y="32972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3</a:t>
            </a:r>
            <a:endParaRPr b="0" lang="en-US" sz="2000" spc="-1" strike="noStrike">
              <a:solidFill>
                <a:srgbClr val="000000"/>
              </a:solidFill>
              <a:latin typeface="Arial"/>
            </a:endParaRPr>
          </a:p>
        </p:txBody>
      </p:sp>
      <p:sp>
        <p:nvSpPr>
          <p:cNvPr id="1212" name=""/>
          <p:cNvSpPr/>
          <p:nvPr/>
        </p:nvSpPr>
        <p:spPr>
          <a:xfrm flipH="1">
            <a:off x="2805120" y="2647800"/>
            <a:ext cx="833400" cy="8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flipH="1">
            <a:off x="2476440" y="348768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a:off x="5621400" y="4152960"/>
            <a:ext cx="1335240" cy="133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flipV="1">
            <a:off x="5827680" y="5068800"/>
            <a:ext cx="262080" cy="262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txBox="1"/>
          <p:nvPr/>
        </p:nvSpPr>
        <p:spPr>
          <a:xfrm>
            <a:off x="2305080" y="132084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0.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9.5</a:t>
            </a:r>
            <a:endParaRPr b="0" lang="en-US" sz="2000" spc="-1" strike="noStrike">
              <a:solidFill>
                <a:srgbClr val="000000"/>
              </a:solidFill>
              <a:latin typeface="Arial"/>
            </a:endParaRPr>
          </a:p>
        </p:txBody>
      </p:sp>
      <p:grpSp>
        <p:nvGrpSpPr>
          <p:cNvPr id="1217" name=""/>
          <p:cNvGrpSpPr/>
          <p:nvPr/>
        </p:nvGrpSpPr>
        <p:grpSpPr>
          <a:xfrm>
            <a:off x="2038320" y="1542960"/>
            <a:ext cx="309600" cy="309600"/>
            <a:chOff x="2038320" y="1542960"/>
            <a:chExt cx="309600" cy="309600"/>
          </a:xfrm>
        </p:grpSpPr>
        <p:sp>
          <p:nvSpPr>
            <p:cNvPr id="1218" name=""/>
            <p:cNvSpPr/>
            <p:nvPr/>
          </p:nvSpPr>
          <p:spPr>
            <a:xfrm>
              <a:off x="2087640" y="1574640"/>
              <a:ext cx="231840" cy="231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9" name=""/>
            <p:cNvSpPr/>
            <p:nvPr/>
          </p:nvSpPr>
          <p:spPr>
            <a:xfrm flipH="1">
              <a:off x="2038320" y="1542960"/>
              <a:ext cx="30960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0" name=""/>
          <p:cNvSpPr/>
          <p:nvPr/>
        </p:nvSpPr>
        <p:spPr>
          <a:xfrm>
            <a:off x="3009960" y="1666800"/>
            <a:ext cx="32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p:nvPr/>
        </p:nvSpPr>
        <p:spPr>
          <a:xfrm>
            <a:off x="3333600" y="1666800"/>
            <a:ext cx="276480" cy="27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2" name=""/>
          <p:cNvGrpSpPr/>
          <p:nvPr/>
        </p:nvGrpSpPr>
        <p:grpSpPr>
          <a:xfrm>
            <a:off x="981000" y="3336840"/>
            <a:ext cx="424080" cy="265320"/>
            <a:chOff x="981000" y="3336840"/>
            <a:chExt cx="424080" cy="265320"/>
          </a:xfrm>
        </p:grpSpPr>
        <p:sp>
          <p:nvSpPr>
            <p:cNvPr id="1223" name=""/>
            <p:cNvSpPr/>
            <p:nvPr/>
          </p:nvSpPr>
          <p:spPr>
            <a:xfrm>
              <a:off x="1069920" y="335448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flipH="1">
              <a:off x="981000" y="3336840"/>
              <a:ext cx="16056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flipH="1">
              <a:off x="1244520" y="3371760"/>
              <a:ext cx="16056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6" name=""/>
          <p:cNvSpPr/>
          <p:nvPr/>
        </p:nvSpPr>
        <p:spPr>
          <a:xfrm flipH="1" flipV="1">
            <a:off x="5222880" y="3805200"/>
            <a:ext cx="34920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6286680" y="3819600"/>
            <a:ext cx="0" cy="20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8" name=""/>
          <p:cNvGrpSpPr/>
          <p:nvPr/>
        </p:nvGrpSpPr>
        <p:grpSpPr>
          <a:xfrm>
            <a:off x="5283360" y="4819680"/>
            <a:ext cx="2070000" cy="0"/>
            <a:chOff x="5283360" y="4819680"/>
            <a:chExt cx="2070000" cy="0"/>
          </a:xfrm>
        </p:grpSpPr>
        <p:sp>
          <p:nvSpPr>
            <p:cNvPr id="1229" name=""/>
            <p:cNvSpPr/>
            <p:nvPr/>
          </p:nvSpPr>
          <p:spPr>
            <a:xfrm>
              <a:off x="5283360" y="4819680"/>
              <a:ext cx="8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a:off x="6235560" y="481968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6416640" y="4819680"/>
              <a:ext cx="93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2" name=""/>
          <p:cNvSpPr/>
          <p:nvPr/>
        </p:nvSpPr>
        <p:spPr>
          <a:xfrm flipH="1">
            <a:off x="4951440" y="3807000"/>
            <a:ext cx="271440" cy="10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flipH="1">
            <a:off x="4541760" y="4834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5796000" y="4381560"/>
            <a:ext cx="24120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5" name=""/>
          <p:cNvSpPr/>
          <p:nvPr/>
        </p:nvSpPr>
        <p:spPr>
          <a:xfrm>
            <a:off x="2840040" y="1730520"/>
            <a:ext cx="3257640" cy="3257640"/>
          </a:xfrm>
          <a:prstGeom prst="ellipse">
            <a:avLst/>
          </a:prstGeom>
          <a:solidFill>
            <a:srgbClr val="a2c1fe"/>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a:off x="3056040" y="1981080"/>
            <a:ext cx="2809800" cy="2809800"/>
          </a:xfrm>
          <a:prstGeom prst="ellipse">
            <a:avLst/>
          </a:prstGeom>
          <a:solidFill>
            <a:srgbClr val="114ffb"/>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2496960" y="1419120"/>
            <a:ext cx="3943440" cy="3943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3125880" y="2050920"/>
            <a:ext cx="2670120" cy="2670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4487760" y="1160640"/>
            <a:ext cx="0" cy="19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4487760" y="32828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4487760" y="3645000"/>
            <a:ext cx="0" cy="20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2182680" y="3384720"/>
            <a:ext cx="19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4354560" y="3384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4716360" y="3384720"/>
            <a:ext cx="206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 name=""/>
          <p:cNvSpPr txBox="1"/>
          <p:nvPr/>
        </p:nvSpPr>
        <p:spPr>
          <a:xfrm>
            <a:off x="5780160" y="5118120"/>
            <a:ext cx="3170160" cy="173988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Coaxial cylinders establish</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the tolerance zone for feature</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cylindricity (RFS).  </a:t>
            </a:r>
            <a:r>
              <a:rPr b="0" lang="en-US" sz="1800" spc="-1" strike="noStrike">
                <a:solidFill>
                  <a:srgbClr val="ffffff"/>
                </a:solidFill>
                <a:latin typeface="Arial"/>
                <a:ea typeface="Arial"/>
              </a:rPr>
              <a:t>Surface </a:t>
            </a:r>
            <a:endParaRPr b="0" lang="en-US" sz="1800" spc="-1" strike="noStrike">
              <a:solidFill>
                <a:srgbClr val="000000"/>
              </a:solidFill>
              <a:latin typeface="Arial"/>
            </a:endParaRPr>
          </a:p>
          <a:p>
            <a:pPr>
              <a:lnSpc>
                <a:spcPct val="100000"/>
              </a:lnSpc>
            </a:pPr>
            <a:r>
              <a:rPr b="0" lang="en-US" sz="1800" spc="-1" strike="noStrike">
                <a:solidFill>
                  <a:srgbClr val="fc0128"/>
                </a:solidFill>
                <a:latin typeface="Arial"/>
                <a:ea typeface="Arial"/>
              </a:rPr>
              <a:t>FORM</a:t>
            </a:r>
            <a:r>
              <a:rPr b="0" lang="en-US" sz="1800" spc="-1" strike="noStrike">
                <a:solidFill>
                  <a:srgbClr val="ffffff"/>
                </a:solidFill>
                <a:latin typeface="Arial"/>
                <a:ea typeface="Arial"/>
              </a:rPr>
              <a:t> variation controlle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within these boundaries.</a:t>
            </a:r>
            <a:endParaRPr b="0" lang="en-US" sz="1800" spc="-1" strike="noStrike">
              <a:solidFill>
                <a:srgbClr val="000000"/>
              </a:solidFill>
              <a:latin typeface="Arial"/>
            </a:endParaRPr>
          </a:p>
        </p:txBody>
      </p:sp>
      <p:sp>
        <p:nvSpPr>
          <p:cNvPr id="1246" name=""/>
          <p:cNvSpPr/>
          <p:nvPr/>
        </p:nvSpPr>
        <p:spPr>
          <a:xfrm>
            <a:off x="5100480" y="4865760"/>
            <a:ext cx="303480" cy="588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5403960" y="54547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txBox="1"/>
          <p:nvPr/>
        </p:nvSpPr>
        <p:spPr>
          <a:xfrm>
            <a:off x="6129360" y="749160"/>
            <a:ext cx="2979720" cy="25304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eature size toleranc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While surface element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re restricted to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refined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the </a:t>
            </a:r>
            <a:r>
              <a:rPr b="0" lang="en-US" sz="2000" spc="-1" strike="noStrike">
                <a:solidFill>
                  <a:srgbClr val="fc0128"/>
                </a:solidFill>
                <a:latin typeface="Arial"/>
                <a:ea typeface="Arial"/>
              </a:rPr>
              <a:t>actual size </a:t>
            </a:r>
            <a:r>
              <a:rPr b="0" lang="en-US" sz="2000" spc="-1" strike="noStrike">
                <a:solidFill>
                  <a:srgbClr val="ffffff"/>
                </a:solidFill>
                <a:latin typeface="Arial"/>
                <a:ea typeface="Arial"/>
              </a:rPr>
              <a:t>of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cylindrical featur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may vary withi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arger boundaries.)</a:t>
            </a:r>
            <a:endParaRPr b="0" lang="en-US" sz="2000" spc="-1" strike="noStrike">
              <a:solidFill>
                <a:srgbClr val="000000"/>
              </a:solidFill>
              <a:latin typeface="Arial"/>
            </a:endParaRPr>
          </a:p>
        </p:txBody>
      </p:sp>
      <p:sp>
        <p:nvSpPr>
          <p:cNvPr id="1249" name=""/>
          <p:cNvSpPr/>
          <p:nvPr/>
        </p:nvSpPr>
        <p:spPr>
          <a:xfrm flipH="1">
            <a:off x="5872320" y="93492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flipH="1">
            <a:off x="5448240" y="934920"/>
            <a:ext cx="424080" cy="72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flipH="1">
            <a:off x="4873680" y="2235240"/>
            <a:ext cx="243000" cy="434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flipH="1" flipV="1">
            <a:off x="4861080" y="4232160"/>
            <a:ext cx="168120" cy="424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txBox="1"/>
          <p:nvPr/>
        </p:nvSpPr>
        <p:spPr>
          <a:xfrm>
            <a:off x="519120" y="249120"/>
            <a:ext cx="3435480" cy="641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54" name=""/>
          <p:cNvSpPr/>
          <p:nvPr/>
        </p:nvSpPr>
        <p:spPr>
          <a:xfrm>
            <a:off x="2840040" y="1730520"/>
            <a:ext cx="3257640" cy="3257640"/>
          </a:xfrm>
          <a:prstGeom prst="ellipse">
            <a:avLst/>
          </a:prstGeom>
          <a:solidFill>
            <a:srgbClr val="a2c1fe"/>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3056040" y="1981080"/>
            <a:ext cx="2809800" cy="2809800"/>
          </a:xfrm>
          <a:prstGeom prst="ellipse">
            <a:avLst/>
          </a:prstGeom>
          <a:solidFill>
            <a:srgbClr val="114ffb"/>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2496960" y="1419120"/>
            <a:ext cx="3943440" cy="394344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3125880" y="2050920"/>
            <a:ext cx="2670120" cy="267012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4487760" y="1160640"/>
            <a:ext cx="0" cy="19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4487760" y="32828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4487760" y="3645000"/>
            <a:ext cx="0" cy="20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2182680" y="3384720"/>
            <a:ext cx="19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4354560" y="3384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 name=""/>
          <p:cNvSpPr/>
          <p:nvPr/>
        </p:nvSpPr>
        <p:spPr>
          <a:xfrm>
            <a:off x="4716360" y="3384720"/>
            <a:ext cx="206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txBox="1"/>
          <p:nvPr/>
        </p:nvSpPr>
        <p:spPr>
          <a:xfrm>
            <a:off x="5780160" y="5118120"/>
            <a:ext cx="3170160" cy="173988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Coaxial cylinders establish</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the tolerance zone for feature</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cylindricity (RFS).  </a:t>
            </a:r>
            <a:r>
              <a:rPr b="0" lang="en-US" sz="1800" spc="-1" strike="noStrike">
                <a:solidFill>
                  <a:srgbClr val="ffffff"/>
                </a:solidFill>
                <a:latin typeface="Arial"/>
                <a:ea typeface="Arial"/>
              </a:rPr>
              <a:t>Surface </a:t>
            </a:r>
            <a:endParaRPr b="0" lang="en-US" sz="1800" spc="-1" strike="noStrike">
              <a:solidFill>
                <a:srgbClr val="000000"/>
              </a:solidFill>
              <a:latin typeface="Arial"/>
            </a:endParaRPr>
          </a:p>
          <a:p>
            <a:pPr>
              <a:lnSpc>
                <a:spcPct val="100000"/>
              </a:lnSpc>
            </a:pPr>
            <a:r>
              <a:rPr b="0" lang="en-US" sz="1800" spc="-1" strike="noStrike">
                <a:solidFill>
                  <a:srgbClr val="fc0128"/>
                </a:solidFill>
                <a:latin typeface="Arial"/>
                <a:ea typeface="Arial"/>
              </a:rPr>
              <a:t>FORM</a:t>
            </a:r>
            <a:r>
              <a:rPr b="0" lang="en-US" sz="1800" spc="-1" strike="noStrike">
                <a:solidFill>
                  <a:srgbClr val="ffffff"/>
                </a:solidFill>
                <a:latin typeface="Arial"/>
                <a:ea typeface="Arial"/>
              </a:rPr>
              <a:t> variation controlle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within these boundaries.</a:t>
            </a:r>
            <a:endParaRPr b="0" lang="en-US" sz="1800" spc="-1" strike="noStrike">
              <a:solidFill>
                <a:srgbClr val="000000"/>
              </a:solidFill>
              <a:latin typeface="Arial"/>
            </a:endParaRPr>
          </a:p>
        </p:txBody>
      </p:sp>
      <p:sp>
        <p:nvSpPr>
          <p:cNvPr id="1265" name=""/>
          <p:cNvSpPr/>
          <p:nvPr/>
        </p:nvSpPr>
        <p:spPr>
          <a:xfrm>
            <a:off x="5100480" y="4865760"/>
            <a:ext cx="303480" cy="588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 name=""/>
          <p:cNvSpPr/>
          <p:nvPr/>
        </p:nvSpPr>
        <p:spPr>
          <a:xfrm>
            <a:off x="5403960" y="54547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 name=""/>
          <p:cNvSpPr txBox="1"/>
          <p:nvPr/>
        </p:nvSpPr>
        <p:spPr>
          <a:xfrm>
            <a:off x="6129360" y="749160"/>
            <a:ext cx="2979720" cy="25304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eature size toleranc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While surface element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re restricted to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refined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the </a:t>
            </a:r>
            <a:r>
              <a:rPr b="0" lang="en-US" sz="2000" spc="-1" strike="noStrike">
                <a:solidFill>
                  <a:srgbClr val="fc0128"/>
                </a:solidFill>
                <a:latin typeface="Arial"/>
                <a:ea typeface="Arial"/>
              </a:rPr>
              <a:t>actual size </a:t>
            </a:r>
            <a:r>
              <a:rPr b="0" lang="en-US" sz="2000" spc="-1" strike="noStrike">
                <a:solidFill>
                  <a:srgbClr val="ffffff"/>
                </a:solidFill>
                <a:latin typeface="Arial"/>
                <a:ea typeface="Arial"/>
              </a:rPr>
              <a:t>of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cylindrical featur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may vary withi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arger boundaries.)</a:t>
            </a:r>
            <a:endParaRPr b="0" lang="en-US" sz="2000" spc="-1" strike="noStrike">
              <a:solidFill>
                <a:srgbClr val="000000"/>
              </a:solidFill>
              <a:latin typeface="Arial"/>
            </a:endParaRPr>
          </a:p>
        </p:txBody>
      </p:sp>
      <p:sp>
        <p:nvSpPr>
          <p:cNvPr id="1268" name=""/>
          <p:cNvSpPr/>
          <p:nvPr/>
        </p:nvSpPr>
        <p:spPr>
          <a:xfrm flipH="1">
            <a:off x="5872320" y="93492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flipH="1">
            <a:off x="5448240" y="934920"/>
            <a:ext cx="424080" cy="72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flipH="1">
            <a:off x="4873680" y="2235240"/>
            <a:ext cx="243000" cy="434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flipH="1" flipV="1">
            <a:off x="4861080" y="4232160"/>
            <a:ext cx="168120" cy="424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519120" y="249120"/>
            <a:ext cx="3435480" cy="641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1273" name=""/>
          <p:cNvSpPr/>
          <p:nvPr/>
        </p:nvSpPr>
        <p:spPr>
          <a:xfrm>
            <a:off x="2971800" y="1790640"/>
            <a:ext cx="3029400" cy="3057840"/>
          </a:xfrm>
          <a:custGeom>
            <a:avLst/>
            <a:gdLst/>
            <a:ahLst/>
            <a:rect l="0" t="0" r="r" b="b"/>
            <a:pathLst>
              <a:path fill="none" w="8415" h="8494">
                <a:moveTo>
                  <a:pt x="4207" y="0"/>
                </a:moveTo>
                <a:lnTo>
                  <a:pt x="4128" y="0"/>
                </a:lnTo>
                <a:lnTo>
                  <a:pt x="4049" y="26"/>
                </a:lnTo>
                <a:lnTo>
                  <a:pt x="3837" y="79"/>
                </a:lnTo>
                <a:lnTo>
                  <a:pt x="3625" y="79"/>
                </a:lnTo>
                <a:lnTo>
                  <a:pt x="3308" y="52"/>
                </a:lnTo>
                <a:lnTo>
                  <a:pt x="3202" y="52"/>
                </a:lnTo>
                <a:lnTo>
                  <a:pt x="3096" y="105"/>
                </a:lnTo>
                <a:lnTo>
                  <a:pt x="2884" y="185"/>
                </a:lnTo>
                <a:lnTo>
                  <a:pt x="2805" y="238"/>
                </a:lnTo>
                <a:lnTo>
                  <a:pt x="2726" y="264"/>
                </a:lnTo>
                <a:lnTo>
                  <a:pt x="2646" y="291"/>
                </a:lnTo>
                <a:lnTo>
                  <a:pt x="2541" y="343"/>
                </a:lnTo>
                <a:lnTo>
                  <a:pt x="2435" y="396"/>
                </a:lnTo>
                <a:lnTo>
                  <a:pt x="2355" y="396"/>
                </a:lnTo>
                <a:lnTo>
                  <a:pt x="2276" y="502"/>
                </a:lnTo>
                <a:lnTo>
                  <a:pt x="2197" y="555"/>
                </a:lnTo>
                <a:lnTo>
                  <a:pt x="2144" y="661"/>
                </a:lnTo>
                <a:lnTo>
                  <a:pt x="2117" y="740"/>
                </a:lnTo>
                <a:lnTo>
                  <a:pt x="2037" y="793"/>
                </a:lnTo>
                <a:lnTo>
                  <a:pt x="1957" y="846"/>
                </a:lnTo>
                <a:lnTo>
                  <a:pt x="1852" y="873"/>
                </a:lnTo>
                <a:lnTo>
                  <a:pt x="1640" y="952"/>
                </a:lnTo>
                <a:lnTo>
                  <a:pt x="1561" y="1031"/>
                </a:lnTo>
                <a:lnTo>
                  <a:pt x="1481" y="1058"/>
                </a:lnTo>
                <a:lnTo>
                  <a:pt x="1402" y="1111"/>
                </a:lnTo>
                <a:lnTo>
                  <a:pt x="1349" y="1190"/>
                </a:lnTo>
                <a:lnTo>
                  <a:pt x="1296" y="1270"/>
                </a:lnTo>
                <a:lnTo>
                  <a:pt x="1217" y="1349"/>
                </a:lnTo>
                <a:lnTo>
                  <a:pt x="1190" y="1428"/>
                </a:lnTo>
                <a:lnTo>
                  <a:pt x="1111" y="1508"/>
                </a:lnTo>
                <a:lnTo>
                  <a:pt x="1031" y="1561"/>
                </a:lnTo>
                <a:lnTo>
                  <a:pt x="952" y="1613"/>
                </a:lnTo>
                <a:lnTo>
                  <a:pt x="873" y="1693"/>
                </a:lnTo>
                <a:lnTo>
                  <a:pt x="793" y="1799"/>
                </a:lnTo>
                <a:lnTo>
                  <a:pt x="740" y="1878"/>
                </a:lnTo>
                <a:lnTo>
                  <a:pt x="661" y="1957"/>
                </a:lnTo>
                <a:lnTo>
                  <a:pt x="608" y="2169"/>
                </a:lnTo>
                <a:lnTo>
                  <a:pt x="555" y="2381"/>
                </a:lnTo>
                <a:lnTo>
                  <a:pt x="529" y="2460"/>
                </a:lnTo>
                <a:lnTo>
                  <a:pt x="502" y="2540"/>
                </a:lnTo>
                <a:lnTo>
                  <a:pt x="502" y="2698"/>
                </a:lnTo>
                <a:lnTo>
                  <a:pt x="449" y="2778"/>
                </a:lnTo>
                <a:lnTo>
                  <a:pt x="396" y="2989"/>
                </a:lnTo>
                <a:lnTo>
                  <a:pt x="370" y="3069"/>
                </a:lnTo>
                <a:lnTo>
                  <a:pt x="317" y="3148"/>
                </a:lnTo>
                <a:lnTo>
                  <a:pt x="291" y="3227"/>
                </a:lnTo>
                <a:lnTo>
                  <a:pt x="264" y="3307"/>
                </a:lnTo>
                <a:lnTo>
                  <a:pt x="211" y="3413"/>
                </a:lnTo>
                <a:lnTo>
                  <a:pt x="158" y="3571"/>
                </a:lnTo>
                <a:lnTo>
                  <a:pt x="132" y="3651"/>
                </a:lnTo>
                <a:lnTo>
                  <a:pt x="105" y="3757"/>
                </a:lnTo>
                <a:lnTo>
                  <a:pt x="79" y="3968"/>
                </a:lnTo>
                <a:lnTo>
                  <a:pt x="52" y="4074"/>
                </a:lnTo>
                <a:lnTo>
                  <a:pt x="26" y="4340"/>
                </a:lnTo>
                <a:lnTo>
                  <a:pt x="26" y="4446"/>
                </a:lnTo>
                <a:lnTo>
                  <a:pt x="0" y="4525"/>
                </a:lnTo>
                <a:lnTo>
                  <a:pt x="0" y="4604"/>
                </a:lnTo>
                <a:lnTo>
                  <a:pt x="52" y="4816"/>
                </a:lnTo>
                <a:lnTo>
                  <a:pt x="79" y="5028"/>
                </a:lnTo>
                <a:lnTo>
                  <a:pt x="79" y="5186"/>
                </a:lnTo>
                <a:lnTo>
                  <a:pt x="105" y="5292"/>
                </a:lnTo>
                <a:lnTo>
                  <a:pt x="132" y="5372"/>
                </a:lnTo>
                <a:lnTo>
                  <a:pt x="132" y="5477"/>
                </a:lnTo>
                <a:lnTo>
                  <a:pt x="158" y="5557"/>
                </a:lnTo>
                <a:lnTo>
                  <a:pt x="211" y="5742"/>
                </a:lnTo>
                <a:lnTo>
                  <a:pt x="238" y="5901"/>
                </a:lnTo>
                <a:lnTo>
                  <a:pt x="291" y="6059"/>
                </a:lnTo>
                <a:lnTo>
                  <a:pt x="343" y="6377"/>
                </a:lnTo>
                <a:lnTo>
                  <a:pt x="396" y="6536"/>
                </a:lnTo>
                <a:lnTo>
                  <a:pt x="423" y="6615"/>
                </a:lnTo>
                <a:lnTo>
                  <a:pt x="502" y="6800"/>
                </a:lnTo>
                <a:lnTo>
                  <a:pt x="608" y="6880"/>
                </a:lnTo>
                <a:lnTo>
                  <a:pt x="687" y="6959"/>
                </a:lnTo>
                <a:lnTo>
                  <a:pt x="740" y="7118"/>
                </a:lnTo>
                <a:lnTo>
                  <a:pt x="952" y="7197"/>
                </a:lnTo>
                <a:lnTo>
                  <a:pt x="1164" y="7277"/>
                </a:lnTo>
                <a:lnTo>
                  <a:pt x="1243" y="7329"/>
                </a:lnTo>
                <a:lnTo>
                  <a:pt x="1455" y="7382"/>
                </a:lnTo>
                <a:lnTo>
                  <a:pt x="1565" y="7594"/>
                </a:lnTo>
                <a:lnTo>
                  <a:pt x="1693" y="7766"/>
                </a:lnTo>
                <a:lnTo>
                  <a:pt x="1905" y="7779"/>
                </a:lnTo>
                <a:lnTo>
                  <a:pt x="2090" y="7885"/>
                </a:lnTo>
                <a:lnTo>
                  <a:pt x="2170" y="7991"/>
                </a:lnTo>
                <a:lnTo>
                  <a:pt x="2249" y="8044"/>
                </a:lnTo>
                <a:lnTo>
                  <a:pt x="2302" y="8123"/>
                </a:lnTo>
                <a:lnTo>
                  <a:pt x="2382" y="8176"/>
                </a:lnTo>
                <a:lnTo>
                  <a:pt x="2620" y="8335"/>
                </a:lnTo>
                <a:lnTo>
                  <a:pt x="2699" y="8388"/>
                </a:lnTo>
                <a:lnTo>
                  <a:pt x="3043" y="8467"/>
                </a:lnTo>
                <a:lnTo>
                  <a:pt x="3123" y="8494"/>
                </a:lnTo>
                <a:lnTo>
                  <a:pt x="3308" y="8494"/>
                </a:lnTo>
                <a:lnTo>
                  <a:pt x="3467" y="8494"/>
                </a:lnTo>
                <a:lnTo>
                  <a:pt x="3625" y="8494"/>
                </a:lnTo>
                <a:lnTo>
                  <a:pt x="3890" y="8494"/>
                </a:lnTo>
                <a:lnTo>
                  <a:pt x="4525" y="8494"/>
                </a:lnTo>
                <a:lnTo>
                  <a:pt x="4763" y="8494"/>
                </a:lnTo>
                <a:lnTo>
                  <a:pt x="4975" y="8441"/>
                </a:lnTo>
                <a:lnTo>
                  <a:pt x="5054" y="8388"/>
                </a:lnTo>
                <a:lnTo>
                  <a:pt x="5133" y="8335"/>
                </a:lnTo>
                <a:lnTo>
                  <a:pt x="5213" y="8282"/>
                </a:lnTo>
                <a:lnTo>
                  <a:pt x="5424" y="8229"/>
                </a:lnTo>
                <a:lnTo>
                  <a:pt x="5768" y="8203"/>
                </a:lnTo>
                <a:lnTo>
                  <a:pt x="5874" y="8176"/>
                </a:lnTo>
                <a:lnTo>
                  <a:pt x="6192" y="8123"/>
                </a:lnTo>
                <a:lnTo>
                  <a:pt x="6298" y="8070"/>
                </a:lnTo>
                <a:lnTo>
                  <a:pt x="6404" y="8017"/>
                </a:lnTo>
                <a:lnTo>
                  <a:pt x="6643" y="7964"/>
                </a:lnTo>
                <a:lnTo>
                  <a:pt x="6722" y="7912"/>
                </a:lnTo>
                <a:lnTo>
                  <a:pt x="6801" y="7859"/>
                </a:lnTo>
                <a:lnTo>
                  <a:pt x="6960" y="7700"/>
                </a:lnTo>
                <a:lnTo>
                  <a:pt x="7039" y="7673"/>
                </a:lnTo>
                <a:lnTo>
                  <a:pt x="7092" y="7568"/>
                </a:lnTo>
                <a:lnTo>
                  <a:pt x="7172" y="7382"/>
                </a:lnTo>
                <a:lnTo>
                  <a:pt x="7198" y="7224"/>
                </a:lnTo>
                <a:lnTo>
                  <a:pt x="7278" y="6986"/>
                </a:lnTo>
                <a:lnTo>
                  <a:pt x="7330" y="6800"/>
                </a:lnTo>
                <a:lnTo>
                  <a:pt x="7432" y="6690"/>
                </a:lnTo>
                <a:lnTo>
                  <a:pt x="7555" y="6531"/>
                </a:lnTo>
                <a:lnTo>
                  <a:pt x="7657" y="6465"/>
                </a:lnTo>
                <a:lnTo>
                  <a:pt x="7754" y="6359"/>
                </a:lnTo>
                <a:lnTo>
                  <a:pt x="7816" y="6192"/>
                </a:lnTo>
                <a:lnTo>
                  <a:pt x="7833" y="6055"/>
                </a:lnTo>
                <a:lnTo>
                  <a:pt x="7939" y="5901"/>
                </a:lnTo>
                <a:lnTo>
                  <a:pt x="8018" y="5795"/>
                </a:lnTo>
                <a:lnTo>
                  <a:pt x="8098" y="5689"/>
                </a:lnTo>
                <a:lnTo>
                  <a:pt x="8124" y="5583"/>
                </a:lnTo>
                <a:lnTo>
                  <a:pt x="8177" y="5372"/>
                </a:lnTo>
                <a:lnTo>
                  <a:pt x="8204" y="5266"/>
                </a:lnTo>
                <a:lnTo>
                  <a:pt x="8257" y="5054"/>
                </a:lnTo>
                <a:lnTo>
                  <a:pt x="8283" y="4948"/>
                </a:lnTo>
                <a:lnTo>
                  <a:pt x="8283" y="4789"/>
                </a:lnTo>
                <a:lnTo>
                  <a:pt x="8309" y="4710"/>
                </a:lnTo>
                <a:lnTo>
                  <a:pt x="8309" y="4498"/>
                </a:lnTo>
                <a:lnTo>
                  <a:pt x="8362" y="4393"/>
                </a:lnTo>
                <a:lnTo>
                  <a:pt x="8389" y="4127"/>
                </a:lnTo>
                <a:lnTo>
                  <a:pt x="8415" y="4048"/>
                </a:lnTo>
                <a:lnTo>
                  <a:pt x="8415" y="3968"/>
                </a:lnTo>
                <a:lnTo>
                  <a:pt x="8415" y="3783"/>
                </a:lnTo>
                <a:lnTo>
                  <a:pt x="8389" y="3598"/>
                </a:lnTo>
                <a:lnTo>
                  <a:pt x="8362" y="3439"/>
                </a:lnTo>
                <a:lnTo>
                  <a:pt x="8309" y="3333"/>
                </a:lnTo>
                <a:lnTo>
                  <a:pt x="8257" y="3254"/>
                </a:lnTo>
                <a:lnTo>
                  <a:pt x="8204" y="3175"/>
                </a:lnTo>
                <a:lnTo>
                  <a:pt x="8124" y="3122"/>
                </a:lnTo>
                <a:lnTo>
                  <a:pt x="8045" y="3016"/>
                </a:lnTo>
                <a:lnTo>
                  <a:pt x="7965" y="2910"/>
                </a:lnTo>
                <a:lnTo>
                  <a:pt x="7913" y="2831"/>
                </a:lnTo>
                <a:lnTo>
                  <a:pt x="7860" y="2751"/>
                </a:lnTo>
                <a:lnTo>
                  <a:pt x="7780" y="2645"/>
                </a:lnTo>
                <a:lnTo>
                  <a:pt x="7701" y="2460"/>
                </a:lnTo>
                <a:lnTo>
                  <a:pt x="7622" y="2381"/>
                </a:lnTo>
                <a:lnTo>
                  <a:pt x="7569" y="2169"/>
                </a:lnTo>
                <a:lnTo>
                  <a:pt x="7516" y="2090"/>
                </a:lnTo>
                <a:lnTo>
                  <a:pt x="7410" y="1878"/>
                </a:lnTo>
                <a:lnTo>
                  <a:pt x="7330" y="1772"/>
                </a:lnTo>
                <a:lnTo>
                  <a:pt x="7172" y="1613"/>
                </a:lnTo>
                <a:lnTo>
                  <a:pt x="7119" y="1508"/>
                </a:lnTo>
                <a:lnTo>
                  <a:pt x="7013" y="1402"/>
                </a:lnTo>
                <a:lnTo>
                  <a:pt x="6801" y="1243"/>
                </a:lnTo>
                <a:lnTo>
                  <a:pt x="6722" y="1164"/>
                </a:lnTo>
                <a:lnTo>
                  <a:pt x="6669" y="1005"/>
                </a:lnTo>
                <a:lnTo>
                  <a:pt x="6404" y="899"/>
                </a:lnTo>
                <a:lnTo>
                  <a:pt x="6192" y="820"/>
                </a:lnTo>
                <a:lnTo>
                  <a:pt x="6112" y="793"/>
                </a:lnTo>
                <a:lnTo>
                  <a:pt x="6033" y="740"/>
                </a:lnTo>
                <a:lnTo>
                  <a:pt x="5927" y="661"/>
                </a:lnTo>
                <a:lnTo>
                  <a:pt x="5848" y="608"/>
                </a:lnTo>
                <a:lnTo>
                  <a:pt x="5768" y="555"/>
                </a:lnTo>
                <a:lnTo>
                  <a:pt x="5663" y="449"/>
                </a:lnTo>
                <a:lnTo>
                  <a:pt x="5583" y="396"/>
                </a:lnTo>
                <a:lnTo>
                  <a:pt x="5504" y="343"/>
                </a:lnTo>
                <a:lnTo>
                  <a:pt x="5266" y="291"/>
                </a:lnTo>
                <a:lnTo>
                  <a:pt x="5186" y="238"/>
                </a:lnTo>
                <a:lnTo>
                  <a:pt x="5081" y="211"/>
                </a:lnTo>
                <a:lnTo>
                  <a:pt x="4975" y="185"/>
                </a:lnTo>
                <a:lnTo>
                  <a:pt x="4869" y="158"/>
                </a:lnTo>
                <a:lnTo>
                  <a:pt x="4657" y="105"/>
                </a:lnTo>
                <a:lnTo>
                  <a:pt x="4578" y="79"/>
                </a:lnTo>
                <a:lnTo>
                  <a:pt x="4313" y="26"/>
                </a:lnTo>
                <a:lnTo>
                  <a:pt x="4154" y="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74" name=""/>
          <p:cNvSpPr/>
          <p:nvPr/>
        </p:nvSpPr>
        <p:spPr>
          <a:xfrm>
            <a:off x="2952720" y="1843200"/>
            <a:ext cx="3032280" cy="3032280"/>
          </a:xfrm>
          <a:prstGeom prst="ellipse">
            <a:avLst/>
          </a:prstGeom>
          <a:solidFill>
            <a:srgbClr val="a2c1fe"/>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3152880" y="2075040"/>
            <a:ext cx="2616120" cy="2617920"/>
          </a:xfrm>
          <a:prstGeom prst="ellipse">
            <a:avLst/>
          </a:prstGeom>
          <a:solidFill>
            <a:srgbClr val="114ffb"/>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a:off x="3075120" y="1898640"/>
            <a:ext cx="2819880" cy="2848320"/>
          </a:xfrm>
          <a:custGeom>
            <a:avLst/>
            <a:gdLst/>
            <a:ahLst/>
            <a:rect l="0" t="0" r="r" b="b"/>
            <a:pathLst>
              <a:path fill="none" w="7833" h="7912">
                <a:moveTo>
                  <a:pt x="3916" y="0"/>
                </a:moveTo>
                <a:lnTo>
                  <a:pt x="3842" y="0"/>
                </a:lnTo>
                <a:lnTo>
                  <a:pt x="3769" y="24"/>
                </a:lnTo>
                <a:lnTo>
                  <a:pt x="3572" y="73"/>
                </a:lnTo>
                <a:lnTo>
                  <a:pt x="3375" y="73"/>
                </a:lnTo>
                <a:lnTo>
                  <a:pt x="3079" y="49"/>
                </a:lnTo>
                <a:lnTo>
                  <a:pt x="2980" y="49"/>
                </a:lnTo>
                <a:lnTo>
                  <a:pt x="2882" y="98"/>
                </a:lnTo>
                <a:lnTo>
                  <a:pt x="2685" y="172"/>
                </a:lnTo>
                <a:lnTo>
                  <a:pt x="2611" y="221"/>
                </a:lnTo>
                <a:lnTo>
                  <a:pt x="2537" y="246"/>
                </a:lnTo>
                <a:lnTo>
                  <a:pt x="2463" y="271"/>
                </a:lnTo>
                <a:lnTo>
                  <a:pt x="2365" y="320"/>
                </a:lnTo>
                <a:lnTo>
                  <a:pt x="2266" y="369"/>
                </a:lnTo>
                <a:lnTo>
                  <a:pt x="2192" y="369"/>
                </a:lnTo>
                <a:lnTo>
                  <a:pt x="2118" y="468"/>
                </a:lnTo>
                <a:lnTo>
                  <a:pt x="2045" y="517"/>
                </a:lnTo>
                <a:lnTo>
                  <a:pt x="1995" y="616"/>
                </a:lnTo>
                <a:lnTo>
                  <a:pt x="1971" y="690"/>
                </a:lnTo>
                <a:lnTo>
                  <a:pt x="1896" y="739"/>
                </a:lnTo>
                <a:lnTo>
                  <a:pt x="1822" y="788"/>
                </a:lnTo>
                <a:lnTo>
                  <a:pt x="1723" y="813"/>
                </a:lnTo>
                <a:lnTo>
                  <a:pt x="1526" y="887"/>
                </a:lnTo>
                <a:lnTo>
                  <a:pt x="1453" y="961"/>
                </a:lnTo>
                <a:lnTo>
                  <a:pt x="1379" y="985"/>
                </a:lnTo>
                <a:lnTo>
                  <a:pt x="1305" y="1035"/>
                </a:lnTo>
                <a:lnTo>
                  <a:pt x="1256" y="1109"/>
                </a:lnTo>
                <a:lnTo>
                  <a:pt x="1206" y="1182"/>
                </a:lnTo>
                <a:lnTo>
                  <a:pt x="1132" y="1256"/>
                </a:lnTo>
                <a:lnTo>
                  <a:pt x="1108" y="1330"/>
                </a:lnTo>
                <a:lnTo>
                  <a:pt x="1034" y="1404"/>
                </a:lnTo>
                <a:lnTo>
                  <a:pt x="960" y="1454"/>
                </a:lnTo>
                <a:lnTo>
                  <a:pt x="886" y="1503"/>
                </a:lnTo>
                <a:lnTo>
                  <a:pt x="812" y="1577"/>
                </a:lnTo>
                <a:lnTo>
                  <a:pt x="738" y="1675"/>
                </a:lnTo>
                <a:lnTo>
                  <a:pt x="689" y="1749"/>
                </a:lnTo>
                <a:lnTo>
                  <a:pt x="615" y="1823"/>
                </a:lnTo>
                <a:lnTo>
                  <a:pt x="566" y="2020"/>
                </a:lnTo>
                <a:lnTo>
                  <a:pt x="517" y="2218"/>
                </a:lnTo>
                <a:lnTo>
                  <a:pt x="492" y="2291"/>
                </a:lnTo>
                <a:lnTo>
                  <a:pt x="467" y="2365"/>
                </a:lnTo>
                <a:lnTo>
                  <a:pt x="439" y="2505"/>
                </a:lnTo>
                <a:lnTo>
                  <a:pt x="418" y="2587"/>
                </a:lnTo>
                <a:lnTo>
                  <a:pt x="336" y="2715"/>
                </a:lnTo>
                <a:lnTo>
                  <a:pt x="275" y="2813"/>
                </a:lnTo>
                <a:lnTo>
                  <a:pt x="254" y="2891"/>
                </a:lnTo>
                <a:lnTo>
                  <a:pt x="233" y="2986"/>
                </a:lnTo>
                <a:lnTo>
                  <a:pt x="201" y="3092"/>
                </a:lnTo>
                <a:lnTo>
                  <a:pt x="197" y="3179"/>
                </a:lnTo>
                <a:lnTo>
                  <a:pt x="147" y="3327"/>
                </a:lnTo>
                <a:lnTo>
                  <a:pt x="123" y="3401"/>
                </a:lnTo>
                <a:lnTo>
                  <a:pt x="98" y="3499"/>
                </a:lnTo>
                <a:lnTo>
                  <a:pt x="73" y="3696"/>
                </a:lnTo>
                <a:lnTo>
                  <a:pt x="49" y="3795"/>
                </a:lnTo>
                <a:lnTo>
                  <a:pt x="24" y="4042"/>
                </a:lnTo>
                <a:lnTo>
                  <a:pt x="24" y="4141"/>
                </a:lnTo>
                <a:lnTo>
                  <a:pt x="0" y="4215"/>
                </a:lnTo>
                <a:lnTo>
                  <a:pt x="0" y="4289"/>
                </a:lnTo>
                <a:lnTo>
                  <a:pt x="49" y="4486"/>
                </a:lnTo>
                <a:lnTo>
                  <a:pt x="73" y="4683"/>
                </a:lnTo>
                <a:lnTo>
                  <a:pt x="73" y="4831"/>
                </a:lnTo>
                <a:lnTo>
                  <a:pt x="98" y="4929"/>
                </a:lnTo>
                <a:lnTo>
                  <a:pt x="123" y="5003"/>
                </a:lnTo>
                <a:lnTo>
                  <a:pt x="123" y="5102"/>
                </a:lnTo>
                <a:lnTo>
                  <a:pt x="147" y="5176"/>
                </a:lnTo>
                <a:lnTo>
                  <a:pt x="197" y="5348"/>
                </a:lnTo>
                <a:lnTo>
                  <a:pt x="221" y="5496"/>
                </a:lnTo>
                <a:lnTo>
                  <a:pt x="270" y="5644"/>
                </a:lnTo>
                <a:lnTo>
                  <a:pt x="320" y="5940"/>
                </a:lnTo>
                <a:lnTo>
                  <a:pt x="369" y="6088"/>
                </a:lnTo>
                <a:lnTo>
                  <a:pt x="394" y="6162"/>
                </a:lnTo>
                <a:lnTo>
                  <a:pt x="467" y="6334"/>
                </a:lnTo>
                <a:lnTo>
                  <a:pt x="566" y="6408"/>
                </a:lnTo>
                <a:lnTo>
                  <a:pt x="640" y="6482"/>
                </a:lnTo>
                <a:lnTo>
                  <a:pt x="689" y="6630"/>
                </a:lnTo>
                <a:lnTo>
                  <a:pt x="886" y="6704"/>
                </a:lnTo>
                <a:lnTo>
                  <a:pt x="1083" y="6778"/>
                </a:lnTo>
                <a:lnTo>
                  <a:pt x="1157" y="6827"/>
                </a:lnTo>
                <a:lnTo>
                  <a:pt x="1231" y="6996"/>
                </a:lnTo>
                <a:lnTo>
                  <a:pt x="1432" y="7111"/>
                </a:lnTo>
                <a:lnTo>
                  <a:pt x="1576" y="7234"/>
                </a:lnTo>
                <a:lnTo>
                  <a:pt x="1707" y="7304"/>
                </a:lnTo>
                <a:lnTo>
                  <a:pt x="1838" y="7435"/>
                </a:lnTo>
                <a:lnTo>
                  <a:pt x="1971" y="7513"/>
                </a:lnTo>
                <a:lnTo>
                  <a:pt x="2077" y="7534"/>
                </a:lnTo>
                <a:lnTo>
                  <a:pt x="2143" y="7567"/>
                </a:lnTo>
                <a:lnTo>
                  <a:pt x="2217" y="7616"/>
                </a:lnTo>
                <a:lnTo>
                  <a:pt x="2439" y="7764"/>
                </a:lnTo>
                <a:lnTo>
                  <a:pt x="2513" y="7813"/>
                </a:lnTo>
                <a:lnTo>
                  <a:pt x="2833" y="7887"/>
                </a:lnTo>
                <a:lnTo>
                  <a:pt x="2907" y="7912"/>
                </a:lnTo>
                <a:lnTo>
                  <a:pt x="3079" y="7912"/>
                </a:lnTo>
                <a:lnTo>
                  <a:pt x="3227" y="7912"/>
                </a:lnTo>
                <a:lnTo>
                  <a:pt x="3375" y="7912"/>
                </a:lnTo>
                <a:lnTo>
                  <a:pt x="3621" y="7912"/>
                </a:lnTo>
                <a:lnTo>
                  <a:pt x="4212" y="7912"/>
                </a:lnTo>
                <a:lnTo>
                  <a:pt x="4434" y="7912"/>
                </a:lnTo>
                <a:lnTo>
                  <a:pt x="4528" y="7912"/>
                </a:lnTo>
                <a:lnTo>
                  <a:pt x="4663" y="7887"/>
                </a:lnTo>
                <a:lnTo>
                  <a:pt x="4766" y="7866"/>
                </a:lnTo>
                <a:lnTo>
                  <a:pt x="4881" y="7780"/>
                </a:lnTo>
                <a:lnTo>
                  <a:pt x="5078" y="7718"/>
                </a:lnTo>
                <a:lnTo>
                  <a:pt x="5369" y="7640"/>
                </a:lnTo>
                <a:lnTo>
                  <a:pt x="5468" y="7616"/>
                </a:lnTo>
                <a:lnTo>
                  <a:pt x="5763" y="7567"/>
                </a:lnTo>
                <a:lnTo>
                  <a:pt x="5862" y="7517"/>
                </a:lnTo>
                <a:lnTo>
                  <a:pt x="5961" y="7468"/>
                </a:lnTo>
                <a:lnTo>
                  <a:pt x="6183" y="7419"/>
                </a:lnTo>
                <a:lnTo>
                  <a:pt x="6257" y="7369"/>
                </a:lnTo>
                <a:lnTo>
                  <a:pt x="6331" y="7320"/>
                </a:lnTo>
                <a:lnTo>
                  <a:pt x="6479" y="7172"/>
                </a:lnTo>
                <a:lnTo>
                  <a:pt x="6553" y="7148"/>
                </a:lnTo>
                <a:lnTo>
                  <a:pt x="6602" y="7049"/>
                </a:lnTo>
                <a:lnTo>
                  <a:pt x="6676" y="6876"/>
                </a:lnTo>
                <a:lnTo>
                  <a:pt x="6700" y="6729"/>
                </a:lnTo>
                <a:lnTo>
                  <a:pt x="6774" y="6507"/>
                </a:lnTo>
                <a:lnTo>
                  <a:pt x="6881" y="6379"/>
                </a:lnTo>
                <a:lnTo>
                  <a:pt x="6959" y="6256"/>
                </a:lnTo>
                <a:lnTo>
                  <a:pt x="7082" y="6104"/>
                </a:lnTo>
                <a:lnTo>
                  <a:pt x="7127" y="6022"/>
                </a:lnTo>
                <a:lnTo>
                  <a:pt x="7217" y="5924"/>
                </a:lnTo>
                <a:lnTo>
                  <a:pt x="7275" y="5767"/>
                </a:lnTo>
                <a:lnTo>
                  <a:pt x="7291" y="5640"/>
                </a:lnTo>
                <a:lnTo>
                  <a:pt x="7390" y="5496"/>
                </a:lnTo>
                <a:lnTo>
                  <a:pt x="7464" y="5398"/>
                </a:lnTo>
                <a:lnTo>
                  <a:pt x="7538" y="5299"/>
                </a:lnTo>
                <a:lnTo>
                  <a:pt x="7562" y="5201"/>
                </a:lnTo>
                <a:lnTo>
                  <a:pt x="7612" y="5003"/>
                </a:lnTo>
                <a:lnTo>
                  <a:pt x="7636" y="4905"/>
                </a:lnTo>
                <a:lnTo>
                  <a:pt x="7685" y="4708"/>
                </a:lnTo>
                <a:lnTo>
                  <a:pt x="7710" y="4609"/>
                </a:lnTo>
                <a:lnTo>
                  <a:pt x="7710" y="4461"/>
                </a:lnTo>
                <a:lnTo>
                  <a:pt x="7735" y="4387"/>
                </a:lnTo>
                <a:lnTo>
                  <a:pt x="7735" y="4190"/>
                </a:lnTo>
                <a:lnTo>
                  <a:pt x="7784" y="4092"/>
                </a:lnTo>
                <a:lnTo>
                  <a:pt x="7809" y="3844"/>
                </a:lnTo>
                <a:lnTo>
                  <a:pt x="7833" y="3770"/>
                </a:lnTo>
                <a:lnTo>
                  <a:pt x="7833" y="3696"/>
                </a:lnTo>
                <a:lnTo>
                  <a:pt x="7833" y="3524"/>
                </a:lnTo>
                <a:lnTo>
                  <a:pt x="7809" y="3351"/>
                </a:lnTo>
                <a:lnTo>
                  <a:pt x="7784" y="3203"/>
                </a:lnTo>
                <a:lnTo>
                  <a:pt x="7735" y="3105"/>
                </a:lnTo>
                <a:lnTo>
                  <a:pt x="7685" y="3031"/>
                </a:lnTo>
                <a:lnTo>
                  <a:pt x="7636" y="2957"/>
                </a:lnTo>
                <a:lnTo>
                  <a:pt x="7562" y="2908"/>
                </a:lnTo>
                <a:lnTo>
                  <a:pt x="7488" y="2809"/>
                </a:lnTo>
                <a:lnTo>
                  <a:pt x="7414" y="2710"/>
                </a:lnTo>
                <a:lnTo>
                  <a:pt x="7365" y="2637"/>
                </a:lnTo>
                <a:lnTo>
                  <a:pt x="7316" y="2563"/>
                </a:lnTo>
                <a:lnTo>
                  <a:pt x="7242" y="2464"/>
                </a:lnTo>
                <a:lnTo>
                  <a:pt x="7168" y="2291"/>
                </a:lnTo>
                <a:lnTo>
                  <a:pt x="7094" y="2218"/>
                </a:lnTo>
                <a:lnTo>
                  <a:pt x="7045" y="2020"/>
                </a:lnTo>
                <a:lnTo>
                  <a:pt x="6996" y="1946"/>
                </a:lnTo>
                <a:lnTo>
                  <a:pt x="6897" y="1749"/>
                </a:lnTo>
                <a:lnTo>
                  <a:pt x="6823" y="1651"/>
                </a:lnTo>
                <a:lnTo>
                  <a:pt x="6676" y="1503"/>
                </a:lnTo>
                <a:lnTo>
                  <a:pt x="6626" y="1404"/>
                </a:lnTo>
                <a:lnTo>
                  <a:pt x="6528" y="1306"/>
                </a:lnTo>
                <a:lnTo>
                  <a:pt x="6331" y="1158"/>
                </a:lnTo>
                <a:lnTo>
                  <a:pt x="6257" y="1084"/>
                </a:lnTo>
                <a:lnTo>
                  <a:pt x="6208" y="936"/>
                </a:lnTo>
                <a:lnTo>
                  <a:pt x="5961" y="837"/>
                </a:lnTo>
                <a:lnTo>
                  <a:pt x="5763" y="763"/>
                </a:lnTo>
                <a:lnTo>
                  <a:pt x="5690" y="739"/>
                </a:lnTo>
                <a:lnTo>
                  <a:pt x="5616" y="690"/>
                </a:lnTo>
                <a:lnTo>
                  <a:pt x="5517" y="616"/>
                </a:lnTo>
                <a:lnTo>
                  <a:pt x="5443" y="566"/>
                </a:lnTo>
                <a:lnTo>
                  <a:pt x="5369" y="517"/>
                </a:lnTo>
                <a:lnTo>
                  <a:pt x="5271" y="418"/>
                </a:lnTo>
                <a:lnTo>
                  <a:pt x="5197" y="369"/>
                </a:lnTo>
                <a:lnTo>
                  <a:pt x="5123" y="320"/>
                </a:lnTo>
                <a:lnTo>
                  <a:pt x="4901" y="271"/>
                </a:lnTo>
                <a:lnTo>
                  <a:pt x="4828" y="221"/>
                </a:lnTo>
                <a:lnTo>
                  <a:pt x="4729" y="197"/>
                </a:lnTo>
                <a:lnTo>
                  <a:pt x="4631" y="172"/>
                </a:lnTo>
                <a:lnTo>
                  <a:pt x="4532" y="147"/>
                </a:lnTo>
                <a:lnTo>
                  <a:pt x="4335" y="98"/>
                </a:lnTo>
                <a:lnTo>
                  <a:pt x="4261" y="73"/>
                </a:lnTo>
                <a:lnTo>
                  <a:pt x="4015" y="24"/>
                </a:lnTo>
                <a:lnTo>
                  <a:pt x="3867" y="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7" name=""/>
          <p:cNvSpPr/>
          <p:nvPr/>
        </p:nvSpPr>
        <p:spPr>
          <a:xfrm>
            <a:off x="2496960" y="1419120"/>
            <a:ext cx="3943440" cy="394344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8" name=""/>
          <p:cNvSpPr/>
          <p:nvPr/>
        </p:nvSpPr>
        <p:spPr>
          <a:xfrm>
            <a:off x="3125880" y="2050920"/>
            <a:ext cx="2670120" cy="267012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 name=""/>
          <p:cNvSpPr/>
          <p:nvPr/>
        </p:nvSpPr>
        <p:spPr>
          <a:xfrm>
            <a:off x="4487760" y="1160640"/>
            <a:ext cx="0" cy="19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a:off x="4487760" y="32828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 name=""/>
          <p:cNvSpPr/>
          <p:nvPr/>
        </p:nvSpPr>
        <p:spPr>
          <a:xfrm>
            <a:off x="4487760" y="3645000"/>
            <a:ext cx="0" cy="20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2" name=""/>
          <p:cNvSpPr/>
          <p:nvPr/>
        </p:nvSpPr>
        <p:spPr>
          <a:xfrm>
            <a:off x="2182680" y="3384720"/>
            <a:ext cx="19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3" name=""/>
          <p:cNvSpPr/>
          <p:nvPr/>
        </p:nvSpPr>
        <p:spPr>
          <a:xfrm>
            <a:off x="4354560" y="3384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4" name=""/>
          <p:cNvSpPr/>
          <p:nvPr/>
        </p:nvSpPr>
        <p:spPr>
          <a:xfrm>
            <a:off x="4716360" y="3384720"/>
            <a:ext cx="206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 name=""/>
          <p:cNvSpPr txBox="1"/>
          <p:nvPr/>
        </p:nvSpPr>
        <p:spPr>
          <a:xfrm>
            <a:off x="177840" y="1128600"/>
            <a:ext cx="3346560" cy="28353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Boundaries of the controll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olerance zone may ex-</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ceed 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ut no el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of the featu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surface ma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xtend beyon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oundaries.</a:t>
            </a:r>
            <a:endParaRPr b="0" lang="en-US" sz="2000" spc="-1" strike="noStrike">
              <a:solidFill>
                <a:srgbClr val="000000"/>
              </a:solidFill>
              <a:latin typeface="Arial"/>
            </a:endParaRPr>
          </a:p>
        </p:txBody>
      </p:sp>
      <p:sp>
        <p:nvSpPr>
          <p:cNvPr id="1286" name=""/>
          <p:cNvSpPr txBox="1"/>
          <p:nvPr/>
        </p:nvSpPr>
        <p:spPr>
          <a:xfrm>
            <a:off x="519120" y="249120"/>
            <a:ext cx="3435480" cy="641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87" name=""/>
          <p:cNvSpPr/>
          <p:nvPr/>
        </p:nvSpPr>
        <p:spPr>
          <a:xfrm>
            <a:off x="2468520" y="1390680"/>
            <a:ext cx="4003560" cy="4003560"/>
          </a:xfrm>
          <a:prstGeom prst="ellipse">
            <a:avLst/>
          </a:prstGeom>
          <a:solidFill>
            <a:srgbClr val="a2c1fe"/>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a:off x="2735280" y="1698480"/>
            <a:ext cx="3452760" cy="3456000"/>
          </a:xfrm>
          <a:prstGeom prst="ellipse">
            <a:avLst/>
          </a:prstGeom>
          <a:solidFill>
            <a:srgbClr val="114ffb"/>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2630520" y="1463760"/>
            <a:ext cx="3724560" cy="3759480"/>
          </a:xfrm>
          <a:custGeom>
            <a:avLst/>
            <a:gdLst/>
            <a:ahLst/>
            <a:rect l="0" t="0" r="r" b="b"/>
            <a:pathLst>
              <a:path fill="none" w="10346" h="10443">
                <a:moveTo>
                  <a:pt x="5172" y="0"/>
                </a:moveTo>
                <a:lnTo>
                  <a:pt x="5075" y="0"/>
                </a:lnTo>
                <a:lnTo>
                  <a:pt x="4977" y="32"/>
                </a:lnTo>
                <a:lnTo>
                  <a:pt x="4717" y="97"/>
                </a:lnTo>
                <a:lnTo>
                  <a:pt x="4456" y="97"/>
                </a:lnTo>
                <a:lnTo>
                  <a:pt x="4066" y="65"/>
                </a:lnTo>
                <a:lnTo>
                  <a:pt x="3936" y="65"/>
                </a:lnTo>
                <a:lnTo>
                  <a:pt x="3806" y="130"/>
                </a:lnTo>
                <a:lnTo>
                  <a:pt x="3545" y="227"/>
                </a:lnTo>
                <a:lnTo>
                  <a:pt x="3448" y="292"/>
                </a:lnTo>
                <a:lnTo>
                  <a:pt x="3350" y="325"/>
                </a:lnTo>
                <a:lnTo>
                  <a:pt x="3253" y="357"/>
                </a:lnTo>
                <a:lnTo>
                  <a:pt x="3123" y="422"/>
                </a:lnTo>
                <a:lnTo>
                  <a:pt x="2992" y="487"/>
                </a:lnTo>
                <a:lnTo>
                  <a:pt x="2895" y="487"/>
                </a:lnTo>
                <a:lnTo>
                  <a:pt x="2797" y="618"/>
                </a:lnTo>
                <a:lnTo>
                  <a:pt x="2700" y="683"/>
                </a:lnTo>
                <a:lnTo>
                  <a:pt x="2635" y="813"/>
                </a:lnTo>
                <a:lnTo>
                  <a:pt x="2602" y="910"/>
                </a:lnTo>
                <a:lnTo>
                  <a:pt x="2504" y="975"/>
                </a:lnTo>
                <a:lnTo>
                  <a:pt x="2407" y="1040"/>
                </a:lnTo>
                <a:lnTo>
                  <a:pt x="2277" y="1073"/>
                </a:lnTo>
                <a:lnTo>
                  <a:pt x="2016" y="1171"/>
                </a:lnTo>
                <a:lnTo>
                  <a:pt x="1919" y="1268"/>
                </a:lnTo>
                <a:lnTo>
                  <a:pt x="1821" y="1301"/>
                </a:lnTo>
                <a:lnTo>
                  <a:pt x="1724" y="1366"/>
                </a:lnTo>
                <a:lnTo>
                  <a:pt x="1659" y="1463"/>
                </a:lnTo>
                <a:lnTo>
                  <a:pt x="1594" y="1561"/>
                </a:lnTo>
                <a:lnTo>
                  <a:pt x="1496" y="1659"/>
                </a:lnTo>
                <a:lnTo>
                  <a:pt x="1463" y="1756"/>
                </a:lnTo>
                <a:lnTo>
                  <a:pt x="1366" y="1854"/>
                </a:lnTo>
                <a:lnTo>
                  <a:pt x="1268" y="1919"/>
                </a:lnTo>
                <a:lnTo>
                  <a:pt x="1171" y="1984"/>
                </a:lnTo>
                <a:lnTo>
                  <a:pt x="1073" y="2081"/>
                </a:lnTo>
                <a:lnTo>
                  <a:pt x="975" y="2212"/>
                </a:lnTo>
                <a:lnTo>
                  <a:pt x="910" y="2309"/>
                </a:lnTo>
                <a:lnTo>
                  <a:pt x="813" y="2407"/>
                </a:lnTo>
                <a:lnTo>
                  <a:pt x="748" y="2667"/>
                </a:lnTo>
                <a:lnTo>
                  <a:pt x="683" y="2927"/>
                </a:lnTo>
                <a:lnTo>
                  <a:pt x="650" y="3025"/>
                </a:lnTo>
                <a:lnTo>
                  <a:pt x="618" y="3122"/>
                </a:lnTo>
                <a:lnTo>
                  <a:pt x="618" y="3318"/>
                </a:lnTo>
                <a:lnTo>
                  <a:pt x="553" y="3415"/>
                </a:lnTo>
                <a:lnTo>
                  <a:pt x="487" y="3675"/>
                </a:lnTo>
                <a:lnTo>
                  <a:pt x="455" y="3773"/>
                </a:lnTo>
                <a:lnTo>
                  <a:pt x="390" y="3871"/>
                </a:lnTo>
                <a:lnTo>
                  <a:pt x="357" y="3968"/>
                </a:lnTo>
                <a:lnTo>
                  <a:pt x="325" y="4066"/>
                </a:lnTo>
                <a:lnTo>
                  <a:pt x="260" y="4196"/>
                </a:lnTo>
                <a:lnTo>
                  <a:pt x="195" y="4391"/>
                </a:lnTo>
                <a:lnTo>
                  <a:pt x="162" y="4489"/>
                </a:lnTo>
                <a:lnTo>
                  <a:pt x="130" y="4619"/>
                </a:lnTo>
                <a:lnTo>
                  <a:pt x="97" y="4879"/>
                </a:lnTo>
                <a:lnTo>
                  <a:pt x="65" y="5009"/>
                </a:lnTo>
                <a:lnTo>
                  <a:pt x="32" y="5335"/>
                </a:lnTo>
                <a:lnTo>
                  <a:pt x="32" y="5466"/>
                </a:lnTo>
                <a:lnTo>
                  <a:pt x="0" y="5563"/>
                </a:lnTo>
                <a:lnTo>
                  <a:pt x="0" y="5661"/>
                </a:lnTo>
                <a:lnTo>
                  <a:pt x="65" y="5921"/>
                </a:lnTo>
                <a:lnTo>
                  <a:pt x="97" y="6181"/>
                </a:lnTo>
                <a:lnTo>
                  <a:pt x="97" y="6376"/>
                </a:lnTo>
                <a:lnTo>
                  <a:pt x="130" y="6507"/>
                </a:lnTo>
                <a:lnTo>
                  <a:pt x="162" y="6604"/>
                </a:lnTo>
                <a:lnTo>
                  <a:pt x="162" y="6734"/>
                </a:lnTo>
                <a:lnTo>
                  <a:pt x="195" y="6832"/>
                </a:lnTo>
                <a:lnTo>
                  <a:pt x="260" y="7060"/>
                </a:lnTo>
                <a:lnTo>
                  <a:pt x="292" y="7255"/>
                </a:lnTo>
                <a:lnTo>
                  <a:pt x="357" y="7450"/>
                </a:lnTo>
                <a:lnTo>
                  <a:pt x="422" y="7840"/>
                </a:lnTo>
                <a:lnTo>
                  <a:pt x="487" y="8035"/>
                </a:lnTo>
                <a:lnTo>
                  <a:pt x="520" y="8133"/>
                </a:lnTo>
                <a:lnTo>
                  <a:pt x="618" y="8361"/>
                </a:lnTo>
                <a:lnTo>
                  <a:pt x="748" y="8458"/>
                </a:lnTo>
                <a:lnTo>
                  <a:pt x="845" y="8556"/>
                </a:lnTo>
                <a:lnTo>
                  <a:pt x="910" y="8751"/>
                </a:lnTo>
                <a:lnTo>
                  <a:pt x="1171" y="8849"/>
                </a:lnTo>
                <a:lnTo>
                  <a:pt x="1431" y="8946"/>
                </a:lnTo>
                <a:lnTo>
                  <a:pt x="1529" y="9011"/>
                </a:lnTo>
                <a:lnTo>
                  <a:pt x="1789" y="9076"/>
                </a:lnTo>
                <a:lnTo>
                  <a:pt x="1924" y="9337"/>
                </a:lnTo>
                <a:lnTo>
                  <a:pt x="2082" y="9548"/>
                </a:lnTo>
                <a:lnTo>
                  <a:pt x="2342" y="9564"/>
                </a:lnTo>
                <a:lnTo>
                  <a:pt x="2570" y="9695"/>
                </a:lnTo>
                <a:lnTo>
                  <a:pt x="2667" y="9825"/>
                </a:lnTo>
                <a:lnTo>
                  <a:pt x="2765" y="9890"/>
                </a:lnTo>
                <a:lnTo>
                  <a:pt x="2830" y="9987"/>
                </a:lnTo>
                <a:lnTo>
                  <a:pt x="2927" y="10052"/>
                </a:lnTo>
                <a:lnTo>
                  <a:pt x="3220" y="10248"/>
                </a:lnTo>
                <a:lnTo>
                  <a:pt x="3318" y="10313"/>
                </a:lnTo>
                <a:lnTo>
                  <a:pt x="3741" y="10410"/>
                </a:lnTo>
                <a:lnTo>
                  <a:pt x="3838" y="10443"/>
                </a:lnTo>
                <a:lnTo>
                  <a:pt x="4066" y="10443"/>
                </a:lnTo>
                <a:lnTo>
                  <a:pt x="4261" y="10443"/>
                </a:lnTo>
                <a:lnTo>
                  <a:pt x="4456" y="10443"/>
                </a:lnTo>
                <a:lnTo>
                  <a:pt x="4782" y="10443"/>
                </a:lnTo>
                <a:lnTo>
                  <a:pt x="5563" y="10443"/>
                </a:lnTo>
                <a:lnTo>
                  <a:pt x="5856" y="10443"/>
                </a:lnTo>
                <a:lnTo>
                  <a:pt x="6117" y="10378"/>
                </a:lnTo>
                <a:lnTo>
                  <a:pt x="6214" y="10313"/>
                </a:lnTo>
                <a:lnTo>
                  <a:pt x="6312" y="10248"/>
                </a:lnTo>
                <a:lnTo>
                  <a:pt x="6409" y="10182"/>
                </a:lnTo>
                <a:lnTo>
                  <a:pt x="6670" y="10117"/>
                </a:lnTo>
                <a:lnTo>
                  <a:pt x="7092" y="10085"/>
                </a:lnTo>
                <a:lnTo>
                  <a:pt x="7223" y="10052"/>
                </a:lnTo>
                <a:lnTo>
                  <a:pt x="7613" y="9987"/>
                </a:lnTo>
                <a:lnTo>
                  <a:pt x="7743" y="9922"/>
                </a:lnTo>
                <a:lnTo>
                  <a:pt x="7873" y="9857"/>
                </a:lnTo>
                <a:lnTo>
                  <a:pt x="8166" y="9792"/>
                </a:lnTo>
                <a:lnTo>
                  <a:pt x="8264" y="9727"/>
                </a:lnTo>
                <a:lnTo>
                  <a:pt x="8361" y="9662"/>
                </a:lnTo>
                <a:lnTo>
                  <a:pt x="8556" y="9467"/>
                </a:lnTo>
                <a:lnTo>
                  <a:pt x="8654" y="9434"/>
                </a:lnTo>
                <a:lnTo>
                  <a:pt x="8719" y="9304"/>
                </a:lnTo>
                <a:lnTo>
                  <a:pt x="8817" y="9076"/>
                </a:lnTo>
                <a:lnTo>
                  <a:pt x="8849" y="8881"/>
                </a:lnTo>
                <a:lnTo>
                  <a:pt x="8947" y="8588"/>
                </a:lnTo>
                <a:lnTo>
                  <a:pt x="9012" y="8361"/>
                </a:lnTo>
                <a:lnTo>
                  <a:pt x="9137" y="8225"/>
                </a:lnTo>
                <a:lnTo>
                  <a:pt x="9288" y="8030"/>
                </a:lnTo>
                <a:lnTo>
                  <a:pt x="9413" y="7949"/>
                </a:lnTo>
                <a:lnTo>
                  <a:pt x="9532" y="7819"/>
                </a:lnTo>
                <a:lnTo>
                  <a:pt x="9608" y="7613"/>
                </a:lnTo>
                <a:lnTo>
                  <a:pt x="9630" y="7445"/>
                </a:lnTo>
                <a:lnTo>
                  <a:pt x="9760" y="7255"/>
                </a:lnTo>
                <a:lnTo>
                  <a:pt x="9858" y="7125"/>
                </a:lnTo>
                <a:lnTo>
                  <a:pt x="9955" y="6995"/>
                </a:lnTo>
                <a:lnTo>
                  <a:pt x="9988" y="6864"/>
                </a:lnTo>
                <a:lnTo>
                  <a:pt x="10053" y="6604"/>
                </a:lnTo>
                <a:lnTo>
                  <a:pt x="10085" y="6474"/>
                </a:lnTo>
                <a:lnTo>
                  <a:pt x="10151" y="6214"/>
                </a:lnTo>
                <a:lnTo>
                  <a:pt x="10183" y="6084"/>
                </a:lnTo>
                <a:lnTo>
                  <a:pt x="10183" y="5888"/>
                </a:lnTo>
                <a:lnTo>
                  <a:pt x="10216" y="5791"/>
                </a:lnTo>
                <a:lnTo>
                  <a:pt x="10216" y="5531"/>
                </a:lnTo>
                <a:lnTo>
                  <a:pt x="10281" y="5401"/>
                </a:lnTo>
                <a:lnTo>
                  <a:pt x="10313" y="5074"/>
                </a:lnTo>
                <a:lnTo>
                  <a:pt x="10346" y="4977"/>
                </a:lnTo>
                <a:lnTo>
                  <a:pt x="10346" y="4879"/>
                </a:lnTo>
                <a:lnTo>
                  <a:pt x="10346" y="4651"/>
                </a:lnTo>
                <a:lnTo>
                  <a:pt x="10313" y="4424"/>
                </a:lnTo>
                <a:lnTo>
                  <a:pt x="10281" y="4228"/>
                </a:lnTo>
                <a:lnTo>
                  <a:pt x="10216" y="4098"/>
                </a:lnTo>
                <a:lnTo>
                  <a:pt x="10151" y="4001"/>
                </a:lnTo>
                <a:lnTo>
                  <a:pt x="10085" y="3903"/>
                </a:lnTo>
                <a:lnTo>
                  <a:pt x="9988" y="3838"/>
                </a:lnTo>
                <a:lnTo>
                  <a:pt x="9890" y="3708"/>
                </a:lnTo>
                <a:lnTo>
                  <a:pt x="9793" y="3578"/>
                </a:lnTo>
                <a:lnTo>
                  <a:pt x="9728" y="3480"/>
                </a:lnTo>
                <a:lnTo>
                  <a:pt x="9663" y="3383"/>
                </a:lnTo>
                <a:lnTo>
                  <a:pt x="9565" y="3253"/>
                </a:lnTo>
                <a:lnTo>
                  <a:pt x="9467" y="3025"/>
                </a:lnTo>
                <a:lnTo>
                  <a:pt x="9370" y="2927"/>
                </a:lnTo>
                <a:lnTo>
                  <a:pt x="9305" y="2667"/>
                </a:lnTo>
                <a:lnTo>
                  <a:pt x="9240" y="2569"/>
                </a:lnTo>
                <a:lnTo>
                  <a:pt x="9109" y="2309"/>
                </a:lnTo>
                <a:lnTo>
                  <a:pt x="9012" y="2179"/>
                </a:lnTo>
                <a:lnTo>
                  <a:pt x="8817" y="1984"/>
                </a:lnTo>
                <a:lnTo>
                  <a:pt x="8752" y="1854"/>
                </a:lnTo>
                <a:lnTo>
                  <a:pt x="8622" y="1724"/>
                </a:lnTo>
                <a:lnTo>
                  <a:pt x="8361" y="1528"/>
                </a:lnTo>
                <a:lnTo>
                  <a:pt x="8264" y="1431"/>
                </a:lnTo>
                <a:lnTo>
                  <a:pt x="8199" y="1236"/>
                </a:lnTo>
                <a:lnTo>
                  <a:pt x="7873" y="1106"/>
                </a:lnTo>
                <a:lnTo>
                  <a:pt x="7613" y="1008"/>
                </a:lnTo>
                <a:lnTo>
                  <a:pt x="7515" y="975"/>
                </a:lnTo>
                <a:lnTo>
                  <a:pt x="7418" y="910"/>
                </a:lnTo>
                <a:lnTo>
                  <a:pt x="7288" y="813"/>
                </a:lnTo>
                <a:lnTo>
                  <a:pt x="7190" y="748"/>
                </a:lnTo>
                <a:lnTo>
                  <a:pt x="7092" y="683"/>
                </a:lnTo>
                <a:lnTo>
                  <a:pt x="6962" y="553"/>
                </a:lnTo>
                <a:lnTo>
                  <a:pt x="6865" y="487"/>
                </a:lnTo>
                <a:lnTo>
                  <a:pt x="6767" y="422"/>
                </a:lnTo>
                <a:lnTo>
                  <a:pt x="6474" y="357"/>
                </a:lnTo>
                <a:lnTo>
                  <a:pt x="6377" y="292"/>
                </a:lnTo>
                <a:lnTo>
                  <a:pt x="6247" y="260"/>
                </a:lnTo>
                <a:lnTo>
                  <a:pt x="6117" y="227"/>
                </a:lnTo>
                <a:lnTo>
                  <a:pt x="5986" y="195"/>
                </a:lnTo>
                <a:lnTo>
                  <a:pt x="5726" y="130"/>
                </a:lnTo>
                <a:lnTo>
                  <a:pt x="5629" y="97"/>
                </a:lnTo>
                <a:lnTo>
                  <a:pt x="5303" y="32"/>
                </a:lnTo>
                <a:lnTo>
                  <a:pt x="5107" y="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0" name=""/>
          <p:cNvSpPr/>
          <p:nvPr/>
        </p:nvSpPr>
        <p:spPr>
          <a:xfrm>
            <a:off x="2496960" y="1419120"/>
            <a:ext cx="3943440" cy="394344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125880" y="2050920"/>
            <a:ext cx="2670120" cy="267012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2" name=""/>
          <p:cNvSpPr/>
          <p:nvPr/>
        </p:nvSpPr>
        <p:spPr>
          <a:xfrm>
            <a:off x="4487760" y="1160640"/>
            <a:ext cx="0" cy="19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 name=""/>
          <p:cNvSpPr/>
          <p:nvPr/>
        </p:nvSpPr>
        <p:spPr>
          <a:xfrm>
            <a:off x="4487760" y="32828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4487760" y="3645000"/>
            <a:ext cx="0" cy="20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2182680" y="3384720"/>
            <a:ext cx="19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4354560" y="3384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 name=""/>
          <p:cNvSpPr/>
          <p:nvPr/>
        </p:nvSpPr>
        <p:spPr>
          <a:xfrm>
            <a:off x="4716360" y="3384720"/>
            <a:ext cx="206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 name=""/>
          <p:cNvSpPr txBox="1"/>
          <p:nvPr/>
        </p:nvSpPr>
        <p:spPr>
          <a:xfrm>
            <a:off x="177840" y="1128600"/>
            <a:ext cx="3346560" cy="28353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Boundaries of the controll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olerance zone may ex-</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ceed 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ut no el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of the featu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surface ma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xtend beyon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oundaries.</a:t>
            </a:r>
            <a:endParaRPr b="0" lang="en-US" sz="2000" spc="-1" strike="noStrike">
              <a:solidFill>
                <a:srgbClr val="000000"/>
              </a:solidFill>
              <a:latin typeface="Arial"/>
            </a:endParaRPr>
          </a:p>
        </p:txBody>
      </p:sp>
      <p:sp>
        <p:nvSpPr>
          <p:cNvPr id="1299" name=""/>
          <p:cNvSpPr txBox="1"/>
          <p:nvPr/>
        </p:nvSpPr>
        <p:spPr>
          <a:xfrm>
            <a:off x="519120" y="249120"/>
            <a:ext cx="3435480" cy="641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00" name=""/>
          <p:cNvSpPr/>
          <p:nvPr/>
        </p:nvSpPr>
        <p:spPr>
          <a:xfrm>
            <a:off x="2496960" y="1419120"/>
            <a:ext cx="3943440" cy="394344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2525760" y="1447920"/>
            <a:ext cx="3887640" cy="3887640"/>
          </a:xfrm>
          <a:prstGeom prst="ellipse">
            <a:avLst/>
          </a:prstGeom>
          <a:solidFill>
            <a:srgbClr val="a2c1fe"/>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2784600" y="1746360"/>
            <a:ext cx="3352680" cy="3355920"/>
          </a:xfrm>
          <a:prstGeom prst="ellipse">
            <a:avLst/>
          </a:prstGeom>
          <a:solidFill>
            <a:srgbClr val="114ffb"/>
          </a:soli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2682720" y="1519200"/>
            <a:ext cx="3616560" cy="3650040"/>
          </a:xfrm>
          <a:custGeom>
            <a:avLst/>
            <a:gdLst/>
            <a:ahLst/>
            <a:rect l="0" t="0" r="r" b="b"/>
            <a:pathLst>
              <a:path fill="none" w="10046" h="10139">
                <a:moveTo>
                  <a:pt x="5022" y="0"/>
                </a:moveTo>
                <a:lnTo>
                  <a:pt x="4927" y="0"/>
                </a:lnTo>
                <a:lnTo>
                  <a:pt x="4833" y="31"/>
                </a:lnTo>
                <a:lnTo>
                  <a:pt x="4580" y="94"/>
                </a:lnTo>
                <a:lnTo>
                  <a:pt x="4327" y="94"/>
                </a:lnTo>
                <a:lnTo>
                  <a:pt x="3948" y="63"/>
                </a:lnTo>
                <a:lnTo>
                  <a:pt x="3822" y="63"/>
                </a:lnTo>
                <a:lnTo>
                  <a:pt x="3695" y="126"/>
                </a:lnTo>
                <a:lnTo>
                  <a:pt x="3443" y="221"/>
                </a:lnTo>
                <a:lnTo>
                  <a:pt x="3348" y="284"/>
                </a:lnTo>
                <a:lnTo>
                  <a:pt x="3253" y="315"/>
                </a:lnTo>
                <a:lnTo>
                  <a:pt x="3158" y="347"/>
                </a:lnTo>
                <a:lnTo>
                  <a:pt x="3032" y="410"/>
                </a:lnTo>
                <a:lnTo>
                  <a:pt x="2906" y="473"/>
                </a:lnTo>
                <a:lnTo>
                  <a:pt x="2811" y="473"/>
                </a:lnTo>
                <a:lnTo>
                  <a:pt x="2716" y="600"/>
                </a:lnTo>
                <a:lnTo>
                  <a:pt x="2621" y="663"/>
                </a:lnTo>
                <a:lnTo>
                  <a:pt x="2558" y="789"/>
                </a:lnTo>
                <a:lnTo>
                  <a:pt x="2527" y="884"/>
                </a:lnTo>
                <a:lnTo>
                  <a:pt x="2432" y="947"/>
                </a:lnTo>
                <a:lnTo>
                  <a:pt x="2337" y="1010"/>
                </a:lnTo>
                <a:lnTo>
                  <a:pt x="2211" y="1042"/>
                </a:lnTo>
                <a:lnTo>
                  <a:pt x="1958" y="1136"/>
                </a:lnTo>
                <a:lnTo>
                  <a:pt x="1863" y="1231"/>
                </a:lnTo>
                <a:lnTo>
                  <a:pt x="1768" y="1263"/>
                </a:lnTo>
                <a:lnTo>
                  <a:pt x="1674" y="1326"/>
                </a:lnTo>
                <a:lnTo>
                  <a:pt x="1611" y="1421"/>
                </a:lnTo>
                <a:lnTo>
                  <a:pt x="1547" y="1515"/>
                </a:lnTo>
                <a:lnTo>
                  <a:pt x="1453" y="1610"/>
                </a:lnTo>
                <a:lnTo>
                  <a:pt x="1421" y="1705"/>
                </a:lnTo>
                <a:lnTo>
                  <a:pt x="1326" y="1800"/>
                </a:lnTo>
                <a:lnTo>
                  <a:pt x="1231" y="1863"/>
                </a:lnTo>
                <a:lnTo>
                  <a:pt x="1137" y="1926"/>
                </a:lnTo>
                <a:lnTo>
                  <a:pt x="1042" y="2021"/>
                </a:lnTo>
                <a:lnTo>
                  <a:pt x="947" y="2147"/>
                </a:lnTo>
                <a:lnTo>
                  <a:pt x="884" y="2242"/>
                </a:lnTo>
                <a:lnTo>
                  <a:pt x="789" y="2337"/>
                </a:lnTo>
                <a:lnTo>
                  <a:pt x="726" y="2590"/>
                </a:lnTo>
                <a:lnTo>
                  <a:pt x="663" y="2843"/>
                </a:lnTo>
                <a:lnTo>
                  <a:pt x="631" y="2938"/>
                </a:lnTo>
                <a:lnTo>
                  <a:pt x="600" y="3032"/>
                </a:lnTo>
                <a:lnTo>
                  <a:pt x="600" y="3222"/>
                </a:lnTo>
                <a:lnTo>
                  <a:pt x="537" y="3317"/>
                </a:lnTo>
                <a:lnTo>
                  <a:pt x="473" y="3569"/>
                </a:lnTo>
                <a:lnTo>
                  <a:pt x="442" y="3664"/>
                </a:lnTo>
                <a:lnTo>
                  <a:pt x="379" y="3759"/>
                </a:lnTo>
                <a:lnTo>
                  <a:pt x="347" y="3854"/>
                </a:lnTo>
                <a:lnTo>
                  <a:pt x="315" y="3948"/>
                </a:lnTo>
                <a:lnTo>
                  <a:pt x="252" y="4075"/>
                </a:lnTo>
                <a:lnTo>
                  <a:pt x="189" y="4264"/>
                </a:lnTo>
                <a:lnTo>
                  <a:pt x="157" y="4359"/>
                </a:lnTo>
                <a:lnTo>
                  <a:pt x="126" y="4485"/>
                </a:lnTo>
                <a:lnTo>
                  <a:pt x="94" y="4738"/>
                </a:lnTo>
                <a:lnTo>
                  <a:pt x="63" y="4864"/>
                </a:lnTo>
                <a:lnTo>
                  <a:pt x="31" y="5180"/>
                </a:lnTo>
                <a:lnTo>
                  <a:pt x="31" y="5306"/>
                </a:lnTo>
                <a:lnTo>
                  <a:pt x="0" y="5401"/>
                </a:lnTo>
                <a:lnTo>
                  <a:pt x="0" y="5496"/>
                </a:lnTo>
                <a:lnTo>
                  <a:pt x="63" y="5748"/>
                </a:lnTo>
                <a:lnTo>
                  <a:pt x="94" y="6001"/>
                </a:lnTo>
                <a:lnTo>
                  <a:pt x="94" y="6191"/>
                </a:lnTo>
                <a:lnTo>
                  <a:pt x="126" y="6317"/>
                </a:lnTo>
                <a:lnTo>
                  <a:pt x="157" y="6412"/>
                </a:lnTo>
                <a:lnTo>
                  <a:pt x="157" y="6538"/>
                </a:lnTo>
                <a:lnTo>
                  <a:pt x="189" y="6633"/>
                </a:lnTo>
                <a:lnTo>
                  <a:pt x="252" y="6854"/>
                </a:lnTo>
                <a:lnTo>
                  <a:pt x="284" y="7043"/>
                </a:lnTo>
                <a:lnTo>
                  <a:pt x="347" y="7233"/>
                </a:lnTo>
                <a:lnTo>
                  <a:pt x="410" y="7613"/>
                </a:lnTo>
                <a:lnTo>
                  <a:pt x="473" y="7802"/>
                </a:lnTo>
                <a:lnTo>
                  <a:pt x="505" y="7897"/>
                </a:lnTo>
                <a:lnTo>
                  <a:pt x="600" y="8118"/>
                </a:lnTo>
                <a:lnTo>
                  <a:pt x="726" y="8213"/>
                </a:lnTo>
                <a:lnTo>
                  <a:pt x="821" y="8308"/>
                </a:lnTo>
                <a:lnTo>
                  <a:pt x="884" y="8497"/>
                </a:lnTo>
                <a:lnTo>
                  <a:pt x="1137" y="8592"/>
                </a:lnTo>
                <a:lnTo>
                  <a:pt x="1389" y="8687"/>
                </a:lnTo>
                <a:lnTo>
                  <a:pt x="1484" y="8750"/>
                </a:lnTo>
                <a:lnTo>
                  <a:pt x="1737" y="8813"/>
                </a:lnTo>
                <a:lnTo>
                  <a:pt x="1869" y="9066"/>
                </a:lnTo>
                <a:lnTo>
                  <a:pt x="2021" y="9271"/>
                </a:lnTo>
                <a:lnTo>
                  <a:pt x="2274" y="9287"/>
                </a:lnTo>
                <a:lnTo>
                  <a:pt x="2495" y="9413"/>
                </a:lnTo>
                <a:lnTo>
                  <a:pt x="2590" y="9539"/>
                </a:lnTo>
                <a:lnTo>
                  <a:pt x="2685" y="9603"/>
                </a:lnTo>
                <a:lnTo>
                  <a:pt x="2748" y="9697"/>
                </a:lnTo>
                <a:lnTo>
                  <a:pt x="2843" y="9760"/>
                </a:lnTo>
                <a:lnTo>
                  <a:pt x="3127" y="9950"/>
                </a:lnTo>
                <a:lnTo>
                  <a:pt x="3222" y="10013"/>
                </a:lnTo>
                <a:lnTo>
                  <a:pt x="3632" y="10108"/>
                </a:lnTo>
                <a:lnTo>
                  <a:pt x="3727" y="10139"/>
                </a:lnTo>
                <a:lnTo>
                  <a:pt x="3948" y="10139"/>
                </a:lnTo>
                <a:lnTo>
                  <a:pt x="4138" y="10139"/>
                </a:lnTo>
                <a:lnTo>
                  <a:pt x="4327" y="10139"/>
                </a:lnTo>
                <a:lnTo>
                  <a:pt x="4643" y="10139"/>
                </a:lnTo>
                <a:lnTo>
                  <a:pt x="5402" y="10139"/>
                </a:lnTo>
                <a:lnTo>
                  <a:pt x="5687" y="10139"/>
                </a:lnTo>
                <a:lnTo>
                  <a:pt x="5939" y="10076"/>
                </a:lnTo>
                <a:lnTo>
                  <a:pt x="6034" y="10013"/>
                </a:lnTo>
                <a:lnTo>
                  <a:pt x="6129" y="9950"/>
                </a:lnTo>
                <a:lnTo>
                  <a:pt x="6224" y="9887"/>
                </a:lnTo>
                <a:lnTo>
                  <a:pt x="6476" y="9824"/>
                </a:lnTo>
                <a:lnTo>
                  <a:pt x="6887" y="9792"/>
                </a:lnTo>
                <a:lnTo>
                  <a:pt x="7013" y="9760"/>
                </a:lnTo>
                <a:lnTo>
                  <a:pt x="7392" y="9697"/>
                </a:lnTo>
                <a:lnTo>
                  <a:pt x="7519" y="9634"/>
                </a:lnTo>
                <a:lnTo>
                  <a:pt x="7645" y="9571"/>
                </a:lnTo>
                <a:lnTo>
                  <a:pt x="7929" y="9508"/>
                </a:lnTo>
                <a:lnTo>
                  <a:pt x="8024" y="9445"/>
                </a:lnTo>
                <a:lnTo>
                  <a:pt x="8119" y="9381"/>
                </a:lnTo>
                <a:lnTo>
                  <a:pt x="8308" y="9192"/>
                </a:lnTo>
                <a:lnTo>
                  <a:pt x="8403" y="9160"/>
                </a:lnTo>
                <a:lnTo>
                  <a:pt x="8466" y="9034"/>
                </a:lnTo>
                <a:lnTo>
                  <a:pt x="8561" y="8813"/>
                </a:lnTo>
                <a:lnTo>
                  <a:pt x="8593" y="8623"/>
                </a:lnTo>
                <a:lnTo>
                  <a:pt x="8688" y="8339"/>
                </a:lnTo>
                <a:lnTo>
                  <a:pt x="8751" y="8118"/>
                </a:lnTo>
                <a:lnTo>
                  <a:pt x="8872" y="7987"/>
                </a:lnTo>
                <a:lnTo>
                  <a:pt x="9019" y="7797"/>
                </a:lnTo>
                <a:lnTo>
                  <a:pt x="9140" y="7718"/>
                </a:lnTo>
                <a:lnTo>
                  <a:pt x="9256" y="7591"/>
                </a:lnTo>
                <a:lnTo>
                  <a:pt x="9330" y="7391"/>
                </a:lnTo>
                <a:lnTo>
                  <a:pt x="9351" y="7228"/>
                </a:lnTo>
                <a:lnTo>
                  <a:pt x="9477" y="7043"/>
                </a:lnTo>
                <a:lnTo>
                  <a:pt x="9572" y="6917"/>
                </a:lnTo>
                <a:lnTo>
                  <a:pt x="9667" y="6791"/>
                </a:lnTo>
                <a:lnTo>
                  <a:pt x="9698" y="6664"/>
                </a:lnTo>
                <a:lnTo>
                  <a:pt x="9762" y="6412"/>
                </a:lnTo>
                <a:lnTo>
                  <a:pt x="9793" y="6285"/>
                </a:lnTo>
                <a:lnTo>
                  <a:pt x="9856" y="6033"/>
                </a:lnTo>
                <a:lnTo>
                  <a:pt x="9888" y="5906"/>
                </a:lnTo>
                <a:lnTo>
                  <a:pt x="9888" y="5717"/>
                </a:lnTo>
                <a:lnTo>
                  <a:pt x="9919" y="5622"/>
                </a:lnTo>
                <a:lnTo>
                  <a:pt x="9919" y="5370"/>
                </a:lnTo>
                <a:lnTo>
                  <a:pt x="9983" y="5243"/>
                </a:lnTo>
                <a:lnTo>
                  <a:pt x="10014" y="4927"/>
                </a:lnTo>
                <a:lnTo>
                  <a:pt x="10046" y="4833"/>
                </a:lnTo>
                <a:lnTo>
                  <a:pt x="10046" y="4738"/>
                </a:lnTo>
                <a:lnTo>
                  <a:pt x="10046" y="4517"/>
                </a:lnTo>
                <a:lnTo>
                  <a:pt x="10014" y="4296"/>
                </a:lnTo>
                <a:lnTo>
                  <a:pt x="9983" y="4106"/>
                </a:lnTo>
                <a:lnTo>
                  <a:pt x="9919" y="3980"/>
                </a:lnTo>
                <a:lnTo>
                  <a:pt x="9856" y="3885"/>
                </a:lnTo>
                <a:lnTo>
                  <a:pt x="9793" y="3790"/>
                </a:lnTo>
                <a:lnTo>
                  <a:pt x="9698" y="3727"/>
                </a:lnTo>
                <a:lnTo>
                  <a:pt x="9604" y="3601"/>
                </a:lnTo>
                <a:lnTo>
                  <a:pt x="9509" y="3475"/>
                </a:lnTo>
                <a:lnTo>
                  <a:pt x="9446" y="3380"/>
                </a:lnTo>
                <a:lnTo>
                  <a:pt x="9382" y="3285"/>
                </a:lnTo>
                <a:lnTo>
                  <a:pt x="9288" y="3159"/>
                </a:lnTo>
                <a:lnTo>
                  <a:pt x="9193" y="2938"/>
                </a:lnTo>
                <a:lnTo>
                  <a:pt x="9098" y="2843"/>
                </a:lnTo>
                <a:lnTo>
                  <a:pt x="9035" y="2590"/>
                </a:lnTo>
                <a:lnTo>
                  <a:pt x="8972" y="2495"/>
                </a:lnTo>
                <a:lnTo>
                  <a:pt x="8845" y="2242"/>
                </a:lnTo>
                <a:lnTo>
                  <a:pt x="8751" y="2116"/>
                </a:lnTo>
                <a:lnTo>
                  <a:pt x="8561" y="1926"/>
                </a:lnTo>
                <a:lnTo>
                  <a:pt x="8498" y="1800"/>
                </a:lnTo>
                <a:lnTo>
                  <a:pt x="8372" y="1673"/>
                </a:lnTo>
                <a:lnTo>
                  <a:pt x="8119" y="1484"/>
                </a:lnTo>
                <a:lnTo>
                  <a:pt x="8024" y="1389"/>
                </a:lnTo>
                <a:lnTo>
                  <a:pt x="7961" y="1200"/>
                </a:lnTo>
                <a:lnTo>
                  <a:pt x="7645" y="1073"/>
                </a:lnTo>
                <a:lnTo>
                  <a:pt x="7392" y="979"/>
                </a:lnTo>
                <a:lnTo>
                  <a:pt x="7298" y="947"/>
                </a:lnTo>
                <a:lnTo>
                  <a:pt x="7203" y="884"/>
                </a:lnTo>
                <a:lnTo>
                  <a:pt x="7076" y="789"/>
                </a:lnTo>
                <a:lnTo>
                  <a:pt x="6982" y="726"/>
                </a:lnTo>
                <a:lnTo>
                  <a:pt x="6887" y="663"/>
                </a:lnTo>
                <a:lnTo>
                  <a:pt x="6761" y="536"/>
                </a:lnTo>
                <a:lnTo>
                  <a:pt x="6666" y="473"/>
                </a:lnTo>
                <a:lnTo>
                  <a:pt x="6571" y="410"/>
                </a:lnTo>
                <a:lnTo>
                  <a:pt x="6287" y="347"/>
                </a:lnTo>
                <a:lnTo>
                  <a:pt x="6192" y="284"/>
                </a:lnTo>
                <a:lnTo>
                  <a:pt x="6066" y="252"/>
                </a:lnTo>
                <a:lnTo>
                  <a:pt x="5939" y="221"/>
                </a:lnTo>
                <a:lnTo>
                  <a:pt x="5813" y="189"/>
                </a:lnTo>
                <a:lnTo>
                  <a:pt x="5560" y="126"/>
                </a:lnTo>
                <a:lnTo>
                  <a:pt x="5465" y="94"/>
                </a:lnTo>
                <a:lnTo>
                  <a:pt x="5150" y="31"/>
                </a:lnTo>
                <a:lnTo>
                  <a:pt x="4959" y="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4" name=""/>
          <p:cNvSpPr/>
          <p:nvPr/>
        </p:nvSpPr>
        <p:spPr>
          <a:xfrm>
            <a:off x="3125880" y="2050920"/>
            <a:ext cx="2670120" cy="267012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5" name=""/>
          <p:cNvSpPr/>
          <p:nvPr/>
        </p:nvSpPr>
        <p:spPr>
          <a:xfrm>
            <a:off x="4487760" y="1160640"/>
            <a:ext cx="0" cy="19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4487760" y="32828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4487760" y="3645000"/>
            <a:ext cx="0" cy="20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2182680" y="3384720"/>
            <a:ext cx="19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a:off x="4354560" y="3384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4716360" y="3384720"/>
            <a:ext cx="206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txBox="1"/>
          <p:nvPr/>
        </p:nvSpPr>
        <p:spPr>
          <a:xfrm>
            <a:off x="177840" y="1128600"/>
            <a:ext cx="3346560" cy="28353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Boundaries of the controll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olerance zone may ex-</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ceed 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ut no el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of the featu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surface ma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xtend beyon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oundaries.</a:t>
            </a:r>
            <a:endParaRPr b="0" lang="en-US" sz="2000" spc="-1" strike="noStrike">
              <a:solidFill>
                <a:srgbClr val="000000"/>
              </a:solidFill>
              <a:latin typeface="Arial"/>
            </a:endParaRPr>
          </a:p>
        </p:txBody>
      </p:sp>
      <p:sp>
        <p:nvSpPr>
          <p:cNvPr id="1312" name=""/>
          <p:cNvSpPr txBox="1"/>
          <p:nvPr/>
        </p:nvSpPr>
        <p:spPr>
          <a:xfrm>
            <a:off x="519120" y="249120"/>
            <a:ext cx="3435480" cy="641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1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1314" name=""/>
          <p:cNvSpPr txBox="1"/>
          <p:nvPr/>
        </p:nvSpPr>
        <p:spPr>
          <a:xfrm>
            <a:off x="685800" y="1996920"/>
            <a:ext cx="7772400" cy="3746520"/>
          </a:xfrm>
          <a:prstGeom prst="rect">
            <a:avLst/>
          </a:prstGeom>
          <a:noFill/>
          <a:ln w="0">
            <a:noFill/>
          </a:ln>
        </p:spPr>
        <p:txBody>
          <a:bodyPr lIns="0" rIns="0" tIns="0" bIns="0" anchor="t">
            <a:noAutofit/>
          </a:bodyPr>
          <a:p>
            <a:pPr algn="ctr">
              <a:lnSpc>
                <a:spcPct val="100000"/>
              </a:lnSpc>
              <a:spcBef>
                <a:spcPts val="479"/>
              </a:spcBef>
              <a:spcAft>
                <a:spcPts val="961"/>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A cylindricity tolerance zone is established by two theoretically exact, coaxial cylinders separated by a radial</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istance equal to the cylindircity tolerance value in the tolerance block of the feature control frame.</a:t>
            </a:r>
            <a:endParaRPr b="0" lang="en-US" sz="2800" spc="-1" strike="noStrike">
              <a:solidFill>
                <a:srgbClr val="000000"/>
              </a:solidFill>
              <a:latin typeface="Arial"/>
            </a:endParaRPr>
          </a:p>
        </p:txBody>
      </p:sp>
      <p:sp>
        <p:nvSpPr>
          <p:cNvPr id="1315" name=""/>
          <p:cNvSpPr/>
          <p:nvPr/>
        </p:nvSpPr>
        <p:spPr>
          <a:xfrm>
            <a:off x="547560" y="2606760"/>
            <a:ext cx="7970760" cy="258444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16" name=""/>
          <p:cNvSpPr txBox="1"/>
          <p:nvPr/>
        </p:nvSpPr>
        <p:spPr>
          <a:xfrm>
            <a:off x="685800" y="252360"/>
            <a:ext cx="7772400" cy="5810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 CONTROLS</a:t>
            </a:r>
            <a:endParaRPr b="0" lang="en-US" sz="3600" spc="-1" strike="noStrike">
              <a:solidFill>
                <a:srgbClr val="000000"/>
              </a:solidFill>
              <a:latin typeface="Arial"/>
            </a:endParaRPr>
          </a:p>
        </p:txBody>
      </p:sp>
      <p:sp>
        <p:nvSpPr>
          <p:cNvPr id="1317" name=""/>
          <p:cNvSpPr txBox="1"/>
          <p:nvPr/>
        </p:nvSpPr>
        <p:spPr>
          <a:xfrm>
            <a:off x="641520" y="1646280"/>
            <a:ext cx="7772400" cy="4691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cannot be overridden by a cylindricity tolerance.  Therefore, the actual diameter, at any measuring cross section,</a:t>
            </a:r>
            <a:r>
              <a:rPr b="0" lang="en-US" sz="2800" spc="-1" strike="noStrike">
                <a:solidFill>
                  <a:srgbClr val="fc0128"/>
                </a:solidFill>
                <a:latin typeface="Times New Roman"/>
                <a:ea typeface="Times New Roman"/>
              </a:rPr>
              <a:t> </a:t>
            </a:r>
            <a:r>
              <a:rPr b="0" i="1" lang="en-US" sz="2800" spc="-1" strike="noStrike" u="sng">
                <a:solidFill>
                  <a:srgbClr val="fafd00"/>
                </a:solidFill>
                <a:uFillTx/>
                <a:latin typeface="Times New Roman"/>
                <a:ea typeface="Times New Roman"/>
              </a:rPr>
              <a:t>must</a:t>
            </a:r>
            <a:r>
              <a:rPr b="0" lang="en-US" sz="2800" spc="-1" strike="noStrike">
                <a:solidFill>
                  <a:srgbClr val="fc0128"/>
                </a:solidFill>
                <a:latin typeface="Times New Roman"/>
                <a:ea typeface="Times New Roman"/>
              </a:rPr>
              <a:t> </a:t>
            </a:r>
            <a:r>
              <a:rPr b="0" lang="en-US" sz="2800" spc="-1" strike="noStrike">
                <a:solidFill>
                  <a:srgbClr val="ffffff"/>
                </a:solidFill>
                <a:latin typeface="Times New Roman"/>
                <a:ea typeface="Times New Roman"/>
              </a:rPr>
              <a:t>be within the stated size limit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Virtual condition is not affected by circularit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rface variation is limited </a:t>
            </a:r>
            <a:r>
              <a:rPr b="0" i="1" lang="en-US" sz="2800" spc="-1" strike="noStrike" u="sng">
                <a:solidFill>
                  <a:srgbClr val="fafd00"/>
                </a:solidFill>
                <a:uFillTx/>
                <a:latin typeface="Times New Roman"/>
                <a:ea typeface="Times New Roman"/>
              </a:rPr>
              <a:t>only</a:t>
            </a:r>
            <a:r>
              <a:rPr b="0" i="1" lang="en-US" sz="2800" spc="-1" strike="noStrike">
                <a:solidFill>
                  <a:srgbClr val="fc0128"/>
                </a:solidFill>
                <a:latin typeface="Times New Roman"/>
                <a:ea typeface="Times New Roman"/>
              </a:rPr>
              <a:t> </a:t>
            </a:r>
            <a:r>
              <a:rPr b="0" lang="en-US" sz="2800" spc="-1" strike="noStrike">
                <a:solidFill>
                  <a:srgbClr val="ffffff"/>
                </a:solidFill>
                <a:latin typeface="Times New Roman"/>
                <a:ea typeface="Times New Roman"/>
              </a:rPr>
              <a:t>when the feature departs from maximum material condition by more than the cylindricity tolerance valu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cylindricity tolerance value must be </a:t>
            </a:r>
            <a:r>
              <a:rPr b="0" i="1" lang="en-US" sz="2800" spc="-1" strike="noStrike" u="sng">
                <a:solidFill>
                  <a:srgbClr val="fafd00"/>
                </a:solidFill>
                <a:uFillTx/>
                <a:latin typeface="Times New Roman"/>
                <a:ea typeface="Times New Roman"/>
              </a:rPr>
              <a:t>less than half</a:t>
            </a:r>
            <a:r>
              <a:rPr b="0" i="1" lang="en-US" sz="2800" spc="-1" strike="noStrike">
                <a:solidFill>
                  <a:srgbClr val="fc0128"/>
                </a:solidFill>
                <a:latin typeface="Times New Roman"/>
                <a:ea typeface="Times New Roman"/>
              </a:rPr>
              <a:t> </a:t>
            </a:r>
            <a:r>
              <a:rPr b="0" lang="en-US" sz="2800" spc="-1" strike="noStrike">
                <a:solidFill>
                  <a:srgbClr val="ffffff"/>
                </a:solidFill>
                <a:latin typeface="Times New Roman"/>
                <a:ea typeface="Times New Roman"/>
              </a:rPr>
              <a:t>the diameter tolerance.</a:t>
            </a:r>
            <a:endParaRPr b="0" lang="en-US" sz="2800" spc="-1" strike="noStrike">
              <a:solidFill>
                <a:srgbClr val="000000"/>
              </a:solidFill>
              <a:latin typeface="Arial"/>
            </a:endParaRPr>
          </a:p>
        </p:txBody>
      </p:sp>
      <p:sp>
        <p:nvSpPr>
          <p:cNvPr id="1318" name=""/>
          <p:cNvSpPr/>
          <p:nvPr/>
        </p:nvSpPr>
        <p:spPr>
          <a:xfrm>
            <a:off x="476280" y="1463760"/>
            <a:ext cx="8215200" cy="5019840"/>
          </a:xfrm>
          <a:prstGeom prst="rect">
            <a:avLst/>
          </a:prstGeom>
          <a:noFill/>
          <a:ln w="76320">
            <a:solidFill>
              <a:srgbClr val="00dfca"/>
            </a:solidFill>
            <a:round/>
          </a:ln>
        </p:spPr>
        <p:txBody>
          <a:bodyPr lIns="128160" rIns="128160" tIns="83160" bIns="83160" anchor="t">
            <a:noAutofit/>
          </a:bodyPr>
          <a:p>
            <a:endParaRPr b="0" lang="en-US" sz="1800" spc="-1" strike="noStrike">
              <a:solidFill>
                <a:srgbClr val="000000"/>
              </a:solidFill>
              <a:latin typeface="Arial"/>
            </a:endParaRPr>
          </a:p>
        </p:txBody>
      </p:sp>
      <p:sp>
        <p:nvSpPr>
          <p:cNvPr id="1319" name=""/>
          <p:cNvSpPr/>
          <p:nvPr/>
        </p:nvSpPr>
        <p:spPr>
          <a:xfrm>
            <a:off x="3483000" y="888840"/>
            <a:ext cx="2025720" cy="4842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0" name=""/>
          <p:cNvSpPr txBox="1"/>
          <p:nvPr/>
        </p:nvSpPr>
        <p:spPr>
          <a:xfrm>
            <a:off x="3713040" y="839880"/>
            <a:ext cx="156672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2" name=""/>
          <p:cNvSpPr txBox="1"/>
          <p:nvPr/>
        </p:nvSpPr>
        <p:spPr>
          <a:xfrm>
            <a:off x="685800" y="762120"/>
            <a:ext cx="7772400" cy="1184400"/>
          </a:xfrm>
          <a:prstGeom prst="rect">
            <a:avLst/>
          </a:prstGeom>
          <a:noFill/>
          <a:ln w="0">
            <a:noFill/>
          </a:ln>
        </p:spPr>
        <p:txBody>
          <a:bodyPr lIns="0" rIns="0" tIns="0" bIns="0" anchor="t">
            <a:noAutofit/>
          </a:bodyPr>
          <a:p>
            <a:pPr algn="ctr">
              <a:lnSpc>
                <a:spcPct val="100000"/>
              </a:lnSpc>
            </a:pPr>
            <a:r>
              <a:rPr b="1" lang="en-US" sz="6600" spc="-1" strike="noStrike">
                <a:solidFill>
                  <a:srgbClr val="fafd00"/>
                </a:solidFill>
                <a:latin typeface="Times New Roman"/>
                <a:ea typeface="Times New Roman"/>
              </a:rPr>
              <a:t>FORM CONTROLS</a:t>
            </a:r>
            <a:br>
              <a:rPr sz="1800"/>
            </a:br>
            <a:endParaRPr b="0" lang="en-US" sz="6600" spc="-1" strike="noStrike">
              <a:solidFill>
                <a:srgbClr val="000000"/>
              </a:solidFill>
              <a:latin typeface="Arial"/>
            </a:endParaRPr>
          </a:p>
        </p:txBody>
      </p:sp>
      <p:sp>
        <p:nvSpPr>
          <p:cNvPr id="593" name=""/>
          <p:cNvSpPr txBox="1"/>
          <p:nvPr/>
        </p:nvSpPr>
        <p:spPr>
          <a:xfrm>
            <a:off x="533520" y="4876920"/>
            <a:ext cx="8001000" cy="1752480"/>
          </a:xfrm>
          <a:prstGeom prst="rect">
            <a:avLst/>
          </a:prstGeom>
          <a:noFill/>
          <a:ln w="0">
            <a:noFill/>
          </a:ln>
        </p:spPr>
        <p:txBody>
          <a:bodyPr lIns="0" rIns="0" tIns="0" bIns="0" anchor="t">
            <a:noAutofit/>
          </a:bodyPr>
          <a:p>
            <a:pPr marL="343080" indent="-343080" algn="ctr">
              <a:lnSpc>
                <a:spcPct val="100000"/>
              </a:lnSpc>
              <a:spcBef>
                <a:spcPts val="479"/>
              </a:spcBef>
            </a:pPr>
            <a:r>
              <a:rPr b="1" lang="en-US" sz="8000" spc="-1" strike="noStrike">
                <a:solidFill>
                  <a:srgbClr val="ffffff"/>
                </a:solidFill>
                <a:latin typeface="Times New Roman"/>
                <a:ea typeface="Times New Roman"/>
              </a:rPr>
              <a:t>CYLINDRICITY</a:t>
            </a:r>
            <a:endParaRPr b="0" lang="en-US" sz="8000" spc="-1" strike="noStrike">
              <a:solidFill>
                <a:srgbClr val="000000"/>
              </a:solidFill>
              <a:latin typeface="Arial"/>
            </a:endParaRPr>
          </a:p>
        </p:txBody>
      </p:sp>
      <p:pic>
        <p:nvPicPr>
          <p:cNvPr id="594" name="" descr=""/>
          <p:cNvPicPr/>
          <p:nvPr/>
        </p:nvPicPr>
        <p:blipFill>
          <a:blip r:embed="rId1"/>
          <a:stretch/>
        </p:blipFill>
        <p:spPr>
          <a:xfrm>
            <a:off x="3689280" y="1959120"/>
            <a:ext cx="1781280" cy="2482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2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INDIRECT CYLINDICITY CONTROLS</a:t>
            </a:r>
            <a:endParaRPr b="0" lang="en-US" sz="3600" spc="-1" strike="noStrike">
              <a:solidFill>
                <a:srgbClr val="000000"/>
              </a:solidFill>
              <a:latin typeface="Arial"/>
            </a:endParaRPr>
          </a:p>
        </p:txBody>
      </p:sp>
      <p:sp>
        <p:nvSpPr>
          <p:cNvPr id="1322" name=""/>
          <p:cNvSpPr txBox="1"/>
          <p:nvPr/>
        </p:nvSpPr>
        <p:spPr>
          <a:xfrm>
            <a:off x="1900080" y="3751200"/>
            <a:ext cx="5907240" cy="22813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Position Tolerances,</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ofile Tolerances, and</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otal Runout Tolerances.</a:t>
            </a:r>
            <a:endParaRPr b="0" lang="en-US" sz="2800" spc="-1" strike="noStrike">
              <a:solidFill>
                <a:srgbClr val="000000"/>
              </a:solidFill>
              <a:latin typeface="Arial"/>
            </a:endParaRPr>
          </a:p>
        </p:txBody>
      </p:sp>
      <p:sp>
        <p:nvSpPr>
          <p:cNvPr id="1323" name=""/>
          <p:cNvSpPr txBox="1"/>
          <p:nvPr/>
        </p:nvSpPr>
        <p:spPr>
          <a:xfrm>
            <a:off x="1123920" y="2066760"/>
            <a:ext cx="7066080" cy="137304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Cylindricity of features is affected by the use of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other geometric tolerances when they are used.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se controls incl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24" name=""/>
          <p:cNvSpPr txBox="1"/>
          <p:nvPr/>
        </p:nvSpPr>
        <p:spPr>
          <a:xfrm>
            <a:off x="1155600" y="2523960"/>
            <a:ext cx="6811920" cy="14320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EATURE CYLINDRICITY</a:t>
            </a:r>
            <a:endParaRPr b="0" lang="en-US" sz="4400" spc="-1" strike="noStrike">
              <a:solidFill>
                <a:srgbClr val="000000"/>
              </a:solidFill>
              <a:latin typeface="Arial"/>
            </a:endParaRPr>
          </a:p>
          <a:p>
            <a:pPr algn="ctr">
              <a:lnSpc>
                <a:spcPct val="100000"/>
              </a:lnSpc>
            </a:pPr>
            <a:r>
              <a:rPr b="0" lang="en-US" sz="4400" spc="-1" strike="noStrike">
                <a:solidFill>
                  <a:srgbClr val="ffffff"/>
                </a:solidFill>
                <a:latin typeface="Times New Roman"/>
                <a:ea typeface="Times New Roman"/>
              </a:rPr>
              <a:t>Applications Quiz</a:t>
            </a:r>
            <a:endParaRPr b="0" lang="en-US" sz="4400" spc="-1" strike="noStrike">
              <a:solidFill>
                <a:srgbClr val="000000"/>
              </a:solidFill>
              <a:latin typeface="Arial"/>
            </a:endParaRPr>
          </a:p>
        </p:txBody>
      </p:sp>
      <p:sp>
        <p:nvSpPr>
          <p:cNvPr id="1325" name=""/>
          <p:cNvSpPr/>
          <p:nvPr/>
        </p:nvSpPr>
        <p:spPr>
          <a:xfrm>
            <a:off x="906480" y="2211480"/>
            <a:ext cx="7331040" cy="201132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26"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327"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be applied to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328"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30" name=""/>
          <p:cNvGrpSpPr/>
          <p:nvPr/>
        </p:nvGrpSpPr>
        <p:grpSpPr>
          <a:xfrm>
            <a:off x="2708280" y="743040"/>
            <a:ext cx="3684600" cy="517680"/>
            <a:chOff x="2708280" y="743040"/>
            <a:chExt cx="3684600" cy="517680"/>
          </a:xfrm>
        </p:grpSpPr>
        <p:sp>
          <p:nvSpPr>
            <p:cNvPr id="1331"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2"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33"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334"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because it is applied to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335"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38"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39" name=""/>
          <p:cNvGrpSpPr/>
          <p:nvPr/>
        </p:nvGrpSpPr>
        <p:grpSpPr>
          <a:xfrm>
            <a:off x="2708280" y="743040"/>
            <a:ext cx="3684600" cy="517680"/>
            <a:chOff x="2708280" y="743040"/>
            <a:chExt cx="3684600" cy="517680"/>
          </a:xfrm>
        </p:grpSpPr>
        <p:sp>
          <p:nvSpPr>
            <p:cNvPr id="1340"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1"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42"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343"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cause it is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n controlling cylindricity.</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344"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49"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0" name=""/>
          <p:cNvGrpSpPr/>
          <p:nvPr/>
        </p:nvGrpSpPr>
        <p:grpSpPr>
          <a:xfrm>
            <a:off x="2708280" y="743040"/>
            <a:ext cx="3684600" cy="517680"/>
            <a:chOff x="2708280" y="743040"/>
            <a:chExt cx="3684600" cy="517680"/>
          </a:xfrm>
        </p:grpSpPr>
        <p:sp>
          <p:nvSpPr>
            <p:cNvPr id="1351"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53"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354"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cause it is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n controlling cylindricity.</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cylindricity control need no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th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ylindricity characteristics of the featur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355"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6"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63" name=""/>
          <p:cNvGrpSpPr/>
          <p:nvPr/>
        </p:nvGrpSpPr>
        <p:grpSpPr>
          <a:xfrm>
            <a:off x="2708280" y="743040"/>
            <a:ext cx="3684600" cy="517680"/>
            <a:chOff x="2708280" y="743040"/>
            <a:chExt cx="3684600" cy="517680"/>
          </a:xfrm>
        </p:grpSpPr>
        <p:sp>
          <p:nvSpPr>
            <p:cNvPr id="1364"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5"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66"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367"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cause it is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n controlling cylindricity.</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cylindricity control need no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th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ylindricity characteristics of the featur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No datum reference may be used with cylindricity.</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368" name=""/>
          <p:cNvSpPr/>
          <p:nvPr/>
        </p:nvSpPr>
        <p:spPr>
          <a:xfrm>
            <a:off x="8572680" y="5411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7316640" y="54259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78" name=""/>
          <p:cNvGrpSpPr/>
          <p:nvPr/>
        </p:nvGrpSpPr>
        <p:grpSpPr>
          <a:xfrm>
            <a:off x="2708280" y="743040"/>
            <a:ext cx="3684600" cy="517680"/>
            <a:chOff x="2708280" y="743040"/>
            <a:chExt cx="3684600" cy="517680"/>
          </a:xfrm>
        </p:grpSpPr>
        <p:sp>
          <p:nvSpPr>
            <p:cNvPr id="1379"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81"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382" name=""/>
          <p:cNvSpPr/>
          <p:nvPr/>
        </p:nvSpPr>
        <p:spPr>
          <a:xfrm>
            <a:off x="279360" y="1606680"/>
            <a:ext cx="8439120" cy="478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3" name=""/>
          <p:cNvSpPr txBox="1"/>
          <p:nvPr/>
        </p:nvSpPr>
        <p:spPr>
          <a:xfrm>
            <a:off x="2184480" y="2705040"/>
            <a:ext cx="4660920" cy="9144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ANSWER KEY</a:t>
            </a:r>
            <a:endParaRPr b="0" lang="en-US" sz="5400" spc="-1" strike="noStrike">
              <a:solidFill>
                <a:srgbClr val="000000"/>
              </a:solidFill>
              <a:latin typeface="Arial"/>
            </a:endParaRPr>
          </a:p>
        </p:txBody>
      </p:sp>
      <p:grpSp>
        <p:nvGrpSpPr>
          <p:cNvPr id="1384" name=""/>
          <p:cNvGrpSpPr/>
          <p:nvPr/>
        </p:nvGrpSpPr>
        <p:grpSpPr>
          <a:xfrm>
            <a:off x="2708280" y="743040"/>
            <a:ext cx="3684600" cy="517680"/>
            <a:chOff x="2708280" y="743040"/>
            <a:chExt cx="3684600" cy="517680"/>
          </a:xfrm>
        </p:grpSpPr>
        <p:sp>
          <p:nvSpPr>
            <p:cNvPr id="1385"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87"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388"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be applied to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389"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91" name=""/>
          <p:cNvGrpSpPr/>
          <p:nvPr/>
        </p:nvGrpSpPr>
        <p:grpSpPr>
          <a:xfrm>
            <a:off x="2708280" y="743040"/>
            <a:ext cx="3684600" cy="517680"/>
            <a:chOff x="2708280" y="743040"/>
            <a:chExt cx="3684600" cy="517680"/>
          </a:xfrm>
        </p:grpSpPr>
        <p:sp>
          <p:nvSpPr>
            <p:cNvPr id="1392"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94"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395"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be applied to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396" name=""/>
          <p:cNvSpPr/>
          <p:nvPr/>
        </p:nvSpPr>
        <p:spPr>
          <a:xfrm>
            <a:off x="8572680" y="208440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98" name=""/>
          <p:cNvGrpSpPr/>
          <p:nvPr/>
        </p:nvGrpSpPr>
        <p:grpSpPr>
          <a:xfrm>
            <a:off x="2708280" y="743040"/>
            <a:ext cx="3684600" cy="517680"/>
            <a:chOff x="2708280" y="743040"/>
            <a:chExt cx="3684600" cy="517680"/>
          </a:xfrm>
        </p:grpSpPr>
        <p:sp>
          <p:nvSpPr>
            <p:cNvPr id="1399"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5" name=""/>
          <p:cNvSpPr txBox="1"/>
          <p:nvPr/>
        </p:nvSpPr>
        <p:spPr>
          <a:xfrm>
            <a:off x="685800" y="762120"/>
            <a:ext cx="7772400" cy="1184400"/>
          </a:xfrm>
          <a:prstGeom prst="rect">
            <a:avLst/>
          </a:prstGeom>
          <a:noFill/>
          <a:ln w="0">
            <a:noFill/>
          </a:ln>
        </p:spPr>
        <p:txBody>
          <a:bodyPr lIns="0" rIns="0" tIns="0" bIns="0" anchor="t">
            <a:noAutofit/>
          </a:bodyPr>
          <a:p>
            <a:pPr algn="ctr">
              <a:lnSpc>
                <a:spcPct val="100000"/>
              </a:lnSpc>
            </a:pPr>
            <a:r>
              <a:rPr b="1" lang="en-US" sz="6600" spc="-1" strike="noStrike">
                <a:solidFill>
                  <a:srgbClr val="fafd00"/>
                </a:solidFill>
                <a:latin typeface="Times New Roman"/>
                <a:ea typeface="Times New Roman"/>
              </a:rPr>
              <a:t>FORM CONTROLS</a:t>
            </a:r>
            <a:br>
              <a:rPr sz="1800"/>
            </a:br>
            <a:endParaRPr b="0" lang="en-US" sz="6600" spc="-1" strike="noStrike">
              <a:solidFill>
                <a:srgbClr val="000000"/>
              </a:solidFill>
              <a:latin typeface="Arial"/>
            </a:endParaRPr>
          </a:p>
        </p:txBody>
      </p:sp>
      <p:sp>
        <p:nvSpPr>
          <p:cNvPr id="596" name=""/>
          <p:cNvSpPr txBox="1"/>
          <p:nvPr/>
        </p:nvSpPr>
        <p:spPr>
          <a:xfrm>
            <a:off x="533520" y="5210280"/>
            <a:ext cx="8001000" cy="1212840"/>
          </a:xfrm>
          <a:prstGeom prst="rect">
            <a:avLst/>
          </a:prstGeom>
          <a:noFill/>
          <a:ln w="0">
            <a:noFill/>
          </a:ln>
        </p:spPr>
        <p:txBody>
          <a:bodyPr lIns="0" rIns="0" tIns="0" bIns="0" anchor="t">
            <a:noAutofit/>
          </a:bodyPr>
          <a:p>
            <a:pPr marL="343080" indent="-343080" algn="ctr">
              <a:lnSpc>
                <a:spcPct val="100000"/>
              </a:lnSpc>
              <a:spcBef>
                <a:spcPts val="479"/>
              </a:spcBef>
            </a:pPr>
            <a:r>
              <a:rPr b="1" lang="en-US" sz="7200" spc="-1" strike="noStrike">
                <a:solidFill>
                  <a:srgbClr val="ffffff"/>
                </a:solidFill>
                <a:latin typeface="Times New Roman"/>
                <a:ea typeface="Times New Roman"/>
              </a:rPr>
              <a:t>CYLINDRICITY</a:t>
            </a:r>
            <a:endParaRPr b="0" lang="en-US" sz="7200" spc="-1" strike="noStrike">
              <a:solidFill>
                <a:srgbClr val="000000"/>
              </a:solidFill>
              <a:latin typeface="Arial"/>
            </a:endParaRPr>
          </a:p>
        </p:txBody>
      </p:sp>
      <p:pic>
        <p:nvPicPr>
          <p:cNvPr id="597" name="" descr=""/>
          <p:cNvPicPr/>
          <p:nvPr/>
        </p:nvPicPr>
        <p:blipFill>
          <a:blip r:embed="rId1"/>
          <a:stretch/>
        </p:blipFill>
        <p:spPr>
          <a:xfrm>
            <a:off x="2190600" y="1627200"/>
            <a:ext cx="4929120" cy="3443400"/>
          </a:xfrm>
          <a:prstGeom prst="rect">
            <a:avLst/>
          </a:prstGeom>
          <a:ln w="0">
            <a:noFill/>
          </a:ln>
        </p:spPr>
      </p:pic>
      <p:sp>
        <p:nvSpPr>
          <p:cNvPr id="598" name=""/>
          <p:cNvSpPr/>
          <p:nvPr/>
        </p:nvSpPr>
        <p:spPr>
          <a:xfrm>
            <a:off x="2166840" y="1587600"/>
            <a:ext cx="4952880" cy="3476520"/>
          </a:xfrm>
          <a:prstGeom prst="rect">
            <a:avLst/>
          </a:prstGeom>
          <a:noFill/>
          <a:ln w="76320">
            <a:solidFill>
              <a:srgbClr val="114ffb"/>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01"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402"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a:t>
            </a:r>
            <a:r>
              <a:rPr b="0" lang="en-US" sz="2200" spc="-1" strike="noStrike">
                <a:solidFill>
                  <a:srgbClr val="3365fb"/>
                </a:solidFill>
                <a:latin typeface="Times New Roman"/>
                <a:ea typeface="Times New Roman"/>
              </a:rPr>
              <a:t>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because it is applied to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403"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07" name=""/>
          <p:cNvGrpSpPr/>
          <p:nvPr/>
        </p:nvGrpSpPr>
        <p:grpSpPr>
          <a:xfrm>
            <a:off x="2708280" y="743040"/>
            <a:ext cx="3684600" cy="517680"/>
            <a:chOff x="2708280" y="743040"/>
            <a:chExt cx="3684600" cy="517680"/>
          </a:xfrm>
        </p:grpSpPr>
        <p:sp>
          <p:nvSpPr>
            <p:cNvPr id="1408"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10"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411"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because it is applied to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412"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3" name=""/>
          <p:cNvSpPr/>
          <p:nvPr/>
        </p:nvSpPr>
        <p:spPr>
          <a:xfrm>
            <a:off x="8572680" y="307512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16" name=""/>
          <p:cNvGrpSpPr/>
          <p:nvPr/>
        </p:nvGrpSpPr>
        <p:grpSpPr>
          <a:xfrm>
            <a:off x="2708280" y="743040"/>
            <a:ext cx="3684600" cy="517680"/>
            <a:chOff x="2708280" y="743040"/>
            <a:chExt cx="3684600" cy="517680"/>
          </a:xfrm>
        </p:grpSpPr>
        <p:sp>
          <p:nvSpPr>
            <p:cNvPr id="1417"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8"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19"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420"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cause it is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n controlling cylindricity.</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421"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2"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8572680" y="30751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27" name=""/>
          <p:cNvGrpSpPr/>
          <p:nvPr/>
        </p:nvGrpSpPr>
        <p:grpSpPr>
          <a:xfrm>
            <a:off x="2708280" y="743040"/>
            <a:ext cx="3684600" cy="517680"/>
            <a:chOff x="2708280" y="743040"/>
            <a:chExt cx="3684600" cy="517680"/>
          </a:xfrm>
        </p:grpSpPr>
        <p:sp>
          <p:nvSpPr>
            <p:cNvPr id="1428"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9"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30"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431"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be applied to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because it is applied to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n controlling cylindricity.</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432"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7316640" y="40719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7316640" y="30765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8572680" y="307512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38" name=""/>
          <p:cNvGrpSpPr/>
          <p:nvPr/>
        </p:nvGrpSpPr>
        <p:grpSpPr>
          <a:xfrm>
            <a:off x="2708280" y="743040"/>
            <a:ext cx="3684600" cy="517680"/>
            <a:chOff x="2708280" y="743040"/>
            <a:chExt cx="3684600" cy="517680"/>
          </a:xfrm>
        </p:grpSpPr>
        <p:sp>
          <p:nvSpPr>
            <p:cNvPr id="1439"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0"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41"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442"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cause it is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n controlling cylindricity.</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cylindricity control need no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th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ylindricity characteristics of the featur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443"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731664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8572680" y="30751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1" name=""/>
          <p:cNvGrpSpPr/>
          <p:nvPr/>
        </p:nvGrpSpPr>
        <p:grpSpPr>
          <a:xfrm>
            <a:off x="2708280" y="743040"/>
            <a:ext cx="3684600" cy="517680"/>
            <a:chOff x="2708280" y="743040"/>
            <a:chExt cx="3684600" cy="517680"/>
          </a:xfrm>
        </p:grpSpPr>
        <p:sp>
          <p:nvSpPr>
            <p:cNvPr id="1452"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54"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455"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cause it is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n controlling cylindricity.</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cylindricity control need no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th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ylindricity characteristics of the featur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456" name=""/>
          <p:cNvSpPr/>
          <p:nvPr/>
        </p:nvSpPr>
        <p:spPr>
          <a:xfrm>
            <a:off x="8572680" y="541188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a:off x="731664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a:off x="8572680" y="30751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64" name=""/>
          <p:cNvGrpSpPr/>
          <p:nvPr/>
        </p:nvGrpSpPr>
        <p:grpSpPr>
          <a:xfrm>
            <a:off x="2708280" y="743040"/>
            <a:ext cx="3684600" cy="517680"/>
            <a:chOff x="2708280" y="743040"/>
            <a:chExt cx="3684600" cy="517680"/>
          </a:xfrm>
        </p:grpSpPr>
        <p:sp>
          <p:nvSpPr>
            <p:cNvPr id="1465"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6"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67"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468"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cause it is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n controlling cylindricity.</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cylindricity control need no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th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ylindricity characteristics of the featur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No datum reference may be used with cylindricity.</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469" name=""/>
          <p:cNvSpPr/>
          <p:nvPr/>
        </p:nvSpPr>
        <p:spPr>
          <a:xfrm>
            <a:off x="8572680" y="5411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7316640" y="54259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731664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8572680" y="30751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79" name=""/>
          <p:cNvGrpSpPr/>
          <p:nvPr/>
        </p:nvGrpSpPr>
        <p:grpSpPr>
          <a:xfrm>
            <a:off x="2708280" y="743040"/>
            <a:ext cx="3684600" cy="517680"/>
            <a:chOff x="2708280" y="743040"/>
            <a:chExt cx="3684600" cy="517680"/>
          </a:xfrm>
        </p:grpSpPr>
        <p:sp>
          <p:nvSpPr>
            <p:cNvPr id="1480"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1"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82"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483"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cylindricity control, the geometric tolerance must</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Cylindicity control can override the effects of Rule #1</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because it is applied to a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no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n controlling cylindricity.</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cylindricity control need no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th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ylindricity characteristics of the featur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No datum reference may be used with cylindricity.</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484" name=""/>
          <p:cNvSpPr/>
          <p:nvPr/>
        </p:nvSpPr>
        <p:spPr>
          <a:xfrm>
            <a:off x="8572680" y="5411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7316640" y="54259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87" name=""/>
          <p:cNvSpPr/>
          <p:nvPr/>
        </p:nvSpPr>
        <p:spPr>
          <a:xfrm>
            <a:off x="731664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89" name=""/>
          <p:cNvSpPr/>
          <p:nvPr/>
        </p:nvSpPr>
        <p:spPr>
          <a:xfrm>
            <a:off x="8572680" y="30751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90" name=""/>
          <p:cNvSpPr/>
          <p:nvPr/>
        </p:nvSpPr>
        <p:spPr>
          <a:xfrm>
            <a:off x="7316640" y="608472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1"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94" name=""/>
          <p:cNvGrpSpPr/>
          <p:nvPr/>
        </p:nvGrpSpPr>
        <p:grpSpPr>
          <a:xfrm>
            <a:off x="2708280" y="743040"/>
            <a:ext cx="3684600" cy="517680"/>
            <a:chOff x="2708280" y="743040"/>
            <a:chExt cx="3684600" cy="517680"/>
          </a:xfrm>
        </p:grpSpPr>
        <p:sp>
          <p:nvSpPr>
            <p:cNvPr id="1495"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 name=""/>
            <p:cNvSpPr txBox="1"/>
            <p:nvPr/>
          </p:nvSpPr>
          <p:spPr>
            <a:xfrm>
              <a:off x="3700440" y="743040"/>
              <a:ext cx="165744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ylindric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97"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498"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499"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00"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501"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502"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03"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04"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 name=""/>
          <p:cNvSpPr txBox="1"/>
          <p:nvPr/>
        </p:nvSpPr>
        <p:spPr>
          <a:xfrm>
            <a:off x="4384800" y="5875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07"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9" name=""/>
          <p:cNvSpPr txBox="1"/>
          <p:nvPr/>
        </p:nvSpPr>
        <p:spPr>
          <a:xfrm>
            <a:off x="685800" y="2711520"/>
            <a:ext cx="7772400" cy="252108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Cylindricity</a:t>
            </a:r>
            <a:r>
              <a:rPr b="0" lang="en-US" sz="2800" spc="-1" strike="noStrike">
                <a:solidFill>
                  <a:srgbClr val="ffffff"/>
                </a:solidFill>
                <a:latin typeface="Times New Roman"/>
                <a:ea typeface="Times New Roman"/>
              </a:rPr>
              <a:t>:  A condition of a surface of revolution in which all points on the surface are equidistant from a common axis. </a:t>
            </a:r>
            <a:endParaRPr b="0" lang="en-US" sz="2800" spc="-1" strike="noStrike">
              <a:solidFill>
                <a:srgbClr val="000000"/>
              </a:solidFill>
              <a:latin typeface="Arial"/>
            </a:endParaRPr>
          </a:p>
        </p:txBody>
      </p:sp>
      <p:sp>
        <p:nvSpPr>
          <p:cNvPr id="600" name=""/>
          <p:cNvSpPr txBox="1"/>
          <p:nvPr/>
        </p:nvSpPr>
        <p:spPr>
          <a:xfrm>
            <a:off x="3186000" y="1808280"/>
            <a:ext cx="2712960" cy="579600"/>
          </a:xfrm>
          <a:prstGeom prst="rect">
            <a:avLst/>
          </a:prstGeom>
          <a:noFill/>
          <a:ln w="0">
            <a:noFill/>
          </a:ln>
        </p:spPr>
        <p:txBody>
          <a:bodyPr lIns="0" rIns="0" tIns="0" bIns="0" anchor="t">
            <a:noAutofit/>
          </a:bodyPr>
          <a:p>
            <a:pPr algn="ctr">
              <a:lnSpc>
                <a:spcPct val="100000"/>
              </a:lnSpc>
            </a:pPr>
            <a:r>
              <a:rPr b="0" lang="en-US" sz="3200" spc="-1" strike="noStrike">
                <a:solidFill>
                  <a:srgbClr val="fc0128"/>
                </a:solidFill>
                <a:latin typeface="Times New Roman"/>
                <a:ea typeface="Times New Roman"/>
              </a:rPr>
              <a:t>DEFINITIONS</a:t>
            </a:r>
            <a:endParaRPr b="0" lang="en-US" sz="3200" spc="-1" strike="noStrike">
              <a:solidFill>
                <a:srgbClr val="000000"/>
              </a:solidFill>
              <a:latin typeface="Arial"/>
            </a:endParaRPr>
          </a:p>
        </p:txBody>
      </p:sp>
      <p:sp>
        <p:nvSpPr>
          <p:cNvPr id="601" name=""/>
          <p:cNvSpPr txBox="1"/>
          <p:nvPr/>
        </p:nvSpPr>
        <p:spPr>
          <a:xfrm>
            <a:off x="246240" y="571680"/>
            <a:ext cx="8643960" cy="57168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S OF FORM (Cylindri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08"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509"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510"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511"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2"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3"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4"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18"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19"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20"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521"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522"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523"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4"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5"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6"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3429000" y="1809720"/>
            <a:ext cx="1809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31"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32" name=""/>
          <p:cNvSpPr txBox="1"/>
          <p:nvPr/>
        </p:nvSpPr>
        <p:spPr>
          <a:xfrm>
            <a:off x="4384800" y="1384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33"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34"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535"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536"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537" name=""/>
          <p:cNvSpPr txBox="1"/>
          <p:nvPr/>
        </p:nvSpPr>
        <p:spPr>
          <a:xfrm>
            <a:off x="932040" y="2441520"/>
            <a:ext cx="2689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cylinder?</a:t>
            </a:r>
            <a:endParaRPr b="0" lang="en-US" sz="2400" spc="-1" strike="noStrike">
              <a:solidFill>
                <a:srgbClr val="000000"/>
              </a:solidFill>
              <a:latin typeface="Arial"/>
            </a:endParaRPr>
          </a:p>
        </p:txBody>
      </p:sp>
      <p:sp>
        <p:nvSpPr>
          <p:cNvPr id="1538"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39"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0" name=""/>
          <p:cNvSpPr/>
          <p:nvPr/>
        </p:nvSpPr>
        <p:spPr>
          <a:xfrm>
            <a:off x="809640" y="2452680"/>
            <a:ext cx="319104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1"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2"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429000" y="1809720"/>
            <a:ext cx="1809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2085840" y="2095560"/>
            <a:ext cx="0" cy="352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48" name=""/>
          <p:cNvSpPr txBox="1"/>
          <p:nvPr/>
        </p:nvSpPr>
        <p:spPr>
          <a:xfrm>
            <a:off x="1498680" y="20509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49"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50" name=""/>
          <p:cNvSpPr txBox="1"/>
          <p:nvPr/>
        </p:nvSpPr>
        <p:spPr>
          <a:xfrm>
            <a:off x="4384800" y="1384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51"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52"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553"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554"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555" name=""/>
          <p:cNvSpPr txBox="1"/>
          <p:nvPr/>
        </p:nvSpPr>
        <p:spPr>
          <a:xfrm>
            <a:off x="932040" y="2441520"/>
            <a:ext cx="2689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cylinder?</a:t>
            </a:r>
            <a:endParaRPr b="0" lang="en-US" sz="2400" spc="-1" strike="noStrike">
              <a:solidFill>
                <a:srgbClr val="000000"/>
              </a:solidFill>
              <a:latin typeface="Arial"/>
            </a:endParaRPr>
          </a:p>
        </p:txBody>
      </p:sp>
      <p:sp>
        <p:nvSpPr>
          <p:cNvPr id="1556"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7"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8" name=""/>
          <p:cNvSpPr/>
          <p:nvPr/>
        </p:nvSpPr>
        <p:spPr>
          <a:xfrm>
            <a:off x="809640" y="2452680"/>
            <a:ext cx="319104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9"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0"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2" name=""/>
          <p:cNvSpPr/>
          <p:nvPr/>
        </p:nvSpPr>
        <p:spPr>
          <a:xfrm>
            <a:off x="3429000" y="1809720"/>
            <a:ext cx="1809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3" name=""/>
          <p:cNvSpPr/>
          <p:nvPr/>
        </p:nvSpPr>
        <p:spPr>
          <a:xfrm>
            <a:off x="4000680" y="2681280"/>
            <a:ext cx="1238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4"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a:off x="2085840" y="2095560"/>
            <a:ext cx="0" cy="352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6"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67" name=""/>
          <p:cNvSpPr txBox="1"/>
          <p:nvPr/>
        </p:nvSpPr>
        <p:spPr>
          <a:xfrm>
            <a:off x="1498680" y="20509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68"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69" name=""/>
          <p:cNvSpPr txBox="1"/>
          <p:nvPr/>
        </p:nvSpPr>
        <p:spPr>
          <a:xfrm>
            <a:off x="4384800" y="1384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70" name=""/>
          <p:cNvSpPr txBox="1"/>
          <p:nvPr/>
        </p:nvSpPr>
        <p:spPr>
          <a:xfrm>
            <a:off x="4451400" y="22604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71"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72"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573"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574"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575" name=""/>
          <p:cNvSpPr txBox="1"/>
          <p:nvPr/>
        </p:nvSpPr>
        <p:spPr>
          <a:xfrm>
            <a:off x="932040" y="2441520"/>
            <a:ext cx="2689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cylinder?</a:t>
            </a:r>
            <a:endParaRPr b="0" lang="en-US" sz="2400" spc="-1" strike="noStrike">
              <a:solidFill>
                <a:srgbClr val="000000"/>
              </a:solidFill>
              <a:latin typeface="Arial"/>
            </a:endParaRPr>
          </a:p>
        </p:txBody>
      </p:sp>
      <p:sp>
        <p:nvSpPr>
          <p:cNvPr id="1576" name=""/>
          <p:cNvSpPr txBox="1"/>
          <p:nvPr/>
        </p:nvSpPr>
        <p:spPr>
          <a:xfrm>
            <a:off x="1003320" y="3322800"/>
            <a:ext cx="327348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less tha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half the diameter tol.?</a:t>
            </a:r>
            <a:endParaRPr b="0" lang="en-US" sz="2400" spc="-1" strike="noStrike">
              <a:solidFill>
                <a:srgbClr val="000000"/>
              </a:solidFill>
              <a:latin typeface="Arial"/>
            </a:endParaRPr>
          </a:p>
        </p:txBody>
      </p:sp>
      <p:sp>
        <p:nvSpPr>
          <p:cNvPr id="1577"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8"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9" name=""/>
          <p:cNvSpPr/>
          <p:nvPr/>
        </p:nvSpPr>
        <p:spPr>
          <a:xfrm>
            <a:off x="809640" y="2452680"/>
            <a:ext cx="319104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0" name=""/>
          <p:cNvSpPr/>
          <p:nvPr/>
        </p:nvSpPr>
        <p:spPr>
          <a:xfrm>
            <a:off x="809640" y="3309840"/>
            <a:ext cx="3691080" cy="8334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1"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2"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3"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a:off x="3429000" y="1809720"/>
            <a:ext cx="1809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a:off x="4000680" y="2681280"/>
            <a:ext cx="1238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6"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7" name=""/>
          <p:cNvSpPr/>
          <p:nvPr/>
        </p:nvSpPr>
        <p:spPr>
          <a:xfrm>
            <a:off x="2085840" y="2095560"/>
            <a:ext cx="0" cy="352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8" name=""/>
          <p:cNvSpPr/>
          <p:nvPr/>
        </p:nvSpPr>
        <p:spPr>
          <a:xfrm>
            <a:off x="2076480" y="2924280"/>
            <a:ext cx="0" cy="3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9" name=""/>
          <p:cNvSpPr txBox="1"/>
          <p:nvPr/>
        </p:nvSpPr>
        <p:spPr>
          <a:xfrm>
            <a:off x="1327320" y="28796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90"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91" name=""/>
          <p:cNvSpPr txBox="1"/>
          <p:nvPr/>
        </p:nvSpPr>
        <p:spPr>
          <a:xfrm>
            <a:off x="1498680" y="20509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92"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93" name=""/>
          <p:cNvSpPr txBox="1"/>
          <p:nvPr/>
        </p:nvSpPr>
        <p:spPr>
          <a:xfrm>
            <a:off x="4384800" y="1384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594" name=""/>
          <p:cNvSpPr txBox="1"/>
          <p:nvPr/>
        </p:nvSpPr>
        <p:spPr>
          <a:xfrm>
            <a:off x="4451400" y="22604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595"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96"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597"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598"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599" name=""/>
          <p:cNvSpPr txBox="1"/>
          <p:nvPr/>
        </p:nvSpPr>
        <p:spPr>
          <a:xfrm>
            <a:off x="932040" y="2441520"/>
            <a:ext cx="2689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cylinder?</a:t>
            </a:r>
            <a:endParaRPr b="0" lang="en-US" sz="2400" spc="-1" strike="noStrike">
              <a:solidFill>
                <a:srgbClr val="000000"/>
              </a:solidFill>
              <a:latin typeface="Arial"/>
            </a:endParaRPr>
          </a:p>
        </p:txBody>
      </p:sp>
      <p:sp>
        <p:nvSpPr>
          <p:cNvPr id="1600" name=""/>
          <p:cNvSpPr txBox="1"/>
          <p:nvPr/>
        </p:nvSpPr>
        <p:spPr>
          <a:xfrm>
            <a:off x="1003320" y="3322800"/>
            <a:ext cx="327348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less tha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half the diameter tol.?</a:t>
            </a:r>
            <a:endParaRPr b="0" lang="en-US" sz="2400" spc="-1" strike="noStrike">
              <a:solidFill>
                <a:srgbClr val="000000"/>
              </a:solidFill>
              <a:latin typeface="Arial"/>
            </a:endParaRPr>
          </a:p>
        </p:txBody>
      </p:sp>
      <p:sp>
        <p:nvSpPr>
          <p:cNvPr id="1601"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2"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3" name=""/>
          <p:cNvSpPr/>
          <p:nvPr/>
        </p:nvSpPr>
        <p:spPr>
          <a:xfrm>
            <a:off x="809640" y="2452680"/>
            <a:ext cx="319104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4" name=""/>
          <p:cNvSpPr/>
          <p:nvPr/>
        </p:nvSpPr>
        <p:spPr>
          <a:xfrm>
            <a:off x="809640" y="3309840"/>
            <a:ext cx="3691080" cy="8334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5"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6"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3429000" y="1809720"/>
            <a:ext cx="1809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4000680" y="2681280"/>
            <a:ext cx="1238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0" name=""/>
          <p:cNvSpPr/>
          <p:nvPr/>
        </p:nvSpPr>
        <p:spPr>
          <a:xfrm>
            <a:off x="4486320" y="3738600"/>
            <a:ext cx="7524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1"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a:off x="2085840" y="2095560"/>
            <a:ext cx="0" cy="352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a:off x="2076480" y="2924280"/>
            <a:ext cx="0" cy="3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4" name=""/>
          <p:cNvSpPr txBox="1"/>
          <p:nvPr/>
        </p:nvSpPr>
        <p:spPr>
          <a:xfrm>
            <a:off x="1327320" y="28796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15"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16" name=""/>
          <p:cNvSpPr txBox="1"/>
          <p:nvPr/>
        </p:nvSpPr>
        <p:spPr>
          <a:xfrm>
            <a:off x="1498680" y="20509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17"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18" name=""/>
          <p:cNvSpPr txBox="1"/>
          <p:nvPr/>
        </p:nvSpPr>
        <p:spPr>
          <a:xfrm>
            <a:off x="4384800" y="1384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19" name=""/>
          <p:cNvSpPr txBox="1"/>
          <p:nvPr/>
        </p:nvSpPr>
        <p:spPr>
          <a:xfrm>
            <a:off x="4451400" y="22604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20" name=""/>
          <p:cNvSpPr txBox="1"/>
          <p:nvPr/>
        </p:nvSpPr>
        <p:spPr>
          <a:xfrm>
            <a:off x="4508640" y="3346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21"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22"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623"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624"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625" name=""/>
          <p:cNvSpPr txBox="1"/>
          <p:nvPr/>
        </p:nvSpPr>
        <p:spPr>
          <a:xfrm>
            <a:off x="932040" y="2441520"/>
            <a:ext cx="2689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cylinder?</a:t>
            </a:r>
            <a:endParaRPr b="0" lang="en-US" sz="2400" spc="-1" strike="noStrike">
              <a:solidFill>
                <a:srgbClr val="000000"/>
              </a:solidFill>
              <a:latin typeface="Arial"/>
            </a:endParaRPr>
          </a:p>
        </p:txBody>
      </p:sp>
      <p:sp>
        <p:nvSpPr>
          <p:cNvPr id="1626" name=""/>
          <p:cNvSpPr txBox="1"/>
          <p:nvPr/>
        </p:nvSpPr>
        <p:spPr>
          <a:xfrm>
            <a:off x="1003320" y="3322800"/>
            <a:ext cx="327348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less tha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half the diameter tol.?</a:t>
            </a:r>
            <a:endParaRPr b="0" lang="en-US" sz="2400" spc="-1" strike="noStrike">
              <a:solidFill>
                <a:srgbClr val="000000"/>
              </a:solidFill>
              <a:latin typeface="Arial"/>
            </a:endParaRPr>
          </a:p>
        </p:txBody>
      </p:sp>
      <p:sp>
        <p:nvSpPr>
          <p:cNvPr id="1627" name=""/>
          <p:cNvSpPr txBox="1"/>
          <p:nvPr/>
        </p:nvSpPr>
        <p:spPr>
          <a:xfrm>
            <a:off x="1074600" y="4465800"/>
            <a:ext cx="284940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 refinement of oth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geometric tolerances?</a:t>
            </a:r>
            <a:endParaRPr b="0" lang="en-US" sz="2400" spc="-1" strike="noStrike">
              <a:solidFill>
                <a:srgbClr val="000000"/>
              </a:solidFill>
              <a:latin typeface="Arial"/>
            </a:endParaRPr>
          </a:p>
        </p:txBody>
      </p:sp>
      <p:sp>
        <p:nvSpPr>
          <p:cNvPr id="1628"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9"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0" name=""/>
          <p:cNvSpPr/>
          <p:nvPr/>
        </p:nvSpPr>
        <p:spPr>
          <a:xfrm>
            <a:off x="809640" y="2452680"/>
            <a:ext cx="319104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1" name=""/>
          <p:cNvSpPr/>
          <p:nvPr/>
        </p:nvSpPr>
        <p:spPr>
          <a:xfrm>
            <a:off x="809640" y="3309840"/>
            <a:ext cx="3691080" cy="8334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2" name=""/>
          <p:cNvSpPr/>
          <p:nvPr/>
        </p:nvSpPr>
        <p:spPr>
          <a:xfrm>
            <a:off x="809640" y="4500720"/>
            <a:ext cx="3405240" cy="7621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3"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4"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5"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6" name=""/>
          <p:cNvSpPr/>
          <p:nvPr/>
        </p:nvSpPr>
        <p:spPr>
          <a:xfrm>
            <a:off x="3429000" y="1809720"/>
            <a:ext cx="1809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4000680" y="2681280"/>
            <a:ext cx="1238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a:off x="4486320" y="3738600"/>
            <a:ext cx="7524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9"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0" name=""/>
          <p:cNvSpPr/>
          <p:nvPr/>
        </p:nvSpPr>
        <p:spPr>
          <a:xfrm>
            <a:off x="2085840" y="2095560"/>
            <a:ext cx="0" cy="352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2076480" y="2924280"/>
            <a:ext cx="0" cy="3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2" name=""/>
          <p:cNvSpPr/>
          <p:nvPr/>
        </p:nvSpPr>
        <p:spPr>
          <a:xfrm>
            <a:off x="2076480" y="414324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3" name=""/>
          <p:cNvSpPr txBox="1"/>
          <p:nvPr/>
        </p:nvSpPr>
        <p:spPr>
          <a:xfrm>
            <a:off x="1298520" y="41083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44" name=""/>
          <p:cNvSpPr txBox="1"/>
          <p:nvPr/>
        </p:nvSpPr>
        <p:spPr>
          <a:xfrm>
            <a:off x="1327320" y="28796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45"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46" name=""/>
          <p:cNvSpPr txBox="1"/>
          <p:nvPr/>
        </p:nvSpPr>
        <p:spPr>
          <a:xfrm>
            <a:off x="1498680" y="20509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47"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48" name=""/>
          <p:cNvSpPr txBox="1"/>
          <p:nvPr/>
        </p:nvSpPr>
        <p:spPr>
          <a:xfrm>
            <a:off x="4384800" y="1384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49" name=""/>
          <p:cNvSpPr txBox="1"/>
          <p:nvPr/>
        </p:nvSpPr>
        <p:spPr>
          <a:xfrm>
            <a:off x="4451400" y="22604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50" name=""/>
          <p:cNvSpPr txBox="1"/>
          <p:nvPr/>
        </p:nvSpPr>
        <p:spPr>
          <a:xfrm>
            <a:off x="4508640" y="3346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51"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52"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653"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654"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655" name=""/>
          <p:cNvSpPr txBox="1"/>
          <p:nvPr/>
        </p:nvSpPr>
        <p:spPr>
          <a:xfrm>
            <a:off x="932040" y="2441520"/>
            <a:ext cx="2689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cylinder?</a:t>
            </a:r>
            <a:endParaRPr b="0" lang="en-US" sz="2400" spc="-1" strike="noStrike">
              <a:solidFill>
                <a:srgbClr val="000000"/>
              </a:solidFill>
              <a:latin typeface="Arial"/>
            </a:endParaRPr>
          </a:p>
        </p:txBody>
      </p:sp>
      <p:sp>
        <p:nvSpPr>
          <p:cNvPr id="1656" name=""/>
          <p:cNvSpPr txBox="1"/>
          <p:nvPr/>
        </p:nvSpPr>
        <p:spPr>
          <a:xfrm>
            <a:off x="1003320" y="3322800"/>
            <a:ext cx="327348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less tha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half the diameter tol.?</a:t>
            </a:r>
            <a:endParaRPr b="0" lang="en-US" sz="2400" spc="-1" strike="noStrike">
              <a:solidFill>
                <a:srgbClr val="000000"/>
              </a:solidFill>
              <a:latin typeface="Arial"/>
            </a:endParaRPr>
          </a:p>
        </p:txBody>
      </p:sp>
      <p:sp>
        <p:nvSpPr>
          <p:cNvPr id="1657" name=""/>
          <p:cNvSpPr txBox="1"/>
          <p:nvPr/>
        </p:nvSpPr>
        <p:spPr>
          <a:xfrm>
            <a:off x="1074600" y="4465800"/>
            <a:ext cx="284940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 refinement of oth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geometric tolerances?</a:t>
            </a:r>
            <a:endParaRPr b="0" lang="en-US" sz="2400" spc="-1" strike="noStrike">
              <a:solidFill>
                <a:srgbClr val="000000"/>
              </a:solidFill>
              <a:latin typeface="Arial"/>
            </a:endParaRPr>
          </a:p>
        </p:txBody>
      </p:sp>
      <p:sp>
        <p:nvSpPr>
          <p:cNvPr id="1658"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9"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0" name=""/>
          <p:cNvSpPr/>
          <p:nvPr/>
        </p:nvSpPr>
        <p:spPr>
          <a:xfrm>
            <a:off x="809640" y="2452680"/>
            <a:ext cx="319104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1" name=""/>
          <p:cNvSpPr/>
          <p:nvPr/>
        </p:nvSpPr>
        <p:spPr>
          <a:xfrm>
            <a:off x="809640" y="3309840"/>
            <a:ext cx="3691080" cy="8334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2" name=""/>
          <p:cNvSpPr/>
          <p:nvPr/>
        </p:nvSpPr>
        <p:spPr>
          <a:xfrm>
            <a:off x="809640" y="4500720"/>
            <a:ext cx="3405240" cy="7621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3"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4"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5"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3429000" y="1809720"/>
            <a:ext cx="1809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a:off x="4000680" y="2681280"/>
            <a:ext cx="1238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a:off x="4486320" y="3738600"/>
            <a:ext cx="7524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a:off x="4200480" y="4905360"/>
            <a:ext cx="230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flipV="1">
            <a:off x="6500880" y="4334040"/>
            <a:ext cx="0" cy="547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2" name=""/>
          <p:cNvSpPr/>
          <p:nvPr/>
        </p:nvSpPr>
        <p:spPr>
          <a:xfrm>
            <a:off x="2085840" y="2095560"/>
            <a:ext cx="0" cy="352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2076480" y="2924280"/>
            <a:ext cx="0" cy="3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a:off x="2076480" y="414324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5" name=""/>
          <p:cNvSpPr txBox="1"/>
          <p:nvPr/>
        </p:nvSpPr>
        <p:spPr>
          <a:xfrm>
            <a:off x="1298520" y="41083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76" name=""/>
          <p:cNvSpPr txBox="1"/>
          <p:nvPr/>
        </p:nvSpPr>
        <p:spPr>
          <a:xfrm>
            <a:off x="1327320" y="28796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77"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78" name=""/>
          <p:cNvSpPr txBox="1"/>
          <p:nvPr/>
        </p:nvSpPr>
        <p:spPr>
          <a:xfrm>
            <a:off x="1498680" y="20509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79"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80" name=""/>
          <p:cNvSpPr txBox="1"/>
          <p:nvPr/>
        </p:nvSpPr>
        <p:spPr>
          <a:xfrm>
            <a:off x="4384800" y="1384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681" name=""/>
          <p:cNvSpPr txBox="1"/>
          <p:nvPr/>
        </p:nvSpPr>
        <p:spPr>
          <a:xfrm>
            <a:off x="4451400" y="22604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82" name=""/>
          <p:cNvSpPr txBox="1"/>
          <p:nvPr/>
        </p:nvSpPr>
        <p:spPr>
          <a:xfrm>
            <a:off x="4508640" y="3346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83" name=""/>
          <p:cNvSpPr txBox="1"/>
          <p:nvPr/>
        </p:nvSpPr>
        <p:spPr>
          <a:xfrm>
            <a:off x="4537080" y="4489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684"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85" name=""/>
          <p:cNvSpPr txBox="1"/>
          <p:nvPr/>
        </p:nvSpPr>
        <p:spPr>
          <a:xfrm>
            <a:off x="638280" y="71280"/>
            <a:ext cx="7772400" cy="5000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YLINDRICITY SPECIFICATION TEST</a:t>
            </a:r>
            <a:endParaRPr b="0" lang="en-US" sz="3200" spc="-1" strike="noStrike">
              <a:solidFill>
                <a:srgbClr val="000000"/>
              </a:solidFill>
              <a:latin typeface="Arial"/>
            </a:endParaRPr>
          </a:p>
        </p:txBody>
      </p:sp>
      <p:sp>
        <p:nvSpPr>
          <p:cNvPr id="1686" name=""/>
          <p:cNvSpPr txBox="1"/>
          <p:nvPr/>
        </p:nvSpPr>
        <p:spPr>
          <a:xfrm>
            <a:off x="836640" y="774720"/>
            <a:ext cx="2511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d?</a:t>
            </a:r>
            <a:endParaRPr b="0" lang="en-US" sz="2400" spc="-1" strike="noStrike">
              <a:solidFill>
                <a:srgbClr val="000000"/>
              </a:solidFill>
              <a:latin typeface="Arial"/>
            </a:endParaRPr>
          </a:p>
        </p:txBody>
      </p:sp>
      <p:sp>
        <p:nvSpPr>
          <p:cNvPr id="1687" name=""/>
          <p:cNvSpPr txBox="1"/>
          <p:nvPr/>
        </p:nvSpPr>
        <p:spPr>
          <a:xfrm>
            <a:off x="907920" y="1584360"/>
            <a:ext cx="2155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1688" name=""/>
          <p:cNvSpPr txBox="1"/>
          <p:nvPr/>
        </p:nvSpPr>
        <p:spPr>
          <a:xfrm>
            <a:off x="932040" y="2441520"/>
            <a:ext cx="2689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cylinder?</a:t>
            </a:r>
            <a:endParaRPr b="0" lang="en-US" sz="2400" spc="-1" strike="noStrike">
              <a:solidFill>
                <a:srgbClr val="000000"/>
              </a:solidFill>
              <a:latin typeface="Arial"/>
            </a:endParaRPr>
          </a:p>
        </p:txBody>
      </p:sp>
      <p:sp>
        <p:nvSpPr>
          <p:cNvPr id="1689" name=""/>
          <p:cNvSpPr txBox="1"/>
          <p:nvPr/>
        </p:nvSpPr>
        <p:spPr>
          <a:xfrm>
            <a:off x="1003320" y="3322800"/>
            <a:ext cx="327348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less tha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half the diameter tol.?</a:t>
            </a:r>
            <a:endParaRPr b="0" lang="en-US" sz="2400" spc="-1" strike="noStrike">
              <a:solidFill>
                <a:srgbClr val="000000"/>
              </a:solidFill>
              <a:latin typeface="Arial"/>
            </a:endParaRPr>
          </a:p>
        </p:txBody>
      </p:sp>
      <p:sp>
        <p:nvSpPr>
          <p:cNvPr id="1690" name=""/>
          <p:cNvSpPr txBox="1"/>
          <p:nvPr/>
        </p:nvSpPr>
        <p:spPr>
          <a:xfrm>
            <a:off x="1074600" y="4465800"/>
            <a:ext cx="284940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 refinement of oth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geometric tolerances?</a:t>
            </a:r>
            <a:endParaRPr b="0" lang="en-US" sz="2400" spc="-1" strike="noStrike">
              <a:solidFill>
                <a:srgbClr val="000000"/>
              </a:solidFill>
              <a:latin typeface="Arial"/>
            </a:endParaRPr>
          </a:p>
        </p:txBody>
      </p:sp>
      <p:sp>
        <p:nvSpPr>
          <p:cNvPr id="1691" name=""/>
          <p:cNvSpPr txBox="1"/>
          <p:nvPr/>
        </p:nvSpPr>
        <p:spPr>
          <a:xfrm>
            <a:off x="1122480" y="5656320"/>
            <a:ext cx="5838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 </a:t>
            </a:r>
            <a:r>
              <a:rPr b="1" i="1" lang="en-US" sz="2400" spc="-1" strike="noStrike" u="sng">
                <a:solidFill>
                  <a:srgbClr val="fafd00"/>
                </a:solidFill>
                <a:uFillTx/>
                <a:latin typeface="Times New Roman"/>
                <a:ea typeface="Times New Roman"/>
              </a:rPr>
              <a:t>LEGAL</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specification for cylindricity</a:t>
            </a:r>
            <a:endParaRPr b="0" lang="en-US" sz="2400" spc="-1" strike="noStrike">
              <a:solidFill>
                <a:srgbClr val="000000"/>
              </a:solidFill>
              <a:latin typeface="Arial"/>
            </a:endParaRPr>
          </a:p>
        </p:txBody>
      </p:sp>
      <p:sp>
        <p:nvSpPr>
          <p:cNvPr id="1692" name=""/>
          <p:cNvSpPr/>
          <p:nvPr/>
        </p:nvSpPr>
        <p:spPr>
          <a:xfrm>
            <a:off x="809640" y="785880"/>
            <a:ext cx="28098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3" name=""/>
          <p:cNvSpPr/>
          <p:nvPr/>
        </p:nvSpPr>
        <p:spPr>
          <a:xfrm>
            <a:off x="809640" y="1619280"/>
            <a:ext cx="261936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4" name=""/>
          <p:cNvSpPr/>
          <p:nvPr/>
        </p:nvSpPr>
        <p:spPr>
          <a:xfrm>
            <a:off x="809640" y="2452680"/>
            <a:ext cx="319104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5" name=""/>
          <p:cNvSpPr/>
          <p:nvPr/>
        </p:nvSpPr>
        <p:spPr>
          <a:xfrm>
            <a:off x="809640" y="3309840"/>
            <a:ext cx="3691080" cy="8334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6" name=""/>
          <p:cNvSpPr/>
          <p:nvPr/>
        </p:nvSpPr>
        <p:spPr>
          <a:xfrm>
            <a:off x="809640" y="4500720"/>
            <a:ext cx="3405240" cy="7621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7" name=""/>
          <p:cNvSpPr/>
          <p:nvPr/>
        </p:nvSpPr>
        <p:spPr>
          <a:xfrm>
            <a:off x="809640" y="5643720"/>
            <a:ext cx="633420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8" name=""/>
          <p:cNvSpPr/>
          <p:nvPr/>
        </p:nvSpPr>
        <p:spPr>
          <a:xfrm>
            <a:off x="5238720" y="152388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9" name=""/>
          <p:cNvSpPr/>
          <p:nvPr/>
        </p:nvSpPr>
        <p:spPr>
          <a:xfrm>
            <a:off x="3610080" y="1023840"/>
            <a:ext cx="284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a:off x="6453360" y="102384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3429000" y="1809720"/>
            <a:ext cx="1809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4000680" y="2681280"/>
            <a:ext cx="1238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a:off x="4486320" y="3738600"/>
            <a:ext cx="7524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4200480" y="4905360"/>
            <a:ext cx="230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flipV="1">
            <a:off x="6500880" y="4334040"/>
            <a:ext cx="0" cy="547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2085840" y="125748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2085840" y="2095560"/>
            <a:ext cx="0" cy="352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p:nvPr/>
        </p:nvSpPr>
        <p:spPr>
          <a:xfrm>
            <a:off x="2076480" y="2924280"/>
            <a:ext cx="0" cy="3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2076480" y="414324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2076480" y="5267160"/>
            <a:ext cx="0" cy="381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1" name=""/>
          <p:cNvSpPr txBox="1"/>
          <p:nvPr/>
        </p:nvSpPr>
        <p:spPr>
          <a:xfrm>
            <a:off x="1303200" y="52228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712" name=""/>
          <p:cNvSpPr txBox="1"/>
          <p:nvPr/>
        </p:nvSpPr>
        <p:spPr>
          <a:xfrm>
            <a:off x="1298520" y="41083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713" name=""/>
          <p:cNvSpPr txBox="1"/>
          <p:nvPr/>
        </p:nvSpPr>
        <p:spPr>
          <a:xfrm>
            <a:off x="1327320" y="28796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714" name=""/>
          <p:cNvSpPr txBox="1"/>
          <p:nvPr/>
        </p:nvSpPr>
        <p:spPr>
          <a:xfrm>
            <a:off x="1479600" y="1222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715" name=""/>
          <p:cNvSpPr txBox="1"/>
          <p:nvPr/>
        </p:nvSpPr>
        <p:spPr>
          <a:xfrm>
            <a:off x="1498680" y="20509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716" name=""/>
          <p:cNvSpPr txBox="1"/>
          <p:nvPr/>
        </p:nvSpPr>
        <p:spPr>
          <a:xfrm>
            <a:off x="4384800" y="603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717" name=""/>
          <p:cNvSpPr txBox="1"/>
          <p:nvPr/>
        </p:nvSpPr>
        <p:spPr>
          <a:xfrm>
            <a:off x="4384800" y="1384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718" name=""/>
          <p:cNvSpPr txBox="1"/>
          <p:nvPr/>
        </p:nvSpPr>
        <p:spPr>
          <a:xfrm>
            <a:off x="4451400" y="22604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719" name=""/>
          <p:cNvSpPr txBox="1"/>
          <p:nvPr/>
        </p:nvSpPr>
        <p:spPr>
          <a:xfrm>
            <a:off x="4508640" y="3346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720" name=""/>
          <p:cNvSpPr txBox="1"/>
          <p:nvPr/>
        </p:nvSpPr>
        <p:spPr>
          <a:xfrm>
            <a:off x="4537080" y="4489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721" name=""/>
          <p:cNvSpPr txBox="1"/>
          <p:nvPr/>
        </p:nvSpPr>
        <p:spPr>
          <a:xfrm>
            <a:off x="5313240" y="208440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2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ORM CONTROL SUMMARY</a:t>
            </a:r>
            <a:endParaRPr b="0" lang="en-US" sz="3600" spc="-1" strike="noStrike">
              <a:solidFill>
                <a:srgbClr val="000000"/>
              </a:solidFill>
              <a:latin typeface="Arial"/>
            </a:endParaRPr>
          </a:p>
        </p:txBody>
      </p:sp>
      <p:sp>
        <p:nvSpPr>
          <p:cNvPr id="1723" name=""/>
          <p:cNvSpPr txBox="1"/>
          <p:nvPr/>
        </p:nvSpPr>
        <p:spPr>
          <a:xfrm>
            <a:off x="392040" y="2179800"/>
            <a:ext cx="8691480" cy="3378240"/>
          </a:xfrm>
          <a:prstGeom prst="rect">
            <a:avLst/>
          </a:prstGeom>
          <a:noFill/>
          <a:ln w="0">
            <a:noFill/>
          </a:ln>
        </p:spPr>
        <p:txBody>
          <a:bodyPr lIns="0" rIns="0" tIns="0" bIns="0" anchor="t">
            <a:noAutofit/>
          </a:bodyPr>
          <a:p>
            <a:pPr>
              <a:lnSpc>
                <a:spcPct val="100000"/>
              </a:lnSpc>
              <a:tabLst>
                <a:tab algn="l" pos="738360"/>
                <a:tab algn="l" pos="2286000"/>
                <a:tab algn="l" pos="3262320"/>
                <a:tab algn="l" pos="4167360"/>
                <a:tab algn="l" pos="4452840"/>
                <a:tab algn="l" pos="5762520"/>
                <a:tab algn="l" pos="7095960"/>
              </a:tabLst>
            </a:pPr>
            <a:r>
              <a:rPr b="0" lang="en-US" sz="2400" spc="-1" strike="noStrike">
                <a:solidFill>
                  <a:srgbClr val="ffffff"/>
                </a:solidFill>
                <a:latin typeface="Times New Roman"/>
                <a:ea typeface="Times New Roman"/>
              </a:rPr>
              <a:t>Sym</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atum</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pplied t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ffect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an use</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an</a:t>
            </a:r>
            <a:endParaRPr b="0" lang="en-US" sz="2400" spc="-1" strike="noStrike">
              <a:solidFill>
                <a:srgbClr val="000000"/>
              </a:solidFill>
              <a:latin typeface="Arial"/>
            </a:endParaRPr>
          </a:p>
          <a:p>
            <a:pPr>
              <a:lnSpc>
                <a:spcPct val="100000"/>
              </a:lnSpc>
              <a:tabLst>
                <a:tab algn="l" pos="738360"/>
                <a:tab algn="l" pos="2286000"/>
                <a:tab algn="l" pos="3262320"/>
                <a:tab algn="l" pos="4167360"/>
                <a:tab algn="l" pos="4452840"/>
                <a:tab algn="l" pos="5762520"/>
                <a:tab algn="l" pos="709596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eferenc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eature  Feature</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Virtual</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MC</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Override</a:t>
            </a:r>
            <a:endParaRPr b="0" lang="en-US" sz="2400" spc="-1" strike="noStrike">
              <a:solidFill>
                <a:srgbClr val="000000"/>
              </a:solidFill>
              <a:latin typeface="Arial"/>
            </a:endParaRPr>
          </a:p>
          <a:p>
            <a:pPr>
              <a:lnSpc>
                <a:spcPct val="100000"/>
              </a:lnSpc>
              <a:tabLst>
                <a:tab algn="l" pos="738360"/>
                <a:tab algn="l" pos="2286000"/>
                <a:tab algn="l" pos="3262320"/>
                <a:tab algn="l" pos="4167360"/>
                <a:tab algn="l" pos="4452840"/>
                <a:tab algn="l" pos="5762520"/>
                <a:tab algn="l" pos="709596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of Size</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ond.</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odifier</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ule #1</a:t>
            </a:r>
            <a:endParaRPr b="0" lang="en-US" sz="2400" spc="-1" strike="noStrike">
              <a:solidFill>
                <a:srgbClr val="000000"/>
              </a:solidFill>
              <a:latin typeface="Arial"/>
            </a:endParaRPr>
          </a:p>
          <a:p>
            <a:pPr>
              <a:lnSpc>
                <a:spcPct val="100000"/>
              </a:lnSpc>
              <a:tabLst>
                <a:tab algn="l" pos="738360"/>
                <a:tab algn="l" pos="2286000"/>
                <a:tab algn="l" pos="3262320"/>
                <a:tab algn="l" pos="4167360"/>
                <a:tab algn="l" pos="4452840"/>
                <a:tab algn="l" pos="5762520"/>
                <a:tab algn="l" pos="709596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Ye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Ye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Yes</a:t>
            </a:r>
            <a:r>
              <a:rPr b="0" lang="en-US" sz="2400" spc="-1" strike="noStrike">
                <a:solidFill>
                  <a:srgbClr val="00dfca"/>
                </a:solidFill>
                <a:latin typeface="Times New Roman"/>
                <a:ea typeface="Times New Roman"/>
              </a:rPr>
              <a: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Yes</a:t>
            </a:r>
            <a:r>
              <a:rPr b="0" lang="en-US" sz="2400" spc="-1" strike="noStrike">
                <a:solidFill>
                  <a:srgbClr val="00dfca"/>
                </a:solidFill>
                <a:latin typeface="Times New Roman"/>
                <a:ea typeface="Times New Roman"/>
              </a:rPr>
              <a: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Yes</a:t>
            </a:r>
            <a:r>
              <a:rPr b="0" lang="en-US" sz="2400" spc="-1" strike="noStrike">
                <a:solidFill>
                  <a:srgbClr val="00dfca"/>
                </a:solidFill>
                <a:latin typeface="Times New Roman"/>
                <a:ea typeface="Times New Roman"/>
              </a:rPr>
              <a:t>*</a:t>
            </a:r>
            <a:endParaRPr b="0" lang="en-US" sz="2400" spc="-1" strike="noStrike">
              <a:solidFill>
                <a:srgbClr val="000000"/>
              </a:solidFill>
              <a:latin typeface="Arial"/>
            </a:endParaRPr>
          </a:p>
          <a:p>
            <a:pPr>
              <a:lnSpc>
                <a:spcPct val="100000"/>
              </a:lnSpc>
              <a:tabLst>
                <a:tab algn="l" pos="738360"/>
                <a:tab algn="l" pos="2286000"/>
                <a:tab algn="l" pos="3262320"/>
                <a:tab algn="l" pos="4167360"/>
                <a:tab algn="l" pos="4452840"/>
                <a:tab algn="l" pos="5762520"/>
                <a:tab algn="l" pos="709596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Ye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endParaRPr b="0" lang="en-US" sz="2400" spc="-1" strike="noStrike">
              <a:solidFill>
                <a:srgbClr val="000000"/>
              </a:solidFill>
              <a:latin typeface="Arial"/>
            </a:endParaRPr>
          </a:p>
          <a:p>
            <a:pPr>
              <a:lnSpc>
                <a:spcPct val="100000"/>
              </a:lnSpc>
              <a:tabLst>
                <a:tab algn="l" pos="738360"/>
                <a:tab algn="l" pos="2286000"/>
                <a:tab algn="l" pos="3262320"/>
                <a:tab algn="l" pos="4167360"/>
                <a:tab algn="l" pos="4452840"/>
                <a:tab algn="l" pos="5762520"/>
                <a:tab algn="l" pos="709596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Ye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endParaRPr b="0" lang="en-US" sz="2400" spc="-1" strike="noStrike">
              <a:solidFill>
                <a:srgbClr val="000000"/>
              </a:solidFill>
              <a:latin typeface="Arial"/>
            </a:endParaRPr>
          </a:p>
          <a:p>
            <a:pPr>
              <a:lnSpc>
                <a:spcPct val="100000"/>
              </a:lnSpc>
              <a:tabLst>
                <a:tab algn="l" pos="738360"/>
                <a:tab algn="l" pos="2286000"/>
                <a:tab algn="l" pos="3262320"/>
                <a:tab algn="l" pos="4167360"/>
                <a:tab algn="l" pos="4452840"/>
                <a:tab algn="l" pos="5762520"/>
                <a:tab algn="l" pos="709596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Ye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No</a:t>
            </a:r>
            <a:endParaRPr b="0" lang="en-US" sz="2400" spc="-1" strike="noStrike">
              <a:solidFill>
                <a:srgbClr val="000000"/>
              </a:solidFill>
              <a:latin typeface="Arial"/>
            </a:endParaRPr>
          </a:p>
          <a:p>
            <a:pPr>
              <a:lnSpc>
                <a:spcPct val="100000"/>
              </a:lnSpc>
              <a:tabLst>
                <a:tab algn="l" pos="738360"/>
                <a:tab algn="l" pos="2286000"/>
                <a:tab algn="l" pos="3262320"/>
                <a:tab algn="l" pos="4167360"/>
                <a:tab algn="l" pos="4452840"/>
                <a:tab algn="l" pos="5762520"/>
                <a:tab algn="l" pos="7095960"/>
              </a:tabLst>
            </a:pPr>
            <a:endParaRPr b="0" lang="en-US" sz="2400" spc="-1" strike="noStrike">
              <a:solidFill>
                <a:srgbClr val="000000"/>
              </a:solidFill>
              <a:latin typeface="Arial"/>
            </a:endParaRPr>
          </a:p>
          <a:p>
            <a:pPr>
              <a:lnSpc>
                <a:spcPct val="100000"/>
              </a:lnSpc>
              <a:tabLst>
                <a:tab algn="l" pos="738360"/>
                <a:tab algn="l" pos="2286000"/>
                <a:tab algn="l" pos="3262320"/>
                <a:tab algn="l" pos="4167360"/>
                <a:tab algn="l" pos="4452840"/>
                <a:tab algn="l" pos="5762520"/>
                <a:tab algn="l" pos="7095960"/>
              </a:tabLst>
            </a:pPr>
            <a:r>
              <a:rPr b="0" lang="en-US" sz="2400" spc="-1" strike="noStrike">
                <a:solidFill>
                  <a:srgbClr val="ffffff"/>
                </a:solidFill>
                <a:latin typeface="Times New Roman"/>
                <a:ea typeface="Times New Roman"/>
              </a:rPr>
              <a:t>	</a:t>
            </a:r>
            <a:r>
              <a:rPr b="0" lang="en-US" sz="2400" spc="-1" strike="noStrike">
                <a:solidFill>
                  <a:srgbClr val="00dfca"/>
                </a:solidFill>
                <a:latin typeface="Times New Roman"/>
                <a:ea typeface="Times New Roman"/>
              </a:rPr>
              <a:t>*</a:t>
            </a:r>
            <a:r>
              <a:rPr b="0" lang="en-US" sz="2400" spc="-1" strike="noStrike">
                <a:solidFill>
                  <a:srgbClr val="ffffff"/>
                </a:solidFill>
                <a:latin typeface="Times New Roman"/>
                <a:ea typeface="Times New Roman"/>
              </a:rPr>
              <a:t> When applied to a feature of size</a:t>
            </a:r>
            <a:endParaRPr b="0" lang="en-US" sz="2400" spc="-1" strike="noStrike">
              <a:solidFill>
                <a:srgbClr val="000000"/>
              </a:solidFill>
              <a:latin typeface="Arial"/>
            </a:endParaRPr>
          </a:p>
        </p:txBody>
      </p:sp>
      <p:sp>
        <p:nvSpPr>
          <p:cNvPr id="1724" name=""/>
          <p:cNvSpPr/>
          <p:nvPr/>
        </p:nvSpPr>
        <p:spPr>
          <a:xfrm>
            <a:off x="500040" y="350028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523800" y="3762360"/>
            <a:ext cx="524160" cy="190800"/>
          </a:xfrm>
          <a:custGeom>
            <a:avLst/>
            <a:gdLst/>
            <a:ahLst/>
            <a:rect l="0" t="0" r="r" b="b"/>
            <a:pathLst>
              <a:path fill="none" w="1456" h="530">
                <a:moveTo>
                  <a:pt x="0" y="530"/>
                </a:moveTo>
                <a:lnTo>
                  <a:pt x="1019" y="530"/>
                </a:lnTo>
                <a:lnTo>
                  <a:pt x="1456" y="0"/>
                </a:lnTo>
                <a:lnTo>
                  <a:pt x="436" y="0"/>
                </a:lnTo>
                <a:lnTo>
                  <a:pt x="0" y="53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647640" y="4043520"/>
            <a:ext cx="281160" cy="285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7" name=""/>
          <p:cNvGrpSpPr/>
          <p:nvPr/>
        </p:nvGrpSpPr>
        <p:grpSpPr>
          <a:xfrm>
            <a:off x="528480" y="4386240"/>
            <a:ext cx="476280" cy="343080"/>
            <a:chOff x="528480" y="4386240"/>
            <a:chExt cx="476280" cy="343080"/>
          </a:xfrm>
        </p:grpSpPr>
        <p:sp>
          <p:nvSpPr>
            <p:cNvPr id="1728" name=""/>
            <p:cNvSpPr/>
            <p:nvPr/>
          </p:nvSpPr>
          <p:spPr>
            <a:xfrm>
              <a:off x="628560" y="4414680"/>
              <a:ext cx="281160" cy="285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flipH="1">
              <a:off x="833400" y="4429080"/>
              <a:ext cx="171360" cy="300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H="1">
              <a:off x="528480" y="4386240"/>
              <a:ext cx="171720" cy="300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31" name=""/>
          <p:cNvSpPr/>
          <p:nvPr/>
        </p:nvSpPr>
        <p:spPr>
          <a:xfrm>
            <a:off x="333360" y="2166840"/>
            <a:ext cx="8381880" cy="26193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2" name=""/>
          <p:cNvSpPr/>
          <p:nvPr/>
        </p:nvSpPr>
        <p:spPr>
          <a:xfrm>
            <a:off x="333360" y="3286080"/>
            <a:ext cx="838188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3" name=""/>
          <p:cNvSpPr/>
          <p:nvPr/>
        </p:nvSpPr>
        <p:spPr>
          <a:xfrm>
            <a:off x="333360" y="3666960"/>
            <a:ext cx="838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a:off x="357120" y="402444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333360" y="4357800"/>
            <a:ext cx="838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1166760" y="2181240"/>
            <a:ext cx="0" cy="260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2714760" y="2181240"/>
            <a:ext cx="0" cy="260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8" name=""/>
          <p:cNvSpPr/>
          <p:nvPr/>
        </p:nvSpPr>
        <p:spPr>
          <a:xfrm>
            <a:off x="4881600" y="2181240"/>
            <a:ext cx="0" cy="260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a:off x="6024600" y="2166840"/>
            <a:ext cx="0" cy="261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7381800" y="2166840"/>
            <a:ext cx="0" cy="261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a:off x="2714760" y="2571840"/>
            <a:ext cx="216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3714840" y="2571840"/>
            <a:ext cx="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a:off x="3714840" y="3309840"/>
            <a:ext cx="0" cy="147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2" name=""/>
          <p:cNvSpPr txBox="1"/>
          <p:nvPr/>
        </p:nvSpPr>
        <p:spPr>
          <a:xfrm>
            <a:off x="246240" y="571680"/>
            <a:ext cx="8643960" cy="57168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S OF FORM (Cylindricity)</a:t>
            </a:r>
            <a:endParaRPr b="0" lang="en-US" sz="3600" spc="-1" strike="noStrike">
              <a:solidFill>
                <a:srgbClr val="000000"/>
              </a:solidFill>
              <a:latin typeface="Arial"/>
            </a:endParaRPr>
          </a:p>
        </p:txBody>
      </p:sp>
      <p:sp>
        <p:nvSpPr>
          <p:cNvPr id="603" name=""/>
          <p:cNvSpPr txBox="1"/>
          <p:nvPr/>
        </p:nvSpPr>
        <p:spPr>
          <a:xfrm>
            <a:off x="495360" y="1727280"/>
            <a:ext cx="8101080" cy="4168800"/>
          </a:xfrm>
          <a:prstGeom prst="rect">
            <a:avLst/>
          </a:prstGeom>
          <a:noFill/>
          <a:ln w="0">
            <a:noFill/>
          </a:ln>
        </p:spPr>
        <p:txBody>
          <a:bodyPr lIns="0" rIns="0" tIns="0" bIns="0" anchor="t">
            <a:noAutofit/>
          </a:bodyPr>
          <a:p>
            <a:pPr marL="333360" indent="-333360">
              <a:lnSpc>
                <a:spcPct val="100000"/>
              </a:lnSpc>
              <a:spcBef>
                <a:spcPts val="479"/>
              </a:spcBef>
              <a:spcAft>
                <a:spcPts val="961"/>
              </a:spcAft>
              <a:buClr>
                <a:srgbClr val="000000"/>
              </a:buClr>
              <a:buFont typeface="Monotype Sorts"/>
              <a:buChar char=""/>
            </a:pPr>
            <a:r>
              <a:rPr b="0" i="1" lang="en-US" sz="2800" spc="-1" strike="noStrike" u="sng">
                <a:solidFill>
                  <a:srgbClr val="fafd00"/>
                </a:solidFill>
                <a:uFillTx/>
                <a:latin typeface="Times New Roman"/>
                <a:ea typeface="Times New Roman"/>
              </a:rPr>
              <a:t>Cylindricity Tolerance</a:t>
            </a:r>
            <a:r>
              <a:rPr b="0" lang="en-US" sz="2800" spc="-1" strike="noStrike">
                <a:solidFill>
                  <a:srgbClr val="fafd00"/>
                </a:solidFill>
                <a:latin typeface="Times New Roman"/>
                <a:ea typeface="Times New Roman"/>
              </a:rPr>
              <a:t>:</a:t>
            </a:r>
            <a:r>
              <a:rPr b="0" lang="en-US" sz="2800" spc="-1" strike="noStrike">
                <a:solidFill>
                  <a:srgbClr val="ffffff"/>
                </a:solidFill>
                <a:latin typeface="Times New Roman"/>
                <a:ea typeface="Times New Roman"/>
              </a:rPr>
              <a:t>  A boundary defined by two theoretically exact, coaxial cylinders within which all the elements of the specified surface must lie. </a:t>
            </a:r>
            <a:endParaRPr b="0" lang="en-US" sz="2800" spc="-1" strike="noStrike">
              <a:solidFill>
                <a:srgbClr val="000000"/>
              </a:solidFill>
              <a:latin typeface="Arial"/>
            </a:endParaRPr>
          </a:p>
          <a:p>
            <a:pPr marL="333360" indent="-333360">
              <a:lnSpc>
                <a:spcPct val="100000"/>
              </a:lnSpc>
              <a:spcBef>
                <a:spcPts val="479"/>
              </a:spcBef>
              <a:spcAft>
                <a:spcPts val="961"/>
              </a:spcAft>
              <a:buClr>
                <a:srgbClr val="000000"/>
              </a:buClr>
              <a:buFont typeface="Monotype Sorts"/>
              <a:buChar char=""/>
            </a:pPr>
            <a:r>
              <a:rPr b="0" i="1" lang="en-US" sz="2800" spc="-1" strike="noStrike" u="sng">
                <a:solidFill>
                  <a:srgbClr val="fafd00"/>
                </a:solidFill>
                <a:uFillTx/>
                <a:latin typeface="Times New Roman"/>
                <a:ea typeface="Times New Roman"/>
              </a:rPr>
              <a:t>Cylindricity Tolerance Zone</a:t>
            </a:r>
            <a:r>
              <a:rPr b="0" lang="en-US" sz="2800" spc="-1" strike="noStrike">
                <a:solidFill>
                  <a:srgbClr val="fafd00"/>
                </a:solidFill>
                <a:latin typeface="Times New Roman"/>
                <a:ea typeface="Times New Roman"/>
              </a:rPr>
              <a:t>:</a:t>
            </a:r>
            <a:r>
              <a:rPr b="0" lang="en-US" sz="2800" spc="-1" strike="noStrike">
                <a:solidFill>
                  <a:srgbClr val="ffffff"/>
                </a:solidFill>
                <a:latin typeface="Times New Roman"/>
                <a:ea typeface="Times New Roman"/>
              </a:rPr>
              <a:t>  The amount that surface elements are allowed to vary from a perfect cylinder.  The radial distance between the coaxial cylinders defining the tolerance zone is equal to the value expressed in the tolerance portion of the feature control f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4" name=""/>
          <p:cNvSpPr/>
          <p:nvPr/>
        </p:nvSpPr>
        <p:spPr>
          <a:xfrm>
            <a:off x="7381800" y="4691160"/>
            <a:ext cx="1309680" cy="1047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4" name=""/>
          <p:cNvSpPr txBox="1"/>
          <p:nvPr/>
        </p:nvSpPr>
        <p:spPr>
          <a:xfrm>
            <a:off x="685800" y="833400"/>
            <a:ext cx="7772400" cy="7383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605" name=""/>
          <p:cNvSpPr txBox="1"/>
          <p:nvPr/>
        </p:nvSpPr>
        <p:spPr>
          <a:xfrm>
            <a:off x="709560" y="2171520"/>
            <a:ext cx="78390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geometric control for cylindricity is a form tolerance which controls surface elements only.  Therefore, it can only be applied to </a:t>
            </a:r>
            <a:r>
              <a:rPr b="0" lang="en-US" sz="2800" spc="-1" strike="noStrike">
                <a:solidFill>
                  <a:srgbClr val="fafd00"/>
                </a:solidFill>
                <a:latin typeface="Times New Roman"/>
                <a:ea typeface="Times New Roman"/>
              </a:rPr>
              <a:t>features </a:t>
            </a:r>
            <a:r>
              <a:rPr b="0" lang="en-US" sz="2800" spc="-1" strike="noStrike">
                <a:solidFill>
                  <a:srgbClr val="ffffff"/>
                </a:solidFill>
                <a:latin typeface="Times New Roman"/>
                <a:ea typeface="Times New Roman"/>
              </a:rPr>
              <a:t>(Rule #1 --size envelope applie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aterial condition modifiers (MMC and LMC) cannot be used (Rule # 2, RFS, appl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ylindricity simultaneously controls </a:t>
            </a:r>
            <a:r>
              <a:rPr b="0" lang="en-US" sz="2800" spc="-1" strike="noStrike">
                <a:solidFill>
                  <a:srgbClr val="fafd00"/>
                </a:solidFill>
                <a:latin typeface="Times New Roman"/>
                <a:ea typeface="Times New Roman"/>
              </a:rPr>
              <a:t>circular, longitudinal, </a:t>
            </a:r>
            <a:r>
              <a:rPr b="0" lang="en-US" sz="2800" spc="-1" strike="noStrike">
                <a:solidFill>
                  <a:srgbClr val="ffffff"/>
                </a:solidFill>
                <a:latin typeface="Times New Roman"/>
                <a:ea typeface="Times New Roman"/>
              </a:rPr>
              <a:t>and </a:t>
            </a:r>
            <a:r>
              <a:rPr b="0" lang="en-US" sz="2800" spc="-1" strike="noStrike">
                <a:solidFill>
                  <a:srgbClr val="fafd00"/>
                </a:solidFill>
                <a:latin typeface="Times New Roman"/>
                <a:ea typeface="Times New Roman"/>
              </a:rPr>
              <a:t>parallel</a:t>
            </a:r>
            <a:r>
              <a:rPr b="0" lang="en-US" sz="2800" spc="-1" strike="noStrike">
                <a:solidFill>
                  <a:srgbClr val="ffffff"/>
                </a:solidFill>
                <a:latin typeface="Times New Roman"/>
                <a:ea typeface="Times New Roman"/>
              </a:rPr>
              <a:t> elements of the fe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YLINDRICITY</a:t>
            </a:r>
            <a:endParaRPr b="0" lang="en-US" sz="3600" spc="-1" strike="noStrike">
              <a:solidFill>
                <a:srgbClr val="000000"/>
              </a:solidFill>
              <a:latin typeface="Arial"/>
            </a:endParaRPr>
          </a:p>
        </p:txBody>
      </p:sp>
      <p:sp>
        <p:nvSpPr>
          <p:cNvPr id="607" name=""/>
          <p:cNvSpPr txBox="1"/>
          <p:nvPr/>
        </p:nvSpPr>
        <p:spPr>
          <a:xfrm>
            <a:off x="762120" y="2031840"/>
            <a:ext cx="7772400" cy="3746520"/>
          </a:xfrm>
          <a:prstGeom prst="rect">
            <a:avLst/>
          </a:prstGeom>
          <a:noFill/>
          <a:ln w="0">
            <a:noFill/>
          </a:ln>
        </p:spPr>
        <p:txBody>
          <a:bodyPr lIns="0" rIns="0" tIns="0" bIns="0" anchor="t">
            <a:noAutofit/>
          </a:bodyPr>
          <a:p>
            <a:pPr>
              <a:lnSpc>
                <a:spcPct val="100000"/>
              </a:lnSpc>
              <a:spcBef>
                <a:spcPts val="479"/>
              </a:spcBef>
              <a:spcAft>
                <a:spcPts val="961"/>
              </a:spcAft>
            </a:pPr>
            <a:r>
              <a:rPr b="0" lang="en-US" sz="2800" spc="-1" strike="noStrike">
                <a:solidFill>
                  <a:srgbClr val="ffffff"/>
                </a:solidFill>
                <a:latin typeface="Times New Roman"/>
                <a:ea typeface="Times New Roman"/>
              </a:rPr>
              <a:t>When cylindricity control is applied to an </a:t>
            </a:r>
            <a:r>
              <a:rPr b="0" lang="en-US" sz="2800" spc="-1" strike="noStrike">
                <a:solidFill>
                  <a:srgbClr val="fafd00"/>
                </a:solidFill>
                <a:latin typeface="Times New Roman"/>
                <a:ea typeface="Times New Roman"/>
              </a:rPr>
              <a:t>external</a:t>
            </a:r>
            <a:r>
              <a:rPr b="0" lang="en-US" sz="2800" spc="-1" strike="noStrike">
                <a:solidFill>
                  <a:srgbClr val="ffffff"/>
                </a:solidFill>
                <a:latin typeface="Times New Roman"/>
                <a:ea typeface="Times New Roman"/>
              </a:rPr>
              <a:t> feature, the outer boundary (larger cylinder) is established by circumscribing the high points of the surface.  The inner boundary is radially smaller by the amount of  the specified tolerance.  The feature, at any point of measurement, must be within the limits of siz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Form Tolerances - Cylindricity</dc:title>
</cp:coreProperties>
</file>